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B42-17A6-4680-B7AB-5FA0F1A6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3D8-30AE-45D7-9ADF-B1A876998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CF4-4FBD-40F7-B20F-9978D2E4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AC31-1451-417B-AFFB-595D722F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191F-A517-4EBD-A7F8-B0535B90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DF3-DE3C-41F3-A746-E35A54B3C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3B2-410B-4542-8E28-A121620E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C4E-02AD-4BF9-BB17-C3279310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93D-42AB-4181-AF96-C0E62E79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994-46D6-40F6-84E2-45C4D41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802-E459-4709-B08F-E5325D6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D01-E5B1-43DF-B61F-13018437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564B-7A3D-44EF-A1BD-E496245D83C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Realizacja w Javie rodzajów dziedziczenia wykorzystywanych w UML.</a:t>
            </a:r>
            <a:r>
              <a:rPr b="0" lang="pl-PL" sz="4000" spc="-1" strike="noStrike">
                <a:solidFill>
                  <a:srgbClr val="000066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Bookman Old Style"/>
              </a:rPr>
              <a:t>Tomasz Świerzyńs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Bookman Old Style"/>
              </a:rPr>
              <a:t>Grzegorz Zadr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Tworzenie nowych obiektów k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Student stud = new Student(1234,"dzienne","Jarek","Michon","Krucza",6546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Pracownik prac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Bookman Old Style"/>
              </a:rPr>
              <a:t>new Pracownik(4657,"pul etatu","Pawel","Wrona","Kompanji 1",876543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, w którym osoba może być jednocześnie studentem i pracownikiem, ale nie m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348000" y="357336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2268360" y="479592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4643280" y="479592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4140360" y="393228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40080" y="4146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38400" y="444348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4435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51640" y="4435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84720" y="414828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overlapping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6760" y="26722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13920" y="412488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413136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14440" y="3825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25920" y="3825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 rot="5400000">
            <a:off x="4294800" y="3146040"/>
            <a:ext cx="31572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72000" y="368316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2000" y="369396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95880" y="369720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52840" y="337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Complete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82184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całkowity, jest to podział domyśl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Wszystkie klasy zostały już określone i żadna nowa 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będzie dodaw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adklasa jest klasą abstrakcyjn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erspektywa projektowa oraz implementacja w Ja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jest identyczna jak w przypadku dziedziczenia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Disj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127320" y="464328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2048040" y="586584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422600" y="586584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3919680" y="500220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19400" y="52164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17720" y="55134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40040" y="5505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0960" y="550548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064040" y="521820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complet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851280" y="4292640"/>
          <a:ext cx="1147680" cy="628560"/>
        </p:xfrm>
        <a:graphic>
          <a:graphicData uri="http://schemas.openxmlformats.org/drawingml/2006/table">
            <a:tbl>
              <a:tblPr/>
              <a:tblGrid>
                <a:gridCol w="11476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abstract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Incompl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klas niecałkow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ie wsystkie podklasy zostały zdefiniowane, nadklasa  nie jest klasą abstrakcyjną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stnieje możliwość dodania nowych k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348000" y="4221000"/>
          <a:ext cx="1727280" cy="334800"/>
        </p:xfrm>
        <a:graphic>
          <a:graphicData uri="http://schemas.openxmlformats.org/drawingml/2006/table">
            <a:tbl>
              <a:tblPr/>
              <a:tblGrid>
                <a:gridCol w="1727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268360" y="544356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4643280" y="544356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140360" y="45799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0080" y="47941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38400" y="5091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60720" y="50832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51640" y="508320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284720" y="4795920"/>
          <a:ext cx="1657440" cy="628560"/>
        </p:xfrm>
        <a:graphic>
          <a:graphicData uri="http://schemas.openxmlformats.org/drawingml/2006/table">
            <a:tbl>
              <a:tblPr/>
              <a:tblGrid>
                <a:gridCol w="1657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incomplete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Dziedziczenie typu incomplete wymaga tworzenia nowych klas, ich atrybutów oraz met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Niestety w Javie musi być z góry okreslona ilość klas i ich inwariantó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66"/>
                </a:solidFill>
                <a:latin typeface="Bookman Old Style"/>
              </a:rPr>
              <a:t>Datego kod dziedziczenbia typu incomplete nie będzie różił się od kodu dziedziczenia typu complete i nie oznaczamy w kodzie czy dziedziczenie jest typu complete czy incompl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inheritance</a:t>
            </a:r>
            <a:br>
              <a:rPr sz="4400"/>
            </a:b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perspektywa pojęc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1471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wielokrotne  (wielodziedziczenie) - ma  miejsce, gdy klasa dziedziczy inwarianty z więcej niż jednej kla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419640" y="3213000"/>
          <a:ext cx="1726920" cy="334800"/>
        </p:xfrm>
        <a:graphic>
          <a:graphicData uri="http://schemas.openxmlformats.org/drawingml/2006/table">
            <a:tbl>
              <a:tblPr/>
              <a:tblGrid>
                <a:gridCol w="1726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259000" y="4503600"/>
          <a:ext cx="1582560" cy="33480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33920" y="4503600"/>
          <a:ext cx="2089080" cy="33480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5553000" y="48895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3080" y="51037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29040" y="41511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51000" y="41432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1920" y="41432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38400" y="54230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62440" y="488952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62160" y="51037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34040" y="5423040"/>
            <a:ext cx="0" cy="32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81400" y="359424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1480" y="38084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343320" y="5727600"/>
          <a:ext cx="2057400" cy="33516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/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346640" y="3817800"/>
          <a:ext cx="1508040" cy="628560"/>
        </p:xfrm>
        <a:graphic>
          <a:graphicData uri="http://schemas.openxmlformats.org/drawingml/2006/table">
            <a:tbl>
              <a:tblPr/>
              <a:tblGrid>
                <a:gridCol w="15080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overlapping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inheritance</a:t>
            </a:r>
            <a:br>
              <a:rPr sz="4400"/>
            </a:b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onieważ w Javie klasa nie możne dziedziczyć wielokrotnie (nie może dziedziczyć z klasy, która sama jest klasą dziedziczącą), zalecane jest użycie perspektywy projektowej z dziedziczenia typu Overlapp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70800" y="38152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937600" y="5267880"/>
            <a:ext cx="9410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9760" y="5274360"/>
            <a:ext cx="12351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Pracown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8480" y="4968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49960" y="496872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 rot="5400000">
            <a:off x="4218840" y="4289040"/>
            <a:ext cx="315720" cy="13356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95680" y="4826160"/>
            <a:ext cx="15238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95680" y="483696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19560" y="4840200"/>
            <a:ext cx="18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76880" y="4522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Multi – asp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dziedziczenie wieloaspektowe – oznacza, że występuje wiele aspektów (dyskryminatorów) dziedziczen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p. napęd i te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52680" y="3124080"/>
            <a:ext cx="23338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320" y="365760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310000" y="3510000"/>
            <a:ext cx="1742760" cy="13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727520" y="3510000"/>
            <a:ext cx="768240" cy="13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53760" y="4808520"/>
            <a:ext cx="109584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wiatr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92200" y="4808520"/>
            <a:ext cx="11080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silnik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2040" y="4829040"/>
            <a:ext cx="87948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lądow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612840" y="4836960"/>
            <a:ext cx="855000" cy="63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Pojaz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 CE"/>
              </a:rPr>
              <a:t>wod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28880" y="394668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napę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9896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962240" y="37623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CE"/>
              </a:rPr>
              <a:t>ter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8282600">
            <a:off x="5303520" y="3487680"/>
            <a:ext cx="139680" cy="158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20323800">
            <a:off x="4682880" y="3503160"/>
            <a:ext cx="139680" cy="15876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78400" y="3514680"/>
            <a:ext cx="139680" cy="1587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71880" y="4213080"/>
            <a:ext cx="1348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 CE"/>
              </a:rPr>
              <a:t>{overlapping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1280" y="4400640"/>
            <a:ext cx="164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45000" y="36752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35080" y="427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63880" y="4275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35080" y="4275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Dyna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dziedziczenie dynamiczne – obiekt może zmieniać w czasie przynależność do klas, dyskryminator określa w której klasie dany obiekt się aktualnie znajdu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Np. osoba może zmieniać wykonywany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zawód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(dyskryminat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849760" y="4691880"/>
            <a:ext cx="8024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Os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3643200" y="4724280"/>
            <a:ext cx="309600" cy="25236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31840" y="4043880"/>
            <a:ext cx="10706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32200" y="4729680"/>
            <a:ext cx="100656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Inżyn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32200" y="5415480"/>
            <a:ext cx="13618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 CE"/>
              </a:rPr>
              <a:t>Sprzedaw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42670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9400" y="42670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94080" y="485784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294080" y="5638680"/>
            <a:ext cx="43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2280" y="48578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3760" y="4191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486240" y="4141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zawó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78160" y="38862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dynamic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60440"/>
            <a:ext cx="8077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Główne zagadnien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efinicja dziedzic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Perspektywa pojęciowej i projektow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mówienie elementów Javy wykorzystanych w referac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Rodzaje dziedziczen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verl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n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ulti-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ulti-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ynam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mplementacja poszczególnych rodzajów dziedziczenia w Jav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Co to jest dziedziczen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Dziedziczenie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generalizacja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lub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specjalizac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jest związkiem pomiędzy  klasami,  łączącymi klasę bardziej ogólną (nadklasę) z jedną lub więcej klas (tzw. podklas) będących jej specjalizacj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Klasa, będąca specjalizacją danej klasy, oprócz atrybutów nadklasy  może posiadać (i  z  reguły posiada)  też swoje atrybu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ziedziczenie inwariantów do  klas jest tranzytywne (przechodni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Przykład dziedziczeni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419640" y="1989000"/>
          <a:ext cx="1838160" cy="1806840"/>
        </p:xfrm>
        <a:graphic>
          <a:graphicData uri="http://schemas.openxmlformats.org/drawingml/2006/table">
            <a:tbl>
              <a:tblPr/>
              <a:tblGrid>
                <a:gridCol w="1838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340000" y="465300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 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4714920" y="465300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 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4211640" y="378936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1720" y="400356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10040" y="430056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32000" y="42926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2920" y="42926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Bookman Old Style"/>
              </a:rPr>
              <a:t>Perspektywa pojęciowa i projekt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22856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Elementy UML związane z przejściem z pojęciowej perspektywy na projektową perspektywę dziedzicze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asocja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– jest to powiązanie ze sobą dwóch lub więcej k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agrega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- jest szczególnym rodzajem asocjacji wyrażającym 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zależność część-całość. Np. silnik jest częścią samocho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- </a:t>
            </a:r>
            <a:r>
              <a:rPr b="1" lang="pl-PL" sz="2000" spc="-1" strike="noStrike">
                <a:solidFill>
                  <a:srgbClr val="000066"/>
                </a:solidFill>
                <a:latin typeface="Bookman Old Style"/>
              </a:rPr>
              <a:t>kompozycj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 - jest silniejszym rodzajem agregacj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D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zięki kompozycji, podobiekty Student czy Pracownik są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en-GB" sz="2000" spc="-1" strike="noStrike">
                <a:solidFill>
                  <a:srgbClr val="000066"/>
                </a:solidFill>
                <a:latin typeface="Bookman Old Style"/>
              </a:rPr>
              <a:t>mocniej związane z obiektem Osoba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Oznacza to, część nie może istnieć bez całości i że część nie 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może być współdziel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66"/>
                </a:solidFill>
                <a:latin typeface="Bookman Old Style"/>
              </a:rPr>
              <a:t>Co to jest klasa w Jav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Klasa definiuje atrybuty obiektów (dane związane z obiektami) oraz operacje, które na tych obiektach  można wykona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Atrybuty czyli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pola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 klasy. Są reprezentowane przez zmienne i/lub stałe, które są określonych typów i oczywiście muszą być odpowiednio deklarowa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Operacje wprowadzamy poprzez definicje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metod 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kla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Obiekty danej klasy tworzy się za pomocą </a:t>
            </a:r>
            <a:r>
              <a:rPr b="1" lang="en-US" sz="2000" spc="-1" strike="noStrike">
                <a:solidFill>
                  <a:srgbClr val="000066"/>
                </a:solidFill>
                <a:latin typeface="Bookman Old Style"/>
              </a:rPr>
              <a:t>konstruktora</a:t>
            </a: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, który nadaje wartości poszczególnym polom obi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Bookman Old Style"/>
              </a:rPr>
              <a:t>Może być utworzonych wiele obiektów danej klasy, czyli klasa jest szablonem dla obiekt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ojęciow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Czyli podział rozłączny. Jest to podział domyślny. Ozna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że np. dana osoba nie może być jednocześnie pracownik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	</a:t>
            </a:r>
            <a:r>
              <a:rPr b="0" lang="pl-PL" sz="2000" spc="-1" strike="noStrike">
                <a:solidFill>
                  <a:srgbClr val="000066"/>
                </a:solidFill>
                <a:latin typeface="Bookman Old Style"/>
              </a:rPr>
              <a:t>i studen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635280" y="2492280"/>
          <a:ext cx="1851120" cy="1806840"/>
        </p:xfrm>
        <a:graphic>
          <a:graphicData uri="http://schemas.openxmlformats.org/drawingml/2006/table">
            <a:tbl>
              <a:tblPr/>
              <a:tblGrid>
                <a:gridCol w="1851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556000" y="515628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930920" y="515628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4427640" y="4292640"/>
            <a:ext cx="201600" cy="2142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27720" y="450684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25680" y="480384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47959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938920" y="4795920"/>
            <a:ext cx="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859280" y="4511520"/>
          <a:ext cx="1077480" cy="874440"/>
        </p:xfrm>
        <a:graphic>
          <a:graphicData uri="http://schemas.openxmlformats.org/drawingml/2006/table">
            <a:tbl>
              <a:tblPr/>
              <a:tblGrid>
                <a:gridCol w="1077480"/>
              </a:tblGrid>
              <a:tr h="87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{disjoint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Disjoint</a:t>
            </a:r>
            <a:br>
              <a:rPr sz="4000"/>
            </a:br>
            <a:r>
              <a:rPr b="1" lang="pl-PL" sz="4000" spc="-1" strike="noStrike">
                <a:solidFill>
                  <a:srgbClr val="000066"/>
                </a:solidFill>
                <a:latin typeface="Bookman Old Style"/>
              </a:rPr>
              <a:t>perspektywa projektow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49760" y="4389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45240" y="44038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54080" y="4430880"/>
            <a:ext cx="64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 CE"/>
              </a:rPr>
              <a:t>{xor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5400000">
            <a:off x="4336200" y="3807720"/>
            <a:ext cx="316080" cy="13320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4270320"/>
            <a:ext cx="1523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35520" y="4270320"/>
            <a:ext cx="180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11640" y="4270320"/>
            <a:ext cx="144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11640" y="4460760"/>
            <a:ext cx="1523880" cy="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4240" y="4041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581280" y="1916280"/>
          <a:ext cx="1828800" cy="180648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Oso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azwisk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urodz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Wiek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059280" y="4724280"/>
          <a:ext cx="1582560" cy="1336680"/>
        </p:xfrm>
        <a:graphic>
          <a:graphicData uri="http://schemas.openxmlformats.org/drawingml/2006/table">
            <a:tbl>
              <a:tblPr/>
              <a:tblGrid>
                <a:gridCol w="1582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indek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Num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r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433840" y="4724280"/>
          <a:ext cx="2089080" cy="131436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acowni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Data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zatrudnie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ens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Osoba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rok_urodzenia ,telefo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imie,nazwisko,adr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soba (String im, String naz, String adr,int tele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mie = i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azwisko = naz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adres = ad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elefon = te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Student extends Osob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numer_indeks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tryb_studio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udent(int nr, String tryb,String im, String naz, String adr,int rok,int tele)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per(im,naz,adr,te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numer_indeksu = n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yb_studiow = tryb;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lass Pracownik extends Osoba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t pensj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tring tryb_prac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racownik(int pen, String tryb,String im, String naz, String adr,int rok,int tele,int ni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super(im,naz,adr,tel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ensja = pe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tryb_pracy = tryb;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7:23:28Z</dcterms:created>
  <dc:creator>PJWSTK</dc:creator>
  <dc:description/>
  <dc:language>en-US</dc:language>
  <cp:lastModifiedBy>PJWSTK</cp:lastModifiedBy>
  <dcterms:modified xsi:type="dcterms:W3CDTF">2003-03-12T17:00:47Z</dcterms:modified>
  <cp:revision>17</cp:revision>
  <dc:subject/>
  <dc:title>Realizacja w Javie rodzajów dziedziczenia wykorzystywanej w UML. </dc:title>
</cp:coreProperties>
</file>