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FC8-5620-428C-8511-7E664376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08B-6328-4EDA-A0AF-CD1C05C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E3D-D274-4AAE-BC85-975CA5CF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B2B-573F-467E-A2B6-AC3BEC29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A9B-E0F5-42B0-9050-C94CD1F0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389-58B2-4072-B845-EDAB53FE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330-F3EC-4DCF-9300-FDAE4E7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388-D2F0-484A-BAA4-E34D335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061-9C80-438E-8F7B-77EB70C0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49D-BBE2-44AD-A2DD-7A48051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1E1-F8E9-4206-B787-94E9EC2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E88-DCCB-4AC6-9B94-B2DAA0E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383A-F3BB-4495-AEC9-32452D085EA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Realizacja w Javie rodzajów dziedziczenia wykorzystywanych w UML.</a:t>
            </a:r>
            <a:r>
              <a:rPr b="0" lang="pl-PL" sz="40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Bookman Old Style"/>
              </a:rPr>
              <a:t>Tomasz Świerzyń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Bookman Old Style"/>
              </a:rPr>
              <a:t>Grzegorz Zadr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Tworzenie nowych obiektów k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man Old Style"/>
              </a:rPr>
              <a:t>Student stud = new Student(1234,"dzienne","Jarek","Michon","Krucza",6546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man Old Style"/>
              </a:rPr>
              <a:t>Pracownik prac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man Old Style"/>
              </a:rPr>
              <a:t>new Pracownik(4657,"pul etatu","Pawel","Wrona","Kompanji 1",87654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Overlapping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ojęci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, w którym osoba może być jednocześnie studentem i pracownikiem, ale nie m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48000" y="3573360"/>
          <a:ext cx="1727280" cy="33480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68360" y="479592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3280" y="479592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140360" y="393228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40080" y="41464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38400" y="44434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0720" y="44355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4355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84720" y="4148280"/>
          <a:ext cx="1657440" cy="6285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overlapping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Overlapping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rojekt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46760" y="267228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3920" y="4124880"/>
            <a:ext cx="941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4131360"/>
            <a:ext cx="1235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14440" y="3825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5920" y="3825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 rot="5400000">
            <a:off x="4294800" y="3146040"/>
            <a:ext cx="31572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2000" y="368316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369396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95880" y="369720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52840" y="337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Complete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ojęci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184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 całkowity, jest to podział domyśl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Wszystkie klasy zostały już określone i żadna nowa 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będzie dodaw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adklasa jest klasą abstrakcyj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Perspektywa projektowa oraz implementacja w Ja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jest identyczna jak w przypadku dziedziczenia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Disj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127320" y="4643280"/>
          <a:ext cx="1727280" cy="33480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048040" y="586584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422600" y="586584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919680" y="500220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9400" y="521640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7720" y="55134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0040" y="55054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0960" y="55054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064040" y="5218200"/>
          <a:ext cx="1657440" cy="6285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complet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851280" y="4292640"/>
          <a:ext cx="1147680" cy="628560"/>
        </p:xfrm>
        <a:graphic>
          <a:graphicData uri="http://schemas.openxmlformats.org/drawingml/2006/table">
            <a:tbl>
              <a:tblPr/>
              <a:tblGrid>
                <a:gridCol w="11476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abstract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In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 klas niecałkow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ie wsystkie podklasy zostały zdefiniowane, nadklasa  nie jest klasą abstrakcyjną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stnieje możliwość dodania nowych k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4221000"/>
          <a:ext cx="1727280" cy="33480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68360" y="544356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43280" y="544356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140360" y="45799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0080" y="47941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8400" y="5091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508320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508320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284720" y="4795920"/>
          <a:ext cx="1657440" cy="6285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incomplet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Bookman Old Style"/>
              </a:rPr>
              <a:t>Dziedziczenie typu incomplete wymaga tworzenia nowych klas, ich atrybutów oraz met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Bookman Old Style"/>
              </a:rPr>
              <a:t>Niestety w Javie musi być z góry okreslona ilość klas i ich inwaria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Bookman Old Style"/>
              </a:rPr>
              <a:t>Datego kod dziedziczenbia typu incomplete nie będzie różił się od kodu dziedziczenia typu complete i nie oznaczamy w kodzie czy dziedziczenie jest typu complete czy incompl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Multi – inheritance</a:t>
            </a:r>
            <a:br>
              <a:rPr sz="4400"/>
            </a:b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perspektywa pojęci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147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wielokrotne  (wielodziedziczenie) - ma  miejsce, gdy klasa dziedziczy inwarianty z więcej niż jednej kla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19640" y="3213000"/>
          <a:ext cx="1726920" cy="33480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259000" y="450360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33920" y="450360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553000" y="48895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3080" y="51037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29040" y="41511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1000" y="41432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1920" y="41432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38400" y="54230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62440" y="48895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62160" y="51037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34040" y="5423040"/>
            <a:ext cx="0" cy="32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81400" y="359424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1480" y="38084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343320" y="5727600"/>
          <a:ext cx="2057400" cy="3351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/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346640" y="3817800"/>
          <a:ext cx="1508040" cy="62856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overlapping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Multi – inheritance</a:t>
            </a:r>
            <a:br>
              <a:rPr sz="4400"/>
            </a:b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perspektywa projekt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Ponieważ w Javie klasa nie możne dziedziczyć wielokrotnie (nie może dziedziczyć z klasy, która sama jest klasą dziedziczącą), zalecane jest użycie perspektywy projektowej z dziedziczenia typu Overla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70800" y="381528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37600" y="5267880"/>
            <a:ext cx="941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9760" y="5274360"/>
            <a:ext cx="1235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8480" y="4968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49960" y="4968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5400000">
            <a:off x="4218840" y="4289040"/>
            <a:ext cx="315720" cy="1335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95680" y="482616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95680" y="483696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19560" y="4840200"/>
            <a:ext cx="18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76880" y="4522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Multi –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dziedziczenie wieloaspektowe – oznacza, że występuje wiele aspektów (dyskryminatorów) dziedzicz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p. napęd i t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124080"/>
            <a:ext cx="23338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9320" y="3657600"/>
            <a:ext cx="134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{overlapping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310000" y="3510000"/>
            <a:ext cx="1742760" cy="13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727520" y="3510000"/>
            <a:ext cx="768240" cy="13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53760" y="4808520"/>
            <a:ext cx="109584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wiat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2200" y="4808520"/>
            <a:ext cx="11080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silnik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2040" y="4829040"/>
            <a:ext cx="8794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ląd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12840" y="4836960"/>
            <a:ext cx="8550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wod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28880" y="394668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napę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9896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t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6224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t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282600">
            <a:off x="5303520" y="3487680"/>
            <a:ext cx="139680" cy="158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323800">
            <a:off x="4682880" y="3503160"/>
            <a:ext cx="139680" cy="158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78400" y="3514680"/>
            <a:ext cx="139680" cy="158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71880" y="4213080"/>
            <a:ext cx="134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{overlapping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11280" y="4400640"/>
            <a:ext cx="164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45000" y="36752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35080" y="427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63880" y="4275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35080" y="4275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Dyna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dziedziczenie dynamiczne – obiekt może zmieniać w czasie przynależność do klas, dyskryminator określa w której klasie dany obiekt się aktualnie znajd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p. osoba może zmieniać wykonywany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zawód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(dyskrymina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760" y="469188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3643200" y="4724280"/>
            <a:ext cx="309600" cy="2523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31840" y="4043880"/>
            <a:ext cx="1070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32200" y="4729680"/>
            <a:ext cx="1006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Inży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32200" y="5415480"/>
            <a:ext cx="1361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Sprzedaw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4267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9400" y="426708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94080" y="485784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94080" y="563868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32280" y="4857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3760" y="419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86240" y="41418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zawó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8160" y="38862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dynami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460440"/>
            <a:ext cx="80773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Główne zagadnien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efinicja dziedzicz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Perspektywa pojęciowej i projekto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Omówienie elementów Javy wykorzystanych w referac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Rodzaje dziedzicze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is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Overl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n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Multi-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Multi-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ynami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mplementacja poszczególnych rodzajów dziedziczenia w Jav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Co to jest dziedziczen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Dziedziczenie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 generalizacja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lub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 specjaliz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jest związkiem pomiędzy  klasami,  łączącymi klasę bardziej ogólną (nadklasę) z jedną lub więcej klas (tzw. podklas) będących jej specjalizacj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Klasa, będąca specjalizacją danej klasy, oprócz atrybutów nadklasy  może posiadać (i  z  reguły posiada)  też swoje atrybu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ziedziczenie inwariantów do  klas jest tranzytywne (przechodni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Przykład dziedziczen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419640" y="1989000"/>
          <a:ext cx="1838160" cy="1806840"/>
        </p:xfrm>
        <a:graphic>
          <a:graphicData uri="http://schemas.openxmlformats.org/drawingml/2006/table">
            <a:tbl>
              <a:tblPr/>
              <a:tblGrid>
                <a:gridCol w="1838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urod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ie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340000" y="4653000"/>
          <a:ext cx="1582560" cy="13366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ndek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 gr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714920" y="4653000"/>
          <a:ext cx="2089080" cy="131436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 zatrudni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en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211640" y="378936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1720" y="40035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10040" y="43005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42926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2920" y="42926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Perspektywa pojęciowa i projekt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Elementy UML związane z przejściem z pojęciowej perspektywy na projektową perspektywę dziedzicz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-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asocjacj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– jest to powiązanie ze sobą dwóch lub więcej k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-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agregacj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- jest szczególnym rodzajem asocjacji wyrażającym 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zależność część-całość. Np. silnik jest częścią samocho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-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kompozycj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- jest silniejszym rodzajem agreg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zięki kompozycji, podobiekty Student czy Pracownik są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mocniej związane z obiektem Osob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Oznacza to, część nie może istnieć bez całości i że część nie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może być współdziel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Co to jest klasa w Jav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Klasa definiuje atrybuty obiektów (dane związane z obiektami) oraz operacje, które na tych obiektach  można wykona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Atrybuty czyli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pola</a:t>
            </a: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 klasy. Są reprezentowane przez zmienne i/lub stałe, które są określonych typów i oczywiście muszą być odpowiednio deklarow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Operacje wprowadzamy poprzez definicje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metod </a:t>
            </a: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kla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Obiekty danej klasy tworzy się za pomocą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konstruktora</a:t>
            </a: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, który nadaje wartości poszczególnym polom obi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Może być utworzonych wiele obiektów danej klasy, czyli klasa jest szablonem dla obi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Disjoint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ojęciow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 rozłączny. Jest to podział domyślny. Ozna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że np. dana osoba nie może być jednocześnie pracownik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 studen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635280" y="2492280"/>
          <a:ext cx="1851120" cy="1806840"/>
        </p:xfrm>
        <a:graphic>
          <a:graphicData uri="http://schemas.openxmlformats.org/drawingml/2006/table">
            <a:tbl>
              <a:tblPr/>
              <a:tblGrid>
                <a:gridCol w="1851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urod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ie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556000" y="5156280"/>
          <a:ext cx="1582560" cy="13366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ndek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r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930920" y="5156280"/>
          <a:ext cx="2089080" cy="131436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atrudni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en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427640" y="429264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27720" y="45068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25680" y="48038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47959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38920" y="47959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859280" y="4511520"/>
          <a:ext cx="1077480" cy="874440"/>
        </p:xfrm>
        <a:graphic>
          <a:graphicData uri="http://schemas.openxmlformats.org/drawingml/2006/table">
            <a:tbl>
              <a:tblPr/>
              <a:tblGrid>
                <a:gridCol w="1077480"/>
              </a:tblGrid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disjoint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Disjoint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rojekt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49760" y="4389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45240" y="44038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54080" y="443088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{xor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5400000">
            <a:off x="4336200" y="3807720"/>
            <a:ext cx="31608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4270320"/>
            <a:ext cx="1523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35520" y="4270320"/>
            <a:ext cx="18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427032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4460760"/>
            <a:ext cx="15238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4240" y="404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81280" y="1916280"/>
          <a:ext cx="1828800" cy="18064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urod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ie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059280" y="4724280"/>
          <a:ext cx="1582560" cy="13366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ndek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r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433840" y="4724280"/>
          <a:ext cx="2089080" cy="131436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atrudni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en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ass Osoba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 rok_urodzenia ,telef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ring imie,nazwisko,ad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soba (String im, String naz, String adr,int tele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mie = i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zwisko = naz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dres = a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efon = te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ass Student extends Osob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 numer_indeks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ring tryb_studio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udent(int nr, String tryb,String im, String naz, String adr,int rok,int tele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per(im,naz,adr,te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umer_indeksu = n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ryb_studiow = tryb;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ass Pracownik extends Osoba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 pensj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ring tryb_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cownik(int pen, String tryb,String im, String naz, String adr,int rok,int tele,int ni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per(im,naz,adr,te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ensja = pe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ryb_pracy = tryb;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7:23:28Z</dcterms:created>
  <dc:creator>PJWSTK</dc:creator>
  <dc:description/>
  <dc:language>en-US</dc:language>
  <cp:lastModifiedBy>PJWSTK</cp:lastModifiedBy>
  <dcterms:modified xsi:type="dcterms:W3CDTF">2003-03-12T17:00:47Z</dcterms:modified>
  <cp:revision>17</cp:revision>
  <dc:subject/>
  <dc:title>Realizacja w Javie rodzajów dziedziczenia wykorzystywanej w UML. </dc:title>
</cp:coreProperties>
</file>