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kstensjaKolekcje.java" TargetMode="External"/><Relationship Id="rId2" Type="http://schemas.openxmlformats.org/officeDocument/2006/relationships/hyperlink" Target="file:///EkstensjaKolekcje.java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EkstensjaKlasaPomocnicza.java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kstensjaTablicaStatyczna.java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EkstensjaTablicaDynamiczna.java" TargetMode="External"/><Relationship Id="rId2" Type="http://schemas.openxmlformats.org/officeDocument/2006/relationships/hyperlink" Target="file:///EkstensjaTablicaDynamiczna.java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msgothic"/>
              </a:rPr>
              <a:t>MAS: Referat 2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gothic"/>
              </a:rPr>
              <a:t>Implementacja ekstensji klas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Autorz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Michał Małec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gothic"/>
              </a:rPr>
              <a:t>Michał Walkow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 </a:t>
            </a: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realizowana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a pomocą kolekcj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8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olekcje służą do przechowywania danych w sposób sformalizowany. Najpopularniejsze przykłady to listy, drzewa, sto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lasy obsługujące kolekcje posiadają metody wygodnej modyfikacji ich zawartoś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 </a:t>
            </a: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realizowana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a pomocą kolekcj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8412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lasy realizujacych funkcje kolekcji w Javi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e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ee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ak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h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28800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 </a:t>
            </a: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realizowana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a pomocą kolekcj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zykładowe operacje na kolekcj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da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u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zegląd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 </a:t>
            </a: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realizowana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a pomocą kolekcj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zykład kodu: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kstensjaKolekcje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ziała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kstensja klasy jako kolekc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ierw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ierwszyKolejnyPiekniejszyNajmadrzejszyZnudzonyTen ktory kiedys sie nie mies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ess any key to continu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 </a:t>
            </a: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realizowana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a pomocą kolekcj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dsumowa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zybkie dział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ykorzystanie już napisanego kodu obsługującego kolekc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rdziej skomplikowana implementacj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(jeżeli nie korzystamy z gotowych komponentó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Ekstensja klasy realizowana za pomocą klasy pomocniczej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kstensja jest realizowana za pomocą dodatkowej klasy, pełniącej role kontenera. Dla której dodatkowo zaimplementowane zostały wszystkie operacje potrzebne do zarządzania przetrzymywanymi w niej obiekt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Ekstensja klasy realizowana za pomocą klasy pomocniczej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kład kodu: </a:t>
            </a:r>
            <a:r>
              <a:rPr b="0" lang="pl-PL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kstensjaKlasaPomocnicza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ział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kstensja z klasa pomocnic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arzadca gotow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erws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erwszyKolejnyPiekniejszyNajmadrzejszyZnudzonyDodawany nietypo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ss any key to continu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Ekstensja klasy realizowana za pomocą klasy pomocniczej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jwięcej do implementac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l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jbardziej elastyczne w wykorzyst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Klas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ML: Klasa jes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nazwanym opisem grupy obiektów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 które współdzielą ten sam zbiór własności (inwariantów). Klasa nie jes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zbiorem obiektów, lecz jest używana do deklarowania obiektów.  Stosunek klasa/podklasa oznacza, że obiekty  podklasy posiadają wszystkie inwarianty nadklasy,  plus ewentualnie swoje inwarian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Zestaw aktualnie istniejących wystąpień (obiektów) danej kla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Uniezależnienia deklaracji typów/klas i odpowiadających im obiektów staje się aktualny w przypadku obiektowości, której filozofią jest dekompozycja pojeć oraz ortogonalna ich kombinacja. Pojecie ekstensji staje sie semantycznie mało spójne w przypadku klas abstrakcyjn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 </a:t>
            </a: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realizowana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a pomocą tablicy statyczne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3440" indent="0">
              <a:buNone/>
              <a:tabLst>
                <a:tab algn="l" pos="0"/>
                <a:tab algn="l" pos="6516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ierwszą możliwością implementacji ekstencji klasy w Javie jest tablica statyczna, w której będą przechowywane wszystkie wystąpienia danej kla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3440" indent="0">
              <a:buNone/>
              <a:tabLst>
                <a:tab algn="l" pos="0"/>
                <a:tab algn="l" pos="6516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zczególną uwage należy zwrócić na poprawność i aktualność informcji przechowywanych w tabli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3440" indent="0">
              <a:buNone/>
              <a:tabLst>
                <a:tab algn="l" pos="0"/>
                <a:tab algn="l" pos="6516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 </a:t>
            </a: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realizowana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a pomocą tablicy statyczne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zykład kodu: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kstensjaTablicaStatyczna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ziałan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Ekstensja klasy jako tablica obiekt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(!) Przepelnienie tablicy dla NaszaKlasa@11a698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Pierw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PierwszyKolejnyPiekniejszyNajmadrzejszyZnudz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Press any key to continu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 </a:t>
            </a: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realizowana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a pomocą tablicy statyczne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dsumowan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stota implement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zybkoś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leży w kodzie podać dokładną wielkość tablicy co powoduje ograniczą ilość wystąpień danej kl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 </a:t>
            </a: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realizowana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a pomocą tablicy dynamiczne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632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stępną możliwością jest zastosowanie tablicy dynamicznej. Wielkość tablicy jest alokowana dynamicznię więc nie potrzebne jest podawanie jej wielkości w kodz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 </a:t>
            </a: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realizowana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a pomocą tablicy dynamiczne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zykład kodu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kstensjaTablicaDynamiczna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ziała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kstensja klasy jako tablica obiektow alokowana dynamicz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!) Powiekszenie tabl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ierw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ierwszyKolejnyPiekniejszyNajmadrzejszyZnudzonyTen ktory mial sie nie zmiescic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kstens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ess any key to continu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kstencja klasy </a:t>
            </a:r>
            <a:r>
              <a:rPr b="1" lang="pl-PL" sz="4400" spc="-1" strike="noStrike">
                <a:solidFill>
                  <a:srgbClr val="333333"/>
                </a:solidFill>
                <a:latin typeface="Arial"/>
              </a:rPr>
              <a:t>realizowana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za pomocą tablicy dynamicznej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2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dsumowan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żliwość nieograniczonej przez programiste ilości wystąpień kl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sta idea i implementa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olność działania wynikająca z potrzeby przepisywania elementów tablicy przy operacjach wykonywanych na tej tab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ł Małecki, Michał Walkowski</dc:creator>
  <dc:description/>
  <dc:language>en-US</dc:language>
  <cp:lastModifiedBy>michalus</cp:lastModifiedBy>
  <dcterms:modified xsi:type="dcterms:W3CDTF">2004-03-15T21:02:41Z</dcterms:modified>
  <cp:revision>6</cp:revision>
  <dc:subject/>
  <dc:title>MAS: Referat 2</dc:title>
</cp:coreProperties>
</file>