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-25920"/>
            <a:ext cx="9139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83808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160" y="6608160"/>
            <a:ext cx="40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. Stemposz, Inżynieria Oprogramowania, Wykład 3, Slajd </a:t>
            </a:r>
            <a:fld id="{78BC98D6-4D9D-4B70-B50C-C6762D82AC1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680" y="660888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15560" y="659232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marzec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20" y="6480"/>
            <a:ext cx="90680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696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132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456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8460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5916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0068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5091120"/>
            <a:ext cx="195768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4852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352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6084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4352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4384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1188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7552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3720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620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8344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028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820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3904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6916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3584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196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8360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176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460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62640" y="2835360"/>
            <a:ext cx="160200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040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1700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680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9444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540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332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124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1684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2476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3000" y="5149800"/>
            <a:ext cx="65592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5320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388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48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87880" y="5597640"/>
            <a:ext cx="34452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08880" y="5559480"/>
            <a:ext cx="32832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112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96400" y="4498920"/>
            <a:ext cx="96012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2968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028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3268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08840" y="4662360"/>
            <a:ext cx="28872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8312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9120" y="4730760"/>
            <a:ext cx="78876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196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264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1652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268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2464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3724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12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9880" y="3851280"/>
            <a:ext cx="284544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65120" y="2963880"/>
            <a:ext cx="369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prowadzenie do 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9240" y="4149720"/>
          <a:ext cx="1146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4149720"/>
                    <a:ext cx="1146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1309680" y="4952880"/>
            <a:ext cx="723960" cy="717840"/>
            <a:chOff x="1309680" y="4952880"/>
            <a:chExt cx="723960" cy="717840"/>
          </a:xfrm>
        </p:grpSpPr>
        <p:sp>
          <p:nvSpPr>
            <p:cNvPr id="110" name=""/>
            <p:cNvSpPr/>
            <p:nvPr/>
          </p:nvSpPr>
          <p:spPr>
            <a:xfrm>
              <a:off x="131616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968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3524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12200" y="2509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600"/>
            <a:ext cx="9070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ML: Krótka charakterystyk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9360" y="3568680"/>
            <a:ext cx="8585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tacja UML,  która opiera się o podstawowe  pojęcia obiektowości  może być    wykorzystana w dowolnej  metody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jęcia UML, wynikające z doświadczenia jej  twórców, mają w założeniu  przykrywać    większość istotnych  aspektów  modelowanych  system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L jest składową standardu OMG  (CORBA)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wszyscy są zachwyceni UML. Niektórzy specjaliści uważają go z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wór    przereklamowany:  niestabilny, zbyt ciężki, źle zdefiniowan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UML ma konkurentów  w    postaci  metodyki i  notacji OPEN, “design by contracts” oraz in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9360" y="1028880"/>
            <a:ext cx="8474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cieszy się aktualnie  bardzo dużą popularnością.  Prawdopodobnie przez  wiele    najbliższych  lat  będzie dominował   w  obszarze analizy i  projekt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L  jest  metodyką projektowania ?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2362320"/>
            <a:ext cx="816948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efinicja podana przez Rational:  "The Unified Modeling Language (UML) is a language for specifying, constructing, visualizing, and documenting the  artifacts of a software-intensive system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ML: Krótka charakterystyk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0600" y="1727280"/>
            <a:ext cx="832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MT (Rumbaugh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dobry do modelowania dziedziny  przedmiotowej. Nie przykrywa dostatecznie dokładnie zarówno aspektu użytkowników systemu, jak i aspektu  implementacji (konstrukcji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OSE (Jacobson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dobrze podchodzi  do kwestii  modelowania użytkowników i cyklu  życiowego systemu. Nie przykrywa dokładnie modelowania dziedziny przedmiotowej  jak  i  aspektu  implementacji  (konstrukcji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OAD (Booch)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dobrze podchodzi do kwestii  projektowania, konstrukcji i związków ze środowiskiem implementacji. Nie przykrywa dostatecznie dobrze fazy rozpoznania i analizy wymagań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4280" y="1066680"/>
            <a:ext cx="5923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dy i zalety metodyk, których autorami są twórcy UM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080" y="506556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stnieje wiele aspektów projektowania systemów,  które nie zostały  przykryte przez  żadną z  wyżej  wymienionych  metodyk,  np. włączenie prototypowania w cykl życiowy,  rozproszenie i komponenty,  przystosowanie notacji do preferencji  projektantów i inne. Celem UML jest przykrycie również  tych aspekt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iagramy definiowane w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80" y="1103400"/>
            <a:ext cx="4096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iagramy przypadków użycia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iagramy 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iagramy dynamiczne 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160" y="2220840"/>
            <a:ext cx="401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stan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aktyw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interak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sekwen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współpracy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320" y="378612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iagramy implementacyj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7080" y="4229280"/>
            <a:ext cx="38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kompon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iagramy wdrożeniowe 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65160" y="5626080"/>
            <a:ext cx="71787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iagramy te zapewniają  uzyskanie wielu  perspektyw  projektowan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ystemu w trakcie  jego budow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760" y="494028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y pakie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8160"/>
            <a:ext cx="91058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 a diagram; modele w UML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3800" y="1117440"/>
            <a:ext cx="8449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del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wna abstrakcja projektowanego systemu, widziana z określonej perspektyw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 określonym poziomie szczegółow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środek służący do opisu  modelu. Dany model może być opisany przy po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elu diagramów. Dany  element  modelu  może pojawiać się na wiel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ach jednego mode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480" y="3032280"/>
            <a:ext cx="72324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wa najważniejsze modele w UML, wykorzystywane w fazie analizy,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8600" y="3476520"/>
            <a:ext cx="81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del przypadków użyc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opisujący system widziany z perspektywy jego przyszłego    użytkownika (za pomoc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ów przypadków użyc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600" y="4232160"/>
            <a:ext cx="80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del obiektowy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zedstawiający statyczną budowę, czyli strukturę systemu (za pomoc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diagramów kl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ów obiektów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 Diagram klas może zawierać obiekty. Diagram obiektów nie zawiera klas, ale wyłącznie obie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4320" y="5178600"/>
            <a:ext cx="86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łównym zadanie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mocniczego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modelu dynamicznego (zachowa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st wypełnienie diagramu  klas metodami  wynikłymi z analizy zachowania systemu w  trakcie  wykonywania  zadań,  gdzie zadaniem może być np.  realizacja przypadku  użycia czy  też  jednego konkretnego scenariusza danego przypadku 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 a diagram; modele w UML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4096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99072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7520" y="95256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łówny obs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6920" y="1090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09880" y="1090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8760" y="95256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dstaw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ję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9360" y="18669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k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179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obiekt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057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9280" y="1638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 k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0200" y="2698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29280" y="20955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 obiek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057040" y="2698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4200" y="283212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przypad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ży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29280" y="28321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przypad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ży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1638360"/>
            <a:ext cx="24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asa, obiekt, asocjacj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lizacja, zależność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izacja,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2705040"/>
            <a:ext cx="25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7160" y="2705040"/>
            <a:ext cx="24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or, przypadek użyc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liz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3657600"/>
            <a:ext cx="687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2760" y="369576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30360" y="369576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mpon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419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2200" y="44578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drożeni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37520" y="36957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mponent, interf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leżność, realiz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419720"/>
            <a:ext cx="25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60560" y="453384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ęzeł, kompon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zależność, lok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33412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" y="56008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3120" y="56008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dynamicz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6008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sta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8040" y="54291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, zdarzenie, przejści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cja, aktyw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6248520"/>
            <a:ext cx="474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 a diagram; modele w UML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13208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50040" y="13208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89840" y="13208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06640" y="13208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0120" y="1320840"/>
            <a:ext cx="0" cy="48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0120" y="132084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120" y="193032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6760" y="128268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łówny obs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6160" y="14209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59120" y="1420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agra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68000" y="12826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dstaw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ję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720" y="23493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ka, c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2000" y="221148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l dynamiczn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78160" y="215892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aktyw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59080" y="28004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76720" y="30672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intera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87480" y="204480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n, aktywność, for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in, romb decyzyj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50040" y="2806560"/>
            <a:ext cx="25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86040" y="295920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akcja, współpra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omunikat, aktyw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42720" y="4025880"/>
            <a:ext cx="12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ządz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78520" y="402588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gr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e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87840" y="40258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kiet, pod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0120" y="482616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6160" y="52578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zszerzal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3080" y="52578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szystkie mod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5257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szystkie diagra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10160" y="4940280"/>
            <a:ext cx="20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reotyp, własnoś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ykietowan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granic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0120" y="375300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9000" y="40006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120" y="6153120"/>
            <a:ext cx="856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reotyp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360" y="1143000"/>
            <a:ext cx="848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ereotyp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stanowią jeden  z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echanizm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zszerzal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ML. Jak każdy  mechanizm rozszerzalności, dają  możliwość definiowania nowych elementów,  co ułatwia  przystosowanie UML do modelowania specyficznego procesu,  do specyficznych  preferencji użytkownika  czy też  pozwala na uszczegóławianie semantyki  model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629080"/>
            <a:ext cx="8423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ereotypy są wyrażeniami językowymi  umożliwiającymi metaklasyfikacj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stnieje lista stereotypów dla każdego rodzaju elementów U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 modelu może mieć co najwyżej jeden stereotyp 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ą stereotypy predefiniowane, ale użytkownicy mogą też definiować własne stereotyp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ereotypy mogą mieć implikacje semantyczne (ograniczen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960" y="5805360"/>
            <a:ext cx="4169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cja: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azwa stereotyp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u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ik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reotypy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200" y="1371600"/>
            <a:ext cx="25005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ereotypó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21040" y="2514600"/>
            <a:ext cx="9144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514600"/>
            <a:ext cx="9144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6"/>
            <a:endCxn id="256" idx="2"/>
          </p:cNvCxnSpPr>
          <p:nvPr/>
        </p:nvCxnSpPr>
        <p:spPr>
          <a:xfrm>
            <a:off x="1676160" y="2819160"/>
            <a:ext cx="12452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59" name=""/>
          <p:cNvSpPr/>
          <p:nvPr/>
        </p:nvSpPr>
        <p:spPr>
          <a:xfrm>
            <a:off x="1052280" y="2629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6000" y="2629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36280" y="237636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80160" y="2489040"/>
            <a:ext cx="91440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4920" y="2489040"/>
            <a:ext cx="91440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3" idx="6"/>
            <a:endCxn id="262" idx="2"/>
          </p:cNvCxnSpPr>
          <p:nvPr/>
        </p:nvCxnSpPr>
        <p:spPr>
          <a:xfrm>
            <a:off x="5358960" y="2793600"/>
            <a:ext cx="13212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265" name=""/>
          <p:cNvSpPr/>
          <p:nvPr/>
        </p:nvSpPr>
        <p:spPr>
          <a:xfrm>
            <a:off x="4659120" y="2603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0680" y="257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3160" y="2351160"/>
            <a:ext cx="10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ten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72720" y="4292640"/>
            <a:ext cx="908640" cy="78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o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0920" y="491796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49880" y="4559400"/>
            <a:ext cx="1726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est równoważ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622760" y="4114800"/>
            <a:ext cx="610920" cy="610920"/>
            <a:chOff x="4622760" y="4114800"/>
            <a:chExt cx="610920" cy="610920"/>
          </a:xfrm>
        </p:grpSpPr>
        <p:sp>
          <p:nvSpPr>
            <p:cNvPr id="272" name=""/>
            <p:cNvSpPr/>
            <p:nvPr/>
          </p:nvSpPr>
          <p:spPr>
            <a:xfrm>
              <a:off x="4832640" y="4114800"/>
              <a:ext cx="209160" cy="14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30920" y="42631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22760" y="4354200"/>
              <a:ext cx="6109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30920" y="4535640"/>
              <a:ext cx="28404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646880" y="4535640"/>
              <a:ext cx="28332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artości etykietow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880" y="927000"/>
            <a:ext cx="7997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tości etykietowa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są  następnym z  mechanizmów rozszerzalności UM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rtość etykietowaną stanowi ciąg znaków o postaci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łowo kluczowe = wart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stę wartości etykietowanych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ddzielony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zecinkam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 umieszcza się w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{}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wolny  element modelu może być skojarzony z listą wartości etykietow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2120" y="3247920"/>
            <a:ext cx="75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utor = “Jan Nowak”, termin zakończenia = “31 Maja 1999”, status = analiz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2520" y="2670120"/>
            <a:ext cx="4077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ykłady list wartości etykietowany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32560" y="37735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bstract = TRU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7760" y="37735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{abstrac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7720" y="37497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na skrócić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6560" y="4419720"/>
            <a:ext cx="8296560" cy="179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ten sposób można na diagramach umieścić dowolną dodatkową informację.  Zakłada się, że narzędzia CASE  umożliwią odszukanie odpowiedniego elementu  na podstawie słowa kluczowego i skojarzonej z nim wart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waga!  Wartości etykietowane  służą raczej do opisu pojedynczego elementu modelu niż do metaklasyfikcji (patrz: stereotyp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360" y="11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5000" y="1386000"/>
            <a:ext cx="4623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ykl życiowy produktu informatycz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040" y="1873080"/>
            <a:ext cx="28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owanie  poj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73720" y="438768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235116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tody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6520" y="2833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6160" y="3265560"/>
            <a:ext cx="347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rótka charakterysty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dele i diag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chanizmy rozszerzal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680"/>
            <a:ext cx="9139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ykl życiowy produktu informaty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64920" y="2068560"/>
            <a:ext cx="70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strategi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specyfikacji i analizy wymagań  --&gt;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jektowanie (modelowan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jęci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projektowania --&gt;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jektowanie logi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konstrukcji (implementacji) --&gt;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jektowanie fizy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test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za konserw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209680"/>
            <a:ext cx="0" cy="320364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159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6160" y="1258920"/>
            <a:ext cx="560772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azy cyklu życiowego produktu informatycz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wanie pojęci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640" y="1712880"/>
            <a:ext cx="770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jęcia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owanie pojęciowe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conceptual modeling) oraz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jęciow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conceptual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) odnoszą się do procesów myślowych, do wyobrażeń towarzyszących pracy nad oprogramowani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jektant,  programista, itp.  muszą dokładnie wyobrazić sobie problem oraz metodę jego rozwiązania. Zasadnicze procesy tworzenia oprogramowania zachodzą więc w ludzkim umyśle i nie są związane z jakimkolwiek językiem programowania czy jakimkolwiek narzędziem w ogó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owanie pojęciowe może być (i powinno być) wspomagane przez środki wzmacniające ludzką pamięć i wyobraźnię,  służące do opisu odwzorowywanej rzeczywistości w postaci: struktur  danych, operacji  na danych czy zachodzących procesó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60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todyk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1139760"/>
            <a:ext cx="836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Metodyk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metodologia) -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inżynierii oprogramowania -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estawem pojęć, oznaczeń, języków, modeli, diagramów, technik i sposobów postępowani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pierających  proces konstruowania systemu (realizacji projektu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2486160"/>
            <a:ext cx="834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todyka jest wykorzystywana zarówno do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jektowania pojęciowego, jak i logicznego czy   fizyczneg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3564000"/>
            <a:ext cx="8077320" cy="2481480"/>
            <a:chOff x="457200" y="3564000"/>
            <a:chExt cx="8077320" cy="2481480"/>
          </a:xfrm>
        </p:grpSpPr>
        <p:sp>
          <p:nvSpPr>
            <p:cNvPr id="132" name=""/>
            <p:cNvSpPr/>
            <p:nvPr/>
          </p:nvSpPr>
          <p:spPr>
            <a:xfrm>
              <a:off x="3222000" y="4275000"/>
              <a:ext cx="42145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ole uczestników projektu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enariusze postępowani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eguły przechodzenia do następnej faz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modele, które powinny być wytworzon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dokumentację, która powinna powstać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język/notację, którą należy używać.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56400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todyka  ustala fazy realizacji projektu, a ponadto </a:t>
              </a: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la każdej z faz projektu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wyznacz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9463400">
              <a:off x="1676520" y="4606560"/>
              <a:ext cx="733320" cy="121392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3920"/>
                <a:gd name="textAreaBottom" fmla="*/ 8802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058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todyk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1480" y="60451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na notacja może być wykorzystywana w innych metodyka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88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7040" y="4813200"/>
            <a:ext cx="800100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czególne znaczenie mają notacje graficzne, i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lety potwierdzają badania psychologiczne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żynieria oprogramowania wzoruje się tu na innych dziedzinach techniki, takich jak np. elektronika i mechanik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3772080"/>
            <a:ext cx="10386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odza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ot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8440" y="3657600"/>
            <a:ext cx="67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ekst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pecyfikacje - ustrukturalizowany zapis tekstowy  i  numerycz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otacje grafi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960" y="1028880"/>
            <a:ext cx="501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800" bIns="4680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Notacj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l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biór oznaczeń, jest wykorzystywana do dokumentowania wyników poszczególnych faz projektu -  pośrednich  i końcowych. Notacja służy jako środek wspomagający ludzką pamięć  i wyobraźnię, a także jako środek ułatwiający komunikację  zarówno  między członkami zespołu  projektowego, jak i między zespołem projektowym  a klien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91320" y="1181160"/>
            <a:ext cx="2971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Język do modelow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680" y="976320"/>
            <a:ext cx="8340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ęzyk do modelowania, jak każdy inny język, oprócz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semantyk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składn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ota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siada  jeszcze jeden ważny aspekt: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ragmatykę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3680" y="2031840"/>
            <a:ext cx="7883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mantyk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kreśla, co należy  rozumieć pod przyjętymi oznaczeniami  (notacją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3680" y="3340080"/>
            <a:ext cx="86454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gmatyk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kreśla, w jaki  sposób należy używać przyjętych oznaczeń, jak do konkretnej sytuacji dopasować pewien  wzorzec notacyjny - zgodnie z intencją autorów  języ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3680" y="2692440"/>
            <a:ext cx="6300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kład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określa, jak wolno łączyć ze sobą przyjęte oznac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000" y="434988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ęzyk  niewiele znaczy  bez  znajomości sposobów  wykorzystywania go  w  procesie  wytwarzania  produktu  programistycznego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 metodykach  pragmatyka  stosowanego języka jest sprawą podstawową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Jest ona zazwyczaj trudna do  objaśnienia:  można to robić wyłącznie na przykładach  przypominających realne sytuacje. Niestety, realne sytuacje są  zazwyczaj  bardzo skomplikowane, czego efektem jest  pewien  infantylizm przykładów  zamieszczanych w podręcznik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160" y="990720"/>
            <a:ext cx="457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ATIONAL SOFTWAR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0160" y="1849320"/>
            <a:ext cx="7121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L 0.8-0.9,      styczeń 1995 - wrzesień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L 1.0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styczeń 1997, przesłany do O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L 1.1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koniec 1997, zatwierdzony jako składnik standardu O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L 1.3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kwiecień 19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ML 1.4             listopad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4280" y="3675240"/>
            <a:ext cx="6659640" cy="255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łączone siły trzech znanych metodologów oprogramowan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Grady Booch           Ivar Jacobson               James Rumba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47720" y="4138560"/>
            <a:ext cx="1054080" cy="1523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94240" y="4138560"/>
            <a:ext cx="110484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67360" y="4138560"/>
            <a:ext cx="1066680" cy="1523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66600" y="97164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ttp://www.rational.com/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okumentacja on li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1520"/>
            <a:ext cx="91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1760" y="5653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25920"/>
            <a:ext cx="9139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lecana literatur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760" y="1257480"/>
            <a:ext cx="85248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. Stemposz, K.SUBIETA: Slajdy do wykładu “Projektowanie systemów informacyjny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. SUBIETA: Obiektowość w projektowaniu i bazach danych, Akademicka Oficyna Wydawnicza PLJ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. SUBIETA: Słownik terminów z zakresu obiektowości, Akademicka Oficyna Wydawnicza PLJ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. Fowler, K. Scott: UML Distilled, Addison-Wesley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. Rumbaugh, I. Jacobson, G. Booch: The Unified Modeling Language Reference Manual, Addison-Wesley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MG Unified Modeling Language. Specification, Version 1.4, The Object Management Group, September 2001, http://www.omg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. Quatrani: Visual Modeling with Rational Rose 2000 and UML, Addison-Wesley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.Larman: Applying UML and Patterns. An Introduction to Object-Oriented Analysis and Design, Prentice-Hall, Inc.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23:42:32Z</dcterms:created>
  <dc:creator>Ewa Stemposz</dc:creator>
  <dc:description/>
  <dc:language>en-US</dc:language>
  <cp:lastModifiedBy>Your User Name</cp:lastModifiedBy>
  <dcterms:modified xsi:type="dcterms:W3CDTF">2002-12-05T21:15:57Z</dcterms:modified>
  <cp:revision>82</cp:revision>
  <dc:subject/>
  <dc:title>No Slide Title</dc:title>
</cp:coreProperties>
</file>