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39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1160" y="6552360"/>
            <a:ext cx="4789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E. Stemposz, Analiza i Projektowanie Systemów Informatycznych, Wykład 4, Slajd </a:t>
            </a:r>
            <a:fld id="{F6FB2231-F291-432C-97ED-16E48518ABA0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-4680" y="838080"/>
            <a:ext cx="914400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4680" y="6629400"/>
            <a:ext cx="914400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75480" y="661284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C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 CE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 CE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3000" y="6120"/>
            <a:ext cx="906804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jektowanie systemów informacyjnyc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9800" y="2357280"/>
            <a:ext cx="4761000" cy="3511800"/>
          </a:xfrm>
          <a:custGeom>
            <a:avLst/>
            <a:gdLst/>
            <a:ahLst/>
            <a:rect l="l" t="t" r="r" b="b"/>
            <a:pathLst>
              <a:path w="2999" h="4424">
                <a:moveTo>
                  <a:pt x="0" y="4424"/>
                </a:moveTo>
                <a:lnTo>
                  <a:pt x="227" y="0"/>
                </a:lnTo>
                <a:lnTo>
                  <a:pt x="2771" y="0"/>
                </a:lnTo>
                <a:lnTo>
                  <a:pt x="2999" y="4424"/>
                </a:lnTo>
                <a:lnTo>
                  <a:pt x="0" y="4424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54160" y="1676520"/>
            <a:ext cx="382680" cy="666720"/>
          </a:xfrm>
          <a:custGeom>
            <a:avLst/>
            <a:gdLst/>
            <a:ahLst/>
            <a:rect l="l" t="t" r="r" b="b"/>
            <a:pathLst>
              <a:path w="241" h="839">
                <a:moveTo>
                  <a:pt x="110" y="839"/>
                </a:moveTo>
                <a:lnTo>
                  <a:pt x="123" y="670"/>
                </a:lnTo>
                <a:lnTo>
                  <a:pt x="136" y="839"/>
                </a:lnTo>
                <a:lnTo>
                  <a:pt x="241" y="839"/>
                </a:lnTo>
                <a:lnTo>
                  <a:pt x="176" y="0"/>
                </a:lnTo>
                <a:lnTo>
                  <a:pt x="68" y="0"/>
                </a:lnTo>
                <a:lnTo>
                  <a:pt x="0" y="839"/>
                </a:lnTo>
                <a:lnTo>
                  <a:pt x="110" y="83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27400" y="5886360"/>
            <a:ext cx="244440" cy="468360"/>
          </a:xfrm>
          <a:custGeom>
            <a:avLst/>
            <a:gdLst/>
            <a:ahLst/>
            <a:rect l="l" t="t" r="r" b="b"/>
            <a:pathLst>
              <a:path w="154" h="589">
                <a:moveTo>
                  <a:pt x="0" y="589"/>
                </a:moveTo>
                <a:lnTo>
                  <a:pt x="46" y="0"/>
                </a:lnTo>
                <a:lnTo>
                  <a:pt x="154" y="0"/>
                </a:lnTo>
                <a:lnTo>
                  <a:pt x="107" y="589"/>
                </a:lnTo>
                <a:lnTo>
                  <a:pt x="0" y="58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27440" y="5886360"/>
            <a:ext cx="249120" cy="468360"/>
          </a:xfrm>
          <a:custGeom>
            <a:avLst/>
            <a:gdLst/>
            <a:ahLst/>
            <a:rect l="l" t="t" r="r" b="b"/>
            <a:pathLst>
              <a:path w="157" h="589">
                <a:moveTo>
                  <a:pt x="157" y="589"/>
                </a:moveTo>
                <a:lnTo>
                  <a:pt x="110" y="0"/>
                </a:lnTo>
                <a:lnTo>
                  <a:pt x="0" y="0"/>
                </a:lnTo>
                <a:lnTo>
                  <a:pt x="49" y="589"/>
                </a:lnTo>
                <a:lnTo>
                  <a:pt x="157" y="58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02000" y="5983200"/>
            <a:ext cx="1292040" cy="130320"/>
          </a:xfrm>
          <a:custGeom>
            <a:avLst/>
            <a:gdLst/>
            <a:ahLst/>
            <a:rect l="l" t="t" r="r" b="b"/>
            <a:pathLst>
              <a:path w="814" h="163">
                <a:moveTo>
                  <a:pt x="18" y="0"/>
                </a:moveTo>
                <a:lnTo>
                  <a:pt x="803" y="0"/>
                </a:lnTo>
                <a:lnTo>
                  <a:pt x="814" y="163"/>
                </a:lnTo>
                <a:lnTo>
                  <a:pt x="0" y="163"/>
                </a:lnTo>
                <a:lnTo>
                  <a:pt x="1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43520" y="4506840"/>
            <a:ext cx="3224160" cy="1847880"/>
          </a:xfrm>
          <a:custGeom>
            <a:avLst/>
            <a:gdLst/>
            <a:ahLst/>
            <a:rect l="l" t="t" r="r" b="b"/>
            <a:pathLst>
              <a:path w="2031" h="2328">
                <a:moveTo>
                  <a:pt x="2031" y="2328"/>
                </a:moveTo>
                <a:lnTo>
                  <a:pt x="522" y="2328"/>
                </a:lnTo>
                <a:lnTo>
                  <a:pt x="584" y="1833"/>
                </a:lnTo>
                <a:lnTo>
                  <a:pt x="0" y="1200"/>
                </a:lnTo>
                <a:lnTo>
                  <a:pt x="141" y="736"/>
                </a:lnTo>
                <a:lnTo>
                  <a:pt x="690" y="1225"/>
                </a:lnTo>
                <a:lnTo>
                  <a:pt x="789" y="695"/>
                </a:lnTo>
                <a:lnTo>
                  <a:pt x="849" y="422"/>
                </a:lnTo>
                <a:lnTo>
                  <a:pt x="899" y="300"/>
                </a:lnTo>
                <a:lnTo>
                  <a:pt x="972" y="168"/>
                </a:lnTo>
                <a:lnTo>
                  <a:pt x="1459" y="0"/>
                </a:lnTo>
                <a:lnTo>
                  <a:pt x="1604" y="233"/>
                </a:lnTo>
                <a:lnTo>
                  <a:pt x="1716" y="528"/>
                </a:lnTo>
                <a:lnTo>
                  <a:pt x="1850" y="1031"/>
                </a:lnTo>
                <a:lnTo>
                  <a:pt x="1936" y="1461"/>
                </a:lnTo>
                <a:lnTo>
                  <a:pt x="1999" y="1921"/>
                </a:lnTo>
                <a:lnTo>
                  <a:pt x="2031" y="2328"/>
                </a:lnTo>
                <a:close/>
              </a:path>
            </a:pathLst>
          </a:custGeom>
          <a:solidFill>
            <a:srgbClr val="ccffff"/>
          </a:solidFill>
          <a:ln w="180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67560" y="5091120"/>
            <a:ext cx="1957320" cy="819000"/>
          </a:xfrm>
          <a:custGeom>
            <a:avLst/>
            <a:gdLst/>
            <a:ahLst/>
            <a:rect l="l" t="t" r="r" b="b"/>
            <a:pathLst>
              <a:path w="1233" h="1032">
                <a:moveTo>
                  <a:pt x="0" y="697"/>
                </a:moveTo>
                <a:lnTo>
                  <a:pt x="13" y="541"/>
                </a:lnTo>
                <a:lnTo>
                  <a:pt x="72" y="357"/>
                </a:lnTo>
                <a:lnTo>
                  <a:pt x="156" y="220"/>
                </a:lnTo>
                <a:lnTo>
                  <a:pt x="256" y="103"/>
                </a:lnTo>
                <a:lnTo>
                  <a:pt x="383" y="26"/>
                </a:lnTo>
                <a:lnTo>
                  <a:pt x="514" y="0"/>
                </a:lnTo>
                <a:lnTo>
                  <a:pt x="680" y="0"/>
                </a:lnTo>
                <a:lnTo>
                  <a:pt x="764" y="26"/>
                </a:lnTo>
                <a:lnTo>
                  <a:pt x="837" y="103"/>
                </a:lnTo>
                <a:lnTo>
                  <a:pt x="911" y="220"/>
                </a:lnTo>
                <a:lnTo>
                  <a:pt x="990" y="261"/>
                </a:lnTo>
                <a:lnTo>
                  <a:pt x="1110" y="220"/>
                </a:lnTo>
                <a:lnTo>
                  <a:pt x="1191" y="220"/>
                </a:lnTo>
                <a:lnTo>
                  <a:pt x="1233" y="285"/>
                </a:lnTo>
                <a:lnTo>
                  <a:pt x="1221" y="398"/>
                </a:lnTo>
                <a:lnTo>
                  <a:pt x="1141" y="567"/>
                </a:lnTo>
                <a:lnTo>
                  <a:pt x="1032" y="673"/>
                </a:lnTo>
                <a:lnTo>
                  <a:pt x="812" y="838"/>
                </a:lnTo>
                <a:lnTo>
                  <a:pt x="597" y="958"/>
                </a:lnTo>
                <a:lnTo>
                  <a:pt x="376" y="1032"/>
                </a:lnTo>
                <a:lnTo>
                  <a:pt x="207" y="1032"/>
                </a:lnTo>
                <a:lnTo>
                  <a:pt x="111" y="1004"/>
                </a:lnTo>
                <a:lnTo>
                  <a:pt x="35" y="934"/>
                </a:lnTo>
                <a:lnTo>
                  <a:pt x="7" y="826"/>
                </a:lnTo>
                <a:lnTo>
                  <a:pt x="0" y="69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191360" y="4753080"/>
            <a:ext cx="560520" cy="442800"/>
          </a:xfrm>
          <a:custGeom>
            <a:avLst/>
            <a:gdLst/>
            <a:ahLst/>
            <a:rect l="l" t="t" r="r" b="b"/>
            <a:pathLst>
              <a:path w="353" h="558">
                <a:moveTo>
                  <a:pt x="154" y="0"/>
                </a:moveTo>
                <a:lnTo>
                  <a:pt x="83" y="153"/>
                </a:lnTo>
                <a:lnTo>
                  <a:pt x="19" y="426"/>
                </a:lnTo>
                <a:lnTo>
                  <a:pt x="0" y="558"/>
                </a:lnTo>
                <a:lnTo>
                  <a:pt x="112" y="503"/>
                </a:lnTo>
                <a:lnTo>
                  <a:pt x="183" y="325"/>
                </a:lnTo>
                <a:lnTo>
                  <a:pt x="275" y="127"/>
                </a:lnTo>
                <a:lnTo>
                  <a:pt x="353" y="16"/>
                </a:lnTo>
                <a:lnTo>
                  <a:pt x="154" y="0"/>
                </a:lnTo>
                <a:close/>
              </a:path>
            </a:pathLst>
          </a:cu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56360" y="4753080"/>
            <a:ext cx="758520" cy="663480"/>
          </a:xfrm>
          <a:custGeom>
            <a:avLst/>
            <a:gdLst/>
            <a:ahLst/>
            <a:rect l="l" t="t" r="r" b="b"/>
            <a:pathLst>
              <a:path w="478" h="837">
                <a:moveTo>
                  <a:pt x="377" y="824"/>
                </a:moveTo>
                <a:lnTo>
                  <a:pt x="478" y="519"/>
                </a:lnTo>
                <a:lnTo>
                  <a:pt x="468" y="284"/>
                </a:lnTo>
                <a:lnTo>
                  <a:pt x="418" y="153"/>
                </a:lnTo>
                <a:lnTo>
                  <a:pt x="304" y="88"/>
                </a:lnTo>
                <a:lnTo>
                  <a:pt x="225" y="0"/>
                </a:lnTo>
                <a:lnTo>
                  <a:pt x="93" y="26"/>
                </a:lnTo>
                <a:lnTo>
                  <a:pt x="10" y="50"/>
                </a:lnTo>
                <a:lnTo>
                  <a:pt x="19" y="143"/>
                </a:lnTo>
                <a:lnTo>
                  <a:pt x="54" y="243"/>
                </a:lnTo>
                <a:lnTo>
                  <a:pt x="31" y="299"/>
                </a:lnTo>
                <a:lnTo>
                  <a:pt x="0" y="411"/>
                </a:lnTo>
                <a:lnTo>
                  <a:pt x="39" y="569"/>
                </a:lnTo>
                <a:lnTo>
                  <a:pt x="106" y="696"/>
                </a:lnTo>
                <a:lnTo>
                  <a:pt x="154" y="696"/>
                </a:lnTo>
                <a:lnTo>
                  <a:pt x="182" y="799"/>
                </a:lnTo>
                <a:lnTo>
                  <a:pt x="260" y="837"/>
                </a:lnTo>
                <a:lnTo>
                  <a:pt x="322" y="837"/>
                </a:lnTo>
                <a:lnTo>
                  <a:pt x="377" y="824"/>
                </a:lnTo>
                <a:close/>
              </a:path>
            </a:pathLst>
          </a:custGeom>
          <a:solidFill>
            <a:srgbClr val="ffc281"/>
          </a:solidFill>
          <a:ln w="1440">
            <a:solidFill>
              <a:srgbClr val="ffc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03680" y="4370400"/>
            <a:ext cx="393840" cy="270000"/>
          </a:xfrm>
          <a:custGeom>
            <a:avLst/>
            <a:gdLst/>
            <a:ahLst/>
            <a:rect l="l" t="t" r="r" b="b"/>
            <a:pathLst>
              <a:path w="248" h="340">
                <a:moveTo>
                  <a:pt x="248" y="340"/>
                </a:moveTo>
                <a:lnTo>
                  <a:pt x="224" y="234"/>
                </a:lnTo>
                <a:lnTo>
                  <a:pt x="181" y="172"/>
                </a:lnTo>
                <a:lnTo>
                  <a:pt x="129" y="118"/>
                </a:lnTo>
                <a:lnTo>
                  <a:pt x="60" y="93"/>
                </a:lnTo>
                <a:lnTo>
                  <a:pt x="0" y="0"/>
                </a:lnTo>
                <a:lnTo>
                  <a:pt x="25" y="185"/>
                </a:lnTo>
                <a:lnTo>
                  <a:pt x="54" y="249"/>
                </a:lnTo>
                <a:lnTo>
                  <a:pt x="83" y="311"/>
                </a:lnTo>
                <a:lnTo>
                  <a:pt x="152" y="340"/>
                </a:lnTo>
                <a:lnTo>
                  <a:pt x="211" y="340"/>
                </a:lnTo>
                <a:lnTo>
                  <a:pt x="248" y="340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86360" y="4662360"/>
            <a:ext cx="407880" cy="335160"/>
          </a:xfrm>
          <a:custGeom>
            <a:avLst/>
            <a:gdLst/>
            <a:ahLst/>
            <a:rect l="l" t="t" r="r" b="b"/>
            <a:pathLst>
              <a:path w="257" h="423">
                <a:moveTo>
                  <a:pt x="0" y="0"/>
                </a:moveTo>
                <a:lnTo>
                  <a:pt x="7" y="64"/>
                </a:lnTo>
                <a:lnTo>
                  <a:pt x="195" y="423"/>
                </a:lnTo>
                <a:lnTo>
                  <a:pt x="221" y="388"/>
                </a:lnTo>
                <a:lnTo>
                  <a:pt x="257" y="347"/>
                </a:lnTo>
                <a:lnTo>
                  <a:pt x="37" y="26"/>
                </a:lnTo>
                <a:lnTo>
                  <a:pt x="0" y="0"/>
                </a:lnTo>
                <a:close/>
              </a:path>
            </a:pathLst>
          </a:custGeom>
          <a:solidFill>
            <a:srgbClr val="622100"/>
          </a:solidFill>
          <a:ln w="1440">
            <a:solidFill>
              <a:srgbClr val="622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86680" y="5137200"/>
            <a:ext cx="392040" cy="162000"/>
          </a:xfrm>
          <a:custGeom>
            <a:avLst/>
            <a:gdLst/>
            <a:ahLst/>
            <a:rect l="l" t="t" r="r" b="b"/>
            <a:pathLst>
              <a:path w="247" h="202">
                <a:moveTo>
                  <a:pt x="0" y="58"/>
                </a:moveTo>
                <a:lnTo>
                  <a:pt x="12" y="149"/>
                </a:lnTo>
                <a:lnTo>
                  <a:pt x="47" y="202"/>
                </a:lnTo>
                <a:lnTo>
                  <a:pt x="134" y="202"/>
                </a:lnTo>
                <a:lnTo>
                  <a:pt x="247" y="152"/>
                </a:lnTo>
                <a:lnTo>
                  <a:pt x="206" y="37"/>
                </a:lnTo>
                <a:lnTo>
                  <a:pt x="146" y="0"/>
                </a:lnTo>
                <a:lnTo>
                  <a:pt x="51" y="44"/>
                </a:lnTo>
                <a:lnTo>
                  <a:pt x="0" y="58"/>
                </a:lnTo>
                <a:close/>
              </a:path>
            </a:pathLst>
          </a:custGeom>
          <a:solidFill>
            <a:srgbClr val="ffc281"/>
          </a:solidFill>
          <a:ln w="1440">
            <a:solidFill>
              <a:srgbClr val="ffc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54720" y="5479920"/>
            <a:ext cx="395280" cy="233640"/>
          </a:xfrm>
          <a:custGeom>
            <a:avLst/>
            <a:gdLst/>
            <a:ahLst/>
            <a:rect l="l" t="t" r="r" b="b"/>
            <a:pathLst>
              <a:path w="249" h="294">
                <a:moveTo>
                  <a:pt x="0" y="256"/>
                </a:moveTo>
                <a:lnTo>
                  <a:pt x="193" y="83"/>
                </a:lnTo>
                <a:lnTo>
                  <a:pt x="249" y="0"/>
                </a:lnTo>
                <a:lnTo>
                  <a:pt x="235" y="83"/>
                </a:lnTo>
                <a:lnTo>
                  <a:pt x="207" y="169"/>
                </a:lnTo>
                <a:lnTo>
                  <a:pt x="158" y="261"/>
                </a:lnTo>
                <a:lnTo>
                  <a:pt x="103" y="294"/>
                </a:lnTo>
                <a:lnTo>
                  <a:pt x="35" y="280"/>
                </a:lnTo>
                <a:lnTo>
                  <a:pt x="0" y="256"/>
                </a:lnTo>
                <a:close/>
              </a:path>
            </a:pathLst>
          </a:custGeom>
          <a:solidFill>
            <a:srgbClr val="ffc281"/>
          </a:solidFill>
          <a:ln w="1440">
            <a:solidFill>
              <a:srgbClr val="ffc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07320" y="5157720"/>
            <a:ext cx="260280" cy="297000"/>
          </a:xfrm>
          <a:custGeom>
            <a:avLst/>
            <a:gdLst/>
            <a:ahLst/>
            <a:rect l="l" t="t" r="r" b="b"/>
            <a:pathLst>
              <a:path w="164" h="375">
                <a:moveTo>
                  <a:pt x="139" y="359"/>
                </a:moveTo>
                <a:lnTo>
                  <a:pt x="164" y="318"/>
                </a:lnTo>
                <a:lnTo>
                  <a:pt x="164" y="272"/>
                </a:lnTo>
                <a:lnTo>
                  <a:pt x="120" y="211"/>
                </a:lnTo>
                <a:lnTo>
                  <a:pt x="126" y="170"/>
                </a:lnTo>
                <a:lnTo>
                  <a:pt x="152" y="117"/>
                </a:lnTo>
                <a:lnTo>
                  <a:pt x="152" y="36"/>
                </a:lnTo>
                <a:lnTo>
                  <a:pt x="126" y="0"/>
                </a:lnTo>
                <a:lnTo>
                  <a:pt x="89" y="9"/>
                </a:lnTo>
                <a:lnTo>
                  <a:pt x="26" y="74"/>
                </a:lnTo>
                <a:lnTo>
                  <a:pt x="0" y="194"/>
                </a:lnTo>
                <a:lnTo>
                  <a:pt x="18" y="339"/>
                </a:lnTo>
                <a:lnTo>
                  <a:pt x="77" y="375"/>
                </a:lnTo>
                <a:lnTo>
                  <a:pt x="126" y="375"/>
                </a:lnTo>
                <a:lnTo>
                  <a:pt x="139" y="359"/>
                </a:lnTo>
                <a:close/>
              </a:path>
            </a:pathLst>
          </a:custGeom>
          <a:solidFill>
            <a:srgbClr val="ffc281"/>
          </a:solidFill>
          <a:ln w="1440">
            <a:solidFill>
              <a:srgbClr val="ffc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18360" y="5433840"/>
            <a:ext cx="200160" cy="131760"/>
          </a:xfrm>
          <a:custGeom>
            <a:avLst/>
            <a:gdLst/>
            <a:ahLst/>
            <a:rect l="l" t="t" r="r" b="b"/>
            <a:pathLst>
              <a:path w="126" h="167">
                <a:moveTo>
                  <a:pt x="80" y="0"/>
                </a:moveTo>
                <a:lnTo>
                  <a:pt x="43" y="7"/>
                </a:lnTo>
                <a:lnTo>
                  <a:pt x="20" y="38"/>
                </a:lnTo>
                <a:lnTo>
                  <a:pt x="20" y="83"/>
                </a:lnTo>
                <a:lnTo>
                  <a:pt x="0" y="132"/>
                </a:lnTo>
                <a:lnTo>
                  <a:pt x="17" y="167"/>
                </a:lnTo>
                <a:lnTo>
                  <a:pt x="66" y="167"/>
                </a:lnTo>
                <a:lnTo>
                  <a:pt x="98" y="146"/>
                </a:lnTo>
                <a:lnTo>
                  <a:pt x="118" y="132"/>
                </a:lnTo>
                <a:lnTo>
                  <a:pt x="126" y="83"/>
                </a:lnTo>
                <a:lnTo>
                  <a:pt x="120" y="50"/>
                </a:lnTo>
                <a:lnTo>
                  <a:pt x="102" y="17"/>
                </a:lnTo>
                <a:lnTo>
                  <a:pt x="80" y="0"/>
                </a:lnTo>
                <a:close/>
              </a:path>
            </a:pathLst>
          </a:cu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72240" y="5578560"/>
            <a:ext cx="289080" cy="123840"/>
          </a:xfrm>
          <a:custGeom>
            <a:avLst/>
            <a:gdLst/>
            <a:ahLst/>
            <a:rect l="l" t="t" r="r" b="b"/>
            <a:pathLst>
              <a:path w="182" h="156">
                <a:moveTo>
                  <a:pt x="24" y="38"/>
                </a:moveTo>
                <a:lnTo>
                  <a:pt x="55" y="4"/>
                </a:lnTo>
                <a:lnTo>
                  <a:pt x="101" y="0"/>
                </a:lnTo>
                <a:lnTo>
                  <a:pt x="168" y="33"/>
                </a:lnTo>
                <a:lnTo>
                  <a:pt x="182" y="64"/>
                </a:lnTo>
                <a:lnTo>
                  <a:pt x="174" y="112"/>
                </a:lnTo>
                <a:lnTo>
                  <a:pt x="136" y="132"/>
                </a:lnTo>
                <a:lnTo>
                  <a:pt x="96" y="143"/>
                </a:lnTo>
                <a:lnTo>
                  <a:pt x="56" y="156"/>
                </a:lnTo>
                <a:lnTo>
                  <a:pt x="15" y="137"/>
                </a:lnTo>
                <a:lnTo>
                  <a:pt x="0" y="98"/>
                </a:lnTo>
                <a:lnTo>
                  <a:pt x="4" y="60"/>
                </a:lnTo>
                <a:lnTo>
                  <a:pt x="24" y="38"/>
                </a:lnTo>
                <a:close/>
              </a:path>
            </a:pathLst>
          </a:custGeom>
          <a:solidFill>
            <a:srgbClr val="00ffff"/>
          </a:solidFill>
          <a:ln w="1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54840" y="5607000"/>
            <a:ext cx="298440" cy="146160"/>
          </a:xfrm>
          <a:custGeom>
            <a:avLst/>
            <a:gdLst/>
            <a:ahLst/>
            <a:rect l="l" t="t" r="r" b="b"/>
            <a:pathLst>
              <a:path w="188" h="184">
                <a:moveTo>
                  <a:pt x="0" y="94"/>
                </a:moveTo>
                <a:lnTo>
                  <a:pt x="8" y="46"/>
                </a:lnTo>
                <a:lnTo>
                  <a:pt x="25" y="22"/>
                </a:lnTo>
                <a:lnTo>
                  <a:pt x="67" y="0"/>
                </a:lnTo>
                <a:lnTo>
                  <a:pt x="120" y="7"/>
                </a:lnTo>
                <a:lnTo>
                  <a:pt x="170" y="46"/>
                </a:lnTo>
                <a:lnTo>
                  <a:pt x="188" y="99"/>
                </a:lnTo>
                <a:lnTo>
                  <a:pt x="188" y="149"/>
                </a:lnTo>
                <a:lnTo>
                  <a:pt x="162" y="175"/>
                </a:lnTo>
                <a:lnTo>
                  <a:pt x="129" y="184"/>
                </a:lnTo>
                <a:lnTo>
                  <a:pt x="95" y="161"/>
                </a:lnTo>
                <a:lnTo>
                  <a:pt x="62" y="141"/>
                </a:lnTo>
                <a:lnTo>
                  <a:pt x="22" y="118"/>
                </a:lnTo>
                <a:lnTo>
                  <a:pt x="8" y="105"/>
                </a:lnTo>
                <a:lnTo>
                  <a:pt x="0" y="94"/>
                </a:lnTo>
                <a:close/>
              </a:path>
            </a:pathLst>
          </a:cu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80040" y="5265720"/>
            <a:ext cx="322200" cy="141480"/>
          </a:xfrm>
          <a:custGeom>
            <a:avLst/>
            <a:gdLst/>
            <a:ahLst/>
            <a:rect l="l" t="t" r="r" b="b"/>
            <a:pathLst>
              <a:path w="203" h="178">
                <a:moveTo>
                  <a:pt x="43" y="146"/>
                </a:moveTo>
                <a:lnTo>
                  <a:pt x="65" y="127"/>
                </a:lnTo>
                <a:lnTo>
                  <a:pt x="88" y="127"/>
                </a:lnTo>
                <a:lnTo>
                  <a:pt x="129" y="178"/>
                </a:lnTo>
                <a:lnTo>
                  <a:pt x="167" y="163"/>
                </a:lnTo>
                <a:lnTo>
                  <a:pt x="203" y="113"/>
                </a:lnTo>
                <a:lnTo>
                  <a:pt x="203" y="41"/>
                </a:lnTo>
                <a:lnTo>
                  <a:pt x="143" y="0"/>
                </a:lnTo>
                <a:lnTo>
                  <a:pt x="72" y="0"/>
                </a:lnTo>
                <a:lnTo>
                  <a:pt x="25" y="34"/>
                </a:lnTo>
                <a:lnTo>
                  <a:pt x="0" y="89"/>
                </a:lnTo>
                <a:lnTo>
                  <a:pt x="6" y="146"/>
                </a:lnTo>
                <a:lnTo>
                  <a:pt x="32" y="153"/>
                </a:lnTo>
                <a:lnTo>
                  <a:pt x="43" y="146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539040" y="5153040"/>
            <a:ext cx="206280" cy="112680"/>
          </a:xfrm>
          <a:custGeom>
            <a:avLst/>
            <a:gdLst/>
            <a:ahLst/>
            <a:rect l="l" t="t" r="r" b="b"/>
            <a:pathLst>
              <a:path w="130" h="143">
                <a:moveTo>
                  <a:pt x="0" y="100"/>
                </a:moveTo>
                <a:lnTo>
                  <a:pt x="20" y="134"/>
                </a:lnTo>
                <a:lnTo>
                  <a:pt x="61" y="143"/>
                </a:lnTo>
                <a:lnTo>
                  <a:pt x="112" y="124"/>
                </a:lnTo>
                <a:lnTo>
                  <a:pt x="130" y="85"/>
                </a:lnTo>
                <a:lnTo>
                  <a:pt x="123" y="40"/>
                </a:lnTo>
                <a:lnTo>
                  <a:pt x="97" y="0"/>
                </a:lnTo>
                <a:lnTo>
                  <a:pt x="61" y="0"/>
                </a:lnTo>
                <a:lnTo>
                  <a:pt x="37" y="16"/>
                </a:lnTo>
                <a:lnTo>
                  <a:pt x="6" y="40"/>
                </a:lnTo>
                <a:lnTo>
                  <a:pt x="0" y="66"/>
                </a:lnTo>
                <a:lnTo>
                  <a:pt x="0" y="100"/>
                </a:lnTo>
                <a:close/>
              </a:path>
            </a:pathLst>
          </a:custGeom>
          <a:solidFill>
            <a:srgbClr val="00c200"/>
          </a:solidFill>
          <a:ln w="1440">
            <a:solidFill>
              <a:srgbClr val="00c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226280" y="3341520"/>
            <a:ext cx="1454040" cy="1428840"/>
          </a:xfrm>
          <a:custGeom>
            <a:avLst/>
            <a:gdLst/>
            <a:ahLst/>
            <a:rect l="l" t="t" r="r" b="b"/>
            <a:pathLst>
              <a:path w="916" h="1801">
                <a:moveTo>
                  <a:pt x="139" y="451"/>
                </a:moveTo>
                <a:lnTo>
                  <a:pt x="196" y="233"/>
                </a:lnTo>
                <a:lnTo>
                  <a:pt x="267" y="0"/>
                </a:lnTo>
                <a:lnTo>
                  <a:pt x="830" y="136"/>
                </a:lnTo>
                <a:lnTo>
                  <a:pt x="843" y="510"/>
                </a:lnTo>
                <a:lnTo>
                  <a:pt x="895" y="536"/>
                </a:lnTo>
                <a:lnTo>
                  <a:pt x="916" y="639"/>
                </a:lnTo>
                <a:lnTo>
                  <a:pt x="909" y="759"/>
                </a:lnTo>
                <a:lnTo>
                  <a:pt x="884" y="886"/>
                </a:lnTo>
                <a:lnTo>
                  <a:pt x="826" y="977"/>
                </a:lnTo>
                <a:lnTo>
                  <a:pt x="737" y="977"/>
                </a:lnTo>
                <a:lnTo>
                  <a:pt x="672" y="1269"/>
                </a:lnTo>
                <a:lnTo>
                  <a:pt x="580" y="1509"/>
                </a:lnTo>
                <a:lnTo>
                  <a:pt x="464" y="1701"/>
                </a:lnTo>
                <a:lnTo>
                  <a:pt x="340" y="1785"/>
                </a:lnTo>
                <a:lnTo>
                  <a:pt x="230" y="1801"/>
                </a:lnTo>
                <a:lnTo>
                  <a:pt x="141" y="1768"/>
                </a:lnTo>
                <a:lnTo>
                  <a:pt x="64" y="1669"/>
                </a:lnTo>
                <a:lnTo>
                  <a:pt x="28" y="1509"/>
                </a:lnTo>
                <a:lnTo>
                  <a:pt x="15" y="1334"/>
                </a:lnTo>
                <a:lnTo>
                  <a:pt x="15" y="1123"/>
                </a:lnTo>
                <a:lnTo>
                  <a:pt x="53" y="886"/>
                </a:lnTo>
                <a:lnTo>
                  <a:pt x="79" y="791"/>
                </a:lnTo>
                <a:lnTo>
                  <a:pt x="22" y="740"/>
                </a:lnTo>
                <a:lnTo>
                  <a:pt x="0" y="664"/>
                </a:lnTo>
                <a:lnTo>
                  <a:pt x="10" y="589"/>
                </a:lnTo>
                <a:lnTo>
                  <a:pt x="40" y="536"/>
                </a:lnTo>
                <a:lnTo>
                  <a:pt x="93" y="484"/>
                </a:lnTo>
                <a:lnTo>
                  <a:pt x="139" y="451"/>
                </a:lnTo>
                <a:close/>
              </a:path>
            </a:pathLst>
          </a:custGeom>
          <a:solidFill>
            <a:srgbClr val="ffc281"/>
          </a:solidFill>
          <a:ln w="1440">
            <a:solidFill>
              <a:srgbClr val="ffc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223120" y="3441600"/>
            <a:ext cx="366840" cy="344520"/>
          </a:xfrm>
          <a:custGeom>
            <a:avLst/>
            <a:gdLst/>
            <a:ahLst/>
            <a:rect l="l" t="t" r="r" b="b"/>
            <a:pathLst>
              <a:path w="231" h="435">
                <a:moveTo>
                  <a:pt x="0" y="45"/>
                </a:moveTo>
                <a:lnTo>
                  <a:pt x="0" y="177"/>
                </a:lnTo>
                <a:lnTo>
                  <a:pt x="140" y="435"/>
                </a:lnTo>
                <a:lnTo>
                  <a:pt x="231" y="345"/>
                </a:lnTo>
                <a:lnTo>
                  <a:pt x="157" y="69"/>
                </a:lnTo>
                <a:lnTo>
                  <a:pt x="53" y="0"/>
                </a:lnTo>
                <a:lnTo>
                  <a:pt x="0" y="45"/>
                </a:lnTo>
                <a:close/>
              </a:path>
            </a:pathLst>
          </a:custGeom>
          <a:solidFill>
            <a:srgbClr val="622100"/>
          </a:solidFill>
          <a:ln w="1440">
            <a:solidFill>
              <a:srgbClr val="622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31040" y="2859120"/>
            <a:ext cx="1555920" cy="590400"/>
          </a:xfrm>
          <a:custGeom>
            <a:avLst/>
            <a:gdLst/>
            <a:ahLst/>
            <a:rect l="l" t="t" r="r" b="b"/>
            <a:pathLst>
              <a:path w="980" h="744">
                <a:moveTo>
                  <a:pt x="80" y="17"/>
                </a:moveTo>
                <a:lnTo>
                  <a:pt x="23" y="98"/>
                </a:lnTo>
                <a:lnTo>
                  <a:pt x="0" y="234"/>
                </a:lnTo>
                <a:lnTo>
                  <a:pt x="24" y="374"/>
                </a:lnTo>
                <a:lnTo>
                  <a:pt x="130" y="534"/>
                </a:lnTo>
                <a:lnTo>
                  <a:pt x="263" y="642"/>
                </a:lnTo>
                <a:lnTo>
                  <a:pt x="471" y="709"/>
                </a:lnTo>
                <a:lnTo>
                  <a:pt x="681" y="744"/>
                </a:lnTo>
                <a:lnTo>
                  <a:pt x="874" y="744"/>
                </a:lnTo>
                <a:lnTo>
                  <a:pt x="957" y="709"/>
                </a:lnTo>
                <a:lnTo>
                  <a:pt x="980" y="627"/>
                </a:lnTo>
                <a:lnTo>
                  <a:pt x="949" y="484"/>
                </a:lnTo>
                <a:lnTo>
                  <a:pt x="829" y="374"/>
                </a:lnTo>
                <a:lnTo>
                  <a:pt x="732" y="309"/>
                </a:lnTo>
                <a:lnTo>
                  <a:pt x="753" y="270"/>
                </a:lnTo>
                <a:lnTo>
                  <a:pt x="843" y="187"/>
                </a:lnTo>
                <a:lnTo>
                  <a:pt x="823" y="132"/>
                </a:lnTo>
                <a:lnTo>
                  <a:pt x="695" y="199"/>
                </a:lnTo>
                <a:lnTo>
                  <a:pt x="667" y="275"/>
                </a:lnTo>
                <a:lnTo>
                  <a:pt x="471" y="124"/>
                </a:lnTo>
                <a:lnTo>
                  <a:pt x="283" y="17"/>
                </a:lnTo>
                <a:lnTo>
                  <a:pt x="219" y="0"/>
                </a:lnTo>
                <a:lnTo>
                  <a:pt x="128" y="0"/>
                </a:lnTo>
                <a:lnTo>
                  <a:pt x="80" y="17"/>
                </a:lnTo>
                <a:close/>
              </a:path>
            </a:pathLst>
          </a:cu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81880" y="3394080"/>
            <a:ext cx="220680" cy="182520"/>
          </a:xfrm>
          <a:custGeom>
            <a:avLst/>
            <a:gdLst/>
            <a:ahLst/>
            <a:rect l="l" t="t" r="r" b="b"/>
            <a:pathLst>
              <a:path w="139" h="232">
                <a:moveTo>
                  <a:pt x="128" y="0"/>
                </a:moveTo>
                <a:lnTo>
                  <a:pt x="86" y="7"/>
                </a:lnTo>
                <a:lnTo>
                  <a:pt x="64" y="43"/>
                </a:lnTo>
                <a:lnTo>
                  <a:pt x="54" y="117"/>
                </a:lnTo>
                <a:lnTo>
                  <a:pt x="28" y="179"/>
                </a:lnTo>
                <a:lnTo>
                  <a:pt x="0" y="179"/>
                </a:lnTo>
                <a:lnTo>
                  <a:pt x="0" y="201"/>
                </a:lnTo>
                <a:lnTo>
                  <a:pt x="136" y="232"/>
                </a:lnTo>
                <a:lnTo>
                  <a:pt x="139" y="201"/>
                </a:lnTo>
                <a:lnTo>
                  <a:pt x="54" y="179"/>
                </a:lnTo>
                <a:lnTo>
                  <a:pt x="75" y="95"/>
                </a:lnTo>
                <a:lnTo>
                  <a:pt x="75" y="53"/>
                </a:lnTo>
                <a:lnTo>
                  <a:pt x="90" y="33"/>
                </a:lnTo>
                <a:lnTo>
                  <a:pt x="115" y="7"/>
                </a:lnTo>
                <a:lnTo>
                  <a:pt x="12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812000" y="3449520"/>
            <a:ext cx="266760" cy="230400"/>
          </a:xfrm>
          <a:custGeom>
            <a:avLst/>
            <a:gdLst/>
            <a:ahLst/>
            <a:rect l="l" t="t" r="r" b="b"/>
            <a:pathLst>
              <a:path w="168" h="290">
                <a:moveTo>
                  <a:pt x="0" y="171"/>
                </a:moveTo>
                <a:lnTo>
                  <a:pt x="159" y="290"/>
                </a:lnTo>
                <a:lnTo>
                  <a:pt x="168" y="245"/>
                </a:lnTo>
                <a:lnTo>
                  <a:pt x="58" y="171"/>
                </a:lnTo>
                <a:lnTo>
                  <a:pt x="94" y="34"/>
                </a:lnTo>
                <a:lnTo>
                  <a:pt x="120" y="13"/>
                </a:lnTo>
                <a:lnTo>
                  <a:pt x="144" y="13"/>
                </a:lnTo>
                <a:lnTo>
                  <a:pt x="120" y="0"/>
                </a:lnTo>
                <a:lnTo>
                  <a:pt x="94" y="0"/>
                </a:lnTo>
                <a:lnTo>
                  <a:pt x="74" y="34"/>
                </a:lnTo>
                <a:lnTo>
                  <a:pt x="40" y="161"/>
                </a:lnTo>
                <a:lnTo>
                  <a:pt x="3" y="161"/>
                </a:lnTo>
                <a:lnTo>
                  <a:pt x="0" y="17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978680" y="3643200"/>
            <a:ext cx="85680" cy="58680"/>
          </a:xfrm>
          <a:custGeom>
            <a:avLst/>
            <a:gdLst/>
            <a:ahLst/>
            <a:rect l="l" t="t" r="r" b="b"/>
            <a:pathLst>
              <a:path w="54" h="72">
                <a:moveTo>
                  <a:pt x="0" y="0"/>
                </a:moveTo>
                <a:lnTo>
                  <a:pt x="25" y="72"/>
                </a:lnTo>
                <a:lnTo>
                  <a:pt x="54" y="3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4800" y="3552840"/>
            <a:ext cx="85680" cy="60480"/>
          </a:xfrm>
          <a:custGeom>
            <a:avLst/>
            <a:gdLst/>
            <a:ahLst/>
            <a:rect l="l" t="t" r="r" b="b"/>
            <a:pathLst>
              <a:path w="54" h="76">
                <a:moveTo>
                  <a:pt x="0" y="21"/>
                </a:moveTo>
                <a:lnTo>
                  <a:pt x="16" y="76"/>
                </a:lnTo>
                <a:lnTo>
                  <a:pt x="54" y="31"/>
                </a:lnTo>
                <a:lnTo>
                  <a:pt x="46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426440" y="3605040"/>
            <a:ext cx="82440" cy="96840"/>
          </a:xfrm>
          <a:custGeom>
            <a:avLst/>
            <a:gdLst/>
            <a:ahLst/>
            <a:rect l="l" t="t" r="r" b="b"/>
            <a:pathLst>
              <a:path w="52" h="122">
                <a:moveTo>
                  <a:pt x="40" y="0"/>
                </a:moveTo>
                <a:lnTo>
                  <a:pt x="0" y="122"/>
                </a:lnTo>
                <a:lnTo>
                  <a:pt x="24" y="122"/>
                </a:lnTo>
                <a:lnTo>
                  <a:pt x="52" y="0"/>
                </a:lnTo>
                <a:lnTo>
                  <a:pt x="40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94600" y="3627360"/>
            <a:ext cx="617400" cy="354240"/>
          </a:xfrm>
          <a:custGeom>
            <a:avLst/>
            <a:gdLst/>
            <a:ahLst/>
            <a:rect l="l" t="t" r="r" b="b"/>
            <a:pathLst>
              <a:path w="389" h="447">
                <a:moveTo>
                  <a:pt x="317" y="0"/>
                </a:moveTo>
                <a:lnTo>
                  <a:pt x="110" y="93"/>
                </a:lnTo>
                <a:lnTo>
                  <a:pt x="45" y="162"/>
                </a:lnTo>
                <a:lnTo>
                  <a:pt x="12" y="232"/>
                </a:lnTo>
                <a:lnTo>
                  <a:pt x="0" y="318"/>
                </a:lnTo>
                <a:lnTo>
                  <a:pt x="15" y="383"/>
                </a:lnTo>
                <a:lnTo>
                  <a:pt x="56" y="428"/>
                </a:lnTo>
                <a:lnTo>
                  <a:pt x="110" y="447"/>
                </a:lnTo>
                <a:lnTo>
                  <a:pt x="186" y="435"/>
                </a:lnTo>
                <a:lnTo>
                  <a:pt x="250" y="402"/>
                </a:lnTo>
                <a:lnTo>
                  <a:pt x="339" y="330"/>
                </a:lnTo>
                <a:lnTo>
                  <a:pt x="389" y="251"/>
                </a:lnTo>
                <a:lnTo>
                  <a:pt x="300" y="330"/>
                </a:lnTo>
                <a:lnTo>
                  <a:pt x="209" y="383"/>
                </a:lnTo>
                <a:lnTo>
                  <a:pt x="129" y="402"/>
                </a:lnTo>
                <a:lnTo>
                  <a:pt x="74" y="390"/>
                </a:lnTo>
                <a:lnTo>
                  <a:pt x="35" y="342"/>
                </a:lnTo>
                <a:lnTo>
                  <a:pt x="32" y="289"/>
                </a:lnTo>
                <a:lnTo>
                  <a:pt x="48" y="212"/>
                </a:lnTo>
                <a:lnTo>
                  <a:pt x="95" y="162"/>
                </a:lnTo>
                <a:lnTo>
                  <a:pt x="170" y="121"/>
                </a:lnTo>
                <a:lnTo>
                  <a:pt x="260" y="55"/>
                </a:lnTo>
                <a:lnTo>
                  <a:pt x="317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237440" y="3730680"/>
            <a:ext cx="1457280" cy="1073160"/>
          </a:xfrm>
          <a:custGeom>
            <a:avLst/>
            <a:gdLst/>
            <a:ahLst/>
            <a:rect l="l" t="t" r="r" b="b"/>
            <a:pathLst>
              <a:path w="918" h="1351">
                <a:moveTo>
                  <a:pt x="80" y="316"/>
                </a:moveTo>
                <a:lnTo>
                  <a:pt x="43" y="498"/>
                </a:lnTo>
                <a:lnTo>
                  <a:pt x="18" y="681"/>
                </a:lnTo>
                <a:lnTo>
                  <a:pt x="18" y="857"/>
                </a:lnTo>
                <a:lnTo>
                  <a:pt x="33" y="1028"/>
                </a:lnTo>
                <a:lnTo>
                  <a:pt x="68" y="1167"/>
                </a:lnTo>
                <a:lnTo>
                  <a:pt x="134" y="1241"/>
                </a:lnTo>
                <a:lnTo>
                  <a:pt x="213" y="1274"/>
                </a:lnTo>
                <a:lnTo>
                  <a:pt x="303" y="1274"/>
                </a:lnTo>
                <a:lnTo>
                  <a:pt x="402" y="1227"/>
                </a:lnTo>
                <a:lnTo>
                  <a:pt x="477" y="1145"/>
                </a:lnTo>
                <a:lnTo>
                  <a:pt x="568" y="984"/>
                </a:lnTo>
                <a:lnTo>
                  <a:pt x="633" y="805"/>
                </a:lnTo>
                <a:lnTo>
                  <a:pt x="677" y="628"/>
                </a:lnTo>
                <a:lnTo>
                  <a:pt x="703" y="422"/>
                </a:lnTo>
                <a:lnTo>
                  <a:pt x="747" y="477"/>
                </a:lnTo>
                <a:lnTo>
                  <a:pt x="825" y="467"/>
                </a:lnTo>
                <a:lnTo>
                  <a:pt x="875" y="359"/>
                </a:lnTo>
                <a:lnTo>
                  <a:pt x="902" y="199"/>
                </a:lnTo>
                <a:lnTo>
                  <a:pt x="887" y="70"/>
                </a:lnTo>
                <a:lnTo>
                  <a:pt x="852" y="39"/>
                </a:lnTo>
                <a:lnTo>
                  <a:pt x="817" y="50"/>
                </a:lnTo>
                <a:lnTo>
                  <a:pt x="761" y="101"/>
                </a:lnTo>
                <a:lnTo>
                  <a:pt x="747" y="70"/>
                </a:lnTo>
                <a:lnTo>
                  <a:pt x="812" y="0"/>
                </a:lnTo>
                <a:lnTo>
                  <a:pt x="887" y="12"/>
                </a:lnTo>
                <a:lnTo>
                  <a:pt x="918" y="101"/>
                </a:lnTo>
                <a:lnTo>
                  <a:pt x="918" y="242"/>
                </a:lnTo>
                <a:lnTo>
                  <a:pt x="891" y="400"/>
                </a:lnTo>
                <a:lnTo>
                  <a:pt x="829" y="508"/>
                </a:lnTo>
                <a:lnTo>
                  <a:pt x="782" y="520"/>
                </a:lnTo>
                <a:lnTo>
                  <a:pt x="740" y="508"/>
                </a:lnTo>
                <a:lnTo>
                  <a:pt x="693" y="719"/>
                </a:lnTo>
                <a:lnTo>
                  <a:pt x="621" y="939"/>
                </a:lnTo>
                <a:lnTo>
                  <a:pt x="563" y="1092"/>
                </a:lnTo>
                <a:lnTo>
                  <a:pt x="487" y="1210"/>
                </a:lnTo>
                <a:lnTo>
                  <a:pt x="397" y="1294"/>
                </a:lnTo>
                <a:lnTo>
                  <a:pt x="298" y="1337"/>
                </a:lnTo>
                <a:lnTo>
                  <a:pt x="197" y="1351"/>
                </a:lnTo>
                <a:lnTo>
                  <a:pt x="119" y="1313"/>
                </a:lnTo>
                <a:lnTo>
                  <a:pt x="68" y="1241"/>
                </a:lnTo>
                <a:lnTo>
                  <a:pt x="21" y="1116"/>
                </a:lnTo>
                <a:lnTo>
                  <a:pt x="0" y="901"/>
                </a:lnTo>
                <a:lnTo>
                  <a:pt x="0" y="628"/>
                </a:lnTo>
                <a:lnTo>
                  <a:pt x="29" y="448"/>
                </a:lnTo>
                <a:lnTo>
                  <a:pt x="64" y="285"/>
                </a:lnTo>
                <a:lnTo>
                  <a:pt x="80" y="316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05840" y="2835360"/>
            <a:ext cx="1601640" cy="676080"/>
          </a:xfrm>
          <a:custGeom>
            <a:avLst/>
            <a:gdLst/>
            <a:ahLst/>
            <a:rect l="l" t="t" r="r" b="b"/>
            <a:pathLst>
              <a:path w="1009" h="853">
                <a:moveTo>
                  <a:pt x="782" y="775"/>
                </a:moveTo>
                <a:lnTo>
                  <a:pt x="919" y="757"/>
                </a:lnTo>
                <a:lnTo>
                  <a:pt x="967" y="720"/>
                </a:lnTo>
                <a:lnTo>
                  <a:pt x="981" y="659"/>
                </a:lnTo>
                <a:lnTo>
                  <a:pt x="946" y="544"/>
                </a:lnTo>
                <a:lnTo>
                  <a:pt x="861" y="440"/>
                </a:lnTo>
                <a:lnTo>
                  <a:pt x="748" y="368"/>
                </a:lnTo>
                <a:lnTo>
                  <a:pt x="718" y="462"/>
                </a:lnTo>
                <a:lnTo>
                  <a:pt x="704" y="450"/>
                </a:lnTo>
                <a:lnTo>
                  <a:pt x="741" y="301"/>
                </a:lnTo>
                <a:lnTo>
                  <a:pt x="786" y="244"/>
                </a:lnTo>
                <a:lnTo>
                  <a:pt x="844" y="201"/>
                </a:lnTo>
                <a:lnTo>
                  <a:pt x="797" y="201"/>
                </a:lnTo>
                <a:lnTo>
                  <a:pt x="711" y="256"/>
                </a:lnTo>
                <a:lnTo>
                  <a:pt x="676" y="373"/>
                </a:lnTo>
                <a:lnTo>
                  <a:pt x="676" y="323"/>
                </a:lnTo>
                <a:lnTo>
                  <a:pt x="548" y="227"/>
                </a:lnTo>
                <a:lnTo>
                  <a:pt x="377" y="117"/>
                </a:lnTo>
                <a:lnTo>
                  <a:pt x="255" y="65"/>
                </a:lnTo>
                <a:lnTo>
                  <a:pt x="175" y="55"/>
                </a:lnTo>
                <a:lnTo>
                  <a:pt x="83" y="77"/>
                </a:lnTo>
                <a:lnTo>
                  <a:pt x="47" y="150"/>
                </a:lnTo>
                <a:lnTo>
                  <a:pt x="25" y="256"/>
                </a:lnTo>
                <a:lnTo>
                  <a:pt x="40" y="373"/>
                </a:lnTo>
                <a:lnTo>
                  <a:pt x="126" y="514"/>
                </a:lnTo>
                <a:lnTo>
                  <a:pt x="269" y="651"/>
                </a:lnTo>
                <a:lnTo>
                  <a:pt x="419" y="704"/>
                </a:lnTo>
                <a:lnTo>
                  <a:pt x="637" y="757"/>
                </a:lnTo>
                <a:lnTo>
                  <a:pt x="623" y="788"/>
                </a:lnTo>
                <a:lnTo>
                  <a:pt x="382" y="737"/>
                </a:lnTo>
                <a:lnTo>
                  <a:pt x="239" y="671"/>
                </a:lnTo>
                <a:lnTo>
                  <a:pt x="126" y="572"/>
                </a:lnTo>
                <a:lnTo>
                  <a:pt x="37" y="440"/>
                </a:lnTo>
                <a:lnTo>
                  <a:pt x="0" y="328"/>
                </a:lnTo>
                <a:lnTo>
                  <a:pt x="0" y="227"/>
                </a:lnTo>
                <a:lnTo>
                  <a:pt x="37" y="96"/>
                </a:lnTo>
                <a:lnTo>
                  <a:pt x="91" y="23"/>
                </a:lnTo>
                <a:lnTo>
                  <a:pt x="180" y="0"/>
                </a:lnTo>
                <a:lnTo>
                  <a:pt x="319" y="33"/>
                </a:lnTo>
                <a:lnTo>
                  <a:pt x="468" y="117"/>
                </a:lnTo>
                <a:lnTo>
                  <a:pt x="681" y="289"/>
                </a:lnTo>
                <a:lnTo>
                  <a:pt x="708" y="227"/>
                </a:lnTo>
                <a:lnTo>
                  <a:pt x="769" y="181"/>
                </a:lnTo>
                <a:lnTo>
                  <a:pt x="859" y="141"/>
                </a:lnTo>
                <a:lnTo>
                  <a:pt x="872" y="227"/>
                </a:lnTo>
                <a:lnTo>
                  <a:pt x="830" y="256"/>
                </a:lnTo>
                <a:lnTo>
                  <a:pt x="774" y="311"/>
                </a:lnTo>
                <a:lnTo>
                  <a:pt x="757" y="340"/>
                </a:lnTo>
                <a:lnTo>
                  <a:pt x="868" y="393"/>
                </a:lnTo>
                <a:lnTo>
                  <a:pt x="967" y="505"/>
                </a:lnTo>
                <a:lnTo>
                  <a:pt x="1009" y="639"/>
                </a:lnTo>
                <a:lnTo>
                  <a:pt x="994" y="747"/>
                </a:lnTo>
                <a:lnTo>
                  <a:pt x="937" y="809"/>
                </a:lnTo>
                <a:lnTo>
                  <a:pt x="868" y="833"/>
                </a:lnTo>
                <a:lnTo>
                  <a:pt x="782" y="853"/>
                </a:lnTo>
                <a:lnTo>
                  <a:pt x="782" y="775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193240" y="3441600"/>
            <a:ext cx="403200" cy="422280"/>
          </a:xfrm>
          <a:custGeom>
            <a:avLst/>
            <a:gdLst/>
            <a:ahLst/>
            <a:rect l="l" t="t" r="r" b="b"/>
            <a:pathLst>
              <a:path w="254" h="532">
                <a:moveTo>
                  <a:pt x="31" y="11"/>
                </a:moveTo>
                <a:lnTo>
                  <a:pt x="0" y="57"/>
                </a:lnTo>
                <a:lnTo>
                  <a:pt x="0" y="206"/>
                </a:lnTo>
                <a:lnTo>
                  <a:pt x="95" y="356"/>
                </a:lnTo>
                <a:lnTo>
                  <a:pt x="75" y="459"/>
                </a:lnTo>
                <a:lnTo>
                  <a:pt x="141" y="532"/>
                </a:lnTo>
                <a:lnTo>
                  <a:pt x="210" y="378"/>
                </a:lnTo>
                <a:lnTo>
                  <a:pt x="254" y="378"/>
                </a:lnTo>
                <a:lnTo>
                  <a:pt x="95" y="141"/>
                </a:lnTo>
                <a:lnTo>
                  <a:pt x="168" y="345"/>
                </a:lnTo>
                <a:lnTo>
                  <a:pt x="149" y="366"/>
                </a:lnTo>
                <a:lnTo>
                  <a:pt x="26" y="162"/>
                </a:lnTo>
                <a:lnTo>
                  <a:pt x="26" y="69"/>
                </a:lnTo>
                <a:lnTo>
                  <a:pt x="86" y="0"/>
                </a:lnTo>
                <a:lnTo>
                  <a:pt x="31" y="1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259840" y="3427560"/>
            <a:ext cx="409320" cy="312480"/>
          </a:xfrm>
          <a:custGeom>
            <a:avLst/>
            <a:gdLst/>
            <a:ahLst/>
            <a:rect l="l" t="t" r="r" b="b"/>
            <a:pathLst>
              <a:path w="258" h="395">
                <a:moveTo>
                  <a:pt x="28" y="28"/>
                </a:moveTo>
                <a:lnTo>
                  <a:pt x="126" y="125"/>
                </a:lnTo>
                <a:lnTo>
                  <a:pt x="185" y="395"/>
                </a:lnTo>
                <a:lnTo>
                  <a:pt x="215" y="395"/>
                </a:lnTo>
                <a:lnTo>
                  <a:pt x="258" y="234"/>
                </a:lnTo>
                <a:lnTo>
                  <a:pt x="238" y="17"/>
                </a:lnTo>
                <a:lnTo>
                  <a:pt x="133" y="17"/>
                </a:lnTo>
                <a:lnTo>
                  <a:pt x="0" y="0"/>
                </a:lnTo>
                <a:lnTo>
                  <a:pt x="28" y="28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89640" y="4086360"/>
            <a:ext cx="703440" cy="156960"/>
          </a:xfrm>
          <a:custGeom>
            <a:avLst/>
            <a:gdLst/>
            <a:ahLst/>
            <a:rect l="l" t="t" r="r" b="b"/>
            <a:pathLst>
              <a:path w="443" h="197">
                <a:moveTo>
                  <a:pt x="21" y="0"/>
                </a:moveTo>
                <a:lnTo>
                  <a:pt x="43" y="50"/>
                </a:lnTo>
                <a:lnTo>
                  <a:pt x="88" y="86"/>
                </a:lnTo>
                <a:lnTo>
                  <a:pt x="164" y="132"/>
                </a:lnTo>
                <a:lnTo>
                  <a:pt x="226" y="151"/>
                </a:lnTo>
                <a:lnTo>
                  <a:pt x="286" y="151"/>
                </a:lnTo>
                <a:lnTo>
                  <a:pt x="343" y="124"/>
                </a:lnTo>
                <a:lnTo>
                  <a:pt x="379" y="86"/>
                </a:lnTo>
                <a:lnTo>
                  <a:pt x="407" y="60"/>
                </a:lnTo>
                <a:lnTo>
                  <a:pt x="443" y="184"/>
                </a:lnTo>
                <a:lnTo>
                  <a:pt x="432" y="197"/>
                </a:lnTo>
                <a:lnTo>
                  <a:pt x="398" y="94"/>
                </a:lnTo>
                <a:lnTo>
                  <a:pt x="338" y="161"/>
                </a:lnTo>
                <a:lnTo>
                  <a:pt x="274" y="184"/>
                </a:lnTo>
                <a:lnTo>
                  <a:pt x="190" y="184"/>
                </a:lnTo>
                <a:lnTo>
                  <a:pt x="117" y="151"/>
                </a:lnTo>
                <a:lnTo>
                  <a:pt x="41" y="94"/>
                </a:lnTo>
                <a:lnTo>
                  <a:pt x="0" y="50"/>
                </a:lnTo>
                <a:lnTo>
                  <a:pt x="21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37280" y="3916440"/>
            <a:ext cx="955800" cy="185760"/>
          </a:xfrm>
          <a:custGeom>
            <a:avLst/>
            <a:gdLst/>
            <a:ahLst/>
            <a:rect l="l" t="t" r="r" b="b"/>
            <a:pathLst>
              <a:path w="602" h="234">
                <a:moveTo>
                  <a:pt x="9" y="0"/>
                </a:moveTo>
                <a:lnTo>
                  <a:pt x="36" y="64"/>
                </a:lnTo>
                <a:lnTo>
                  <a:pt x="61" y="102"/>
                </a:lnTo>
                <a:lnTo>
                  <a:pt x="92" y="110"/>
                </a:lnTo>
                <a:lnTo>
                  <a:pt x="126" y="110"/>
                </a:lnTo>
                <a:lnTo>
                  <a:pt x="157" y="102"/>
                </a:lnTo>
                <a:lnTo>
                  <a:pt x="212" y="64"/>
                </a:lnTo>
                <a:lnTo>
                  <a:pt x="258" y="64"/>
                </a:lnTo>
                <a:lnTo>
                  <a:pt x="289" y="141"/>
                </a:lnTo>
                <a:lnTo>
                  <a:pt x="323" y="179"/>
                </a:lnTo>
                <a:lnTo>
                  <a:pt x="361" y="196"/>
                </a:lnTo>
                <a:lnTo>
                  <a:pt x="433" y="196"/>
                </a:lnTo>
                <a:lnTo>
                  <a:pt x="476" y="179"/>
                </a:lnTo>
                <a:lnTo>
                  <a:pt x="523" y="117"/>
                </a:lnTo>
                <a:lnTo>
                  <a:pt x="582" y="0"/>
                </a:lnTo>
                <a:lnTo>
                  <a:pt x="602" y="11"/>
                </a:lnTo>
                <a:lnTo>
                  <a:pt x="543" y="141"/>
                </a:lnTo>
                <a:lnTo>
                  <a:pt x="497" y="196"/>
                </a:lnTo>
                <a:lnTo>
                  <a:pt x="458" y="227"/>
                </a:lnTo>
                <a:lnTo>
                  <a:pt x="416" y="234"/>
                </a:lnTo>
                <a:lnTo>
                  <a:pt x="369" y="234"/>
                </a:lnTo>
                <a:lnTo>
                  <a:pt x="332" y="227"/>
                </a:lnTo>
                <a:lnTo>
                  <a:pt x="285" y="186"/>
                </a:lnTo>
                <a:lnTo>
                  <a:pt x="258" y="141"/>
                </a:lnTo>
                <a:lnTo>
                  <a:pt x="232" y="90"/>
                </a:lnTo>
                <a:lnTo>
                  <a:pt x="185" y="126"/>
                </a:lnTo>
                <a:lnTo>
                  <a:pt x="137" y="150"/>
                </a:lnTo>
                <a:lnTo>
                  <a:pt x="75" y="150"/>
                </a:lnTo>
                <a:lnTo>
                  <a:pt x="38" y="126"/>
                </a:lnTo>
                <a:lnTo>
                  <a:pt x="17" y="83"/>
                </a:lnTo>
                <a:lnTo>
                  <a:pt x="0" y="11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88240" y="5143680"/>
            <a:ext cx="338040" cy="318960"/>
          </a:xfrm>
          <a:custGeom>
            <a:avLst/>
            <a:gdLst/>
            <a:ahLst/>
            <a:rect l="l" t="t" r="r" b="b"/>
            <a:pathLst>
              <a:path w="213" h="404">
                <a:moveTo>
                  <a:pt x="145" y="224"/>
                </a:moveTo>
                <a:lnTo>
                  <a:pt x="176" y="236"/>
                </a:lnTo>
                <a:lnTo>
                  <a:pt x="205" y="248"/>
                </a:lnTo>
                <a:lnTo>
                  <a:pt x="213" y="291"/>
                </a:lnTo>
                <a:lnTo>
                  <a:pt x="213" y="316"/>
                </a:lnTo>
                <a:lnTo>
                  <a:pt x="205" y="356"/>
                </a:lnTo>
                <a:lnTo>
                  <a:pt x="181" y="388"/>
                </a:lnTo>
                <a:lnTo>
                  <a:pt x="136" y="404"/>
                </a:lnTo>
                <a:lnTo>
                  <a:pt x="91" y="404"/>
                </a:lnTo>
                <a:lnTo>
                  <a:pt x="22" y="373"/>
                </a:lnTo>
                <a:lnTo>
                  <a:pt x="0" y="346"/>
                </a:lnTo>
                <a:lnTo>
                  <a:pt x="0" y="325"/>
                </a:lnTo>
                <a:lnTo>
                  <a:pt x="42" y="356"/>
                </a:lnTo>
                <a:lnTo>
                  <a:pt x="78" y="373"/>
                </a:lnTo>
                <a:lnTo>
                  <a:pt x="117" y="373"/>
                </a:lnTo>
                <a:lnTo>
                  <a:pt x="153" y="356"/>
                </a:lnTo>
                <a:lnTo>
                  <a:pt x="167" y="325"/>
                </a:lnTo>
                <a:lnTo>
                  <a:pt x="167" y="301"/>
                </a:lnTo>
                <a:lnTo>
                  <a:pt x="124" y="248"/>
                </a:lnTo>
                <a:lnTo>
                  <a:pt x="124" y="182"/>
                </a:lnTo>
                <a:lnTo>
                  <a:pt x="157" y="129"/>
                </a:lnTo>
                <a:lnTo>
                  <a:pt x="157" y="67"/>
                </a:lnTo>
                <a:lnTo>
                  <a:pt x="136" y="31"/>
                </a:lnTo>
                <a:lnTo>
                  <a:pt x="101" y="19"/>
                </a:lnTo>
                <a:lnTo>
                  <a:pt x="117" y="0"/>
                </a:lnTo>
                <a:lnTo>
                  <a:pt x="149" y="19"/>
                </a:lnTo>
                <a:lnTo>
                  <a:pt x="167" y="49"/>
                </a:lnTo>
                <a:lnTo>
                  <a:pt x="167" y="146"/>
                </a:lnTo>
                <a:lnTo>
                  <a:pt x="145" y="205"/>
                </a:lnTo>
                <a:lnTo>
                  <a:pt x="145" y="224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96160" y="5143680"/>
            <a:ext cx="189000" cy="290160"/>
          </a:xfrm>
          <a:custGeom>
            <a:avLst/>
            <a:gdLst/>
            <a:ahLst/>
            <a:rect l="l" t="t" r="r" b="b"/>
            <a:pathLst>
              <a:path w="119" h="366">
                <a:moveTo>
                  <a:pt x="112" y="0"/>
                </a:moveTo>
                <a:lnTo>
                  <a:pt x="31" y="67"/>
                </a:lnTo>
                <a:lnTo>
                  <a:pt x="0" y="177"/>
                </a:lnTo>
                <a:lnTo>
                  <a:pt x="0" y="268"/>
                </a:lnTo>
                <a:lnTo>
                  <a:pt x="13" y="356"/>
                </a:lnTo>
                <a:lnTo>
                  <a:pt x="37" y="366"/>
                </a:lnTo>
                <a:lnTo>
                  <a:pt x="22" y="301"/>
                </a:lnTo>
                <a:lnTo>
                  <a:pt x="17" y="236"/>
                </a:lnTo>
                <a:lnTo>
                  <a:pt x="27" y="136"/>
                </a:lnTo>
                <a:lnTo>
                  <a:pt x="50" y="81"/>
                </a:lnTo>
                <a:lnTo>
                  <a:pt x="119" y="19"/>
                </a:lnTo>
                <a:lnTo>
                  <a:pt x="11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34080" y="5068800"/>
            <a:ext cx="2009880" cy="862200"/>
          </a:xfrm>
          <a:custGeom>
            <a:avLst/>
            <a:gdLst/>
            <a:ahLst/>
            <a:rect l="l" t="t" r="r" b="b"/>
            <a:pathLst>
              <a:path w="1266" h="1087">
                <a:moveTo>
                  <a:pt x="894" y="203"/>
                </a:moveTo>
                <a:lnTo>
                  <a:pt x="932" y="249"/>
                </a:lnTo>
                <a:lnTo>
                  <a:pt x="978" y="271"/>
                </a:lnTo>
                <a:lnTo>
                  <a:pt x="1037" y="271"/>
                </a:lnTo>
                <a:lnTo>
                  <a:pt x="1090" y="249"/>
                </a:lnTo>
                <a:lnTo>
                  <a:pt x="1167" y="223"/>
                </a:lnTo>
                <a:lnTo>
                  <a:pt x="1221" y="223"/>
                </a:lnTo>
                <a:lnTo>
                  <a:pt x="1249" y="249"/>
                </a:lnTo>
                <a:lnTo>
                  <a:pt x="1266" y="318"/>
                </a:lnTo>
                <a:lnTo>
                  <a:pt x="1258" y="385"/>
                </a:lnTo>
                <a:lnTo>
                  <a:pt x="1214" y="518"/>
                </a:lnTo>
                <a:lnTo>
                  <a:pt x="1149" y="635"/>
                </a:lnTo>
                <a:lnTo>
                  <a:pt x="1049" y="721"/>
                </a:lnTo>
                <a:lnTo>
                  <a:pt x="894" y="848"/>
                </a:lnTo>
                <a:lnTo>
                  <a:pt x="717" y="965"/>
                </a:lnTo>
                <a:lnTo>
                  <a:pt x="522" y="1051"/>
                </a:lnTo>
                <a:lnTo>
                  <a:pt x="349" y="1087"/>
                </a:lnTo>
                <a:lnTo>
                  <a:pt x="204" y="1087"/>
                </a:lnTo>
                <a:lnTo>
                  <a:pt x="113" y="1061"/>
                </a:lnTo>
                <a:lnTo>
                  <a:pt x="50" y="985"/>
                </a:lnTo>
                <a:lnTo>
                  <a:pt x="12" y="888"/>
                </a:lnTo>
                <a:lnTo>
                  <a:pt x="0" y="762"/>
                </a:lnTo>
                <a:lnTo>
                  <a:pt x="6" y="635"/>
                </a:lnTo>
                <a:lnTo>
                  <a:pt x="36" y="489"/>
                </a:lnTo>
                <a:lnTo>
                  <a:pt x="113" y="299"/>
                </a:lnTo>
                <a:lnTo>
                  <a:pt x="210" y="153"/>
                </a:lnTo>
                <a:lnTo>
                  <a:pt x="314" y="67"/>
                </a:lnTo>
                <a:lnTo>
                  <a:pt x="436" y="19"/>
                </a:lnTo>
                <a:lnTo>
                  <a:pt x="535" y="0"/>
                </a:lnTo>
                <a:lnTo>
                  <a:pt x="677" y="0"/>
                </a:lnTo>
                <a:lnTo>
                  <a:pt x="773" y="26"/>
                </a:lnTo>
                <a:lnTo>
                  <a:pt x="828" y="67"/>
                </a:lnTo>
                <a:lnTo>
                  <a:pt x="863" y="113"/>
                </a:lnTo>
                <a:lnTo>
                  <a:pt x="830" y="113"/>
                </a:lnTo>
                <a:lnTo>
                  <a:pt x="808" y="88"/>
                </a:lnTo>
                <a:lnTo>
                  <a:pt x="749" y="46"/>
                </a:lnTo>
                <a:lnTo>
                  <a:pt x="668" y="26"/>
                </a:lnTo>
                <a:lnTo>
                  <a:pt x="540" y="26"/>
                </a:lnTo>
                <a:lnTo>
                  <a:pt x="390" y="67"/>
                </a:lnTo>
                <a:lnTo>
                  <a:pt x="275" y="143"/>
                </a:lnTo>
                <a:lnTo>
                  <a:pt x="177" y="258"/>
                </a:lnTo>
                <a:lnTo>
                  <a:pt x="93" y="419"/>
                </a:lnTo>
                <a:lnTo>
                  <a:pt x="39" y="584"/>
                </a:lnTo>
                <a:lnTo>
                  <a:pt x="28" y="721"/>
                </a:lnTo>
                <a:lnTo>
                  <a:pt x="33" y="867"/>
                </a:lnTo>
                <a:lnTo>
                  <a:pt x="78" y="965"/>
                </a:lnTo>
                <a:lnTo>
                  <a:pt x="139" y="1020"/>
                </a:lnTo>
                <a:lnTo>
                  <a:pt x="218" y="1040"/>
                </a:lnTo>
                <a:lnTo>
                  <a:pt x="327" y="1040"/>
                </a:lnTo>
                <a:lnTo>
                  <a:pt x="491" y="1013"/>
                </a:lnTo>
                <a:lnTo>
                  <a:pt x="633" y="955"/>
                </a:lnTo>
                <a:lnTo>
                  <a:pt x="782" y="879"/>
                </a:lnTo>
                <a:lnTo>
                  <a:pt x="950" y="762"/>
                </a:lnTo>
                <a:lnTo>
                  <a:pt x="1086" y="642"/>
                </a:lnTo>
                <a:lnTo>
                  <a:pt x="1162" y="555"/>
                </a:lnTo>
                <a:lnTo>
                  <a:pt x="1214" y="450"/>
                </a:lnTo>
                <a:lnTo>
                  <a:pt x="1240" y="354"/>
                </a:lnTo>
                <a:lnTo>
                  <a:pt x="1240" y="299"/>
                </a:lnTo>
                <a:lnTo>
                  <a:pt x="1221" y="271"/>
                </a:lnTo>
                <a:lnTo>
                  <a:pt x="1187" y="258"/>
                </a:lnTo>
                <a:lnTo>
                  <a:pt x="1134" y="271"/>
                </a:lnTo>
                <a:lnTo>
                  <a:pt x="1053" y="311"/>
                </a:lnTo>
                <a:lnTo>
                  <a:pt x="994" y="311"/>
                </a:lnTo>
                <a:lnTo>
                  <a:pt x="940" y="290"/>
                </a:lnTo>
                <a:lnTo>
                  <a:pt x="884" y="230"/>
                </a:lnTo>
                <a:lnTo>
                  <a:pt x="894" y="203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159680" y="5126040"/>
            <a:ext cx="419040" cy="162000"/>
          </a:xfrm>
          <a:custGeom>
            <a:avLst/>
            <a:gdLst/>
            <a:ahLst/>
            <a:rect l="l" t="t" r="r" b="b"/>
            <a:pathLst>
              <a:path w="264" h="204">
                <a:moveTo>
                  <a:pt x="264" y="158"/>
                </a:moveTo>
                <a:lnTo>
                  <a:pt x="246" y="103"/>
                </a:lnTo>
                <a:lnTo>
                  <a:pt x="220" y="31"/>
                </a:lnTo>
                <a:lnTo>
                  <a:pt x="163" y="0"/>
                </a:lnTo>
                <a:lnTo>
                  <a:pt x="103" y="31"/>
                </a:lnTo>
                <a:lnTo>
                  <a:pt x="42" y="53"/>
                </a:lnTo>
                <a:lnTo>
                  <a:pt x="0" y="53"/>
                </a:lnTo>
                <a:lnTo>
                  <a:pt x="0" y="89"/>
                </a:lnTo>
                <a:lnTo>
                  <a:pt x="0" y="151"/>
                </a:lnTo>
                <a:lnTo>
                  <a:pt x="64" y="204"/>
                </a:lnTo>
                <a:lnTo>
                  <a:pt x="42" y="151"/>
                </a:lnTo>
                <a:lnTo>
                  <a:pt x="34" y="71"/>
                </a:lnTo>
                <a:lnTo>
                  <a:pt x="80" y="71"/>
                </a:lnTo>
                <a:lnTo>
                  <a:pt x="165" y="31"/>
                </a:lnTo>
                <a:lnTo>
                  <a:pt x="214" y="64"/>
                </a:lnTo>
                <a:lnTo>
                  <a:pt x="255" y="168"/>
                </a:lnTo>
                <a:lnTo>
                  <a:pt x="264" y="158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67600" y="5410080"/>
            <a:ext cx="534960" cy="439920"/>
          </a:xfrm>
          <a:custGeom>
            <a:avLst/>
            <a:gdLst/>
            <a:ahLst/>
            <a:rect l="l" t="t" r="r" b="b"/>
            <a:pathLst>
              <a:path w="337" h="554">
                <a:moveTo>
                  <a:pt x="337" y="0"/>
                </a:moveTo>
                <a:lnTo>
                  <a:pt x="304" y="175"/>
                </a:lnTo>
                <a:lnTo>
                  <a:pt x="246" y="323"/>
                </a:lnTo>
                <a:lnTo>
                  <a:pt x="158" y="477"/>
                </a:lnTo>
                <a:lnTo>
                  <a:pt x="67" y="554"/>
                </a:lnTo>
                <a:lnTo>
                  <a:pt x="15" y="546"/>
                </a:lnTo>
                <a:lnTo>
                  <a:pt x="0" y="499"/>
                </a:lnTo>
                <a:lnTo>
                  <a:pt x="5" y="390"/>
                </a:lnTo>
                <a:lnTo>
                  <a:pt x="50" y="348"/>
                </a:lnTo>
                <a:lnTo>
                  <a:pt x="158" y="366"/>
                </a:lnTo>
                <a:lnTo>
                  <a:pt x="218" y="312"/>
                </a:lnTo>
                <a:lnTo>
                  <a:pt x="273" y="204"/>
                </a:lnTo>
                <a:lnTo>
                  <a:pt x="304" y="79"/>
                </a:lnTo>
                <a:lnTo>
                  <a:pt x="337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66200" y="5149800"/>
            <a:ext cx="655560" cy="658800"/>
          </a:xfrm>
          <a:custGeom>
            <a:avLst/>
            <a:gdLst/>
            <a:ahLst/>
            <a:rect l="l" t="t" r="r" b="b"/>
            <a:pathLst>
              <a:path w="413" h="831">
                <a:moveTo>
                  <a:pt x="28" y="328"/>
                </a:moveTo>
                <a:lnTo>
                  <a:pt x="49" y="395"/>
                </a:lnTo>
                <a:lnTo>
                  <a:pt x="99" y="481"/>
                </a:lnTo>
                <a:lnTo>
                  <a:pt x="158" y="532"/>
                </a:lnTo>
                <a:lnTo>
                  <a:pt x="207" y="582"/>
                </a:lnTo>
                <a:lnTo>
                  <a:pt x="207" y="474"/>
                </a:lnTo>
                <a:lnTo>
                  <a:pt x="263" y="347"/>
                </a:lnTo>
                <a:lnTo>
                  <a:pt x="307" y="0"/>
                </a:lnTo>
                <a:lnTo>
                  <a:pt x="342" y="40"/>
                </a:lnTo>
                <a:lnTo>
                  <a:pt x="307" y="328"/>
                </a:lnTo>
                <a:lnTo>
                  <a:pt x="251" y="481"/>
                </a:lnTo>
                <a:lnTo>
                  <a:pt x="249" y="572"/>
                </a:lnTo>
                <a:lnTo>
                  <a:pt x="307" y="582"/>
                </a:lnTo>
                <a:lnTo>
                  <a:pt x="413" y="738"/>
                </a:lnTo>
                <a:lnTo>
                  <a:pt x="306" y="640"/>
                </a:lnTo>
                <a:lnTo>
                  <a:pt x="263" y="640"/>
                </a:lnTo>
                <a:lnTo>
                  <a:pt x="345" y="831"/>
                </a:lnTo>
                <a:lnTo>
                  <a:pt x="231" y="659"/>
                </a:lnTo>
                <a:lnTo>
                  <a:pt x="84" y="532"/>
                </a:lnTo>
                <a:lnTo>
                  <a:pt x="42" y="452"/>
                </a:lnTo>
                <a:lnTo>
                  <a:pt x="0" y="357"/>
                </a:lnTo>
                <a:lnTo>
                  <a:pt x="28" y="328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96040" y="5843520"/>
            <a:ext cx="752400" cy="503280"/>
          </a:xfrm>
          <a:custGeom>
            <a:avLst/>
            <a:gdLst/>
            <a:ahLst/>
            <a:rect l="l" t="t" r="r" b="b"/>
            <a:pathLst>
              <a:path w="474" h="633">
                <a:moveTo>
                  <a:pt x="0" y="0"/>
                </a:moveTo>
                <a:lnTo>
                  <a:pt x="132" y="197"/>
                </a:lnTo>
                <a:lnTo>
                  <a:pt x="397" y="633"/>
                </a:lnTo>
                <a:lnTo>
                  <a:pt x="474" y="633"/>
                </a:lnTo>
                <a:lnTo>
                  <a:pt x="319" y="384"/>
                </a:lnTo>
                <a:lnTo>
                  <a:pt x="197" y="237"/>
                </a:lnTo>
                <a:lnTo>
                  <a:pt x="29" y="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16720" y="5126040"/>
            <a:ext cx="243000" cy="14616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70" y="168"/>
                </a:moveTo>
                <a:lnTo>
                  <a:pt x="106" y="151"/>
                </a:lnTo>
                <a:lnTo>
                  <a:pt x="126" y="119"/>
                </a:lnTo>
                <a:lnTo>
                  <a:pt x="119" y="71"/>
                </a:lnTo>
                <a:lnTo>
                  <a:pt x="98" y="53"/>
                </a:lnTo>
                <a:lnTo>
                  <a:pt x="70" y="64"/>
                </a:lnTo>
                <a:lnTo>
                  <a:pt x="51" y="81"/>
                </a:lnTo>
                <a:lnTo>
                  <a:pt x="34" y="81"/>
                </a:lnTo>
                <a:lnTo>
                  <a:pt x="20" y="103"/>
                </a:lnTo>
                <a:lnTo>
                  <a:pt x="20" y="131"/>
                </a:lnTo>
                <a:lnTo>
                  <a:pt x="29" y="158"/>
                </a:lnTo>
                <a:lnTo>
                  <a:pt x="20" y="158"/>
                </a:lnTo>
                <a:lnTo>
                  <a:pt x="0" y="119"/>
                </a:lnTo>
                <a:lnTo>
                  <a:pt x="5" y="64"/>
                </a:lnTo>
                <a:lnTo>
                  <a:pt x="29" y="31"/>
                </a:lnTo>
                <a:lnTo>
                  <a:pt x="65" y="22"/>
                </a:lnTo>
                <a:lnTo>
                  <a:pt x="93" y="0"/>
                </a:lnTo>
                <a:lnTo>
                  <a:pt x="119" y="22"/>
                </a:lnTo>
                <a:lnTo>
                  <a:pt x="149" y="64"/>
                </a:lnTo>
                <a:lnTo>
                  <a:pt x="153" y="131"/>
                </a:lnTo>
                <a:lnTo>
                  <a:pt x="131" y="168"/>
                </a:lnTo>
                <a:lnTo>
                  <a:pt x="102" y="186"/>
                </a:lnTo>
                <a:lnTo>
                  <a:pt x="65" y="186"/>
                </a:lnTo>
                <a:lnTo>
                  <a:pt x="70" y="168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58080" y="5245200"/>
            <a:ext cx="360360" cy="179280"/>
          </a:xfrm>
          <a:custGeom>
            <a:avLst/>
            <a:gdLst/>
            <a:ahLst/>
            <a:rect l="l" t="t" r="r" b="b"/>
            <a:pathLst>
              <a:path w="227" h="227">
                <a:moveTo>
                  <a:pt x="93" y="139"/>
                </a:moveTo>
                <a:lnTo>
                  <a:pt x="123" y="227"/>
                </a:lnTo>
                <a:lnTo>
                  <a:pt x="177" y="227"/>
                </a:lnTo>
                <a:lnTo>
                  <a:pt x="227" y="139"/>
                </a:lnTo>
                <a:lnTo>
                  <a:pt x="227" y="35"/>
                </a:lnTo>
                <a:lnTo>
                  <a:pt x="191" y="0"/>
                </a:lnTo>
                <a:lnTo>
                  <a:pt x="132" y="7"/>
                </a:lnTo>
                <a:lnTo>
                  <a:pt x="86" y="7"/>
                </a:lnTo>
                <a:lnTo>
                  <a:pt x="39" y="35"/>
                </a:lnTo>
                <a:lnTo>
                  <a:pt x="6" y="88"/>
                </a:lnTo>
                <a:lnTo>
                  <a:pt x="0" y="139"/>
                </a:lnTo>
                <a:lnTo>
                  <a:pt x="14" y="187"/>
                </a:lnTo>
                <a:lnTo>
                  <a:pt x="26" y="196"/>
                </a:lnTo>
                <a:lnTo>
                  <a:pt x="40" y="196"/>
                </a:lnTo>
                <a:lnTo>
                  <a:pt x="65" y="172"/>
                </a:lnTo>
                <a:lnTo>
                  <a:pt x="52" y="162"/>
                </a:lnTo>
                <a:lnTo>
                  <a:pt x="26" y="172"/>
                </a:lnTo>
                <a:lnTo>
                  <a:pt x="18" y="151"/>
                </a:lnTo>
                <a:lnTo>
                  <a:pt x="18" y="112"/>
                </a:lnTo>
                <a:lnTo>
                  <a:pt x="47" y="67"/>
                </a:lnTo>
                <a:lnTo>
                  <a:pt x="93" y="35"/>
                </a:lnTo>
                <a:lnTo>
                  <a:pt x="154" y="48"/>
                </a:lnTo>
                <a:lnTo>
                  <a:pt x="200" y="76"/>
                </a:lnTo>
                <a:lnTo>
                  <a:pt x="208" y="112"/>
                </a:lnTo>
                <a:lnTo>
                  <a:pt x="195" y="162"/>
                </a:lnTo>
                <a:lnTo>
                  <a:pt x="168" y="179"/>
                </a:lnTo>
                <a:lnTo>
                  <a:pt x="143" y="187"/>
                </a:lnTo>
                <a:lnTo>
                  <a:pt x="123" y="172"/>
                </a:lnTo>
                <a:lnTo>
                  <a:pt x="102" y="131"/>
                </a:lnTo>
                <a:lnTo>
                  <a:pt x="93" y="13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31080" y="5597640"/>
            <a:ext cx="344160" cy="182520"/>
          </a:xfrm>
          <a:custGeom>
            <a:avLst/>
            <a:gdLst/>
            <a:ahLst/>
            <a:rect l="l" t="t" r="r" b="b"/>
            <a:pathLst>
              <a:path w="217" h="230">
                <a:moveTo>
                  <a:pt x="88" y="19"/>
                </a:moveTo>
                <a:lnTo>
                  <a:pt x="41" y="40"/>
                </a:lnTo>
                <a:lnTo>
                  <a:pt x="28" y="77"/>
                </a:lnTo>
                <a:lnTo>
                  <a:pt x="31" y="113"/>
                </a:lnTo>
                <a:lnTo>
                  <a:pt x="64" y="134"/>
                </a:lnTo>
                <a:lnTo>
                  <a:pt x="95" y="141"/>
                </a:lnTo>
                <a:lnTo>
                  <a:pt x="119" y="175"/>
                </a:lnTo>
                <a:lnTo>
                  <a:pt x="149" y="182"/>
                </a:lnTo>
                <a:lnTo>
                  <a:pt x="177" y="175"/>
                </a:lnTo>
                <a:lnTo>
                  <a:pt x="198" y="155"/>
                </a:lnTo>
                <a:lnTo>
                  <a:pt x="194" y="113"/>
                </a:lnTo>
                <a:lnTo>
                  <a:pt x="185" y="67"/>
                </a:lnTo>
                <a:lnTo>
                  <a:pt x="160" y="48"/>
                </a:lnTo>
                <a:lnTo>
                  <a:pt x="127" y="29"/>
                </a:lnTo>
                <a:lnTo>
                  <a:pt x="145" y="19"/>
                </a:lnTo>
                <a:lnTo>
                  <a:pt x="194" y="40"/>
                </a:lnTo>
                <a:lnTo>
                  <a:pt x="212" y="96"/>
                </a:lnTo>
                <a:lnTo>
                  <a:pt x="217" y="163"/>
                </a:lnTo>
                <a:lnTo>
                  <a:pt x="198" y="201"/>
                </a:lnTo>
                <a:lnTo>
                  <a:pt x="160" y="230"/>
                </a:lnTo>
                <a:lnTo>
                  <a:pt x="123" y="213"/>
                </a:lnTo>
                <a:lnTo>
                  <a:pt x="88" y="175"/>
                </a:lnTo>
                <a:lnTo>
                  <a:pt x="51" y="155"/>
                </a:lnTo>
                <a:lnTo>
                  <a:pt x="13" y="134"/>
                </a:lnTo>
                <a:lnTo>
                  <a:pt x="0" y="96"/>
                </a:lnTo>
                <a:lnTo>
                  <a:pt x="9" y="55"/>
                </a:lnTo>
                <a:lnTo>
                  <a:pt x="31" y="19"/>
                </a:lnTo>
                <a:lnTo>
                  <a:pt x="88" y="0"/>
                </a:lnTo>
                <a:lnTo>
                  <a:pt x="88" y="1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51720" y="5559480"/>
            <a:ext cx="328680" cy="149040"/>
          </a:xfrm>
          <a:custGeom>
            <a:avLst/>
            <a:gdLst/>
            <a:ahLst/>
            <a:rect l="l" t="t" r="r" b="b"/>
            <a:pathLst>
              <a:path w="207" h="189">
                <a:moveTo>
                  <a:pt x="57" y="38"/>
                </a:moveTo>
                <a:lnTo>
                  <a:pt x="13" y="67"/>
                </a:lnTo>
                <a:lnTo>
                  <a:pt x="0" y="115"/>
                </a:lnTo>
                <a:lnTo>
                  <a:pt x="8" y="182"/>
                </a:lnTo>
                <a:lnTo>
                  <a:pt x="46" y="189"/>
                </a:lnTo>
                <a:lnTo>
                  <a:pt x="90" y="189"/>
                </a:lnTo>
                <a:lnTo>
                  <a:pt x="129" y="179"/>
                </a:lnTo>
                <a:lnTo>
                  <a:pt x="191" y="161"/>
                </a:lnTo>
                <a:lnTo>
                  <a:pt x="207" y="103"/>
                </a:lnTo>
                <a:lnTo>
                  <a:pt x="191" y="48"/>
                </a:lnTo>
                <a:lnTo>
                  <a:pt x="93" y="0"/>
                </a:lnTo>
                <a:lnTo>
                  <a:pt x="102" y="17"/>
                </a:lnTo>
                <a:lnTo>
                  <a:pt x="181" y="67"/>
                </a:lnTo>
                <a:lnTo>
                  <a:pt x="185" y="103"/>
                </a:lnTo>
                <a:lnTo>
                  <a:pt x="167" y="136"/>
                </a:lnTo>
                <a:lnTo>
                  <a:pt x="129" y="136"/>
                </a:lnTo>
                <a:lnTo>
                  <a:pt x="93" y="161"/>
                </a:lnTo>
                <a:lnTo>
                  <a:pt x="46" y="161"/>
                </a:lnTo>
                <a:lnTo>
                  <a:pt x="26" y="144"/>
                </a:lnTo>
                <a:lnTo>
                  <a:pt x="21" y="96"/>
                </a:lnTo>
                <a:lnTo>
                  <a:pt x="41" y="67"/>
                </a:lnTo>
                <a:lnTo>
                  <a:pt x="57" y="38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03960" y="5424480"/>
            <a:ext cx="217440" cy="154080"/>
          </a:xfrm>
          <a:custGeom>
            <a:avLst/>
            <a:gdLst/>
            <a:ahLst/>
            <a:rect l="l" t="t" r="r" b="b"/>
            <a:pathLst>
              <a:path w="137" h="192">
                <a:moveTo>
                  <a:pt x="104" y="32"/>
                </a:moveTo>
                <a:lnTo>
                  <a:pt x="78" y="17"/>
                </a:lnTo>
                <a:lnTo>
                  <a:pt x="36" y="39"/>
                </a:lnTo>
                <a:lnTo>
                  <a:pt x="44" y="79"/>
                </a:lnTo>
                <a:lnTo>
                  <a:pt x="27" y="127"/>
                </a:lnTo>
                <a:lnTo>
                  <a:pt x="40" y="168"/>
                </a:lnTo>
                <a:lnTo>
                  <a:pt x="81" y="168"/>
                </a:lnTo>
                <a:lnTo>
                  <a:pt x="114" y="146"/>
                </a:lnTo>
                <a:lnTo>
                  <a:pt x="127" y="98"/>
                </a:lnTo>
                <a:lnTo>
                  <a:pt x="137" y="146"/>
                </a:lnTo>
                <a:lnTo>
                  <a:pt x="95" y="185"/>
                </a:lnTo>
                <a:lnTo>
                  <a:pt x="36" y="192"/>
                </a:lnTo>
                <a:lnTo>
                  <a:pt x="0" y="173"/>
                </a:lnTo>
                <a:lnTo>
                  <a:pt x="0" y="127"/>
                </a:lnTo>
                <a:lnTo>
                  <a:pt x="14" y="86"/>
                </a:lnTo>
                <a:lnTo>
                  <a:pt x="17" y="48"/>
                </a:lnTo>
                <a:lnTo>
                  <a:pt x="24" y="17"/>
                </a:lnTo>
                <a:lnTo>
                  <a:pt x="68" y="0"/>
                </a:lnTo>
                <a:lnTo>
                  <a:pt x="95" y="0"/>
                </a:lnTo>
                <a:lnTo>
                  <a:pt x="123" y="39"/>
                </a:lnTo>
                <a:lnTo>
                  <a:pt x="104" y="32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139240" y="4498920"/>
            <a:ext cx="960480" cy="1847880"/>
          </a:xfrm>
          <a:custGeom>
            <a:avLst/>
            <a:gdLst/>
            <a:ahLst/>
            <a:rect l="l" t="t" r="r" b="b"/>
            <a:pathLst>
              <a:path w="605" h="2328">
                <a:moveTo>
                  <a:pt x="47" y="0"/>
                </a:moveTo>
                <a:lnTo>
                  <a:pt x="151" y="165"/>
                </a:lnTo>
                <a:lnTo>
                  <a:pt x="268" y="455"/>
                </a:lnTo>
                <a:lnTo>
                  <a:pt x="366" y="831"/>
                </a:lnTo>
                <a:lnTo>
                  <a:pt x="481" y="1336"/>
                </a:lnTo>
                <a:lnTo>
                  <a:pt x="554" y="1818"/>
                </a:lnTo>
                <a:lnTo>
                  <a:pt x="605" y="2328"/>
                </a:lnTo>
                <a:lnTo>
                  <a:pt x="550" y="2328"/>
                </a:lnTo>
                <a:lnTo>
                  <a:pt x="515" y="1885"/>
                </a:lnTo>
                <a:lnTo>
                  <a:pt x="460" y="1451"/>
                </a:lnTo>
                <a:lnTo>
                  <a:pt x="359" y="1008"/>
                </a:lnTo>
                <a:lnTo>
                  <a:pt x="229" y="512"/>
                </a:lnTo>
                <a:lnTo>
                  <a:pt x="133" y="275"/>
                </a:lnTo>
                <a:lnTo>
                  <a:pt x="47" y="126"/>
                </a:lnTo>
                <a:lnTo>
                  <a:pt x="0" y="66"/>
                </a:lnTo>
                <a:lnTo>
                  <a:pt x="47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72520" y="6022800"/>
            <a:ext cx="264960" cy="324000"/>
          </a:xfrm>
          <a:custGeom>
            <a:avLst/>
            <a:gdLst/>
            <a:ahLst/>
            <a:rect l="l" t="t" r="r" b="b"/>
            <a:pathLst>
              <a:path w="167" h="407">
                <a:moveTo>
                  <a:pt x="0" y="407"/>
                </a:moveTo>
                <a:lnTo>
                  <a:pt x="44" y="334"/>
                </a:lnTo>
                <a:lnTo>
                  <a:pt x="167" y="0"/>
                </a:lnTo>
                <a:lnTo>
                  <a:pt x="151" y="188"/>
                </a:lnTo>
                <a:lnTo>
                  <a:pt x="98" y="407"/>
                </a:lnTo>
                <a:lnTo>
                  <a:pt x="0" y="40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23120" y="4773600"/>
            <a:ext cx="441360" cy="393840"/>
          </a:xfrm>
          <a:custGeom>
            <a:avLst/>
            <a:gdLst/>
            <a:ahLst/>
            <a:rect l="l" t="t" r="r" b="b"/>
            <a:pathLst>
              <a:path w="278" h="496">
                <a:moveTo>
                  <a:pt x="278" y="9"/>
                </a:moveTo>
                <a:lnTo>
                  <a:pt x="213" y="96"/>
                </a:lnTo>
                <a:lnTo>
                  <a:pt x="148" y="213"/>
                </a:lnTo>
                <a:lnTo>
                  <a:pt x="97" y="318"/>
                </a:lnTo>
                <a:lnTo>
                  <a:pt x="36" y="474"/>
                </a:lnTo>
                <a:lnTo>
                  <a:pt x="0" y="496"/>
                </a:lnTo>
                <a:lnTo>
                  <a:pt x="36" y="390"/>
                </a:lnTo>
                <a:lnTo>
                  <a:pt x="75" y="273"/>
                </a:lnTo>
                <a:lnTo>
                  <a:pt x="143" y="127"/>
                </a:lnTo>
                <a:lnTo>
                  <a:pt x="220" y="0"/>
                </a:lnTo>
                <a:lnTo>
                  <a:pt x="278" y="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75520" y="4735440"/>
            <a:ext cx="260280" cy="439920"/>
          </a:xfrm>
          <a:custGeom>
            <a:avLst/>
            <a:gdLst/>
            <a:ahLst/>
            <a:rect l="l" t="t" r="r" b="b"/>
            <a:pathLst>
              <a:path w="164" h="555">
                <a:moveTo>
                  <a:pt x="164" y="40"/>
                </a:moveTo>
                <a:lnTo>
                  <a:pt x="108" y="175"/>
                </a:lnTo>
                <a:lnTo>
                  <a:pt x="62" y="340"/>
                </a:lnTo>
                <a:lnTo>
                  <a:pt x="42" y="486"/>
                </a:lnTo>
                <a:lnTo>
                  <a:pt x="27" y="555"/>
                </a:lnTo>
                <a:lnTo>
                  <a:pt x="0" y="544"/>
                </a:lnTo>
                <a:lnTo>
                  <a:pt x="35" y="340"/>
                </a:lnTo>
                <a:lnTo>
                  <a:pt x="76" y="175"/>
                </a:lnTo>
                <a:lnTo>
                  <a:pt x="145" y="0"/>
                </a:lnTo>
                <a:lnTo>
                  <a:pt x="164" y="4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51680" y="4662360"/>
            <a:ext cx="289080" cy="487440"/>
          </a:xfrm>
          <a:custGeom>
            <a:avLst/>
            <a:gdLst/>
            <a:ahLst/>
            <a:rect l="l" t="t" r="r" b="b"/>
            <a:pathLst>
              <a:path w="182" h="615">
                <a:moveTo>
                  <a:pt x="182" y="48"/>
                </a:moveTo>
                <a:lnTo>
                  <a:pt x="128" y="172"/>
                </a:lnTo>
                <a:lnTo>
                  <a:pt x="78" y="335"/>
                </a:lnTo>
                <a:lnTo>
                  <a:pt x="23" y="615"/>
                </a:lnTo>
                <a:lnTo>
                  <a:pt x="0" y="600"/>
                </a:lnTo>
                <a:lnTo>
                  <a:pt x="37" y="376"/>
                </a:lnTo>
                <a:lnTo>
                  <a:pt x="88" y="193"/>
                </a:lnTo>
                <a:lnTo>
                  <a:pt x="123" y="93"/>
                </a:lnTo>
                <a:lnTo>
                  <a:pt x="171" y="0"/>
                </a:lnTo>
                <a:lnTo>
                  <a:pt x="182" y="48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632640" y="5834160"/>
            <a:ext cx="236520" cy="512640"/>
          </a:xfrm>
          <a:custGeom>
            <a:avLst/>
            <a:gdLst/>
            <a:ahLst/>
            <a:rect l="l" t="t" r="r" b="b"/>
            <a:pathLst>
              <a:path w="149" h="645">
                <a:moveTo>
                  <a:pt x="149" y="0"/>
                </a:moveTo>
                <a:lnTo>
                  <a:pt x="102" y="326"/>
                </a:lnTo>
                <a:lnTo>
                  <a:pt x="58" y="645"/>
                </a:lnTo>
                <a:lnTo>
                  <a:pt x="0" y="645"/>
                </a:lnTo>
                <a:lnTo>
                  <a:pt x="33" y="446"/>
                </a:lnTo>
                <a:lnTo>
                  <a:pt x="58" y="269"/>
                </a:lnTo>
                <a:lnTo>
                  <a:pt x="102" y="0"/>
                </a:lnTo>
                <a:lnTo>
                  <a:pt x="14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25960" y="5065560"/>
            <a:ext cx="314640" cy="233640"/>
          </a:xfrm>
          <a:custGeom>
            <a:avLst/>
            <a:gdLst/>
            <a:ahLst/>
            <a:rect l="l" t="t" r="r" b="b"/>
            <a:pathLst>
              <a:path w="198" h="293">
                <a:moveTo>
                  <a:pt x="0" y="293"/>
                </a:moveTo>
                <a:lnTo>
                  <a:pt x="48" y="139"/>
                </a:lnTo>
                <a:lnTo>
                  <a:pt x="89" y="0"/>
                </a:lnTo>
                <a:lnTo>
                  <a:pt x="198" y="91"/>
                </a:lnTo>
                <a:lnTo>
                  <a:pt x="176" y="116"/>
                </a:lnTo>
                <a:lnTo>
                  <a:pt x="94" y="44"/>
                </a:lnTo>
                <a:lnTo>
                  <a:pt x="21" y="288"/>
                </a:lnTo>
                <a:lnTo>
                  <a:pt x="0" y="293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41960" y="4730760"/>
            <a:ext cx="789120" cy="450720"/>
          </a:xfrm>
          <a:custGeom>
            <a:avLst/>
            <a:gdLst/>
            <a:ahLst/>
            <a:rect l="l" t="t" r="r" b="b"/>
            <a:pathLst>
              <a:path w="497" h="569">
                <a:moveTo>
                  <a:pt x="497" y="478"/>
                </a:moveTo>
                <a:lnTo>
                  <a:pt x="481" y="287"/>
                </a:lnTo>
                <a:lnTo>
                  <a:pt x="436" y="167"/>
                </a:lnTo>
                <a:lnTo>
                  <a:pt x="322" y="88"/>
                </a:lnTo>
                <a:lnTo>
                  <a:pt x="234" y="0"/>
                </a:lnTo>
                <a:lnTo>
                  <a:pt x="145" y="29"/>
                </a:lnTo>
                <a:lnTo>
                  <a:pt x="0" y="64"/>
                </a:lnTo>
                <a:lnTo>
                  <a:pt x="0" y="117"/>
                </a:lnTo>
                <a:lnTo>
                  <a:pt x="34" y="175"/>
                </a:lnTo>
                <a:lnTo>
                  <a:pt x="34" y="79"/>
                </a:lnTo>
                <a:lnTo>
                  <a:pt x="155" y="64"/>
                </a:lnTo>
                <a:lnTo>
                  <a:pt x="232" y="41"/>
                </a:lnTo>
                <a:lnTo>
                  <a:pt x="311" y="134"/>
                </a:lnTo>
                <a:lnTo>
                  <a:pt x="419" y="213"/>
                </a:lnTo>
                <a:lnTo>
                  <a:pt x="472" y="328"/>
                </a:lnTo>
                <a:lnTo>
                  <a:pt x="487" y="569"/>
                </a:lnTo>
                <a:lnTo>
                  <a:pt x="497" y="478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84800" y="4978440"/>
            <a:ext cx="577800" cy="465120"/>
          </a:xfrm>
          <a:custGeom>
            <a:avLst/>
            <a:gdLst/>
            <a:ahLst/>
            <a:rect l="l" t="t" r="r" b="b"/>
            <a:pathLst>
              <a:path w="364" h="585">
                <a:moveTo>
                  <a:pt x="336" y="559"/>
                </a:moveTo>
                <a:lnTo>
                  <a:pt x="216" y="585"/>
                </a:lnTo>
                <a:lnTo>
                  <a:pt x="136" y="532"/>
                </a:lnTo>
                <a:lnTo>
                  <a:pt x="114" y="443"/>
                </a:lnTo>
                <a:lnTo>
                  <a:pt x="70" y="432"/>
                </a:lnTo>
                <a:lnTo>
                  <a:pt x="0" y="309"/>
                </a:lnTo>
                <a:lnTo>
                  <a:pt x="63" y="46"/>
                </a:lnTo>
                <a:lnTo>
                  <a:pt x="162" y="0"/>
                </a:lnTo>
                <a:lnTo>
                  <a:pt x="218" y="46"/>
                </a:lnTo>
                <a:lnTo>
                  <a:pt x="216" y="165"/>
                </a:lnTo>
                <a:lnTo>
                  <a:pt x="189" y="60"/>
                </a:lnTo>
                <a:lnTo>
                  <a:pt x="73" y="139"/>
                </a:lnTo>
                <a:lnTo>
                  <a:pt x="36" y="281"/>
                </a:lnTo>
                <a:lnTo>
                  <a:pt x="73" y="371"/>
                </a:lnTo>
                <a:lnTo>
                  <a:pt x="141" y="256"/>
                </a:lnTo>
                <a:lnTo>
                  <a:pt x="220" y="201"/>
                </a:lnTo>
                <a:lnTo>
                  <a:pt x="289" y="201"/>
                </a:lnTo>
                <a:lnTo>
                  <a:pt x="313" y="281"/>
                </a:lnTo>
                <a:lnTo>
                  <a:pt x="277" y="226"/>
                </a:lnTo>
                <a:lnTo>
                  <a:pt x="189" y="269"/>
                </a:lnTo>
                <a:lnTo>
                  <a:pt x="141" y="432"/>
                </a:lnTo>
                <a:lnTo>
                  <a:pt x="167" y="518"/>
                </a:lnTo>
                <a:lnTo>
                  <a:pt x="227" y="559"/>
                </a:lnTo>
                <a:lnTo>
                  <a:pt x="364" y="518"/>
                </a:lnTo>
                <a:lnTo>
                  <a:pt x="336" y="55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35480" y="4846680"/>
            <a:ext cx="439920" cy="382680"/>
          </a:xfrm>
          <a:custGeom>
            <a:avLst/>
            <a:gdLst/>
            <a:ahLst/>
            <a:rect l="l" t="t" r="r" b="b"/>
            <a:pathLst>
              <a:path w="277" h="483">
                <a:moveTo>
                  <a:pt x="45" y="429"/>
                </a:moveTo>
                <a:lnTo>
                  <a:pt x="19" y="287"/>
                </a:lnTo>
                <a:lnTo>
                  <a:pt x="67" y="150"/>
                </a:lnTo>
                <a:lnTo>
                  <a:pt x="124" y="126"/>
                </a:lnTo>
                <a:lnTo>
                  <a:pt x="159" y="203"/>
                </a:lnTo>
                <a:lnTo>
                  <a:pt x="198" y="175"/>
                </a:lnTo>
                <a:lnTo>
                  <a:pt x="175" y="120"/>
                </a:lnTo>
                <a:lnTo>
                  <a:pt x="277" y="95"/>
                </a:lnTo>
                <a:lnTo>
                  <a:pt x="124" y="95"/>
                </a:lnTo>
                <a:lnTo>
                  <a:pt x="23" y="0"/>
                </a:lnTo>
                <a:lnTo>
                  <a:pt x="88" y="115"/>
                </a:lnTo>
                <a:lnTo>
                  <a:pt x="29" y="150"/>
                </a:lnTo>
                <a:lnTo>
                  <a:pt x="0" y="294"/>
                </a:lnTo>
                <a:lnTo>
                  <a:pt x="38" y="483"/>
                </a:lnTo>
                <a:lnTo>
                  <a:pt x="45" y="42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9360" y="4635360"/>
            <a:ext cx="444600" cy="360360"/>
          </a:xfrm>
          <a:custGeom>
            <a:avLst/>
            <a:gdLst/>
            <a:ahLst/>
            <a:rect l="l" t="t" r="r" b="b"/>
            <a:pathLst>
              <a:path w="280" h="455">
                <a:moveTo>
                  <a:pt x="280" y="386"/>
                </a:moveTo>
                <a:lnTo>
                  <a:pt x="48" y="26"/>
                </a:lnTo>
                <a:lnTo>
                  <a:pt x="0" y="0"/>
                </a:lnTo>
                <a:lnTo>
                  <a:pt x="0" y="14"/>
                </a:lnTo>
                <a:lnTo>
                  <a:pt x="16" y="103"/>
                </a:lnTo>
                <a:lnTo>
                  <a:pt x="203" y="455"/>
                </a:lnTo>
                <a:lnTo>
                  <a:pt x="212" y="441"/>
                </a:lnTo>
                <a:lnTo>
                  <a:pt x="30" y="103"/>
                </a:lnTo>
                <a:lnTo>
                  <a:pt x="10" y="34"/>
                </a:lnTo>
                <a:lnTo>
                  <a:pt x="53" y="50"/>
                </a:lnTo>
                <a:lnTo>
                  <a:pt x="268" y="386"/>
                </a:lnTo>
                <a:lnTo>
                  <a:pt x="280" y="386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65520" y="4308480"/>
            <a:ext cx="433440" cy="345960"/>
          </a:xfrm>
          <a:custGeom>
            <a:avLst/>
            <a:gdLst/>
            <a:ahLst/>
            <a:rect l="l" t="t" r="r" b="b"/>
            <a:pathLst>
              <a:path w="273" h="438">
                <a:moveTo>
                  <a:pt x="252" y="434"/>
                </a:moveTo>
                <a:lnTo>
                  <a:pt x="163" y="434"/>
                </a:lnTo>
                <a:lnTo>
                  <a:pt x="90" y="400"/>
                </a:lnTo>
                <a:lnTo>
                  <a:pt x="45" y="313"/>
                </a:lnTo>
                <a:lnTo>
                  <a:pt x="26" y="203"/>
                </a:lnTo>
                <a:lnTo>
                  <a:pt x="0" y="0"/>
                </a:lnTo>
                <a:lnTo>
                  <a:pt x="44" y="98"/>
                </a:lnTo>
                <a:lnTo>
                  <a:pt x="92" y="158"/>
                </a:lnTo>
                <a:lnTo>
                  <a:pt x="147" y="187"/>
                </a:lnTo>
                <a:lnTo>
                  <a:pt x="188" y="216"/>
                </a:lnTo>
                <a:lnTo>
                  <a:pt x="232" y="273"/>
                </a:lnTo>
                <a:lnTo>
                  <a:pt x="258" y="349"/>
                </a:lnTo>
                <a:lnTo>
                  <a:pt x="273" y="412"/>
                </a:lnTo>
                <a:lnTo>
                  <a:pt x="232" y="306"/>
                </a:lnTo>
                <a:lnTo>
                  <a:pt x="185" y="240"/>
                </a:lnTo>
                <a:lnTo>
                  <a:pt x="128" y="201"/>
                </a:lnTo>
                <a:lnTo>
                  <a:pt x="81" y="179"/>
                </a:lnTo>
                <a:lnTo>
                  <a:pt x="53" y="139"/>
                </a:lnTo>
                <a:lnTo>
                  <a:pt x="24" y="84"/>
                </a:lnTo>
                <a:lnTo>
                  <a:pt x="53" y="244"/>
                </a:lnTo>
                <a:lnTo>
                  <a:pt x="68" y="316"/>
                </a:lnTo>
                <a:lnTo>
                  <a:pt x="97" y="366"/>
                </a:lnTo>
                <a:lnTo>
                  <a:pt x="144" y="390"/>
                </a:lnTo>
                <a:lnTo>
                  <a:pt x="120" y="313"/>
                </a:lnTo>
                <a:lnTo>
                  <a:pt x="177" y="349"/>
                </a:lnTo>
                <a:lnTo>
                  <a:pt x="172" y="285"/>
                </a:lnTo>
                <a:lnTo>
                  <a:pt x="241" y="359"/>
                </a:lnTo>
                <a:lnTo>
                  <a:pt x="273" y="438"/>
                </a:lnTo>
                <a:lnTo>
                  <a:pt x="252" y="434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67480" y="5202360"/>
            <a:ext cx="120600" cy="118800"/>
          </a:xfrm>
          <a:custGeom>
            <a:avLst/>
            <a:gdLst/>
            <a:ahLst/>
            <a:rect l="l" t="t" r="r" b="b"/>
            <a:pathLst>
              <a:path w="76" h="151">
                <a:moveTo>
                  <a:pt x="61" y="0"/>
                </a:moveTo>
                <a:lnTo>
                  <a:pt x="31" y="103"/>
                </a:lnTo>
                <a:lnTo>
                  <a:pt x="0" y="151"/>
                </a:lnTo>
                <a:lnTo>
                  <a:pt x="43" y="117"/>
                </a:lnTo>
                <a:lnTo>
                  <a:pt x="76" y="7"/>
                </a:lnTo>
                <a:lnTo>
                  <a:pt x="61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580080" y="5872320"/>
            <a:ext cx="217440" cy="102960"/>
          </a:xfrm>
          <a:custGeom>
            <a:avLst/>
            <a:gdLst/>
            <a:ahLst/>
            <a:rect l="l" t="t" r="r" b="b"/>
            <a:pathLst>
              <a:path w="137" h="130">
                <a:moveTo>
                  <a:pt x="0" y="27"/>
                </a:moveTo>
                <a:lnTo>
                  <a:pt x="125" y="130"/>
                </a:lnTo>
                <a:lnTo>
                  <a:pt x="137" y="79"/>
                </a:lnTo>
                <a:lnTo>
                  <a:pt x="20" y="0"/>
                </a:lnTo>
                <a:lnTo>
                  <a:pt x="0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3960" y="2344680"/>
            <a:ext cx="4792680" cy="3538440"/>
          </a:xfrm>
          <a:custGeom>
            <a:avLst/>
            <a:gdLst/>
            <a:ahLst/>
            <a:rect l="l" t="t" r="r" b="b"/>
            <a:pathLst>
              <a:path w="3019" h="4459">
                <a:moveTo>
                  <a:pt x="2947" y="3053"/>
                </a:moveTo>
                <a:lnTo>
                  <a:pt x="2792" y="0"/>
                </a:lnTo>
                <a:lnTo>
                  <a:pt x="226" y="0"/>
                </a:lnTo>
                <a:lnTo>
                  <a:pt x="0" y="4459"/>
                </a:lnTo>
                <a:lnTo>
                  <a:pt x="3019" y="4459"/>
                </a:lnTo>
                <a:lnTo>
                  <a:pt x="2977" y="3732"/>
                </a:lnTo>
                <a:lnTo>
                  <a:pt x="2936" y="3715"/>
                </a:lnTo>
                <a:lnTo>
                  <a:pt x="2968" y="4395"/>
                </a:lnTo>
                <a:lnTo>
                  <a:pt x="41" y="4395"/>
                </a:lnTo>
                <a:lnTo>
                  <a:pt x="268" y="69"/>
                </a:lnTo>
                <a:lnTo>
                  <a:pt x="2750" y="69"/>
                </a:lnTo>
                <a:lnTo>
                  <a:pt x="2906" y="3070"/>
                </a:lnTo>
                <a:lnTo>
                  <a:pt x="2947" y="3053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12720" y="3751200"/>
            <a:ext cx="284544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Ewa Stemposz, Kazimierz Subie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Instytut Podstaw Informatyki PA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arszaw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Polsko-Japońska Wyższa Szkoł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Technik Komputerowych, Warszaw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29120" y="2482920"/>
            <a:ext cx="1237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ykład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219320" y="4149720"/>
          <a:ext cx="114588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149720"/>
                    <a:ext cx="11458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8" name=""/>
          <p:cNvGrpSpPr/>
          <p:nvPr/>
        </p:nvGrpSpPr>
        <p:grpSpPr>
          <a:xfrm>
            <a:off x="1352520" y="4952880"/>
            <a:ext cx="723960" cy="717840"/>
            <a:chOff x="1352520" y="4952880"/>
            <a:chExt cx="723960" cy="717840"/>
          </a:xfrm>
        </p:grpSpPr>
        <p:sp>
          <p:nvSpPr>
            <p:cNvPr id="109" name=""/>
            <p:cNvSpPr/>
            <p:nvPr/>
          </p:nvSpPr>
          <p:spPr>
            <a:xfrm>
              <a:off x="1359000" y="4952880"/>
              <a:ext cx="711000" cy="7178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52520" y="4952880"/>
              <a:ext cx="723960" cy="34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378080" y="4959360"/>
              <a:ext cx="672840" cy="679320"/>
            </a:xfrm>
            <a:prstGeom prst="ellipse">
              <a:avLst/>
            </a:prstGeom>
            <a:noFill/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330920" y="3035160"/>
            <a:ext cx="21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Model obiektowy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0" y="0"/>
            <a:ext cx="909648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ziedziczenie (5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562800" y="1523880"/>
            <a:ext cx="2368440" cy="411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050600" y="161460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Wyposażen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633360" y="2160720"/>
            <a:ext cx="208116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azw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wytwó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osz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iśnienie ssa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iśnienie tłocze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rzepły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owierzchnia wymi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średnica ru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bjętoś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iśnien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yp wyposaże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568920" y="21049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81240" y="3486240"/>
            <a:ext cx="0" cy="24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9080" y="3706920"/>
            <a:ext cx="1687320" cy="118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śnienie ssa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śnienie tłocze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zepły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413440" y="3720960"/>
            <a:ext cx="2081880" cy="94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wierzchnia wymi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średnica ru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88160" y="3720960"/>
            <a:ext cx="960120" cy="94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Zbiorn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ętoś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śnien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11160" y="3487680"/>
            <a:ext cx="435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06480" y="3494160"/>
            <a:ext cx="0" cy="21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261040" y="3483000"/>
            <a:ext cx="0" cy="23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13240" y="2930400"/>
            <a:ext cx="0" cy="56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416400" y="3063960"/>
            <a:ext cx="195120" cy="22860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735720" y="3184560"/>
            <a:ext cx="1542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yp wyposaże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26000" y="1854360"/>
            <a:ext cx="1321560" cy="116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yposażen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zw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ytwó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osz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20960" y="2130480"/>
            <a:ext cx="133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05520" y="2362320"/>
            <a:ext cx="7189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85840" y="4038480"/>
            <a:ext cx="169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66800" y="37004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Pomp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400480" y="4038480"/>
            <a:ext cx="209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541240" y="3700440"/>
            <a:ext cx="175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Wymiennik ciepł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991040" y="40384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2" name=""/>
          <p:cNvCxnSpPr/>
          <p:nvPr/>
        </p:nvCxnSpPr>
        <p:spPr>
          <a:xfrm flipH="1" rot="16200000">
            <a:off x="4880160" y="2814840"/>
            <a:ext cx="2246400" cy="3167640"/>
          </a:xfrm>
          <a:prstGeom prst="curvedConnector5">
            <a:avLst>
              <a:gd name="adj1" fmla="val -20275"/>
              <a:gd name="adj2" fmla="val 27642"/>
              <a:gd name="adj3" fmla="val -20275"/>
            </a:avLst>
          </a:prstGeom>
          <a:ln w="6480">
            <a:solidFill>
              <a:srgbClr val="000000"/>
            </a:solidFill>
            <a:prstDash val="dash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12600"/>
            <a:ext cx="910584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ziedziczenie wieloaspektow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994120" y="1106640"/>
            <a:ext cx="2333520" cy="36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jaz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828440" y="1438200"/>
            <a:ext cx="1348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{overlapping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4951440" y="1492200"/>
            <a:ext cx="1743120" cy="132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 flipV="1">
            <a:off x="4368960" y="1492200"/>
            <a:ext cx="768240" cy="132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195200" y="2790720"/>
            <a:ext cx="1095840" cy="63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jaz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atr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933640" y="2790720"/>
            <a:ext cx="1108080" cy="63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jaz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lnik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713120" y="2811600"/>
            <a:ext cx="879480" cy="63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jaz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ąd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254280" y="2819520"/>
            <a:ext cx="855000" cy="63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jaz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od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469960" y="1928880"/>
            <a:ext cx="6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pę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540040" y="174456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603320" y="174456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8282600">
            <a:off x="4944960" y="1469880"/>
            <a:ext cx="139680" cy="15876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20323800">
            <a:off x="4323960" y="1485720"/>
            <a:ext cx="139680" cy="15840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19480" y="1496880"/>
            <a:ext cx="139680" cy="15876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312960" y="2195640"/>
            <a:ext cx="1348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{overlapping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4753080" y="2382840"/>
            <a:ext cx="1644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821960" y="4799160"/>
            <a:ext cx="931320" cy="36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rzew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27120" y="5965920"/>
            <a:ext cx="586800" cy="36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ą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851480" y="5965920"/>
            <a:ext cx="868680" cy="36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rzo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86720" y="5965920"/>
            <a:ext cx="751320" cy="36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s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rot="54600">
            <a:off x="2217600" y="5197320"/>
            <a:ext cx="139680" cy="15876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981000" y="5683320"/>
            <a:ext cx="261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287440" y="5361120"/>
            <a:ext cx="0" cy="606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81000" y="5683320"/>
            <a:ext cx="0" cy="29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592440" y="568332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9560" y="5156280"/>
            <a:ext cx="1990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{disjoint, incomplete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222800" y="3809880"/>
            <a:ext cx="461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isjon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(domyślne):  podział  rozłączn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overlapping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:  podział  nierozłączny;  przecięcie zbiorów obiektów klas, np. Pojazd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ądowy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  Pojazd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wodny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ie jest zbiorem pustym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(domyślne):  podział całkow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ncomplet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- nie wsystkie podklasy zostały zdefiniowane, nadklasa  nie jest klasą abstrakcyjn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... (ellipsi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) niektóre klasy, np. nieistotne dla aktualnie rozważanego problemu, zostały pominięte (nie narysowane)  na diagram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286080" y="16574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676520" y="225756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505320" y="22575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76520" y="22575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36440" y="3720960"/>
            <a:ext cx="3927600" cy="9169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la dziedziczenia wieloaspektowego aspekty dziedziczenia nie mogą być opuszcza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295360" y="534672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atunek drzew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927760" y="1054080"/>
            <a:ext cx="3063960" cy="64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wa aspekty dziedziczenia: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napę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i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eren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35040" y="5079960"/>
            <a:ext cx="228600" cy="609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58720" y="5079960"/>
            <a:ext cx="381240" cy="533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0" y="-6480"/>
            <a:ext cx="91314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ziedziczenie wielokrot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88880" y="901800"/>
            <a:ext cx="8045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Dziedziczenie wielokrotne  (wielodziedziczenie) ma  miejsce, gdy klasa dziedziczy inwarianty z więcej niż jednej klas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600360" y="2208240"/>
            <a:ext cx="1123920" cy="3913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zwisk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760920" y="1724040"/>
            <a:ext cx="803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so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732840" y="5032440"/>
            <a:ext cx="1173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acują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3060720" y="5651280"/>
            <a:ext cx="324000" cy="406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4229280" y="5727600"/>
            <a:ext cx="1440" cy="363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5238360" y="5681520"/>
            <a:ext cx="414360" cy="259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 flipV="1">
            <a:off x="4997160" y="1809360"/>
            <a:ext cx="711000" cy="1587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734080" y="1806480"/>
            <a:ext cx="53352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6082920" y="4073400"/>
            <a:ext cx="120600" cy="501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994360" y="4581360"/>
            <a:ext cx="53352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530680" y="5937120"/>
            <a:ext cx="53352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962520" y="6095880"/>
            <a:ext cx="53316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66880" y="6039000"/>
            <a:ext cx="53352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05320" y="1574640"/>
            <a:ext cx="144756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429000" y="4952880"/>
            <a:ext cx="1752480" cy="7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05320" y="213372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006280" y="3051000"/>
            <a:ext cx="1235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acown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137680" y="3459240"/>
            <a:ext cx="973080" cy="3913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arob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1460520" y="3765240"/>
            <a:ext cx="412560" cy="253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2571840" y="40161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066680" y="4025880"/>
            <a:ext cx="53352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95360" y="4762440"/>
            <a:ext cx="53352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930320" y="2844720"/>
            <a:ext cx="137160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924200" y="33782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4648320" y="2990880"/>
            <a:ext cx="1752480" cy="1066680"/>
            <a:chOff x="4648320" y="2990880"/>
            <a:chExt cx="1752480" cy="1066680"/>
          </a:xfrm>
        </p:grpSpPr>
        <p:sp>
          <p:nvSpPr>
            <p:cNvPr id="387" name=""/>
            <p:cNvSpPr/>
            <p:nvPr/>
          </p:nvSpPr>
          <p:spPr>
            <a:xfrm>
              <a:off x="5059800" y="3057480"/>
              <a:ext cx="941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tud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906800" y="3541680"/>
              <a:ext cx="1276200" cy="39132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r_indeks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648320" y="2990880"/>
              <a:ext cx="1752480" cy="106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648320" y="3448080"/>
              <a:ext cx="175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2805120" y="2176920"/>
            <a:ext cx="789840" cy="676800"/>
            <a:chOff x="2805120" y="2176920"/>
            <a:chExt cx="789840" cy="676800"/>
          </a:xfrm>
        </p:grpSpPr>
        <p:sp>
          <p:nvSpPr>
            <p:cNvPr id="392" name=""/>
            <p:cNvSpPr/>
            <p:nvPr/>
          </p:nvSpPr>
          <p:spPr>
            <a:xfrm rot="3097200">
              <a:off x="3231720" y="2248920"/>
              <a:ext cx="316080" cy="2725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2805120" y="2475360"/>
              <a:ext cx="478080" cy="37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4874760" y="2339640"/>
            <a:ext cx="811800" cy="646200"/>
            <a:chOff x="4874760" y="2339640"/>
            <a:chExt cx="811800" cy="646200"/>
          </a:xfrm>
        </p:grpSpPr>
        <p:sp>
          <p:nvSpPr>
            <p:cNvPr id="395" name=""/>
            <p:cNvSpPr/>
            <p:nvPr/>
          </p:nvSpPr>
          <p:spPr>
            <a:xfrm rot="18363000">
              <a:off x="4919760" y="2411280"/>
              <a:ext cx="316080" cy="27288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193360" y="2626920"/>
              <a:ext cx="49320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4800600" y="4067280"/>
            <a:ext cx="316080" cy="885240"/>
            <a:chOff x="4800600" y="4067280"/>
            <a:chExt cx="316080" cy="885240"/>
          </a:xfrm>
        </p:grpSpPr>
        <p:sp>
          <p:nvSpPr>
            <p:cNvPr id="398" name=""/>
            <p:cNvSpPr/>
            <p:nvPr/>
          </p:nvSpPr>
          <p:spPr>
            <a:xfrm>
              <a:off x="4800600" y="4067280"/>
              <a:ext cx="316080" cy="2725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962600" y="43430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 rot="20277600">
            <a:off x="3008160" y="3993840"/>
            <a:ext cx="316080" cy="2728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220560" y="4257000"/>
            <a:ext cx="28368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0" y="-6480"/>
            <a:ext cx="912636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emy dziedziczenia wielokrotne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98440" y="4448160"/>
            <a:ext cx="884088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Konflikt nazw: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Który z  atrybutów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max_prędkość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ma odziedziczyć amfibi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zy znaczenie metody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rędk_eksploat()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zależy od  ścieżki dziedziczeni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O2: mechanizm zmiany nazwy dziedziczonej cechy; Eiffel: konflikt jest traktowany jako błąd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737880" y="1189080"/>
            <a:ext cx="855000" cy="36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jaz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289480" y="993600"/>
            <a:ext cx="36212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prędkość eksploatacyjna wynosi     50% prędkości maksymalnej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010040" y="1569960"/>
            <a:ext cx="306360" cy="2494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611440" y="2013120"/>
            <a:ext cx="267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4167360" y="1815840"/>
            <a:ext cx="0" cy="19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278320" y="2013120"/>
            <a:ext cx="0" cy="36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611440" y="2019240"/>
            <a:ext cx="0" cy="34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765440" y="2155680"/>
            <a:ext cx="1963440" cy="91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_prędkoś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646880" y="2174760"/>
            <a:ext cx="1733040" cy="91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ax_prędkoś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ędk_eksploa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352600" y="3094200"/>
            <a:ext cx="306360" cy="24912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2509920" y="3342960"/>
            <a:ext cx="0" cy="20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24400" y="3112920"/>
            <a:ext cx="306360" cy="2494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5481720" y="3352680"/>
            <a:ext cx="0" cy="192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954000" y="3549600"/>
            <a:ext cx="267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630600" y="3549600"/>
            <a:ext cx="0" cy="36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954000" y="3556080"/>
            <a:ext cx="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25800" y="3549600"/>
            <a:ext cx="267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597720" y="3549600"/>
            <a:ext cx="0" cy="36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25800" y="3556080"/>
            <a:ext cx="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313800" y="3692520"/>
            <a:ext cx="94500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fi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61080" y="3692520"/>
            <a:ext cx="114768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ochó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266520" y="3692520"/>
            <a:ext cx="6523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c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773360" y="2813040"/>
            <a:ext cx="19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659480" y="2489040"/>
            <a:ext cx="1726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664160" y="2808360"/>
            <a:ext cx="172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748520" y="2736720"/>
            <a:ext cx="173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ędk_eksploa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790640" y="2489040"/>
            <a:ext cx="194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629400" y="294624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7610400" y="173304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690800" y="2146320"/>
            <a:ext cx="161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ojazd  wod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966680" y="2146320"/>
            <a:ext cx="16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ojazd ląd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4920" y="5847840"/>
            <a:ext cx="83818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Najczęściej dziedziczenie wielokrotne (wielodziedziczenie) jest konsekwencją  braku koncepcji  ró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0" y="12600"/>
            <a:ext cx="9072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ziedziczenie dynamicz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908880" y="2002320"/>
            <a:ext cx="8024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so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rot="5400000">
            <a:off x="3612600" y="2035080"/>
            <a:ext cx="309600" cy="25236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rot="16200000">
            <a:off x="4701960" y="2035080"/>
            <a:ext cx="309600" cy="25236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90960" y="1354680"/>
            <a:ext cx="10706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790960" y="2040480"/>
            <a:ext cx="10065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żyn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791320" y="2726280"/>
            <a:ext cx="13618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przedaw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764720" y="1507320"/>
            <a:ext cx="95652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Kobi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459080" y="2497680"/>
            <a:ext cx="12628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ężczyz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348000" y="2158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333600" y="16732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724120" y="16732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28800" y="265896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43480" y="15778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348160" y="1577880"/>
            <a:ext cx="43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53200" y="2168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353200" y="294948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863080" y="263988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{mandat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382200" y="2401920"/>
            <a:ext cx="51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łe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991040" y="216864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862520" y="1501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330440" y="1192320"/>
            <a:ext cx="113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ynamic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77720" y="4500720"/>
            <a:ext cx="807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soba może zmieniać zawód, co może być modelowane poprzez tzw. dziedziczenie dynamiczne. Przydatne dla modelowania koncepcyjnego, trudne w  implementacj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5640" y="5530680"/>
            <a:ext cx="412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andator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- obowiązujący, obowiązk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06360" y="6039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545000" y="145260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zawó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9480" y="3557520"/>
            <a:ext cx="670572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yskryminator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zawód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został tu opatrzony stereotypem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ynamic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0" y="0"/>
            <a:ext cx="910584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Klasa  parametryzow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42880" y="1092240"/>
            <a:ext cx="799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Klasy parametryzowane są użyteczne z dwóch zasadniczych  powodów:  podnoszą  poziom abstrakcji i wpływają na zmniejszenie długości kodu  źródłowego program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Klasy parametryzowane posiadają duży potencjał  ponownego użyc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63160" y="2514600"/>
            <a:ext cx="83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Klasa parametryzowana może być wstawiana do diagramów UML na dwa sposob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738080" y="3089880"/>
            <a:ext cx="21117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Zbiór &lt;Pracownik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 rot="5400000">
            <a:off x="932400" y="3044160"/>
            <a:ext cx="153720" cy="32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latin typeface="Arial Black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latin typeface="Arial Black"/>
              <a:ea typeface="Arial Black"/>
            </a:endParaRPr>
          </a:p>
        </p:txBody>
      </p:sp>
      <p:sp>
        <p:nvSpPr>
          <p:cNvPr id="468" name=""/>
          <p:cNvSpPr txBox="1"/>
          <p:nvPr/>
        </p:nvSpPr>
        <p:spPr>
          <a:xfrm rot="5400000">
            <a:off x="932040" y="3948840"/>
            <a:ext cx="154080" cy="32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latin typeface="Arial Black"/>
              </a:rPr>
              <a:t>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latin typeface="Arial Black"/>
              <a:ea typeface="Arial Black"/>
            </a:endParaRPr>
          </a:p>
        </p:txBody>
      </p:sp>
      <p:sp>
        <p:nvSpPr>
          <p:cNvPr id="469" name=""/>
          <p:cNvSpPr/>
          <p:nvPr/>
        </p:nvSpPr>
        <p:spPr>
          <a:xfrm>
            <a:off x="5009760" y="3581280"/>
            <a:ext cx="327132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ktualny  parametr parametrzac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508120" y="4008600"/>
            <a:ext cx="1447920" cy="137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93720" y="397044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Zbió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569680" y="4656240"/>
            <a:ext cx="11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staw 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suń 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508120" y="448956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508120" y="4694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498840" y="3770280"/>
            <a:ext cx="6858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785560" y="4666320"/>
            <a:ext cx="21315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Zbiór Pracownik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956040" y="48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320000" y="4232160"/>
            <a:ext cx="11469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ind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Pracownik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33520" y="5600880"/>
            <a:ext cx="797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odstawowe zastosowanie klas parametryzowanych polega na wykorzystaniu ich  do definiowania zbiorów (szerzej - kolekcji). Każdy  obiekt  klasy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Zbiór &lt;Pracownik&gt;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zy analogicznie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Zbiór Pracowników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 jest zbior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06000" y="4586400"/>
            <a:ext cx="8802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zabl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460520" y="4775040"/>
            <a:ext cx="538200" cy="1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5387400" y="4180320"/>
            <a:ext cx="266400" cy="46764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0" y="0"/>
            <a:ext cx="90676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ozszerzenia i ograniczenia w podklas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43080" y="1281240"/>
            <a:ext cx="842004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76"/>
              </a:spcBef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odklasa nie może omijać lub zmieniać atrybutów  nadklas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76"/>
              </a:spcBef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odklasa może zmienić  ciało  metody z  nadklasy, ale bez zmiany jej  specyfikacj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76"/>
              </a:spcBef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odklasa może dowolnie dodawać nowe atrybuty i  metody (rozszerzać zbiór    własności  nadklasy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76"/>
              </a:spcBef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odklasa  może ograniczać wartości atrybutów.  Np.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Koł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jest podklasą klasy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Elipsa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     gdzie obie średnice elipsy są sobie równe. Ograniczenia mogą  spowodować, że część    metod  przestanie być poprawna. Np. zmiana jednej  ze średnic obiektu - dozwolona dla    obiektu  klasy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Elipsa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- jest  niedopuszczalna w  obiekcie podklasy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Koło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  gdyż  muszą     tam być zmieniane obie średnice jednocześn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05360" y="5257800"/>
            <a:ext cx="8281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zy Koło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owinno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yć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odklasą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klasy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Elipsa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zy też powinno być odwrotni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77480" y="12600"/>
            <a:ext cx="89233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ystąpienie klas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90600" y="1155600"/>
            <a:ext cx="83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ojęcie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wystąpienie klasy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stancja klas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 oznacza obiekt, który jest “podłączony” do danej  klasy, jest jej członkiem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87000" y="2057400"/>
            <a:ext cx="487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ystąpienia mogą być: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ezpośredni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ośredni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0600" y="2590920"/>
            <a:ext cx="821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biekt jest wystąpieniem bezpośrednim swojej klasy i wystąpieniem pośrednim wszystkich jej nadk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84400" y="3594240"/>
            <a:ext cx="8524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 zależności od poziomu szczegółowości  możliwe są następujące oznaczenia obiekt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847800" y="4273560"/>
            <a:ext cx="7419600" cy="2108160"/>
            <a:chOff x="847800" y="4273560"/>
            <a:chExt cx="7419600" cy="2108160"/>
          </a:xfrm>
        </p:grpSpPr>
        <p:sp>
          <p:nvSpPr>
            <p:cNvPr id="492" name=""/>
            <p:cNvSpPr/>
            <p:nvPr/>
          </p:nvSpPr>
          <p:spPr>
            <a:xfrm>
              <a:off x="847800" y="4273560"/>
              <a:ext cx="3276360" cy="965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GB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azwa_obiektu : nazwa_klas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nazwa_atrybutu = wart_atrybut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987800" y="4273560"/>
              <a:ext cx="3276360" cy="965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en-GB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:nazwa_klas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nazwa_atrybutu = wart_atrybut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961920" y="5543640"/>
              <a:ext cx="3047760" cy="838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azwa_obiektu : nazwa_klas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749920" y="5657760"/>
              <a:ext cx="1752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GB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: nazwa_klas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57160" y="4648320"/>
              <a:ext cx="327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991040" y="4610160"/>
              <a:ext cx="327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-360" y="6120"/>
            <a:ext cx="908676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lasa abstrakcyjna a konkretna (1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381480" y="3587760"/>
            <a:ext cx="1609560" cy="63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Osoba praw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{abstract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478240" y="5315040"/>
            <a:ext cx="1662840" cy="36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soba fizycz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345560" y="5310360"/>
            <a:ext cx="792720" cy="36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7040" y="4259160"/>
            <a:ext cx="306360" cy="24948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4189320" y="4508640"/>
            <a:ext cx="0" cy="37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618080" y="4892760"/>
            <a:ext cx="0" cy="42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462040" y="60310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166920" y="60310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833640" y="60310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348080" y="603576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843440" y="6035760"/>
            <a:ext cx="29196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2608200" y="5698800"/>
            <a:ext cx="0" cy="33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3294000" y="5698800"/>
            <a:ext cx="0" cy="33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3979800" y="5698800"/>
            <a:ext cx="0" cy="33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4494240" y="5684400"/>
            <a:ext cx="0" cy="33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4989600" y="5684400"/>
            <a:ext cx="0" cy="33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580080" y="3191040"/>
            <a:ext cx="1268640" cy="11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ekwenc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ierwsz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astęp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581880" y="3505320"/>
            <a:ext cx="125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581880" y="3809880"/>
            <a:ext cx="125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048440" y="4398840"/>
            <a:ext cx="306360" cy="24948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7201080" y="463824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664320" y="5011560"/>
            <a:ext cx="996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5474520" y="5386320"/>
            <a:ext cx="3440160" cy="911880"/>
            <a:chOff x="5474520" y="5386320"/>
            <a:chExt cx="3440160" cy="911880"/>
          </a:xfrm>
        </p:grpSpPr>
        <p:sp>
          <p:nvSpPr>
            <p:cNvPr id="522" name=""/>
            <p:cNvSpPr/>
            <p:nvPr/>
          </p:nvSpPr>
          <p:spPr>
            <a:xfrm>
              <a:off x="5474520" y="5386320"/>
              <a:ext cx="1606320" cy="91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"/>
                </a:rPr>
                <a:t>Sekwencja i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... </a:t>
              </a: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implementacj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185600" y="5386320"/>
              <a:ext cx="1725120" cy="91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"/>
                </a:rPr>
                <a:t>Sekwencja ch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implementacj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492520" y="5753160"/>
              <a:ext cx="158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92520" y="6000840"/>
              <a:ext cx="158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188120" y="5753160"/>
              <a:ext cx="172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181640" y="6000840"/>
              <a:ext cx="172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189000" y="3409920"/>
            <a:ext cx="2859120" cy="1186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lasyczna klasyfikacja w biologii: liście w drzewie klas muszą być klasami konkretnym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056040" y="4896000"/>
            <a:ext cx="0" cy="42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/>
          <p:nvPr/>
        </p:nvCxnSpPr>
        <p:spPr>
          <a:xfrm flipV="1">
            <a:off x="3068280" y="4895640"/>
            <a:ext cx="1553400" cy="36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31" name=""/>
          <p:cNvSpPr/>
          <p:nvPr/>
        </p:nvSpPr>
        <p:spPr>
          <a:xfrm>
            <a:off x="7648560" y="5010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667560" y="5010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24000" y="986040"/>
            <a:ext cx="84582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Klasa abstrakcyjna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ie ma (nie może mieć) bezpośrednich  wystąpień i służy wyłącznie jako nadklasa dla innych  klas. Stanowi jakby  wspólną część definicji  grupy  klas o podobnej  semantyce. UML pozwala na oznaczenie bytu  abstrakcyjnego za pomocą  wartości etykietowanej {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abstract = TRU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TRUE  można  opuścić)  lub  napisanie nazwy  bytu abstrakcyjnego 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italikami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 nazwy  klasy czy metody abstrakcyjnej)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Klasa konkretna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że mieć (ma prawo mieć)  wystąpienia bezpośredni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0" y="-12960"/>
            <a:ext cx="910584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Klasa abstrakcyjna a konkretna (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012280" y="1638360"/>
            <a:ext cx="22122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- klasa abstrakcyj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041080" y="2273400"/>
            <a:ext cx="199584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- klasa konkret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661480" y="1374840"/>
            <a:ext cx="474120" cy="36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164680" y="2746440"/>
            <a:ext cx="474120" cy="36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160080" y="2746440"/>
            <a:ext cx="474120" cy="36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751120" y="1762200"/>
            <a:ext cx="306360" cy="24912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409840" y="2341440"/>
            <a:ext cx="996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408400" y="2357280"/>
            <a:ext cx="0" cy="3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398760" y="2343240"/>
            <a:ext cx="0" cy="41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655360" y="4172040"/>
            <a:ext cx="474120" cy="36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664800" y="4172040"/>
            <a:ext cx="474120" cy="36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55840" y="3130560"/>
            <a:ext cx="306360" cy="24912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900520" y="3767040"/>
            <a:ext cx="996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898720" y="3782880"/>
            <a:ext cx="0" cy="3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894120" y="3768840"/>
            <a:ext cx="0" cy="41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913120" y="2017800"/>
            <a:ext cx="0" cy="32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408480" y="3389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535040" y="2781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890000" y="138420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,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845520" y="278136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,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303440" y="4203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195280" y="4229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65640" y="5321160"/>
            <a:ext cx="5755680" cy="76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Klasa abstrakcyjna nie może  znaleźć się w liściu drzew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Klasa konkretna może zająć każde położen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224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agadnieni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4240" y="2959200"/>
            <a:ext cx="4539960" cy="34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Klasa parametryzowa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Rozszerzenia i ograniczenia w podklas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ystąpienie  kla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Klasa abstrakcyjna a klasa konkret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Metoda abstrakcyj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nterfejs, zależność, realiza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Ekstensja kla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łasności klas: atrybuty, met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rzesłanianie a przeciąż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Typ; kontrola typ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łasność zamienialnoś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324480" y="4343400"/>
            <a:ext cx="2743200" cy="2133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12640" y="1055520"/>
            <a:ext cx="266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Klasa; notacja w U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Dziedziczeni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87120" y="1676520"/>
            <a:ext cx="216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jednoaspekt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ieloaspekt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ielokrot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dynamicz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12600"/>
            <a:ext cx="910584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etoda abstrakcyj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47840" y="1111320"/>
            <a:ext cx="8264520" cy="64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Metoda  abstrakcyjna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jest  to  metoda  wyspecyfikowana  w  nadklasie, której implementacja  musi  znaleźć się w  którejś z  podkl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572000" y="2286000"/>
            <a:ext cx="439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cyfikacja  operacji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blicz  wypłatę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najduje się w  klasie abstrakcyjnej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racowni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Każda z  klas konkretnych  zawiera właściwą dla siebie implementację tej  operacj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759120" y="3378240"/>
            <a:ext cx="0" cy="9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632040" y="3530520"/>
            <a:ext cx="254160" cy="27324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82640" y="4000680"/>
            <a:ext cx="534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676520" y="400680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029360" y="400680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13480" y="4200480"/>
            <a:ext cx="2334960" cy="118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acownik godzin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wka godzinow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wka świątecz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licz wypłat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355920" y="4200480"/>
            <a:ext cx="2057400" cy="91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acownik etat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arobek tygodni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licz wypłatę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326640" y="4200480"/>
            <a:ext cx="2357640" cy="91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acownik na zlecen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arobek miesięcz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licz wypłat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06280" y="4533840"/>
            <a:ext cx="234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16000" y="5067360"/>
            <a:ext cx="2349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359160" y="4533840"/>
            <a:ext cx="206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359160" y="483876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330960" y="4527720"/>
            <a:ext cx="237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330960" y="4832280"/>
            <a:ext cx="234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696320" y="2600280"/>
            <a:ext cx="2516040" cy="91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racownik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{abstract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już zarobił w tym ro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oblicz wypłatę {abstract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700280" y="2895480"/>
            <a:ext cx="2519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700280" y="3200400"/>
            <a:ext cx="2519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33520" y="558792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Klasa abstrakcyjna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oż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zawierać abstrakcyjne  metody, ale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nie  mus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. Klasa  konkretna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us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zawierać implementacje tych  metod abstrakcyjnych, które nie zostały  zaimplementowane w żadnej z  nadklas danej klasy  konkretnej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0" y="12600"/>
            <a:ext cx="910584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nterfejs, zależność, realizacja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446800" y="1003320"/>
            <a:ext cx="133596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epend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37960" y="4730760"/>
            <a:ext cx="860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tereotyp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poprzedza nazwę klasy, która zawiera jedynie specyfikacje metod, bez implementacji. W  UML  interfejs  nie zawiera atrybutów, a wszystkie metody są publiczne.  Implementacje metod wyspecyfikowanych  w interfejsie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pracownik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zawiera klasa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acowni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 na co wskazuje symbol realizacji (realization) o notacji podobnej do notacji dziedziczeni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78920" y="6184800"/>
            <a:ext cx="834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Zależność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ependenc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 wskazuje na klasę (klienta), która korzysta z danego interfejs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252440" y="946080"/>
            <a:ext cx="1447920" cy="1720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866960" y="2666880"/>
            <a:ext cx="253800" cy="27324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505320" y="1143000"/>
            <a:ext cx="1600200" cy="1512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987720" y="2666880"/>
            <a:ext cx="254160" cy="27324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114800" y="294624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666880" y="392256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858000" y="1884240"/>
            <a:ext cx="91440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0" name=""/>
          <p:cNvCxnSpPr>
            <a:stCxn id="589" idx="1"/>
            <a:endCxn id="585" idx="3"/>
          </p:cNvCxnSpPr>
          <p:nvPr/>
        </p:nvCxnSpPr>
        <p:spPr>
          <a:xfrm flipH="1" flipV="1">
            <a:off x="5105160" y="1899720"/>
            <a:ext cx="1753200" cy="28944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591" name=""/>
          <p:cNvSpPr/>
          <p:nvPr/>
        </p:nvSpPr>
        <p:spPr>
          <a:xfrm>
            <a:off x="5318280" y="3213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242320" y="3289320"/>
            <a:ext cx="122472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e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6121440" y="1530360"/>
            <a:ext cx="1440" cy="40644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 flipV="1">
            <a:off x="4527720" y="3476160"/>
            <a:ext cx="406080" cy="1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443240" y="975960"/>
            <a:ext cx="111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so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{abstract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257480" y="1600200"/>
            <a:ext cx="145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265400" y="1570680"/>
            <a:ext cx="94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mi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azwisk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ata 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257480" y="2343240"/>
            <a:ext cx="145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266480" y="232704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olicz wi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1283400" y="3181320"/>
            <a:ext cx="1383480" cy="1371600"/>
            <a:chOff x="1283400" y="3181320"/>
            <a:chExt cx="1383480" cy="1371600"/>
          </a:xfrm>
        </p:grpSpPr>
        <p:sp>
          <p:nvSpPr>
            <p:cNvPr id="601" name=""/>
            <p:cNvSpPr/>
            <p:nvPr/>
          </p:nvSpPr>
          <p:spPr>
            <a:xfrm>
              <a:off x="1295280" y="3181320"/>
              <a:ext cx="1371600" cy="1371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382400" y="3226680"/>
              <a:ext cx="123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Pracown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295280" y="363852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307880" y="3576600"/>
              <a:ext cx="1096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ensj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tanowisk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295280" y="417204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283400" y="4155840"/>
              <a:ext cx="124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zmień pensj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1990800" y="2943360"/>
            <a:ext cx="0" cy="24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3643200" y="1132920"/>
            <a:ext cx="1323720" cy="634320"/>
            <a:chOff x="3643200" y="1132920"/>
            <a:chExt cx="1323720" cy="634320"/>
          </a:xfrm>
        </p:grpSpPr>
        <p:sp>
          <p:nvSpPr>
            <p:cNvPr id="609" name=""/>
            <p:cNvSpPr/>
            <p:nvPr/>
          </p:nvSpPr>
          <p:spPr>
            <a:xfrm>
              <a:off x="3643200" y="1398960"/>
              <a:ext cx="13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IPracown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697560" y="1132920"/>
              <a:ext cx="124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«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interface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3505320" y="18288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505320" y="2133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511080" y="2193480"/>
            <a:ext cx="14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+ zmień pensj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0" y="12600"/>
            <a:ext cx="910584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nterfejs, zależność, uszczegółowienie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77640" y="1219320"/>
            <a:ext cx="777312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la poprzedniego diagramu można zastosować inną, bardziej zwięzłą notację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066680" y="3759120"/>
            <a:ext cx="160020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acown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600200" y="2692440"/>
            <a:ext cx="53352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600200" y="5283360"/>
            <a:ext cx="53352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9" name=""/>
          <p:cNvCxnSpPr>
            <a:stCxn id="617" idx="4"/>
            <a:endCxn id="616" idx="0"/>
          </p:cNvCxnSpPr>
          <p:nvPr/>
        </p:nvCxnSpPr>
        <p:spPr>
          <a:xfrm>
            <a:off x="1866600" y="3149280"/>
            <a:ext cx="1080" cy="6102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620" name=""/>
          <p:cNvCxnSpPr>
            <a:stCxn id="616" idx="2"/>
            <a:endCxn id="618" idx="0"/>
          </p:cNvCxnSpPr>
          <p:nvPr/>
        </p:nvCxnSpPr>
        <p:spPr>
          <a:xfrm>
            <a:off x="1866600" y="4597200"/>
            <a:ext cx="1080" cy="6865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621" name=""/>
          <p:cNvSpPr/>
          <p:nvPr/>
        </p:nvSpPr>
        <p:spPr>
          <a:xfrm>
            <a:off x="1255680" y="212076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Pracown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484640" y="59562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so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638680" y="246384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4" name=""/>
          <p:cNvCxnSpPr>
            <a:stCxn id="623" idx="1"/>
            <a:endCxn id="617" idx="6"/>
          </p:cNvCxnSpPr>
          <p:nvPr/>
        </p:nvCxnSpPr>
        <p:spPr>
          <a:xfrm flipH="1">
            <a:off x="2133360" y="2920680"/>
            <a:ext cx="350568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625" name=""/>
          <p:cNvSpPr/>
          <p:nvPr/>
        </p:nvSpPr>
        <p:spPr>
          <a:xfrm>
            <a:off x="3260880" y="4584600"/>
            <a:ext cx="542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Klasa  abstrakcyjna i interfejs zostały  tu potraktowane w  podobny sposób - jako definicje  interfejsów do klasy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acowni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 Jedyna różnica: klasa abstrakcyjna, w  przeciwieństwie do interfejsu, może  zawierać atrybuty i implementacje meto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903240" y="76320"/>
            <a:ext cx="68007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0" y="-6480"/>
            <a:ext cx="910584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kstensja klasy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30120" y="1092240"/>
            <a:ext cx="71373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Ekstensja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klasy (class extent) =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ktualny (zmienny w czasie) zestaw  wszystkich wystąpień tej klasy. Ekstensja klasy w  implementacji  oznacza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pecjalną strukturę danych, konkretny byt programistyczny dołączony do klasy. Ta struktura stanowi skład obiektów, przechowując wszystkie obiekty  będące  członkami danej  klasy.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866000" y="1041480"/>
            <a:ext cx="254160" cy="257040"/>
          </a:xfrm>
          <a:custGeom>
            <a:avLst/>
            <a:gdLst/>
            <a:ahLst/>
            <a:rect l="l" t="t" r="r" b="b"/>
            <a:pathLst>
              <a:path w="2511" h="3857">
                <a:moveTo>
                  <a:pt x="2484" y="2049"/>
                </a:moveTo>
                <a:lnTo>
                  <a:pt x="2489" y="2068"/>
                </a:lnTo>
                <a:lnTo>
                  <a:pt x="2504" y="2189"/>
                </a:lnTo>
                <a:lnTo>
                  <a:pt x="2511" y="2313"/>
                </a:lnTo>
                <a:lnTo>
                  <a:pt x="2511" y="2433"/>
                </a:lnTo>
                <a:lnTo>
                  <a:pt x="2498" y="2557"/>
                </a:lnTo>
                <a:lnTo>
                  <a:pt x="2484" y="2682"/>
                </a:lnTo>
                <a:lnTo>
                  <a:pt x="2456" y="2798"/>
                </a:lnTo>
                <a:lnTo>
                  <a:pt x="2423" y="2916"/>
                </a:lnTo>
                <a:lnTo>
                  <a:pt x="2381" y="3027"/>
                </a:lnTo>
                <a:lnTo>
                  <a:pt x="2327" y="3138"/>
                </a:lnTo>
                <a:lnTo>
                  <a:pt x="2272" y="3242"/>
                </a:lnTo>
                <a:lnTo>
                  <a:pt x="2206" y="3337"/>
                </a:lnTo>
                <a:lnTo>
                  <a:pt x="2135" y="3425"/>
                </a:lnTo>
                <a:lnTo>
                  <a:pt x="2063" y="3507"/>
                </a:lnTo>
                <a:lnTo>
                  <a:pt x="1979" y="3583"/>
                </a:lnTo>
                <a:lnTo>
                  <a:pt x="1890" y="3654"/>
                </a:lnTo>
                <a:lnTo>
                  <a:pt x="1797" y="3712"/>
                </a:lnTo>
                <a:lnTo>
                  <a:pt x="1702" y="3760"/>
                </a:lnTo>
                <a:lnTo>
                  <a:pt x="1606" y="3800"/>
                </a:lnTo>
                <a:lnTo>
                  <a:pt x="1507" y="3830"/>
                </a:lnTo>
                <a:lnTo>
                  <a:pt x="1403" y="3850"/>
                </a:lnTo>
                <a:lnTo>
                  <a:pt x="1298" y="3857"/>
                </a:lnTo>
                <a:lnTo>
                  <a:pt x="1196" y="3857"/>
                </a:lnTo>
                <a:lnTo>
                  <a:pt x="1092" y="3845"/>
                </a:lnTo>
                <a:lnTo>
                  <a:pt x="991" y="3825"/>
                </a:lnTo>
                <a:lnTo>
                  <a:pt x="891" y="3794"/>
                </a:lnTo>
                <a:lnTo>
                  <a:pt x="794" y="3755"/>
                </a:lnTo>
                <a:lnTo>
                  <a:pt x="699" y="3704"/>
                </a:lnTo>
                <a:lnTo>
                  <a:pt x="608" y="3641"/>
                </a:lnTo>
                <a:lnTo>
                  <a:pt x="521" y="3574"/>
                </a:lnTo>
                <a:lnTo>
                  <a:pt x="438" y="3498"/>
                </a:lnTo>
                <a:lnTo>
                  <a:pt x="362" y="3412"/>
                </a:lnTo>
                <a:lnTo>
                  <a:pt x="295" y="3324"/>
                </a:lnTo>
                <a:lnTo>
                  <a:pt x="231" y="3224"/>
                </a:lnTo>
                <a:lnTo>
                  <a:pt x="175" y="3120"/>
                </a:lnTo>
                <a:lnTo>
                  <a:pt x="126" y="3012"/>
                </a:lnTo>
                <a:lnTo>
                  <a:pt x="83" y="2899"/>
                </a:lnTo>
                <a:lnTo>
                  <a:pt x="51" y="2783"/>
                </a:lnTo>
                <a:lnTo>
                  <a:pt x="26" y="2662"/>
                </a:lnTo>
                <a:lnTo>
                  <a:pt x="9" y="2541"/>
                </a:lnTo>
                <a:lnTo>
                  <a:pt x="0" y="2418"/>
                </a:lnTo>
                <a:lnTo>
                  <a:pt x="0" y="2297"/>
                </a:lnTo>
                <a:lnTo>
                  <a:pt x="9" y="2172"/>
                </a:lnTo>
                <a:lnTo>
                  <a:pt x="29" y="2049"/>
                </a:lnTo>
                <a:lnTo>
                  <a:pt x="29" y="2006"/>
                </a:lnTo>
                <a:lnTo>
                  <a:pt x="44" y="1873"/>
                </a:lnTo>
                <a:lnTo>
                  <a:pt x="71" y="1714"/>
                </a:lnTo>
                <a:lnTo>
                  <a:pt x="100" y="1562"/>
                </a:lnTo>
                <a:lnTo>
                  <a:pt x="134" y="1418"/>
                </a:lnTo>
                <a:lnTo>
                  <a:pt x="171" y="1274"/>
                </a:lnTo>
                <a:lnTo>
                  <a:pt x="218" y="1135"/>
                </a:lnTo>
                <a:lnTo>
                  <a:pt x="262" y="1002"/>
                </a:lnTo>
                <a:lnTo>
                  <a:pt x="312" y="879"/>
                </a:lnTo>
                <a:lnTo>
                  <a:pt x="367" y="758"/>
                </a:lnTo>
                <a:lnTo>
                  <a:pt x="420" y="645"/>
                </a:lnTo>
                <a:lnTo>
                  <a:pt x="483" y="541"/>
                </a:lnTo>
                <a:lnTo>
                  <a:pt x="546" y="450"/>
                </a:lnTo>
                <a:lnTo>
                  <a:pt x="613" y="363"/>
                </a:lnTo>
                <a:lnTo>
                  <a:pt x="682" y="280"/>
                </a:lnTo>
                <a:lnTo>
                  <a:pt x="755" y="210"/>
                </a:lnTo>
                <a:lnTo>
                  <a:pt x="826" y="153"/>
                </a:lnTo>
                <a:lnTo>
                  <a:pt x="901" y="102"/>
                </a:lnTo>
                <a:lnTo>
                  <a:pt x="976" y="56"/>
                </a:lnTo>
                <a:lnTo>
                  <a:pt x="1054" y="25"/>
                </a:lnTo>
                <a:lnTo>
                  <a:pt x="1131" y="5"/>
                </a:lnTo>
                <a:lnTo>
                  <a:pt x="1209" y="0"/>
                </a:lnTo>
                <a:lnTo>
                  <a:pt x="1286" y="0"/>
                </a:lnTo>
                <a:lnTo>
                  <a:pt x="1365" y="5"/>
                </a:lnTo>
                <a:lnTo>
                  <a:pt x="1442" y="25"/>
                </a:lnTo>
                <a:lnTo>
                  <a:pt x="1521" y="56"/>
                </a:lnTo>
                <a:lnTo>
                  <a:pt x="1599" y="94"/>
                </a:lnTo>
                <a:lnTo>
                  <a:pt x="1673" y="141"/>
                </a:lnTo>
                <a:lnTo>
                  <a:pt x="1742" y="203"/>
                </a:lnTo>
                <a:lnTo>
                  <a:pt x="1815" y="273"/>
                </a:lnTo>
                <a:lnTo>
                  <a:pt x="1882" y="351"/>
                </a:lnTo>
                <a:lnTo>
                  <a:pt x="1951" y="438"/>
                </a:lnTo>
                <a:lnTo>
                  <a:pt x="2020" y="531"/>
                </a:lnTo>
                <a:lnTo>
                  <a:pt x="2078" y="632"/>
                </a:lnTo>
                <a:lnTo>
                  <a:pt x="2133" y="743"/>
                </a:lnTo>
                <a:lnTo>
                  <a:pt x="2186" y="862"/>
                </a:lnTo>
                <a:lnTo>
                  <a:pt x="2240" y="987"/>
                </a:lnTo>
                <a:lnTo>
                  <a:pt x="2286" y="1117"/>
                </a:lnTo>
                <a:lnTo>
                  <a:pt x="2327" y="1256"/>
                </a:lnTo>
                <a:lnTo>
                  <a:pt x="2366" y="1400"/>
                </a:lnTo>
                <a:lnTo>
                  <a:pt x="2403" y="1543"/>
                </a:lnTo>
                <a:lnTo>
                  <a:pt x="2434" y="1694"/>
                </a:lnTo>
                <a:lnTo>
                  <a:pt x="2458" y="1852"/>
                </a:lnTo>
                <a:lnTo>
                  <a:pt x="2480" y="2006"/>
                </a:lnTo>
                <a:lnTo>
                  <a:pt x="2484" y="204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848720" y="1265400"/>
            <a:ext cx="1098360" cy="303120"/>
          </a:xfrm>
          <a:custGeom>
            <a:avLst/>
            <a:gdLst/>
            <a:ahLst/>
            <a:rect l="l" t="t" r="r" b="b"/>
            <a:pathLst>
              <a:path w="3459" h="1523">
                <a:moveTo>
                  <a:pt x="65" y="1523"/>
                </a:moveTo>
                <a:lnTo>
                  <a:pt x="3281" y="1523"/>
                </a:lnTo>
                <a:lnTo>
                  <a:pt x="3349" y="1411"/>
                </a:lnTo>
                <a:lnTo>
                  <a:pt x="3410" y="1256"/>
                </a:lnTo>
                <a:lnTo>
                  <a:pt x="3447" y="1128"/>
                </a:lnTo>
                <a:lnTo>
                  <a:pt x="3459" y="993"/>
                </a:lnTo>
                <a:lnTo>
                  <a:pt x="3459" y="890"/>
                </a:lnTo>
                <a:lnTo>
                  <a:pt x="3447" y="792"/>
                </a:lnTo>
                <a:lnTo>
                  <a:pt x="3423" y="721"/>
                </a:lnTo>
                <a:lnTo>
                  <a:pt x="3410" y="679"/>
                </a:lnTo>
                <a:lnTo>
                  <a:pt x="3334" y="619"/>
                </a:lnTo>
                <a:lnTo>
                  <a:pt x="3273" y="610"/>
                </a:lnTo>
                <a:lnTo>
                  <a:pt x="3200" y="610"/>
                </a:lnTo>
                <a:lnTo>
                  <a:pt x="3156" y="619"/>
                </a:lnTo>
                <a:lnTo>
                  <a:pt x="3060" y="424"/>
                </a:lnTo>
                <a:lnTo>
                  <a:pt x="2951" y="262"/>
                </a:lnTo>
                <a:lnTo>
                  <a:pt x="2851" y="151"/>
                </a:lnTo>
                <a:lnTo>
                  <a:pt x="2724" y="59"/>
                </a:lnTo>
                <a:lnTo>
                  <a:pt x="2621" y="10"/>
                </a:lnTo>
                <a:lnTo>
                  <a:pt x="2539" y="0"/>
                </a:lnTo>
                <a:lnTo>
                  <a:pt x="2472" y="10"/>
                </a:lnTo>
                <a:lnTo>
                  <a:pt x="2404" y="51"/>
                </a:lnTo>
                <a:lnTo>
                  <a:pt x="2355" y="111"/>
                </a:lnTo>
                <a:lnTo>
                  <a:pt x="2315" y="190"/>
                </a:lnTo>
                <a:lnTo>
                  <a:pt x="2288" y="314"/>
                </a:lnTo>
                <a:lnTo>
                  <a:pt x="2199" y="314"/>
                </a:lnTo>
                <a:lnTo>
                  <a:pt x="2099" y="366"/>
                </a:lnTo>
                <a:lnTo>
                  <a:pt x="2008" y="435"/>
                </a:lnTo>
                <a:lnTo>
                  <a:pt x="1890" y="397"/>
                </a:lnTo>
                <a:lnTo>
                  <a:pt x="1695" y="355"/>
                </a:lnTo>
                <a:lnTo>
                  <a:pt x="1570" y="341"/>
                </a:lnTo>
                <a:lnTo>
                  <a:pt x="1440" y="355"/>
                </a:lnTo>
                <a:lnTo>
                  <a:pt x="1321" y="376"/>
                </a:lnTo>
                <a:lnTo>
                  <a:pt x="1243" y="397"/>
                </a:lnTo>
                <a:lnTo>
                  <a:pt x="1195" y="314"/>
                </a:lnTo>
                <a:lnTo>
                  <a:pt x="1147" y="221"/>
                </a:lnTo>
                <a:lnTo>
                  <a:pt x="1063" y="141"/>
                </a:lnTo>
                <a:lnTo>
                  <a:pt x="967" y="101"/>
                </a:lnTo>
                <a:lnTo>
                  <a:pt x="903" y="91"/>
                </a:lnTo>
                <a:lnTo>
                  <a:pt x="855" y="91"/>
                </a:lnTo>
                <a:lnTo>
                  <a:pt x="786" y="120"/>
                </a:lnTo>
                <a:lnTo>
                  <a:pt x="715" y="200"/>
                </a:lnTo>
                <a:lnTo>
                  <a:pt x="632" y="324"/>
                </a:lnTo>
                <a:lnTo>
                  <a:pt x="581" y="456"/>
                </a:lnTo>
                <a:lnTo>
                  <a:pt x="519" y="628"/>
                </a:lnTo>
                <a:lnTo>
                  <a:pt x="481" y="862"/>
                </a:lnTo>
                <a:lnTo>
                  <a:pt x="370" y="798"/>
                </a:lnTo>
                <a:lnTo>
                  <a:pt x="275" y="792"/>
                </a:lnTo>
                <a:lnTo>
                  <a:pt x="198" y="798"/>
                </a:lnTo>
                <a:lnTo>
                  <a:pt x="116" y="830"/>
                </a:lnTo>
                <a:lnTo>
                  <a:pt x="65" y="890"/>
                </a:lnTo>
                <a:lnTo>
                  <a:pt x="20" y="972"/>
                </a:lnTo>
                <a:lnTo>
                  <a:pt x="6" y="1087"/>
                </a:lnTo>
                <a:lnTo>
                  <a:pt x="0" y="1198"/>
                </a:lnTo>
                <a:lnTo>
                  <a:pt x="25" y="1338"/>
                </a:lnTo>
                <a:lnTo>
                  <a:pt x="58" y="1494"/>
                </a:lnTo>
                <a:lnTo>
                  <a:pt x="65" y="1523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7848720" y="1643040"/>
            <a:ext cx="1101600" cy="380880"/>
            <a:chOff x="7848720" y="1643040"/>
            <a:chExt cx="1101600" cy="380880"/>
          </a:xfrm>
        </p:grpSpPr>
        <p:sp>
          <p:nvSpPr>
            <p:cNvPr id="632" name=""/>
            <p:cNvSpPr/>
            <p:nvPr/>
          </p:nvSpPr>
          <p:spPr>
            <a:xfrm>
              <a:off x="7848720" y="1916280"/>
              <a:ext cx="160200" cy="107640"/>
            </a:xfrm>
            <a:custGeom>
              <a:avLst/>
              <a:gdLst/>
              <a:ahLst/>
              <a:rect l="l" t="t" r="r" b="b"/>
              <a:pathLst>
                <a:path w="507" h="540">
                  <a:moveTo>
                    <a:pt x="0" y="0"/>
                  </a:moveTo>
                  <a:lnTo>
                    <a:pt x="3" y="70"/>
                  </a:lnTo>
                  <a:lnTo>
                    <a:pt x="18" y="138"/>
                  </a:lnTo>
                  <a:lnTo>
                    <a:pt x="41" y="208"/>
                  </a:lnTo>
                  <a:lnTo>
                    <a:pt x="72" y="269"/>
                  </a:lnTo>
                  <a:lnTo>
                    <a:pt x="111" y="331"/>
                  </a:lnTo>
                  <a:lnTo>
                    <a:pt x="156" y="383"/>
                  </a:lnTo>
                  <a:lnTo>
                    <a:pt x="208" y="432"/>
                  </a:lnTo>
                  <a:lnTo>
                    <a:pt x="263" y="471"/>
                  </a:lnTo>
                  <a:lnTo>
                    <a:pt x="328" y="503"/>
                  </a:lnTo>
                  <a:lnTo>
                    <a:pt x="390" y="522"/>
                  </a:lnTo>
                  <a:lnTo>
                    <a:pt x="454" y="535"/>
                  </a:lnTo>
                  <a:lnTo>
                    <a:pt x="507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047080" y="1913040"/>
              <a:ext cx="331920" cy="110880"/>
            </a:xfrm>
            <a:custGeom>
              <a:avLst/>
              <a:gdLst/>
              <a:ahLst/>
              <a:rect l="l" t="t" r="r" b="b"/>
              <a:pathLst>
                <a:path w="1048" h="561">
                  <a:moveTo>
                    <a:pt x="0" y="561"/>
                  </a:moveTo>
                  <a:lnTo>
                    <a:pt x="1048" y="561"/>
                  </a:lnTo>
                  <a:lnTo>
                    <a:pt x="524" y="0"/>
                  </a:lnTo>
                  <a:lnTo>
                    <a:pt x="0" y="561"/>
                  </a:lnTo>
                  <a:close/>
                </a:path>
              </a:pathLst>
            </a:custGeom>
            <a:solidFill>
              <a:srgbClr val="cc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413920" y="1913040"/>
              <a:ext cx="333360" cy="110880"/>
            </a:xfrm>
            <a:custGeom>
              <a:avLst/>
              <a:gdLst/>
              <a:ahLst/>
              <a:rect l="l" t="t" r="r" b="b"/>
              <a:pathLst>
                <a:path w="1046" h="561">
                  <a:moveTo>
                    <a:pt x="0" y="561"/>
                  </a:moveTo>
                  <a:lnTo>
                    <a:pt x="1046" y="561"/>
                  </a:lnTo>
                  <a:lnTo>
                    <a:pt x="521" y="0"/>
                  </a:lnTo>
                  <a:lnTo>
                    <a:pt x="0" y="561"/>
                  </a:lnTo>
                  <a:close/>
                </a:path>
              </a:pathLst>
            </a:custGeom>
            <a:solidFill>
              <a:srgbClr val="cc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788320" y="1916280"/>
              <a:ext cx="162000" cy="107640"/>
            </a:xfrm>
            <a:custGeom>
              <a:avLst/>
              <a:gdLst/>
              <a:ahLst/>
              <a:rect l="l" t="t" r="r" b="b"/>
              <a:pathLst>
                <a:path w="511" h="540">
                  <a:moveTo>
                    <a:pt x="0" y="540"/>
                  </a:moveTo>
                  <a:lnTo>
                    <a:pt x="67" y="535"/>
                  </a:lnTo>
                  <a:lnTo>
                    <a:pt x="131" y="518"/>
                  </a:lnTo>
                  <a:lnTo>
                    <a:pt x="196" y="493"/>
                  </a:lnTo>
                  <a:lnTo>
                    <a:pt x="256" y="463"/>
                  </a:lnTo>
                  <a:lnTo>
                    <a:pt x="312" y="422"/>
                  </a:lnTo>
                  <a:lnTo>
                    <a:pt x="362" y="371"/>
                  </a:lnTo>
                  <a:lnTo>
                    <a:pt x="405" y="316"/>
                  </a:lnTo>
                  <a:lnTo>
                    <a:pt x="442" y="257"/>
                  </a:lnTo>
                  <a:lnTo>
                    <a:pt x="470" y="192"/>
                  </a:lnTo>
                  <a:lnTo>
                    <a:pt x="494" y="124"/>
                  </a:lnTo>
                  <a:lnTo>
                    <a:pt x="507" y="51"/>
                  </a:lnTo>
                  <a:lnTo>
                    <a:pt x="511" y="0"/>
                  </a:lnTo>
                  <a:lnTo>
                    <a:pt x="0" y="540"/>
                  </a:lnTo>
                  <a:close/>
                </a:path>
              </a:pathLst>
            </a:custGeom>
            <a:solidFill>
              <a:srgbClr val="cc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861320" y="1789200"/>
              <a:ext cx="333360" cy="223920"/>
            </a:xfrm>
            <a:custGeom>
              <a:avLst/>
              <a:gdLst/>
              <a:ahLst/>
              <a:rect l="l" t="t" r="r" b="b"/>
              <a:pathLst>
                <a:path w="1049" h="1125">
                  <a:moveTo>
                    <a:pt x="0" y="565"/>
                  </a:moveTo>
                  <a:lnTo>
                    <a:pt x="522" y="1125"/>
                  </a:lnTo>
                  <a:lnTo>
                    <a:pt x="1049" y="565"/>
                  </a:lnTo>
                  <a:lnTo>
                    <a:pt x="522" y="0"/>
                  </a:lnTo>
                  <a:lnTo>
                    <a:pt x="0" y="565"/>
                  </a:lnTo>
                  <a:close/>
                </a:path>
              </a:pathLst>
            </a:custGeom>
            <a:solidFill>
              <a:srgbClr val="cc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229600" y="1789200"/>
              <a:ext cx="333360" cy="223920"/>
            </a:xfrm>
            <a:custGeom>
              <a:avLst/>
              <a:gdLst/>
              <a:ahLst/>
              <a:rect l="l" t="t" r="r" b="b"/>
              <a:pathLst>
                <a:path w="1046" h="1125">
                  <a:moveTo>
                    <a:pt x="0" y="565"/>
                  </a:moveTo>
                  <a:lnTo>
                    <a:pt x="524" y="1125"/>
                  </a:lnTo>
                  <a:lnTo>
                    <a:pt x="1046" y="565"/>
                  </a:lnTo>
                  <a:lnTo>
                    <a:pt x="524" y="0"/>
                  </a:lnTo>
                  <a:lnTo>
                    <a:pt x="0" y="565"/>
                  </a:lnTo>
                  <a:close/>
                </a:path>
              </a:pathLst>
            </a:custGeom>
            <a:solidFill>
              <a:srgbClr val="cc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599320" y="1789200"/>
              <a:ext cx="331920" cy="223920"/>
            </a:xfrm>
            <a:custGeom>
              <a:avLst/>
              <a:gdLst/>
              <a:ahLst/>
              <a:rect l="l" t="t" r="r" b="b"/>
              <a:pathLst>
                <a:path w="1047" h="1125">
                  <a:moveTo>
                    <a:pt x="0" y="565"/>
                  </a:moveTo>
                  <a:lnTo>
                    <a:pt x="524" y="1125"/>
                  </a:lnTo>
                  <a:lnTo>
                    <a:pt x="1047" y="565"/>
                  </a:lnTo>
                  <a:lnTo>
                    <a:pt x="524" y="0"/>
                  </a:lnTo>
                  <a:lnTo>
                    <a:pt x="0" y="565"/>
                  </a:lnTo>
                  <a:close/>
                </a:path>
              </a:pathLst>
            </a:custGeom>
            <a:solidFill>
              <a:srgbClr val="cc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848720" y="1670040"/>
              <a:ext cx="160200" cy="216000"/>
            </a:xfrm>
            <a:custGeom>
              <a:avLst/>
              <a:gdLst/>
              <a:ahLst/>
              <a:rect l="l" t="t" r="r" b="b"/>
              <a:pathLst>
                <a:path w="507" h="1082">
                  <a:moveTo>
                    <a:pt x="0" y="1082"/>
                  </a:moveTo>
                  <a:lnTo>
                    <a:pt x="507" y="542"/>
                  </a:lnTo>
                  <a:lnTo>
                    <a:pt x="0" y="0"/>
                  </a:lnTo>
                  <a:lnTo>
                    <a:pt x="0" y="1082"/>
                  </a:lnTo>
                  <a:close/>
                </a:path>
              </a:pathLst>
            </a:custGeom>
            <a:solidFill>
              <a:srgbClr val="cc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047080" y="1666800"/>
              <a:ext cx="331920" cy="223920"/>
            </a:xfrm>
            <a:custGeom>
              <a:avLst/>
              <a:gdLst/>
              <a:ahLst/>
              <a:rect l="l" t="t" r="r" b="b"/>
              <a:pathLst>
                <a:path w="1048" h="1126">
                  <a:moveTo>
                    <a:pt x="524" y="1126"/>
                  </a:moveTo>
                  <a:lnTo>
                    <a:pt x="0" y="562"/>
                  </a:lnTo>
                  <a:lnTo>
                    <a:pt x="524" y="0"/>
                  </a:lnTo>
                  <a:lnTo>
                    <a:pt x="1048" y="562"/>
                  </a:lnTo>
                  <a:lnTo>
                    <a:pt x="524" y="1126"/>
                  </a:lnTo>
                  <a:close/>
                </a:path>
              </a:pathLst>
            </a:custGeom>
            <a:solidFill>
              <a:srgbClr val="cc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413920" y="1666800"/>
              <a:ext cx="333360" cy="223920"/>
            </a:xfrm>
            <a:custGeom>
              <a:avLst/>
              <a:gdLst/>
              <a:ahLst/>
              <a:rect l="l" t="t" r="r" b="b"/>
              <a:pathLst>
                <a:path w="1046" h="1126">
                  <a:moveTo>
                    <a:pt x="521" y="1126"/>
                  </a:moveTo>
                  <a:lnTo>
                    <a:pt x="0" y="562"/>
                  </a:lnTo>
                  <a:lnTo>
                    <a:pt x="521" y="0"/>
                  </a:lnTo>
                  <a:lnTo>
                    <a:pt x="1046" y="562"/>
                  </a:lnTo>
                  <a:lnTo>
                    <a:pt x="521" y="1126"/>
                  </a:lnTo>
                  <a:close/>
                </a:path>
              </a:pathLst>
            </a:custGeom>
            <a:solidFill>
              <a:srgbClr val="cc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788320" y="1670040"/>
              <a:ext cx="160560" cy="216000"/>
            </a:xfrm>
            <a:custGeom>
              <a:avLst/>
              <a:gdLst/>
              <a:ahLst/>
              <a:rect l="l" t="t" r="r" b="b"/>
              <a:pathLst>
                <a:path w="509" h="1082">
                  <a:moveTo>
                    <a:pt x="509" y="1082"/>
                  </a:moveTo>
                  <a:lnTo>
                    <a:pt x="0" y="542"/>
                  </a:lnTo>
                  <a:lnTo>
                    <a:pt x="509" y="0"/>
                  </a:lnTo>
                  <a:lnTo>
                    <a:pt x="509" y="1082"/>
                  </a:lnTo>
                  <a:close/>
                </a:path>
              </a:pathLst>
            </a:custGeom>
            <a:solidFill>
              <a:srgbClr val="cc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848720" y="1643040"/>
              <a:ext cx="363240" cy="123840"/>
            </a:xfrm>
            <a:custGeom>
              <a:avLst/>
              <a:gdLst/>
              <a:ahLst/>
              <a:rect l="l" t="t" r="r" b="b"/>
              <a:pathLst>
                <a:path w="1147" h="620">
                  <a:moveTo>
                    <a:pt x="0" y="0"/>
                  </a:moveTo>
                  <a:lnTo>
                    <a:pt x="563" y="620"/>
                  </a:lnTo>
                  <a:lnTo>
                    <a:pt x="114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211960" y="1643040"/>
              <a:ext cx="370080" cy="123840"/>
            </a:xfrm>
            <a:custGeom>
              <a:avLst/>
              <a:gdLst/>
              <a:ahLst/>
              <a:rect l="l" t="t" r="r" b="b"/>
              <a:pathLst>
                <a:path w="1161" h="620">
                  <a:moveTo>
                    <a:pt x="0" y="0"/>
                  </a:moveTo>
                  <a:lnTo>
                    <a:pt x="579" y="620"/>
                  </a:lnTo>
                  <a:lnTo>
                    <a:pt x="11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582040" y="1643040"/>
              <a:ext cx="368280" cy="123840"/>
            </a:xfrm>
            <a:custGeom>
              <a:avLst/>
              <a:gdLst/>
              <a:ahLst/>
              <a:rect l="l" t="t" r="r" b="b"/>
              <a:pathLst>
                <a:path w="1163" h="620">
                  <a:moveTo>
                    <a:pt x="0" y="0"/>
                  </a:moveTo>
                  <a:lnTo>
                    <a:pt x="579" y="620"/>
                  </a:lnTo>
                  <a:lnTo>
                    <a:pt x="116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7848720" y="1192320"/>
            <a:ext cx="1101600" cy="428400"/>
          </a:xfrm>
          <a:custGeom>
            <a:avLst/>
            <a:gdLst/>
            <a:ahLst/>
            <a:rect l="l" t="t" r="r" b="b"/>
            <a:pathLst>
              <a:path w="3471" h="2162">
                <a:moveTo>
                  <a:pt x="0" y="2162"/>
                </a:moveTo>
                <a:lnTo>
                  <a:pt x="3471" y="2162"/>
                </a:lnTo>
                <a:lnTo>
                  <a:pt x="3471" y="1871"/>
                </a:lnTo>
                <a:lnTo>
                  <a:pt x="1908" y="1871"/>
                </a:lnTo>
                <a:lnTo>
                  <a:pt x="1908" y="0"/>
                </a:lnTo>
                <a:lnTo>
                  <a:pt x="1570" y="0"/>
                </a:lnTo>
                <a:lnTo>
                  <a:pt x="1570" y="1871"/>
                </a:lnTo>
                <a:lnTo>
                  <a:pt x="0" y="1871"/>
                </a:lnTo>
                <a:lnTo>
                  <a:pt x="0" y="216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850160" y="1422360"/>
            <a:ext cx="273240" cy="141480"/>
          </a:xfrm>
          <a:custGeom>
            <a:avLst/>
            <a:gdLst/>
            <a:ahLst/>
            <a:rect l="l" t="t" r="r" b="b"/>
            <a:pathLst>
              <a:path w="863" h="714">
                <a:moveTo>
                  <a:pt x="57" y="714"/>
                </a:moveTo>
                <a:lnTo>
                  <a:pt x="33" y="624"/>
                </a:lnTo>
                <a:lnTo>
                  <a:pt x="9" y="497"/>
                </a:lnTo>
                <a:lnTo>
                  <a:pt x="0" y="380"/>
                </a:lnTo>
                <a:lnTo>
                  <a:pt x="3" y="264"/>
                </a:lnTo>
                <a:lnTo>
                  <a:pt x="17" y="184"/>
                </a:lnTo>
                <a:lnTo>
                  <a:pt x="55" y="109"/>
                </a:lnTo>
                <a:lnTo>
                  <a:pt x="94" y="63"/>
                </a:lnTo>
                <a:lnTo>
                  <a:pt x="140" y="23"/>
                </a:lnTo>
                <a:lnTo>
                  <a:pt x="205" y="0"/>
                </a:lnTo>
                <a:lnTo>
                  <a:pt x="282" y="0"/>
                </a:lnTo>
                <a:lnTo>
                  <a:pt x="404" y="36"/>
                </a:lnTo>
                <a:lnTo>
                  <a:pt x="531" y="109"/>
                </a:lnTo>
                <a:lnTo>
                  <a:pt x="646" y="196"/>
                </a:lnTo>
                <a:lnTo>
                  <a:pt x="738" y="281"/>
                </a:lnTo>
                <a:lnTo>
                  <a:pt x="807" y="364"/>
                </a:lnTo>
                <a:lnTo>
                  <a:pt x="863" y="43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8077320" y="1430280"/>
            <a:ext cx="276120" cy="133560"/>
          </a:xfrm>
          <a:custGeom>
            <a:avLst/>
            <a:gdLst/>
            <a:ahLst/>
            <a:rect l="l" t="t" r="r" b="b"/>
            <a:pathLst>
              <a:path w="873" h="670">
                <a:moveTo>
                  <a:pt x="0" y="670"/>
                </a:moveTo>
                <a:lnTo>
                  <a:pt x="31" y="576"/>
                </a:lnTo>
                <a:lnTo>
                  <a:pt x="79" y="491"/>
                </a:lnTo>
                <a:lnTo>
                  <a:pt x="136" y="415"/>
                </a:lnTo>
                <a:lnTo>
                  <a:pt x="193" y="348"/>
                </a:lnTo>
                <a:lnTo>
                  <a:pt x="279" y="276"/>
                </a:lnTo>
                <a:lnTo>
                  <a:pt x="375" y="210"/>
                </a:lnTo>
                <a:lnTo>
                  <a:pt x="483" y="144"/>
                </a:lnTo>
                <a:lnTo>
                  <a:pt x="595" y="87"/>
                </a:lnTo>
                <a:lnTo>
                  <a:pt x="700" y="44"/>
                </a:lnTo>
                <a:lnTo>
                  <a:pt x="800" y="19"/>
                </a:lnTo>
                <a:lnTo>
                  <a:pt x="87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451720" y="1452600"/>
            <a:ext cx="12960" cy="76320"/>
          </a:xfrm>
          <a:custGeom>
            <a:avLst/>
            <a:gdLst/>
            <a:ahLst/>
            <a:rect l="l" t="t" r="r" b="b"/>
            <a:pathLst>
              <a:path w="43" h="377">
                <a:moveTo>
                  <a:pt x="9" y="0"/>
                </a:moveTo>
                <a:lnTo>
                  <a:pt x="29" y="38"/>
                </a:lnTo>
                <a:lnTo>
                  <a:pt x="39" y="75"/>
                </a:lnTo>
                <a:lnTo>
                  <a:pt x="43" y="118"/>
                </a:lnTo>
                <a:lnTo>
                  <a:pt x="43" y="183"/>
                </a:lnTo>
                <a:lnTo>
                  <a:pt x="36" y="245"/>
                </a:lnTo>
                <a:lnTo>
                  <a:pt x="22" y="309"/>
                </a:lnTo>
                <a:lnTo>
                  <a:pt x="0" y="37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001000" y="1281240"/>
            <a:ext cx="241200" cy="155520"/>
          </a:xfrm>
          <a:custGeom>
            <a:avLst/>
            <a:gdLst/>
            <a:ahLst/>
            <a:rect l="l" t="t" r="r" b="b"/>
            <a:pathLst>
              <a:path w="760" h="782">
                <a:moveTo>
                  <a:pt x="0" y="782"/>
                </a:moveTo>
                <a:lnTo>
                  <a:pt x="15" y="687"/>
                </a:lnTo>
                <a:lnTo>
                  <a:pt x="38" y="562"/>
                </a:lnTo>
                <a:lnTo>
                  <a:pt x="70" y="453"/>
                </a:lnTo>
                <a:lnTo>
                  <a:pt x="106" y="344"/>
                </a:lnTo>
                <a:lnTo>
                  <a:pt x="151" y="244"/>
                </a:lnTo>
                <a:lnTo>
                  <a:pt x="204" y="162"/>
                </a:lnTo>
                <a:lnTo>
                  <a:pt x="256" y="95"/>
                </a:lnTo>
                <a:lnTo>
                  <a:pt x="300" y="54"/>
                </a:lnTo>
                <a:lnTo>
                  <a:pt x="347" y="21"/>
                </a:lnTo>
                <a:lnTo>
                  <a:pt x="399" y="0"/>
                </a:lnTo>
                <a:lnTo>
                  <a:pt x="444" y="0"/>
                </a:lnTo>
                <a:lnTo>
                  <a:pt x="505" y="21"/>
                </a:lnTo>
                <a:lnTo>
                  <a:pt x="565" y="54"/>
                </a:lnTo>
                <a:lnTo>
                  <a:pt x="625" y="105"/>
                </a:lnTo>
                <a:lnTo>
                  <a:pt x="671" y="162"/>
                </a:lnTo>
                <a:lnTo>
                  <a:pt x="721" y="234"/>
                </a:lnTo>
                <a:lnTo>
                  <a:pt x="750" y="293"/>
                </a:lnTo>
                <a:lnTo>
                  <a:pt x="760" y="31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121600" y="1335240"/>
            <a:ext cx="231840" cy="141120"/>
          </a:xfrm>
          <a:custGeom>
            <a:avLst/>
            <a:gdLst/>
            <a:ahLst/>
            <a:rect l="l" t="t" r="r" b="b"/>
            <a:pathLst>
              <a:path w="733" h="706">
                <a:moveTo>
                  <a:pt x="197" y="706"/>
                </a:moveTo>
                <a:lnTo>
                  <a:pt x="134" y="649"/>
                </a:lnTo>
                <a:lnTo>
                  <a:pt x="88" y="600"/>
                </a:lnTo>
                <a:lnTo>
                  <a:pt x="44" y="544"/>
                </a:lnTo>
                <a:lnTo>
                  <a:pt x="19" y="490"/>
                </a:lnTo>
                <a:lnTo>
                  <a:pt x="5" y="435"/>
                </a:lnTo>
                <a:lnTo>
                  <a:pt x="0" y="401"/>
                </a:lnTo>
                <a:lnTo>
                  <a:pt x="0" y="351"/>
                </a:lnTo>
                <a:lnTo>
                  <a:pt x="15" y="290"/>
                </a:lnTo>
                <a:lnTo>
                  <a:pt x="50" y="227"/>
                </a:lnTo>
                <a:lnTo>
                  <a:pt x="110" y="168"/>
                </a:lnTo>
                <a:lnTo>
                  <a:pt x="182" y="122"/>
                </a:lnTo>
                <a:lnTo>
                  <a:pt x="281" y="77"/>
                </a:lnTo>
                <a:lnTo>
                  <a:pt x="382" y="45"/>
                </a:lnTo>
                <a:lnTo>
                  <a:pt x="468" y="26"/>
                </a:lnTo>
                <a:lnTo>
                  <a:pt x="581" y="3"/>
                </a:lnTo>
                <a:lnTo>
                  <a:pt x="667" y="0"/>
                </a:lnTo>
                <a:lnTo>
                  <a:pt x="73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8442360" y="1344600"/>
            <a:ext cx="131760" cy="177840"/>
          </a:xfrm>
          <a:custGeom>
            <a:avLst/>
            <a:gdLst/>
            <a:ahLst/>
            <a:rect l="l" t="t" r="r" b="b"/>
            <a:pathLst>
              <a:path w="413" h="900">
                <a:moveTo>
                  <a:pt x="38" y="0"/>
                </a:moveTo>
                <a:lnTo>
                  <a:pt x="101" y="25"/>
                </a:lnTo>
                <a:lnTo>
                  <a:pt x="178" y="64"/>
                </a:lnTo>
                <a:lnTo>
                  <a:pt x="246" y="118"/>
                </a:lnTo>
                <a:lnTo>
                  <a:pt x="306" y="180"/>
                </a:lnTo>
                <a:lnTo>
                  <a:pt x="340" y="231"/>
                </a:lnTo>
                <a:lnTo>
                  <a:pt x="370" y="282"/>
                </a:lnTo>
                <a:lnTo>
                  <a:pt x="389" y="337"/>
                </a:lnTo>
                <a:lnTo>
                  <a:pt x="404" y="395"/>
                </a:lnTo>
                <a:lnTo>
                  <a:pt x="413" y="445"/>
                </a:lnTo>
                <a:lnTo>
                  <a:pt x="413" y="491"/>
                </a:lnTo>
                <a:lnTo>
                  <a:pt x="404" y="566"/>
                </a:lnTo>
                <a:lnTo>
                  <a:pt x="385" y="623"/>
                </a:lnTo>
                <a:lnTo>
                  <a:pt x="344" y="698"/>
                </a:lnTo>
                <a:lnTo>
                  <a:pt x="301" y="754"/>
                </a:lnTo>
                <a:lnTo>
                  <a:pt x="246" y="808"/>
                </a:lnTo>
                <a:lnTo>
                  <a:pt x="178" y="843"/>
                </a:lnTo>
                <a:lnTo>
                  <a:pt x="120" y="872"/>
                </a:lnTo>
                <a:lnTo>
                  <a:pt x="51" y="894"/>
                </a:lnTo>
                <a:lnTo>
                  <a:pt x="0" y="90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8507520" y="1511280"/>
            <a:ext cx="91800" cy="49320"/>
          </a:xfrm>
          <a:custGeom>
            <a:avLst/>
            <a:gdLst/>
            <a:ahLst/>
            <a:rect l="l" t="t" r="r" b="b"/>
            <a:pathLst>
              <a:path w="290" h="249">
                <a:moveTo>
                  <a:pt x="0" y="0"/>
                </a:moveTo>
                <a:lnTo>
                  <a:pt x="76" y="39"/>
                </a:lnTo>
                <a:lnTo>
                  <a:pt x="157" y="95"/>
                </a:lnTo>
                <a:lnTo>
                  <a:pt x="226" y="160"/>
                </a:lnTo>
                <a:lnTo>
                  <a:pt x="270" y="214"/>
                </a:lnTo>
                <a:lnTo>
                  <a:pt x="290" y="2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97880" y="1386000"/>
            <a:ext cx="351000" cy="177840"/>
          </a:xfrm>
          <a:custGeom>
            <a:avLst/>
            <a:gdLst/>
            <a:ahLst/>
            <a:rect l="l" t="t" r="r" b="b"/>
            <a:pathLst>
              <a:path w="1104" h="896">
                <a:moveTo>
                  <a:pt x="0" y="868"/>
                </a:moveTo>
                <a:lnTo>
                  <a:pt x="20" y="770"/>
                </a:lnTo>
                <a:lnTo>
                  <a:pt x="66" y="636"/>
                </a:lnTo>
                <a:lnTo>
                  <a:pt x="140" y="512"/>
                </a:lnTo>
                <a:lnTo>
                  <a:pt x="210" y="420"/>
                </a:lnTo>
                <a:lnTo>
                  <a:pt x="301" y="322"/>
                </a:lnTo>
                <a:lnTo>
                  <a:pt x="397" y="232"/>
                </a:lnTo>
                <a:lnTo>
                  <a:pt x="479" y="169"/>
                </a:lnTo>
                <a:lnTo>
                  <a:pt x="551" y="111"/>
                </a:lnTo>
                <a:lnTo>
                  <a:pt x="652" y="63"/>
                </a:lnTo>
                <a:lnTo>
                  <a:pt x="728" y="26"/>
                </a:lnTo>
                <a:lnTo>
                  <a:pt x="804" y="5"/>
                </a:lnTo>
                <a:lnTo>
                  <a:pt x="873" y="0"/>
                </a:lnTo>
                <a:lnTo>
                  <a:pt x="958" y="9"/>
                </a:lnTo>
                <a:lnTo>
                  <a:pt x="1010" y="39"/>
                </a:lnTo>
                <a:lnTo>
                  <a:pt x="1050" y="85"/>
                </a:lnTo>
                <a:lnTo>
                  <a:pt x="1080" y="143"/>
                </a:lnTo>
                <a:lnTo>
                  <a:pt x="1094" y="216"/>
                </a:lnTo>
                <a:lnTo>
                  <a:pt x="1104" y="299"/>
                </a:lnTo>
                <a:lnTo>
                  <a:pt x="1104" y="375"/>
                </a:lnTo>
                <a:lnTo>
                  <a:pt x="1090" y="464"/>
                </a:lnTo>
                <a:lnTo>
                  <a:pt x="1075" y="564"/>
                </a:lnTo>
                <a:lnTo>
                  <a:pt x="1045" y="659"/>
                </a:lnTo>
                <a:lnTo>
                  <a:pt x="1002" y="764"/>
                </a:lnTo>
                <a:lnTo>
                  <a:pt x="964" y="839"/>
                </a:lnTo>
                <a:lnTo>
                  <a:pt x="934" y="89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8486640" y="1327320"/>
            <a:ext cx="87480" cy="25200"/>
          </a:xfrm>
          <a:custGeom>
            <a:avLst/>
            <a:gdLst/>
            <a:ahLst/>
            <a:rect l="l" t="t" r="r" b="b"/>
            <a:pathLst>
              <a:path w="271" h="127">
                <a:moveTo>
                  <a:pt x="0" y="127"/>
                </a:moveTo>
                <a:lnTo>
                  <a:pt x="53" y="81"/>
                </a:lnTo>
                <a:lnTo>
                  <a:pt x="123" y="33"/>
                </a:lnTo>
                <a:lnTo>
                  <a:pt x="187" y="6"/>
                </a:lnTo>
                <a:lnTo>
                  <a:pt x="240" y="0"/>
                </a:lnTo>
                <a:lnTo>
                  <a:pt x="271" y="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8570880" y="1266840"/>
            <a:ext cx="279360" cy="237960"/>
          </a:xfrm>
          <a:custGeom>
            <a:avLst/>
            <a:gdLst/>
            <a:ahLst/>
            <a:rect l="l" t="t" r="r" b="b"/>
            <a:pathLst>
              <a:path w="882" h="1205">
                <a:moveTo>
                  <a:pt x="161" y="1205"/>
                </a:moveTo>
                <a:lnTo>
                  <a:pt x="126" y="1129"/>
                </a:lnTo>
                <a:lnTo>
                  <a:pt x="81" y="1025"/>
                </a:lnTo>
                <a:lnTo>
                  <a:pt x="45" y="878"/>
                </a:lnTo>
                <a:lnTo>
                  <a:pt x="25" y="751"/>
                </a:lnTo>
                <a:lnTo>
                  <a:pt x="9" y="640"/>
                </a:lnTo>
                <a:lnTo>
                  <a:pt x="0" y="531"/>
                </a:lnTo>
                <a:lnTo>
                  <a:pt x="0" y="434"/>
                </a:lnTo>
                <a:lnTo>
                  <a:pt x="5" y="348"/>
                </a:lnTo>
                <a:lnTo>
                  <a:pt x="25" y="263"/>
                </a:lnTo>
                <a:lnTo>
                  <a:pt x="53" y="178"/>
                </a:lnTo>
                <a:lnTo>
                  <a:pt x="81" y="111"/>
                </a:lnTo>
                <a:lnTo>
                  <a:pt x="121" y="62"/>
                </a:lnTo>
                <a:lnTo>
                  <a:pt x="158" y="26"/>
                </a:lnTo>
                <a:lnTo>
                  <a:pt x="207" y="6"/>
                </a:lnTo>
                <a:lnTo>
                  <a:pt x="265" y="0"/>
                </a:lnTo>
                <a:lnTo>
                  <a:pt x="342" y="8"/>
                </a:lnTo>
                <a:lnTo>
                  <a:pt x="411" y="37"/>
                </a:lnTo>
                <a:lnTo>
                  <a:pt x="473" y="78"/>
                </a:lnTo>
                <a:lnTo>
                  <a:pt x="546" y="135"/>
                </a:lnTo>
                <a:lnTo>
                  <a:pt x="608" y="188"/>
                </a:lnTo>
                <a:lnTo>
                  <a:pt x="677" y="271"/>
                </a:lnTo>
                <a:lnTo>
                  <a:pt x="748" y="368"/>
                </a:lnTo>
                <a:lnTo>
                  <a:pt x="797" y="459"/>
                </a:lnTo>
                <a:lnTo>
                  <a:pt x="837" y="526"/>
                </a:lnTo>
                <a:lnTo>
                  <a:pt x="870" y="589"/>
                </a:lnTo>
                <a:lnTo>
                  <a:pt x="882" y="61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772400" y="6019920"/>
            <a:ext cx="888840" cy="687240"/>
          </a:xfrm>
          <a:custGeom>
            <a:avLst/>
            <a:gdLst/>
            <a:ahLst/>
            <a:rect l="l" t="t" r="r" b="b"/>
            <a:pathLst>
              <a:path w="5044" h="3894">
                <a:moveTo>
                  <a:pt x="2463" y="20"/>
                </a:moveTo>
                <a:lnTo>
                  <a:pt x="2258" y="0"/>
                </a:lnTo>
                <a:lnTo>
                  <a:pt x="2055" y="0"/>
                </a:lnTo>
                <a:lnTo>
                  <a:pt x="1852" y="20"/>
                </a:lnTo>
                <a:lnTo>
                  <a:pt x="1655" y="64"/>
                </a:lnTo>
                <a:lnTo>
                  <a:pt x="1471" y="131"/>
                </a:lnTo>
                <a:lnTo>
                  <a:pt x="1300" y="215"/>
                </a:lnTo>
                <a:lnTo>
                  <a:pt x="1147" y="317"/>
                </a:lnTo>
                <a:lnTo>
                  <a:pt x="1015" y="432"/>
                </a:lnTo>
                <a:lnTo>
                  <a:pt x="909" y="565"/>
                </a:lnTo>
                <a:lnTo>
                  <a:pt x="833" y="708"/>
                </a:lnTo>
                <a:lnTo>
                  <a:pt x="778" y="851"/>
                </a:lnTo>
                <a:lnTo>
                  <a:pt x="761" y="1003"/>
                </a:lnTo>
                <a:lnTo>
                  <a:pt x="726" y="1284"/>
                </a:lnTo>
                <a:lnTo>
                  <a:pt x="645" y="1480"/>
                </a:lnTo>
                <a:lnTo>
                  <a:pt x="574" y="1574"/>
                </a:lnTo>
                <a:lnTo>
                  <a:pt x="479" y="1645"/>
                </a:lnTo>
                <a:lnTo>
                  <a:pt x="378" y="1721"/>
                </a:lnTo>
                <a:lnTo>
                  <a:pt x="257" y="1812"/>
                </a:lnTo>
                <a:lnTo>
                  <a:pt x="161" y="1936"/>
                </a:lnTo>
                <a:lnTo>
                  <a:pt x="89" y="2039"/>
                </a:lnTo>
                <a:lnTo>
                  <a:pt x="19" y="2317"/>
                </a:lnTo>
                <a:lnTo>
                  <a:pt x="0" y="2480"/>
                </a:lnTo>
                <a:lnTo>
                  <a:pt x="19" y="2642"/>
                </a:lnTo>
                <a:lnTo>
                  <a:pt x="59" y="2806"/>
                </a:lnTo>
                <a:lnTo>
                  <a:pt x="131" y="2956"/>
                </a:lnTo>
                <a:lnTo>
                  <a:pt x="246" y="3107"/>
                </a:lnTo>
                <a:lnTo>
                  <a:pt x="375" y="3243"/>
                </a:lnTo>
                <a:lnTo>
                  <a:pt x="532" y="3358"/>
                </a:lnTo>
                <a:lnTo>
                  <a:pt x="713" y="3466"/>
                </a:lnTo>
                <a:lnTo>
                  <a:pt x="908" y="3549"/>
                </a:lnTo>
                <a:lnTo>
                  <a:pt x="1120" y="3617"/>
                </a:lnTo>
                <a:lnTo>
                  <a:pt x="1344" y="3664"/>
                </a:lnTo>
                <a:lnTo>
                  <a:pt x="1571" y="3684"/>
                </a:lnTo>
                <a:lnTo>
                  <a:pt x="1802" y="3684"/>
                </a:lnTo>
                <a:lnTo>
                  <a:pt x="2027" y="3664"/>
                </a:lnTo>
                <a:lnTo>
                  <a:pt x="2140" y="3645"/>
                </a:lnTo>
                <a:lnTo>
                  <a:pt x="2352" y="3733"/>
                </a:lnTo>
                <a:lnTo>
                  <a:pt x="2566" y="3805"/>
                </a:lnTo>
                <a:lnTo>
                  <a:pt x="2797" y="3855"/>
                </a:lnTo>
                <a:lnTo>
                  <a:pt x="3030" y="3881"/>
                </a:lnTo>
                <a:lnTo>
                  <a:pt x="3269" y="3894"/>
                </a:lnTo>
                <a:lnTo>
                  <a:pt x="3510" y="3876"/>
                </a:lnTo>
                <a:lnTo>
                  <a:pt x="3745" y="3843"/>
                </a:lnTo>
                <a:lnTo>
                  <a:pt x="3973" y="3776"/>
                </a:lnTo>
                <a:lnTo>
                  <a:pt x="4177" y="3701"/>
                </a:lnTo>
                <a:lnTo>
                  <a:pt x="4375" y="3604"/>
                </a:lnTo>
                <a:lnTo>
                  <a:pt x="4552" y="3485"/>
                </a:lnTo>
                <a:lnTo>
                  <a:pt x="4699" y="3350"/>
                </a:lnTo>
                <a:lnTo>
                  <a:pt x="4831" y="3207"/>
                </a:lnTo>
                <a:lnTo>
                  <a:pt x="4931" y="3053"/>
                </a:lnTo>
                <a:lnTo>
                  <a:pt x="4997" y="2889"/>
                </a:lnTo>
                <a:lnTo>
                  <a:pt x="5038" y="2719"/>
                </a:lnTo>
                <a:lnTo>
                  <a:pt x="5044" y="2549"/>
                </a:lnTo>
                <a:lnTo>
                  <a:pt x="5020" y="2380"/>
                </a:lnTo>
                <a:lnTo>
                  <a:pt x="4965" y="2215"/>
                </a:lnTo>
                <a:lnTo>
                  <a:pt x="4913" y="2143"/>
                </a:lnTo>
                <a:lnTo>
                  <a:pt x="4936" y="1962"/>
                </a:lnTo>
                <a:lnTo>
                  <a:pt x="4939" y="1757"/>
                </a:lnTo>
                <a:lnTo>
                  <a:pt x="4896" y="1559"/>
                </a:lnTo>
                <a:lnTo>
                  <a:pt x="4828" y="1372"/>
                </a:lnTo>
                <a:lnTo>
                  <a:pt x="4726" y="1184"/>
                </a:lnTo>
                <a:lnTo>
                  <a:pt x="4600" y="1008"/>
                </a:lnTo>
                <a:lnTo>
                  <a:pt x="4445" y="845"/>
                </a:lnTo>
                <a:lnTo>
                  <a:pt x="4259" y="694"/>
                </a:lnTo>
                <a:lnTo>
                  <a:pt x="4056" y="560"/>
                </a:lnTo>
                <a:lnTo>
                  <a:pt x="3834" y="438"/>
                </a:lnTo>
                <a:lnTo>
                  <a:pt x="3589" y="340"/>
                </a:lnTo>
                <a:lnTo>
                  <a:pt x="3228" y="196"/>
                </a:lnTo>
                <a:lnTo>
                  <a:pt x="3044" y="135"/>
                </a:lnTo>
                <a:lnTo>
                  <a:pt x="2765" y="74"/>
                </a:lnTo>
                <a:lnTo>
                  <a:pt x="2463" y="2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8140680" y="6243480"/>
            <a:ext cx="312840" cy="314640"/>
          </a:xfrm>
          <a:custGeom>
            <a:avLst/>
            <a:gdLst/>
            <a:ahLst/>
            <a:rect l="l" t="t" r="r" b="b"/>
            <a:pathLst>
              <a:path w="1776" h="1780">
                <a:moveTo>
                  <a:pt x="1776" y="888"/>
                </a:moveTo>
                <a:lnTo>
                  <a:pt x="1768" y="783"/>
                </a:lnTo>
                <a:lnTo>
                  <a:pt x="1749" y="680"/>
                </a:lnTo>
                <a:lnTo>
                  <a:pt x="1722" y="581"/>
                </a:lnTo>
                <a:lnTo>
                  <a:pt x="1680" y="484"/>
                </a:lnTo>
                <a:lnTo>
                  <a:pt x="1626" y="396"/>
                </a:lnTo>
                <a:lnTo>
                  <a:pt x="1567" y="311"/>
                </a:lnTo>
                <a:lnTo>
                  <a:pt x="1496" y="233"/>
                </a:lnTo>
                <a:lnTo>
                  <a:pt x="1413" y="171"/>
                </a:lnTo>
                <a:lnTo>
                  <a:pt x="1329" y="111"/>
                </a:lnTo>
                <a:lnTo>
                  <a:pt x="1232" y="71"/>
                </a:lnTo>
                <a:lnTo>
                  <a:pt x="1139" y="33"/>
                </a:lnTo>
                <a:lnTo>
                  <a:pt x="1038" y="8"/>
                </a:lnTo>
                <a:lnTo>
                  <a:pt x="933" y="0"/>
                </a:lnTo>
                <a:lnTo>
                  <a:pt x="832" y="0"/>
                </a:lnTo>
                <a:lnTo>
                  <a:pt x="727" y="11"/>
                </a:lnTo>
                <a:lnTo>
                  <a:pt x="625" y="36"/>
                </a:lnTo>
                <a:lnTo>
                  <a:pt x="527" y="71"/>
                </a:lnTo>
                <a:lnTo>
                  <a:pt x="439" y="117"/>
                </a:lnTo>
                <a:lnTo>
                  <a:pt x="351" y="178"/>
                </a:lnTo>
                <a:lnTo>
                  <a:pt x="272" y="246"/>
                </a:lnTo>
                <a:lnTo>
                  <a:pt x="203" y="322"/>
                </a:lnTo>
                <a:lnTo>
                  <a:pt x="143" y="406"/>
                </a:lnTo>
                <a:lnTo>
                  <a:pt x="88" y="496"/>
                </a:lnTo>
                <a:lnTo>
                  <a:pt x="50" y="594"/>
                </a:lnTo>
                <a:lnTo>
                  <a:pt x="22" y="692"/>
                </a:lnTo>
                <a:lnTo>
                  <a:pt x="5" y="796"/>
                </a:lnTo>
                <a:lnTo>
                  <a:pt x="0" y="901"/>
                </a:lnTo>
                <a:lnTo>
                  <a:pt x="8" y="1003"/>
                </a:lnTo>
                <a:lnTo>
                  <a:pt x="28" y="1104"/>
                </a:lnTo>
                <a:lnTo>
                  <a:pt x="61" y="1204"/>
                </a:lnTo>
                <a:lnTo>
                  <a:pt x="101" y="1297"/>
                </a:lnTo>
                <a:lnTo>
                  <a:pt x="156" y="1389"/>
                </a:lnTo>
                <a:lnTo>
                  <a:pt x="218" y="1473"/>
                </a:lnTo>
                <a:lnTo>
                  <a:pt x="289" y="1545"/>
                </a:lnTo>
                <a:lnTo>
                  <a:pt x="373" y="1613"/>
                </a:lnTo>
                <a:lnTo>
                  <a:pt x="458" y="1666"/>
                </a:lnTo>
                <a:lnTo>
                  <a:pt x="552" y="1710"/>
                </a:lnTo>
                <a:lnTo>
                  <a:pt x="649" y="1744"/>
                </a:lnTo>
                <a:lnTo>
                  <a:pt x="752" y="1769"/>
                </a:lnTo>
                <a:lnTo>
                  <a:pt x="854" y="1780"/>
                </a:lnTo>
                <a:lnTo>
                  <a:pt x="959" y="1774"/>
                </a:lnTo>
                <a:lnTo>
                  <a:pt x="1063" y="1761"/>
                </a:lnTo>
                <a:lnTo>
                  <a:pt x="1159" y="1736"/>
                </a:lnTo>
                <a:lnTo>
                  <a:pt x="1259" y="1694"/>
                </a:lnTo>
                <a:lnTo>
                  <a:pt x="1350" y="1650"/>
                </a:lnTo>
                <a:lnTo>
                  <a:pt x="1436" y="1589"/>
                </a:lnTo>
                <a:lnTo>
                  <a:pt x="1515" y="1521"/>
                </a:lnTo>
                <a:lnTo>
                  <a:pt x="1581" y="1440"/>
                </a:lnTo>
                <a:lnTo>
                  <a:pt x="1639" y="1357"/>
                </a:lnTo>
                <a:lnTo>
                  <a:pt x="1688" y="1268"/>
                </a:lnTo>
                <a:lnTo>
                  <a:pt x="1730" y="1173"/>
                </a:lnTo>
                <a:lnTo>
                  <a:pt x="1757" y="1071"/>
                </a:lnTo>
                <a:lnTo>
                  <a:pt x="1773" y="967"/>
                </a:lnTo>
                <a:lnTo>
                  <a:pt x="1776" y="888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8199360" y="6300720"/>
            <a:ext cx="254160" cy="257400"/>
          </a:xfrm>
          <a:custGeom>
            <a:avLst/>
            <a:gdLst/>
            <a:ahLst/>
            <a:rect l="l" t="t" r="r" b="b"/>
            <a:pathLst>
              <a:path w="1436" h="1458">
                <a:moveTo>
                  <a:pt x="1254" y="39"/>
                </a:moveTo>
                <a:lnTo>
                  <a:pt x="1296" y="138"/>
                </a:lnTo>
                <a:lnTo>
                  <a:pt x="1327" y="241"/>
                </a:lnTo>
                <a:lnTo>
                  <a:pt x="1346" y="341"/>
                </a:lnTo>
                <a:lnTo>
                  <a:pt x="1353" y="449"/>
                </a:lnTo>
                <a:lnTo>
                  <a:pt x="1346" y="551"/>
                </a:lnTo>
                <a:lnTo>
                  <a:pt x="1330" y="658"/>
                </a:lnTo>
                <a:lnTo>
                  <a:pt x="1299" y="760"/>
                </a:lnTo>
                <a:lnTo>
                  <a:pt x="1262" y="856"/>
                </a:lnTo>
                <a:lnTo>
                  <a:pt x="1208" y="949"/>
                </a:lnTo>
                <a:lnTo>
                  <a:pt x="1147" y="1035"/>
                </a:lnTo>
                <a:lnTo>
                  <a:pt x="1076" y="1113"/>
                </a:lnTo>
                <a:lnTo>
                  <a:pt x="997" y="1185"/>
                </a:lnTo>
                <a:lnTo>
                  <a:pt x="910" y="1245"/>
                </a:lnTo>
                <a:lnTo>
                  <a:pt x="816" y="1291"/>
                </a:lnTo>
                <a:lnTo>
                  <a:pt x="719" y="1331"/>
                </a:lnTo>
                <a:lnTo>
                  <a:pt x="616" y="1357"/>
                </a:lnTo>
                <a:lnTo>
                  <a:pt x="511" y="1370"/>
                </a:lnTo>
                <a:lnTo>
                  <a:pt x="403" y="1372"/>
                </a:lnTo>
                <a:lnTo>
                  <a:pt x="303" y="1361"/>
                </a:lnTo>
                <a:lnTo>
                  <a:pt x="202" y="1344"/>
                </a:lnTo>
                <a:lnTo>
                  <a:pt x="99" y="1312"/>
                </a:lnTo>
                <a:lnTo>
                  <a:pt x="0" y="1267"/>
                </a:lnTo>
                <a:lnTo>
                  <a:pt x="86" y="1328"/>
                </a:lnTo>
                <a:lnTo>
                  <a:pt x="179" y="1372"/>
                </a:lnTo>
                <a:lnTo>
                  <a:pt x="274" y="1414"/>
                </a:lnTo>
                <a:lnTo>
                  <a:pt x="375" y="1439"/>
                </a:lnTo>
                <a:lnTo>
                  <a:pt x="478" y="1452"/>
                </a:lnTo>
                <a:lnTo>
                  <a:pt x="579" y="1458"/>
                </a:lnTo>
                <a:lnTo>
                  <a:pt x="684" y="1447"/>
                </a:lnTo>
                <a:lnTo>
                  <a:pt x="789" y="1422"/>
                </a:lnTo>
                <a:lnTo>
                  <a:pt x="884" y="1388"/>
                </a:lnTo>
                <a:lnTo>
                  <a:pt x="978" y="1344"/>
                </a:lnTo>
                <a:lnTo>
                  <a:pt x="1063" y="1291"/>
                </a:lnTo>
                <a:lnTo>
                  <a:pt x="1147" y="1223"/>
                </a:lnTo>
                <a:lnTo>
                  <a:pt x="1216" y="1151"/>
                </a:lnTo>
                <a:lnTo>
                  <a:pt x="1281" y="1067"/>
                </a:lnTo>
                <a:lnTo>
                  <a:pt x="1336" y="975"/>
                </a:lnTo>
                <a:lnTo>
                  <a:pt x="1375" y="882"/>
                </a:lnTo>
                <a:lnTo>
                  <a:pt x="1409" y="782"/>
                </a:lnTo>
                <a:lnTo>
                  <a:pt x="1428" y="681"/>
                </a:lnTo>
                <a:lnTo>
                  <a:pt x="1436" y="579"/>
                </a:lnTo>
                <a:lnTo>
                  <a:pt x="1428" y="474"/>
                </a:lnTo>
                <a:lnTo>
                  <a:pt x="1415" y="370"/>
                </a:lnTo>
                <a:lnTo>
                  <a:pt x="1387" y="272"/>
                </a:lnTo>
                <a:lnTo>
                  <a:pt x="1346" y="174"/>
                </a:lnTo>
                <a:lnTo>
                  <a:pt x="1294" y="84"/>
                </a:lnTo>
                <a:lnTo>
                  <a:pt x="1235" y="0"/>
                </a:lnTo>
                <a:lnTo>
                  <a:pt x="1254" y="3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8167680" y="6270480"/>
            <a:ext cx="128520" cy="130320"/>
          </a:xfrm>
          <a:custGeom>
            <a:avLst/>
            <a:gdLst/>
            <a:ahLst/>
            <a:rect l="l" t="t" r="r" b="b"/>
            <a:pathLst>
              <a:path w="734" h="736">
                <a:moveTo>
                  <a:pt x="734" y="280"/>
                </a:moveTo>
                <a:lnTo>
                  <a:pt x="706" y="285"/>
                </a:lnTo>
                <a:lnTo>
                  <a:pt x="633" y="293"/>
                </a:lnTo>
                <a:lnTo>
                  <a:pt x="562" y="319"/>
                </a:lnTo>
                <a:lnTo>
                  <a:pt x="496" y="352"/>
                </a:lnTo>
                <a:lnTo>
                  <a:pt x="434" y="396"/>
                </a:lnTo>
                <a:lnTo>
                  <a:pt x="389" y="448"/>
                </a:lnTo>
                <a:lnTo>
                  <a:pt x="341" y="511"/>
                </a:lnTo>
                <a:lnTo>
                  <a:pt x="314" y="578"/>
                </a:lnTo>
                <a:lnTo>
                  <a:pt x="292" y="647"/>
                </a:lnTo>
                <a:lnTo>
                  <a:pt x="281" y="721"/>
                </a:lnTo>
                <a:lnTo>
                  <a:pt x="278" y="736"/>
                </a:lnTo>
                <a:lnTo>
                  <a:pt x="0" y="736"/>
                </a:lnTo>
                <a:lnTo>
                  <a:pt x="8" y="614"/>
                </a:lnTo>
                <a:lnTo>
                  <a:pt x="37" y="503"/>
                </a:lnTo>
                <a:lnTo>
                  <a:pt x="67" y="415"/>
                </a:lnTo>
                <a:lnTo>
                  <a:pt x="114" y="332"/>
                </a:lnTo>
                <a:lnTo>
                  <a:pt x="171" y="254"/>
                </a:lnTo>
                <a:lnTo>
                  <a:pt x="240" y="186"/>
                </a:lnTo>
                <a:lnTo>
                  <a:pt x="314" y="126"/>
                </a:lnTo>
                <a:lnTo>
                  <a:pt x="393" y="78"/>
                </a:lnTo>
                <a:lnTo>
                  <a:pt x="480" y="41"/>
                </a:lnTo>
                <a:lnTo>
                  <a:pt x="572" y="13"/>
                </a:lnTo>
                <a:lnTo>
                  <a:pt x="665" y="0"/>
                </a:lnTo>
                <a:lnTo>
                  <a:pt x="734" y="0"/>
                </a:lnTo>
                <a:lnTo>
                  <a:pt x="734" y="28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8140680" y="6245280"/>
            <a:ext cx="314280" cy="312840"/>
          </a:xfrm>
          <a:custGeom>
            <a:avLst/>
            <a:gdLst/>
            <a:ahLst/>
            <a:rect l="l" t="t" r="r" b="b"/>
            <a:pathLst>
              <a:path w="1778" h="1779">
                <a:moveTo>
                  <a:pt x="1778" y="887"/>
                </a:moveTo>
                <a:lnTo>
                  <a:pt x="1771" y="783"/>
                </a:lnTo>
                <a:lnTo>
                  <a:pt x="1752" y="680"/>
                </a:lnTo>
                <a:lnTo>
                  <a:pt x="1722" y="580"/>
                </a:lnTo>
                <a:lnTo>
                  <a:pt x="1681" y="486"/>
                </a:lnTo>
                <a:lnTo>
                  <a:pt x="1629" y="396"/>
                </a:lnTo>
                <a:lnTo>
                  <a:pt x="1570" y="311"/>
                </a:lnTo>
                <a:lnTo>
                  <a:pt x="1497" y="236"/>
                </a:lnTo>
                <a:lnTo>
                  <a:pt x="1418" y="169"/>
                </a:lnTo>
                <a:lnTo>
                  <a:pt x="1329" y="112"/>
                </a:lnTo>
                <a:lnTo>
                  <a:pt x="1235" y="68"/>
                </a:lnTo>
                <a:lnTo>
                  <a:pt x="1138" y="33"/>
                </a:lnTo>
                <a:lnTo>
                  <a:pt x="1041" y="8"/>
                </a:lnTo>
                <a:lnTo>
                  <a:pt x="937" y="0"/>
                </a:lnTo>
                <a:lnTo>
                  <a:pt x="833" y="0"/>
                </a:lnTo>
                <a:lnTo>
                  <a:pt x="727" y="14"/>
                </a:lnTo>
                <a:lnTo>
                  <a:pt x="628" y="36"/>
                </a:lnTo>
                <a:lnTo>
                  <a:pt x="531" y="73"/>
                </a:lnTo>
                <a:lnTo>
                  <a:pt x="440" y="121"/>
                </a:lnTo>
                <a:lnTo>
                  <a:pt x="355" y="181"/>
                </a:lnTo>
                <a:lnTo>
                  <a:pt x="273" y="246"/>
                </a:lnTo>
                <a:lnTo>
                  <a:pt x="204" y="322"/>
                </a:lnTo>
                <a:lnTo>
                  <a:pt x="144" y="407"/>
                </a:lnTo>
                <a:lnTo>
                  <a:pt x="91" y="496"/>
                </a:lnTo>
                <a:lnTo>
                  <a:pt x="50" y="594"/>
                </a:lnTo>
                <a:lnTo>
                  <a:pt x="25" y="691"/>
                </a:lnTo>
                <a:lnTo>
                  <a:pt x="9" y="796"/>
                </a:lnTo>
                <a:lnTo>
                  <a:pt x="0" y="901"/>
                </a:lnTo>
                <a:lnTo>
                  <a:pt x="13" y="1005"/>
                </a:lnTo>
                <a:lnTo>
                  <a:pt x="28" y="1104"/>
                </a:lnTo>
                <a:lnTo>
                  <a:pt x="61" y="1204"/>
                </a:lnTo>
                <a:lnTo>
                  <a:pt x="104" y="1297"/>
                </a:lnTo>
                <a:lnTo>
                  <a:pt x="156" y="1389"/>
                </a:lnTo>
                <a:lnTo>
                  <a:pt x="221" y="1470"/>
                </a:lnTo>
                <a:lnTo>
                  <a:pt x="290" y="1545"/>
                </a:lnTo>
                <a:lnTo>
                  <a:pt x="373" y="1613"/>
                </a:lnTo>
                <a:lnTo>
                  <a:pt x="462" y="1667"/>
                </a:lnTo>
                <a:lnTo>
                  <a:pt x="555" y="1713"/>
                </a:lnTo>
                <a:lnTo>
                  <a:pt x="651" y="1746"/>
                </a:lnTo>
                <a:lnTo>
                  <a:pt x="753" y="1768"/>
                </a:lnTo>
                <a:lnTo>
                  <a:pt x="854" y="1779"/>
                </a:lnTo>
                <a:lnTo>
                  <a:pt x="962" y="1777"/>
                </a:lnTo>
                <a:lnTo>
                  <a:pt x="1063" y="1764"/>
                </a:lnTo>
                <a:lnTo>
                  <a:pt x="1162" y="1735"/>
                </a:lnTo>
                <a:lnTo>
                  <a:pt x="1258" y="1694"/>
                </a:lnTo>
                <a:lnTo>
                  <a:pt x="1350" y="1650"/>
                </a:lnTo>
                <a:lnTo>
                  <a:pt x="1436" y="1590"/>
                </a:lnTo>
                <a:lnTo>
                  <a:pt x="1516" y="1524"/>
                </a:lnTo>
                <a:lnTo>
                  <a:pt x="1583" y="1443"/>
                </a:lnTo>
                <a:lnTo>
                  <a:pt x="1642" y="1357"/>
                </a:lnTo>
                <a:lnTo>
                  <a:pt x="1691" y="1268"/>
                </a:lnTo>
                <a:lnTo>
                  <a:pt x="1730" y="1173"/>
                </a:lnTo>
                <a:lnTo>
                  <a:pt x="1758" y="1070"/>
                </a:lnTo>
                <a:lnTo>
                  <a:pt x="1778" y="967"/>
                </a:lnTo>
                <a:lnTo>
                  <a:pt x="1778" y="887"/>
                </a:lnTo>
                <a:close/>
              </a:path>
            </a:pathLst>
          </a:custGeom>
          <a:solidFill>
            <a:srgbClr val="cc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84760" y="5626080"/>
            <a:ext cx="47268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Klasa może mieć nie jedną lecz wiele ekstensj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85400" y="3149640"/>
            <a:ext cx="7021080" cy="9118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iektóre metody zawarte w  ramach klasy odnoszą się do jej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ystąpie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76720" y="3589200"/>
            <a:ext cx="1776960" cy="363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oPracownik.</a:t>
            </a:r>
            <a:r>
              <a:rPr b="0" lang="pl-PL" sz="1800" spc="-1" strike="noStrike">
                <a:solidFill>
                  <a:srgbClr val="474747"/>
                </a:solidFill>
                <a:latin typeface="Times New Roman"/>
              </a:rPr>
              <a:t>wi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463840" y="3589200"/>
            <a:ext cx="2019240" cy="363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oPracownik.</a:t>
            </a:r>
            <a:r>
              <a:rPr b="0" lang="pl-PL" sz="1800" spc="-1" strike="noStrike">
                <a:solidFill>
                  <a:srgbClr val="474747"/>
                </a:solidFill>
                <a:latin typeface="Times New Roman"/>
              </a:rPr>
              <a:t>zwolni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660200" y="3589200"/>
            <a:ext cx="2185560" cy="363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oKonto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pl-PL" sz="1800" spc="-1" strike="noStrike">
                <a:solidFill>
                  <a:srgbClr val="474747"/>
                </a:solidFill>
                <a:latin typeface="Times New Roman"/>
              </a:rPr>
              <a:t>obliczProc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73520" y="4343400"/>
            <a:ext cx="6952320" cy="9118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iektóre metody zawarte w ramach klasy odnoszą się do jej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ekstensji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: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90160" y="4762440"/>
            <a:ext cx="195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KlPracownik.</a:t>
            </a:r>
            <a:r>
              <a:rPr b="0" lang="pl-PL" sz="1800" spc="-1" strike="noStrike">
                <a:solidFill>
                  <a:srgbClr val="474747"/>
                </a:solidFill>
                <a:latin typeface="Times New Roman"/>
              </a:rPr>
              <a:t>n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422080" y="4762440"/>
            <a:ext cx="1880280" cy="3682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KlPracownik.</a:t>
            </a:r>
            <a:r>
              <a:rPr b="0" lang="pl-PL" sz="1800" spc="-1" strike="noStrike">
                <a:solidFill>
                  <a:srgbClr val="474747"/>
                </a:solidFill>
                <a:latin typeface="Times New Roman"/>
              </a:rPr>
              <a:t>zlic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479840" y="4762440"/>
            <a:ext cx="21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KlKonto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pl-PL" sz="1800" spc="-1" strike="noStrike">
                <a:solidFill>
                  <a:srgbClr val="474747"/>
                </a:solidFill>
                <a:latin typeface="Times New Roman"/>
              </a:rPr>
              <a:t>obliczSu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0" y="0"/>
            <a:ext cx="910584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kstensja klasy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95000" y="1066680"/>
            <a:ext cx="392508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stnieje kilka definicji ekstensji  klas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08880" y="1650960"/>
            <a:ext cx="8824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      jest to zbiór jedynie bezpośrednich wystąpień danej klas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I    jest to zbiór wszystkich wystąpień danej klasy (bezpośrednich i pośrednich), a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bcięty  do atrybutów  wyspecyfikowanych w tej  klasi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II   jest to, jak poprzednio, zbiór wszystkich wystąpień danej klasy, ale bez obcin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trybutów, które zostały wyspecyfikowane w podklasach tej klas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527480" y="3303000"/>
            <a:ext cx="111348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K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{abstract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53880" y="4876200"/>
            <a:ext cx="47340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K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847520" y="4876200"/>
            <a:ext cx="47340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K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492360" y="4876200"/>
            <a:ext cx="47340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K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947960" y="3957480"/>
            <a:ext cx="261720" cy="22068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9" name=""/>
          <p:cNvCxnSpPr>
            <a:stCxn id="678" idx="3"/>
            <a:endCxn id="676" idx="0"/>
          </p:cNvCxnSpPr>
          <p:nvPr/>
        </p:nvCxnSpPr>
        <p:spPr>
          <a:xfrm>
            <a:off x="2079360" y="4177800"/>
            <a:ext cx="5400" cy="6930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680" name=""/>
          <p:cNvSpPr/>
          <p:nvPr/>
        </p:nvSpPr>
        <p:spPr>
          <a:xfrm>
            <a:off x="590400" y="4657680"/>
            <a:ext cx="306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1" name=""/>
          <p:cNvCxnSpPr>
            <a:stCxn id="680" idx="0"/>
            <a:endCxn id="675" idx="0"/>
          </p:cNvCxnSpPr>
          <p:nvPr/>
        </p:nvCxnSpPr>
        <p:spPr>
          <a:xfrm>
            <a:off x="590040" y="4657320"/>
            <a:ext cx="1080" cy="2134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682" name=""/>
          <p:cNvSpPr/>
          <p:nvPr/>
        </p:nvSpPr>
        <p:spPr>
          <a:xfrm>
            <a:off x="363600" y="5924520"/>
            <a:ext cx="388800" cy="405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920960" y="5924520"/>
            <a:ext cx="388800" cy="405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541680" y="5857920"/>
            <a:ext cx="390600" cy="404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557280" y="5519880"/>
            <a:ext cx="0" cy="404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2114640" y="5519880"/>
            <a:ext cx="0" cy="404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flipV="1">
            <a:off x="3672000" y="5519520"/>
            <a:ext cx="64800" cy="338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643200" y="4683240"/>
            <a:ext cx="0" cy="20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4215240" y="3606840"/>
            <a:ext cx="4745520" cy="2287440"/>
            <a:chOff x="4215240" y="3606840"/>
            <a:chExt cx="4745520" cy="2287440"/>
          </a:xfrm>
        </p:grpSpPr>
        <p:sp>
          <p:nvSpPr>
            <p:cNvPr id="690" name=""/>
            <p:cNvSpPr/>
            <p:nvPr/>
          </p:nvSpPr>
          <p:spPr>
            <a:xfrm>
              <a:off x="4227840" y="3606840"/>
              <a:ext cx="4720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I     E</a:t>
              </a:r>
              <a:r>
                <a:rPr b="0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K1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= {}, E</a:t>
              </a:r>
              <a:r>
                <a:rPr b="0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K2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= {O2}, E</a:t>
              </a:r>
              <a:r>
                <a:rPr b="0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K3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= {O3}, E</a:t>
              </a:r>
              <a:r>
                <a:rPr b="0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K4 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= {O4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215240" y="4165920"/>
              <a:ext cx="472680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II    E</a:t>
              </a:r>
              <a:r>
                <a:rPr b="0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K1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= {O2, O3, O4}, E</a:t>
              </a:r>
              <a:r>
                <a:rPr b="0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K2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= {O2}, E</a:t>
              </a:r>
              <a:r>
                <a:rPr b="0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K3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= {O3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K4 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= {O4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215600" y="4902480"/>
              <a:ext cx="474516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III   E</a:t>
              </a:r>
              <a:r>
                <a:rPr b="0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K1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= {O2, O3, O4}, E</a:t>
              </a:r>
              <a:r>
                <a:rPr b="0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K2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= {O2}, E</a:t>
              </a:r>
              <a:r>
                <a:rPr b="0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K3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= {O3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K4 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= {O4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233280" y="189756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0" y="0"/>
            <a:ext cx="910584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kstensja klasy; przykł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55600" y="1168560"/>
            <a:ext cx="3098880" cy="3263760"/>
          </a:xfrm>
          <a:custGeom>
            <a:avLst/>
            <a:gdLst/>
            <a:ahLst/>
            <a:rect l="l" t="t" r="r" b="b"/>
            <a:pathLst>
              <a:path w="1952" h="2056">
                <a:moveTo>
                  <a:pt x="770" y="50"/>
                </a:moveTo>
                <a:lnTo>
                  <a:pt x="691" y="50"/>
                </a:lnTo>
                <a:lnTo>
                  <a:pt x="633" y="50"/>
                </a:lnTo>
                <a:lnTo>
                  <a:pt x="576" y="50"/>
                </a:lnTo>
                <a:lnTo>
                  <a:pt x="554" y="50"/>
                </a:lnTo>
                <a:lnTo>
                  <a:pt x="525" y="50"/>
                </a:lnTo>
                <a:lnTo>
                  <a:pt x="489" y="66"/>
                </a:lnTo>
                <a:lnTo>
                  <a:pt x="460" y="82"/>
                </a:lnTo>
                <a:lnTo>
                  <a:pt x="432" y="100"/>
                </a:lnTo>
                <a:lnTo>
                  <a:pt x="410" y="100"/>
                </a:lnTo>
                <a:lnTo>
                  <a:pt x="388" y="116"/>
                </a:lnTo>
                <a:lnTo>
                  <a:pt x="352" y="116"/>
                </a:lnTo>
                <a:lnTo>
                  <a:pt x="324" y="133"/>
                </a:lnTo>
                <a:lnTo>
                  <a:pt x="302" y="141"/>
                </a:lnTo>
                <a:lnTo>
                  <a:pt x="280" y="149"/>
                </a:lnTo>
                <a:lnTo>
                  <a:pt x="252" y="165"/>
                </a:lnTo>
                <a:lnTo>
                  <a:pt x="230" y="165"/>
                </a:lnTo>
                <a:lnTo>
                  <a:pt x="201" y="182"/>
                </a:lnTo>
                <a:lnTo>
                  <a:pt x="172" y="190"/>
                </a:lnTo>
                <a:lnTo>
                  <a:pt x="144" y="198"/>
                </a:lnTo>
                <a:lnTo>
                  <a:pt x="115" y="206"/>
                </a:lnTo>
                <a:lnTo>
                  <a:pt x="93" y="231"/>
                </a:lnTo>
                <a:lnTo>
                  <a:pt x="64" y="265"/>
                </a:lnTo>
                <a:lnTo>
                  <a:pt x="43" y="298"/>
                </a:lnTo>
                <a:lnTo>
                  <a:pt x="28" y="330"/>
                </a:lnTo>
                <a:lnTo>
                  <a:pt x="14" y="363"/>
                </a:lnTo>
                <a:lnTo>
                  <a:pt x="7" y="396"/>
                </a:lnTo>
                <a:lnTo>
                  <a:pt x="7" y="430"/>
                </a:lnTo>
                <a:lnTo>
                  <a:pt x="0" y="463"/>
                </a:lnTo>
                <a:lnTo>
                  <a:pt x="0" y="495"/>
                </a:lnTo>
                <a:lnTo>
                  <a:pt x="0" y="528"/>
                </a:lnTo>
                <a:lnTo>
                  <a:pt x="0" y="561"/>
                </a:lnTo>
                <a:lnTo>
                  <a:pt x="7" y="595"/>
                </a:lnTo>
                <a:lnTo>
                  <a:pt x="14" y="628"/>
                </a:lnTo>
                <a:lnTo>
                  <a:pt x="14" y="660"/>
                </a:lnTo>
                <a:lnTo>
                  <a:pt x="28" y="693"/>
                </a:lnTo>
                <a:lnTo>
                  <a:pt x="36" y="726"/>
                </a:lnTo>
                <a:lnTo>
                  <a:pt x="43" y="751"/>
                </a:lnTo>
                <a:lnTo>
                  <a:pt x="43" y="793"/>
                </a:lnTo>
                <a:lnTo>
                  <a:pt x="50" y="858"/>
                </a:lnTo>
                <a:lnTo>
                  <a:pt x="57" y="907"/>
                </a:lnTo>
                <a:lnTo>
                  <a:pt x="57" y="966"/>
                </a:lnTo>
                <a:lnTo>
                  <a:pt x="64" y="999"/>
                </a:lnTo>
                <a:lnTo>
                  <a:pt x="64" y="1032"/>
                </a:lnTo>
                <a:lnTo>
                  <a:pt x="64" y="1073"/>
                </a:lnTo>
                <a:lnTo>
                  <a:pt x="64" y="1107"/>
                </a:lnTo>
                <a:lnTo>
                  <a:pt x="72" y="1139"/>
                </a:lnTo>
                <a:lnTo>
                  <a:pt x="72" y="1189"/>
                </a:lnTo>
                <a:lnTo>
                  <a:pt x="79" y="1221"/>
                </a:lnTo>
                <a:lnTo>
                  <a:pt x="86" y="1254"/>
                </a:lnTo>
                <a:lnTo>
                  <a:pt x="86" y="1304"/>
                </a:lnTo>
                <a:lnTo>
                  <a:pt x="100" y="1370"/>
                </a:lnTo>
                <a:lnTo>
                  <a:pt x="100" y="1436"/>
                </a:lnTo>
                <a:lnTo>
                  <a:pt x="115" y="1502"/>
                </a:lnTo>
                <a:lnTo>
                  <a:pt x="115" y="1551"/>
                </a:lnTo>
                <a:lnTo>
                  <a:pt x="129" y="1584"/>
                </a:lnTo>
                <a:lnTo>
                  <a:pt x="144" y="1617"/>
                </a:lnTo>
                <a:lnTo>
                  <a:pt x="144" y="1667"/>
                </a:lnTo>
                <a:lnTo>
                  <a:pt x="165" y="1733"/>
                </a:lnTo>
                <a:lnTo>
                  <a:pt x="187" y="1766"/>
                </a:lnTo>
                <a:lnTo>
                  <a:pt x="201" y="1798"/>
                </a:lnTo>
                <a:lnTo>
                  <a:pt x="216" y="1832"/>
                </a:lnTo>
                <a:lnTo>
                  <a:pt x="244" y="1857"/>
                </a:lnTo>
                <a:lnTo>
                  <a:pt x="273" y="1898"/>
                </a:lnTo>
                <a:lnTo>
                  <a:pt x="302" y="1922"/>
                </a:lnTo>
                <a:lnTo>
                  <a:pt x="324" y="1939"/>
                </a:lnTo>
                <a:lnTo>
                  <a:pt x="360" y="1963"/>
                </a:lnTo>
                <a:lnTo>
                  <a:pt x="381" y="1989"/>
                </a:lnTo>
                <a:lnTo>
                  <a:pt x="403" y="1997"/>
                </a:lnTo>
                <a:lnTo>
                  <a:pt x="432" y="2014"/>
                </a:lnTo>
                <a:lnTo>
                  <a:pt x="460" y="2030"/>
                </a:lnTo>
                <a:lnTo>
                  <a:pt x="482" y="2030"/>
                </a:lnTo>
                <a:lnTo>
                  <a:pt x="504" y="2038"/>
                </a:lnTo>
                <a:lnTo>
                  <a:pt x="532" y="2038"/>
                </a:lnTo>
                <a:lnTo>
                  <a:pt x="561" y="2038"/>
                </a:lnTo>
                <a:lnTo>
                  <a:pt x="583" y="2046"/>
                </a:lnTo>
                <a:lnTo>
                  <a:pt x="619" y="2046"/>
                </a:lnTo>
                <a:lnTo>
                  <a:pt x="648" y="2046"/>
                </a:lnTo>
                <a:lnTo>
                  <a:pt x="676" y="2046"/>
                </a:lnTo>
                <a:lnTo>
                  <a:pt x="705" y="2046"/>
                </a:lnTo>
                <a:lnTo>
                  <a:pt x="734" y="2046"/>
                </a:lnTo>
                <a:lnTo>
                  <a:pt x="756" y="2055"/>
                </a:lnTo>
                <a:lnTo>
                  <a:pt x="792" y="2055"/>
                </a:lnTo>
                <a:lnTo>
                  <a:pt x="820" y="2055"/>
                </a:lnTo>
                <a:lnTo>
                  <a:pt x="842" y="2055"/>
                </a:lnTo>
                <a:lnTo>
                  <a:pt x="864" y="2055"/>
                </a:lnTo>
                <a:lnTo>
                  <a:pt x="892" y="2055"/>
                </a:lnTo>
                <a:lnTo>
                  <a:pt x="914" y="2055"/>
                </a:lnTo>
                <a:lnTo>
                  <a:pt x="936" y="2055"/>
                </a:lnTo>
                <a:lnTo>
                  <a:pt x="964" y="2055"/>
                </a:lnTo>
                <a:lnTo>
                  <a:pt x="993" y="2046"/>
                </a:lnTo>
                <a:lnTo>
                  <a:pt x="1015" y="2046"/>
                </a:lnTo>
                <a:lnTo>
                  <a:pt x="1044" y="2030"/>
                </a:lnTo>
                <a:lnTo>
                  <a:pt x="1072" y="2030"/>
                </a:lnTo>
                <a:lnTo>
                  <a:pt x="1094" y="2022"/>
                </a:lnTo>
                <a:lnTo>
                  <a:pt x="1116" y="2014"/>
                </a:lnTo>
                <a:lnTo>
                  <a:pt x="1144" y="2014"/>
                </a:lnTo>
                <a:lnTo>
                  <a:pt x="1166" y="2014"/>
                </a:lnTo>
                <a:lnTo>
                  <a:pt x="1188" y="2014"/>
                </a:lnTo>
                <a:lnTo>
                  <a:pt x="1216" y="2014"/>
                </a:lnTo>
                <a:lnTo>
                  <a:pt x="1238" y="2014"/>
                </a:lnTo>
                <a:lnTo>
                  <a:pt x="1260" y="2022"/>
                </a:lnTo>
                <a:lnTo>
                  <a:pt x="1288" y="2030"/>
                </a:lnTo>
                <a:lnTo>
                  <a:pt x="1310" y="2030"/>
                </a:lnTo>
                <a:lnTo>
                  <a:pt x="1332" y="2030"/>
                </a:lnTo>
                <a:lnTo>
                  <a:pt x="1360" y="2030"/>
                </a:lnTo>
                <a:lnTo>
                  <a:pt x="1382" y="2038"/>
                </a:lnTo>
                <a:lnTo>
                  <a:pt x="1404" y="2038"/>
                </a:lnTo>
                <a:lnTo>
                  <a:pt x="1432" y="2038"/>
                </a:lnTo>
                <a:lnTo>
                  <a:pt x="1454" y="2038"/>
                </a:lnTo>
                <a:lnTo>
                  <a:pt x="1476" y="2038"/>
                </a:lnTo>
                <a:lnTo>
                  <a:pt x="1504" y="2038"/>
                </a:lnTo>
                <a:lnTo>
                  <a:pt x="1526" y="2038"/>
                </a:lnTo>
                <a:lnTo>
                  <a:pt x="1548" y="2038"/>
                </a:lnTo>
                <a:lnTo>
                  <a:pt x="1576" y="2038"/>
                </a:lnTo>
                <a:lnTo>
                  <a:pt x="1598" y="2038"/>
                </a:lnTo>
                <a:lnTo>
                  <a:pt x="1620" y="2038"/>
                </a:lnTo>
                <a:lnTo>
                  <a:pt x="1648" y="2038"/>
                </a:lnTo>
                <a:lnTo>
                  <a:pt x="1670" y="2038"/>
                </a:lnTo>
                <a:lnTo>
                  <a:pt x="1692" y="2038"/>
                </a:lnTo>
                <a:lnTo>
                  <a:pt x="1720" y="2030"/>
                </a:lnTo>
                <a:lnTo>
                  <a:pt x="1742" y="2014"/>
                </a:lnTo>
                <a:lnTo>
                  <a:pt x="1764" y="1997"/>
                </a:lnTo>
                <a:lnTo>
                  <a:pt x="1785" y="1963"/>
                </a:lnTo>
                <a:lnTo>
                  <a:pt x="1807" y="1947"/>
                </a:lnTo>
                <a:lnTo>
                  <a:pt x="1828" y="1922"/>
                </a:lnTo>
                <a:lnTo>
                  <a:pt x="1850" y="1890"/>
                </a:lnTo>
                <a:lnTo>
                  <a:pt x="1864" y="1865"/>
                </a:lnTo>
                <a:lnTo>
                  <a:pt x="1886" y="1832"/>
                </a:lnTo>
                <a:lnTo>
                  <a:pt x="1900" y="1798"/>
                </a:lnTo>
                <a:lnTo>
                  <a:pt x="1915" y="1766"/>
                </a:lnTo>
                <a:lnTo>
                  <a:pt x="1915" y="1733"/>
                </a:lnTo>
                <a:lnTo>
                  <a:pt x="1929" y="1700"/>
                </a:lnTo>
                <a:lnTo>
                  <a:pt x="1929" y="1633"/>
                </a:lnTo>
                <a:lnTo>
                  <a:pt x="1944" y="1584"/>
                </a:lnTo>
                <a:lnTo>
                  <a:pt x="1944" y="1551"/>
                </a:lnTo>
                <a:lnTo>
                  <a:pt x="1951" y="1519"/>
                </a:lnTo>
                <a:lnTo>
                  <a:pt x="1951" y="1494"/>
                </a:lnTo>
                <a:lnTo>
                  <a:pt x="1951" y="1469"/>
                </a:lnTo>
                <a:lnTo>
                  <a:pt x="1951" y="1436"/>
                </a:lnTo>
                <a:lnTo>
                  <a:pt x="1951" y="1403"/>
                </a:lnTo>
                <a:lnTo>
                  <a:pt x="1944" y="1370"/>
                </a:lnTo>
                <a:lnTo>
                  <a:pt x="1944" y="1337"/>
                </a:lnTo>
                <a:lnTo>
                  <a:pt x="1929" y="1304"/>
                </a:lnTo>
                <a:lnTo>
                  <a:pt x="1915" y="1271"/>
                </a:lnTo>
                <a:lnTo>
                  <a:pt x="1908" y="1246"/>
                </a:lnTo>
                <a:lnTo>
                  <a:pt x="1900" y="1189"/>
                </a:lnTo>
                <a:lnTo>
                  <a:pt x="1900" y="1131"/>
                </a:lnTo>
                <a:lnTo>
                  <a:pt x="1893" y="1081"/>
                </a:lnTo>
                <a:lnTo>
                  <a:pt x="1886" y="1048"/>
                </a:lnTo>
                <a:lnTo>
                  <a:pt x="1879" y="1015"/>
                </a:lnTo>
                <a:lnTo>
                  <a:pt x="1872" y="974"/>
                </a:lnTo>
                <a:lnTo>
                  <a:pt x="1857" y="940"/>
                </a:lnTo>
                <a:lnTo>
                  <a:pt x="1850" y="891"/>
                </a:lnTo>
                <a:lnTo>
                  <a:pt x="1843" y="866"/>
                </a:lnTo>
                <a:lnTo>
                  <a:pt x="1821" y="825"/>
                </a:lnTo>
                <a:lnTo>
                  <a:pt x="1814" y="793"/>
                </a:lnTo>
                <a:lnTo>
                  <a:pt x="1800" y="759"/>
                </a:lnTo>
                <a:lnTo>
                  <a:pt x="1792" y="701"/>
                </a:lnTo>
                <a:lnTo>
                  <a:pt x="1785" y="619"/>
                </a:lnTo>
                <a:lnTo>
                  <a:pt x="1771" y="553"/>
                </a:lnTo>
                <a:lnTo>
                  <a:pt x="1764" y="504"/>
                </a:lnTo>
                <a:lnTo>
                  <a:pt x="1756" y="438"/>
                </a:lnTo>
                <a:lnTo>
                  <a:pt x="1749" y="388"/>
                </a:lnTo>
                <a:lnTo>
                  <a:pt x="1728" y="306"/>
                </a:lnTo>
                <a:lnTo>
                  <a:pt x="1728" y="257"/>
                </a:lnTo>
                <a:lnTo>
                  <a:pt x="1713" y="206"/>
                </a:lnTo>
                <a:lnTo>
                  <a:pt x="1684" y="174"/>
                </a:lnTo>
                <a:lnTo>
                  <a:pt x="1656" y="141"/>
                </a:lnTo>
                <a:lnTo>
                  <a:pt x="1598" y="124"/>
                </a:lnTo>
                <a:lnTo>
                  <a:pt x="1540" y="124"/>
                </a:lnTo>
                <a:lnTo>
                  <a:pt x="1468" y="74"/>
                </a:lnTo>
                <a:lnTo>
                  <a:pt x="1425" y="66"/>
                </a:lnTo>
                <a:lnTo>
                  <a:pt x="1396" y="50"/>
                </a:lnTo>
                <a:lnTo>
                  <a:pt x="1360" y="33"/>
                </a:lnTo>
                <a:lnTo>
                  <a:pt x="1332" y="33"/>
                </a:lnTo>
                <a:lnTo>
                  <a:pt x="1303" y="25"/>
                </a:lnTo>
                <a:lnTo>
                  <a:pt x="1260" y="17"/>
                </a:lnTo>
                <a:lnTo>
                  <a:pt x="1238" y="17"/>
                </a:lnTo>
                <a:lnTo>
                  <a:pt x="1209" y="9"/>
                </a:lnTo>
                <a:lnTo>
                  <a:pt x="1173" y="0"/>
                </a:lnTo>
                <a:lnTo>
                  <a:pt x="1144" y="0"/>
                </a:lnTo>
                <a:lnTo>
                  <a:pt x="1108" y="0"/>
                </a:lnTo>
                <a:lnTo>
                  <a:pt x="1080" y="0"/>
                </a:lnTo>
                <a:lnTo>
                  <a:pt x="1051" y="0"/>
                </a:lnTo>
                <a:lnTo>
                  <a:pt x="1029" y="0"/>
                </a:lnTo>
                <a:lnTo>
                  <a:pt x="1000" y="0"/>
                </a:lnTo>
                <a:lnTo>
                  <a:pt x="972" y="0"/>
                </a:lnTo>
                <a:lnTo>
                  <a:pt x="950" y="0"/>
                </a:lnTo>
                <a:lnTo>
                  <a:pt x="928" y="0"/>
                </a:lnTo>
                <a:lnTo>
                  <a:pt x="900" y="0"/>
                </a:lnTo>
                <a:lnTo>
                  <a:pt x="878" y="0"/>
                </a:lnTo>
                <a:lnTo>
                  <a:pt x="856" y="17"/>
                </a:lnTo>
                <a:lnTo>
                  <a:pt x="820" y="33"/>
                </a:lnTo>
                <a:lnTo>
                  <a:pt x="792" y="50"/>
                </a:lnTo>
                <a:lnTo>
                  <a:pt x="770" y="50"/>
                </a:lnTo>
                <a:lnTo>
                  <a:pt x="770" y="50"/>
                </a:lnTo>
              </a:path>
            </a:pathLst>
          </a:custGeom>
          <a:solidFill>
            <a:srgbClr val="c0c0c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085760" y="4476600"/>
            <a:ext cx="7269120" cy="2121120"/>
          </a:xfrm>
          <a:custGeom>
            <a:avLst/>
            <a:gdLst/>
            <a:ahLst/>
            <a:rect l="l" t="t" r="r" b="b"/>
            <a:pathLst>
              <a:path w="4579" h="1336">
                <a:moveTo>
                  <a:pt x="435" y="122"/>
                </a:moveTo>
                <a:lnTo>
                  <a:pt x="383" y="122"/>
                </a:lnTo>
                <a:lnTo>
                  <a:pt x="360" y="122"/>
                </a:lnTo>
                <a:lnTo>
                  <a:pt x="329" y="122"/>
                </a:lnTo>
                <a:lnTo>
                  <a:pt x="300" y="122"/>
                </a:lnTo>
                <a:lnTo>
                  <a:pt x="277" y="122"/>
                </a:lnTo>
                <a:lnTo>
                  <a:pt x="254" y="122"/>
                </a:lnTo>
                <a:lnTo>
                  <a:pt x="217" y="122"/>
                </a:lnTo>
                <a:lnTo>
                  <a:pt x="188" y="139"/>
                </a:lnTo>
                <a:lnTo>
                  <a:pt x="165" y="155"/>
                </a:lnTo>
                <a:lnTo>
                  <a:pt x="142" y="172"/>
                </a:lnTo>
                <a:lnTo>
                  <a:pt x="113" y="203"/>
                </a:lnTo>
                <a:lnTo>
                  <a:pt x="90" y="228"/>
                </a:lnTo>
                <a:lnTo>
                  <a:pt x="67" y="244"/>
                </a:lnTo>
                <a:lnTo>
                  <a:pt x="52" y="269"/>
                </a:lnTo>
                <a:lnTo>
                  <a:pt x="38" y="302"/>
                </a:lnTo>
                <a:lnTo>
                  <a:pt x="22" y="335"/>
                </a:lnTo>
                <a:lnTo>
                  <a:pt x="7" y="366"/>
                </a:lnTo>
                <a:lnTo>
                  <a:pt x="7" y="399"/>
                </a:lnTo>
                <a:lnTo>
                  <a:pt x="7" y="424"/>
                </a:lnTo>
                <a:lnTo>
                  <a:pt x="7" y="465"/>
                </a:lnTo>
                <a:lnTo>
                  <a:pt x="0" y="497"/>
                </a:lnTo>
                <a:lnTo>
                  <a:pt x="0" y="529"/>
                </a:lnTo>
                <a:lnTo>
                  <a:pt x="0" y="554"/>
                </a:lnTo>
                <a:lnTo>
                  <a:pt x="0" y="579"/>
                </a:lnTo>
                <a:lnTo>
                  <a:pt x="0" y="610"/>
                </a:lnTo>
                <a:lnTo>
                  <a:pt x="0" y="635"/>
                </a:lnTo>
                <a:lnTo>
                  <a:pt x="0" y="660"/>
                </a:lnTo>
                <a:lnTo>
                  <a:pt x="0" y="692"/>
                </a:lnTo>
                <a:lnTo>
                  <a:pt x="0" y="725"/>
                </a:lnTo>
                <a:lnTo>
                  <a:pt x="0" y="757"/>
                </a:lnTo>
                <a:lnTo>
                  <a:pt x="0" y="790"/>
                </a:lnTo>
                <a:lnTo>
                  <a:pt x="0" y="823"/>
                </a:lnTo>
                <a:lnTo>
                  <a:pt x="0" y="855"/>
                </a:lnTo>
                <a:lnTo>
                  <a:pt x="7" y="887"/>
                </a:lnTo>
                <a:lnTo>
                  <a:pt x="15" y="920"/>
                </a:lnTo>
                <a:lnTo>
                  <a:pt x="38" y="953"/>
                </a:lnTo>
                <a:lnTo>
                  <a:pt x="52" y="986"/>
                </a:lnTo>
                <a:lnTo>
                  <a:pt x="67" y="1017"/>
                </a:lnTo>
                <a:lnTo>
                  <a:pt x="82" y="1050"/>
                </a:lnTo>
                <a:lnTo>
                  <a:pt x="97" y="1075"/>
                </a:lnTo>
                <a:lnTo>
                  <a:pt x="113" y="1108"/>
                </a:lnTo>
                <a:lnTo>
                  <a:pt x="127" y="1164"/>
                </a:lnTo>
                <a:lnTo>
                  <a:pt x="142" y="1189"/>
                </a:lnTo>
                <a:lnTo>
                  <a:pt x="150" y="1221"/>
                </a:lnTo>
                <a:lnTo>
                  <a:pt x="172" y="1254"/>
                </a:lnTo>
                <a:lnTo>
                  <a:pt x="188" y="1278"/>
                </a:lnTo>
                <a:lnTo>
                  <a:pt x="225" y="1302"/>
                </a:lnTo>
                <a:lnTo>
                  <a:pt x="277" y="1319"/>
                </a:lnTo>
                <a:lnTo>
                  <a:pt x="329" y="1335"/>
                </a:lnTo>
                <a:lnTo>
                  <a:pt x="352" y="1335"/>
                </a:lnTo>
                <a:lnTo>
                  <a:pt x="375" y="1335"/>
                </a:lnTo>
                <a:lnTo>
                  <a:pt x="420" y="1335"/>
                </a:lnTo>
                <a:lnTo>
                  <a:pt x="450" y="1335"/>
                </a:lnTo>
                <a:lnTo>
                  <a:pt x="479" y="1335"/>
                </a:lnTo>
                <a:lnTo>
                  <a:pt x="510" y="1335"/>
                </a:lnTo>
                <a:lnTo>
                  <a:pt x="540" y="1335"/>
                </a:lnTo>
                <a:lnTo>
                  <a:pt x="570" y="1335"/>
                </a:lnTo>
                <a:lnTo>
                  <a:pt x="615" y="1335"/>
                </a:lnTo>
                <a:lnTo>
                  <a:pt x="667" y="1335"/>
                </a:lnTo>
                <a:lnTo>
                  <a:pt x="713" y="1335"/>
                </a:lnTo>
                <a:lnTo>
                  <a:pt x="772" y="1335"/>
                </a:lnTo>
                <a:lnTo>
                  <a:pt x="847" y="1335"/>
                </a:lnTo>
                <a:lnTo>
                  <a:pt x="878" y="1327"/>
                </a:lnTo>
                <a:lnTo>
                  <a:pt x="908" y="1327"/>
                </a:lnTo>
                <a:lnTo>
                  <a:pt x="938" y="1319"/>
                </a:lnTo>
                <a:lnTo>
                  <a:pt x="967" y="1302"/>
                </a:lnTo>
                <a:lnTo>
                  <a:pt x="998" y="1302"/>
                </a:lnTo>
                <a:lnTo>
                  <a:pt x="1028" y="1294"/>
                </a:lnTo>
                <a:lnTo>
                  <a:pt x="1058" y="1294"/>
                </a:lnTo>
                <a:lnTo>
                  <a:pt x="1088" y="1294"/>
                </a:lnTo>
                <a:lnTo>
                  <a:pt x="1117" y="1294"/>
                </a:lnTo>
                <a:lnTo>
                  <a:pt x="1140" y="1294"/>
                </a:lnTo>
                <a:lnTo>
                  <a:pt x="1201" y="1302"/>
                </a:lnTo>
                <a:lnTo>
                  <a:pt x="1230" y="1302"/>
                </a:lnTo>
                <a:lnTo>
                  <a:pt x="1253" y="1302"/>
                </a:lnTo>
                <a:lnTo>
                  <a:pt x="1313" y="1319"/>
                </a:lnTo>
                <a:lnTo>
                  <a:pt x="1373" y="1335"/>
                </a:lnTo>
                <a:lnTo>
                  <a:pt x="1418" y="1335"/>
                </a:lnTo>
                <a:lnTo>
                  <a:pt x="1478" y="1335"/>
                </a:lnTo>
                <a:lnTo>
                  <a:pt x="1539" y="1335"/>
                </a:lnTo>
                <a:lnTo>
                  <a:pt x="1568" y="1335"/>
                </a:lnTo>
                <a:lnTo>
                  <a:pt x="1598" y="1335"/>
                </a:lnTo>
                <a:lnTo>
                  <a:pt x="1658" y="1335"/>
                </a:lnTo>
                <a:lnTo>
                  <a:pt x="1703" y="1335"/>
                </a:lnTo>
                <a:lnTo>
                  <a:pt x="1748" y="1335"/>
                </a:lnTo>
                <a:lnTo>
                  <a:pt x="1808" y="1335"/>
                </a:lnTo>
                <a:lnTo>
                  <a:pt x="1839" y="1335"/>
                </a:lnTo>
                <a:lnTo>
                  <a:pt x="1868" y="1335"/>
                </a:lnTo>
                <a:lnTo>
                  <a:pt x="1898" y="1335"/>
                </a:lnTo>
                <a:lnTo>
                  <a:pt x="1951" y="1335"/>
                </a:lnTo>
                <a:lnTo>
                  <a:pt x="2011" y="1335"/>
                </a:lnTo>
                <a:lnTo>
                  <a:pt x="2056" y="1335"/>
                </a:lnTo>
                <a:lnTo>
                  <a:pt x="2116" y="1335"/>
                </a:lnTo>
                <a:lnTo>
                  <a:pt x="2161" y="1335"/>
                </a:lnTo>
                <a:lnTo>
                  <a:pt x="2191" y="1335"/>
                </a:lnTo>
                <a:lnTo>
                  <a:pt x="2214" y="1335"/>
                </a:lnTo>
                <a:lnTo>
                  <a:pt x="2251" y="1335"/>
                </a:lnTo>
                <a:lnTo>
                  <a:pt x="2296" y="1335"/>
                </a:lnTo>
                <a:lnTo>
                  <a:pt x="2341" y="1335"/>
                </a:lnTo>
                <a:lnTo>
                  <a:pt x="2387" y="1327"/>
                </a:lnTo>
                <a:lnTo>
                  <a:pt x="2416" y="1319"/>
                </a:lnTo>
                <a:lnTo>
                  <a:pt x="2446" y="1319"/>
                </a:lnTo>
                <a:lnTo>
                  <a:pt x="2469" y="1311"/>
                </a:lnTo>
                <a:lnTo>
                  <a:pt x="2537" y="1302"/>
                </a:lnTo>
                <a:lnTo>
                  <a:pt x="2566" y="1302"/>
                </a:lnTo>
                <a:lnTo>
                  <a:pt x="2612" y="1302"/>
                </a:lnTo>
                <a:lnTo>
                  <a:pt x="2650" y="1286"/>
                </a:lnTo>
                <a:lnTo>
                  <a:pt x="2709" y="1286"/>
                </a:lnTo>
                <a:lnTo>
                  <a:pt x="2739" y="1286"/>
                </a:lnTo>
                <a:lnTo>
                  <a:pt x="2770" y="1286"/>
                </a:lnTo>
                <a:lnTo>
                  <a:pt x="2822" y="1286"/>
                </a:lnTo>
                <a:lnTo>
                  <a:pt x="2889" y="1286"/>
                </a:lnTo>
                <a:lnTo>
                  <a:pt x="2934" y="1286"/>
                </a:lnTo>
                <a:lnTo>
                  <a:pt x="2957" y="1286"/>
                </a:lnTo>
                <a:lnTo>
                  <a:pt x="2987" y="1286"/>
                </a:lnTo>
                <a:lnTo>
                  <a:pt x="3017" y="1286"/>
                </a:lnTo>
                <a:lnTo>
                  <a:pt x="3039" y="1286"/>
                </a:lnTo>
                <a:lnTo>
                  <a:pt x="3070" y="1286"/>
                </a:lnTo>
                <a:lnTo>
                  <a:pt x="3100" y="1286"/>
                </a:lnTo>
                <a:lnTo>
                  <a:pt x="3129" y="1286"/>
                </a:lnTo>
                <a:lnTo>
                  <a:pt x="3159" y="1286"/>
                </a:lnTo>
                <a:lnTo>
                  <a:pt x="3182" y="1286"/>
                </a:lnTo>
                <a:lnTo>
                  <a:pt x="3213" y="1286"/>
                </a:lnTo>
                <a:lnTo>
                  <a:pt x="3250" y="1286"/>
                </a:lnTo>
                <a:lnTo>
                  <a:pt x="3279" y="1286"/>
                </a:lnTo>
                <a:lnTo>
                  <a:pt x="3302" y="1286"/>
                </a:lnTo>
                <a:lnTo>
                  <a:pt x="3325" y="1286"/>
                </a:lnTo>
                <a:lnTo>
                  <a:pt x="3354" y="1286"/>
                </a:lnTo>
                <a:lnTo>
                  <a:pt x="3385" y="1286"/>
                </a:lnTo>
                <a:lnTo>
                  <a:pt x="3407" y="1286"/>
                </a:lnTo>
                <a:lnTo>
                  <a:pt x="3445" y="1286"/>
                </a:lnTo>
                <a:lnTo>
                  <a:pt x="3504" y="1286"/>
                </a:lnTo>
                <a:lnTo>
                  <a:pt x="3565" y="1286"/>
                </a:lnTo>
                <a:lnTo>
                  <a:pt x="3625" y="1286"/>
                </a:lnTo>
                <a:lnTo>
                  <a:pt x="3670" y="1286"/>
                </a:lnTo>
                <a:lnTo>
                  <a:pt x="3700" y="1286"/>
                </a:lnTo>
                <a:lnTo>
                  <a:pt x="3730" y="1286"/>
                </a:lnTo>
                <a:lnTo>
                  <a:pt x="3790" y="1278"/>
                </a:lnTo>
                <a:lnTo>
                  <a:pt x="3850" y="1271"/>
                </a:lnTo>
                <a:lnTo>
                  <a:pt x="3910" y="1271"/>
                </a:lnTo>
                <a:lnTo>
                  <a:pt x="3955" y="1262"/>
                </a:lnTo>
                <a:lnTo>
                  <a:pt x="3978" y="1254"/>
                </a:lnTo>
                <a:lnTo>
                  <a:pt x="4001" y="1254"/>
                </a:lnTo>
                <a:lnTo>
                  <a:pt x="4030" y="1254"/>
                </a:lnTo>
                <a:lnTo>
                  <a:pt x="4083" y="1254"/>
                </a:lnTo>
                <a:lnTo>
                  <a:pt x="4128" y="1254"/>
                </a:lnTo>
                <a:lnTo>
                  <a:pt x="4188" y="1238"/>
                </a:lnTo>
                <a:lnTo>
                  <a:pt x="4226" y="1230"/>
                </a:lnTo>
                <a:lnTo>
                  <a:pt x="4255" y="1221"/>
                </a:lnTo>
                <a:lnTo>
                  <a:pt x="4278" y="1221"/>
                </a:lnTo>
                <a:lnTo>
                  <a:pt x="4301" y="1205"/>
                </a:lnTo>
                <a:lnTo>
                  <a:pt x="4330" y="1197"/>
                </a:lnTo>
                <a:lnTo>
                  <a:pt x="4360" y="1189"/>
                </a:lnTo>
                <a:lnTo>
                  <a:pt x="4383" y="1189"/>
                </a:lnTo>
                <a:lnTo>
                  <a:pt x="4413" y="1172"/>
                </a:lnTo>
                <a:lnTo>
                  <a:pt x="4442" y="1156"/>
                </a:lnTo>
                <a:lnTo>
                  <a:pt x="4465" y="1139"/>
                </a:lnTo>
                <a:lnTo>
                  <a:pt x="4496" y="1108"/>
                </a:lnTo>
                <a:lnTo>
                  <a:pt x="4510" y="1075"/>
                </a:lnTo>
                <a:lnTo>
                  <a:pt x="4533" y="1050"/>
                </a:lnTo>
                <a:lnTo>
                  <a:pt x="4540" y="977"/>
                </a:lnTo>
                <a:lnTo>
                  <a:pt x="4548" y="912"/>
                </a:lnTo>
                <a:lnTo>
                  <a:pt x="4555" y="864"/>
                </a:lnTo>
                <a:lnTo>
                  <a:pt x="4563" y="814"/>
                </a:lnTo>
                <a:lnTo>
                  <a:pt x="4571" y="782"/>
                </a:lnTo>
                <a:lnTo>
                  <a:pt x="4571" y="749"/>
                </a:lnTo>
                <a:lnTo>
                  <a:pt x="4571" y="717"/>
                </a:lnTo>
                <a:lnTo>
                  <a:pt x="4571" y="651"/>
                </a:lnTo>
                <a:lnTo>
                  <a:pt x="4571" y="603"/>
                </a:lnTo>
                <a:lnTo>
                  <a:pt x="4578" y="538"/>
                </a:lnTo>
                <a:lnTo>
                  <a:pt x="4578" y="473"/>
                </a:lnTo>
                <a:lnTo>
                  <a:pt x="4578" y="448"/>
                </a:lnTo>
                <a:lnTo>
                  <a:pt x="4578" y="416"/>
                </a:lnTo>
                <a:lnTo>
                  <a:pt x="4578" y="383"/>
                </a:lnTo>
                <a:lnTo>
                  <a:pt x="4571" y="318"/>
                </a:lnTo>
                <a:lnTo>
                  <a:pt x="4555" y="285"/>
                </a:lnTo>
                <a:lnTo>
                  <a:pt x="4526" y="261"/>
                </a:lnTo>
                <a:lnTo>
                  <a:pt x="4496" y="244"/>
                </a:lnTo>
                <a:lnTo>
                  <a:pt x="4465" y="220"/>
                </a:lnTo>
                <a:lnTo>
                  <a:pt x="4435" y="203"/>
                </a:lnTo>
                <a:lnTo>
                  <a:pt x="4405" y="180"/>
                </a:lnTo>
                <a:lnTo>
                  <a:pt x="4346" y="180"/>
                </a:lnTo>
                <a:lnTo>
                  <a:pt x="4315" y="163"/>
                </a:lnTo>
                <a:lnTo>
                  <a:pt x="4292" y="155"/>
                </a:lnTo>
                <a:lnTo>
                  <a:pt x="4255" y="147"/>
                </a:lnTo>
                <a:lnTo>
                  <a:pt x="4226" y="131"/>
                </a:lnTo>
                <a:lnTo>
                  <a:pt x="4195" y="122"/>
                </a:lnTo>
                <a:lnTo>
                  <a:pt x="4165" y="114"/>
                </a:lnTo>
                <a:lnTo>
                  <a:pt x="4135" y="114"/>
                </a:lnTo>
                <a:lnTo>
                  <a:pt x="4105" y="98"/>
                </a:lnTo>
                <a:lnTo>
                  <a:pt x="4076" y="98"/>
                </a:lnTo>
                <a:lnTo>
                  <a:pt x="4030" y="98"/>
                </a:lnTo>
                <a:lnTo>
                  <a:pt x="3985" y="98"/>
                </a:lnTo>
                <a:lnTo>
                  <a:pt x="3955" y="98"/>
                </a:lnTo>
                <a:lnTo>
                  <a:pt x="3895" y="98"/>
                </a:lnTo>
                <a:lnTo>
                  <a:pt x="3850" y="98"/>
                </a:lnTo>
                <a:lnTo>
                  <a:pt x="3820" y="98"/>
                </a:lnTo>
                <a:lnTo>
                  <a:pt x="3760" y="98"/>
                </a:lnTo>
                <a:lnTo>
                  <a:pt x="3722" y="90"/>
                </a:lnTo>
                <a:lnTo>
                  <a:pt x="3677" y="90"/>
                </a:lnTo>
                <a:lnTo>
                  <a:pt x="3633" y="90"/>
                </a:lnTo>
                <a:lnTo>
                  <a:pt x="3602" y="81"/>
                </a:lnTo>
                <a:lnTo>
                  <a:pt x="3527" y="81"/>
                </a:lnTo>
                <a:lnTo>
                  <a:pt x="3497" y="81"/>
                </a:lnTo>
                <a:lnTo>
                  <a:pt x="3467" y="81"/>
                </a:lnTo>
                <a:lnTo>
                  <a:pt x="3438" y="81"/>
                </a:lnTo>
                <a:lnTo>
                  <a:pt x="3377" y="81"/>
                </a:lnTo>
                <a:lnTo>
                  <a:pt x="3317" y="81"/>
                </a:lnTo>
                <a:lnTo>
                  <a:pt x="3279" y="81"/>
                </a:lnTo>
                <a:lnTo>
                  <a:pt x="3204" y="73"/>
                </a:lnTo>
                <a:lnTo>
                  <a:pt x="3175" y="66"/>
                </a:lnTo>
                <a:lnTo>
                  <a:pt x="3115" y="66"/>
                </a:lnTo>
                <a:lnTo>
                  <a:pt x="3070" y="66"/>
                </a:lnTo>
                <a:lnTo>
                  <a:pt x="3025" y="58"/>
                </a:lnTo>
                <a:lnTo>
                  <a:pt x="2979" y="50"/>
                </a:lnTo>
                <a:lnTo>
                  <a:pt x="2934" y="50"/>
                </a:lnTo>
                <a:lnTo>
                  <a:pt x="2889" y="50"/>
                </a:lnTo>
                <a:lnTo>
                  <a:pt x="2837" y="41"/>
                </a:lnTo>
                <a:lnTo>
                  <a:pt x="2814" y="33"/>
                </a:lnTo>
                <a:lnTo>
                  <a:pt x="2784" y="33"/>
                </a:lnTo>
                <a:lnTo>
                  <a:pt x="2725" y="33"/>
                </a:lnTo>
                <a:lnTo>
                  <a:pt x="2664" y="25"/>
                </a:lnTo>
                <a:lnTo>
                  <a:pt x="2604" y="17"/>
                </a:lnTo>
                <a:lnTo>
                  <a:pt x="2537" y="17"/>
                </a:lnTo>
                <a:lnTo>
                  <a:pt x="2507" y="17"/>
                </a:lnTo>
                <a:lnTo>
                  <a:pt x="2446" y="17"/>
                </a:lnTo>
                <a:lnTo>
                  <a:pt x="2416" y="9"/>
                </a:lnTo>
                <a:lnTo>
                  <a:pt x="2387" y="0"/>
                </a:lnTo>
                <a:lnTo>
                  <a:pt x="2364" y="0"/>
                </a:lnTo>
                <a:lnTo>
                  <a:pt x="2341" y="0"/>
                </a:lnTo>
                <a:lnTo>
                  <a:pt x="2311" y="0"/>
                </a:lnTo>
                <a:lnTo>
                  <a:pt x="2236" y="0"/>
                </a:lnTo>
                <a:lnTo>
                  <a:pt x="2161" y="0"/>
                </a:lnTo>
                <a:lnTo>
                  <a:pt x="2086" y="0"/>
                </a:lnTo>
                <a:lnTo>
                  <a:pt x="2026" y="0"/>
                </a:lnTo>
                <a:lnTo>
                  <a:pt x="1980" y="0"/>
                </a:lnTo>
                <a:lnTo>
                  <a:pt x="1936" y="0"/>
                </a:lnTo>
                <a:lnTo>
                  <a:pt x="1905" y="0"/>
                </a:lnTo>
                <a:lnTo>
                  <a:pt x="1876" y="0"/>
                </a:lnTo>
                <a:lnTo>
                  <a:pt x="1801" y="0"/>
                </a:lnTo>
                <a:lnTo>
                  <a:pt x="1771" y="0"/>
                </a:lnTo>
                <a:lnTo>
                  <a:pt x="1748" y="0"/>
                </a:lnTo>
                <a:lnTo>
                  <a:pt x="1710" y="0"/>
                </a:lnTo>
                <a:lnTo>
                  <a:pt x="1666" y="9"/>
                </a:lnTo>
                <a:lnTo>
                  <a:pt x="1614" y="17"/>
                </a:lnTo>
                <a:lnTo>
                  <a:pt x="1546" y="25"/>
                </a:lnTo>
                <a:lnTo>
                  <a:pt x="1516" y="33"/>
                </a:lnTo>
                <a:lnTo>
                  <a:pt x="1493" y="41"/>
                </a:lnTo>
                <a:lnTo>
                  <a:pt x="1433" y="50"/>
                </a:lnTo>
                <a:lnTo>
                  <a:pt x="1403" y="66"/>
                </a:lnTo>
                <a:lnTo>
                  <a:pt x="1373" y="66"/>
                </a:lnTo>
                <a:lnTo>
                  <a:pt x="1321" y="66"/>
                </a:lnTo>
                <a:lnTo>
                  <a:pt x="1276" y="73"/>
                </a:lnTo>
                <a:lnTo>
                  <a:pt x="1246" y="73"/>
                </a:lnTo>
                <a:lnTo>
                  <a:pt x="1223" y="73"/>
                </a:lnTo>
                <a:lnTo>
                  <a:pt x="1155" y="81"/>
                </a:lnTo>
                <a:lnTo>
                  <a:pt x="1096" y="81"/>
                </a:lnTo>
                <a:lnTo>
                  <a:pt x="1035" y="81"/>
                </a:lnTo>
                <a:lnTo>
                  <a:pt x="1005" y="81"/>
                </a:lnTo>
                <a:lnTo>
                  <a:pt x="976" y="81"/>
                </a:lnTo>
                <a:lnTo>
                  <a:pt x="915" y="81"/>
                </a:lnTo>
                <a:lnTo>
                  <a:pt x="885" y="81"/>
                </a:lnTo>
                <a:lnTo>
                  <a:pt x="826" y="81"/>
                </a:lnTo>
                <a:lnTo>
                  <a:pt x="803" y="81"/>
                </a:lnTo>
                <a:lnTo>
                  <a:pt x="780" y="81"/>
                </a:lnTo>
                <a:lnTo>
                  <a:pt x="742" y="81"/>
                </a:lnTo>
                <a:lnTo>
                  <a:pt x="683" y="81"/>
                </a:lnTo>
                <a:lnTo>
                  <a:pt x="622" y="81"/>
                </a:lnTo>
                <a:lnTo>
                  <a:pt x="563" y="81"/>
                </a:lnTo>
                <a:lnTo>
                  <a:pt x="540" y="81"/>
                </a:lnTo>
                <a:lnTo>
                  <a:pt x="517" y="81"/>
                </a:lnTo>
                <a:lnTo>
                  <a:pt x="488" y="81"/>
                </a:lnTo>
                <a:lnTo>
                  <a:pt x="465" y="81"/>
                </a:lnTo>
                <a:lnTo>
                  <a:pt x="442" y="90"/>
                </a:lnTo>
                <a:lnTo>
                  <a:pt x="413" y="114"/>
                </a:lnTo>
                <a:lnTo>
                  <a:pt x="390" y="131"/>
                </a:lnTo>
                <a:lnTo>
                  <a:pt x="435" y="122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929160" y="3497400"/>
            <a:ext cx="1873440" cy="728280"/>
          </a:xfrm>
          <a:prstGeom prst="roundRect">
            <a:avLst>
              <a:gd name="adj" fmla="val 0"/>
            </a:avLst>
          </a:prstGeom>
          <a:solidFill>
            <a:srgbClr val="dadada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OSO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NAZWISKO=Nowac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ROK_UR=19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27560" y="3016080"/>
            <a:ext cx="1744920" cy="728280"/>
          </a:xfrm>
          <a:prstGeom prst="roundRect">
            <a:avLst>
              <a:gd name="adj" fmla="val 0"/>
            </a:avLst>
          </a:prstGeom>
          <a:solidFill>
            <a:srgbClr val="dadada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OSO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NAZWISKO=Abac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ROK_UR=19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39280" y="2508120"/>
            <a:ext cx="1743840" cy="728280"/>
          </a:xfrm>
          <a:prstGeom prst="roundRect">
            <a:avLst>
              <a:gd name="adj" fmla="val 0"/>
            </a:avLst>
          </a:prstGeom>
          <a:solidFill>
            <a:srgbClr val="cecece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OSO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NAZWISKO=Nowa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ROK_UR=195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390920" y="1917720"/>
            <a:ext cx="306360" cy="24912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3941640" y="942840"/>
            <a:ext cx="1158840" cy="941400"/>
            <a:chOff x="3941640" y="942840"/>
            <a:chExt cx="1158840" cy="941400"/>
          </a:xfrm>
        </p:grpSpPr>
        <p:sp>
          <p:nvSpPr>
            <p:cNvPr id="702" name=""/>
            <p:cNvSpPr/>
            <p:nvPr/>
          </p:nvSpPr>
          <p:spPr>
            <a:xfrm>
              <a:off x="3947040" y="942840"/>
              <a:ext cx="1127880" cy="941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AZWISK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OK_U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iek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941640" y="1200240"/>
              <a:ext cx="114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960720" y="1635120"/>
              <a:ext cx="113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3768840" y="3060720"/>
            <a:ext cx="1550880" cy="1154520"/>
            <a:chOff x="3768840" y="3060720"/>
            <a:chExt cx="1550880" cy="1154520"/>
          </a:xfrm>
        </p:grpSpPr>
        <p:sp>
          <p:nvSpPr>
            <p:cNvPr id="706" name=""/>
            <p:cNvSpPr/>
            <p:nvPr/>
          </p:nvSpPr>
          <p:spPr>
            <a:xfrm>
              <a:off x="3768840" y="3060720"/>
              <a:ext cx="1538280" cy="115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Times New Roman"/>
                </a:rPr>
                <a:t>PRACOWNI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ZAROBE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DZIA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ZarobekNetto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ZmieńZarobek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768840" y="3319560"/>
              <a:ext cx="1542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776760" y="3765600"/>
              <a:ext cx="1542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394200" y="2025720"/>
            <a:ext cx="1943640" cy="728280"/>
          </a:xfrm>
          <a:prstGeom prst="roundRect">
            <a:avLst>
              <a:gd name="adj" fmla="val 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ZWISKO=Kowalsk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OK_UR=19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616920" y="5043600"/>
            <a:ext cx="1751400" cy="1282680"/>
          </a:xfrm>
          <a:prstGeom prst="roundRect">
            <a:avLst>
              <a:gd name="adj" fmla="val 889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NAZWISKO=Abac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ROK_UR=19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ZAROBEK=2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DZIAŁ=zabaw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780880" y="5118120"/>
            <a:ext cx="1873440" cy="1276200"/>
          </a:xfrm>
          <a:prstGeom prst="roundRect">
            <a:avLst>
              <a:gd name="adj" fmla="val 0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NAZWISKO=Nowac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ROK_UR=19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ZAROBEK=3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DZIAŁ=sprzeda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2170080" y="1647360"/>
            <a:ext cx="1757520" cy="373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765520" y="4225680"/>
            <a:ext cx="1301760" cy="801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4518000" y="4229280"/>
            <a:ext cx="0" cy="823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 flipV="1">
            <a:off x="5016240" y="4239720"/>
            <a:ext cx="1555560" cy="801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2314080" y="1650960"/>
            <a:ext cx="1616040" cy="1241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2517480" y="1660680"/>
            <a:ext cx="1422360" cy="1404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2782800" y="1660680"/>
            <a:ext cx="1147680" cy="1831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911880" y="1333440"/>
            <a:ext cx="15303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Ekstensja kla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OSOB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209280" y="4578480"/>
            <a:ext cx="15303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Ekstensja kla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PRACOWN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100040" y="925560"/>
            <a:ext cx="8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OSO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47000" y="1992240"/>
            <a:ext cx="8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000000"/>
                </a:solidFill>
                <a:uFillTx/>
                <a:latin typeface="Times New Roman"/>
              </a:rPr>
              <a:t>:OSO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795480" y="5040360"/>
            <a:ext cx="138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000000"/>
                </a:solidFill>
                <a:uFillTx/>
                <a:latin typeface="Times New Roman"/>
              </a:rPr>
              <a:t>:PRACOWN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043320" y="5116680"/>
            <a:ext cx="138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000000"/>
                </a:solidFill>
                <a:uFillTx/>
                <a:latin typeface="Times New Roman"/>
              </a:rPr>
              <a:t>:PRACOWN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533840" y="2171880"/>
            <a:ext cx="0" cy="90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80880" y="2286000"/>
            <a:ext cx="196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1314360" y="5027760"/>
            <a:ext cx="1763640" cy="1276200"/>
            <a:chOff x="1314360" y="5027760"/>
            <a:chExt cx="1763640" cy="1276200"/>
          </a:xfrm>
        </p:grpSpPr>
        <p:sp>
          <p:nvSpPr>
            <p:cNvPr id="728" name=""/>
            <p:cNvSpPr/>
            <p:nvPr/>
          </p:nvSpPr>
          <p:spPr>
            <a:xfrm>
              <a:off x="1329840" y="5027760"/>
              <a:ext cx="1743840" cy="1276200"/>
            </a:xfrm>
            <a:prstGeom prst="roundRect">
              <a:avLst>
                <a:gd name="adj" fmla="val 0"/>
              </a:avLst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NAZWISKO=Nowa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ROK_UR=195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ZAROBEK=2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DZIAŁ=zabawk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547640" y="5040360"/>
              <a:ext cx="138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:PRACOWNI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314360" y="5353200"/>
              <a:ext cx="176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3619440" y="5372280"/>
            <a:ext cx="175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791320" y="5448240"/>
            <a:ext cx="186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1066680" y="-19080"/>
            <a:ext cx="803916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trybuty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92160" y="952560"/>
            <a:ext cx="89755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rybu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że być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nazwan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artością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u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biekte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odobiekt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rybut, będący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artości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ie posiada tożsamości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rtości atrybutów są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zechowywane przez obiekty, ponieważ  nie należą do inwariantów klasy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wag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! Sformułowanie 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artość atrybutu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 przypadku, gdy atrybut jest podobiektem jest uproszczeni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357560" y="2146320"/>
            <a:ext cx="1082160" cy="637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azwisk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723120" y="2208240"/>
            <a:ext cx="3133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rybuty obiektów  klasy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so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 flipV="1">
            <a:off x="2768400" y="2432160"/>
            <a:ext cx="539640" cy="144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047000" y="4979880"/>
            <a:ext cx="1755720" cy="157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_oso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sel : n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zwisko : 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ek : 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067520" y="5334120"/>
            <a:ext cx="172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529760" y="49528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so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915240" y="5587920"/>
            <a:ext cx="2036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203880" y="5587920"/>
            <a:ext cx="540000" cy="1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17480" y="2819520"/>
            <a:ext cx="1905120" cy="1218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803160" y="3301920"/>
            <a:ext cx="174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azwisko : 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iek : 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02000" y="4137120"/>
            <a:ext cx="2063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lasa z atrybuta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585600" y="4140360"/>
            <a:ext cx="538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biekty (wystąpienia klasy) z wartościami atrybut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202040" y="28954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so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17480" y="40384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23960" y="3276720"/>
            <a:ext cx="190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89080" y="4581360"/>
            <a:ext cx="5654520" cy="20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rybut unikalnie identyfikujący obiekt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luc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ie jest wymagany, ponieważ każdy obiekt posiada tożsamość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owaną poprzez wewnętrzny unikalny identyfikator obiektu, automatycznie generowany przez system w momencie powoływania obiektu do życia i niewidoczny dla użytkownika. Zaleca się, by identyfikator  nie miał  znaczenia w dziedzinie problem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505320" y="2819520"/>
            <a:ext cx="2286000" cy="1218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zwisko =  Now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ek = 5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299280" y="2819520"/>
            <a:ext cx="2235240" cy="1218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zwisko =  Styc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ek = 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151520" y="28576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:Oso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971040" y="28576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:Oso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505320" y="327672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324480" y="3276720"/>
            <a:ext cx="2210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0" y="12600"/>
            <a:ext cx="910584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trybuty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31400" y="1028880"/>
            <a:ext cx="2207520" cy="3682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trybuty mogą być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82320" y="1562040"/>
            <a:ext cx="5023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ste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imię, nazwisko, nazwisko panieński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iek, płeć, stosunek do służby wojs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złożone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data ur., adres, lista poprz. miejsc pracy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ane firmy, zdjęc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pcjonalne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nazwisko panieńskie,  stosunek 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łużby wojsk, lista poprzedn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iejsc pr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owtarzalne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lista poprz. miejsc pr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ochodne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wi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klasowe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dres fir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trybu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ędąc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biektem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zdjęc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02760" y="5715000"/>
            <a:ext cx="7535520" cy="76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Kiedy z atrybutu warto zrobić klasę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 jakiej sytuacji atrybut adres firmy przestanie być atrybutem klasowy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5556240" y="1168560"/>
            <a:ext cx="3263760" cy="3733560"/>
            <a:chOff x="5556240" y="1168560"/>
            <a:chExt cx="3263760" cy="3733560"/>
          </a:xfrm>
        </p:grpSpPr>
        <p:sp>
          <p:nvSpPr>
            <p:cNvPr id="762" name=""/>
            <p:cNvSpPr/>
            <p:nvPr/>
          </p:nvSpPr>
          <p:spPr>
            <a:xfrm>
              <a:off x="5556240" y="1168560"/>
              <a:ext cx="3263760" cy="55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Pracowni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556240" y="1722600"/>
              <a:ext cx="3263760" cy="3179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imi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nazwisk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nazwisko panieńskie[0..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data u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/wie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adre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płeć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tosunek do służby wojsk. [0..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lista poprz. miejsc pracy [0..*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dane  firm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zdjęci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304920" y="5238720"/>
            <a:ext cx="5715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trybuty klasowe należą do inwariantów danej klas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0" y="-6480"/>
            <a:ext cx="91314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ecyfikacja met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41280" y="5305320"/>
            <a:ext cx="8371080" cy="1186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żeli argumenty nie są specyfikowane, to może ich być dowolnie dużo, również  w ogóle. Brak specyfikacji argumentów  na etapie analizy  może oznaczać zarówno, że metoda ich  nie posiada, jak i  że  w danym momencie nie interesujemy się jeszcze nimi. To samo dotyczy  wartości zwracanej przez metodę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04920" y="95544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toda może mieć argumen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oprócz obiektu, który jest argumentem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mplici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la metod obiektu)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gnatura (specyfikacja) metod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łącza liczbę i typ argumentów plus typ wyniku  metody.  Wszystkie metody implementujące daną operację muszą mieć tę samą sygnaturę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57200" y="2409840"/>
            <a:ext cx="1339560" cy="22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zwisk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ne fir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mień firm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mień_ad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778840" y="2724120"/>
            <a:ext cx="1836360" cy="1582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zwa_pli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ługość w bajt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statniaZmi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uku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776680" y="3965400"/>
            <a:ext cx="185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582160" y="2409840"/>
            <a:ext cx="3110400" cy="246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zyc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sta wierzchołk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zesuń( delta : Wektor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wnątrz( p : Punkt ) : 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róć( kąt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607000" y="2952720"/>
            <a:ext cx="308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607000" y="3981600"/>
            <a:ext cx="308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776680" y="3029040"/>
            <a:ext cx="185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52520" y="2819520"/>
            <a:ext cx="1349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52520" y="4019400"/>
            <a:ext cx="1366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33600" y="2425680"/>
            <a:ext cx="80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so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353760" y="271152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l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915160" y="250200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biekt geometrycz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1116000" y="4716360"/>
            <a:ext cx="0" cy="54000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0" y="12600"/>
            <a:ext cx="910584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odzaje met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54440" y="1157400"/>
            <a:ext cx="2209320" cy="398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etody mogą być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50120" y="1600200"/>
            <a:ext cx="531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bstrakcyj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biektu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policz wiek, czy pracował  w (nazwa firm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klasowe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olicz wiek (imię, nazwisko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znajdź  najstarszego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54160" y="5460840"/>
            <a:ext cx="4775040" cy="91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etoda klasy operuje na ekstensji klasy, czyli posiada dostęp do atrybutów wszystkich obiektów członków danej klas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54160" y="4108320"/>
            <a:ext cx="477504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etoda obiektu operuje na atrybutach jednego obiektu - tego dla którego została wywołana. Obiekt jest argumentem domyślnym metody obiekt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12760" y="2984400"/>
            <a:ext cx="481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Klasa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acownik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nie posiada metod abstrakcyjnych, gdyż jako jedyna klasa na diagramie musi być klasą  konkretn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5460840" y="1117440"/>
            <a:ext cx="3581640" cy="3352680"/>
            <a:chOff x="5460840" y="1117440"/>
            <a:chExt cx="3581640" cy="3352680"/>
          </a:xfrm>
        </p:grpSpPr>
        <p:sp>
          <p:nvSpPr>
            <p:cNvPr id="788" name=""/>
            <p:cNvSpPr/>
            <p:nvPr/>
          </p:nvSpPr>
          <p:spPr>
            <a:xfrm>
              <a:off x="5460840" y="1117440"/>
              <a:ext cx="358164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Pracowni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460840" y="1879560"/>
              <a:ext cx="3581640" cy="2590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imi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nazwisk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data u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/wie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adres zamieszkan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płeć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tosunek do służby wojsk. [0..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lista poprz. miejsc pracy [0..*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dres firm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>
            <a:off x="5460840" y="4470480"/>
            <a:ext cx="3581640" cy="1701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olicz wiek (imię, nazwisk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olicz wi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zy pracował w (nazwa firm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znajdź najstarsze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359320" y="4800600"/>
            <a:ext cx="32511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465160" y="512460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policz wiek (imię, nazwisk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2600"/>
            <a:ext cx="910584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Klasa; notacja (1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07964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Cztery pola: nazwy, atrybutów, metod i użytkownika (np. w celu specyfikowania odpowiedzialności klasy).  Możliwe są różne poziomy szczegółowośc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74560" y="2200320"/>
            <a:ext cx="7810560" cy="1065960"/>
            <a:chOff x="574560" y="2200320"/>
            <a:chExt cx="7810560" cy="1065960"/>
          </a:xfrm>
        </p:grpSpPr>
        <p:sp>
          <p:nvSpPr>
            <p:cNvPr id="121" name=""/>
            <p:cNvSpPr/>
            <p:nvPr/>
          </p:nvSpPr>
          <p:spPr>
            <a:xfrm>
              <a:off x="574560" y="2200320"/>
              <a:ext cx="1214640" cy="213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k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336760" y="2200320"/>
              <a:ext cx="1487520" cy="63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k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ozmi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zy  widocz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38560" y="2432160"/>
              <a:ext cx="14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56000" y="2200320"/>
              <a:ext cx="1451160" cy="1065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k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ozmi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zy  widocz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yświet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chowa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57800" y="2432160"/>
              <a:ext cx="144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57800" y="2856240"/>
              <a:ext cx="144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73800" y="2200320"/>
              <a:ext cx="1982880" cy="1065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Times New Roman"/>
                </a:rPr>
                <a:t>Ok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rozmiar: Obsz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czy  widoczne: Boole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wyświetl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schowaj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380280" y="2432160"/>
              <a:ext cx="200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67320" y="2856240"/>
              <a:ext cx="198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590760" y="3772080"/>
            <a:ext cx="390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tereotyp  nazwa_ klasy  lista_wart_ety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0160" y="4356000"/>
            <a:ext cx="175032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ole atrybutów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1520" y="4838760"/>
            <a:ext cx="74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tereotyp dostępność nazwa_atrybutu : typ = wart_początkowa  lista_wart_ety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8680" y="5397480"/>
            <a:ext cx="134496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ole meto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0440" y="5867280"/>
            <a:ext cx="822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tereotyp dostępność nazwa_metody (lista_arg) :  typ_wart_zwracanej  lista_wart_etyk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8680" y="3340080"/>
            <a:ext cx="192276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ole nazwy klas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0" y="0"/>
            <a:ext cx="90676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zesłanianie metod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64960" y="990720"/>
            <a:ext cx="85489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rzesłanianie (overriding) -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etoda z  klasy bardziej wyspecjalizowanej może przesłonić  metodę z klasy bardziej ogólnej. Wybierana jest metoda znajdująca się najbliżej obiektu, w sensie hierarchii dziedziczen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6885000" y="3309840"/>
            <a:ext cx="1117440" cy="800280"/>
            <a:chOff x="6885000" y="3309840"/>
            <a:chExt cx="1117440" cy="800280"/>
          </a:xfrm>
        </p:grpSpPr>
        <p:grpSp>
          <p:nvGrpSpPr>
            <p:cNvPr id="796" name=""/>
            <p:cNvGrpSpPr/>
            <p:nvPr/>
          </p:nvGrpSpPr>
          <p:grpSpPr>
            <a:xfrm>
              <a:off x="6885000" y="3309840"/>
              <a:ext cx="1117440" cy="800280"/>
              <a:chOff x="6885000" y="3309840"/>
              <a:chExt cx="1117440" cy="800280"/>
            </a:xfrm>
          </p:grpSpPr>
          <p:grpSp>
            <p:nvGrpSpPr>
              <p:cNvPr id="797" name=""/>
              <p:cNvGrpSpPr/>
              <p:nvPr/>
            </p:nvGrpSpPr>
            <p:grpSpPr>
              <a:xfrm>
                <a:off x="7031160" y="3892680"/>
                <a:ext cx="971280" cy="217440"/>
                <a:chOff x="7031160" y="3892680"/>
                <a:chExt cx="971280" cy="217440"/>
              </a:xfrm>
            </p:grpSpPr>
            <p:grpSp>
              <p:nvGrpSpPr>
                <p:cNvPr id="798" name=""/>
                <p:cNvGrpSpPr/>
                <p:nvPr/>
              </p:nvGrpSpPr>
              <p:grpSpPr>
                <a:xfrm>
                  <a:off x="7031160" y="3892680"/>
                  <a:ext cx="971280" cy="217440"/>
                  <a:chOff x="7031160" y="3892680"/>
                  <a:chExt cx="971280" cy="217440"/>
                </a:xfrm>
              </p:grpSpPr>
              <p:grpSp>
                <p:nvGrpSpPr>
                  <p:cNvPr id="799" name=""/>
                  <p:cNvGrpSpPr/>
                  <p:nvPr/>
                </p:nvGrpSpPr>
                <p:grpSpPr>
                  <a:xfrm>
                    <a:off x="7867800" y="3892680"/>
                    <a:ext cx="134640" cy="99720"/>
                    <a:chOff x="7867800" y="3892680"/>
                    <a:chExt cx="134640" cy="99720"/>
                  </a:xfrm>
                </p:grpSpPr>
                <p:sp>
                  <p:nvSpPr>
                    <p:cNvPr id="800" name=""/>
                    <p:cNvSpPr/>
                    <p:nvPr/>
                  </p:nvSpPr>
                  <p:spPr>
                    <a:xfrm>
                      <a:off x="7867800" y="3892680"/>
                      <a:ext cx="134640" cy="4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0" h="63">
                          <a:moveTo>
                            <a:pt x="0" y="19"/>
                          </a:moveTo>
                          <a:lnTo>
                            <a:pt x="17" y="17"/>
                          </a:lnTo>
                          <a:lnTo>
                            <a:pt x="35" y="8"/>
                          </a:lnTo>
                          <a:lnTo>
                            <a:pt x="50" y="4"/>
                          </a:lnTo>
                          <a:lnTo>
                            <a:pt x="66" y="2"/>
                          </a:lnTo>
                          <a:lnTo>
                            <a:pt x="83" y="0"/>
                          </a:lnTo>
                          <a:lnTo>
                            <a:pt x="102" y="2"/>
                          </a:lnTo>
                          <a:lnTo>
                            <a:pt x="118" y="4"/>
                          </a:lnTo>
                          <a:lnTo>
                            <a:pt x="137" y="10"/>
                          </a:lnTo>
                          <a:lnTo>
                            <a:pt x="154" y="17"/>
                          </a:lnTo>
                          <a:lnTo>
                            <a:pt x="167" y="24"/>
                          </a:lnTo>
                          <a:lnTo>
                            <a:pt x="170" y="33"/>
                          </a:lnTo>
                          <a:lnTo>
                            <a:pt x="161" y="36"/>
                          </a:lnTo>
                          <a:lnTo>
                            <a:pt x="132" y="32"/>
                          </a:lnTo>
                          <a:lnTo>
                            <a:pt x="150" y="42"/>
                          </a:lnTo>
                          <a:lnTo>
                            <a:pt x="164" y="49"/>
                          </a:lnTo>
                          <a:lnTo>
                            <a:pt x="169" y="56"/>
                          </a:lnTo>
                          <a:lnTo>
                            <a:pt x="163" y="63"/>
                          </a:lnTo>
                          <a:lnTo>
                            <a:pt x="154" y="61"/>
                          </a:lnTo>
                          <a:lnTo>
                            <a:pt x="135" y="55"/>
                          </a:lnTo>
                          <a:lnTo>
                            <a:pt x="99" y="46"/>
                          </a:lnTo>
                          <a:lnTo>
                            <a:pt x="65" y="37"/>
                          </a:lnTo>
                          <a:lnTo>
                            <a:pt x="35" y="31"/>
                          </a:lnTo>
                          <a:lnTo>
                            <a:pt x="7" y="30"/>
                          </a:lnTo>
                          <a:lnTo>
                            <a:pt x="0" y="30"/>
                          </a:lnTo>
                          <a:lnTo>
                            <a:pt x="0" y="19"/>
                          </a:lnTo>
                          <a:close/>
                        </a:path>
                      </a:pathLst>
                    </a:custGeom>
                    <a:solidFill>
                      <a:srgbClr val="f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" bIns="2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1" name=""/>
                    <p:cNvSpPr/>
                    <p:nvPr/>
                  </p:nvSpPr>
                  <p:spPr>
                    <a:xfrm>
                      <a:off x="7867800" y="3903840"/>
                      <a:ext cx="125280" cy="8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112">
                          <a:moveTo>
                            <a:pt x="1" y="7"/>
                          </a:moveTo>
                          <a:lnTo>
                            <a:pt x="18" y="5"/>
                          </a:lnTo>
                          <a:lnTo>
                            <a:pt x="39" y="2"/>
                          </a:lnTo>
                          <a:lnTo>
                            <a:pt x="60" y="0"/>
                          </a:lnTo>
                          <a:lnTo>
                            <a:pt x="76" y="3"/>
                          </a:lnTo>
                          <a:lnTo>
                            <a:pt x="94" y="8"/>
                          </a:lnTo>
                          <a:lnTo>
                            <a:pt x="115" y="19"/>
                          </a:lnTo>
                          <a:lnTo>
                            <a:pt x="129" y="29"/>
                          </a:lnTo>
                          <a:lnTo>
                            <a:pt x="145" y="42"/>
                          </a:lnTo>
                          <a:lnTo>
                            <a:pt x="154" y="55"/>
                          </a:lnTo>
                          <a:lnTo>
                            <a:pt x="157" y="65"/>
                          </a:lnTo>
                          <a:lnTo>
                            <a:pt x="154" y="69"/>
                          </a:lnTo>
                          <a:lnTo>
                            <a:pt x="145" y="69"/>
                          </a:lnTo>
                          <a:lnTo>
                            <a:pt x="126" y="61"/>
                          </a:lnTo>
                          <a:lnTo>
                            <a:pt x="110" y="50"/>
                          </a:lnTo>
                          <a:lnTo>
                            <a:pt x="90" y="42"/>
                          </a:lnTo>
                          <a:lnTo>
                            <a:pt x="68" y="38"/>
                          </a:lnTo>
                          <a:lnTo>
                            <a:pt x="57" y="42"/>
                          </a:lnTo>
                          <a:lnTo>
                            <a:pt x="55" y="52"/>
                          </a:lnTo>
                          <a:lnTo>
                            <a:pt x="66" y="65"/>
                          </a:lnTo>
                          <a:lnTo>
                            <a:pt x="87" y="85"/>
                          </a:lnTo>
                          <a:lnTo>
                            <a:pt x="92" y="94"/>
                          </a:lnTo>
                          <a:lnTo>
                            <a:pt x="93" y="102"/>
                          </a:lnTo>
                          <a:lnTo>
                            <a:pt x="89" y="110"/>
                          </a:lnTo>
                          <a:lnTo>
                            <a:pt x="79" y="112"/>
                          </a:lnTo>
                          <a:lnTo>
                            <a:pt x="69" y="110"/>
                          </a:lnTo>
                          <a:lnTo>
                            <a:pt x="58" y="103"/>
                          </a:lnTo>
                          <a:lnTo>
                            <a:pt x="49" y="94"/>
                          </a:lnTo>
                          <a:lnTo>
                            <a:pt x="35" y="77"/>
                          </a:lnTo>
                          <a:lnTo>
                            <a:pt x="21" y="66"/>
                          </a:lnTo>
                          <a:lnTo>
                            <a:pt x="0" y="57"/>
                          </a:lnTo>
                          <a:lnTo>
                            <a:pt x="1" y="7"/>
                          </a:lnTo>
                          <a:close/>
                        </a:path>
                      </a:pathLst>
                    </a:custGeom>
                    <a:solidFill>
                      <a:srgbClr val="ffb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760" bIns="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02" name=""/>
                  <p:cNvGrpSpPr/>
                  <p:nvPr/>
                </p:nvGrpSpPr>
                <p:grpSpPr>
                  <a:xfrm>
                    <a:off x="7031160" y="4010040"/>
                    <a:ext cx="142920" cy="100080"/>
                    <a:chOff x="7031160" y="4010040"/>
                    <a:chExt cx="142920" cy="100080"/>
                  </a:xfrm>
                </p:grpSpPr>
                <p:sp>
                  <p:nvSpPr>
                    <p:cNvPr id="803" name=""/>
                    <p:cNvSpPr/>
                    <p:nvPr/>
                  </p:nvSpPr>
                  <p:spPr>
                    <a:xfrm>
                      <a:off x="7031160" y="4010040"/>
                      <a:ext cx="13788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2" h="64">
                          <a:moveTo>
                            <a:pt x="167" y="16"/>
                          </a:moveTo>
                          <a:lnTo>
                            <a:pt x="138" y="9"/>
                          </a:lnTo>
                          <a:lnTo>
                            <a:pt x="115" y="2"/>
                          </a:lnTo>
                          <a:lnTo>
                            <a:pt x="91" y="0"/>
                          </a:lnTo>
                          <a:lnTo>
                            <a:pt x="69" y="1"/>
                          </a:lnTo>
                          <a:lnTo>
                            <a:pt x="52" y="4"/>
                          </a:lnTo>
                          <a:lnTo>
                            <a:pt x="32" y="10"/>
                          </a:lnTo>
                          <a:lnTo>
                            <a:pt x="21" y="15"/>
                          </a:lnTo>
                          <a:lnTo>
                            <a:pt x="8" y="21"/>
                          </a:lnTo>
                          <a:lnTo>
                            <a:pt x="0" y="31"/>
                          </a:lnTo>
                          <a:lnTo>
                            <a:pt x="24" y="28"/>
                          </a:lnTo>
                          <a:lnTo>
                            <a:pt x="39" y="28"/>
                          </a:lnTo>
                          <a:lnTo>
                            <a:pt x="28" y="35"/>
                          </a:lnTo>
                          <a:lnTo>
                            <a:pt x="14" y="44"/>
                          </a:lnTo>
                          <a:lnTo>
                            <a:pt x="3" y="50"/>
                          </a:lnTo>
                          <a:lnTo>
                            <a:pt x="0" y="59"/>
                          </a:lnTo>
                          <a:lnTo>
                            <a:pt x="4" y="64"/>
                          </a:lnTo>
                          <a:lnTo>
                            <a:pt x="16" y="63"/>
                          </a:lnTo>
                          <a:lnTo>
                            <a:pt x="63" y="48"/>
                          </a:lnTo>
                          <a:lnTo>
                            <a:pt x="117" y="37"/>
                          </a:lnTo>
                          <a:lnTo>
                            <a:pt x="172" y="41"/>
                          </a:lnTo>
                          <a:lnTo>
                            <a:pt x="167" y="16"/>
                          </a:lnTo>
                          <a:close/>
                        </a:path>
                      </a:pathLst>
                    </a:custGeom>
                    <a:solidFill>
                      <a:srgbClr val="f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4" name=""/>
                    <p:cNvSpPr/>
                    <p:nvPr/>
                  </p:nvSpPr>
                  <p:spPr>
                    <a:xfrm>
                      <a:off x="7039080" y="4019400"/>
                      <a:ext cx="135000" cy="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1" h="113">
                          <a:moveTo>
                            <a:pt x="165" y="6"/>
                          </a:moveTo>
                          <a:lnTo>
                            <a:pt x="139" y="4"/>
                          </a:lnTo>
                          <a:lnTo>
                            <a:pt x="115" y="1"/>
                          </a:lnTo>
                          <a:lnTo>
                            <a:pt x="97" y="0"/>
                          </a:lnTo>
                          <a:lnTo>
                            <a:pt x="82" y="2"/>
                          </a:lnTo>
                          <a:lnTo>
                            <a:pt x="63" y="7"/>
                          </a:lnTo>
                          <a:lnTo>
                            <a:pt x="46" y="18"/>
                          </a:lnTo>
                          <a:lnTo>
                            <a:pt x="31" y="29"/>
                          </a:lnTo>
                          <a:lnTo>
                            <a:pt x="23" y="35"/>
                          </a:lnTo>
                          <a:lnTo>
                            <a:pt x="11" y="45"/>
                          </a:lnTo>
                          <a:lnTo>
                            <a:pt x="5" y="50"/>
                          </a:lnTo>
                          <a:lnTo>
                            <a:pt x="2" y="59"/>
                          </a:lnTo>
                          <a:lnTo>
                            <a:pt x="0" y="66"/>
                          </a:lnTo>
                          <a:lnTo>
                            <a:pt x="8" y="71"/>
                          </a:lnTo>
                          <a:lnTo>
                            <a:pt x="16" y="69"/>
                          </a:lnTo>
                          <a:lnTo>
                            <a:pt x="32" y="60"/>
                          </a:lnTo>
                          <a:lnTo>
                            <a:pt x="49" y="51"/>
                          </a:lnTo>
                          <a:lnTo>
                            <a:pt x="68" y="43"/>
                          </a:lnTo>
                          <a:lnTo>
                            <a:pt x="81" y="38"/>
                          </a:lnTo>
                          <a:lnTo>
                            <a:pt x="95" y="38"/>
                          </a:lnTo>
                          <a:lnTo>
                            <a:pt x="101" y="45"/>
                          </a:lnTo>
                          <a:lnTo>
                            <a:pt x="105" y="53"/>
                          </a:lnTo>
                          <a:lnTo>
                            <a:pt x="85" y="78"/>
                          </a:lnTo>
                          <a:lnTo>
                            <a:pt x="72" y="88"/>
                          </a:lnTo>
                          <a:lnTo>
                            <a:pt x="64" y="98"/>
                          </a:lnTo>
                          <a:lnTo>
                            <a:pt x="68" y="109"/>
                          </a:lnTo>
                          <a:lnTo>
                            <a:pt x="77" y="113"/>
                          </a:lnTo>
                          <a:lnTo>
                            <a:pt x="90" y="113"/>
                          </a:lnTo>
                          <a:lnTo>
                            <a:pt x="101" y="105"/>
                          </a:lnTo>
                          <a:lnTo>
                            <a:pt x="125" y="81"/>
                          </a:lnTo>
                          <a:lnTo>
                            <a:pt x="140" y="64"/>
                          </a:lnTo>
                          <a:lnTo>
                            <a:pt x="171" y="52"/>
                          </a:lnTo>
                          <a:lnTo>
                            <a:pt x="165" y="6"/>
                          </a:lnTo>
                          <a:close/>
                        </a:path>
                      </a:pathLst>
                    </a:custGeom>
                    <a:solidFill>
                      <a:srgbClr val="ffb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05" name=""/>
                <p:cNvGrpSpPr/>
                <p:nvPr/>
              </p:nvGrpSpPr>
              <p:grpSpPr>
                <a:xfrm>
                  <a:off x="7156440" y="3892680"/>
                  <a:ext cx="714240" cy="191880"/>
                  <a:chOff x="7156440" y="3892680"/>
                  <a:chExt cx="714240" cy="191880"/>
                </a:xfrm>
              </p:grpSpPr>
              <p:sp>
                <p:nvSpPr>
                  <p:cNvPr id="806" name=""/>
                  <p:cNvSpPr/>
                  <p:nvPr/>
                </p:nvSpPr>
                <p:spPr>
                  <a:xfrm>
                    <a:off x="7835760" y="3892680"/>
                    <a:ext cx="3492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83">
                        <a:moveTo>
                          <a:pt x="3" y="0"/>
                        </a:moveTo>
                        <a:lnTo>
                          <a:pt x="46" y="0"/>
                        </a:lnTo>
                        <a:lnTo>
                          <a:pt x="46" y="83"/>
                        </a:lnTo>
                        <a:lnTo>
                          <a:pt x="0" y="83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>
                    <a:off x="7156440" y="4011480"/>
                    <a:ext cx="3960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92">
                        <a:moveTo>
                          <a:pt x="28" y="0"/>
                        </a:moveTo>
                        <a:lnTo>
                          <a:pt x="0" y="10"/>
                        </a:lnTo>
                        <a:lnTo>
                          <a:pt x="15" y="92"/>
                        </a:lnTo>
                        <a:lnTo>
                          <a:pt x="49" y="79"/>
                        </a:lnTo>
                        <a:lnTo>
                          <a:pt x="28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08" name=""/>
              <p:cNvSpPr/>
              <p:nvPr/>
            </p:nvSpPr>
            <p:spPr>
              <a:xfrm>
                <a:off x="6885000" y="3309840"/>
                <a:ext cx="963720" cy="771480"/>
              </a:xfrm>
              <a:custGeom>
                <a:avLst/>
                <a:gdLst/>
                <a:ahLst/>
                <a:rect l="l" t="t" r="r" b="b"/>
                <a:pathLst>
                  <a:path w="1214" h="971">
                    <a:moveTo>
                      <a:pt x="33" y="326"/>
                    </a:moveTo>
                    <a:lnTo>
                      <a:pt x="134" y="291"/>
                    </a:lnTo>
                    <a:lnTo>
                      <a:pt x="163" y="278"/>
                    </a:lnTo>
                    <a:lnTo>
                      <a:pt x="184" y="264"/>
                    </a:lnTo>
                    <a:lnTo>
                      <a:pt x="202" y="252"/>
                    </a:lnTo>
                    <a:lnTo>
                      <a:pt x="216" y="239"/>
                    </a:lnTo>
                    <a:lnTo>
                      <a:pt x="214" y="221"/>
                    </a:lnTo>
                    <a:lnTo>
                      <a:pt x="291" y="178"/>
                    </a:lnTo>
                    <a:lnTo>
                      <a:pt x="496" y="476"/>
                    </a:lnTo>
                    <a:lnTo>
                      <a:pt x="569" y="440"/>
                    </a:lnTo>
                    <a:lnTo>
                      <a:pt x="469" y="144"/>
                    </a:lnTo>
                    <a:lnTo>
                      <a:pt x="442" y="67"/>
                    </a:lnTo>
                    <a:lnTo>
                      <a:pt x="535" y="37"/>
                    </a:lnTo>
                    <a:lnTo>
                      <a:pt x="552" y="51"/>
                    </a:lnTo>
                    <a:lnTo>
                      <a:pt x="575" y="52"/>
                    </a:lnTo>
                    <a:lnTo>
                      <a:pt x="597" y="50"/>
                    </a:lnTo>
                    <a:lnTo>
                      <a:pt x="620" y="48"/>
                    </a:lnTo>
                    <a:lnTo>
                      <a:pt x="643" y="43"/>
                    </a:lnTo>
                    <a:lnTo>
                      <a:pt x="664" y="33"/>
                    </a:lnTo>
                    <a:lnTo>
                      <a:pt x="684" y="23"/>
                    </a:lnTo>
                    <a:lnTo>
                      <a:pt x="704" y="16"/>
                    </a:lnTo>
                    <a:lnTo>
                      <a:pt x="723" y="8"/>
                    </a:lnTo>
                    <a:lnTo>
                      <a:pt x="742" y="3"/>
                    </a:lnTo>
                    <a:lnTo>
                      <a:pt x="764" y="0"/>
                    </a:lnTo>
                    <a:lnTo>
                      <a:pt x="779" y="1"/>
                    </a:lnTo>
                    <a:lnTo>
                      <a:pt x="788" y="5"/>
                    </a:lnTo>
                    <a:lnTo>
                      <a:pt x="789" y="11"/>
                    </a:lnTo>
                    <a:lnTo>
                      <a:pt x="786" y="22"/>
                    </a:lnTo>
                    <a:lnTo>
                      <a:pt x="780" y="31"/>
                    </a:lnTo>
                    <a:lnTo>
                      <a:pt x="770" y="42"/>
                    </a:lnTo>
                    <a:lnTo>
                      <a:pt x="759" y="53"/>
                    </a:lnTo>
                    <a:lnTo>
                      <a:pt x="742" y="64"/>
                    </a:lnTo>
                    <a:lnTo>
                      <a:pt x="721" y="73"/>
                    </a:lnTo>
                    <a:lnTo>
                      <a:pt x="693" y="82"/>
                    </a:lnTo>
                    <a:lnTo>
                      <a:pt x="661" y="92"/>
                    </a:lnTo>
                    <a:lnTo>
                      <a:pt x="552" y="124"/>
                    </a:lnTo>
                    <a:lnTo>
                      <a:pt x="648" y="417"/>
                    </a:lnTo>
                    <a:lnTo>
                      <a:pt x="736" y="411"/>
                    </a:lnTo>
                    <a:lnTo>
                      <a:pt x="914" y="721"/>
                    </a:lnTo>
                    <a:lnTo>
                      <a:pt x="1211" y="728"/>
                    </a:lnTo>
                    <a:lnTo>
                      <a:pt x="1214" y="821"/>
                    </a:lnTo>
                    <a:lnTo>
                      <a:pt x="874" y="837"/>
                    </a:lnTo>
                    <a:lnTo>
                      <a:pt x="383" y="971"/>
                    </a:lnTo>
                    <a:lnTo>
                      <a:pt x="364" y="878"/>
                    </a:lnTo>
                    <a:lnTo>
                      <a:pt x="612" y="795"/>
                    </a:lnTo>
                    <a:lnTo>
                      <a:pt x="614" y="772"/>
                    </a:lnTo>
                    <a:lnTo>
                      <a:pt x="594" y="754"/>
                    </a:lnTo>
                    <a:lnTo>
                      <a:pt x="571" y="736"/>
                    </a:lnTo>
                    <a:lnTo>
                      <a:pt x="542" y="716"/>
                    </a:lnTo>
                    <a:lnTo>
                      <a:pt x="504" y="700"/>
                    </a:lnTo>
                    <a:lnTo>
                      <a:pt x="468" y="684"/>
                    </a:lnTo>
                    <a:lnTo>
                      <a:pt x="445" y="668"/>
                    </a:lnTo>
                    <a:lnTo>
                      <a:pt x="419" y="649"/>
                    </a:lnTo>
                    <a:lnTo>
                      <a:pt x="396" y="624"/>
                    </a:lnTo>
                    <a:lnTo>
                      <a:pt x="377" y="599"/>
                    </a:lnTo>
                    <a:lnTo>
                      <a:pt x="368" y="579"/>
                    </a:lnTo>
                    <a:lnTo>
                      <a:pt x="357" y="552"/>
                    </a:lnTo>
                    <a:lnTo>
                      <a:pt x="433" y="520"/>
                    </a:lnTo>
                    <a:lnTo>
                      <a:pt x="274" y="265"/>
                    </a:lnTo>
                    <a:lnTo>
                      <a:pt x="222" y="312"/>
                    </a:lnTo>
                    <a:lnTo>
                      <a:pt x="171" y="345"/>
                    </a:lnTo>
                    <a:lnTo>
                      <a:pt x="130" y="364"/>
                    </a:lnTo>
                    <a:lnTo>
                      <a:pt x="101" y="373"/>
                    </a:lnTo>
                    <a:lnTo>
                      <a:pt x="74" y="379"/>
                    </a:lnTo>
                    <a:lnTo>
                      <a:pt x="49" y="380"/>
                    </a:lnTo>
                    <a:lnTo>
                      <a:pt x="26" y="378"/>
                    </a:lnTo>
                    <a:lnTo>
                      <a:pt x="8" y="373"/>
                    </a:lnTo>
                    <a:lnTo>
                      <a:pt x="0" y="362"/>
                    </a:lnTo>
                    <a:lnTo>
                      <a:pt x="2" y="348"/>
                    </a:lnTo>
                    <a:lnTo>
                      <a:pt x="11" y="335"/>
                    </a:lnTo>
                    <a:lnTo>
                      <a:pt x="33" y="326"/>
                    </a:lnTo>
                    <a:close/>
                  </a:path>
                </a:pathLst>
              </a:custGeom>
              <a:solidFill>
                <a:srgbClr val="3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7348680" y="3838680"/>
              <a:ext cx="304560" cy="250560"/>
              <a:chOff x="7348680" y="3838680"/>
              <a:chExt cx="304560" cy="250560"/>
            </a:xfrm>
          </p:grpSpPr>
          <p:sp>
            <p:nvSpPr>
              <p:cNvPr id="810" name=""/>
              <p:cNvSpPr/>
              <p:nvPr/>
            </p:nvSpPr>
            <p:spPr>
              <a:xfrm>
                <a:off x="7377120" y="3838680"/>
                <a:ext cx="260280" cy="250560"/>
              </a:xfrm>
              <a:custGeom>
                <a:avLst/>
                <a:gdLst/>
                <a:ahLst/>
                <a:rect l="l" t="t" r="r" b="b"/>
                <a:pathLst>
                  <a:path w="328" h="315">
                    <a:moveTo>
                      <a:pt x="3" y="160"/>
                    </a:moveTo>
                    <a:lnTo>
                      <a:pt x="0" y="146"/>
                    </a:lnTo>
                    <a:lnTo>
                      <a:pt x="4" y="115"/>
                    </a:lnTo>
                    <a:lnTo>
                      <a:pt x="12" y="86"/>
                    </a:lnTo>
                    <a:lnTo>
                      <a:pt x="23" y="67"/>
                    </a:lnTo>
                    <a:lnTo>
                      <a:pt x="42" y="45"/>
                    </a:lnTo>
                    <a:lnTo>
                      <a:pt x="71" y="24"/>
                    </a:lnTo>
                    <a:lnTo>
                      <a:pt x="105" y="9"/>
                    </a:lnTo>
                    <a:lnTo>
                      <a:pt x="145" y="0"/>
                    </a:lnTo>
                    <a:lnTo>
                      <a:pt x="186" y="0"/>
                    </a:lnTo>
                    <a:lnTo>
                      <a:pt x="223" y="8"/>
                    </a:lnTo>
                    <a:lnTo>
                      <a:pt x="251" y="19"/>
                    </a:lnTo>
                    <a:lnTo>
                      <a:pt x="281" y="37"/>
                    </a:lnTo>
                    <a:lnTo>
                      <a:pt x="301" y="57"/>
                    </a:lnTo>
                    <a:lnTo>
                      <a:pt x="319" y="86"/>
                    </a:lnTo>
                    <a:lnTo>
                      <a:pt x="328" y="104"/>
                    </a:lnTo>
                    <a:lnTo>
                      <a:pt x="312" y="161"/>
                    </a:lnTo>
                    <a:lnTo>
                      <a:pt x="300" y="189"/>
                    </a:lnTo>
                    <a:lnTo>
                      <a:pt x="285" y="210"/>
                    </a:lnTo>
                    <a:lnTo>
                      <a:pt x="274" y="225"/>
                    </a:lnTo>
                    <a:lnTo>
                      <a:pt x="263" y="242"/>
                    </a:lnTo>
                    <a:lnTo>
                      <a:pt x="253" y="263"/>
                    </a:lnTo>
                    <a:lnTo>
                      <a:pt x="243" y="283"/>
                    </a:lnTo>
                    <a:lnTo>
                      <a:pt x="228" y="300"/>
                    </a:lnTo>
                    <a:lnTo>
                      <a:pt x="216" y="310"/>
                    </a:lnTo>
                    <a:lnTo>
                      <a:pt x="200" y="315"/>
                    </a:lnTo>
                    <a:lnTo>
                      <a:pt x="185" y="312"/>
                    </a:lnTo>
                    <a:lnTo>
                      <a:pt x="159" y="305"/>
                    </a:lnTo>
                    <a:lnTo>
                      <a:pt x="126" y="298"/>
                    </a:lnTo>
                    <a:lnTo>
                      <a:pt x="96" y="290"/>
                    </a:lnTo>
                    <a:lnTo>
                      <a:pt x="74" y="277"/>
                    </a:lnTo>
                    <a:lnTo>
                      <a:pt x="55" y="261"/>
                    </a:lnTo>
                    <a:lnTo>
                      <a:pt x="40" y="247"/>
                    </a:lnTo>
                    <a:lnTo>
                      <a:pt x="31" y="256"/>
                    </a:lnTo>
                    <a:lnTo>
                      <a:pt x="15" y="244"/>
                    </a:lnTo>
                    <a:lnTo>
                      <a:pt x="9" y="231"/>
                    </a:lnTo>
                    <a:lnTo>
                      <a:pt x="4" y="209"/>
                    </a:lnTo>
                    <a:lnTo>
                      <a:pt x="7" y="180"/>
                    </a:lnTo>
                    <a:lnTo>
                      <a:pt x="3" y="160"/>
                    </a:lnTo>
                    <a:close/>
                  </a:path>
                </a:pathLst>
              </a:custGeom>
              <a:solidFill>
                <a:srgbClr val="ffbfb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1" name=""/>
              <p:cNvGrpSpPr/>
              <p:nvPr/>
            </p:nvGrpSpPr>
            <p:grpSpPr>
              <a:xfrm>
                <a:off x="7348680" y="3902040"/>
                <a:ext cx="304560" cy="154080"/>
                <a:chOff x="7348680" y="3902040"/>
                <a:chExt cx="304560" cy="154080"/>
              </a:xfrm>
            </p:grpSpPr>
            <p:grpSp>
              <p:nvGrpSpPr>
                <p:cNvPr id="812" name=""/>
                <p:cNvGrpSpPr/>
                <p:nvPr/>
              </p:nvGrpSpPr>
              <p:grpSpPr>
                <a:xfrm>
                  <a:off x="7348680" y="3902040"/>
                  <a:ext cx="304560" cy="96840"/>
                  <a:chOff x="7348680" y="3902040"/>
                  <a:chExt cx="304560" cy="96840"/>
                </a:xfrm>
              </p:grpSpPr>
              <p:sp>
                <p:nvSpPr>
                  <p:cNvPr id="813" name=""/>
                  <p:cNvSpPr/>
                  <p:nvPr/>
                </p:nvSpPr>
                <p:spPr>
                  <a:xfrm>
                    <a:off x="7348680" y="3921120"/>
                    <a:ext cx="5688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97">
                        <a:moveTo>
                          <a:pt x="24" y="4"/>
                        </a:moveTo>
                        <a:lnTo>
                          <a:pt x="14" y="13"/>
                        </a:lnTo>
                        <a:lnTo>
                          <a:pt x="4" y="26"/>
                        </a:lnTo>
                        <a:lnTo>
                          <a:pt x="0" y="42"/>
                        </a:lnTo>
                        <a:lnTo>
                          <a:pt x="0" y="55"/>
                        </a:lnTo>
                        <a:lnTo>
                          <a:pt x="4" y="72"/>
                        </a:lnTo>
                        <a:lnTo>
                          <a:pt x="13" y="85"/>
                        </a:lnTo>
                        <a:lnTo>
                          <a:pt x="20" y="93"/>
                        </a:lnTo>
                        <a:lnTo>
                          <a:pt x="30" y="97"/>
                        </a:lnTo>
                        <a:lnTo>
                          <a:pt x="25" y="77"/>
                        </a:lnTo>
                        <a:lnTo>
                          <a:pt x="37" y="83"/>
                        </a:lnTo>
                        <a:lnTo>
                          <a:pt x="37" y="74"/>
                        </a:lnTo>
                        <a:lnTo>
                          <a:pt x="48" y="75"/>
                        </a:lnTo>
                        <a:lnTo>
                          <a:pt x="45" y="65"/>
                        </a:lnTo>
                        <a:lnTo>
                          <a:pt x="59" y="73"/>
                        </a:lnTo>
                        <a:lnTo>
                          <a:pt x="58" y="68"/>
                        </a:lnTo>
                        <a:lnTo>
                          <a:pt x="73" y="74"/>
                        </a:lnTo>
                        <a:lnTo>
                          <a:pt x="65" y="60"/>
                        </a:lnTo>
                        <a:lnTo>
                          <a:pt x="65" y="44"/>
                        </a:lnTo>
                        <a:lnTo>
                          <a:pt x="66" y="35"/>
                        </a:lnTo>
                        <a:lnTo>
                          <a:pt x="59" y="42"/>
                        </a:lnTo>
                        <a:lnTo>
                          <a:pt x="57" y="34"/>
                        </a:lnTo>
                        <a:lnTo>
                          <a:pt x="51" y="43"/>
                        </a:lnTo>
                        <a:lnTo>
                          <a:pt x="50" y="23"/>
                        </a:lnTo>
                        <a:lnTo>
                          <a:pt x="37" y="29"/>
                        </a:lnTo>
                        <a:lnTo>
                          <a:pt x="41" y="17"/>
                        </a:lnTo>
                        <a:lnTo>
                          <a:pt x="34" y="20"/>
                        </a:lnTo>
                        <a:lnTo>
                          <a:pt x="26" y="28"/>
                        </a:lnTo>
                        <a:lnTo>
                          <a:pt x="33" y="0"/>
                        </a:lnTo>
                        <a:lnTo>
                          <a:pt x="24" y="4"/>
                        </a:lnTo>
                        <a:close/>
                      </a:path>
                    </a:pathLst>
                  </a:custGeom>
                  <a:solidFill>
                    <a:srgbClr val="b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7624800" y="3902040"/>
                    <a:ext cx="2844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84">
                        <a:moveTo>
                          <a:pt x="23" y="10"/>
                        </a:moveTo>
                        <a:lnTo>
                          <a:pt x="28" y="20"/>
                        </a:lnTo>
                        <a:lnTo>
                          <a:pt x="36" y="30"/>
                        </a:lnTo>
                        <a:lnTo>
                          <a:pt x="36" y="42"/>
                        </a:lnTo>
                        <a:lnTo>
                          <a:pt x="35" y="60"/>
                        </a:lnTo>
                        <a:lnTo>
                          <a:pt x="34" y="75"/>
                        </a:lnTo>
                        <a:lnTo>
                          <a:pt x="28" y="63"/>
                        </a:lnTo>
                        <a:lnTo>
                          <a:pt x="21" y="74"/>
                        </a:lnTo>
                        <a:lnTo>
                          <a:pt x="10" y="84"/>
                        </a:lnTo>
                        <a:lnTo>
                          <a:pt x="18" y="63"/>
                        </a:lnTo>
                        <a:lnTo>
                          <a:pt x="9" y="73"/>
                        </a:lnTo>
                        <a:lnTo>
                          <a:pt x="0" y="80"/>
                        </a:lnTo>
                        <a:lnTo>
                          <a:pt x="7" y="53"/>
                        </a:lnTo>
                        <a:lnTo>
                          <a:pt x="8" y="33"/>
                        </a:lnTo>
                        <a:lnTo>
                          <a:pt x="3" y="5"/>
                        </a:lnTo>
                        <a:lnTo>
                          <a:pt x="15" y="17"/>
                        </a:lnTo>
                        <a:lnTo>
                          <a:pt x="14" y="0"/>
                        </a:lnTo>
                        <a:lnTo>
                          <a:pt x="23" y="10"/>
                        </a:lnTo>
                        <a:close/>
                      </a:path>
                    </a:pathLst>
                  </a:custGeom>
                  <a:solidFill>
                    <a:srgbClr val="b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15" name=""/>
                <p:cNvSpPr/>
                <p:nvPr/>
              </p:nvSpPr>
              <p:spPr>
                <a:xfrm>
                  <a:off x="7480440" y="4017960"/>
                  <a:ext cx="66600" cy="38160"/>
                </a:xfrm>
                <a:custGeom>
                  <a:avLst/>
                  <a:gdLst/>
                  <a:ahLst/>
                  <a:rect l="l" t="t" r="r" b="b"/>
                  <a:pathLst>
                    <a:path w="83" h="48">
                      <a:moveTo>
                        <a:pt x="7" y="0"/>
                      </a:moveTo>
                      <a:lnTo>
                        <a:pt x="2" y="14"/>
                      </a:lnTo>
                      <a:lnTo>
                        <a:pt x="0" y="23"/>
                      </a:lnTo>
                      <a:lnTo>
                        <a:pt x="1" y="36"/>
                      </a:lnTo>
                      <a:lnTo>
                        <a:pt x="5" y="46"/>
                      </a:lnTo>
                      <a:lnTo>
                        <a:pt x="9" y="33"/>
                      </a:lnTo>
                      <a:lnTo>
                        <a:pt x="14" y="22"/>
                      </a:lnTo>
                      <a:lnTo>
                        <a:pt x="21" y="33"/>
                      </a:lnTo>
                      <a:lnTo>
                        <a:pt x="26" y="42"/>
                      </a:lnTo>
                      <a:lnTo>
                        <a:pt x="30" y="39"/>
                      </a:lnTo>
                      <a:lnTo>
                        <a:pt x="38" y="48"/>
                      </a:lnTo>
                      <a:lnTo>
                        <a:pt x="40" y="32"/>
                      </a:lnTo>
                      <a:lnTo>
                        <a:pt x="49" y="43"/>
                      </a:lnTo>
                      <a:lnTo>
                        <a:pt x="53" y="39"/>
                      </a:lnTo>
                      <a:lnTo>
                        <a:pt x="54" y="27"/>
                      </a:lnTo>
                      <a:lnTo>
                        <a:pt x="67" y="46"/>
                      </a:lnTo>
                      <a:lnTo>
                        <a:pt x="62" y="19"/>
                      </a:lnTo>
                      <a:lnTo>
                        <a:pt x="83" y="42"/>
                      </a:lnTo>
                      <a:lnTo>
                        <a:pt x="70" y="17"/>
                      </a:lnTo>
                      <a:lnTo>
                        <a:pt x="55" y="1"/>
                      </a:lnTo>
                      <a:lnTo>
                        <a:pt x="52" y="7"/>
                      </a:lnTo>
                      <a:lnTo>
                        <a:pt x="45" y="7"/>
                      </a:lnTo>
                      <a:lnTo>
                        <a:pt x="43" y="10"/>
                      </a:lnTo>
                      <a:lnTo>
                        <a:pt x="37" y="9"/>
                      </a:lnTo>
                      <a:lnTo>
                        <a:pt x="26" y="6"/>
                      </a:lnTo>
                      <a:lnTo>
                        <a:pt x="22" y="14"/>
                      </a:lnTo>
                      <a:lnTo>
                        <a:pt x="18" y="5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b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6" name=""/>
              <p:cNvGrpSpPr/>
              <p:nvPr/>
            </p:nvGrpSpPr>
            <p:grpSpPr>
              <a:xfrm>
                <a:off x="7437600" y="3902040"/>
                <a:ext cx="129960" cy="120600"/>
                <a:chOff x="7437600" y="3902040"/>
                <a:chExt cx="129960" cy="120600"/>
              </a:xfrm>
            </p:grpSpPr>
            <p:sp>
              <p:nvSpPr>
                <p:cNvPr id="817" name=""/>
                <p:cNvSpPr/>
                <p:nvPr/>
              </p:nvSpPr>
              <p:spPr>
                <a:xfrm>
                  <a:off x="7477200" y="3924360"/>
                  <a:ext cx="57240" cy="98280"/>
                </a:xfrm>
                <a:custGeom>
                  <a:avLst/>
                  <a:gdLst/>
                  <a:ahLst/>
                  <a:rect l="l" t="t" r="r" b="b"/>
                  <a:pathLst>
                    <a:path w="72" h="124">
                      <a:moveTo>
                        <a:pt x="34" y="0"/>
                      </a:moveTo>
                      <a:lnTo>
                        <a:pt x="24" y="12"/>
                      </a:lnTo>
                      <a:lnTo>
                        <a:pt x="16" y="24"/>
                      </a:lnTo>
                      <a:lnTo>
                        <a:pt x="11" y="38"/>
                      </a:lnTo>
                      <a:lnTo>
                        <a:pt x="7" y="48"/>
                      </a:lnTo>
                      <a:lnTo>
                        <a:pt x="3" y="64"/>
                      </a:lnTo>
                      <a:lnTo>
                        <a:pt x="1" y="80"/>
                      </a:lnTo>
                      <a:lnTo>
                        <a:pt x="0" y="94"/>
                      </a:lnTo>
                      <a:lnTo>
                        <a:pt x="1" y="105"/>
                      </a:lnTo>
                      <a:lnTo>
                        <a:pt x="8" y="113"/>
                      </a:lnTo>
                      <a:lnTo>
                        <a:pt x="17" y="120"/>
                      </a:lnTo>
                      <a:lnTo>
                        <a:pt x="30" y="124"/>
                      </a:lnTo>
                      <a:lnTo>
                        <a:pt x="46" y="124"/>
                      </a:lnTo>
                      <a:lnTo>
                        <a:pt x="59" y="122"/>
                      </a:lnTo>
                      <a:lnTo>
                        <a:pt x="67" y="112"/>
                      </a:lnTo>
                      <a:lnTo>
                        <a:pt x="72" y="97"/>
                      </a:lnTo>
                      <a:lnTo>
                        <a:pt x="71" y="80"/>
                      </a:lnTo>
                      <a:lnTo>
                        <a:pt x="66" y="63"/>
                      </a:lnTo>
                      <a:lnTo>
                        <a:pt x="51" y="32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8" name=""/>
                <p:cNvGrpSpPr/>
                <p:nvPr/>
              </p:nvGrpSpPr>
              <p:grpSpPr>
                <a:xfrm>
                  <a:off x="7437600" y="3902040"/>
                  <a:ext cx="129960" cy="69840"/>
                  <a:chOff x="7437600" y="3902040"/>
                  <a:chExt cx="129960" cy="69840"/>
                </a:xfrm>
              </p:grpSpPr>
              <p:grpSp>
                <p:nvGrpSpPr>
                  <p:cNvPr id="819" name=""/>
                  <p:cNvGrpSpPr/>
                  <p:nvPr/>
                </p:nvGrpSpPr>
                <p:grpSpPr>
                  <a:xfrm>
                    <a:off x="7443720" y="3914640"/>
                    <a:ext cx="123840" cy="57240"/>
                    <a:chOff x="7443720" y="3914640"/>
                    <a:chExt cx="123840" cy="57240"/>
                  </a:xfrm>
                </p:grpSpPr>
                <p:sp>
                  <p:nvSpPr>
                    <p:cNvPr id="820" name=""/>
                    <p:cNvSpPr/>
                    <p:nvPr/>
                  </p:nvSpPr>
                  <p:spPr>
                    <a:xfrm>
                      <a:off x="7443720" y="3914640"/>
                      <a:ext cx="46080" cy="5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" h="70">
                          <a:moveTo>
                            <a:pt x="54" y="0"/>
                          </a:moveTo>
                          <a:lnTo>
                            <a:pt x="38" y="3"/>
                          </a:lnTo>
                          <a:lnTo>
                            <a:pt x="25" y="11"/>
                          </a:lnTo>
                          <a:lnTo>
                            <a:pt x="12" y="22"/>
                          </a:lnTo>
                          <a:lnTo>
                            <a:pt x="6" y="34"/>
                          </a:lnTo>
                          <a:lnTo>
                            <a:pt x="0" y="50"/>
                          </a:lnTo>
                          <a:lnTo>
                            <a:pt x="3" y="58"/>
                          </a:lnTo>
                          <a:lnTo>
                            <a:pt x="11" y="66"/>
                          </a:lnTo>
                          <a:lnTo>
                            <a:pt x="27" y="70"/>
                          </a:lnTo>
                          <a:lnTo>
                            <a:pt x="39" y="68"/>
                          </a:lnTo>
                          <a:lnTo>
                            <a:pt x="48" y="55"/>
                          </a:lnTo>
                          <a:lnTo>
                            <a:pt x="57" y="33"/>
                          </a:lnTo>
                          <a:lnTo>
                            <a:pt x="57" y="17"/>
                          </a:lnTo>
                          <a:lnTo>
                            <a:pt x="54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440" bIns="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1" name=""/>
                    <p:cNvSpPr/>
                    <p:nvPr/>
                  </p:nvSpPr>
                  <p:spPr>
                    <a:xfrm>
                      <a:off x="7521480" y="3914640"/>
                      <a:ext cx="46080" cy="5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69">
                          <a:moveTo>
                            <a:pt x="14" y="0"/>
                          </a:moveTo>
                          <a:lnTo>
                            <a:pt x="30" y="11"/>
                          </a:lnTo>
                          <a:lnTo>
                            <a:pt x="40" y="22"/>
                          </a:lnTo>
                          <a:lnTo>
                            <a:pt x="50" y="33"/>
                          </a:lnTo>
                          <a:lnTo>
                            <a:pt x="55" y="47"/>
                          </a:lnTo>
                          <a:lnTo>
                            <a:pt x="56" y="58"/>
                          </a:lnTo>
                          <a:lnTo>
                            <a:pt x="51" y="66"/>
                          </a:lnTo>
                          <a:lnTo>
                            <a:pt x="38" y="69"/>
                          </a:lnTo>
                          <a:lnTo>
                            <a:pt x="27" y="68"/>
                          </a:lnTo>
                          <a:lnTo>
                            <a:pt x="15" y="64"/>
                          </a:lnTo>
                          <a:lnTo>
                            <a:pt x="5" y="55"/>
                          </a:lnTo>
                          <a:lnTo>
                            <a:pt x="1" y="47"/>
                          </a:lnTo>
                          <a:lnTo>
                            <a:pt x="0" y="30"/>
                          </a:lnTo>
                          <a:lnTo>
                            <a:pt x="2" y="22"/>
                          </a:lnTo>
                          <a:lnTo>
                            <a:pt x="6" y="10"/>
                          </a:lnTo>
                          <a:lnTo>
                            <a:pt x="14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22" name=""/>
                  <p:cNvGrpSpPr/>
                  <p:nvPr/>
                </p:nvGrpSpPr>
                <p:grpSpPr>
                  <a:xfrm>
                    <a:off x="7464600" y="3954600"/>
                    <a:ext cx="80640" cy="7920"/>
                    <a:chOff x="7464600" y="3954600"/>
                    <a:chExt cx="80640" cy="7920"/>
                  </a:xfrm>
                </p:grpSpPr>
                <p:sp>
                  <p:nvSpPr>
                    <p:cNvPr id="823" name=""/>
                    <p:cNvSpPr/>
                    <p:nvPr/>
                  </p:nvSpPr>
                  <p:spPr>
                    <a:xfrm>
                      <a:off x="7464600" y="3956040"/>
                      <a:ext cx="6120" cy="64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4" name=""/>
                    <p:cNvSpPr/>
                    <p:nvPr/>
                  </p:nvSpPr>
                  <p:spPr>
                    <a:xfrm>
                      <a:off x="7539120" y="3954600"/>
                      <a:ext cx="6120" cy="79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25" name=""/>
                  <p:cNvGrpSpPr/>
                  <p:nvPr/>
                </p:nvGrpSpPr>
                <p:grpSpPr>
                  <a:xfrm>
                    <a:off x="7437600" y="3902040"/>
                    <a:ext cx="128520" cy="39600"/>
                    <a:chOff x="7437600" y="3902040"/>
                    <a:chExt cx="128520" cy="39600"/>
                  </a:xfrm>
                </p:grpSpPr>
                <p:sp>
                  <p:nvSpPr>
                    <p:cNvPr id="826" name=""/>
                    <p:cNvSpPr/>
                    <p:nvPr/>
                  </p:nvSpPr>
                  <p:spPr>
                    <a:xfrm>
                      <a:off x="7437600" y="3902040"/>
                      <a:ext cx="4752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49">
                          <a:moveTo>
                            <a:pt x="61" y="0"/>
                          </a:moveTo>
                          <a:lnTo>
                            <a:pt x="42" y="14"/>
                          </a:lnTo>
                          <a:lnTo>
                            <a:pt x="11" y="41"/>
                          </a:lnTo>
                          <a:lnTo>
                            <a:pt x="0" y="49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7" name=""/>
                    <p:cNvSpPr/>
                    <p:nvPr/>
                  </p:nvSpPr>
                  <p:spPr>
                    <a:xfrm>
                      <a:off x="7526160" y="3905280"/>
                      <a:ext cx="3996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" h="40">
                          <a:moveTo>
                            <a:pt x="0" y="0"/>
                          </a:moveTo>
                          <a:lnTo>
                            <a:pt x="30" y="24"/>
                          </a:lnTo>
                          <a:lnTo>
                            <a:pt x="51" y="40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828" name=""/>
              <p:cNvSpPr/>
              <p:nvPr/>
            </p:nvSpPr>
            <p:spPr>
              <a:xfrm>
                <a:off x="7392960" y="3838680"/>
                <a:ext cx="149400" cy="71280"/>
              </a:xfrm>
              <a:custGeom>
                <a:avLst/>
                <a:gdLst/>
                <a:ahLst/>
                <a:rect l="l" t="t" r="r" b="b"/>
                <a:pathLst>
                  <a:path w="187" h="89">
                    <a:moveTo>
                      <a:pt x="114" y="0"/>
                    </a:moveTo>
                    <a:lnTo>
                      <a:pt x="64" y="32"/>
                    </a:lnTo>
                    <a:lnTo>
                      <a:pt x="24" y="63"/>
                    </a:lnTo>
                    <a:lnTo>
                      <a:pt x="0" y="89"/>
                    </a:lnTo>
                    <a:lnTo>
                      <a:pt x="72" y="41"/>
                    </a:lnTo>
                    <a:lnTo>
                      <a:pt x="142" y="11"/>
                    </a:lnTo>
                    <a:lnTo>
                      <a:pt x="187" y="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9" name=""/>
          <p:cNvGrpSpPr/>
          <p:nvPr/>
        </p:nvGrpSpPr>
        <p:grpSpPr>
          <a:xfrm>
            <a:off x="7334280" y="2629080"/>
            <a:ext cx="1184400" cy="1242720"/>
            <a:chOff x="7334280" y="2629080"/>
            <a:chExt cx="1184400" cy="1242720"/>
          </a:xfrm>
        </p:grpSpPr>
        <p:grpSp>
          <p:nvGrpSpPr>
            <p:cNvPr id="830" name=""/>
            <p:cNvGrpSpPr/>
            <p:nvPr/>
          </p:nvGrpSpPr>
          <p:grpSpPr>
            <a:xfrm>
              <a:off x="8267760" y="2629080"/>
              <a:ext cx="250920" cy="169560"/>
              <a:chOff x="8267760" y="2629080"/>
              <a:chExt cx="250920" cy="169560"/>
            </a:xfrm>
          </p:grpSpPr>
          <p:sp>
            <p:nvSpPr>
              <p:cNvPr id="831" name=""/>
              <p:cNvSpPr/>
              <p:nvPr/>
            </p:nvSpPr>
            <p:spPr>
              <a:xfrm>
                <a:off x="8267760" y="2706840"/>
                <a:ext cx="150840" cy="91800"/>
              </a:xfrm>
              <a:custGeom>
                <a:avLst/>
                <a:gdLst/>
                <a:ahLst/>
                <a:rect l="l" t="t" r="r" b="b"/>
                <a:pathLst>
                  <a:path w="191" h="116">
                    <a:moveTo>
                      <a:pt x="0" y="116"/>
                    </a:moveTo>
                    <a:lnTo>
                      <a:pt x="191" y="93"/>
                    </a:lnTo>
                    <a:lnTo>
                      <a:pt x="64" y="0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8410680" y="2629080"/>
                <a:ext cx="108000" cy="98280"/>
              </a:xfrm>
              <a:custGeom>
                <a:avLst/>
                <a:gdLst/>
                <a:ahLst/>
                <a:rect l="l" t="t" r="r" b="b"/>
                <a:pathLst>
                  <a:path w="136" h="123">
                    <a:moveTo>
                      <a:pt x="0" y="116"/>
                    </a:moveTo>
                    <a:lnTo>
                      <a:pt x="136" y="123"/>
                    </a:lnTo>
                    <a:lnTo>
                      <a:pt x="104" y="0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7334280" y="2671920"/>
              <a:ext cx="1136520" cy="1199880"/>
              <a:chOff x="7334280" y="2671920"/>
              <a:chExt cx="1136520" cy="1199880"/>
            </a:xfrm>
          </p:grpSpPr>
          <p:sp>
            <p:nvSpPr>
              <p:cNvPr id="834" name=""/>
              <p:cNvSpPr/>
              <p:nvPr/>
            </p:nvSpPr>
            <p:spPr>
              <a:xfrm>
                <a:off x="7334280" y="2671920"/>
                <a:ext cx="1136520" cy="1199880"/>
              </a:xfrm>
              <a:custGeom>
                <a:avLst/>
                <a:gdLst/>
                <a:ahLst/>
                <a:rect l="l" t="t" r="r" b="b"/>
                <a:pathLst>
                  <a:path w="1433" h="1511">
                    <a:moveTo>
                      <a:pt x="582" y="6"/>
                    </a:moveTo>
                    <a:lnTo>
                      <a:pt x="588" y="48"/>
                    </a:lnTo>
                    <a:lnTo>
                      <a:pt x="591" y="80"/>
                    </a:lnTo>
                    <a:lnTo>
                      <a:pt x="582" y="130"/>
                    </a:lnTo>
                    <a:lnTo>
                      <a:pt x="566" y="207"/>
                    </a:lnTo>
                    <a:lnTo>
                      <a:pt x="561" y="231"/>
                    </a:lnTo>
                    <a:lnTo>
                      <a:pt x="546" y="269"/>
                    </a:lnTo>
                    <a:lnTo>
                      <a:pt x="519" y="314"/>
                    </a:lnTo>
                    <a:lnTo>
                      <a:pt x="486" y="356"/>
                    </a:lnTo>
                    <a:lnTo>
                      <a:pt x="454" y="389"/>
                    </a:lnTo>
                    <a:lnTo>
                      <a:pt x="421" y="423"/>
                    </a:lnTo>
                    <a:lnTo>
                      <a:pt x="384" y="471"/>
                    </a:lnTo>
                    <a:lnTo>
                      <a:pt x="345" y="541"/>
                    </a:lnTo>
                    <a:lnTo>
                      <a:pt x="317" y="645"/>
                    </a:lnTo>
                    <a:lnTo>
                      <a:pt x="312" y="700"/>
                    </a:lnTo>
                    <a:lnTo>
                      <a:pt x="295" y="791"/>
                    </a:lnTo>
                    <a:lnTo>
                      <a:pt x="279" y="894"/>
                    </a:lnTo>
                    <a:lnTo>
                      <a:pt x="263" y="954"/>
                    </a:lnTo>
                    <a:lnTo>
                      <a:pt x="243" y="1001"/>
                    </a:lnTo>
                    <a:lnTo>
                      <a:pt x="209" y="1087"/>
                    </a:lnTo>
                    <a:lnTo>
                      <a:pt x="162" y="1183"/>
                    </a:lnTo>
                    <a:lnTo>
                      <a:pt x="129" y="1232"/>
                    </a:lnTo>
                    <a:lnTo>
                      <a:pt x="96" y="1292"/>
                    </a:lnTo>
                    <a:lnTo>
                      <a:pt x="56" y="1358"/>
                    </a:lnTo>
                    <a:lnTo>
                      <a:pt x="5" y="1422"/>
                    </a:lnTo>
                    <a:lnTo>
                      <a:pt x="0" y="1440"/>
                    </a:lnTo>
                    <a:lnTo>
                      <a:pt x="1" y="1453"/>
                    </a:lnTo>
                    <a:lnTo>
                      <a:pt x="10" y="1465"/>
                    </a:lnTo>
                    <a:lnTo>
                      <a:pt x="24" y="1479"/>
                    </a:lnTo>
                    <a:lnTo>
                      <a:pt x="42" y="1491"/>
                    </a:lnTo>
                    <a:lnTo>
                      <a:pt x="112" y="1508"/>
                    </a:lnTo>
                    <a:lnTo>
                      <a:pt x="151" y="1511"/>
                    </a:lnTo>
                    <a:lnTo>
                      <a:pt x="196" y="1503"/>
                    </a:lnTo>
                    <a:lnTo>
                      <a:pt x="248" y="1473"/>
                    </a:lnTo>
                    <a:lnTo>
                      <a:pt x="295" y="1428"/>
                    </a:lnTo>
                    <a:lnTo>
                      <a:pt x="342" y="1373"/>
                    </a:lnTo>
                    <a:lnTo>
                      <a:pt x="359" y="1344"/>
                    </a:lnTo>
                    <a:lnTo>
                      <a:pt x="372" y="1305"/>
                    </a:lnTo>
                    <a:lnTo>
                      <a:pt x="403" y="1229"/>
                    </a:lnTo>
                    <a:lnTo>
                      <a:pt x="442" y="1157"/>
                    </a:lnTo>
                    <a:lnTo>
                      <a:pt x="514" y="1041"/>
                    </a:lnTo>
                    <a:lnTo>
                      <a:pt x="543" y="1163"/>
                    </a:lnTo>
                    <a:lnTo>
                      <a:pt x="555" y="1231"/>
                    </a:lnTo>
                    <a:lnTo>
                      <a:pt x="575" y="1293"/>
                    </a:lnTo>
                    <a:lnTo>
                      <a:pt x="592" y="1328"/>
                    </a:lnTo>
                    <a:lnTo>
                      <a:pt x="609" y="1367"/>
                    </a:lnTo>
                    <a:lnTo>
                      <a:pt x="631" y="1406"/>
                    </a:lnTo>
                    <a:lnTo>
                      <a:pt x="645" y="1427"/>
                    </a:lnTo>
                    <a:lnTo>
                      <a:pt x="660" y="1447"/>
                    </a:lnTo>
                    <a:lnTo>
                      <a:pt x="687" y="1469"/>
                    </a:lnTo>
                    <a:lnTo>
                      <a:pt x="706" y="1481"/>
                    </a:lnTo>
                    <a:lnTo>
                      <a:pt x="746" y="1491"/>
                    </a:lnTo>
                    <a:lnTo>
                      <a:pt x="776" y="1494"/>
                    </a:lnTo>
                    <a:lnTo>
                      <a:pt x="809" y="1492"/>
                    </a:lnTo>
                    <a:lnTo>
                      <a:pt x="836" y="1486"/>
                    </a:lnTo>
                    <a:lnTo>
                      <a:pt x="857" y="1478"/>
                    </a:lnTo>
                    <a:lnTo>
                      <a:pt x="883" y="1432"/>
                    </a:lnTo>
                    <a:lnTo>
                      <a:pt x="935" y="1330"/>
                    </a:lnTo>
                    <a:lnTo>
                      <a:pt x="978" y="1345"/>
                    </a:lnTo>
                    <a:lnTo>
                      <a:pt x="1013" y="1349"/>
                    </a:lnTo>
                    <a:lnTo>
                      <a:pt x="1041" y="1349"/>
                    </a:lnTo>
                    <a:lnTo>
                      <a:pt x="1059" y="1343"/>
                    </a:lnTo>
                    <a:lnTo>
                      <a:pt x="1079" y="1322"/>
                    </a:lnTo>
                    <a:lnTo>
                      <a:pt x="1096" y="1305"/>
                    </a:lnTo>
                    <a:lnTo>
                      <a:pt x="1113" y="1281"/>
                    </a:lnTo>
                    <a:lnTo>
                      <a:pt x="1128" y="1244"/>
                    </a:lnTo>
                    <a:lnTo>
                      <a:pt x="1135" y="1211"/>
                    </a:lnTo>
                    <a:lnTo>
                      <a:pt x="1135" y="1190"/>
                    </a:lnTo>
                    <a:lnTo>
                      <a:pt x="1159" y="1170"/>
                    </a:lnTo>
                    <a:lnTo>
                      <a:pt x="1183" y="1167"/>
                    </a:lnTo>
                    <a:lnTo>
                      <a:pt x="1210" y="1157"/>
                    </a:lnTo>
                    <a:lnTo>
                      <a:pt x="1230" y="1151"/>
                    </a:lnTo>
                    <a:lnTo>
                      <a:pt x="1251" y="1132"/>
                    </a:lnTo>
                    <a:lnTo>
                      <a:pt x="1266" y="1116"/>
                    </a:lnTo>
                    <a:lnTo>
                      <a:pt x="1282" y="1097"/>
                    </a:lnTo>
                    <a:lnTo>
                      <a:pt x="1297" y="1069"/>
                    </a:lnTo>
                    <a:lnTo>
                      <a:pt x="1305" y="1042"/>
                    </a:lnTo>
                    <a:lnTo>
                      <a:pt x="1310" y="1016"/>
                    </a:lnTo>
                    <a:lnTo>
                      <a:pt x="1303" y="988"/>
                    </a:lnTo>
                    <a:lnTo>
                      <a:pt x="1282" y="940"/>
                    </a:lnTo>
                    <a:lnTo>
                      <a:pt x="1331" y="940"/>
                    </a:lnTo>
                    <a:lnTo>
                      <a:pt x="1351" y="937"/>
                    </a:lnTo>
                    <a:lnTo>
                      <a:pt x="1369" y="924"/>
                    </a:lnTo>
                    <a:lnTo>
                      <a:pt x="1385" y="907"/>
                    </a:lnTo>
                    <a:lnTo>
                      <a:pt x="1400" y="884"/>
                    </a:lnTo>
                    <a:lnTo>
                      <a:pt x="1413" y="856"/>
                    </a:lnTo>
                    <a:lnTo>
                      <a:pt x="1426" y="831"/>
                    </a:lnTo>
                    <a:lnTo>
                      <a:pt x="1433" y="806"/>
                    </a:lnTo>
                    <a:lnTo>
                      <a:pt x="1433" y="781"/>
                    </a:lnTo>
                    <a:lnTo>
                      <a:pt x="1429" y="755"/>
                    </a:lnTo>
                    <a:lnTo>
                      <a:pt x="1425" y="728"/>
                    </a:lnTo>
                    <a:lnTo>
                      <a:pt x="1413" y="707"/>
                    </a:lnTo>
                    <a:lnTo>
                      <a:pt x="1396" y="684"/>
                    </a:lnTo>
                    <a:lnTo>
                      <a:pt x="1373" y="655"/>
                    </a:lnTo>
                    <a:lnTo>
                      <a:pt x="1360" y="593"/>
                    </a:lnTo>
                    <a:lnTo>
                      <a:pt x="1346" y="545"/>
                    </a:lnTo>
                    <a:lnTo>
                      <a:pt x="1334" y="515"/>
                    </a:lnTo>
                    <a:lnTo>
                      <a:pt x="1299" y="453"/>
                    </a:lnTo>
                    <a:lnTo>
                      <a:pt x="1298" y="436"/>
                    </a:lnTo>
                    <a:lnTo>
                      <a:pt x="1299" y="393"/>
                    </a:lnTo>
                    <a:lnTo>
                      <a:pt x="1285" y="354"/>
                    </a:lnTo>
                    <a:lnTo>
                      <a:pt x="1261" y="313"/>
                    </a:lnTo>
                    <a:lnTo>
                      <a:pt x="1256" y="283"/>
                    </a:lnTo>
                    <a:lnTo>
                      <a:pt x="1249" y="236"/>
                    </a:lnTo>
                    <a:lnTo>
                      <a:pt x="1238" y="204"/>
                    </a:lnTo>
                    <a:lnTo>
                      <a:pt x="1231" y="167"/>
                    </a:lnTo>
                    <a:lnTo>
                      <a:pt x="1228" y="129"/>
                    </a:lnTo>
                    <a:lnTo>
                      <a:pt x="1231" y="98"/>
                    </a:lnTo>
                    <a:lnTo>
                      <a:pt x="1243" y="68"/>
                    </a:lnTo>
                    <a:lnTo>
                      <a:pt x="1213" y="0"/>
                    </a:lnTo>
                    <a:lnTo>
                      <a:pt x="582" y="6"/>
                    </a:lnTo>
                    <a:close/>
                  </a:path>
                </a:pathLst>
              </a:custGeom>
              <a:solidFill>
                <a:srgbClr val="ffcc99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5" name=""/>
              <p:cNvGrpSpPr/>
              <p:nvPr/>
            </p:nvGrpSpPr>
            <p:grpSpPr>
              <a:xfrm>
                <a:off x="7373880" y="2760840"/>
                <a:ext cx="1054080" cy="1066680"/>
                <a:chOff x="7373880" y="2760840"/>
                <a:chExt cx="1054080" cy="1066680"/>
              </a:xfrm>
            </p:grpSpPr>
            <p:grpSp>
              <p:nvGrpSpPr>
                <p:cNvPr id="836" name=""/>
                <p:cNvGrpSpPr/>
                <p:nvPr/>
              </p:nvGrpSpPr>
              <p:grpSpPr>
                <a:xfrm>
                  <a:off x="7373880" y="2760840"/>
                  <a:ext cx="1054080" cy="1066680"/>
                  <a:chOff x="7373880" y="2760840"/>
                  <a:chExt cx="1054080" cy="1066680"/>
                </a:xfrm>
              </p:grpSpPr>
              <p:sp>
                <p:nvSpPr>
                  <p:cNvPr id="837" name=""/>
                  <p:cNvSpPr/>
                  <p:nvPr/>
                </p:nvSpPr>
                <p:spPr>
                  <a:xfrm>
                    <a:off x="7985160" y="3257640"/>
                    <a:ext cx="250920" cy="357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6" h="449">
                        <a:moveTo>
                          <a:pt x="49" y="314"/>
                        </a:moveTo>
                        <a:lnTo>
                          <a:pt x="52" y="294"/>
                        </a:lnTo>
                        <a:lnTo>
                          <a:pt x="50" y="280"/>
                        </a:lnTo>
                        <a:lnTo>
                          <a:pt x="45" y="261"/>
                        </a:lnTo>
                        <a:lnTo>
                          <a:pt x="36" y="244"/>
                        </a:lnTo>
                        <a:lnTo>
                          <a:pt x="31" y="228"/>
                        </a:lnTo>
                        <a:lnTo>
                          <a:pt x="22" y="205"/>
                        </a:lnTo>
                        <a:lnTo>
                          <a:pt x="15" y="183"/>
                        </a:lnTo>
                        <a:lnTo>
                          <a:pt x="8" y="156"/>
                        </a:lnTo>
                        <a:lnTo>
                          <a:pt x="4" y="134"/>
                        </a:lnTo>
                        <a:lnTo>
                          <a:pt x="1" y="113"/>
                        </a:lnTo>
                        <a:lnTo>
                          <a:pt x="0" y="89"/>
                        </a:lnTo>
                        <a:lnTo>
                          <a:pt x="0" y="72"/>
                        </a:lnTo>
                        <a:lnTo>
                          <a:pt x="4" y="56"/>
                        </a:lnTo>
                        <a:lnTo>
                          <a:pt x="12" y="42"/>
                        </a:lnTo>
                        <a:lnTo>
                          <a:pt x="21" y="32"/>
                        </a:lnTo>
                        <a:lnTo>
                          <a:pt x="39" y="19"/>
                        </a:lnTo>
                        <a:lnTo>
                          <a:pt x="56" y="9"/>
                        </a:lnTo>
                        <a:lnTo>
                          <a:pt x="77" y="2"/>
                        </a:lnTo>
                        <a:lnTo>
                          <a:pt x="96" y="0"/>
                        </a:lnTo>
                        <a:lnTo>
                          <a:pt x="115" y="2"/>
                        </a:lnTo>
                        <a:lnTo>
                          <a:pt x="133" y="9"/>
                        </a:lnTo>
                        <a:lnTo>
                          <a:pt x="152" y="19"/>
                        </a:lnTo>
                        <a:lnTo>
                          <a:pt x="171" y="30"/>
                        </a:lnTo>
                        <a:lnTo>
                          <a:pt x="187" y="49"/>
                        </a:lnTo>
                        <a:lnTo>
                          <a:pt x="200" y="64"/>
                        </a:lnTo>
                        <a:lnTo>
                          <a:pt x="209" y="76"/>
                        </a:lnTo>
                        <a:lnTo>
                          <a:pt x="220" y="93"/>
                        </a:lnTo>
                        <a:lnTo>
                          <a:pt x="230" y="108"/>
                        </a:lnTo>
                        <a:lnTo>
                          <a:pt x="239" y="124"/>
                        </a:lnTo>
                        <a:lnTo>
                          <a:pt x="246" y="141"/>
                        </a:lnTo>
                        <a:lnTo>
                          <a:pt x="262" y="194"/>
                        </a:lnTo>
                        <a:lnTo>
                          <a:pt x="281" y="254"/>
                        </a:lnTo>
                        <a:lnTo>
                          <a:pt x="284" y="296"/>
                        </a:lnTo>
                        <a:lnTo>
                          <a:pt x="304" y="347"/>
                        </a:lnTo>
                        <a:lnTo>
                          <a:pt x="316" y="392"/>
                        </a:lnTo>
                        <a:lnTo>
                          <a:pt x="316" y="449"/>
                        </a:lnTo>
                        <a:lnTo>
                          <a:pt x="313" y="449"/>
                        </a:lnTo>
                      </a:path>
                    </a:pathLst>
                  </a:custGeom>
                  <a:solidFill>
                    <a:srgbClr val="ffcc99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7877160" y="3432240"/>
                    <a:ext cx="214200" cy="29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0" h="377">
                        <a:moveTo>
                          <a:pt x="0" y="90"/>
                        </a:moveTo>
                        <a:lnTo>
                          <a:pt x="3" y="79"/>
                        </a:lnTo>
                        <a:lnTo>
                          <a:pt x="6" y="65"/>
                        </a:lnTo>
                        <a:lnTo>
                          <a:pt x="11" y="52"/>
                        </a:lnTo>
                        <a:lnTo>
                          <a:pt x="19" y="38"/>
                        </a:lnTo>
                        <a:lnTo>
                          <a:pt x="25" y="29"/>
                        </a:lnTo>
                        <a:lnTo>
                          <a:pt x="39" y="15"/>
                        </a:lnTo>
                        <a:lnTo>
                          <a:pt x="51" y="6"/>
                        </a:lnTo>
                        <a:lnTo>
                          <a:pt x="60" y="2"/>
                        </a:lnTo>
                        <a:lnTo>
                          <a:pt x="80" y="0"/>
                        </a:lnTo>
                        <a:lnTo>
                          <a:pt x="95" y="1"/>
                        </a:lnTo>
                        <a:lnTo>
                          <a:pt x="109" y="4"/>
                        </a:lnTo>
                        <a:lnTo>
                          <a:pt x="125" y="12"/>
                        </a:lnTo>
                        <a:lnTo>
                          <a:pt x="141" y="26"/>
                        </a:lnTo>
                        <a:lnTo>
                          <a:pt x="152" y="38"/>
                        </a:lnTo>
                        <a:lnTo>
                          <a:pt x="161" y="54"/>
                        </a:lnTo>
                        <a:lnTo>
                          <a:pt x="171" y="70"/>
                        </a:lnTo>
                        <a:lnTo>
                          <a:pt x="182" y="93"/>
                        </a:lnTo>
                        <a:lnTo>
                          <a:pt x="198" y="125"/>
                        </a:lnTo>
                        <a:lnTo>
                          <a:pt x="215" y="152"/>
                        </a:lnTo>
                        <a:lnTo>
                          <a:pt x="225" y="170"/>
                        </a:lnTo>
                        <a:lnTo>
                          <a:pt x="241" y="196"/>
                        </a:lnTo>
                        <a:lnTo>
                          <a:pt x="256" y="220"/>
                        </a:lnTo>
                        <a:lnTo>
                          <a:pt x="265" y="238"/>
                        </a:lnTo>
                        <a:lnTo>
                          <a:pt x="269" y="258"/>
                        </a:lnTo>
                        <a:lnTo>
                          <a:pt x="270" y="277"/>
                        </a:lnTo>
                        <a:lnTo>
                          <a:pt x="270" y="295"/>
                        </a:lnTo>
                        <a:lnTo>
                          <a:pt x="267" y="311"/>
                        </a:lnTo>
                        <a:lnTo>
                          <a:pt x="263" y="327"/>
                        </a:lnTo>
                        <a:lnTo>
                          <a:pt x="257" y="344"/>
                        </a:lnTo>
                        <a:lnTo>
                          <a:pt x="253" y="359"/>
                        </a:lnTo>
                        <a:lnTo>
                          <a:pt x="247" y="377"/>
                        </a:lnTo>
                      </a:path>
                    </a:pathLst>
                  </a:custGeom>
                  <a:solidFill>
                    <a:srgbClr val="ffcc99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8032680" y="3139920"/>
                    <a:ext cx="320760" cy="27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02" h="350">
                        <a:moveTo>
                          <a:pt x="16" y="153"/>
                        </a:moveTo>
                        <a:lnTo>
                          <a:pt x="9" y="133"/>
                        </a:lnTo>
                        <a:lnTo>
                          <a:pt x="5" y="115"/>
                        </a:lnTo>
                        <a:lnTo>
                          <a:pt x="2" y="94"/>
                        </a:lnTo>
                        <a:lnTo>
                          <a:pt x="0" y="75"/>
                        </a:lnTo>
                        <a:lnTo>
                          <a:pt x="1" y="60"/>
                        </a:lnTo>
                        <a:lnTo>
                          <a:pt x="6" y="47"/>
                        </a:lnTo>
                        <a:lnTo>
                          <a:pt x="16" y="33"/>
                        </a:lnTo>
                        <a:lnTo>
                          <a:pt x="30" y="18"/>
                        </a:lnTo>
                        <a:lnTo>
                          <a:pt x="46" y="8"/>
                        </a:lnTo>
                        <a:lnTo>
                          <a:pt x="62" y="1"/>
                        </a:lnTo>
                        <a:lnTo>
                          <a:pt x="81" y="0"/>
                        </a:lnTo>
                        <a:lnTo>
                          <a:pt x="104" y="4"/>
                        </a:lnTo>
                        <a:lnTo>
                          <a:pt x="132" y="11"/>
                        </a:lnTo>
                        <a:lnTo>
                          <a:pt x="151" y="23"/>
                        </a:lnTo>
                        <a:lnTo>
                          <a:pt x="167" y="32"/>
                        </a:lnTo>
                        <a:lnTo>
                          <a:pt x="182" y="45"/>
                        </a:lnTo>
                        <a:lnTo>
                          <a:pt x="194" y="58"/>
                        </a:lnTo>
                        <a:lnTo>
                          <a:pt x="207" y="74"/>
                        </a:lnTo>
                        <a:lnTo>
                          <a:pt x="221" y="93"/>
                        </a:lnTo>
                        <a:lnTo>
                          <a:pt x="239" y="121"/>
                        </a:lnTo>
                        <a:lnTo>
                          <a:pt x="257" y="153"/>
                        </a:lnTo>
                        <a:lnTo>
                          <a:pt x="267" y="170"/>
                        </a:lnTo>
                        <a:lnTo>
                          <a:pt x="278" y="184"/>
                        </a:lnTo>
                        <a:lnTo>
                          <a:pt x="294" y="200"/>
                        </a:lnTo>
                        <a:lnTo>
                          <a:pt x="310" y="218"/>
                        </a:lnTo>
                        <a:lnTo>
                          <a:pt x="331" y="238"/>
                        </a:lnTo>
                        <a:lnTo>
                          <a:pt x="343" y="253"/>
                        </a:lnTo>
                        <a:lnTo>
                          <a:pt x="361" y="277"/>
                        </a:lnTo>
                        <a:lnTo>
                          <a:pt x="374" y="298"/>
                        </a:lnTo>
                        <a:lnTo>
                          <a:pt x="385" y="317"/>
                        </a:lnTo>
                        <a:lnTo>
                          <a:pt x="395" y="334"/>
                        </a:lnTo>
                        <a:lnTo>
                          <a:pt x="402" y="350"/>
                        </a:lnTo>
                      </a:path>
                    </a:pathLst>
                  </a:custGeom>
                  <a:solidFill>
                    <a:srgbClr val="ffcc99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40" name=""/>
                  <p:cNvGrpSpPr/>
                  <p:nvPr/>
                </p:nvGrpSpPr>
                <p:grpSpPr>
                  <a:xfrm>
                    <a:off x="7373880" y="2760840"/>
                    <a:ext cx="1054080" cy="1066680"/>
                    <a:chOff x="7373880" y="2760840"/>
                    <a:chExt cx="1054080" cy="1066680"/>
                  </a:xfrm>
                </p:grpSpPr>
                <p:grpSp>
                  <p:nvGrpSpPr>
                    <p:cNvPr id="841" name=""/>
                    <p:cNvGrpSpPr/>
                    <p:nvPr/>
                  </p:nvGrpSpPr>
                  <p:grpSpPr>
                    <a:xfrm>
                      <a:off x="7710480" y="2760840"/>
                      <a:ext cx="717480" cy="981000"/>
                      <a:chOff x="7710480" y="2760840"/>
                      <a:chExt cx="717480" cy="981000"/>
                    </a:xfrm>
                  </p:grpSpPr>
                  <p:grpSp>
                    <p:nvGrpSpPr>
                      <p:cNvPr id="842" name=""/>
                      <p:cNvGrpSpPr/>
                      <p:nvPr/>
                    </p:nvGrpSpPr>
                    <p:grpSpPr>
                      <a:xfrm>
                        <a:off x="7839000" y="3549600"/>
                        <a:ext cx="111240" cy="192240"/>
                        <a:chOff x="7839000" y="3549600"/>
                        <a:chExt cx="111240" cy="192240"/>
                      </a:xfrm>
                    </p:grpSpPr>
                    <p:sp>
                      <p:nvSpPr>
                        <p:cNvPr id="843" name=""/>
                        <p:cNvSpPr/>
                        <p:nvPr/>
                      </p:nvSpPr>
                      <p:spPr>
                        <a:xfrm>
                          <a:off x="7880400" y="3549600"/>
                          <a:ext cx="69840" cy="155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7" h="196">
                              <a:moveTo>
                                <a:pt x="0" y="0"/>
                              </a:moveTo>
                              <a:lnTo>
                                <a:pt x="1" y="22"/>
                              </a:lnTo>
                              <a:lnTo>
                                <a:pt x="4" y="43"/>
                              </a:lnTo>
                              <a:lnTo>
                                <a:pt x="6" y="58"/>
                              </a:lnTo>
                              <a:lnTo>
                                <a:pt x="9" y="75"/>
                              </a:lnTo>
                              <a:lnTo>
                                <a:pt x="16" y="98"/>
                              </a:lnTo>
                              <a:lnTo>
                                <a:pt x="23" y="120"/>
                              </a:lnTo>
                              <a:lnTo>
                                <a:pt x="33" y="137"/>
                              </a:lnTo>
                              <a:lnTo>
                                <a:pt x="43" y="152"/>
                              </a:lnTo>
                              <a:lnTo>
                                <a:pt x="58" y="170"/>
                              </a:lnTo>
                              <a:lnTo>
                                <a:pt x="72" y="184"/>
                              </a:lnTo>
                              <a:lnTo>
                                <a:pt x="87" y="196"/>
                              </a:lnTo>
                            </a:path>
                          </a:pathLst>
                        </a:custGeom>
                        <a:solidFill>
                          <a:srgbClr val="ffcc99"/>
                        </a:solidFill>
                        <a:ln w="64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4" name=""/>
                        <p:cNvSpPr/>
                        <p:nvPr/>
                      </p:nvSpPr>
                      <p:spPr>
                        <a:xfrm>
                          <a:off x="7902720" y="3686040"/>
                          <a:ext cx="23760" cy="5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" h="69">
                              <a:moveTo>
                                <a:pt x="30" y="0"/>
                              </a:moveTo>
                              <a:lnTo>
                                <a:pt x="20" y="7"/>
                              </a:lnTo>
                              <a:lnTo>
                                <a:pt x="12" y="15"/>
                              </a:lnTo>
                              <a:lnTo>
                                <a:pt x="5" y="24"/>
                              </a:lnTo>
                              <a:lnTo>
                                <a:pt x="1" y="35"/>
                              </a:lnTo>
                              <a:lnTo>
                                <a:pt x="0" y="49"/>
                              </a:lnTo>
                              <a:lnTo>
                                <a:pt x="2" y="69"/>
                              </a:lnTo>
                            </a:path>
                          </a:pathLst>
                        </a:custGeom>
                        <a:solidFill>
                          <a:srgbClr val="ffcc99"/>
                        </a:solidFill>
                        <a:ln w="64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5" name=""/>
                        <p:cNvSpPr/>
                        <p:nvPr/>
                      </p:nvSpPr>
                      <p:spPr>
                        <a:xfrm>
                          <a:off x="7839000" y="3568680"/>
                          <a:ext cx="41400" cy="30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3" h="38">
                              <a:moveTo>
                                <a:pt x="53" y="0"/>
                              </a:moveTo>
                              <a:lnTo>
                                <a:pt x="40" y="3"/>
                              </a:lnTo>
                              <a:lnTo>
                                <a:pt x="28" y="8"/>
                              </a:lnTo>
                              <a:lnTo>
                                <a:pt x="19" y="17"/>
                              </a:lnTo>
                              <a:lnTo>
                                <a:pt x="7" y="27"/>
                              </a:lnTo>
                              <a:lnTo>
                                <a:pt x="0" y="38"/>
                              </a:lnTo>
                            </a:path>
                          </a:pathLst>
                        </a:custGeom>
                        <a:solidFill>
                          <a:srgbClr val="ffcc99"/>
                        </a:solidFill>
                        <a:ln w="64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560" bIns="-16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846" name=""/>
                      <p:cNvSpPr/>
                      <p:nvPr/>
                    </p:nvSpPr>
                    <p:spPr>
                      <a:xfrm>
                        <a:off x="7918560" y="3532320"/>
                        <a:ext cx="114120" cy="60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2" h="75">
                            <a:moveTo>
                              <a:pt x="0" y="28"/>
                            </a:moveTo>
                            <a:lnTo>
                              <a:pt x="5" y="36"/>
                            </a:lnTo>
                            <a:lnTo>
                              <a:pt x="15" y="49"/>
                            </a:lnTo>
                            <a:lnTo>
                              <a:pt x="24" y="60"/>
                            </a:lnTo>
                            <a:lnTo>
                              <a:pt x="35" y="66"/>
                            </a:lnTo>
                            <a:lnTo>
                              <a:pt x="49" y="74"/>
                            </a:lnTo>
                            <a:lnTo>
                              <a:pt x="66" y="75"/>
                            </a:lnTo>
                            <a:lnTo>
                              <a:pt x="80" y="72"/>
                            </a:lnTo>
                            <a:lnTo>
                              <a:pt x="92" y="68"/>
                            </a:lnTo>
                            <a:lnTo>
                              <a:pt x="106" y="60"/>
                            </a:lnTo>
                            <a:lnTo>
                              <a:pt x="116" y="52"/>
                            </a:lnTo>
                            <a:lnTo>
                              <a:pt x="124" y="42"/>
                            </a:lnTo>
                            <a:lnTo>
                              <a:pt x="131" y="31"/>
                            </a:lnTo>
                            <a:lnTo>
                              <a:pt x="137" y="18"/>
                            </a:lnTo>
                            <a:lnTo>
                              <a:pt x="142" y="0"/>
                            </a:lnTo>
                          </a:path>
                        </a:pathLst>
                      </a:custGeom>
                      <a:solidFill>
                        <a:srgbClr val="ffcc99"/>
                      </a:solidFill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3320" bIns="13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7" name=""/>
                      <p:cNvSpPr/>
                      <p:nvPr/>
                    </p:nvSpPr>
                    <p:spPr>
                      <a:xfrm>
                        <a:off x="8005680" y="3287880"/>
                        <a:ext cx="114480" cy="11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3" h="148">
                            <a:moveTo>
                              <a:pt x="0" y="79"/>
                            </a:moveTo>
                            <a:lnTo>
                              <a:pt x="9" y="89"/>
                            </a:lnTo>
                            <a:lnTo>
                              <a:pt x="16" y="101"/>
                            </a:lnTo>
                            <a:lnTo>
                              <a:pt x="29" y="117"/>
                            </a:lnTo>
                            <a:lnTo>
                              <a:pt x="42" y="132"/>
                            </a:lnTo>
                            <a:lnTo>
                              <a:pt x="57" y="143"/>
                            </a:lnTo>
                            <a:lnTo>
                              <a:pt x="71" y="148"/>
                            </a:lnTo>
                            <a:lnTo>
                              <a:pt x="88" y="147"/>
                            </a:lnTo>
                            <a:lnTo>
                              <a:pt x="102" y="143"/>
                            </a:lnTo>
                            <a:lnTo>
                              <a:pt x="116" y="136"/>
                            </a:lnTo>
                            <a:lnTo>
                              <a:pt x="125" y="130"/>
                            </a:lnTo>
                            <a:lnTo>
                              <a:pt x="135" y="120"/>
                            </a:lnTo>
                            <a:lnTo>
                              <a:pt x="143" y="103"/>
                            </a:lnTo>
                            <a:lnTo>
                              <a:pt x="143" y="85"/>
                            </a:lnTo>
                            <a:lnTo>
                              <a:pt x="141" y="65"/>
                            </a:lnTo>
                            <a:lnTo>
                              <a:pt x="137" y="51"/>
                            </a:lnTo>
                            <a:lnTo>
                              <a:pt x="129" y="35"/>
                            </a:lnTo>
                            <a:lnTo>
                              <a:pt x="121" y="19"/>
                            </a:lnTo>
                            <a:lnTo>
                              <a:pt x="109" y="0"/>
                            </a:lnTo>
                          </a:path>
                        </a:pathLst>
                      </a:custGeom>
                      <a:solidFill>
                        <a:srgbClr val="ffcc99"/>
                      </a:solidFill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8" name=""/>
                      <p:cNvSpPr/>
                      <p:nvPr/>
                    </p:nvSpPr>
                    <p:spPr>
                      <a:xfrm>
                        <a:off x="8128080" y="3162240"/>
                        <a:ext cx="4284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4" h="151">
                            <a:moveTo>
                              <a:pt x="1" y="0"/>
                            </a:moveTo>
                            <a:lnTo>
                              <a:pt x="30" y="41"/>
                            </a:lnTo>
                            <a:lnTo>
                              <a:pt x="48" y="67"/>
                            </a:lnTo>
                            <a:lnTo>
                              <a:pt x="52" y="81"/>
                            </a:lnTo>
                            <a:lnTo>
                              <a:pt x="54" y="93"/>
                            </a:lnTo>
                            <a:lnTo>
                              <a:pt x="51" y="118"/>
                            </a:lnTo>
                            <a:lnTo>
                              <a:pt x="44" y="135"/>
                            </a:lnTo>
                            <a:lnTo>
                              <a:pt x="33" y="146"/>
                            </a:lnTo>
                            <a:lnTo>
                              <a:pt x="17" y="151"/>
                            </a:lnTo>
                            <a:lnTo>
                              <a:pt x="0" y="148"/>
                            </a:lnTo>
                          </a:path>
                        </a:pathLst>
                      </a:custGeom>
                      <a:solidFill>
                        <a:srgbClr val="ffcc99"/>
                      </a:solidFill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9" name=""/>
                      <p:cNvSpPr/>
                      <p:nvPr/>
                    </p:nvSpPr>
                    <p:spPr>
                      <a:xfrm>
                        <a:off x="8151840" y="3081240"/>
                        <a:ext cx="276120" cy="174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47" h="218">
                            <a:moveTo>
                              <a:pt x="0" y="89"/>
                            </a:moveTo>
                            <a:lnTo>
                              <a:pt x="0" y="75"/>
                            </a:lnTo>
                            <a:lnTo>
                              <a:pt x="2" y="61"/>
                            </a:lnTo>
                            <a:lnTo>
                              <a:pt x="7" y="48"/>
                            </a:lnTo>
                            <a:lnTo>
                              <a:pt x="16" y="35"/>
                            </a:lnTo>
                            <a:lnTo>
                              <a:pt x="30" y="23"/>
                            </a:lnTo>
                            <a:lnTo>
                              <a:pt x="44" y="13"/>
                            </a:lnTo>
                            <a:lnTo>
                              <a:pt x="63" y="4"/>
                            </a:lnTo>
                            <a:lnTo>
                              <a:pt x="81" y="0"/>
                            </a:lnTo>
                            <a:lnTo>
                              <a:pt x="101" y="2"/>
                            </a:lnTo>
                            <a:lnTo>
                              <a:pt x="120" y="9"/>
                            </a:lnTo>
                            <a:lnTo>
                              <a:pt x="142" y="24"/>
                            </a:lnTo>
                            <a:lnTo>
                              <a:pt x="166" y="43"/>
                            </a:lnTo>
                            <a:lnTo>
                              <a:pt x="181" y="53"/>
                            </a:lnTo>
                            <a:lnTo>
                              <a:pt x="209" y="84"/>
                            </a:lnTo>
                            <a:lnTo>
                              <a:pt x="230" y="105"/>
                            </a:lnTo>
                            <a:lnTo>
                              <a:pt x="246" y="122"/>
                            </a:lnTo>
                            <a:lnTo>
                              <a:pt x="264" y="136"/>
                            </a:lnTo>
                            <a:lnTo>
                              <a:pt x="287" y="154"/>
                            </a:lnTo>
                            <a:lnTo>
                              <a:pt x="319" y="184"/>
                            </a:lnTo>
                            <a:lnTo>
                              <a:pt x="347" y="218"/>
                            </a:lnTo>
                          </a:path>
                        </a:pathLst>
                      </a:custGeom>
                      <a:solidFill>
                        <a:srgbClr val="ffcc99"/>
                      </a:solidFill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0" name=""/>
                      <p:cNvSpPr/>
                      <p:nvPr/>
                    </p:nvSpPr>
                    <p:spPr>
                      <a:xfrm>
                        <a:off x="8196120" y="3111480"/>
                        <a:ext cx="60480" cy="90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6" h="114">
                            <a:moveTo>
                              <a:pt x="45" y="0"/>
                            </a:moveTo>
                            <a:lnTo>
                              <a:pt x="57" y="18"/>
                            </a:lnTo>
                            <a:lnTo>
                              <a:pt x="67" y="36"/>
                            </a:lnTo>
                            <a:lnTo>
                              <a:pt x="74" y="53"/>
                            </a:lnTo>
                            <a:lnTo>
                              <a:pt x="76" y="73"/>
                            </a:lnTo>
                            <a:lnTo>
                              <a:pt x="76" y="89"/>
                            </a:lnTo>
                            <a:lnTo>
                              <a:pt x="66" y="104"/>
                            </a:lnTo>
                            <a:lnTo>
                              <a:pt x="60" y="111"/>
                            </a:lnTo>
                            <a:lnTo>
                              <a:pt x="45" y="114"/>
                            </a:lnTo>
                            <a:lnTo>
                              <a:pt x="29" y="114"/>
                            </a:lnTo>
                            <a:lnTo>
                              <a:pt x="15" y="110"/>
                            </a:lnTo>
                            <a:lnTo>
                              <a:pt x="0" y="99"/>
                            </a:lnTo>
                          </a:path>
                        </a:pathLst>
                      </a:custGeom>
                      <a:solidFill>
                        <a:srgbClr val="ffcc99"/>
                      </a:solidFill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560" bIns="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1" name=""/>
                      <p:cNvSpPr/>
                      <p:nvPr/>
                    </p:nvSpPr>
                    <p:spPr>
                      <a:xfrm>
                        <a:off x="7737480" y="3305160"/>
                        <a:ext cx="189000" cy="20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7" h="253">
                            <a:moveTo>
                              <a:pt x="237" y="0"/>
                            </a:moveTo>
                            <a:lnTo>
                              <a:pt x="235" y="20"/>
                            </a:lnTo>
                            <a:lnTo>
                              <a:pt x="233" y="39"/>
                            </a:lnTo>
                            <a:lnTo>
                              <a:pt x="228" y="56"/>
                            </a:lnTo>
                            <a:lnTo>
                              <a:pt x="221" y="74"/>
                            </a:lnTo>
                            <a:lnTo>
                              <a:pt x="212" y="96"/>
                            </a:lnTo>
                            <a:lnTo>
                              <a:pt x="202" y="112"/>
                            </a:lnTo>
                            <a:lnTo>
                              <a:pt x="189" y="129"/>
                            </a:lnTo>
                            <a:lnTo>
                              <a:pt x="172" y="142"/>
                            </a:lnTo>
                            <a:lnTo>
                              <a:pt x="156" y="153"/>
                            </a:lnTo>
                            <a:lnTo>
                              <a:pt x="139" y="159"/>
                            </a:lnTo>
                            <a:lnTo>
                              <a:pt x="121" y="165"/>
                            </a:lnTo>
                            <a:lnTo>
                              <a:pt x="97" y="174"/>
                            </a:lnTo>
                            <a:lnTo>
                              <a:pt x="87" y="191"/>
                            </a:lnTo>
                            <a:lnTo>
                              <a:pt x="78" y="200"/>
                            </a:lnTo>
                            <a:lnTo>
                              <a:pt x="57" y="208"/>
                            </a:lnTo>
                            <a:lnTo>
                              <a:pt x="35" y="217"/>
                            </a:lnTo>
                            <a:lnTo>
                              <a:pt x="12" y="227"/>
                            </a:lnTo>
                            <a:lnTo>
                              <a:pt x="0" y="253"/>
                            </a:lnTo>
                          </a:path>
                        </a:pathLst>
                      </a:custGeom>
                      <a:solidFill>
                        <a:srgbClr val="ffcc99"/>
                      </a:solidFill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2" name=""/>
                      <p:cNvSpPr/>
                      <p:nvPr/>
                    </p:nvSpPr>
                    <p:spPr>
                      <a:xfrm>
                        <a:off x="8080200" y="2805120"/>
                        <a:ext cx="209880" cy="39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4" h="50">
                            <a:moveTo>
                              <a:pt x="0" y="50"/>
                            </a:moveTo>
                            <a:lnTo>
                              <a:pt x="26" y="31"/>
                            </a:lnTo>
                            <a:lnTo>
                              <a:pt x="49" y="19"/>
                            </a:lnTo>
                            <a:lnTo>
                              <a:pt x="90" y="7"/>
                            </a:lnTo>
                            <a:lnTo>
                              <a:pt x="126" y="1"/>
                            </a:lnTo>
                            <a:lnTo>
                              <a:pt x="158" y="0"/>
                            </a:lnTo>
                            <a:lnTo>
                              <a:pt x="188" y="4"/>
                            </a:lnTo>
                            <a:lnTo>
                              <a:pt x="217" y="13"/>
                            </a:lnTo>
                            <a:lnTo>
                              <a:pt x="240" y="24"/>
                            </a:lnTo>
                            <a:lnTo>
                              <a:pt x="264" y="43"/>
                            </a:lnTo>
                          </a:path>
                        </a:pathLst>
                      </a:custGeom>
                      <a:solidFill>
                        <a:srgbClr val="ffcc99"/>
                      </a:solidFill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0" bIns="-7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3" name=""/>
                      <p:cNvSpPr/>
                      <p:nvPr/>
                    </p:nvSpPr>
                    <p:spPr>
                      <a:xfrm>
                        <a:off x="8178840" y="2760840"/>
                        <a:ext cx="11592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5" h="52">
                            <a:moveTo>
                              <a:pt x="0" y="3"/>
                            </a:moveTo>
                            <a:lnTo>
                              <a:pt x="19" y="2"/>
                            </a:lnTo>
                            <a:lnTo>
                              <a:pt x="36" y="0"/>
                            </a:lnTo>
                            <a:lnTo>
                              <a:pt x="63" y="4"/>
                            </a:lnTo>
                            <a:lnTo>
                              <a:pt x="83" y="11"/>
                            </a:lnTo>
                            <a:lnTo>
                              <a:pt x="104" y="21"/>
                            </a:lnTo>
                            <a:lnTo>
                              <a:pt x="126" y="34"/>
                            </a:lnTo>
                            <a:lnTo>
                              <a:pt x="145" y="52"/>
                            </a:lnTo>
                          </a:path>
                        </a:pathLst>
                      </a:custGeom>
                      <a:solidFill>
                        <a:srgbClr val="ffcc99"/>
                      </a:solidFill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4" name=""/>
                      <p:cNvSpPr/>
                      <p:nvPr/>
                    </p:nvSpPr>
                    <p:spPr>
                      <a:xfrm>
                        <a:off x="7710480" y="2854440"/>
                        <a:ext cx="216000" cy="11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1" h="140">
                            <a:moveTo>
                              <a:pt x="0" y="140"/>
                            </a:moveTo>
                            <a:lnTo>
                              <a:pt x="32" y="114"/>
                            </a:lnTo>
                            <a:lnTo>
                              <a:pt x="54" y="97"/>
                            </a:lnTo>
                            <a:lnTo>
                              <a:pt x="70" y="79"/>
                            </a:lnTo>
                            <a:lnTo>
                              <a:pt x="83" y="63"/>
                            </a:lnTo>
                            <a:lnTo>
                              <a:pt x="95" y="47"/>
                            </a:lnTo>
                            <a:lnTo>
                              <a:pt x="112" y="33"/>
                            </a:lnTo>
                            <a:lnTo>
                              <a:pt x="127" y="22"/>
                            </a:lnTo>
                            <a:lnTo>
                              <a:pt x="146" y="12"/>
                            </a:lnTo>
                            <a:lnTo>
                              <a:pt x="166" y="4"/>
                            </a:lnTo>
                            <a:lnTo>
                              <a:pt x="187" y="1"/>
                            </a:lnTo>
                            <a:lnTo>
                              <a:pt x="217" y="0"/>
                            </a:lnTo>
                            <a:lnTo>
                              <a:pt x="271" y="2"/>
                            </a:lnTo>
                          </a:path>
                        </a:pathLst>
                      </a:custGeom>
                      <a:solidFill>
                        <a:srgbClr val="ffcc99"/>
                      </a:solidFill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55" name=""/>
                    <p:cNvSpPr/>
                    <p:nvPr/>
                  </p:nvSpPr>
                  <p:spPr>
                    <a:xfrm>
                      <a:off x="7373880" y="3708360"/>
                      <a:ext cx="65160" cy="119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3" h="151">
                          <a:moveTo>
                            <a:pt x="47" y="0"/>
                          </a:moveTo>
                          <a:lnTo>
                            <a:pt x="58" y="2"/>
                          </a:lnTo>
                          <a:lnTo>
                            <a:pt x="70" y="10"/>
                          </a:lnTo>
                          <a:lnTo>
                            <a:pt x="80" y="21"/>
                          </a:lnTo>
                          <a:lnTo>
                            <a:pt x="83" y="31"/>
                          </a:lnTo>
                          <a:lnTo>
                            <a:pt x="80" y="55"/>
                          </a:lnTo>
                          <a:lnTo>
                            <a:pt x="75" y="69"/>
                          </a:lnTo>
                          <a:lnTo>
                            <a:pt x="63" y="91"/>
                          </a:lnTo>
                          <a:lnTo>
                            <a:pt x="48" y="109"/>
                          </a:lnTo>
                          <a:lnTo>
                            <a:pt x="36" y="122"/>
                          </a:lnTo>
                          <a:lnTo>
                            <a:pt x="23" y="134"/>
                          </a:lnTo>
                          <a:lnTo>
                            <a:pt x="0" y="151"/>
                          </a:lnTo>
                        </a:path>
                      </a:pathLst>
                    </a:custGeom>
                    <a:solidFill>
                      <a:srgbClr val="ffcc99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856" name=""/>
                <p:cNvSpPr/>
                <p:nvPr/>
              </p:nvSpPr>
              <p:spPr>
                <a:xfrm>
                  <a:off x="8094600" y="2992320"/>
                  <a:ext cx="23760" cy="146160"/>
                </a:xfrm>
                <a:custGeom>
                  <a:avLst/>
                  <a:gdLst/>
                  <a:ahLst/>
                  <a:rect l="l" t="t" r="r" b="b"/>
                  <a:pathLst>
                    <a:path w="30" h="182">
                      <a:moveTo>
                        <a:pt x="8" y="0"/>
                      </a:moveTo>
                      <a:lnTo>
                        <a:pt x="18" y="31"/>
                      </a:lnTo>
                      <a:lnTo>
                        <a:pt x="25" y="53"/>
                      </a:lnTo>
                      <a:lnTo>
                        <a:pt x="27" y="67"/>
                      </a:lnTo>
                      <a:lnTo>
                        <a:pt x="30" y="86"/>
                      </a:lnTo>
                      <a:lnTo>
                        <a:pt x="30" y="111"/>
                      </a:lnTo>
                      <a:lnTo>
                        <a:pt x="28" y="127"/>
                      </a:lnTo>
                      <a:lnTo>
                        <a:pt x="25" y="140"/>
                      </a:lnTo>
                      <a:lnTo>
                        <a:pt x="19" y="150"/>
                      </a:lnTo>
                      <a:lnTo>
                        <a:pt x="10" y="167"/>
                      </a:lnTo>
                      <a:lnTo>
                        <a:pt x="0" y="182"/>
                      </a:lnTo>
                    </a:path>
                  </a:pathLst>
                </a:custGeom>
                <a:solidFill>
                  <a:srgbClr val="ffcc99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57" name=""/>
          <p:cNvGrpSpPr/>
          <p:nvPr/>
        </p:nvGrpSpPr>
        <p:grpSpPr>
          <a:xfrm>
            <a:off x="7770960" y="2246400"/>
            <a:ext cx="844560" cy="542880"/>
            <a:chOff x="7770960" y="2246400"/>
            <a:chExt cx="844560" cy="542880"/>
          </a:xfrm>
        </p:grpSpPr>
        <p:sp>
          <p:nvSpPr>
            <p:cNvPr id="858" name=""/>
            <p:cNvSpPr/>
            <p:nvPr/>
          </p:nvSpPr>
          <p:spPr>
            <a:xfrm>
              <a:off x="7790040" y="2529000"/>
              <a:ext cx="682560" cy="260280"/>
            </a:xfrm>
            <a:custGeom>
              <a:avLst/>
              <a:gdLst/>
              <a:ahLst/>
              <a:rect l="l" t="t" r="r" b="b"/>
              <a:pathLst>
                <a:path w="859" h="327">
                  <a:moveTo>
                    <a:pt x="10" y="6"/>
                  </a:moveTo>
                  <a:lnTo>
                    <a:pt x="20" y="36"/>
                  </a:lnTo>
                  <a:lnTo>
                    <a:pt x="0" y="235"/>
                  </a:lnTo>
                  <a:lnTo>
                    <a:pt x="84" y="225"/>
                  </a:lnTo>
                  <a:lnTo>
                    <a:pt x="152" y="218"/>
                  </a:lnTo>
                  <a:lnTo>
                    <a:pt x="259" y="217"/>
                  </a:lnTo>
                  <a:lnTo>
                    <a:pt x="357" y="220"/>
                  </a:lnTo>
                  <a:lnTo>
                    <a:pt x="412" y="224"/>
                  </a:lnTo>
                  <a:lnTo>
                    <a:pt x="516" y="240"/>
                  </a:lnTo>
                  <a:lnTo>
                    <a:pt x="589" y="254"/>
                  </a:lnTo>
                  <a:lnTo>
                    <a:pt x="636" y="263"/>
                  </a:lnTo>
                  <a:lnTo>
                    <a:pt x="683" y="277"/>
                  </a:lnTo>
                  <a:lnTo>
                    <a:pt x="744" y="301"/>
                  </a:lnTo>
                  <a:lnTo>
                    <a:pt x="772" y="315"/>
                  </a:lnTo>
                  <a:lnTo>
                    <a:pt x="793" y="327"/>
                  </a:lnTo>
                  <a:lnTo>
                    <a:pt x="859" y="162"/>
                  </a:lnTo>
                  <a:lnTo>
                    <a:pt x="602" y="70"/>
                  </a:lnTo>
                  <a:lnTo>
                    <a:pt x="347" y="13"/>
                  </a:lnTo>
                  <a:lnTo>
                    <a:pt x="150" y="0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770960" y="2246400"/>
              <a:ext cx="844560" cy="480960"/>
            </a:xfrm>
            <a:custGeom>
              <a:avLst/>
              <a:gdLst/>
              <a:ahLst/>
              <a:rect l="l" t="t" r="r" b="b"/>
              <a:pathLst>
                <a:path w="1064" h="606">
                  <a:moveTo>
                    <a:pt x="0" y="0"/>
                  </a:moveTo>
                  <a:lnTo>
                    <a:pt x="1064" y="0"/>
                  </a:lnTo>
                  <a:lnTo>
                    <a:pt x="942" y="606"/>
                  </a:lnTo>
                  <a:lnTo>
                    <a:pt x="890" y="574"/>
                  </a:lnTo>
                  <a:lnTo>
                    <a:pt x="779" y="524"/>
                  </a:lnTo>
                  <a:lnTo>
                    <a:pt x="721" y="499"/>
                  </a:lnTo>
                  <a:lnTo>
                    <a:pt x="693" y="487"/>
                  </a:lnTo>
                  <a:lnTo>
                    <a:pt x="638" y="470"/>
                  </a:lnTo>
                  <a:lnTo>
                    <a:pt x="596" y="459"/>
                  </a:lnTo>
                  <a:lnTo>
                    <a:pt x="547" y="446"/>
                  </a:lnTo>
                  <a:lnTo>
                    <a:pt x="494" y="430"/>
                  </a:lnTo>
                  <a:lnTo>
                    <a:pt x="414" y="412"/>
                  </a:lnTo>
                  <a:lnTo>
                    <a:pt x="339" y="402"/>
                  </a:lnTo>
                  <a:lnTo>
                    <a:pt x="247" y="392"/>
                  </a:lnTo>
                  <a:lnTo>
                    <a:pt x="180" y="389"/>
                  </a:lnTo>
                  <a:lnTo>
                    <a:pt x="97" y="389"/>
                  </a:lnTo>
                  <a:lnTo>
                    <a:pt x="29" y="3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0" name=""/>
          <p:cNvSpPr/>
          <p:nvPr/>
        </p:nvSpPr>
        <p:spPr>
          <a:xfrm>
            <a:off x="741240" y="5918040"/>
            <a:ext cx="7412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tody mają tu identyczną sygnaturę  ale  różne  implementacje (ciał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1791720" y="2232000"/>
            <a:ext cx="1246680" cy="1460520"/>
            <a:chOff x="1791720" y="2232000"/>
            <a:chExt cx="1246680" cy="1460520"/>
          </a:xfrm>
        </p:grpSpPr>
        <p:sp>
          <p:nvSpPr>
            <p:cNvPr id="862" name=""/>
            <p:cNvSpPr/>
            <p:nvPr/>
          </p:nvSpPr>
          <p:spPr>
            <a:xfrm>
              <a:off x="1791720" y="2232000"/>
              <a:ext cx="1235880" cy="146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racown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azwisk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zwolnij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793880" y="254628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793880" y="309852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5" name=""/>
          <p:cNvSpPr/>
          <p:nvPr/>
        </p:nvSpPr>
        <p:spPr>
          <a:xfrm>
            <a:off x="963000" y="4660920"/>
            <a:ext cx="2874240" cy="91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amodzielny prac.nauk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wolnij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946080" y="4975200"/>
            <a:ext cx="289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946080" y="5241960"/>
            <a:ext cx="289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260440" y="3708360"/>
            <a:ext cx="306720" cy="24912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364200" y="2260440"/>
            <a:ext cx="2355120" cy="837000"/>
          </a:xfrm>
          <a:custGeom>
            <a:avLst/>
            <a:gdLst>
              <a:gd name="textAreaLeft" fmla="*/ 87120 w 2355120"/>
              <a:gd name="textAreaRight" fmla="*/ 2268000 w 2355120"/>
              <a:gd name="textAreaTop" fmla="*/ 30960 h 837000"/>
              <a:gd name="textAreaBottom" fmla="*/ 668520 h 8370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yzja o zwolnieni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 gestii dyrekc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215600" y="4497480"/>
            <a:ext cx="2745000" cy="837000"/>
          </a:xfrm>
          <a:custGeom>
            <a:avLst/>
            <a:gdLst>
              <a:gd name="textAreaLeft" fmla="*/ 101520 w 2745000"/>
              <a:gd name="textAreaRight" fmla="*/ 2643480 w 2745000"/>
              <a:gd name="textAreaTop" fmla="*/ 30960 h 837000"/>
              <a:gd name="textAreaBottom" fmla="*/ 668520 h 8370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yzja o zwolnieni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 gestii sekretariatu P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409840" y="395604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/>
          <p:cNvSpPr/>
          <p:nvPr/>
        </p:nvSpPr>
        <p:spPr>
          <a:xfrm>
            <a:off x="0" y="12600"/>
            <a:ext cx="910584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rzesłanianie metod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52440" y="5875200"/>
            <a:ext cx="84106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wie metody implementujące operację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olicz objętość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 Metoda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olicz objętość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w klasie abstrakcyjnej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Brył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nie może być metodą abstrakcyjn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2841840" y="952560"/>
            <a:ext cx="597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zesłanianie jest  ściśle powiązane z  polimorfizmem meto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zesłanianie wymaga dynamicznego wiązani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zesłanianie jest ważnym elementem wspomagającym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onowne użyc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77840" y="4097160"/>
            <a:ext cx="1803240" cy="73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stopadłośc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158920" y="4118040"/>
            <a:ext cx="914400" cy="708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al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064040" y="4118040"/>
            <a:ext cx="15746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62120" y="1031760"/>
            <a:ext cx="1981080" cy="228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88040" y="1905120"/>
            <a:ext cx="15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ole podsta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ysokoś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386720" y="103500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rył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796680" y="28321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olicz objętoś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62120" y="180324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62120" y="26416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952720" y="2781360"/>
            <a:ext cx="38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{objętość = pole podstawy * wysokość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523880" y="3322800"/>
            <a:ext cx="306360" cy="24912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09480" y="381312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676520" y="3584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09480" y="3813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590920" y="3813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495680" y="3813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438800" y="40798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oż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038120" y="460836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olicz objętoś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067280" y="4470480"/>
            <a:ext cx="158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062240" y="4622760"/>
            <a:ext cx="158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411000" y="5127480"/>
            <a:ext cx="42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{objętość = 1/3 pola podstawy * wysokość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240600" y="4114800"/>
            <a:ext cx="68580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5638680" y="4521240"/>
            <a:ext cx="60984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61960" y="5078520"/>
            <a:ext cx="68580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166840" y="5145120"/>
            <a:ext cx="68580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914400" y="4839840"/>
            <a:ext cx="0" cy="179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2514600" y="4826160"/>
            <a:ext cx="0" cy="287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229040" y="135900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{abstract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495680" y="380988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54380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308720" y="41601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38160" y="114480"/>
            <a:ext cx="906768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0" y="-6480"/>
            <a:ext cx="908676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Dynamiczne (poźne) wiązan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41360" y="911160"/>
            <a:ext cx="8245440" cy="911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iązanie (binding): zamiana identyfikatora symbolicznego (nazwy) występującego  w programie na: wartość, adres lub wewnętrzny identyfikator bytu  programistycznego (stałej, zmiennej, procedury,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95800" y="4846680"/>
            <a:ext cx="47361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ji komunikatów (polimorfizm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ynamicznie tworzonych perspekty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ynamicznie tworzonych procedur bazy dany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ęzyków zapyta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gracji obiekt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wolucji schematu B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12040" y="4524480"/>
            <a:ext cx="50940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óźne wiązanie jest nieodzownym warunkiem dl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03040" y="186840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czesne (statyczne) wiązanie: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przed  uruchomieniem programu, podczas kompilacji i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konsolidacj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Zalety: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większa szybkość działania programu, możliwość pełnej statycznej kontroli typó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ady: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brak możliwości rozbudowy  aplikacji  podczas jej działan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01600" y="3214440"/>
            <a:ext cx="847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óźne (dynamiczne) wiązanie: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czasie wykonania program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Zalety: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żliwość przesłaniania w trakcie działania aplikacji, możliwość komponowan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ogramu w trakcie jego działania, szybkie przechodzenie od pomysłu do realizacj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ady: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olniejsze działanie programu, utrudniona kontrola typ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8520" y="5257800"/>
            <a:ext cx="833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Niektórzy autorzy (np. Cardelli - propagator teorii typów polimorficznych) uważają,  że przeciążanie  nie jest polimorfizmem.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twierdzenie 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szystkie metody implementujące daną operację muszą mieć tę samą sygnaturę”, leżące u podstaw idei  polimorfizmu,  jest   sprzeczne z definicją  przeciążan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-6480"/>
            <a:ext cx="90676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zeciążanie met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98520" y="2895480"/>
            <a:ext cx="806760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owszechne jest przeciążanie operatora równości 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służy do porównania liczb całkowitych, liczb rzeczywistych, stringów, identyfikatorów, struktur, itd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odobnie, operator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może oznaczać dodawanie lub konkatenację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8520" y="3886200"/>
            <a:ext cx="82962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zeciążanie nie wymaga dynamicznego wiązania: znaczenie operatora można wydedukować na podstawi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tycznej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izy tekstu programu. W odróżnieniu od przeciążania, przesłanianie jest własnością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ynamiczn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ie zawsze da się wydedukować z  tekstu  program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89880" y="2108160"/>
            <a:ext cx="71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p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. przesuń (x, y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zesuń (x, y, z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- mają różną ilość argument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zesuń (int, int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przesuń (float, float)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- mają różne typy argument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65040" y="1152000"/>
            <a:ext cx="832176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rzeciążanie (overloading) oznacza, że jakiś symbol  (np. operatora czy funkcji)  ma  znaczenie zależne od kontekstu  jego użycia, np. od  ilości/typu argumentó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/>
          <p:nvPr/>
        </p:nvSpPr>
        <p:spPr>
          <a:xfrm>
            <a:off x="0" y="0"/>
            <a:ext cx="908676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y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800" y="3641760"/>
            <a:ext cx="87649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dstawowe zastosowanie klas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 modelowanie pojęciow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dstawowe zastosowanie typ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  wspomaganie  kontroli  formalnej poprawnoś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gramó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89080" y="4660920"/>
            <a:ext cx="6935760" cy="363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neralnie, na linii rozróżnień definicyjnych pomiędzy pojęciam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86920" y="6245280"/>
            <a:ext cx="273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nuje spore zamieszani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89080" y="2286000"/>
            <a:ext cx="84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wielu opracowaniach i językach (C++, Eiffel) typ jest utożsamiany z klasą.  Wielu autorów uważa jednak te dwa pojęcia za róż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81880" y="2971800"/>
            <a:ext cx="561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Klasa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: przechowalnia inwariantów, implementacja meto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Typ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: specyfikacja budowy obiektu, specyfikacja meto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71760" y="5068800"/>
            <a:ext cx="346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kl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ty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abstrakcyjny typ danych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ADT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ekstens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35080" y="1091880"/>
            <a:ext cx="8604000" cy="91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Typ bytu programistycznego nakłada ograniczenia  na jego  budowę  (lub argumenty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ynik)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oraz ogranicza kontekst, w którym odwołanie do tego bytu  może być użyte w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rogram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0" y="0"/>
            <a:ext cx="91440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cna kontrola typó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8" name=""/>
          <p:cNvGraphicFramePr/>
          <p:nvPr/>
        </p:nvGraphicFramePr>
        <p:xfrm>
          <a:off x="7721640" y="2438280"/>
          <a:ext cx="1295280" cy="14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21640" y="2438280"/>
                    <a:ext cx="129528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0" name=""/>
          <p:cNvSpPr/>
          <p:nvPr/>
        </p:nvSpPr>
        <p:spPr>
          <a:xfrm>
            <a:off x="178920" y="2378160"/>
            <a:ext cx="7014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tyczna kontrola typ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kontrola tekstu programu (podczas kompilacji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ynamiczna kontrola typ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kontrola typów podczas czasu wykonan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90680" y="5813280"/>
            <a:ext cx="8196120" cy="637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łasności takie jak: późne wiązanie, wartości zerowe, warianty, perspektywy, procedury bazy danych, dynamiczne klasy, etc. wymagają kontroli dynamicznej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79640" y="3162240"/>
            <a:ext cx="699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wykl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cna kontrola typu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znacza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ontrolę statyczn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ontrola dynamiczn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st znacznie mniej skuteczna, z dwóch powodów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41360" y="1029960"/>
            <a:ext cx="82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Mocna  kontrola  typów oznacza, że każdy byt programistyczny (obiekt, zmienna, procedura, funkcja, metoda, moduł, klasa, ...)  podlega obowiązkowej specyfikacji typu. Każde odwołanie do tego bytu w programie  jest sprawdzane  na zgodność ze specyfikacją jego typ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813240" y="3758760"/>
            <a:ext cx="699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jest istotnym obciążeniem czasu wykonani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błąd typu podczas wykonania jest takim samym błędem jak każdy inny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 rakieta przecież jest już w locie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85760" y="4700160"/>
            <a:ext cx="839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Z drugiej strony, mocna statyczna kontrola typu powoduje znaczne zmniejszenie mocy  języka programowania i jego elastyczności. Np. jak napisać procedurę w Pascal’u, która mnoży dwie macierze o dowolnych rozmiarach?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/>
          <p:nvPr/>
        </p:nvSpPr>
        <p:spPr>
          <a:xfrm>
            <a:off x="0" y="0"/>
            <a:ext cx="90774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dty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39680" y="1414440"/>
            <a:ext cx="1815120" cy="393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wie definicj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55760" y="5486400"/>
            <a:ext cx="8205480" cy="911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nnym (równoważnym) punktem widzenia na kwestię podtypowania jest założenie, że każdy obiekt może mieć wiele typów:  swojej klasy podstawowej i wszystkich jej nadk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804960" y="2478240"/>
            <a:ext cx="696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p. zbiór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liczb naturalnych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jest podtypem zbioru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liczb całkowitych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 txBox="1"/>
          <p:nvPr/>
        </p:nvSpPr>
        <p:spPr>
          <a:xfrm rot="5400000">
            <a:off x="312120" y="2014200"/>
            <a:ext cx="200160" cy="428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latin typeface="Arial Black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latin typeface="Arial Black"/>
              <a:ea typeface="Arial Black"/>
            </a:endParaRPr>
          </a:p>
        </p:txBody>
      </p:sp>
      <p:sp>
        <p:nvSpPr>
          <p:cNvPr id="941" name=""/>
          <p:cNvSpPr txBox="1"/>
          <p:nvPr/>
        </p:nvSpPr>
        <p:spPr>
          <a:xfrm rot="5400000">
            <a:off x="360360" y="3087720"/>
            <a:ext cx="200160" cy="428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latin typeface="Arial Black"/>
              </a:rPr>
              <a:t>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latin typeface="Arial Black"/>
              <a:ea typeface="Arial Black"/>
            </a:endParaRPr>
          </a:p>
        </p:txBody>
      </p:sp>
      <p:sp>
        <p:nvSpPr>
          <p:cNvPr id="942" name=""/>
          <p:cNvSpPr/>
          <p:nvPr/>
        </p:nvSpPr>
        <p:spPr>
          <a:xfrm>
            <a:off x="1410480" y="3822840"/>
            <a:ext cx="7310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truct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Osoba {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azwisko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; integer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ok_urodz;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truct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Pracownik {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azwisko;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integer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ok_urodz;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Zarobek; 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33520" y="4800600"/>
            <a:ext cx="3462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acowni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est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dtype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so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rot="1467600">
            <a:off x="401400" y="3951000"/>
            <a:ext cx="366480" cy="608040"/>
          </a:xfrm>
          <a:custGeom>
            <a:avLst/>
            <a:gdLst>
              <a:gd name="textAreaLeft" fmla="*/ 48960 w 366480"/>
              <a:gd name="textAreaRight" fmla="*/ 317520 w 366480"/>
              <a:gd name="textAreaTop" fmla="*/ 106200 h 608040"/>
              <a:gd name="textAreaBottom" fmla="*/ 441000 h 608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976680" y="2045520"/>
            <a:ext cx="503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Ekstensja podtypu jest podzbiorem ekstensji ty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971640" y="2980800"/>
            <a:ext cx="75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Typ B jest podtypem typu A,  jeżeli B posiada więcej własności (atrybutów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metod,...) niż A, innymi słowy B jest bardziej wyspecjalizowane niż 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541640" y="1110240"/>
            <a:ext cx="13284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. całkow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579800" y="2139120"/>
            <a:ext cx="12902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. natural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8096400" y="1486080"/>
            <a:ext cx="212400" cy="1839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8210520" y="1676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0" y="0"/>
            <a:ext cx="909324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Własność zamienialnoś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91960" y="3029040"/>
            <a:ext cx="85647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p., jeżeli  w jakimś  miejscu programu może być użyty obiekt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Osoba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 to w tym samym miejscu może być użyty obiekt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racownik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. Wszędzie tam, gdzie może być użyta liczba całkowita,  można także użyć liczby naturalnej. Wszędzie, gdzie może być użyta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Elipsa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żna też użyć obiektu  klasy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Koło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szędzie gdzie może być użyta liczba całkowita można użyć liczby naturalnej. Zamiana odwrotna nie jest  możliw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31920" y="933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04840" y="1162080"/>
            <a:ext cx="840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efiniowanie relacji podtypu  między typami posiada konkretny cel, określany przez zasadę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zamienialności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(substitutability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57200" y="4775040"/>
            <a:ext cx="8229600" cy="1465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Zasada zamienialności ma duże znaczenie dla przyrostowego rozwoju oprogramowania:  obiekty nowych, bardziej wyspecjalizowanych klas  mogą być wykorzystywane w tym samym  środowisku, co mniej wyspecjalizowane, bez potrzeby zmiany środowiska  przy  każdej zmianie  związanej z rozszerzeniami wynikłymi ze specjalizacj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822240" y="2193480"/>
            <a:ext cx="74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Jeżeli w jakimś miejscu programu (zapytania,...) może być użyty byt typu 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, to może tam być także użyty byt, którego typ jest podtypem typu 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"/>
          <p:cNvSpPr/>
          <p:nvPr/>
        </p:nvSpPr>
        <p:spPr>
          <a:xfrm>
            <a:off x="0" y="0"/>
            <a:ext cx="91249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ypy maso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89440" y="1774800"/>
            <a:ext cx="6920640" cy="363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olekcj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ermin ODMG-93 przyjęty dla określenia  typów  masowych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69560" y="4937040"/>
            <a:ext cx="413784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Ortogonalność konstruktorów typu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typy  masowe mogą być dowolni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kombinowane, w  tym również z  typam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ndywidualnymi,  np. zbiór sekwencji  cz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obiekt, którego atrybutami są wielozbior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443120" y="4937040"/>
            <a:ext cx="4524840" cy="1307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opularne języki obiektowe nie mają typ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asowych lub je ograniczają (Smalltalk, C++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ystemy przedobiektowe nie są zgodne z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zasadą ortogonalności konstruktorów typ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65040" y="985320"/>
            <a:ext cx="839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Typy masowe to typy, dla których rozmiar bytu nie da się ani przewidzieć ani sensownie ograniczyć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57280" y="2341080"/>
            <a:ext cx="80676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Zbiory (sets):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nie uporządkowane kolekcje elementów dowolnego  ustalonego  typu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bez  powtórzeń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ielozbiory (multisets, bags):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ie uporządkowane kolekcje elementów dowolneg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ustalonego  typu,  elementy  mogą się powtarzać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ekwencje (sequences):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uporządkowane kolekcje elementów dowolnego ustaloneg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typu; porządek ma znaczenie informacyjne, elementy  mogą się powtarzać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Tablice dynamiczne (dynamic arrays):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ekwencje, ale z dostępem poprzez indek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/>
          <p:nvPr/>
        </p:nvSpPr>
        <p:spPr>
          <a:xfrm>
            <a:off x="0" y="0"/>
            <a:ext cx="908676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zszerzalność systemu typó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27120" y="2092320"/>
            <a:ext cx="2257200" cy="363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Konstruktory typów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219320" y="2490840"/>
            <a:ext cx="72007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typy atomowe: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character, integer, float, string, boolean, bitmap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typy zapisów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(records):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struct {nazwa:string; waga:float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kolekcj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27120" y="4705200"/>
            <a:ext cx="7488360" cy="363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finicja nowego typu na podstawie typu już zdefiniowaneg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219320" y="5133960"/>
            <a:ext cx="5219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TypCzęści = struct {string nazwa; float waga;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TypRelacjiCzęści = set of TypCzęśc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083240" y="6019920"/>
            <a:ext cx="69044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Rozszerzalność systemu typów znacząco  wspomaga ponowne użyc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596600" y="3346200"/>
            <a:ext cx="670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zbiory (sets):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et of bitmap,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et of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truct {nazwa:string; waga:float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ielozbiory (bags):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zbiory z powtórzenia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ekwencje (sequences):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wielozbiory uporządkow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tablice (arrays):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array of integer, arra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[5..30]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of set of bitma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91280" y="1091880"/>
            <a:ext cx="794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rojektant ma do wyboru wiele konstruktorów typu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Nowy typ można zdefiniować na podstawie typu już istniejącego (ortogonal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kombinacj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Klasa; notacja (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5760" y="1028880"/>
            <a:ext cx="7416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7840" y="3835440"/>
            <a:ext cx="668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odzaj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efiniuje sposób, w jaki metoda korzysta z danego argumentu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4320" y="4394160"/>
            <a:ext cx="575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etoda może czytać argument, ale nie może go zmienia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ut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oże zmieniać, nie może czyta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out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oże czytać i zmienia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25480" y="5638680"/>
            <a:ext cx="740412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szystkie elementy specyfikacji  klasy za wyjątkiem  nazwy  klasy  są opcjonalne. Nazwa klasy to z reguły rzeczownik w liczbie pojedynczej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9880" y="1434960"/>
            <a:ext cx="44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ostępność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jest określana przez trzy symbole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9200" y="1955880"/>
            <a:ext cx="138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publicz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prywat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chroni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0000" y="3137040"/>
            <a:ext cx="51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ista_arg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rodzaj nazwa_arg : typ = wart_początkow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987800" y="1523880"/>
            <a:ext cx="2521080" cy="3505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«trwała»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Prostoką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punkt1: Punk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punkt2: Punk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«konstruktor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Prostokąt (p1: Punkt, p2: Punk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«zapytania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obszar (): Re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aspekt(): Re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«aktualizacje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przesuń (delta: Punk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przeskaluj(współczynnik: Re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" y="37800"/>
            <a:ext cx="909648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rzykłady kla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1371600"/>
            <a:ext cx="2944800" cy="319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Ok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{abstrakcyjna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autor=Kowal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status=przetestowane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+rozmiar: Obszar = (100,10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#czy_widoczne: Boolean = fa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+rozmiar_domyślny: Prostoką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#rozmiar_maksymalny: Prostoką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-xwskaźnik: XWindow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+wyświet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+schowaj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Times New Roman"/>
              </a:rPr>
              <a:t>utwórz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-dołączXWindow(xwin: XWindow*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66760" y="3741840"/>
            <a:ext cx="293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63520" y="2435400"/>
            <a:ext cx="292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87800" y="1781280"/>
            <a:ext cx="251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89600" y="2529000"/>
            <a:ext cx="2519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39200" y="5448240"/>
            <a:ext cx="556056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tereotypy zostały tu  użyte do metaklasyfikacji meto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88520" y="40676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«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800" y="12600"/>
            <a:ext cx="9009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ziedziczenie (1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8440" y="1335240"/>
            <a:ext cx="735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Dziedziczenie  pozwala na tworzenie drzewa klas lub innych struktur bez  pętl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4160" y="2847960"/>
            <a:ext cx="0" cy="2519280"/>
          </a:xfrm>
          <a:prstGeom prst="line">
            <a:avLst/>
          </a:prstGeom>
          <a:ln w="381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8889840" y="2720880"/>
            <a:ext cx="0" cy="2519280"/>
          </a:xfrm>
          <a:prstGeom prst="line">
            <a:avLst/>
          </a:prstGeom>
          <a:ln w="381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-162720" y="358524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pecjalizac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7973640" y="3706920"/>
            <a:ext cx="133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generalizac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38360" y="4064040"/>
            <a:ext cx="14238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acown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49640" y="4421160"/>
            <a:ext cx="201600" cy="2142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349360" y="4635360"/>
            <a:ext cx="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861880" y="4382640"/>
            <a:ext cx="799920" cy="1156680"/>
            <a:chOff x="5861880" y="4382640"/>
            <a:chExt cx="799920" cy="1156680"/>
          </a:xfrm>
        </p:grpSpPr>
        <p:sp>
          <p:nvSpPr>
            <p:cNvPr id="163" name=""/>
            <p:cNvSpPr/>
            <p:nvPr/>
          </p:nvSpPr>
          <p:spPr>
            <a:xfrm rot="1972800">
              <a:off x="6406560" y="4416480"/>
              <a:ext cx="201600" cy="25632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5861880" y="4652280"/>
              <a:ext cx="575280" cy="88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546600" y="4409640"/>
            <a:ext cx="389520" cy="1120320"/>
            <a:chOff x="6546600" y="4409640"/>
            <a:chExt cx="389520" cy="1120320"/>
          </a:xfrm>
        </p:grpSpPr>
        <p:sp>
          <p:nvSpPr>
            <p:cNvPr id="166" name=""/>
            <p:cNvSpPr/>
            <p:nvPr/>
          </p:nvSpPr>
          <p:spPr>
            <a:xfrm rot="888600">
              <a:off x="6709680" y="4431600"/>
              <a:ext cx="201600" cy="22104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6546600" y="4648680"/>
              <a:ext cx="234360" cy="88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982560" y="4407120"/>
            <a:ext cx="425160" cy="1136520"/>
            <a:chOff x="6982560" y="4407120"/>
            <a:chExt cx="425160" cy="1136520"/>
          </a:xfrm>
        </p:grpSpPr>
        <p:sp>
          <p:nvSpPr>
            <p:cNvPr id="169" name=""/>
            <p:cNvSpPr/>
            <p:nvPr/>
          </p:nvSpPr>
          <p:spPr>
            <a:xfrm rot="20600400">
              <a:off x="7010280" y="4431240"/>
              <a:ext cx="201600" cy="225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42400" y="4652280"/>
              <a:ext cx="265320" cy="89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rot="19645800">
            <a:off x="7291080" y="4425480"/>
            <a:ext cx="201600" cy="2541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61000" y="4660200"/>
            <a:ext cx="560880" cy="88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98640" y="3178080"/>
            <a:ext cx="90324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sob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49640" y="3525840"/>
            <a:ext cx="201600" cy="2142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49360" y="3759120"/>
            <a:ext cx="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6120" y="5510160"/>
            <a:ext cx="106704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sys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35080" y="4952880"/>
            <a:ext cx="238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35080" y="4956120"/>
            <a:ext cx="0" cy="55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7560" y="4956120"/>
            <a:ext cx="0" cy="55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768760" y="4956120"/>
            <a:ext cx="0" cy="55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29080" y="4956120"/>
            <a:ext cx="0" cy="55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07960" y="5510160"/>
            <a:ext cx="97812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iun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30440" y="5511960"/>
            <a:ext cx="9939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fe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54120" y="5511960"/>
            <a:ext cx="9288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oc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34080" y="5511960"/>
            <a:ext cx="106668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sys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65920" y="5511960"/>
            <a:ext cx="9777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iun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988400" y="5513400"/>
            <a:ext cx="9936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fe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12080" y="5513400"/>
            <a:ext cx="92844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oc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67600" y="4064040"/>
            <a:ext cx="14238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acown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27880" y="3178080"/>
            <a:ext cx="90324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sob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78520" y="3544920"/>
            <a:ext cx="201600" cy="2142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978600" y="3759120"/>
            <a:ext cx="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320" y="0"/>
            <a:ext cx="905364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ziedziczenie (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69640" y="4876920"/>
            <a:ext cx="2257920" cy="642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ruktura typu  pęt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jest zabroni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14640" y="2550960"/>
            <a:ext cx="1235880" cy="36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acown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91640" y="2550960"/>
            <a:ext cx="941760" cy="36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35840" y="1479600"/>
            <a:ext cx="803160" cy="36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so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68160" y="3621240"/>
            <a:ext cx="1842480" cy="36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udent_asys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rot="1758600">
            <a:off x="6757920" y="2921040"/>
            <a:ext cx="172800" cy="1429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6474600" y="3059640"/>
            <a:ext cx="330480" cy="55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675400" y="2935440"/>
            <a:ext cx="183960" cy="1666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69000" y="3103560"/>
            <a:ext cx="0" cy="52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9892400">
            <a:off x="6757920" y="1852560"/>
            <a:ext cx="173160" cy="1443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82840" y="1989360"/>
            <a:ext cx="277200" cy="56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rot="1758600">
            <a:off x="6130080" y="1854360"/>
            <a:ext cx="172800" cy="1425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847480" y="1992960"/>
            <a:ext cx="330480" cy="55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52920" y="4863960"/>
            <a:ext cx="230832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ruktura typu  kr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jest dopuszczal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87320" y="2006640"/>
            <a:ext cx="83844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K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52560" y="2003400"/>
            <a:ext cx="83844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K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54360" y="3327480"/>
            <a:ext cx="83808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K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19268400">
            <a:off x="1332000" y="2673000"/>
            <a:ext cx="201600" cy="2142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497600" y="2863080"/>
            <a:ext cx="500400" cy="46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13206000">
            <a:off x="2362320" y="3126960"/>
            <a:ext cx="201600" cy="2142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5500200">
            <a:off x="2545920" y="2293920"/>
            <a:ext cx="201600" cy="2142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33680" y="2382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77960" y="1603440"/>
            <a:ext cx="2803320" cy="1647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1143000" y="1345680"/>
            <a:ext cx="1990800" cy="2124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543040" y="267984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7480" y="12600"/>
            <a:ext cx="89233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ziedziczenie (3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876400" y="2408400"/>
            <a:ext cx="306360" cy="24912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446200" y="1447920"/>
            <a:ext cx="1158840" cy="941400"/>
            <a:chOff x="2446200" y="1447920"/>
            <a:chExt cx="1158840" cy="941400"/>
          </a:xfrm>
        </p:grpSpPr>
        <p:sp>
          <p:nvSpPr>
            <p:cNvPr id="222" name=""/>
            <p:cNvSpPr/>
            <p:nvPr/>
          </p:nvSpPr>
          <p:spPr>
            <a:xfrm>
              <a:off x="2451240" y="1447920"/>
              <a:ext cx="1127880" cy="941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AZWISK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OK_U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iek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446200" y="1704960"/>
              <a:ext cx="113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465280" y="2140200"/>
              <a:ext cx="113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263680" y="3565440"/>
            <a:ext cx="1538280" cy="137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ZAROBE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DZIA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F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ZarobekNetto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ZmieńZarobek(..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63680" y="3824280"/>
            <a:ext cx="1530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71600" y="4441680"/>
            <a:ext cx="152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78000" y="3556080"/>
            <a:ext cx="1550880" cy="1154520"/>
            <a:chOff x="378000" y="3556080"/>
            <a:chExt cx="1550880" cy="1154520"/>
          </a:xfrm>
        </p:grpSpPr>
        <p:sp>
          <p:nvSpPr>
            <p:cNvPr id="229" name=""/>
            <p:cNvSpPr/>
            <p:nvPr/>
          </p:nvSpPr>
          <p:spPr>
            <a:xfrm>
              <a:off x="378000" y="3556080"/>
              <a:ext cx="1538280" cy="115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NR_INDEKS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WYDZIA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WstawOcenę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ZaliczSemestr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8000" y="3814920"/>
              <a:ext cx="1542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5920" y="4260960"/>
              <a:ext cx="1542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1216080" y="3135240"/>
            <a:ext cx="1930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09600" y="313704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0120" y="5318280"/>
            <a:ext cx="558720" cy="463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39920" y="5318280"/>
            <a:ext cx="558720" cy="463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635040" y="4734000"/>
            <a:ext cx="120600" cy="565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1479600" y="4733640"/>
            <a:ext cx="164880" cy="584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68680" y="5318280"/>
            <a:ext cx="558720" cy="463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158920" y="5318280"/>
            <a:ext cx="558720" cy="463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597040" y="4943160"/>
            <a:ext cx="254160" cy="393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346200" y="4943160"/>
            <a:ext cx="298440" cy="431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14840" y="3343320"/>
            <a:ext cx="699480" cy="33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20760" y="3343320"/>
            <a:ext cx="541080" cy="33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2335320"/>
            <a:ext cx="306360" cy="24912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65040" y="1486080"/>
            <a:ext cx="1245240" cy="81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AFIK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ZMI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yświetl(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950000" y="2944800"/>
            <a:ext cx="996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952880" y="2946240"/>
            <a:ext cx="0" cy="3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943600" y="2946240"/>
            <a:ext cx="0" cy="41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940280" y="1768320"/>
            <a:ext cx="120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40280" y="2035080"/>
            <a:ext cx="120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86400" y="2590920"/>
            <a:ext cx="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33800" y="313848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8120" y="2666880"/>
            <a:ext cx="0" cy="46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96680" y="1414440"/>
            <a:ext cx="88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OSOB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93640" y="352908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349720" y="3529080"/>
            <a:ext cx="148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PRACOWN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0640" y="4152960"/>
            <a:ext cx="558720" cy="463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724280" y="3686040"/>
            <a:ext cx="15264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71800" y="43718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713480" y="5409720"/>
            <a:ext cx="3724200" cy="64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atrybut klasy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ACOWNI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st obiektem, członkiem klasy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PE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759200" y="3755520"/>
            <a:ext cx="12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«instance of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0584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ziedziczenie (4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36520" y="4700520"/>
            <a:ext cx="0" cy="20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014480" y="4427640"/>
            <a:ext cx="245880" cy="26676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83040" y="3089160"/>
            <a:ext cx="0" cy="28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707160" y="1919160"/>
            <a:ext cx="1550880" cy="559080"/>
          </a:xfrm>
          <a:custGeom>
            <a:avLst/>
            <a:gdLst/>
            <a:ahLst/>
            <a:rect l="l" t="t" r="r" b="b"/>
            <a:pathLst>
              <a:path w="1009" h="361">
                <a:moveTo>
                  <a:pt x="384" y="24"/>
                </a:moveTo>
                <a:lnTo>
                  <a:pt x="276" y="24"/>
                </a:lnTo>
                <a:lnTo>
                  <a:pt x="132" y="36"/>
                </a:lnTo>
                <a:lnTo>
                  <a:pt x="36" y="48"/>
                </a:lnTo>
                <a:lnTo>
                  <a:pt x="12" y="96"/>
                </a:lnTo>
                <a:lnTo>
                  <a:pt x="0" y="132"/>
                </a:lnTo>
                <a:lnTo>
                  <a:pt x="0" y="168"/>
                </a:lnTo>
                <a:lnTo>
                  <a:pt x="0" y="204"/>
                </a:lnTo>
                <a:lnTo>
                  <a:pt x="12" y="240"/>
                </a:lnTo>
                <a:lnTo>
                  <a:pt x="36" y="276"/>
                </a:lnTo>
                <a:lnTo>
                  <a:pt x="72" y="300"/>
                </a:lnTo>
                <a:lnTo>
                  <a:pt x="108" y="324"/>
                </a:lnTo>
                <a:lnTo>
                  <a:pt x="144" y="336"/>
                </a:lnTo>
                <a:lnTo>
                  <a:pt x="180" y="348"/>
                </a:lnTo>
                <a:lnTo>
                  <a:pt x="216" y="348"/>
                </a:lnTo>
                <a:lnTo>
                  <a:pt x="264" y="348"/>
                </a:lnTo>
                <a:lnTo>
                  <a:pt x="300" y="360"/>
                </a:lnTo>
                <a:lnTo>
                  <a:pt x="348" y="360"/>
                </a:lnTo>
                <a:lnTo>
                  <a:pt x="420" y="360"/>
                </a:lnTo>
                <a:lnTo>
                  <a:pt x="456" y="360"/>
                </a:lnTo>
                <a:lnTo>
                  <a:pt x="492" y="360"/>
                </a:lnTo>
                <a:lnTo>
                  <a:pt x="528" y="360"/>
                </a:lnTo>
                <a:lnTo>
                  <a:pt x="600" y="360"/>
                </a:lnTo>
                <a:lnTo>
                  <a:pt x="636" y="360"/>
                </a:lnTo>
                <a:lnTo>
                  <a:pt x="672" y="360"/>
                </a:lnTo>
                <a:lnTo>
                  <a:pt x="708" y="360"/>
                </a:lnTo>
                <a:lnTo>
                  <a:pt x="756" y="360"/>
                </a:lnTo>
                <a:lnTo>
                  <a:pt x="792" y="348"/>
                </a:lnTo>
                <a:lnTo>
                  <a:pt x="828" y="324"/>
                </a:lnTo>
                <a:lnTo>
                  <a:pt x="864" y="324"/>
                </a:lnTo>
                <a:lnTo>
                  <a:pt x="900" y="300"/>
                </a:lnTo>
                <a:lnTo>
                  <a:pt x="936" y="276"/>
                </a:lnTo>
                <a:lnTo>
                  <a:pt x="972" y="252"/>
                </a:lnTo>
                <a:lnTo>
                  <a:pt x="996" y="216"/>
                </a:lnTo>
                <a:lnTo>
                  <a:pt x="1008" y="180"/>
                </a:lnTo>
                <a:lnTo>
                  <a:pt x="1008" y="144"/>
                </a:lnTo>
                <a:lnTo>
                  <a:pt x="984" y="108"/>
                </a:lnTo>
                <a:lnTo>
                  <a:pt x="948" y="84"/>
                </a:lnTo>
                <a:lnTo>
                  <a:pt x="912" y="72"/>
                </a:lnTo>
                <a:lnTo>
                  <a:pt x="876" y="60"/>
                </a:lnTo>
                <a:lnTo>
                  <a:pt x="828" y="60"/>
                </a:lnTo>
                <a:lnTo>
                  <a:pt x="792" y="60"/>
                </a:lnTo>
                <a:lnTo>
                  <a:pt x="756" y="60"/>
                </a:lnTo>
                <a:lnTo>
                  <a:pt x="720" y="48"/>
                </a:lnTo>
                <a:lnTo>
                  <a:pt x="684" y="48"/>
                </a:lnTo>
                <a:lnTo>
                  <a:pt x="648" y="36"/>
                </a:lnTo>
                <a:lnTo>
                  <a:pt x="612" y="36"/>
                </a:lnTo>
                <a:lnTo>
                  <a:pt x="528" y="24"/>
                </a:lnTo>
                <a:lnTo>
                  <a:pt x="492" y="12"/>
                </a:lnTo>
                <a:lnTo>
                  <a:pt x="456" y="0"/>
                </a:lnTo>
                <a:lnTo>
                  <a:pt x="420" y="0"/>
                </a:lnTo>
                <a:lnTo>
                  <a:pt x="384" y="12"/>
                </a:lnTo>
                <a:lnTo>
                  <a:pt x="384" y="2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18400" y="4565520"/>
            <a:ext cx="0" cy="20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694560" y="4300560"/>
            <a:ext cx="245880" cy="26676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35600" y="3363840"/>
            <a:ext cx="2081880" cy="94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wierzchnia wymi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średnica ru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33800" y="3689280"/>
            <a:ext cx="208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6340680" y="3335400"/>
            <a:ext cx="966600" cy="940680"/>
            <a:chOff x="6340680" y="3335400"/>
            <a:chExt cx="966600" cy="940680"/>
          </a:xfrm>
        </p:grpSpPr>
        <p:sp>
          <p:nvSpPr>
            <p:cNvPr id="272" name=""/>
            <p:cNvSpPr/>
            <p:nvPr/>
          </p:nvSpPr>
          <p:spPr>
            <a:xfrm>
              <a:off x="6340680" y="3335400"/>
              <a:ext cx="960120" cy="940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Zbiorni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jętość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iśnien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342120" y="3660840"/>
              <a:ext cx="965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1235160" y="3090960"/>
            <a:ext cx="552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30480" y="30877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53240" y="309240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530600" y="2884320"/>
            <a:ext cx="0" cy="20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08560" y="2620800"/>
            <a:ext cx="245880" cy="26676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7120" y="4906800"/>
            <a:ext cx="111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26280" y="4746600"/>
            <a:ext cx="107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0640" y="4906800"/>
            <a:ext cx="0" cy="192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46040" y="4913280"/>
            <a:ext cx="0" cy="192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730520" y="4913280"/>
            <a:ext cx="0" cy="192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323040" y="4746600"/>
            <a:ext cx="0" cy="192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399440" y="4753080"/>
            <a:ext cx="0" cy="19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12120" y="2736720"/>
            <a:ext cx="1542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yp wyposaże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271520" y="4583160"/>
            <a:ext cx="1057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yp pom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58520" y="4419720"/>
            <a:ext cx="1260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yp zbiornik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47120" y="1741320"/>
            <a:ext cx="2069640" cy="637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pekt specjalizac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yskryminat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3320" y="1419120"/>
            <a:ext cx="1321560" cy="116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yposażen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zw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ytwó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osz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02040" y="1770120"/>
            <a:ext cx="133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9960" y="5702400"/>
            <a:ext cx="80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ziedziczenie  jednoaspektowe - aspekt specjalizacji (dyskryminator)  jest tu atrybutem opcjonalny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441360" y="3300480"/>
            <a:ext cx="1690560" cy="1087560"/>
            <a:chOff x="441360" y="3300480"/>
            <a:chExt cx="1690560" cy="1087560"/>
          </a:xfrm>
        </p:grpSpPr>
        <p:sp>
          <p:nvSpPr>
            <p:cNvPr id="294" name=""/>
            <p:cNvSpPr/>
            <p:nvPr/>
          </p:nvSpPr>
          <p:spPr>
            <a:xfrm>
              <a:off x="444600" y="3325680"/>
              <a:ext cx="1687320" cy="1062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l-PL" sz="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ciśnienie ssan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ciśnienie tłoczen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przepły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41360" y="3628800"/>
              <a:ext cx="169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81280" y="330048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Pomp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283920" y="3357720"/>
            <a:ext cx="175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Wymiennik ciepł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6098040" y="2325240"/>
            <a:ext cx="382680" cy="38052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1T22:50:54Z</dcterms:created>
  <dc:creator>K. Subieta, IPI PAN, PJWSTK</dc:creator>
  <dc:description/>
  <dc:language>en-US</dc:language>
  <cp:lastModifiedBy>Your User Name</cp:lastModifiedBy>
  <dcterms:modified xsi:type="dcterms:W3CDTF">2002-12-05T21:22:19Z</dcterms:modified>
  <cp:revision>301</cp:revision>
  <dc:subject>Wprowadzenie do obiektowoci, cz.2</dc:subject>
  <dc:title>Projektowanie systemów informacyjnych</dc:title>
</cp:coreProperties>
</file>