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39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6552360"/>
            <a:ext cx="478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. Stemposz, Analiza i Projektowanie Systemów Informatycznych, Wykład 5, Slajd </a:t>
            </a:r>
            <a:fld id="{39498AD3-D73C-4840-B930-01B59D4411F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4680" y="83808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62940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75480" y="6612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000" y="6120"/>
            <a:ext cx="90680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416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740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744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200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352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67560" y="5091120"/>
            <a:ext cx="195732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9136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636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368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8636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668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472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732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1836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7224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5484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004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3904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2628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312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3104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8188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7868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480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2644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9460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744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5840" y="2835360"/>
            <a:ext cx="160164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9324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5984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964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728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8824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616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3408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5968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760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6200" y="5149800"/>
            <a:ext cx="65556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9604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80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31080" y="5597640"/>
            <a:ext cx="34416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1720" y="5559480"/>
            <a:ext cx="32868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396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39240" y="4498920"/>
            <a:ext cx="96048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252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312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7552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51680" y="4662360"/>
            <a:ext cx="28908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264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596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41960" y="4730760"/>
            <a:ext cx="78912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480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548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936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6552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6748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8008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2720" y="3751200"/>
            <a:ext cx="2845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9120" y="2482920"/>
            <a:ext cx="123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ł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4149720"/>
          <a:ext cx="1145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49720"/>
                    <a:ext cx="114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1352520" y="4952880"/>
            <a:ext cx="723960" cy="717840"/>
            <a:chOff x="1352520" y="4952880"/>
            <a:chExt cx="723960" cy="717840"/>
          </a:xfrm>
        </p:grpSpPr>
        <p:sp>
          <p:nvSpPr>
            <p:cNvPr id="109" name=""/>
            <p:cNvSpPr/>
            <p:nvPr/>
          </p:nvSpPr>
          <p:spPr>
            <a:xfrm>
              <a:off x="135900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252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808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0920" y="30351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obiektowy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rybuty asocj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88200" y="1143000"/>
            <a:ext cx="5760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000" y="2952720"/>
            <a:ext cx="13611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żytk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76200" y="152100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3160" y="1828800"/>
            <a:ext cx="7786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3240" y="213372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520" y="1854360"/>
            <a:ext cx="967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stęp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00240" y="2529000"/>
            <a:ext cx="160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stęp oznac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zytanie 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zytanie-pisani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2400" y="223848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0640" y="1515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3880" y="2720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219320"/>
            <a:ext cx="394308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śli klasa asocjacji nie zawiera metod ani  asocjacji do innych klas to jej nazwa może być opuszczona dla podkreślenia faktu, że chodzi tu wyłącznie o atrybuty asocj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48240" y="4086360"/>
            <a:ext cx="901800" cy="93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4200" y="3213000"/>
            <a:ext cx="1045440" cy="130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86360" y="3565440"/>
            <a:ext cx="10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64840" y="3193920"/>
            <a:ext cx="792720" cy="10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67720" y="358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53040" y="3413160"/>
            <a:ext cx="171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84440" y="4038480"/>
            <a:ext cx="14644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86600" y="4352760"/>
            <a:ext cx="145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0" y="375300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04920" y="3048120"/>
            <a:ext cx="93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trud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6120" y="5537160"/>
            <a:ext cx="195372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cena wydaj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48280" y="5889600"/>
            <a:ext cx="19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49680" y="4110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53280" y="34401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89680" y="340992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84920" y="503064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6040" y="3436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6498360" y="3170520"/>
            <a:ext cx="112680" cy="101520"/>
          </a:xfrm>
          <a:prstGeom prst="flowChartExtra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16200" y="447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iedy stosować atrybuty asocjacji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6840" y="4667400"/>
            <a:ext cx="3671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 nie zalecana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iej elastyczna: np. po zmianie asocjacji na wiele-do-wielu trzeba zmieniać położenie atrybu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6840" y="1295280"/>
            <a:ext cx="3976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lecane j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y  przypisywać do klasy tylko te atrybuty,  które są dla tej klasy stabil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speryment myślowy: co będzie, jeżeli liczność asocjacji się zmieni? Dość często okazuje się wtedy, że atrybut jest atrybutem asocjacji, a nie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66720" y="1330200"/>
            <a:ext cx="1045440" cy="13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68880" y="168264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47360" y="1311120"/>
            <a:ext cx="792720" cy="10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50240" y="17017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35560" y="1530360"/>
            <a:ext cx="170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77560" y="1165320"/>
            <a:ext cx="102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1640" y="2409840"/>
            <a:ext cx="14644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73800" y="2724120"/>
            <a:ext cx="145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51680" y="153360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3080" y="15606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08560" y="1535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48000" y="4213080"/>
            <a:ext cx="1210320" cy="185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49800" y="456552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28280" y="4194000"/>
            <a:ext cx="792720" cy="10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31160" y="4584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69120" y="441324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8480" y="4048200"/>
            <a:ext cx="102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27880" y="4481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61200" y="45068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rybuty i asocjacje pochod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3680" y="1003320"/>
            <a:ext cx="863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cha pochodna jest zdefiniowana poprzez  funkcję działającą na jednym lub więcej byt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u,  które też mogą być pochodne. Cecha pochodna oznaczana jest ukośnikiem /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74160" y="2247840"/>
            <a:ext cx="15818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_uro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2680" y="2822400"/>
            <a:ext cx="349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wiek = data_bieżąca - data_urodzenia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77760" y="258444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5800" y="5651640"/>
            <a:ext cx="82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socjacj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jest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socjacją pochodną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 którą można wyznaczyć poprzez asocjacje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trud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lokalizowana_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Asocjację pochodną  można oznaczyć poprzedzając ukośnikiem nazwę lub  rolę asocj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0920" y="1765440"/>
            <a:ext cx="2568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ybut pochodny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79800" y="38005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81880" y="3597120"/>
            <a:ext cx="9954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dzia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64040" y="3597120"/>
            <a:ext cx="8290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k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00240" y="3597120"/>
            <a:ext cx="12358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02840" y="4851360"/>
            <a:ext cx="105624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dyn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9120" y="3463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trud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3"/>
            <a:endCxn id="378" idx="2"/>
          </p:cNvCxnSpPr>
          <p:nvPr/>
        </p:nvCxnSpPr>
        <p:spPr>
          <a:xfrm flipV="1">
            <a:off x="5965560" y="3972960"/>
            <a:ext cx="21531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3577680" y="4344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lokalizowana_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10160" y="468324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pracuje_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3520" y="3575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3840" y="3576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97480" y="3981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60760" y="401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59320" y="396252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3120" y="2222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8320" y="5194440"/>
            <a:ext cx="3243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ocjacja pochodna: /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zykładowy diagram kl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889440" y="5151600"/>
            <a:ext cx="317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650680" y="3322800"/>
            <a:ext cx="1800" cy="14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1680" y="25066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2417760" y="3322800"/>
            <a:ext cx="1440" cy="47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963800" y="2500200"/>
            <a:ext cx="67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2000" y="2495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60560" y="3792600"/>
            <a:ext cx="46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840" y="2038320"/>
            <a:ext cx="101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przed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62240" y="3733920"/>
            <a:ext cx="125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stępuje_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37000" y="344808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w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67520" y="3661920"/>
            <a:ext cx="0" cy="14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66920" y="2098800"/>
            <a:ext cx="1187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pisany_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93080" y="3619440"/>
            <a:ext cx="93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wad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13240" y="2406600"/>
            <a:ext cx="0" cy="24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16480" y="24098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25440" y="2220840"/>
            <a:ext cx="12358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88400" y="2220840"/>
            <a:ext cx="9417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46640" y="1149480"/>
            <a:ext cx="8031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03280" y="2944800"/>
            <a:ext cx="6768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63160" y="3290760"/>
            <a:ext cx="10213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2920" y="4809960"/>
            <a:ext cx="140004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kł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9892400">
            <a:off x="6660720" y="2589120"/>
            <a:ext cx="173160" cy="144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5280" y="2725920"/>
            <a:ext cx="277560" cy="56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9892400">
            <a:off x="5869080" y="1522440"/>
            <a:ext cx="172800" cy="14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93640" y="1659240"/>
            <a:ext cx="276840" cy="56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rot="1758600">
            <a:off x="5241960" y="1523880"/>
            <a:ext cx="172800" cy="14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958280" y="1662840"/>
            <a:ext cx="33012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14360" y="241632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5040" y="3341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38160" y="455292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95360" y="454500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96720" y="4925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31680" y="268596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98920" y="3643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52480" y="32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12840" y="1347840"/>
            <a:ext cx="85201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gregacja jest szczególnym rodzajem asocjacji wyrażającym zależność część-całość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p. silnik jest częścią samochod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istnieje jedna powszechnie akceptowana definicja agregacji. P. Coad podaje jako przykład agregacji związek pomiędzy organizacją i jej pracownikami; dla odmiany J. Rumbaugh twierdzi, że firma nie jest agregacją jej pracownikó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wielu przypadkach związki agregacji są oczywiste. Jednakże wątpliwości powstają nawet w przypadku samochodu i silnika. Np. silnik może być towarem w sklepie nie związanym z żadnym samochodem. Ponadto, czy chodzi o konkretny samochód i silnik, czy też o typ samochodu i typ silnik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ętlik dookoła pojęcia agregacji wynika również z tego, że jest ona nadużywana w celu usprawiedliwienia pewnych ograniczeń modelu obiektoweg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p. popularne wyjaśnienie powodów braku dziedziczenia wielokrotnego podaje, że można je „obejść przez agregację”, co jest nonsensem z punktu widzenia celów modelowania pojęciowego, tak samo jak zdanie: „asocjacje są zbędne, bo można je obejść przez atrybuty”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zystko można obejść .... w assemblerz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-6480"/>
            <a:ext cx="9144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greg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06200" y="1033560"/>
            <a:ext cx="51516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ęcie agregacji jest rozumiane  na dwa sposo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8520" y="3276720"/>
            <a:ext cx="8313840" cy="1038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UML  te dwie sytuacje zostały  rozdzielone. Pierwszą formę nazwano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mpozycją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pozycja oznacza, ż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ykl życiowy składowej zawiera się w cyklu  życiowym całości, oraz że składowa nie może być współdzielon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6240" y="1523880"/>
            <a:ext cx="7658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o związek część-całość pomiędzy obiektami świata rzeczywistego; np. silnik jest częścią samocho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o pomocniczy środek do modelowania dowolnej innej sytuacji, kiedy trzeba  wydzielić podobiekty w pewnych obiektach. np. informacja o ubezpieczeniach wewnątrz obiektów prac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-6480"/>
            <a:ext cx="9139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ompozycja jako mocna postać agreg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932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543720" y="5191200"/>
            <a:ext cx="315720" cy="133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53080" y="4995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19600" y="4900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66640" y="5829480"/>
            <a:ext cx="1134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greg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48006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600200" y="5105520"/>
            <a:ext cx="31608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28800" y="491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1720" y="5829480"/>
            <a:ext cx="13618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ompozy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15680" y="4784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-6480"/>
            <a:ext cx="913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 CE"/>
              </a:rPr>
              <a:t>Agregacja a kompozycja; przykł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3640" y="2374920"/>
            <a:ext cx="1704960" cy="94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elob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92600" y="1222200"/>
            <a:ext cx="1903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n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92600" y="3767040"/>
            <a:ext cx="1901880" cy="131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y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Wypełni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15120" y="2374920"/>
            <a:ext cx="1366920" cy="10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krą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mie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46280" y="25225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22560" y="142416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1417680"/>
            <a:ext cx="77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471720" y="252252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469200" y="142416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686200" y="141768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311560" y="3164040"/>
            <a:ext cx="315720" cy="1332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12880" y="3230640"/>
            <a:ext cx="41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22560" y="322740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29040" y="430992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481800" y="3230640"/>
            <a:ext cx="48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88280" y="322740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714640" y="430992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15120" y="2744640"/>
            <a:ext cx="136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15120" y="3192480"/>
            <a:ext cx="136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92600" y="414324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92600" y="486396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32760" y="1041480"/>
            <a:ext cx="86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1560" y="151272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03000" y="3376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4360" y="3376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92920" y="3161520"/>
            <a:ext cx="316080" cy="1335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886440" y="2456640"/>
            <a:ext cx="316080" cy="133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311560" y="2456640"/>
            <a:ext cx="315720" cy="133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0360" y="5261040"/>
            <a:ext cx="84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Wada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nkt na płaszczyźnie, w którym przecina się wiele środków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kręgów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wierzchołków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eloboków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jest odwzorowywany w wiele (?) obiektów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unk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Zaleta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niej problemów nastręcza usuwanie wieloboków (związane z usuwaniem punktów wchodzących w ich skła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67280" y="2087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47920" y="2087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25800" y="109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25800" y="391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432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858000" y="1905120"/>
            <a:ext cx="316080" cy="133200"/>
          </a:xfrm>
          <a:prstGeom prst="diamond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286000" y="1980360"/>
            <a:ext cx="316080" cy="1335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68800" y="1660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 CE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2360" y="173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 CE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03960" y="16707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{alternatywni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2360" y="173628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{alternatywni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wanie generalizacji-specjaliz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360" y="599436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zięki kompozycji, podobiekt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z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ą mocniej związane z obiektem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niż gdyby do modelowania użyto  asocj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3772080"/>
            <a:ext cx="312408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86160" y="382320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43200" y="4214880"/>
            <a:ext cx="287280" cy="2077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13720" y="5190120"/>
            <a:ext cx="3021120" cy="368280"/>
            <a:chOff x="513720" y="5190120"/>
            <a:chExt cx="3021120" cy="368280"/>
          </a:xfrm>
        </p:grpSpPr>
        <p:sp>
          <p:nvSpPr>
            <p:cNvPr id="494" name=""/>
            <p:cNvSpPr/>
            <p:nvPr/>
          </p:nvSpPr>
          <p:spPr>
            <a:xfrm>
              <a:off x="513720" y="5190120"/>
              <a:ext cx="941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99680" y="5190120"/>
              <a:ext cx="123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000160" y="4419720"/>
            <a:ext cx="18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57320" y="4695840"/>
            <a:ext cx="198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7600" y="4700520"/>
            <a:ext cx="18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33720" y="4700520"/>
            <a:ext cx="144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93760" y="413856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3772080"/>
            <a:ext cx="312408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3280" y="382320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90440" y="528552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2600" y="528228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90960" y="4976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02440" y="49766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 rot="5400000">
            <a:off x="6871320" y="4296960"/>
            <a:ext cx="31572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483408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48520" y="484488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72400" y="484812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309920" y="2463840"/>
            <a:ext cx="718920" cy="2362320"/>
            <a:chOff x="4309920" y="2463840"/>
            <a:chExt cx="718920" cy="2362320"/>
          </a:xfrm>
        </p:grpSpPr>
        <p:sp>
          <p:nvSpPr>
            <p:cNvPr id="512" name=""/>
            <p:cNvSpPr/>
            <p:nvPr/>
          </p:nvSpPr>
          <p:spPr>
            <a:xfrm>
              <a:off x="4309920" y="2463840"/>
              <a:ext cx="718920" cy="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09920" y="4826160"/>
              <a:ext cx="718920" cy="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57200" y="1486080"/>
            <a:ext cx="312408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18120" y="157716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85960" y="1957320"/>
            <a:ext cx="270000" cy="1904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13360" y="2961720"/>
            <a:ext cx="2891520" cy="371160"/>
            <a:chOff x="513360" y="2961720"/>
            <a:chExt cx="2891520" cy="371160"/>
          </a:xfrm>
        </p:grpSpPr>
        <p:sp>
          <p:nvSpPr>
            <p:cNvPr id="518" name=""/>
            <p:cNvSpPr/>
            <p:nvPr/>
          </p:nvSpPr>
          <p:spPr>
            <a:xfrm>
              <a:off x="513360" y="2961720"/>
              <a:ext cx="941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69720" y="2964600"/>
              <a:ext cx="123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914400" y="247644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2476440"/>
            <a:ext cx="18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476440"/>
            <a:ext cx="144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6400" y="1486080"/>
            <a:ext cx="312408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17160" y="161496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590800" y="2981880"/>
            <a:ext cx="2897640" cy="368280"/>
            <a:chOff x="5590800" y="2981880"/>
            <a:chExt cx="2897640" cy="368280"/>
          </a:xfrm>
        </p:grpSpPr>
        <p:sp>
          <p:nvSpPr>
            <p:cNvPr id="526" name=""/>
            <p:cNvSpPr/>
            <p:nvPr/>
          </p:nvSpPr>
          <p:spPr>
            <a:xfrm>
              <a:off x="5590800" y="2981880"/>
              <a:ext cx="941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53280" y="2981880"/>
              <a:ext cx="123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710320" y="26719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05800" y="2685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14640" y="271296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5400000">
            <a:off x="6861960" y="2088720"/>
            <a:ext cx="31572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255276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552760"/>
            <a:ext cx="180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72200" y="2552760"/>
            <a:ext cx="144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72200" y="274320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20000" y="232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29360" y="453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09840" y="990720"/>
            <a:ext cx="7731720" cy="368280"/>
            <a:chOff x="609840" y="990720"/>
            <a:chExt cx="7731720" cy="368280"/>
          </a:xfrm>
        </p:grpSpPr>
        <p:sp>
          <p:nvSpPr>
            <p:cNvPr id="539" name=""/>
            <p:cNvSpPr/>
            <p:nvPr/>
          </p:nvSpPr>
          <p:spPr>
            <a:xfrm>
              <a:off x="609840" y="990720"/>
              <a:ext cx="274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astosowano dziedzicz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6440" y="990720"/>
              <a:ext cx="262512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astosowano kompozycj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924200" y="2152800"/>
            <a:ext cx="0" cy="32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bejście dziedziczenia wielokrot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03720" y="140544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71560" y="1785960"/>
            <a:ext cx="270000" cy="1904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08680" y="2771280"/>
            <a:ext cx="2891520" cy="370800"/>
            <a:chOff x="508680" y="2771280"/>
            <a:chExt cx="2891520" cy="370800"/>
          </a:xfrm>
        </p:grpSpPr>
        <p:sp>
          <p:nvSpPr>
            <p:cNvPr id="546" name=""/>
            <p:cNvSpPr/>
            <p:nvPr/>
          </p:nvSpPr>
          <p:spPr>
            <a:xfrm>
              <a:off x="508680" y="2771280"/>
              <a:ext cx="941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65040" y="2773800"/>
              <a:ext cx="123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909720" y="2286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1448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86120" y="228600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09720" y="228600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840" y="3967920"/>
            <a:ext cx="2059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udent/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38320" y="3152880"/>
            <a:ext cx="269640" cy="1904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81320" y="3152880"/>
            <a:ext cx="269640" cy="1904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715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145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72440" y="140544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40640" y="1785960"/>
            <a:ext cx="269640" cy="1904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477400" y="2771280"/>
            <a:ext cx="2891520" cy="370800"/>
            <a:chOff x="5477400" y="2771280"/>
            <a:chExt cx="2891520" cy="370800"/>
          </a:xfrm>
        </p:grpSpPr>
        <p:sp>
          <p:nvSpPr>
            <p:cNvPr id="560" name=""/>
            <p:cNvSpPr/>
            <p:nvPr/>
          </p:nvSpPr>
          <p:spPr>
            <a:xfrm>
              <a:off x="5477400" y="2771280"/>
              <a:ext cx="941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33760" y="2773800"/>
              <a:ext cx="123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878440" y="22860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8356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54840" y="228600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8440" y="228600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0600" y="314316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83600" y="3143160"/>
            <a:ext cx="14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58280" y="3967920"/>
            <a:ext cx="2059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udent/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 rot="5400000">
            <a:off x="6704640" y="3729960"/>
            <a:ext cx="31608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3480" y="34383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62680" y="34383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91200" y="3643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99240" y="424260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71160" y="569484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82960" y="567612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1680" y="539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35480" y="5383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 rot="5400000">
            <a:off x="4247280" y="4716000"/>
            <a:ext cx="31572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28880" y="52261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3120" y="5229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28880" y="5229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05320" y="494352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12680" y="2400480"/>
            <a:ext cx="13345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e polec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3048120"/>
            <a:ext cx="7189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12720" y="4720320"/>
            <a:ext cx="508320" cy="50832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3080" y="311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03640" y="311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39560" y="5619600"/>
            <a:ext cx="82472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walifikator jest atrybutem asocjacji (lub zestawem atrybutów), którego wartości służą do podziału zbioru obiektów definiowanych przez klasę znajdującą się na jednym z końców tej asocjacji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-6480"/>
            <a:ext cx="913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kwalifikowan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9120" y="1425600"/>
            <a:ext cx="142236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931000" y="1047600"/>
            <a:ext cx="1753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38920" y="247644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97720" y="184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93240" y="15224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3720" y="1910520"/>
            <a:ext cx="700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46520" y="16192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46520" y="1924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16160" y="2114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94000" y="1809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30200" y="18144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19840" y="18525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9120" y="3846600"/>
            <a:ext cx="142236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1000" y="3468600"/>
            <a:ext cx="1753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67360" y="503856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97720" y="4275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93240" y="395280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8120" y="3815280"/>
            <a:ext cx="700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65600" y="3703680"/>
            <a:ext cx="1600200" cy="6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1520" y="3821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30680" y="373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44600" y="401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44400" y="370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330200" y="3711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9840" y="4282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77000" y="1866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3320" y="427680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4495680"/>
            <a:ext cx="1447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38760" y="4457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ank/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13640" y="48387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52440" y="4876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979640" y="40050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233840" y="167616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37120" y="1562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80360" y="20192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 ko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24280" y="2057400"/>
            <a:ext cx="71928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24280" y="4495680"/>
            <a:ext cx="71928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43600" y="219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19920" y="47196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780320" y="2043000"/>
            <a:ext cx="125208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kwalifik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80" y="1619280"/>
            <a:ext cx="450360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ocjacja bina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gregacja a kompozy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owanie generalizacji-specjaliz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bejście dziedziczenia wielok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ocjacja kwalifikow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ocjacja n-a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grani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436896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kwalifikowan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15040" y="4280040"/>
            <a:ext cx="1649880" cy="45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 produ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962520"/>
            <a:ext cx="1754280" cy="94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mów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48480" y="3995640"/>
            <a:ext cx="2508120" cy="10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erszZamówi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l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46640" y="4191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48280" y="45720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y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38080" y="1447920"/>
            <a:ext cx="1754280" cy="94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mów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00600" y="1447920"/>
            <a:ext cx="25084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erszZamówi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a produ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l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414760" y="1700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81680" y="200484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y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90920" y="19810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67080" y="4495680"/>
            <a:ext cx="149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52480" y="1636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78240" y="41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59280" y="436896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1809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-12600"/>
            <a:ext cx="9067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n-a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6280" y="952560"/>
            <a:ext cx="870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socjacja  n-arna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socjacja, której wystąpienia  łączą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biektów, będących instancjami  co najwyżej  n  klas: 3-arna - 3  obiekty  (inna nazwa dla tej asocjacji  to ternarna), 4-arna - 4  obiekty, itd. Dana klasa może pojawić się na więcej  niż jednej pozycji w  asocja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280" y="2222640"/>
            <a:ext cx="874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ocjacja binarna ze swoją uproszczoną notacją i pewnymi dodatkowymi własnościami  (takimi jak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żliwość ustalania kierunku nawigowania, kwalifikatorów, związków agregacji czy kompozycj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jest specjalnym rodzajem asocjacji n-arnej (dla n=2). Asocjacja binarna i  2-arna są równoważne, nie istnieje między nimi różnica semantyczna, inny jest tylko sposób reprezentowania. Wymienione wyżej dodatkowe  własności asocjacji binarnych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ą zabroni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dla asocjacji n-arnych, gdzie n &gt;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6800" y="4406760"/>
            <a:ext cx="94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36440" y="517284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11320" y="608724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46480" y="517284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44720" y="5054760"/>
            <a:ext cx="608040" cy="6076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50" idx="3"/>
            <a:endCxn id="653" idx="1"/>
          </p:cNvCxnSpPr>
          <p:nvPr/>
        </p:nvCxnSpPr>
        <p:spPr>
          <a:xfrm>
            <a:off x="241632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3" idx="3"/>
            <a:endCxn id="652" idx="1"/>
          </p:cNvCxnSpPr>
          <p:nvPr/>
        </p:nvCxnSpPr>
        <p:spPr>
          <a:xfrm flipV="1">
            <a:off x="3452760" y="5357520"/>
            <a:ext cx="68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2"/>
            <a:endCxn id="651" idx="0"/>
          </p:cNvCxnSpPr>
          <p:nvPr/>
        </p:nvCxnSpPr>
        <p:spPr>
          <a:xfrm flipH="1">
            <a:off x="3147120" y="5662080"/>
            <a:ext cx="252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3289320" y="54594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98960" y="517284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73480" y="608724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97560" y="5620680"/>
            <a:ext cx="47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07240" y="5054760"/>
            <a:ext cx="608040" cy="6076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58" idx="3"/>
            <a:endCxn id="661" idx="1"/>
          </p:cNvCxnSpPr>
          <p:nvPr/>
        </p:nvCxnSpPr>
        <p:spPr>
          <a:xfrm>
            <a:off x="6378120" y="535788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61" idx="2"/>
            <a:endCxn id="659" idx="0"/>
          </p:cNvCxnSpPr>
          <p:nvPr/>
        </p:nvCxnSpPr>
        <p:spPr>
          <a:xfrm flipH="1">
            <a:off x="7109640" y="5662080"/>
            <a:ext cx="252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7628040" y="5459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58" idx="0"/>
            <a:endCxn id="661" idx="0"/>
          </p:cNvCxnSpPr>
          <p:nvPr/>
        </p:nvCxnSpPr>
        <p:spPr>
          <a:xfrm flipH="1" flipV="1" rot="5400000">
            <a:off x="6566760" y="4623120"/>
            <a:ext cx="114840" cy="977040"/>
          </a:xfrm>
          <a:prstGeom prst="bentConnector3">
            <a:avLst>
              <a:gd name="adj1" fmla="val 3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2983680" y="4164120"/>
            <a:ext cx="98244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-a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263760" y="47498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7429320" y="4673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77040" y="551196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7720" y="4216320"/>
            <a:ext cx="982440" cy="58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ocj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-a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-12600"/>
            <a:ext cx="9105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a n-arna; licz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3640" y="963720"/>
            <a:ext cx="10965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cz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7960" y="1382760"/>
            <a:ext cx="862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yfikowanie liczności dla asocjacji n-arnych nie jest tak oczywiste, jak dla asocjacji binarnych i różni autorzy wygłaszają na ten temat różne zdania. W UML przyjęto zasadę, że liczność n-tej roli jest opisana przez zbiór możliwych wartości liczności, gdy sytuacja na n-1 końcach asocjacji jest ustalona. Np. dla ternarnej asocjacji łączącej klasy A,B i C liczność roli C specyfikuje, ile obiektów klasy C jest  powiązanych z każdą możliwą parą obiektów klas A i B. Taka reguła jest zgodna z regułą  przyjętą dla specyfikowania liczności asocjacji binarny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600" y="3809880"/>
            <a:ext cx="10814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yb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39920" y="4919040"/>
            <a:ext cx="82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espó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50280" y="4919040"/>
            <a:ext cx="779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a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82880" y="4800600"/>
            <a:ext cx="608040" cy="608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>
            <a:stCxn id="675" idx="3"/>
            <a:endCxn id="677" idx="1"/>
          </p:cNvCxnSpPr>
          <p:nvPr/>
        </p:nvCxnSpPr>
        <p:spPr>
          <a:xfrm>
            <a:off x="2174400" y="5103360"/>
            <a:ext cx="708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77" idx="3"/>
            <a:endCxn id="676" idx="1"/>
          </p:cNvCxnSpPr>
          <p:nvPr/>
        </p:nvCxnSpPr>
        <p:spPr>
          <a:xfrm flipV="1">
            <a:off x="3490560" y="5103000"/>
            <a:ext cx="1354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0" name=""/>
          <p:cNvSpPr/>
          <p:nvPr/>
        </p:nvSpPr>
        <p:spPr>
          <a:xfrm>
            <a:off x="2896200" y="3813840"/>
            <a:ext cx="58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7" idx="0"/>
            <a:endCxn id="680" idx="2"/>
          </p:cNvCxnSpPr>
          <p:nvPr/>
        </p:nvCxnSpPr>
        <p:spPr>
          <a:xfrm flipV="1">
            <a:off x="3187800" y="4185360"/>
            <a:ext cx="21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2" name=""/>
          <p:cNvSpPr/>
          <p:nvPr/>
        </p:nvSpPr>
        <p:spPr>
          <a:xfrm>
            <a:off x="5867280" y="5181480"/>
            <a:ext cx="15242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96320" y="5143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28120" y="5524560"/>
            <a:ext cx="1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le nas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le 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67280" y="5562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7" idx="2"/>
            <a:endCxn id="682" idx="2"/>
          </p:cNvCxnSpPr>
          <p:nvPr/>
        </p:nvCxnSpPr>
        <p:spPr>
          <a:xfrm flipH="1" rot="16200000">
            <a:off x="4526640" y="4069080"/>
            <a:ext cx="764280" cy="3442320"/>
          </a:xfrm>
          <a:prstGeom prst="bentConnector3">
            <a:avLst>
              <a:gd name="adj1" fmla="val 129924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87" name=""/>
          <p:cNvSpPr/>
          <p:nvPr/>
        </p:nvSpPr>
        <p:spPr>
          <a:xfrm>
            <a:off x="4573440" y="4838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12480" y="50529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amka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86360" y="41385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81080" y="41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76200" y="5091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61240" y="5295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-12600"/>
            <a:ext cx="9105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bejście asocjacji n-arne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6880" y="977760"/>
            <a:ext cx="843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ocjacje n-arne mają sens wtedy, gdy do identyfikacji powiązania (n-arnego) potrzebne są  wszystkie obiekty, tzn. gdy liczność każdej z  ról  jest “wiele”. W pozostałych przypadkach asocjację n-arną warto jest zastępować asocjacjami binarnymi, które są łatwiejsze do implementacji i wyposażone w dodatkowe własności, o których była mowa poprzednio. Niestety, każda zamiana zwiazana jest z utratą informacji o związku, zachodzącym w obrębie pewnej grupy  obiek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632120" y="3023280"/>
            <a:ext cx="4187880" cy="2215800"/>
            <a:chOff x="4632120" y="3023280"/>
            <a:chExt cx="4187880" cy="2215800"/>
          </a:xfrm>
        </p:grpSpPr>
        <p:sp>
          <p:nvSpPr>
            <p:cNvPr id="696" name=""/>
            <p:cNvSpPr/>
            <p:nvPr/>
          </p:nvSpPr>
          <p:spPr>
            <a:xfrm>
              <a:off x="4632120" y="396648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46600" y="396648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79480" y="302328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94200" y="3933720"/>
              <a:ext cx="171396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0560" y="3886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17600" y="4200480"/>
              <a:ext cx="4734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4200" y="4238640"/>
              <a:ext cx="171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94200" y="4886280"/>
              <a:ext cx="171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11640" y="4114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2320" y="3400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1176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385080" y="5638680"/>
            <a:ext cx="56124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ocjacja n-arna zostaje zamieniona na klasę i  n  asocj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inar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34720" y="2899440"/>
            <a:ext cx="2683080" cy="3473280"/>
            <a:chOff x="234720" y="2899440"/>
            <a:chExt cx="2683080" cy="3473280"/>
          </a:xfrm>
        </p:grpSpPr>
        <p:sp>
          <p:nvSpPr>
            <p:cNvPr id="709" name=""/>
            <p:cNvSpPr/>
            <p:nvPr/>
          </p:nvSpPr>
          <p:spPr>
            <a:xfrm>
              <a:off x="234720" y="402336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44400" y="402336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43000" y="3905280"/>
              <a:ext cx="608040" cy="6080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2" name=""/>
            <p:cNvCxnSpPr>
              <a:stCxn id="709" idx="3"/>
              <a:endCxn id="711" idx="1"/>
            </p:cNvCxnSpPr>
            <p:nvPr/>
          </p:nvCxnSpPr>
          <p:spPr>
            <a:xfrm>
              <a:off x="713880" y="4208040"/>
              <a:ext cx="42948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11" idx="3"/>
              <a:endCxn id="710" idx="1"/>
            </p:cNvCxnSpPr>
            <p:nvPr/>
          </p:nvCxnSpPr>
          <p:spPr>
            <a:xfrm flipV="1">
              <a:off x="1750680" y="4207680"/>
              <a:ext cx="68796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4" name=""/>
            <p:cNvCxnSpPr>
              <a:stCxn id="711" idx="2"/>
              <a:endCxn id="715" idx="0"/>
            </p:cNvCxnSpPr>
            <p:nvPr/>
          </p:nvCxnSpPr>
          <p:spPr>
            <a:xfrm>
              <a:off x="1447200" y="4512960"/>
              <a:ext cx="1080" cy="5166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16" name=""/>
            <p:cNvSpPr/>
            <p:nvPr/>
          </p:nvSpPr>
          <p:spPr>
            <a:xfrm>
              <a:off x="1215720" y="2899440"/>
              <a:ext cx="47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6" idx="2"/>
              <a:endCxn id="711" idx="0"/>
            </p:cNvCxnSpPr>
            <p:nvPr/>
          </p:nvCxnSpPr>
          <p:spPr>
            <a:xfrm flipH="1">
              <a:off x="1447200" y="3271680"/>
              <a:ext cx="5760" cy="634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5" name=""/>
            <p:cNvSpPr/>
            <p:nvPr/>
          </p:nvSpPr>
          <p:spPr>
            <a:xfrm>
              <a:off x="590400" y="5029200"/>
              <a:ext cx="171468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04560" y="498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4160" y="5334120"/>
              <a:ext cx="4734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400" y="5334120"/>
              <a:ext cx="17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0400" y="5981760"/>
              <a:ext cx="17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09480" y="3643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581280" y="4191120"/>
            <a:ext cx="54000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graniczenia; przykła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92160" y="5410080"/>
            <a:ext cx="1901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5460840" y="4916520"/>
            <a:ext cx="1903680" cy="1386360"/>
            <a:chOff x="5460840" y="4916520"/>
            <a:chExt cx="1903680" cy="1386360"/>
          </a:xfrm>
        </p:grpSpPr>
        <p:sp>
          <p:nvSpPr>
            <p:cNvPr id="727" name=""/>
            <p:cNvSpPr/>
            <p:nvPr/>
          </p:nvSpPr>
          <p:spPr>
            <a:xfrm>
              <a:off x="5462640" y="5904000"/>
              <a:ext cx="190188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r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60840" y="4916520"/>
              <a:ext cx="190188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so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V="1">
            <a:off x="2894040" y="5121360"/>
            <a:ext cx="2562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94040" y="5753160"/>
            <a:ext cx="257328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69760" y="545940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27720" y="527040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38480" y="4786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38480" y="61578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14400" y="1371600"/>
            <a:ext cx="19051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50840" y="140976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75600" y="1790640"/>
            <a:ext cx="148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ne osob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o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35600" y="2154240"/>
            <a:ext cx="19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pensja &lt;= 500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nigdy nie malej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22640" y="3683160"/>
            <a:ext cx="30639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 dynami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ważny jest poprzedni  st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95680" y="1066680"/>
            <a:ext cx="2375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e staty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150800" y="1529280"/>
            <a:ext cx="357480" cy="405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4523040" y="3130920"/>
            <a:ext cx="312120" cy="440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9080" y="3263760"/>
            <a:ext cx="32162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graniczenia  stanowią kolejny z mechanizmów rozszerzalności w UML (po stereotypach  i  wartościach etykietowany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06640" y="516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81080" y="5876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2000" y="2637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2924280"/>
            <a:ext cx="1871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039080" y="5410080"/>
            <a:ext cx="2054160" cy="1040040"/>
          </a:xfrm>
          <a:custGeom>
            <a:avLst/>
            <a:gdLst/>
            <a:ahLst/>
            <a:rect l="l" t="t" r="r" b="b"/>
            <a:pathLst>
              <a:path w="1294" h="655">
                <a:moveTo>
                  <a:pt x="678" y="0"/>
                </a:moveTo>
                <a:cubicBezTo>
                  <a:pt x="597" y="21"/>
                  <a:pt x="505" y="27"/>
                  <a:pt x="429" y="62"/>
                </a:cubicBezTo>
                <a:cubicBezTo>
                  <a:pt x="382" y="83"/>
                  <a:pt x="344" y="120"/>
                  <a:pt x="296" y="140"/>
                </a:cubicBezTo>
                <a:cubicBezTo>
                  <a:pt x="240" y="164"/>
                  <a:pt x="183" y="184"/>
                  <a:pt x="125" y="203"/>
                </a:cubicBezTo>
                <a:cubicBezTo>
                  <a:pt x="109" y="208"/>
                  <a:pt x="94" y="213"/>
                  <a:pt x="78" y="218"/>
                </a:cubicBezTo>
                <a:cubicBezTo>
                  <a:pt x="70" y="221"/>
                  <a:pt x="55" y="226"/>
                  <a:pt x="55" y="226"/>
                </a:cubicBezTo>
                <a:cubicBezTo>
                  <a:pt x="0" y="306"/>
                  <a:pt x="68" y="395"/>
                  <a:pt x="141" y="436"/>
                </a:cubicBezTo>
                <a:cubicBezTo>
                  <a:pt x="158" y="445"/>
                  <a:pt x="178" y="445"/>
                  <a:pt x="195" y="452"/>
                </a:cubicBezTo>
                <a:cubicBezTo>
                  <a:pt x="216" y="461"/>
                  <a:pt x="236" y="473"/>
                  <a:pt x="257" y="483"/>
                </a:cubicBezTo>
                <a:cubicBezTo>
                  <a:pt x="300" y="504"/>
                  <a:pt x="325" y="533"/>
                  <a:pt x="374" y="546"/>
                </a:cubicBezTo>
                <a:cubicBezTo>
                  <a:pt x="524" y="636"/>
                  <a:pt x="703" y="624"/>
                  <a:pt x="873" y="631"/>
                </a:cubicBezTo>
                <a:cubicBezTo>
                  <a:pt x="886" y="634"/>
                  <a:pt x="899" y="636"/>
                  <a:pt x="912" y="639"/>
                </a:cubicBezTo>
                <a:cubicBezTo>
                  <a:pt x="933" y="644"/>
                  <a:pt x="974" y="655"/>
                  <a:pt x="974" y="655"/>
                </a:cubicBezTo>
                <a:cubicBezTo>
                  <a:pt x="1058" y="649"/>
                  <a:pt x="1123" y="640"/>
                  <a:pt x="1200" y="616"/>
                </a:cubicBezTo>
                <a:cubicBezTo>
                  <a:pt x="1268" y="548"/>
                  <a:pt x="1225" y="439"/>
                  <a:pt x="1255" y="351"/>
                </a:cubicBezTo>
                <a:cubicBezTo>
                  <a:pt x="1290" y="248"/>
                  <a:pt x="1251" y="393"/>
                  <a:pt x="1286" y="249"/>
                </a:cubicBezTo>
                <a:cubicBezTo>
                  <a:pt x="1289" y="239"/>
                  <a:pt x="1294" y="218"/>
                  <a:pt x="1294" y="218"/>
                </a:cubicBezTo>
                <a:cubicBezTo>
                  <a:pt x="1287" y="144"/>
                  <a:pt x="1288" y="66"/>
                  <a:pt x="1208" y="31"/>
                </a:cubicBezTo>
                <a:cubicBezTo>
                  <a:pt x="1187" y="22"/>
                  <a:pt x="1139" y="18"/>
                  <a:pt x="1122" y="16"/>
                </a:cubicBezTo>
                <a:cubicBezTo>
                  <a:pt x="1068" y="18"/>
                  <a:pt x="1013" y="19"/>
                  <a:pt x="959" y="23"/>
                </a:cubicBezTo>
                <a:cubicBezTo>
                  <a:pt x="929" y="25"/>
                  <a:pt x="873" y="47"/>
                  <a:pt x="873" y="47"/>
                </a:cubicBezTo>
                <a:cubicBezTo>
                  <a:pt x="826" y="44"/>
                  <a:pt x="780" y="44"/>
                  <a:pt x="733" y="39"/>
                </a:cubicBezTo>
                <a:cubicBezTo>
                  <a:pt x="695" y="35"/>
                  <a:pt x="664" y="8"/>
                  <a:pt x="624" y="8"/>
                </a:cubicBez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00440" y="559908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raniczenie l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ot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7880" y="4102200"/>
            <a:ext cx="169560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4400" y="1546200"/>
            <a:ext cx="19018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64320" y="1547640"/>
            <a:ext cx="176220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38360" y="166860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09600" y="13525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st_członki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52400" y="1428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364080" y="1428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38360" y="243036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14760" y="243684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st_przewodnicząc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81360" y="241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174840" y="167112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45400" y="1946160"/>
            <a:ext cx="91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podzbió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09960" y="3917880"/>
            <a:ext cx="190152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59720" y="4167360"/>
            <a:ext cx="17618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14720" y="4383000"/>
            <a:ext cx="27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983120" y="4019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trud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94240" y="4078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57560" y="4079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51160" y="4424400"/>
            <a:ext cx="8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91880" y="44244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22400" y="3784680"/>
            <a:ext cx="90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dwład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15240" y="482436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73200" y="44798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23680" y="4084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96920" y="47592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096920" y="611964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15040" y="438768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360600" y="5692680"/>
            <a:ext cx="2919240" cy="811440"/>
            <a:chOff x="3360600" y="5692680"/>
            <a:chExt cx="2919240" cy="811440"/>
          </a:xfrm>
        </p:grpSpPr>
        <p:sp>
          <p:nvSpPr>
            <p:cNvPr id="779" name=""/>
            <p:cNvSpPr/>
            <p:nvPr/>
          </p:nvSpPr>
          <p:spPr>
            <a:xfrm>
              <a:off x="3360600" y="5699160"/>
              <a:ext cx="2906640" cy="8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95800" y="5692680"/>
              <a:ext cx="2840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61400" y="5835600"/>
              <a:ext cx="21142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Osoba.pracodawca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oba.szef.pracodawca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94000" y="5697720"/>
              <a:ext cx="276480" cy="26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0" y="-6480"/>
            <a:ext cx="9139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graniczenia; przykła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rot="9152400">
            <a:off x="4884480" y="4159080"/>
            <a:ext cx="172800" cy="160560"/>
          </a:xfrm>
          <a:prstGeom prst="flowChartExtra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6554520" y="5909760"/>
            <a:ext cx="40644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-6480"/>
            <a:ext cx="9131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iązanie a asocjacja bina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6240" y="800280"/>
            <a:ext cx="6834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cj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chodząc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ędzy obiektami,  odwzorowywująca fizyczny lub pojęciowy związek istniejący  między  odpowiednimi  bytami w  analizowanej  dziedzinie przedmiotowej. Powiązanie łączące dwa obiekty nazywane jest powiązaniem binarn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76240" y="1920960"/>
            <a:ext cx="691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pa  powiązań posiadających wspólną strukturę i semantykę. Powiązanie jest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stąpieni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ocjacji. Asocjacja, która łączy dwie klasy nazywana jes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nar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34840" y="2992320"/>
            <a:ext cx="124092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ię=K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45840" y="4254480"/>
            <a:ext cx="187632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zaj=Krawiec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5360" y="3701880"/>
            <a:ext cx="113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02120" y="3659040"/>
            <a:ext cx="46368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32320" y="2978280"/>
            <a:ext cx="117684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ię=Jas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5720" y="4235400"/>
            <a:ext cx="168444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zaj=Szew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880240" y="3625920"/>
            <a:ext cx="45072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8880" y="2963880"/>
            <a:ext cx="1126800" cy="63756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ię=E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53320" y="3639960"/>
            <a:ext cx="0" cy="5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63200" y="3693960"/>
            <a:ext cx="113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2480" y="3720960"/>
            <a:ext cx="113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5080" y="5451480"/>
            <a:ext cx="2418840" cy="63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y i powiąz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diagramie 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4971960"/>
            <a:ext cx="3659040" cy="355680"/>
          </a:xfrm>
          <a:custGeom>
            <a:avLst/>
            <a:gdLst/>
            <a:ahLst/>
            <a:rect l="l" t="t" r="r" b="b"/>
            <a:pathLst>
              <a:path w="2305" h="224">
                <a:moveTo>
                  <a:pt x="433" y="148"/>
                </a:moveTo>
                <a:lnTo>
                  <a:pt x="391" y="146"/>
                </a:lnTo>
                <a:lnTo>
                  <a:pt x="347" y="144"/>
                </a:lnTo>
                <a:lnTo>
                  <a:pt x="305" y="141"/>
                </a:lnTo>
                <a:lnTo>
                  <a:pt x="265" y="135"/>
                </a:lnTo>
                <a:lnTo>
                  <a:pt x="225" y="129"/>
                </a:lnTo>
                <a:lnTo>
                  <a:pt x="188" y="120"/>
                </a:lnTo>
                <a:lnTo>
                  <a:pt x="152" y="111"/>
                </a:lnTo>
                <a:lnTo>
                  <a:pt x="121" y="101"/>
                </a:lnTo>
                <a:lnTo>
                  <a:pt x="93" y="89"/>
                </a:lnTo>
                <a:lnTo>
                  <a:pt x="68" y="77"/>
                </a:lnTo>
                <a:lnTo>
                  <a:pt x="47" y="64"/>
                </a:lnTo>
                <a:lnTo>
                  <a:pt x="28" y="51"/>
                </a:lnTo>
                <a:lnTo>
                  <a:pt x="16" y="36"/>
                </a:lnTo>
                <a:lnTo>
                  <a:pt x="6" y="22"/>
                </a:lnTo>
                <a:lnTo>
                  <a:pt x="2" y="7"/>
                </a:lnTo>
                <a:lnTo>
                  <a:pt x="0" y="0"/>
                </a:lnTo>
                <a:lnTo>
                  <a:pt x="2" y="12"/>
                </a:lnTo>
                <a:lnTo>
                  <a:pt x="10" y="24"/>
                </a:lnTo>
                <a:lnTo>
                  <a:pt x="22" y="36"/>
                </a:lnTo>
                <a:lnTo>
                  <a:pt x="36" y="48"/>
                </a:lnTo>
                <a:lnTo>
                  <a:pt x="55" y="59"/>
                </a:lnTo>
                <a:lnTo>
                  <a:pt x="78" y="68"/>
                </a:lnTo>
                <a:lnTo>
                  <a:pt x="103" y="77"/>
                </a:lnTo>
                <a:lnTo>
                  <a:pt x="132" y="85"/>
                </a:lnTo>
                <a:lnTo>
                  <a:pt x="164" y="91"/>
                </a:lnTo>
                <a:lnTo>
                  <a:pt x="198" y="97"/>
                </a:lnTo>
                <a:lnTo>
                  <a:pt x="232" y="100"/>
                </a:lnTo>
                <a:lnTo>
                  <a:pt x="268" y="103"/>
                </a:lnTo>
                <a:lnTo>
                  <a:pt x="302" y="103"/>
                </a:lnTo>
                <a:lnTo>
                  <a:pt x="892" y="103"/>
                </a:lnTo>
                <a:lnTo>
                  <a:pt x="926" y="104"/>
                </a:lnTo>
                <a:lnTo>
                  <a:pt x="959" y="107"/>
                </a:lnTo>
                <a:lnTo>
                  <a:pt x="990" y="111"/>
                </a:lnTo>
                <a:lnTo>
                  <a:pt x="1020" y="116"/>
                </a:lnTo>
                <a:lnTo>
                  <a:pt x="1048" y="122"/>
                </a:lnTo>
                <a:lnTo>
                  <a:pt x="1074" y="131"/>
                </a:lnTo>
                <a:lnTo>
                  <a:pt x="1097" y="139"/>
                </a:lnTo>
                <a:lnTo>
                  <a:pt x="1116" y="148"/>
                </a:lnTo>
                <a:lnTo>
                  <a:pt x="1131" y="159"/>
                </a:lnTo>
                <a:lnTo>
                  <a:pt x="1142" y="170"/>
                </a:lnTo>
                <a:lnTo>
                  <a:pt x="1148" y="181"/>
                </a:lnTo>
                <a:lnTo>
                  <a:pt x="1152" y="193"/>
                </a:lnTo>
                <a:lnTo>
                  <a:pt x="1158" y="181"/>
                </a:lnTo>
                <a:lnTo>
                  <a:pt x="1163" y="170"/>
                </a:lnTo>
                <a:lnTo>
                  <a:pt x="1175" y="159"/>
                </a:lnTo>
                <a:lnTo>
                  <a:pt x="1191" y="148"/>
                </a:lnTo>
                <a:lnTo>
                  <a:pt x="1209" y="139"/>
                </a:lnTo>
                <a:lnTo>
                  <a:pt x="1231" y="131"/>
                </a:lnTo>
                <a:lnTo>
                  <a:pt x="1257" y="122"/>
                </a:lnTo>
                <a:lnTo>
                  <a:pt x="1285" y="116"/>
                </a:lnTo>
                <a:lnTo>
                  <a:pt x="1314" y="111"/>
                </a:lnTo>
                <a:lnTo>
                  <a:pt x="1347" y="107"/>
                </a:lnTo>
                <a:lnTo>
                  <a:pt x="1381" y="104"/>
                </a:lnTo>
                <a:lnTo>
                  <a:pt x="1415" y="103"/>
                </a:lnTo>
                <a:lnTo>
                  <a:pt x="2003" y="103"/>
                </a:lnTo>
                <a:lnTo>
                  <a:pt x="2037" y="103"/>
                </a:lnTo>
                <a:lnTo>
                  <a:pt x="2074" y="100"/>
                </a:lnTo>
                <a:lnTo>
                  <a:pt x="2109" y="97"/>
                </a:lnTo>
                <a:lnTo>
                  <a:pt x="2142" y="91"/>
                </a:lnTo>
                <a:lnTo>
                  <a:pt x="2172" y="85"/>
                </a:lnTo>
                <a:lnTo>
                  <a:pt x="2201" y="77"/>
                </a:lnTo>
                <a:lnTo>
                  <a:pt x="2227" y="68"/>
                </a:lnTo>
                <a:lnTo>
                  <a:pt x="2250" y="59"/>
                </a:lnTo>
                <a:lnTo>
                  <a:pt x="2269" y="48"/>
                </a:lnTo>
                <a:lnTo>
                  <a:pt x="2284" y="36"/>
                </a:lnTo>
                <a:lnTo>
                  <a:pt x="2296" y="24"/>
                </a:lnTo>
                <a:lnTo>
                  <a:pt x="2303" y="12"/>
                </a:lnTo>
                <a:lnTo>
                  <a:pt x="2304" y="0"/>
                </a:lnTo>
                <a:lnTo>
                  <a:pt x="2303" y="7"/>
                </a:lnTo>
                <a:lnTo>
                  <a:pt x="2300" y="22"/>
                </a:lnTo>
                <a:lnTo>
                  <a:pt x="2291" y="36"/>
                </a:lnTo>
                <a:lnTo>
                  <a:pt x="2277" y="51"/>
                </a:lnTo>
                <a:lnTo>
                  <a:pt x="2259" y="64"/>
                </a:lnTo>
                <a:lnTo>
                  <a:pt x="2237" y="77"/>
                </a:lnTo>
                <a:lnTo>
                  <a:pt x="2211" y="89"/>
                </a:lnTo>
                <a:lnTo>
                  <a:pt x="2184" y="101"/>
                </a:lnTo>
                <a:lnTo>
                  <a:pt x="2152" y="111"/>
                </a:lnTo>
                <a:lnTo>
                  <a:pt x="2118" y="120"/>
                </a:lnTo>
                <a:lnTo>
                  <a:pt x="2081" y="129"/>
                </a:lnTo>
                <a:lnTo>
                  <a:pt x="2041" y="135"/>
                </a:lnTo>
                <a:lnTo>
                  <a:pt x="2001" y="141"/>
                </a:lnTo>
                <a:lnTo>
                  <a:pt x="1959" y="144"/>
                </a:lnTo>
                <a:lnTo>
                  <a:pt x="1917" y="146"/>
                </a:lnTo>
                <a:lnTo>
                  <a:pt x="1872" y="148"/>
                </a:lnTo>
                <a:lnTo>
                  <a:pt x="1371" y="148"/>
                </a:lnTo>
                <a:lnTo>
                  <a:pt x="1339" y="149"/>
                </a:lnTo>
                <a:lnTo>
                  <a:pt x="1309" y="151"/>
                </a:lnTo>
                <a:lnTo>
                  <a:pt x="1282" y="155"/>
                </a:lnTo>
                <a:lnTo>
                  <a:pt x="1255" y="160"/>
                </a:lnTo>
                <a:lnTo>
                  <a:pt x="1230" y="166"/>
                </a:lnTo>
                <a:lnTo>
                  <a:pt x="1208" y="174"/>
                </a:lnTo>
                <a:lnTo>
                  <a:pt x="1191" y="182"/>
                </a:lnTo>
                <a:lnTo>
                  <a:pt x="1175" y="191"/>
                </a:lnTo>
                <a:lnTo>
                  <a:pt x="1163" y="201"/>
                </a:lnTo>
                <a:lnTo>
                  <a:pt x="1158" y="212"/>
                </a:lnTo>
                <a:lnTo>
                  <a:pt x="1154" y="223"/>
                </a:lnTo>
                <a:lnTo>
                  <a:pt x="1150" y="213"/>
                </a:lnTo>
                <a:lnTo>
                  <a:pt x="1145" y="203"/>
                </a:lnTo>
                <a:lnTo>
                  <a:pt x="1133" y="193"/>
                </a:lnTo>
                <a:lnTo>
                  <a:pt x="1120" y="183"/>
                </a:lnTo>
                <a:lnTo>
                  <a:pt x="1100" y="175"/>
                </a:lnTo>
                <a:lnTo>
                  <a:pt x="1079" y="167"/>
                </a:lnTo>
                <a:lnTo>
                  <a:pt x="1056" y="161"/>
                </a:lnTo>
                <a:lnTo>
                  <a:pt x="1028" y="155"/>
                </a:lnTo>
                <a:lnTo>
                  <a:pt x="1001" y="152"/>
                </a:lnTo>
                <a:lnTo>
                  <a:pt x="972" y="149"/>
                </a:lnTo>
                <a:lnTo>
                  <a:pt x="940" y="148"/>
                </a:lnTo>
                <a:lnTo>
                  <a:pt x="433" y="1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90440" y="2943360"/>
            <a:ext cx="80316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i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95840" y="4314960"/>
            <a:ext cx="79272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z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9960" y="3645000"/>
            <a:ext cx="119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cuje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92200" y="360684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5354640"/>
            <a:ext cx="1981440" cy="63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asy i asocj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diagramie  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8680" y="4948200"/>
            <a:ext cx="1068480" cy="355680"/>
          </a:xfrm>
          <a:custGeom>
            <a:avLst/>
            <a:gdLst/>
            <a:ahLst/>
            <a:rect l="l" t="t" r="r" b="b"/>
            <a:pathLst>
              <a:path w="673" h="224">
                <a:moveTo>
                  <a:pt x="126" y="148"/>
                </a:moveTo>
                <a:lnTo>
                  <a:pt x="114" y="146"/>
                </a:lnTo>
                <a:lnTo>
                  <a:pt x="101" y="144"/>
                </a:lnTo>
                <a:lnTo>
                  <a:pt x="89" y="141"/>
                </a:lnTo>
                <a:lnTo>
                  <a:pt x="77" y="135"/>
                </a:lnTo>
                <a:lnTo>
                  <a:pt x="66" y="129"/>
                </a:lnTo>
                <a:lnTo>
                  <a:pt x="55" y="120"/>
                </a:lnTo>
                <a:lnTo>
                  <a:pt x="44" y="111"/>
                </a:lnTo>
                <a:lnTo>
                  <a:pt x="35" y="101"/>
                </a:lnTo>
                <a:lnTo>
                  <a:pt x="27" y="89"/>
                </a:lnTo>
                <a:lnTo>
                  <a:pt x="20" y="77"/>
                </a:lnTo>
                <a:lnTo>
                  <a:pt x="14" y="64"/>
                </a:lnTo>
                <a:lnTo>
                  <a:pt x="8" y="51"/>
                </a:lnTo>
                <a:lnTo>
                  <a:pt x="5" y="36"/>
                </a:lnTo>
                <a:lnTo>
                  <a:pt x="2" y="22"/>
                </a:lnTo>
                <a:lnTo>
                  <a:pt x="1" y="7"/>
                </a:lnTo>
                <a:lnTo>
                  <a:pt x="0" y="0"/>
                </a:lnTo>
                <a:lnTo>
                  <a:pt x="1" y="12"/>
                </a:lnTo>
                <a:lnTo>
                  <a:pt x="3" y="24"/>
                </a:lnTo>
                <a:lnTo>
                  <a:pt x="6" y="36"/>
                </a:lnTo>
                <a:lnTo>
                  <a:pt x="11" y="48"/>
                </a:lnTo>
                <a:lnTo>
                  <a:pt x="16" y="59"/>
                </a:lnTo>
                <a:lnTo>
                  <a:pt x="23" y="68"/>
                </a:lnTo>
                <a:lnTo>
                  <a:pt x="30" y="77"/>
                </a:lnTo>
                <a:lnTo>
                  <a:pt x="39" y="85"/>
                </a:lnTo>
                <a:lnTo>
                  <a:pt x="48" y="91"/>
                </a:lnTo>
                <a:lnTo>
                  <a:pt x="58" y="97"/>
                </a:lnTo>
                <a:lnTo>
                  <a:pt x="68" y="100"/>
                </a:lnTo>
                <a:lnTo>
                  <a:pt x="78" y="103"/>
                </a:lnTo>
                <a:lnTo>
                  <a:pt x="88" y="103"/>
                </a:lnTo>
                <a:lnTo>
                  <a:pt x="260" y="103"/>
                </a:lnTo>
                <a:lnTo>
                  <a:pt x="270" y="104"/>
                </a:lnTo>
                <a:lnTo>
                  <a:pt x="280" y="107"/>
                </a:lnTo>
                <a:lnTo>
                  <a:pt x="289" y="111"/>
                </a:lnTo>
                <a:lnTo>
                  <a:pt x="298" y="116"/>
                </a:lnTo>
                <a:lnTo>
                  <a:pt x="306" y="122"/>
                </a:lnTo>
                <a:lnTo>
                  <a:pt x="313" y="131"/>
                </a:lnTo>
                <a:lnTo>
                  <a:pt x="320" y="139"/>
                </a:lnTo>
                <a:lnTo>
                  <a:pt x="325" y="148"/>
                </a:lnTo>
                <a:lnTo>
                  <a:pt x="330" y="159"/>
                </a:lnTo>
                <a:lnTo>
                  <a:pt x="333" y="170"/>
                </a:lnTo>
                <a:lnTo>
                  <a:pt x="335" y="181"/>
                </a:lnTo>
                <a:lnTo>
                  <a:pt x="336" y="193"/>
                </a:lnTo>
                <a:lnTo>
                  <a:pt x="338" y="181"/>
                </a:lnTo>
                <a:lnTo>
                  <a:pt x="339" y="170"/>
                </a:lnTo>
                <a:lnTo>
                  <a:pt x="343" y="159"/>
                </a:lnTo>
                <a:lnTo>
                  <a:pt x="347" y="148"/>
                </a:lnTo>
                <a:lnTo>
                  <a:pt x="353" y="139"/>
                </a:lnTo>
                <a:lnTo>
                  <a:pt x="359" y="131"/>
                </a:lnTo>
                <a:lnTo>
                  <a:pt x="367" y="122"/>
                </a:lnTo>
                <a:lnTo>
                  <a:pt x="375" y="116"/>
                </a:lnTo>
                <a:lnTo>
                  <a:pt x="383" y="111"/>
                </a:lnTo>
                <a:lnTo>
                  <a:pt x="393" y="107"/>
                </a:lnTo>
                <a:lnTo>
                  <a:pt x="403" y="104"/>
                </a:lnTo>
                <a:lnTo>
                  <a:pt x="413" y="103"/>
                </a:lnTo>
                <a:lnTo>
                  <a:pt x="584" y="103"/>
                </a:lnTo>
                <a:lnTo>
                  <a:pt x="594" y="103"/>
                </a:lnTo>
                <a:lnTo>
                  <a:pt x="605" y="100"/>
                </a:lnTo>
                <a:lnTo>
                  <a:pt x="615" y="97"/>
                </a:lnTo>
                <a:lnTo>
                  <a:pt x="625" y="91"/>
                </a:lnTo>
                <a:lnTo>
                  <a:pt x="634" y="85"/>
                </a:lnTo>
                <a:lnTo>
                  <a:pt x="642" y="77"/>
                </a:lnTo>
                <a:lnTo>
                  <a:pt x="650" y="68"/>
                </a:lnTo>
                <a:lnTo>
                  <a:pt x="656" y="59"/>
                </a:lnTo>
                <a:lnTo>
                  <a:pt x="662" y="48"/>
                </a:lnTo>
                <a:lnTo>
                  <a:pt x="666" y="36"/>
                </a:lnTo>
                <a:lnTo>
                  <a:pt x="670" y="24"/>
                </a:lnTo>
                <a:lnTo>
                  <a:pt x="672" y="12"/>
                </a:lnTo>
                <a:lnTo>
                  <a:pt x="672" y="0"/>
                </a:lnTo>
                <a:lnTo>
                  <a:pt x="672" y="7"/>
                </a:lnTo>
                <a:lnTo>
                  <a:pt x="671" y="22"/>
                </a:lnTo>
                <a:lnTo>
                  <a:pt x="668" y="36"/>
                </a:lnTo>
                <a:lnTo>
                  <a:pt x="664" y="51"/>
                </a:lnTo>
                <a:lnTo>
                  <a:pt x="659" y="64"/>
                </a:lnTo>
                <a:lnTo>
                  <a:pt x="652" y="77"/>
                </a:lnTo>
                <a:lnTo>
                  <a:pt x="645" y="89"/>
                </a:lnTo>
                <a:lnTo>
                  <a:pt x="637" y="101"/>
                </a:lnTo>
                <a:lnTo>
                  <a:pt x="628" y="111"/>
                </a:lnTo>
                <a:lnTo>
                  <a:pt x="618" y="120"/>
                </a:lnTo>
                <a:lnTo>
                  <a:pt x="607" y="129"/>
                </a:lnTo>
                <a:lnTo>
                  <a:pt x="595" y="135"/>
                </a:lnTo>
                <a:lnTo>
                  <a:pt x="584" y="141"/>
                </a:lnTo>
                <a:lnTo>
                  <a:pt x="571" y="144"/>
                </a:lnTo>
                <a:lnTo>
                  <a:pt x="559" y="146"/>
                </a:lnTo>
                <a:lnTo>
                  <a:pt x="546" y="148"/>
                </a:lnTo>
                <a:lnTo>
                  <a:pt x="400" y="148"/>
                </a:lnTo>
                <a:lnTo>
                  <a:pt x="391" y="149"/>
                </a:lnTo>
                <a:lnTo>
                  <a:pt x="382" y="151"/>
                </a:lnTo>
                <a:lnTo>
                  <a:pt x="374" y="155"/>
                </a:lnTo>
                <a:lnTo>
                  <a:pt x="366" y="160"/>
                </a:lnTo>
                <a:lnTo>
                  <a:pt x="359" y="166"/>
                </a:lnTo>
                <a:lnTo>
                  <a:pt x="352" y="174"/>
                </a:lnTo>
                <a:lnTo>
                  <a:pt x="347" y="182"/>
                </a:lnTo>
                <a:lnTo>
                  <a:pt x="343" y="191"/>
                </a:lnTo>
                <a:lnTo>
                  <a:pt x="339" y="201"/>
                </a:lnTo>
                <a:lnTo>
                  <a:pt x="338" y="212"/>
                </a:lnTo>
                <a:lnTo>
                  <a:pt x="336" y="223"/>
                </a:lnTo>
                <a:lnTo>
                  <a:pt x="336" y="213"/>
                </a:lnTo>
                <a:lnTo>
                  <a:pt x="334" y="203"/>
                </a:lnTo>
                <a:lnTo>
                  <a:pt x="331" y="193"/>
                </a:lnTo>
                <a:lnTo>
                  <a:pt x="327" y="183"/>
                </a:lnTo>
                <a:lnTo>
                  <a:pt x="321" y="175"/>
                </a:lnTo>
                <a:lnTo>
                  <a:pt x="315" y="167"/>
                </a:lnTo>
                <a:lnTo>
                  <a:pt x="308" y="161"/>
                </a:lnTo>
                <a:lnTo>
                  <a:pt x="300" y="155"/>
                </a:lnTo>
                <a:lnTo>
                  <a:pt x="292" y="152"/>
                </a:lnTo>
                <a:lnTo>
                  <a:pt x="283" y="149"/>
                </a:lnTo>
                <a:lnTo>
                  <a:pt x="274" y="148"/>
                </a:lnTo>
                <a:lnTo>
                  <a:pt x="126" y="1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5480" y="46483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5520" y="913680"/>
            <a:ext cx="1287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iąz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880" y="1843920"/>
            <a:ext cx="1133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ocj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6560" y="621756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ocjacje mogą też łączyć więcej niż dwie klasy (asocjacje n-arn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5760" y="32767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57880" y="3333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86360" y="3314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24760" y="3333600"/>
            <a:ext cx="118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8000" y="4610160"/>
            <a:ext cx="188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38960" y="4591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znaczanie asocjacj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1085760"/>
            <a:ext cx="85186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y  asocjacji, takie jak np. p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acuje_dl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wyznaczają znaczenie tej asocjacji  w  modelu  pojęciowym opisującym dziedzinę problemowej (czy też pewien fragment dziedziny problemowej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arny trójkąc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kreśla kierunek (czytania) wyznaczony  przez nazwę asocjacji. Na przykład,  na diagramie poniżej  określa, że to osoba pracuje dla  firmy, a nie firma pracuje dla osob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733920"/>
            <a:ext cx="1224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51560" y="3733920"/>
            <a:ext cx="1154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3916440"/>
            <a:ext cx="25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97200" y="35542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uje_d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3568680" y="3663720"/>
            <a:ext cx="173160" cy="160200"/>
          </a:xfrm>
          <a:prstGeom prst="flowChartExtra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5320" y="39355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4560" y="4822920"/>
            <a:ext cx="8137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socjacje mogą być wyposażone w  oznaczenia  liczności. Liczność oznacza, ile obiektów  innej klasy może być powiązane z jednym obiektem danej klasy; zwykle określa się to poprzez  parę liczb (znaków), oznaczającą  minimalną i  maksymalną liczbę takich obiektów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33360" y="393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-12600"/>
            <a:ext cx="9131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czność asocjacj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400" y="1855800"/>
            <a:ext cx="8450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a j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inimal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 obiektó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wiązanyc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jedny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iekt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---&gt;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a j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aksymal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 obiektó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wiązanyc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jedny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iekt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---&gt;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a j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inimal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 obiektó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wiązanyc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jedny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iekt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---&gt;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a j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aksymal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zba obiektó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wiązanyc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jedny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iekt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---&gt;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59040" y="410364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70320" y="410364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6280" y="410364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97560" y="410364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76920" y="502452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560" y="410364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3280" y="502452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53320" y="502452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6720" y="4594320"/>
            <a:ext cx="13644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594320"/>
            <a:ext cx="22860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06040" y="4616280"/>
            <a:ext cx="103320" cy="3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539800" y="4581360"/>
            <a:ext cx="3790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8960" y="5616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720" y="579744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4080" y="5616720"/>
            <a:ext cx="210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in = 0, ma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3360" y="5940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7720" y="612144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58480" y="59403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: min = 1, max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60840" y="56149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89240" y="579600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5600" y="5614920"/>
            <a:ext cx="210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: min = 1, max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75240" y="5924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9240" y="610560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360" y="592452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: min = 2, max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040" y="3638520"/>
            <a:ext cx="3140280" cy="28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29080" y="3654360"/>
            <a:ext cx="3255840" cy="28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267080"/>
            <a:ext cx="7621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571500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4267080"/>
            <a:ext cx="7617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571500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1080" y="379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15560" y="380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6" idx="2"/>
            <a:endCxn id="187" idx="0"/>
          </p:cNvCxnSpPr>
          <p:nvPr/>
        </p:nvCxnSpPr>
        <p:spPr>
          <a:xfrm>
            <a:off x="7391160" y="464796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8" idx="2"/>
            <a:endCxn id="189" idx="0"/>
          </p:cNvCxnSpPr>
          <p:nvPr/>
        </p:nvCxnSpPr>
        <p:spPr>
          <a:xfrm>
            <a:off x="8457840" y="464796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910200" y="539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3040" y="46292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0920" y="408780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12560" y="408780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28520" y="408780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39080" y="408780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18800" y="500868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91080" y="4087800"/>
            <a:ext cx="46296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4800" y="500868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4840" y="5008680"/>
            <a:ext cx="448200" cy="469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08600" y="4578480"/>
            <a:ext cx="13644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37160" y="4578480"/>
            <a:ext cx="22860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047920" y="4600440"/>
            <a:ext cx="103320" cy="3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81680" y="4565520"/>
            <a:ext cx="3794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9720" y="4529160"/>
            <a:ext cx="36504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183280" y="4552920"/>
            <a:ext cx="5270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419720" y="448128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4557600"/>
            <a:ext cx="763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91600" y="5410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43800" y="46148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10080" y="3643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3360" y="362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080" y="3162240"/>
            <a:ext cx="76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wykle, minimalna liczba jest 0 lub 1, maksymalna zaś 1 lub dowolnie duż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8600" y="1481040"/>
            <a:ext cx="4961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eżeli asocjacja wiąże klasy A i B, to istotne  j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3840" y="997920"/>
            <a:ext cx="89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zność asocjacji, to cecha o dużym znaczeniu informacyjnym w analizie i  modelowani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czność asocjacji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5760" y="1139760"/>
            <a:ext cx="51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iczność jest oznaczana na obu  końcach asocj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9560" y="2895480"/>
            <a:ext cx="1141560" cy="283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2, 3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, 3, 4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, 4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, 4,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 1, 2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 1, 2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92320" y="2897280"/>
            <a:ext cx="885600" cy="283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,4,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9000" y="4649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5200" y="2422440"/>
            <a:ext cx="7750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9280" y="2422440"/>
            <a:ext cx="122616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nacz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22920" y="2565360"/>
            <a:ext cx="100584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ńs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4640" y="2565360"/>
            <a:ext cx="8427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40280" y="275436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1480" y="3527280"/>
            <a:ext cx="7927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1160" y="3527280"/>
            <a:ext cx="12358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24640" y="3716280"/>
            <a:ext cx="69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8520" y="4521240"/>
            <a:ext cx="8031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4521240"/>
            <a:ext cx="7650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8160" y="4708440"/>
            <a:ext cx="11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3640" y="3454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21000" y="3454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08440" y="44337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07200" y="44337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5791320"/>
            <a:ext cx="389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znaczać czy nie oznaczać liczność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3600" y="1905120"/>
            <a:ext cx="1261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socjacje skierowa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360" y="1344600"/>
            <a:ext cx="19015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mówi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ataZłoż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Zapła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maDoZapła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alizuj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mknij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72320" y="1649520"/>
            <a:ext cx="19112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arygodność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4040" y="231156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31960" y="20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65600" y="20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12000" y="552132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9240" y="572616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5840" y="5380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94400" y="5380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3440" y="3097080"/>
            <a:ext cx="0" cy="16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6960" y="309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63560" y="4392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1360" y="1679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360" y="2509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70520" y="2013120"/>
            <a:ext cx="19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70520" y="2509920"/>
            <a:ext cx="19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5880" y="3351240"/>
            <a:ext cx="4732200" cy="1496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diagramach UML można zaznaczać kierunek nawigacji wzdłuż danej asocjacji. W  takim przypadku asocjacja jest rysowana w postaci strzałki;  nawigacja jest możliwa zgodnie z jej kierunkiem, ale nie odwrotni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16040" y="4740120"/>
            <a:ext cx="2738520" cy="1465560"/>
            <a:chOff x="716040" y="4740120"/>
            <a:chExt cx="2738520" cy="1465560"/>
          </a:xfrm>
        </p:grpSpPr>
        <p:sp>
          <p:nvSpPr>
            <p:cNvPr id="260" name=""/>
            <p:cNvSpPr/>
            <p:nvPr/>
          </p:nvSpPr>
          <p:spPr>
            <a:xfrm>
              <a:off x="716040" y="4740120"/>
              <a:ext cx="2730600" cy="146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PozycjaZamówie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iloś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zyZrealizow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119560"/>
              <a:ext cx="27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0720" y="6062400"/>
              <a:ext cx="27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asocjacji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892080"/>
            <a:ext cx="8813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socjacje mogą być wyposażone w nazwy  ról (przy końcach), np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dawca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acownik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la określa kierunek nawigowania,  specyfikując klasę „cel”, np. rol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o „cel” wyznacza kierunek  nawigowania od obiektu 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do  powiązanych z  nim obiektów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wyrażenie ścieżkowe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.pracodawca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wraca zbiór pracodawców danej osoby).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czność roli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znacza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czność asocj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640" y="3033720"/>
            <a:ext cx="1901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64240" y="303516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25680" y="324000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5520" y="28782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uje_d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22480" y="2977560"/>
            <a:ext cx="173160" cy="160560"/>
          </a:xfrm>
          <a:prstGeom prst="flowChartExtra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972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48360" y="2922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79320" y="32353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odaw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200" y="323532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22920" y="33624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z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98400" y="269064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dwład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59520" y="2489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59520" y="249696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36040" y="2503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492680" y="38606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493040" y="3403440"/>
            <a:ext cx="0" cy="44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73680" y="2774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02360" y="34178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8320" y="4076640"/>
            <a:ext cx="73677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ole asocjacji są niezbędne, gdy powiązania łączą obiekty tej samej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1560" y="4508640"/>
            <a:ext cx="3341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 oznaczać asocjacje binar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1680" y="4940280"/>
            <a:ext cx="85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Można opuszczać nazwę asocjacji, gdy jest oczywista (?)  i jest jedyną asocjacją łączącą dwie   te same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3240" y="5816520"/>
            <a:ext cx="9144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67320" y="5816520"/>
            <a:ext cx="16765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6" idx="3"/>
            <a:endCxn id="287" idx="1"/>
          </p:cNvCxnSpPr>
          <p:nvPr/>
        </p:nvCxnSpPr>
        <p:spPr>
          <a:xfrm>
            <a:off x="3257640" y="612108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919760" y="5802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19200" y="580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le asocjacji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31880" y="1266840"/>
            <a:ext cx="88740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70800" y="1268280"/>
            <a:ext cx="107244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33680" y="138924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35080" y="10494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_człon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44120" y="110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54280" y="110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33680" y="2151000"/>
            <a:ext cx="41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9920" y="2133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_przewodnicząc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61760" y="213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71560" y="213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36720" y="2832120"/>
            <a:ext cx="77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  sytuacji, gdy  dwie te same klasy są połączone więcej niż jedną  asocjacją, wszystkie asocjacje muszą być  oznacz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120" y="3524400"/>
            <a:ext cx="83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Do oznaczenia asocjacji można użyć nazwy asocjacji, nazwy obu ról lub nazwy jednej r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48080" y="4813200"/>
            <a:ext cx="1762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7760" y="52434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z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60760" y="4322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4336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43360" y="4275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19880" y="4272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376520" y="5638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76880" y="519084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57520" y="452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5480" y="51721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4120" y="582948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 założenia, z diagramów usuwa się wszelką informację redundantną - dla zwiększenia ich czytelności - jednoczesne używanie nazwy i  ról asocjacji nie jest tu zalec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50:54Z</dcterms:created>
  <dc:creator>K. Subieta, IPI PAN, PJWSTK</dc:creator>
  <dc:description/>
  <dc:language>en-US</dc:language>
  <cp:lastModifiedBy>Your User Name</cp:lastModifiedBy>
  <dcterms:modified xsi:type="dcterms:W3CDTF">2002-12-05T21:26:28Z</dcterms:modified>
  <cp:revision>307</cp:revision>
  <dc:subject>Wprowadzenie do obiektowoci, cz.2</dc:subject>
  <dc:title>Projektowanie systemów informacyjnych</dc:title>
</cp:coreProperties>
</file>