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EE0-E100-449D-B7E4-94C215CE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2C4-FD89-4B9D-9D83-29A75EFC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411-F130-4F3E-9027-F358B21C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D31-136D-4451-A63C-A914C609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F76-4E7C-4B42-9875-E910A10D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BDA-190A-4604-A868-AD32174A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DA9-0F7D-427A-B9EA-DCAFA7C2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812-A40A-4868-9BDC-66E0C17E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ADA-9371-43CB-A204-A4632383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C3A-88F4-43DB-BC18-CD34C9F3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77E-54E8-4BA4-AD43-B608EC8D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66A-7D5E-4BEF-BF11-E5B86256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C867-57D4-43B9-A800-A0DF06759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ykład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14600" y="3657600"/>
            <a:ext cx="426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ELACJ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E0C-21B7-476E-B7F9-76FDC5274D8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ficzne przedstawienie rel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1430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zbiór, w którym określona jest relacja binarna nie jest duży, to wygodnie jest  ją narysow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828800"/>
            <a:ext cx="79250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ędziemy ilustrować elementy dziedziny i przeciwdziedziny relacji  jako koła na płaszczyźnie, a zachodzenie relacji  r między elementami x i y  (tzn. (x,y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) będziemy zaznaczać strzałką od x do y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3124080"/>
            <a:ext cx="1752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zykła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32767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cję r={(5,1), (5,3), (7,1), (7,2), (9,4)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emy przedstawić jako następujący gra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43434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18148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4343400"/>
            <a:ext cx="38124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4572000"/>
            <a:ext cx="38124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5257800"/>
            <a:ext cx="38088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638680"/>
            <a:ext cx="38088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464832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914400" y="46479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38080" y="472392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571500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5867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4495680"/>
            <a:ext cx="419112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dzina relacji r jest oznaczona zielonymi kółeczkami a przeciwdziedzina  żółtym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B1D-C963-4CC7-AC44-DF3A3E8FD4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dzaje rel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143000"/>
            <a:ext cx="6477120" cy="82548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cję binarną 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nazywamy zwrotną, jeżeli dla każdego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para (x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057400"/>
            <a:ext cx="7162920" cy="82548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lację binarną  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nazywamy przeciwzwrotną, jeżeli dla każdego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, para (x,x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914400"/>
            <a:ext cx="1295280" cy="685800"/>
          </a:xfrm>
          <a:prstGeom prst="wedgeEllipseCallout">
            <a:avLst>
              <a:gd name="adj1" fmla="val -60296"/>
              <a:gd name="adj2" fmla="val 671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.: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2209680"/>
            <a:ext cx="1371600" cy="838440"/>
          </a:xfrm>
          <a:prstGeom prst="wedgeEllipseCallout">
            <a:avLst>
              <a:gd name="adj1" fmla="val -84837"/>
              <a:gd name="adj2" fmla="val 352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.: 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43000" y="3657600"/>
            <a:ext cx="2743200" cy="2743200"/>
            <a:chOff x="1143000" y="3657600"/>
            <a:chExt cx="2743200" cy="2743200"/>
          </a:xfrm>
        </p:grpSpPr>
        <p:sp>
          <p:nvSpPr>
            <p:cNvPr id="186" name=""/>
            <p:cNvSpPr/>
            <p:nvPr/>
          </p:nvSpPr>
          <p:spPr>
            <a:xfrm>
              <a:off x="1143000" y="3657600"/>
              <a:ext cx="2743200" cy="2684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2     3    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+       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  +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                    +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                     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9320" y="41911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320" y="47242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76520" y="37339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09680" y="380988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43200" y="373392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76720" y="37339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52578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3000" y="57913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333040" y="3804840"/>
            <a:ext cx="2972880" cy="2329200"/>
            <a:chOff x="5333040" y="3804840"/>
            <a:chExt cx="2972880" cy="23292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62720" y="49528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1680" y="411480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6080" y="434340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72400" y="5029200"/>
              <a:ext cx="38088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0" y="5410080"/>
              <a:ext cx="38088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9920" y="42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3600" y="4419720"/>
              <a:ext cx="1828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943600" y="441936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4495320"/>
              <a:ext cx="1828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67280" y="54864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8520" y="5638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/>
            <p:nvPr/>
          </p:nvCxnSpPr>
          <p:spPr>
            <a:xfrm flipV="1" rot="16200000">
              <a:off x="5638320" y="4190040"/>
              <a:ext cx="191160" cy="191520"/>
            </a:xfrm>
            <a:prstGeom prst="curvedConnector5">
              <a:avLst>
                <a:gd name="adj1" fmla="val -120000"/>
                <a:gd name="adj2" fmla="val 110357"/>
                <a:gd name="adj3" fmla="val -12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/>
            <p:nvPr/>
          </p:nvCxnSpPr>
          <p:spPr>
            <a:xfrm flipV="1" rot="16200000">
              <a:off x="7848000" y="5181120"/>
              <a:ext cx="191520" cy="191160"/>
            </a:xfrm>
            <a:prstGeom prst="curvedConnector5">
              <a:avLst>
                <a:gd name="adj1" fmla="val -119962"/>
                <a:gd name="adj2" fmla="val 110000"/>
                <a:gd name="adj3" fmla="val -11996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V="1" rot="16200000">
              <a:off x="5942880" y="5714280"/>
              <a:ext cx="191160" cy="191160"/>
            </a:xfrm>
            <a:prstGeom prst="curvedConnector5">
              <a:avLst>
                <a:gd name="adj1" fmla="val -120000"/>
                <a:gd name="adj2" fmla="val 110000"/>
                <a:gd name="adj3" fmla="val -12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/>
            <p:nvPr/>
          </p:nvCxnSpPr>
          <p:spPr>
            <a:xfrm flipV="1" rot="16200000">
              <a:off x="5562000" y="5142960"/>
              <a:ext cx="191160" cy="191160"/>
            </a:xfrm>
            <a:prstGeom prst="curvedConnector5">
              <a:avLst>
                <a:gd name="adj1" fmla="val -120000"/>
                <a:gd name="adj2" fmla="val 110000"/>
                <a:gd name="adj3" fmla="val -12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endCxn id="198" idx="0"/>
            </p:cNvCxnSpPr>
            <p:nvPr/>
          </p:nvCxnSpPr>
          <p:spPr>
            <a:xfrm flipH="1" flipV="1">
              <a:off x="6971760" y="4114800"/>
              <a:ext cx="229320" cy="76680"/>
            </a:xfrm>
            <a:prstGeom prst="curvedConnector5">
              <a:avLst>
                <a:gd name="adj1" fmla="val -67295"/>
                <a:gd name="adj2" fmla="val 252830"/>
                <a:gd name="adj3" fmla="val -672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>
              <a:stCxn id="199" idx="6"/>
              <a:endCxn id="199" idx="0"/>
            </p:cNvCxnSpPr>
            <p:nvPr/>
          </p:nvCxnSpPr>
          <p:spPr>
            <a:xfrm flipH="1" flipV="1">
              <a:off x="7886160" y="4342680"/>
              <a:ext cx="191160" cy="153000"/>
            </a:xfrm>
            <a:prstGeom prst="curvedConnector5">
              <a:avLst>
                <a:gd name="adj1" fmla="val -120000"/>
                <a:gd name="adj2" fmla="val 125000"/>
                <a:gd name="adj3" fmla="val -12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stCxn id="201" idx="5"/>
            </p:cNvCxnSpPr>
            <p:nvPr/>
          </p:nvCxnSpPr>
          <p:spPr>
            <a:xfrm rot="5400000">
              <a:off x="7074000" y="5605920"/>
              <a:ext cx="45000" cy="173880"/>
            </a:xfrm>
            <a:prstGeom prst="curvedConnector5">
              <a:avLst>
                <a:gd name="adj1" fmla="val 1010483"/>
                <a:gd name="adj2" fmla="val 50000"/>
                <a:gd name="adj3" fmla="val 10104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5" name=""/>
          <p:cNvSpPr txBox="1"/>
          <p:nvPr/>
        </p:nvSpPr>
        <p:spPr>
          <a:xfrm>
            <a:off x="457200" y="2971800"/>
            <a:ext cx="25146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2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rzykł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C79-BCD8-455E-9484-E7AC4E9E609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dzaje rel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066680"/>
            <a:ext cx="6476760" cy="7038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cję binarną 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nazywamy symetryczną, jeżeli dla dowolnych x,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, jeżeli para (x,y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, to para (y,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1066680"/>
            <a:ext cx="1905120" cy="990720"/>
          </a:xfrm>
          <a:prstGeom prst="wedgeEllipseCallout">
            <a:avLst>
              <a:gd name="adj1" fmla="val -78416"/>
              <a:gd name="adj2" fmla="val 44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: rel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286000"/>
            <a:ext cx="7543800" cy="100872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lację binarną  r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 nazywamy przeciwsymetryczną (albo asymetryczną), jeżeli dla dowolnych x,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, jeżeli para (x,y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, to para (y,x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2590920"/>
            <a:ext cx="1143000" cy="533160"/>
          </a:xfrm>
          <a:prstGeom prst="wedgeEllipseCallout">
            <a:avLst>
              <a:gd name="adj1" fmla="val -97083"/>
              <a:gd name="adj2" fmla="val 69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.: 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133720" y="3581280"/>
            <a:ext cx="2743200" cy="2743200"/>
            <a:chOff x="2133720" y="3581280"/>
            <a:chExt cx="2743200" cy="2743200"/>
          </a:xfrm>
        </p:grpSpPr>
        <p:sp>
          <p:nvSpPr>
            <p:cNvPr id="222" name=""/>
            <p:cNvSpPr/>
            <p:nvPr/>
          </p:nvSpPr>
          <p:spPr>
            <a:xfrm>
              <a:off x="2133720" y="3581280"/>
              <a:ext cx="2743200" cy="2684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1      2     3    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1     +     +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     +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3     +             +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4                    +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09680" y="41148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09680" y="46483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66880" y="3657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00400" y="37339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33920" y="36576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67080" y="3657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33720" y="51814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33720" y="57150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 txBox="1"/>
          <p:nvPr/>
        </p:nvSpPr>
        <p:spPr>
          <a:xfrm rot="5400000">
            <a:off x="164160" y="4559760"/>
            <a:ext cx="245268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zykła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560200" y="3884760"/>
            <a:ext cx="2593080" cy="2211120"/>
            <a:chOff x="5560200" y="3884760"/>
            <a:chExt cx="2593080" cy="2211120"/>
          </a:xfrm>
        </p:grpSpPr>
        <p:sp>
          <p:nvSpPr>
            <p:cNvPr id="233" name=""/>
            <p:cNvSpPr/>
            <p:nvPr/>
          </p:nvSpPr>
          <p:spPr>
            <a:xfrm>
              <a:off x="5638680" y="411480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62720" y="49528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81680" y="411480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96080" y="434340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72400" y="5029200"/>
              <a:ext cx="38088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8000" y="5181480"/>
              <a:ext cx="38088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19920" y="4267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4419720"/>
              <a:ext cx="1828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867280" y="4495320"/>
              <a:ext cx="1828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67280" y="54864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248520" y="540972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4" name=""/>
            <p:cNvCxnSpPr>
              <a:stCxn id="236" idx="1"/>
              <a:endCxn id="234" idx="0"/>
            </p:cNvCxnSpPr>
            <p:nvPr/>
          </p:nvCxnSpPr>
          <p:spPr>
            <a:xfrm rot="5400000">
              <a:off x="6469200" y="3670920"/>
              <a:ext cx="565920" cy="1999440"/>
            </a:xfrm>
            <a:prstGeom prst="curvedConnector5">
              <a:avLst>
                <a:gd name="adj1" fmla="val 37619"/>
                <a:gd name="adj2" fmla="val 49990"/>
                <a:gd name="adj3" fmla="val 3761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37" idx="4"/>
              <a:endCxn id="233" idx="5"/>
            </p:cNvCxnSpPr>
            <p:nvPr/>
          </p:nvCxnSpPr>
          <p:spPr>
            <a:xfrm flipV="1" rot="16200000">
              <a:off x="6483600" y="3854520"/>
              <a:ext cx="959760" cy="1999440"/>
            </a:xfrm>
            <a:prstGeom prst="curvedConnector5">
              <a:avLst>
                <a:gd name="adj1" fmla="val -38236"/>
                <a:gd name="adj2" fmla="val 49990"/>
                <a:gd name="adj3" fmla="val -3823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5" idx="7"/>
              <a:endCxn id="233" idx="0"/>
            </p:cNvCxnSpPr>
            <p:nvPr/>
          </p:nvCxnSpPr>
          <p:spPr>
            <a:xfrm flipV="1" rot="16200000">
              <a:off x="6445440" y="3497400"/>
              <a:ext cx="45000" cy="1278360"/>
            </a:xfrm>
            <a:prstGeom prst="curvedConnector5">
              <a:avLst>
                <a:gd name="adj1" fmla="val 613709"/>
                <a:gd name="adj2" fmla="val 50000"/>
                <a:gd name="adj3" fmla="val 6137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2" idx="5"/>
            </p:cNvCxnSpPr>
            <p:nvPr/>
          </p:nvCxnSpPr>
          <p:spPr>
            <a:xfrm rot="5400000">
              <a:off x="6502680" y="5131440"/>
              <a:ext cx="370440" cy="991440"/>
            </a:xfrm>
            <a:prstGeom prst="curvedConnector5">
              <a:avLst>
                <a:gd name="adj1" fmla="val 176750"/>
                <a:gd name="adj2" fmla="val 49981"/>
                <a:gd name="adj3" fmla="val 17675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/>
            <p:nvPr/>
          </p:nvCxnSpPr>
          <p:spPr>
            <a:xfrm flipV="1" rot="16200000">
              <a:off x="5790600" y="4342680"/>
              <a:ext cx="191160" cy="191160"/>
            </a:xfrm>
            <a:prstGeom prst="curvedConnector5">
              <a:avLst>
                <a:gd name="adj1" fmla="val -120000"/>
                <a:gd name="adj2" fmla="val 110377"/>
                <a:gd name="adj3" fmla="val -12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44D-DB05-4852-A29B-2F886F68B0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838080"/>
            <a:ext cx="6477120" cy="11912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lację  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nazywamy antysymetryczną, jeżeli dla dowolnych x,y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, jeżeli para (x,y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 i  para (y,x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, to x=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609480"/>
            <a:ext cx="1905120" cy="990720"/>
          </a:xfrm>
          <a:prstGeom prst="wedgeEllipseCallout">
            <a:avLst>
              <a:gd name="adj1" fmla="val -67166"/>
              <a:gd name="adj2" fmla="val 60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.: relacj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kluz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2362320"/>
            <a:ext cx="6476760" cy="11912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cję 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nazywamy przechodnią, jeżeli dla dowolnych x,y,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jeżeli  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 i (y,z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to (x,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2209680"/>
            <a:ext cx="1676520" cy="1143000"/>
          </a:xfrm>
          <a:prstGeom prst="wedgeEllipseCallout">
            <a:avLst>
              <a:gd name="adj1" fmla="val -77842"/>
              <a:gd name="adj2" fmla="val 461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.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3962520"/>
            <a:ext cx="8001000" cy="211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Rozważmy relację r określoną w 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 taką, że    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r y  wttw   x+y =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a  relacja nie jest zwrotna, nie jest przeciwzwrotna, jest symetryczna, nie jest przeciwsymetryczna, nie jest przechod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10A-5707-4EBA-B416-E480EEC3734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ebra rel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1295280"/>
            <a:ext cx="70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obnie jak na zbiorach możemy wykonywać operacje teoriomnogościowe na relacjach, tzn, jeśli r i r’ są dwiema relacjami w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,  to  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’,   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’, r\r’, -r sa relacjami binarnymi w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3581280"/>
            <a:ext cx="35053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żeli  r jest relacją binarną w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, to r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jest relacją binarną w Y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taką, ż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x,y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ttw (y,x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3657600"/>
            <a:ext cx="4114800" cy="228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ch 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 oraz r’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Z . Wtedy ror’ jest złożeniem relacji r i r’ tzn.   (x,z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or’ wttw  istnieje takie y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, że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x,y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  oraz (y,z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’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8320" y="2743200"/>
            <a:ext cx="3409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7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kładanie relacj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2895480"/>
            <a:ext cx="2228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dwracan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ECA-48EB-4BA6-8846-AF4BB11216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łasności rel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990720"/>
            <a:ext cx="60199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 dwu relacji symetrycznych jest relacją symetryczn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828800"/>
            <a:ext cx="60199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ęść wspólna dwu relacji przechodnich jest przechod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2666880"/>
            <a:ext cx="5943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lacja r jest symetryczna wttw 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5257800"/>
            <a:ext cx="55627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elacja r jest przechodnia wttw r o 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1066680"/>
            <a:ext cx="2362320" cy="147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ód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łóżmy, że relacja r jest symetryczna i niech (x,y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666880"/>
            <a:ext cx="2438280" cy="76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edy (y,x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 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mocy symetri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5880" y="3505320"/>
            <a:ext cx="27432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ąd na mocy definicji (x,y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Czyl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śli r jest symetryczna, to   r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3429000"/>
            <a:ext cx="46483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wrotnie, niech r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przypuśćmy, że (x,y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   i para (y,x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191120"/>
            <a:ext cx="4648320" cy="76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edy (x,y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Czyli nie jest prawdą, ż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zeczn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BBE-306B-4492-8601-02F846E94AC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066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fem(grafem skierowanym lub zorientowanym) nazywamy parę uporządkowaną G = &lt; V, E &gt; taką, że V jest niepustym zbiorem a E jest relacją binarną w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3520" y="2514600"/>
            <a:ext cx="21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zykł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57200" y="3429000"/>
            <a:ext cx="1676520" cy="1219320"/>
            <a:chOff x="457200" y="3429000"/>
            <a:chExt cx="1676520" cy="1219320"/>
          </a:xfrm>
        </p:grpSpPr>
        <p:sp>
          <p:nvSpPr>
            <p:cNvPr id="274" name=""/>
            <p:cNvSpPr/>
            <p:nvPr/>
          </p:nvSpPr>
          <p:spPr>
            <a:xfrm>
              <a:off x="533520" y="342900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200" y="434340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52480" y="342900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52480" y="42670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36576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808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85800" y="3733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914400" y="4572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477120" y="228600"/>
            <a:ext cx="1295280" cy="762120"/>
          </a:xfrm>
          <a:prstGeom prst="wedgeEllipseCallout">
            <a:avLst>
              <a:gd name="adj1" fmla="val -124754"/>
              <a:gd name="adj2" fmla="val 1108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erzchołk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raf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2438280"/>
            <a:ext cx="1295640" cy="609840"/>
          </a:xfrm>
          <a:prstGeom prst="wedgeEllipseCallout">
            <a:avLst>
              <a:gd name="adj1" fmla="val -94486"/>
              <a:gd name="adj2" fmla="val -171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rawędzi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f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2438280"/>
            <a:ext cx="20574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 para (x,y) jest krawędzią w grafie, to x jest początkiem a y końcem krawędzi. Takie wierzchołki nazywamy sąsiedni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05520" y="3352680"/>
            <a:ext cx="3657600" cy="1618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gą (ścieżką) w grafie skierowanym nazywamy ciąg krawędzi taki, że koniec jednej krawędzi jest początkiem następn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518148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ąg par : (1,3),(3,4),(4,1), (1,2) jest drogą w powyższym grafie  od wierzchołka 1 do wierzchołk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5257800"/>
            <a:ext cx="38098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ługością drogi nazywamy liczbę jej krawędz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2C3-EECF-4775-8120-788CEDA168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zentacja graf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4572000"/>
            <a:ext cx="45720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relacja E jest symetryczna, to o grafie mówimy, że jest niezorientow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219320"/>
            <a:ext cx="41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 relacji E mówimy, że jest to relacja sąsiedztwa. możemy ją zapisać w postaci tablicy T(x,y)(macierzy), której wiersze i kolumny są indeksowane wierzchołkami grafu  oraz T(x,y)=1 wttw (x,y) jest krawędzią graf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486400" y="1143000"/>
            <a:ext cx="2743200" cy="2743200"/>
            <a:chOff x="5486400" y="1143000"/>
            <a:chExt cx="2743200" cy="2743200"/>
          </a:xfrm>
        </p:grpSpPr>
        <p:sp>
          <p:nvSpPr>
            <p:cNvPr id="292" name=""/>
            <p:cNvSpPr/>
            <p:nvPr/>
          </p:nvSpPr>
          <p:spPr>
            <a:xfrm>
              <a:off x="5486400" y="1143000"/>
              <a:ext cx="2743200" cy="2684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T      1      2     3    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1     0      1     1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     1      0     0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3     1      0     0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4     0      0     0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62720" y="16765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2720" y="22096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9920" y="12193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53080" y="129528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6600" y="121932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0120" y="1219320"/>
              <a:ext cx="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86400" y="2743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86400" y="32767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38080" y="4465080"/>
            <a:ext cx="1676520" cy="1478520"/>
            <a:chOff x="838080" y="4465080"/>
            <a:chExt cx="1676520" cy="1478520"/>
          </a:xfrm>
        </p:grpSpPr>
        <p:sp>
          <p:nvSpPr>
            <p:cNvPr id="302" name=""/>
            <p:cNvSpPr/>
            <p:nvPr/>
          </p:nvSpPr>
          <p:spPr>
            <a:xfrm>
              <a:off x="914400" y="47242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8080" y="56386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33720" y="47242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33720" y="556236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9320" y="4952880"/>
              <a:ext cx="990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19320" y="4800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066680" y="5028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295280" y="58672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0" name=""/>
            <p:cNvCxnSpPr>
              <a:stCxn id="304" idx="0"/>
              <a:endCxn id="302" idx="0"/>
            </p:cNvCxnSpPr>
            <p:nvPr/>
          </p:nvCxnSpPr>
          <p:spPr>
            <a:xfrm rot="5400000">
              <a:off x="1712880" y="4115160"/>
              <a:ext cx="2160" cy="122004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305" idx="2"/>
              <a:endCxn id="302" idx="4"/>
            </p:cNvCxnSpPr>
            <p:nvPr/>
          </p:nvCxnSpPr>
          <p:spPr>
            <a:xfrm rot="10800000">
              <a:off x="1104120" y="5028480"/>
              <a:ext cx="1029600" cy="6865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FED-9A7E-491A-9238-14A2D5DA2E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je wieloczłon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828800"/>
            <a:ext cx="74674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dukt zbiorów X1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n ={ (x1,...xn): xi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4191120"/>
            <a:ext cx="57150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 X1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n | = | X1|* |X2 |* ... *| Xn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5909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wa ciągi (x1,...xn)= (y1,...yn) są równe wttw xi =yi dla wszystkich i&lt;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2120" y="3581280"/>
            <a:ext cx="22669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wierdzeni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629400" y="3657600"/>
            <a:ext cx="1571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zykła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4419720"/>
            <a:ext cx="205740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zbiorze prostych relacja „leżenia między” jest relacją trójczłonow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5029200"/>
            <a:ext cx="4572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Dowolny podzbiór produktu X1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n  nazywamy relacją n człon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B32-11C3-4E54-BABA-D6E78FF243D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kt kartezjańs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uporządkowan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2666880"/>
            <a:ext cx="1828800" cy="1447920"/>
          </a:xfrm>
          <a:prstGeom prst="cloudCallout">
            <a:avLst>
              <a:gd name="adj1" fmla="val -17620"/>
              <a:gd name="adj2" fmla="val -118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05120"/>
            <a:ext cx="1828800" cy="1828800"/>
          </a:xfrm>
          <a:prstGeom prst="cloudCallout">
            <a:avLst>
              <a:gd name="adj1" fmla="val 113800"/>
              <a:gd name="adj2" fmla="val -637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rzed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1371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a,b) df= {{a}, {a, b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1905120"/>
            <a:ext cx="2743200" cy="533160"/>
          </a:xfrm>
          <a:custGeom>
            <a:avLst/>
            <a:gdLst>
              <a:gd name="textAreaLeft" fmla="*/ 0 w 2743200"/>
              <a:gd name="textAreaRight" fmla="*/ 2743560 w 2743200"/>
              <a:gd name="textAreaTop" fmla="*/ 69120 h 533160"/>
              <a:gd name="textAreaBottom" fmla="*/ 4640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. Kuratowski, 19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971800"/>
            <a:ext cx="3657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a,b)=(c,d) wttw a=c i b=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419720"/>
            <a:ext cx="45720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duktem kartezjańskim zbiorów X i Y nazywamy zbiór wszystkich par uporządkowanych (x,y) takich, że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a y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. Ozn.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3886200"/>
            <a:ext cx="16952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finicj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3962520"/>
            <a:ext cx="2971800" cy="199692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zykła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Zbiór liczb zespolo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Jeśli  X={1,2} i Y ={a,b}, to X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Y  = {(1,a), (1,b), (2,a), (2,b)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42A-3A8E-43F6-93B9-E4837A6421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łasności produk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5029200" cy="15570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żeli X jest zbiorem n-elementowym, a Y zbiorem m-elementowym, to produkt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ma n*m element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2819520"/>
            <a:ext cx="1361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wód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3809880"/>
            <a:ext cx="5105520" cy="139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śli X={x}, a Y składa się z m elementów{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, to  twierdzenie jest oczywiste, bo wszystkie elementy produktu są postaci (x,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(x,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...,(x,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181480"/>
            <a:ext cx="5105520" cy="806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łóżmy, że dla X={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 i Y = {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, produkt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ma    n*m element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3200400" cy="5044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ważmy zbiór X’ postaci {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x},gdzie x jest elementem różnym od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tzn. X’=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{x}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dukt X ’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kłada się z par, w których występuje x i z par, w których x nie występu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 pierwszego rodzaju jest dokładnie m, a par drugiego rodzaju jest tyle ile w produkcie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, czyli n*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Łącznie mamy  (n+1)*m p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81080" y="2666880"/>
            <a:ext cx="32958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|X x Y| = |X| * |Y|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8E1-381F-4F83-9311-D46C5D06AA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d. Własności produktu zbi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143000"/>
            <a:ext cx="4647960" cy="2654280"/>
          </a:xfrm>
          <a:prstGeom prst="rect">
            <a:avLst/>
          </a:prstGeom>
          <a:solidFill>
            <a:srgbClr val="ffcc99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 1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dowolnych zbiorów X,A,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 = Y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  wttw X 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) = (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) = (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A\B) = (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) \ (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809880"/>
            <a:ext cx="4495680" cy="1922760"/>
          </a:xfrm>
          <a:prstGeom prst="rect">
            <a:avLst/>
          </a:prstGeom>
          <a:solidFill>
            <a:srgbClr val="ffff99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 2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dowolnych zbiorów A,B,C: 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i C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D wttw 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(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1143000"/>
            <a:ext cx="350496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wód (1.3):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x,y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B) wttw x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 i y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B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1955880"/>
            <a:ext cx="3505320" cy="124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żeli     y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A   to para (x,y) należy do (X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żeli y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B,   to para (x,y) należy do (X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3168720"/>
            <a:ext cx="388620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zywiście, jeśli (x,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), to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i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 a jeśli (x,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), to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i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, na mocy definicji produktu kartezjański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410080"/>
            <a:ext cx="4876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yl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x,y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B) wttw (x,y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A) lub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x,y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B)  wttw (x,y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A)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X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B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4327560"/>
            <a:ext cx="3733920" cy="23000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wód 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ech A=B=C={1,2}. Wtedy par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,(1,2))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B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1,(1,2))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A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)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bo np. 1 nie jest elementem produktu (A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)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438280" y="762120"/>
            <a:ext cx="22575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wierdzen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473-1EEA-4D43-8B6D-3A7B747472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ustracja produk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4191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kt zbiorów można zilustrować na płaszczyźnie następują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048120"/>
            <a:ext cx="579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my na osi Ox  elementy zbioru X a na osi Oy elementy zbioru Y, wtedy produkt kartezjański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jest zbiorem punktów zaznaczonych na niebiesko na rysunku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638680" y="1295280"/>
            <a:ext cx="2895840" cy="2288520"/>
            <a:chOff x="5638680" y="1295280"/>
            <a:chExt cx="2895840" cy="2288520"/>
          </a:xfrm>
        </p:grpSpPr>
        <p:sp>
          <p:nvSpPr>
            <p:cNvPr id="73" name=""/>
            <p:cNvSpPr/>
            <p:nvPr/>
          </p:nvSpPr>
          <p:spPr>
            <a:xfrm flipH="1">
              <a:off x="8077320" y="312408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400800" y="12952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31240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4480" y="2590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2940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24480" y="2133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31240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8880" y="3124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2400" y="3124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229600" y="31240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24480" y="1676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1676160"/>
              <a:ext cx="2133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7120" y="2133360"/>
              <a:ext cx="2057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0800" y="2590560"/>
              <a:ext cx="2057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00800" y="2819160"/>
              <a:ext cx="2057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010280" y="1447200"/>
              <a:ext cx="0" cy="1752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34320" y="281916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7315200" y="1447200"/>
              <a:ext cx="0" cy="1752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848720" y="1447200"/>
              <a:ext cx="0" cy="1752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305920" y="1371600"/>
              <a:ext cx="0" cy="1752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4320" y="259056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34320" y="213336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28191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15000" y="1447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167616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38880" y="16761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7238880" y="21333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8880" y="25905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2400" y="21333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2400" y="16761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29600" y="16761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9600" y="21333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2400" y="25905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0" y="25905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2400" y="28191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29600" y="28191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715000" y="4724280"/>
            <a:ext cx="1752480" cy="1447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6248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4648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1500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4724280"/>
            <a:ext cx="121932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4724280"/>
            <a:ext cx="45720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4495680"/>
            <a:ext cx="2971800" cy="1524240"/>
            <a:chOff x="685800" y="4495680"/>
            <a:chExt cx="2971800" cy="1524240"/>
          </a:xfrm>
        </p:grpSpPr>
        <p:sp>
          <p:nvSpPr>
            <p:cNvPr id="119" name=""/>
            <p:cNvSpPr/>
            <p:nvPr/>
          </p:nvSpPr>
          <p:spPr>
            <a:xfrm>
              <a:off x="685800" y="59436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838080" y="44956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8080" y="5943600"/>
              <a:ext cx="190512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286000" y="6019920"/>
            <a:ext cx="1295280" cy="75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4648320"/>
            <a:ext cx="7596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5720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5720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A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) =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A)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5867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5943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B68-AB72-469C-BA99-447AFC5B4B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je dwuczłon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143000"/>
            <a:ext cx="4876920" cy="247896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ch X i Y będą dowolnymi zbiorami. Dowolny podzbiór r zbioru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nazywamy relacją  dwuczłonową (lub dwuargumentową, lub binarną) na zbiorze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 to piszemy też   x 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657600"/>
            <a:ext cx="5638680" cy="23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dzbiory danego zbioru  mogą być rozumiane jako własności elementów zbioru: np. podzbiór zbioru  liczb naturalnych złożony z wszystkich liczb nieparzystych  może być rozumiany jako własność „być liczbą nieparzystą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dobnie podzbiory produktu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 determinują pewne własności w zbiorz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219320"/>
            <a:ext cx="2971800" cy="437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kł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iędzy liczbami naturalnymi 2 i 6, 2 i 8, 5 i 15, 6 i 24 zachodzi relacja podzielności. Relacja podzielności jest własnością przysługującą parom liczb naturalnych (x,y) takim, że x jest dzielnikiem y. Jest to więc właśność elementów produktu N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FBE-141F-4F29-8544-160239F74C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1143000"/>
            <a:ext cx="4419360" cy="131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ówność  jest szczególną relacją binarną określoną na produkci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(dla dowolnego zbioru X) i złożoną z par (x,x) dla wszystkich 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295280"/>
            <a:ext cx="3048120" cy="2838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Niech A będzie zbiorem studentów PJWSTK, a N zbiorem liczb naturalnych. Zbiór par postac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azwisko, nr_indeksu) jest podzbiorem zbioru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. Jest to relacja dwuczłonowa na zb.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2590920"/>
            <a:ext cx="419076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Relacja &lt; w zbiorze liczb rzeczywistych jest to podzbiór produktu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, do którego należą wszystkie pary (x,y) takie, że x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i x&lt;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4267080"/>
            <a:ext cx="3733560" cy="1923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Niech  L będzie zbiorem ludzi i rozważmy zbiór par (x,y) takich, że x jest ojcem lub matką y.  Zbiór tych par wyznacza w produkcie 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 własność „być rodzicem 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4343400"/>
            <a:ext cx="4419720" cy="1618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iech X będzie niepustym zbiorem. Relacja inkluzji jest własnością par uporządkowanych (A,B) takich, że 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oraz A,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X). Jest to relacja binarna w P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(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4A2-A40C-43E5-9FD3-99B434E076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ustracja geometrycz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5791320" cy="2113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cje dwuczłonowe w zbiorze R  można ilustrować geometryczn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ykresu relacji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 będziemy zaliczać wszystkie punkty (x,y) takie, że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733920"/>
            <a:ext cx="7596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19920"/>
            <a:ext cx="4572000" cy="75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505320"/>
            <a:ext cx="2438280" cy="2552760"/>
          </a:xfrm>
          <a:custGeom>
            <a:avLst/>
            <a:gdLst/>
            <a:ahLst/>
            <a:rect l="l" t="t" r="r" b="b"/>
            <a:pathLst>
              <a:path w="1872" h="1464">
                <a:moveTo>
                  <a:pt x="0" y="0"/>
                </a:moveTo>
                <a:cubicBezTo>
                  <a:pt x="20" y="264"/>
                  <a:pt x="40" y="528"/>
                  <a:pt x="96" y="720"/>
                </a:cubicBezTo>
                <a:cubicBezTo>
                  <a:pt x="152" y="912"/>
                  <a:pt x="240" y="1040"/>
                  <a:pt x="336" y="1152"/>
                </a:cubicBezTo>
                <a:cubicBezTo>
                  <a:pt x="432" y="1264"/>
                  <a:pt x="552" y="1344"/>
                  <a:pt x="672" y="1392"/>
                </a:cubicBezTo>
                <a:cubicBezTo>
                  <a:pt x="792" y="1440"/>
                  <a:pt x="936" y="1464"/>
                  <a:pt x="1056" y="1440"/>
                </a:cubicBezTo>
                <a:cubicBezTo>
                  <a:pt x="1176" y="1416"/>
                  <a:pt x="1288" y="1344"/>
                  <a:pt x="1392" y="1248"/>
                </a:cubicBezTo>
                <a:cubicBezTo>
                  <a:pt x="1496" y="1152"/>
                  <a:pt x="1600" y="1072"/>
                  <a:pt x="1680" y="864"/>
                </a:cubicBezTo>
                <a:cubicBezTo>
                  <a:pt x="1760" y="656"/>
                  <a:pt x="1840" y="144"/>
                  <a:pt x="18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60958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19520" y="35812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2209680"/>
            <a:ext cx="3124080" cy="3751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ch r 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X 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Y. Wtedy zbiór poprzedników par należących do tej relacji nazywamy dziedziną relacji , a zbiór następników par - nazywamy przeciwdziedziną relacji r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4D7-19F6-4D60-94A2-4AD78C2E02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zedstawienie macierz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219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żdą relację binarną w zbiorze skończonym można przedstawić za pomocą tablicy (macierz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6668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ch X= {1,2,3,4} i Y = {5,7,9}. Wtedy macie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905120" y="3276720"/>
            <a:ext cx="2743200" cy="2209680"/>
            <a:chOff x="1905120" y="3276720"/>
            <a:chExt cx="2743200" cy="2209680"/>
          </a:xfrm>
        </p:grpSpPr>
        <p:sp>
          <p:nvSpPr>
            <p:cNvPr id="152" name=""/>
            <p:cNvSpPr/>
            <p:nvPr/>
          </p:nvSpPr>
          <p:spPr>
            <a:xfrm>
              <a:off x="1905120" y="3276720"/>
              <a:ext cx="2743200" cy="2128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   2     3    4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    +       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    +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                        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81080" y="38098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1080" y="43434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8280" y="335268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71800" y="33526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5320" y="33526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33526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05120" y="48769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410080" y="31240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zentuje  relację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taką, że następujące pary (5,1), (5,3), (7,1), (7,2), (9,4) są w relacji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480" y="205740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zykła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D9F-F608-4769-9BE1-980CF2A8FF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październik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17:58:08Z</dcterms:created>
  <dc:creator>andrzej</dc:creator>
  <dc:description/>
  <dc:language>en-US</dc:language>
  <cp:lastModifiedBy>Jacek Kaliński</cp:lastModifiedBy>
  <dcterms:modified xsi:type="dcterms:W3CDTF">2002-05-29T17:48:16Z</dcterms:modified>
  <cp:revision>21</cp:revision>
  <dc:subject/>
  <dc:title>Wykład 2</dc:title>
</cp:coreProperties>
</file>