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B17-2951-4CA7-A53D-E1711D4E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2E2-BC77-45CE-93A0-201F800A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00A-BF0A-4D3E-8357-7CF586A4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B5B-27E2-4DF7-87FF-38BD320D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5DC4-446B-422E-822F-FD5D3F5E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CD8B-E9D6-488D-83B2-A6697697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4548-D082-4BFE-B062-3E5B9F97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10B8-D4DC-4090-B9EA-96262F76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E097-7967-45F3-97CF-734430A1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904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A205-F379-471B-9EE9-AD98BA26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A7D1-23B5-4017-8704-8A29EA86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25C-A7DA-4B01-A2FE-605B3D76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17EB-2D9C-4FE9-A3C1-538DF4A1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812D-26A8-4D6A-9E20-9EC5DDCB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A64D-8E14-480A-8A81-1632C3F9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A151-3317-49B5-A4B6-618F9127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3F8C-44F8-4C0C-8FB4-AC6D15F3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DEC-F11C-4CF7-9145-8DD98907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79E-F195-444E-8AED-1727436B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53F-26C6-4A98-8C3D-7AA7E242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904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A93-9E3B-4E38-9F8B-AC49201F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B16-15F6-49BC-AFCD-62C49578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2AE-93F0-463C-9B8E-94EB3471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5C7-5AF5-4A5C-AA63-415B2091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7DFA-338D-43B4-A290-5242E61CDE5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14300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1143000"/>
            <a:ext cx="295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144000" y="11430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92040" y="114300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7780-DBCE-4E92-9752-4CEFEAC7460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ykład 6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Rachunek  Zdań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57EE-9045-40FD-8BDC-3B5D294FE1B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Obserwacj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1523880"/>
            <a:ext cx="6705720" cy="196524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formuła zależna od zmiennych zdaniowych 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 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tautologią, to wstawiając na miejsce zmiennych dowolne zdania otrzymamy zdanie prawdziwe. Co więcej, jeśli na miejsce zmiennych wstawimy dowolne schematy zdań (dowolne formuły), to otrzymany schemat  będzie również tautologi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3733920"/>
            <a:ext cx="7086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ykł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ła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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jest tautologi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 następujące zdania  są prawdziw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’x jest elementem A’ implikuje, że ‘x jest elementem B’ wtedy i tylko wtedy, gdy ‘x nie jest elementem B’ implikuje, że ‘x nie jest elementem A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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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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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2C1-3B60-4FF8-8E39-211DD61C18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guły  wnioskowan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16002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ły dowodzenia (reguły wnioskowania) są to przekształcenia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2438280"/>
            <a:ext cx="33526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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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048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657600"/>
            <a:ext cx="7620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tóre pewnemu skończonemu zbiorowi schematów (formuł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przyporządkowują schemat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 taki sposób, że przy dowolnie wybranych wartościach zmiennych występujących w schemata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jeśli przesłanki są zdaniami prawdziwymi, to wniosek też jest zdaniem prawdziwy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1981080"/>
            <a:ext cx="2514600" cy="838440"/>
          </a:xfrm>
          <a:prstGeom prst="cloudCallout">
            <a:avLst>
              <a:gd name="adj1" fmla="val -50694"/>
              <a:gd name="adj2" fmla="val 5909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zesłan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514600"/>
            <a:ext cx="1828800" cy="762120"/>
          </a:xfrm>
          <a:prstGeom prst="cloudCallout">
            <a:avLst>
              <a:gd name="adj1" fmla="val 85157"/>
              <a:gd name="adj2" fmla="val 63125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nio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5334120"/>
            <a:ext cx="7772400" cy="745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musi być spełniony warunek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śli tylko w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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,  w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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1,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 w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4809960"/>
            <a:ext cx="2438280" cy="1143000"/>
          </a:xfrm>
          <a:prstGeom prst="cloudCallout">
            <a:avLst>
              <a:gd name="adj1" fmla="val -51300"/>
              <a:gd name="adj2" fmla="val 2638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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j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logiczną konsekwencj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l-PL" sz="1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</a:t>
            </a:r>
            <a:r>
              <a:rPr b="0" lang="pl-PL" sz="1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</a:t>
            </a:r>
            <a:r>
              <a:rPr b="0" lang="pl-PL" sz="1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6969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049-494C-44F1-AA07-619D02B9D2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y   reguł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1523880"/>
            <a:ext cx="2362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19320" y="3276720"/>
            <a:ext cx="2590560" cy="1218960"/>
            <a:chOff x="1219320" y="3276720"/>
            <a:chExt cx="2590560" cy="1218960"/>
          </a:xfrm>
        </p:grpSpPr>
        <p:sp>
          <p:nvSpPr>
            <p:cNvPr id="224" name=""/>
            <p:cNvSpPr/>
            <p:nvPr/>
          </p:nvSpPr>
          <p:spPr>
            <a:xfrm>
              <a:off x="1447920" y="3276720"/>
              <a:ext cx="236196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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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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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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9320" y="35812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19320" y="4648320"/>
            <a:ext cx="2590560" cy="1218960"/>
            <a:chOff x="1219320" y="4648320"/>
            <a:chExt cx="2590560" cy="1218960"/>
          </a:xfrm>
        </p:grpSpPr>
        <p:sp>
          <p:nvSpPr>
            <p:cNvPr id="227" name=""/>
            <p:cNvSpPr/>
            <p:nvPr/>
          </p:nvSpPr>
          <p:spPr>
            <a:xfrm>
              <a:off x="1447920" y="4648320"/>
              <a:ext cx="236196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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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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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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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9320" y="49528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 txBox="1"/>
          <p:nvPr/>
        </p:nvSpPr>
        <p:spPr>
          <a:xfrm>
            <a:off x="4572000" y="3581280"/>
            <a:ext cx="34862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eguły  sylogizmu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warunkowego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0" y="1676520"/>
            <a:ext cx="3381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eguła  odrywani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odus  ponen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5105520"/>
            <a:ext cx="4495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zy te reguły są popraw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780-08C1-43E1-87A3-06CC4BB255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Zastosowanie  reguł 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2286000"/>
            <a:ext cx="8077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cemy udowodnić, że formuła 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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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 (tzw. Prawo eksportacji) jest prawem rachunku zdań. Przypuśćmy, że tak nie jest, tzn. przypuśćmy, że są takie wartości zdań składowych, ż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(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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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)) = 0. Zatem musiałoby  by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   w(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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)=1 oraz   (2)   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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)=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nów korzystamy z własności implikacji i  z (2) mam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  oraz  (4) 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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(4) wynika że 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 oraz  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ąd   na mocy (3) mamy 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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 , a zatem w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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0 (wbrew (1)!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zystając z  powyższej reguły wnioskujemy, ż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(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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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)=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67652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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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905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152388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jest poprawna reguła dowod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4920" y="3349800"/>
            <a:ext cx="2438280" cy="1752480"/>
          </a:xfrm>
          <a:prstGeom prst="cloudCallout">
            <a:avLst>
              <a:gd name="adj1" fmla="val -123439"/>
              <a:gd name="adj2" fmla="val 5606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wody tego ty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zyw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wod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agogicz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DD8-4351-4AEF-BB64-1E0791DD84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Dowody nie wprost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15238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funkcja g :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jest funkcją odwrotną do funkcji f: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, to g jest różnowartościow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362320"/>
            <a:ext cx="8077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yby g nie była funkcją różnowartościową zatem musiałyby istnieć w Y elementy y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2 takie, że g(y1)=g(y2). Wówczas  m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*)  f (g(y1))=f(g(y2)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waż g jest funkcją odwrotną do f, zatem Y=f(X) czyli y1, y2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X) Stąd istnieją takie elementy x1,x2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, ż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x1)=y1 oraz f(x2)=y2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tawiając do równości (*) otrzymuje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g(f(x1)) ) = f(g(f(x2))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ąd i z definicji funkcji odwrotnej mamy f(x1)=f(x2),  a zatem  y1=y2 . Sprzeczność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tem, jeśli tylko y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2, to g(y1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(y2). Czyli funkcja g też jest funkcją różnowatościową c.b.d.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228600"/>
            <a:ext cx="358128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ypominam,  że funkcję g: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nazywamy odwrotną do f :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jeśli Y=f(X) i X=g(Y) oraz g(f(x))=x dla wszystkich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0F6-4403-496E-B6A5-33AA628072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prowadzanie do sprzeczności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1752480"/>
            <a:ext cx="7315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Udowodnimy, że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 jest liczbą niewymierną. Chcemy pokazać, że jeśli x jest liczbą rzeczywistą taką, że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2, to x jest liczbą niewymierną. Przypuśćmy przeciwnie, ż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) 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2 o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)  x jest liczbą wymiern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 mocy (2) x= n/m dla pewnych liczb całkowitych n,m i m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0. Możemy założyć, że n i m nie mają wspólnych dzielnik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my    n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2,  czyli n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 2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 Wynika stąd, że n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liczbą parzystą. W konsekwencji n też musi być liczbą parzystą (bo gdyby n było nieparzyste, np. n=2k+1, n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4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+ 4k+1 byłoby też liczbą nieparzystą). Niech n = 2k . Wtedy mamy  n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4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2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Stąd 2k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m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tzn. m też jest liczbą parzystą. Sprzeczność z założeniem, że n i m nie mają wspólnych dzielników.  Zatem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   jest liczbą niewymierną.  c.b.d.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B96-8BC2-4AB6-90B5-2AD3F5DC935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łasności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82880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ierdzeni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wszystkie przesłanki reguły wnioskowania są tautologiami, to wniosek w tej regule też jest tautologi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95280" y="3048120"/>
            <a:ext cx="7315200" cy="2512440"/>
            <a:chOff x="1295280" y="3048120"/>
            <a:chExt cx="7315200" cy="2512440"/>
          </a:xfrm>
        </p:grpSpPr>
        <p:sp>
          <p:nvSpPr>
            <p:cNvPr id="247" name=""/>
            <p:cNvSpPr/>
            <p:nvPr/>
          </p:nvSpPr>
          <p:spPr>
            <a:xfrm>
              <a:off x="1295280" y="3048120"/>
              <a:ext cx="7315200" cy="25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Twierdzenie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Niech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...,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będą formułami  rachunku zdań.  Formuła  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jest tautologią, wtedy i tylko wtedy, g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  ...,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poprawną regułą wnioskowani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464832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257800" y="0"/>
            <a:ext cx="3505320" cy="2133720"/>
          </a:xfrm>
          <a:prstGeom prst="cloudCallout">
            <a:avLst>
              <a:gd name="adj1" fmla="val -73685"/>
              <a:gd name="adj2" fmla="val 48361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ły wniosk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zwalają 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ydedukowanie z już istniejącyc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wych tautolog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038480"/>
            <a:ext cx="3124080" cy="2057400"/>
          </a:xfrm>
          <a:prstGeom prst="cloudCallout">
            <a:avLst>
              <a:gd name="adj1" fmla="val -64583"/>
              <a:gd name="adj2" fmla="val -43365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utologie są źródł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ł wniosko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65D-5615-4686-BB90-871EE2F2A8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Impact"/>
              </a:rPr>
              <a:t>Logika   a   informatyk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676520"/>
            <a:ext cx="601956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hile  (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p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q))  do x := x+1 o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aka jest wartość x po wykonaniu tej pętl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2895480"/>
            <a:ext cx="6553080" cy="3050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f a then I1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f b then I2 else I3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łóżmy, że   (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) jest prawdą ilekroć wykonujemy powyższą instrukcję warunkow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y instrukcja I3 będzie kiedykolwiek wykona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C8A6-6E2A-4184-A891-D2F1F7C4947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ojęcie  dowodu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3505320"/>
            <a:ext cx="6705360" cy="243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iąg formuł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nazywamy formalnym dowodem formuł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wtedy i tylko wtedy, gdy  każda z formuł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jest albo aksjomatem albo została już wcześniej udowodniona  albo jest wnioskiem w pewnej regule dowodzenia, w której przesłankami są formuły występujące wcześniej  niż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 tym ciąg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19320" y="1523880"/>
            <a:ext cx="761976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ksjomaty    +   Reguły wnioskowania  =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ystem dedukcyjny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2590920"/>
            <a:ext cx="1981440" cy="914400"/>
          </a:xfrm>
          <a:prstGeom prst="cloudCallout">
            <a:avLst>
              <a:gd name="adj1" fmla="val 46634"/>
              <a:gd name="adj2" fmla="val -10520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p. tautolog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,5,6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2514600"/>
            <a:ext cx="2438280" cy="914400"/>
          </a:xfrm>
          <a:prstGeom prst="cloudCallout">
            <a:avLst>
              <a:gd name="adj1" fmla="val -50129"/>
              <a:gd name="adj2" fmla="val -9652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Np.: reguł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modus pon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7772400" y="380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85C-473F-40A8-9EA0-A007CCB6C5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 dowodu formalnego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1433520"/>
            <a:ext cx="7619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stępujący ciąg formuł jest dowodem formalnym formuły  (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) (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(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)  (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)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3) ((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(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(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)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)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4)  ((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)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5) (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1905120"/>
            <a:ext cx="38098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utologia postaci  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rawo symplifikacj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2743200"/>
            <a:ext cx="2666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wo symplif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641760"/>
            <a:ext cx="6172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wo Fregego   ((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)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(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4267080"/>
            <a:ext cx="3200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(1) i (3) i reguły   m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0080" y="5105520"/>
            <a:ext cx="26672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(4) i (2) i reguły  m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643-885F-4610-BD35-D41F4A78F8C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Zdan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1600200"/>
            <a:ext cx="6172200" cy="1557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miotem badań  rachunku zdań są "zdania”. Niezbyt precyzyjnie można powiedzieć, że są to zdania w języku naturalnym, którym można przypisać wartość prawdy lub fałsz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352680"/>
            <a:ext cx="4419720" cy="17773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Dziś jest środ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W naszej strefie klimatycznej są cztery pory roku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Każdy miesiąc ma tyle samo 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3352680"/>
            <a:ext cx="2666880" cy="193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ka dziś pogo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m ochotę wyjechać do ciepłych kraj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ądzę, że będzie ładna pogo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5392800"/>
            <a:ext cx="6553080" cy="785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znacze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(a)=1, tzn a jest zdaniem prawdziwy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(a)=0, tzn. a jest zdaniem fałszywy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1676520"/>
            <a:ext cx="1447560" cy="1752480"/>
          </a:xfrm>
          <a:prstGeom prst="cloudCallout">
            <a:avLst>
              <a:gd name="adj1" fmla="val -7564"/>
              <a:gd name="adj2" fmla="val 7001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nie są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zd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chunk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da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DBA-0296-4059-8BC3-012D156378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Zdania złożon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1600200"/>
            <a:ext cx="7315200" cy="1923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V będzie zbiorem zdań elementarnych (nazywać je będziemy zmiennymi zdaniowymi). Zbiór poprawnych wyrażeń (formuł) Rachunku Zdań jest to najmniejszy (w sensie inkluzji) zbiór wyrażeń zawierający V i taki, że jeśli p i q są zdaniami, to wyrażeni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, (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), (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), (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), (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) są zdani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73392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ykład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p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q))     ( (p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q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p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q))   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2=5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Warszawa jest stolicą Polsk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67816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zywamy funktorami zdaniotwórczymi lub spójnikami logiczny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3809880"/>
            <a:ext cx="2286000" cy="100872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 (p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q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q ) - nie jest formułą poprawn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404-F7C3-4F08-BD5E-91EE06BE8D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Impact"/>
              </a:rPr>
              <a:t>Tablice   logiczn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971800" y="1600200"/>
            <a:ext cx="1828800" cy="1905120"/>
            <a:chOff x="2971800" y="1600200"/>
            <a:chExt cx="1828800" cy="1905120"/>
          </a:xfrm>
        </p:grpSpPr>
        <p:sp>
          <p:nvSpPr>
            <p:cNvPr id="146" name=""/>
            <p:cNvSpPr/>
            <p:nvPr/>
          </p:nvSpPr>
          <p:spPr>
            <a:xfrm>
              <a:off x="2971800" y="1600200"/>
              <a:ext cx="1828800" cy="1905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       0     0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1       0     1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8120" y="2133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33920" y="16002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029200" y="1600200"/>
            <a:ext cx="1828800" cy="1905120"/>
            <a:chOff x="5029200" y="1600200"/>
            <a:chExt cx="1828800" cy="1905120"/>
          </a:xfrm>
        </p:grpSpPr>
        <p:sp>
          <p:nvSpPr>
            <p:cNvPr id="150" name=""/>
            <p:cNvSpPr/>
            <p:nvPr/>
          </p:nvSpPr>
          <p:spPr>
            <a:xfrm>
              <a:off x="5029200" y="1600200"/>
              <a:ext cx="1828800" cy="1905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0     1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  1     1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05160" y="2133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0960" y="16002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086600" y="1600200"/>
            <a:ext cx="1828800" cy="1904760"/>
            <a:chOff x="7086600" y="1600200"/>
            <a:chExt cx="1828800" cy="1904760"/>
          </a:xfrm>
        </p:grpSpPr>
        <p:sp>
          <p:nvSpPr>
            <p:cNvPr id="154" name=""/>
            <p:cNvSpPr/>
            <p:nvPr/>
          </p:nvSpPr>
          <p:spPr>
            <a:xfrm>
              <a:off x="7086600" y="1600200"/>
              <a:ext cx="1828800" cy="1904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1     1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  0     1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2133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8720" y="160020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295280" y="4038480"/>
            <a:ext cx="1828800" cy="1904760"/>
            <a:chOff x="1295280" y="4038480"/>
            <a:chExt cx="1828800" cy="1904760"/>
          </a:xfrm>
        </p:grpSpPr>
        <p:sp>
          <p:nvSpPr>
            <p:cNvPr id="158" name=""/>
            <p:cNvSpPr/>
            <p:nvPr/>
          </p:nvSpPr>
          <p:spPr>
            <a:xfrm>
              <a:off x="1295280" y="4038480"/>
              <a:ext cx="1828800" cy="1904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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 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       1    0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1       0    1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1600" y="45716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7400" y="40384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43000" y="1600200"/>
            <a:ext cx="1523880" cy="1905120"/>
            <a:chOff x="1143000" y="1600200"/>
            <a:chExt cx="1523880" cy="1905120"/>
          </a:xfrm>
        </p:grpSpPr>
        <p:sp>
          <p:nvSpPr>
            <p:cNvPr id="162" name=""/>
            <p:cNvSpPr/>
            <p:nvPr/>
          </p:nvSpPr>
          <p:spPr>
            <a:xfrm>
              <a:off x="1143000" y="1600200"/>
              <a:ext cx="1523880" cy="1905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1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  0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3000" y="21337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4760" y="16002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1143000" y="3276720"/>
            <a:ext cx="15238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gacj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124080" y="3352680"/>
            <a:ext cx="16765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oniunkcj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29200" y="3429000"/>
            <a:ext cx="1781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lternatyw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086600" y="3276720"/>
            <a:ext cx="1762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mplikacj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43000" y="5638680"/>
            <a:ext cx="2286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ownoważność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4038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ktory 2 argument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tor 1 argument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5105520"/>
            <a:ext cx="487656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biór  {0,1} z operacjam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nazywamy dwuelementową  algebrą Boole’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7391520" y="304920"/>
            <a:ext cx="914400" cy="609480"/>
          </a:xfrm>
          <a:custGeom>
            <a:avLst/>
            <a:gdLst>
              <a:gd name="textAreaLeft" fmla="*/ 74520 w 914400"/>
              <a:gd name="textAreaRight" fmla="*/ 839880 w 914400"/>
              <a:gd name="textAreaTop" fmla="*/ 74520 h 609480"/>
              <a:gd name="textAreaBottom" fmla="*/ 53496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29756" y="2644"/>
                </a:lnTo>
                <a:lnTo>
                  <a:pt x="2644" y="2644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29756" y="18956"/>
                </a:lnTo>
                <a:lnTo>
                  <a:pt x="29756" y="2644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2644" y="18956"/>
                </a:lnTo>
                <a:lnTo>
                  <a:pt x="29756" y="18956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2644" y="2644"/>
                </a:lnTo>
                <a:lnTo>
                  <a:pt x="2644" y="18956"/>
                </a:lnTo>
                <a:close/>
              </a:path>
              <a:path fill="darken" w="32400" h="21600">
                <a:moveTo>
                  <a:pt x="10121" y="7930"/>
                </a:moveTo>
                <a:lnTo>
                  <a:pt x="13164" y="7930"/>
                </a:lnTo>
                <a:lnTo>
                  <a:pt x="13164" y="12560"/>
                </a:lnTo>
                <a:cubicBezTo>
                  <a:pt x="13164" y="13360"/>
                  <a:pt x="13859" y="13994"/>
                  <a:pt x="14758" y="13994"/>
                </a:cubicBezTo>
                <a:lnTo>
                  <a:pt x="16200" y="13994"/>
                </a:lnTo>
                <a:cubicBezTo>
                  <a:pt x="17099" y="13994"/>
                  <a:pt x="17793" y="13360"/>
                  <a:pt x="17793" y="12560"/>
                </a:cubicBezTo>
                <a:lnTo>
                  <a:pt x="17793" y="7930"/>
                </a:lnTo>
                <a:lnTo>
                  <a:pt x="16200" y="7930"/>
                </a:lnTo>
                <a:lnTo>
                  <a:pt x="19243" y="4887"/>
                </a:lnTo>
                <a:lnTo>
                  <a:pt x="22430" y="7930"/>
                </a:lnTo>
                <a:lnTo>
                  <a:pt x="20837" y="7930"/>
                </a:lnTo>
                <a:lnTo>
                  <a:pt x="20837" y="12560"/>
                </a:lnTo>
                <a:cubicBezTo>
                  <a:pt x="20837" y="14961"/>
                  <a:pt x="18601" y="17181"/>
                  <a:pt x="16200" y="17181"/>
                </a:cubicBezTo>
                <a:lnTo>
                  <a:pt x="14758" y="17181"/>
                </a:lnTo>
                <a:cubicBezTo>
                  <a:pt x="12356" y="17181"/>
                  <a:pt x="10121" y="14961"/>
                  <a:pt x="10121" y="12560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EA9-9773-4E0F-BC82-050AD6AF48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mantyka  zdań  złożonych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14479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jąc wartości zdań prostych  i znając tablice logiczne dla funktorów można określić wartość logiczną zdań złożon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2209680"/>
            <a:ext cx="7086600" cy="1167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(a o b)= w(a) o w(b),   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)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(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dzie o oznacza dowolny  dwuargumentowy funktor oraz a,b są dowolnymi zdani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4724280"/>
            <a:ext cx="7696080" cy="131364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unktor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mają wspólną własność : wartość logiczna  zdań utworzonych przy ich pomocy zależy jedynie od wartości logicznej zdań, z których powstało wyrażenie a nie od sensu tych zdań. Taką własność funktorów nazywamy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kstensjonalnością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358128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zmy wartość formuły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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wiedząc, że 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 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0. 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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=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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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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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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=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8D4-8C08-4CDF-82E0-5E3F0A00A5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1600200"/>
            <a:ext cx="739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zdania : ’wszyscy na tej sali żywo interesują się logiką   lub   na tej sali wszyscy śpią’ zależy tylko od tego jaka jest wartość zdań: ‘wszyscy na tej sali żywo interesują się logiką ‘  i  ’na tej sali wszyscy śpią’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logiczna zdania ‘Myślę, że wszyscy na sali żywo interesują się logiką  lub   na tej sali wszyscy śpią’  zależy nie od zdań składowych ale od tego co ja o tym myślę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4038480"/>
            <a:ext cx="769608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"Myślę, że”,    "Sądze, że "  można uznać za operatory  zdaniotwórczye ale nie mają one własności ekstensjonalności. Rachunek zda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 zajmuje się takimi funktor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95280" y="4952880"/>
            <a:ext cx="15051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ytani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5257800"/>
            <a:ext cx="5181480" cy="703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e istnieje funktorów 1-argumentowych ekstensjonalnych? A ile 2 argumentowy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460-0714-49FA-A8D4-921A869F21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autologi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1523880"/>
            <a:ext cx="7543800" cy="161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łę rachunku zdań, której wartością jest prawda, niezależnie od wartości zmiennych zdaniowych w niej występujących, nazywamy tautologią lub prawem rachunku  zd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yca logiczna (tablica wartości logicznych) tautologii ma kolumnę wartości wypełnioną tylko jedynk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3429000"/>
            <a:ext cx="4343400" cy="2533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ła, której wartością jest fałsz, niezależnie od wartości zmiennych zdaniowych w niej występujących, nazywamy sprzeczn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ryca logiczna  formuły sprzecznej  ma kolumnę wartości wypełnioną tylko zer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638680" y="3581280"/>
            <a:ext cx="3200400" cy="2152080"/>
            <a:chOff x="5638680" y="3581280"/>
            <a:chExt cx="3200400" cy="2152080"/>
          </a:xfrm>
        </p:grpSpPr>
        <p:sp>
          <p:nvSpPr>
            <p:cNvPr id="187" name=""/>
            <p:cNvSpPr/>
            <p:nvPr/>
          </p:nvSpPr>
          <p:spPr>
            <a:xfrm>
              <a:off x="5638680" y="4419720"/>
              <a:ext cx="3200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rmuła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rachunku zdań jest tautologią wtedy i tylko wtedy, gdy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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jest zdaniem sprzeczny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6477120" y="3581280"/>
              <a:ext cx="152388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110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Lema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EDC-4BE2-4559-AC9F-E0F0CBED2A8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1523880"/>
            <a:ext cx="7238880" cy="222840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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wo  symplif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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wo wyłączonego środ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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wo wyłączonej sprzecznoś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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wo podwójnego przec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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wo Dunsa Scot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6)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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awo Clavi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7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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prawo Freg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4038480"/>
            <a:ext cx="7620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 (3)  Jeśli 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0,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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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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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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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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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 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,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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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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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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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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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7620120" y="2438280"/>
            <a:ext cx="1195200" cy="1043280"/>
          </a:xfrm>
          <a:custGeom>
            <a:avLst/>
            <a:gdLst>
              <a:gd name="textAreaLeft" fmla="*/ 162000 w 1195200"/>
              <a:gd name="textAreaRight" fmla="*/ 1033200 w 1195200"/>
              <a:gd name="textAreaTop" fmla="*/ 162000 h 1043280"/>
              <a:gd name="textAreaBottom" fmla="*/ 881280 h 1043280"/>
            </a:gdLst>
            <a:ahLst/>
            <a:rect l="textAreaLeft" t="textAreaTop" r="textAreaRight" b="textAreaBottom"/>
            <a:pathLst>
              <a:path w="24744" h="21600">
                <a:moveTo>
                  <a:pt x="0" y="0"/>
                </a:moveTo>
                <a:lnTo>
                  <a:pt x="24744" y="0"/>
                </a:lnTo>
                <a:lnTo>
                  <a:pt x="24744" y="21600"/>
                </a:lnTo>
                <a:lnTo>
                  <a:pt x="0" y="21600"/>
                </a:lnTo>
                <a:close/>
              </a:path>
              <a:path fill="lightenLess" w="24744" h="21600">
                <a:moveTo>
                  <a:pt x="0" y="0"/>
                </a:moveTo>
                <a:lnTo>
                  <a:pt x="24744" y="0"/>
                </a:lnTo>
                <a:lnTo>
                  <a:pt x="21391" y="3353"/>
                </a:lnTo>
                <a:lnTo>
                  <a:pt x="3353" y="3353"/>
                </a:lnTo>
                <a:close/>
              </a:path>
              <a:path fill="darken" w="24744" h="21600">
                <a:moveTo>
                  <a:pt x="24744" y="0"/>
                </a:moveTo>
                <a:lnTo>
                  <a:pt x="24744" y="21600"/>
                </a:lnTo>
                <a:lnTo>
                  <a:pt x="21391" y="18247"/>
                </a:lnTo>
                <a:lnTo>
                  <a:pt x="21391" y="3353"/>
                </a:lnTo>
                <a:close/>
              </a:path>
              <a:path fill="darkenLess" w="24744" h="21600">
                <a:moveTo>
                  <a:pt x="24744" y="21600"/>
                </a:moveTo>
                <a:lnTo>
                  <a:pt x="0" y="21600"/>
                </a:lnTo>
                <a:lnTo>
                  <a:pt x="3353" y="18247"/>
                </a:lnTo>
                <a:lnTo>
                  <a:pt x="21391" y="18247"/>
                </a:lnTo>
                <a:close/>
              </a:path>
              <a:path fill="lighten" w="24744" h="21600">
                <a:moveTo>
                  <a:pt x="0" y="21600"/>
                </a:moveTo>
                <a:lnTo>
                  <a:pt x="0" y="0"/>
                </a:lnTo>
                <a:lnTo>
                  <a:pt x="3353" y="3353"/>
                </a:lnTo>
                <a:lnTo>
                  <a:pt x="3353" y="18247"/>
                </a:lnTo>
                <a:close/>
              </a:path>
              <a:path fill="darken" w="24744" h="21600">
                <a:moveTo>
                  <a:pt x="6821" y="10800"/>
                </a:moveTo>
                <a:lnTo>
                  <a:pt x="17923" y="5249"/>
                </a:lnTo>
                <a:lnTo>
                  <a:pt x="17923" y="16351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b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gicz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D48-A466-49CE-AC45-38E2ED4D8D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44792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awdźmy, czy  formuła   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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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prawem (prawo de Morgana)Rachunku Zda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43000" y="2286000"/>
            <a:ext cx="6400800" cy="1981080"/>
            <a:chOff x="1143000" y="2286000"/>
            <a:chExt cx="6400800" cy="1981080"/>
          </a:xfrm>
        </p:grpSpPr>
        <p:sp>
          <p:nvSpPr>
            <p:cNvPr id="197" name=""/>
            <p:cNvSpPr/>
            <p:nvPr/>
          </p:nvSpPr>
          <p:spPr>
            <a:xfrm>
              <a:off x="1143000" y="2286000"/>
              <a:ext cx="6400800" cy="1981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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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 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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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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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formuł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0  0          0               1            1      1           1                  1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0  1          1               0            1      0           0                  1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  0          1               0             0      1          0                  1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  1          1               0            0      0           0                  1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3000" y="27432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57400" y="22860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71800" y="22860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8840" y="22860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22860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81840" y="22860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520" y="22860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934320" y="1219320"/>
            <a:ext cx="1828800" cy="1218960"/>
          </a:xfrm>
          <a:prstGeom prst="cloudCallout">
            <a:avLst>
              <a:gd name="adj1" fmla="val -44791"/>
              <a:gd name="adj2" fmla="val 6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k, to jes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awo  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4419720"/>
            <a:ext cx="7848360" cy="1008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etoda tu zaprezentowana nosi nazwę metody zero-jedynkowej. Polega ona na rozważeniu wszystkich możliwych przypadków wartości zdań składowych i policzeniu w każdym przypadku wartości formu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52480" y="5562720"/>
            <a:ext cx="3124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 ile to kosztuje?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61B-87EA-475A-942A-F4824CCA0B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 listopad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6:02:13Z</dcterms:created>
  <dc:creator>andrzej</dc:creator>
  <dc:description/>
  <dc:language>en-US</dc:language>
  <cp:lastModifiedBy>Jacek Kaliński</cp:lastModifiedBy>
  <dcterms:modified xsi:type="dcterms:W3CDTF">2002-05-29T18:31:20Z</dcterms:modified>
  <cp:revision>40</cp:revision>
  <dc:subject/>
  <dc:title>Wykład 4</dc:title>
</cp:coreProperties>
</file>