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94B-218A-4046-8B7E-47C5F54B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24B-9ED1-4C55-BAE0-64F3D312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94C-F861-4805-9FDD-28B70CEB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3AE-0CB3-4184-A2F5-F7AF481B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3C50-D1B7-41B5-8519-057EBC4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8CE1-D304-49B3-9392-A76F73B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CEB-E35E-4E78-B016-9731B12E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0F80-7662-4DA7-9F9F-FD8B70F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8C71-3D32-4D03-8659-6FD85954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2885-2DD8-4544-881A-CBC9221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87C4-B122-45E0-A7D3-324C4E2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535-F59D-485D-AF5F-6AB20AB7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AE47-4F17-4BE3-8394-05C4862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144-4F6A-476D-920E-66041E8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1FE8-22C3-42DA-8933-6A49755E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204F-6BED-4F9D-A038-8CF08990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8E88-890F-4A85-8D4D-8ADCE339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510-9AB3-41BD-9192-C9759189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6C7-F9DD-48A0-A52A-249D937A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C2A-4145-4C87-8BB4-9A27431E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E9F-2D58-442D-8A10-3498DB70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AB1-77D8-4927-9654-DE8ACB4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B31-0F6A-445D-8D2C-0FA4378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CE7-0BCF-4F6D-BAC5-6A93220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9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A9B-3434-4753-BD80-4984B48260D8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1430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11430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0" y="11430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1143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924320" y="61722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30A6-4A87-4300-AE88-251B0F183734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 9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Moce   zbiorów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2309760" cy="31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2BB6-0676-4CB6-A555-9B4B310679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447920"/>
            <a:ext cx="5791320" cy="3988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Przedział [0,1] jest zbiorem nieprzeliczal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1981080"/>
            <a:ext cx="47246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 (1) Gdyby zbiór [0,1] był przeliczalny, to jego elementy możnaby było ustawić w ciąg np.  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worzymy ciąg przedziałów 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 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 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 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8080" y="2286000"/>
            <a:ext cx="3429000" cy="3254400"/>
            <a:chOff x="838080" y="2286000"/>
            <a:chExt cx="3429000" cy="3254400"/>
          </a:xfrm>
        </p:grpSpPr>
        <p:sp>
          <p:nvSpPr>
            <p:cNvPr id="293" name=""/>
            <p:cNvSpPr/>
            <p:nvPr/>
          </p:nvSpPr>
          <p:spPr>
            <a:xfrm>
              <a:off x="838080" y="2286000"/>
              <a:ext cx="3429000" cy="3048120"/>
            </a:xfrm>
            <a:prstGeom prst="rect">
              <a:avLst/>
            </a:prstGeom>
            <a:solidFill>
              <a:srgbClr val="b2d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95280" y="27432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2743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9880" y="2743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360" y="2743200"/>
              <a:ext cx="990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33360" y="2971800"/>
              <a:ext cx="990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360" y="3581280"/>
              <a:ext cx="38124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33360" y="3276720"/>
              <a:ext cx="9907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360" y="3276720"/>
              <a:ext cx="38124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52480" y="274320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24080" y="27432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52480" y="327672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335268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66680" y="3962520"/>
              <a:ext cx="3124080" cy="157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 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1/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 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1/9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[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1/27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t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343400" y="3429000"/>
            <a:ext cx="457200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Ciągi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  (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s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notoniczne i ogranicz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lim 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- 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niosek: istnieje liczba c= lim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lim b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5257800"/>
            <a:ext cx="4343400" cy="79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 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la wszystkich 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!  Sprzeczność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915-B90C-4596-B1A3-7489A569DD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1371600"/>
            <a:ext cx="7620120" cy="398880"/>
          </a:xfrm>
          <a:prstGeom prst="rect">
            <a:avLst/>
          </a:prstGeom>
          <a:solidFill>
            <a:srgbClr val="ccec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 Zbiór  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szystkich funkcji  f :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,1} jest nie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981080"/>
            <a:ext cx="39621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ó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Zamiast mówić o funkcjach możemy mówić o ciągach zero-jedynkowych.Gdyby zbiór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ył przeliczalny, wtedy moglibyśmy ustawić te ciągi w ciąg 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657600"/>
            <a:ext cx="4191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znaczmy kolejne elementy ciągu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zez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2057400"/>
            <a:ext cx="2895480" cy="2725560"/>
          </a:xfrm>
          <a:prstGeom prst="rect">
            <a:avLst/>
          </a:prstGeom>
          <a:solidFill>
            <a:srgbClr val="dddddd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143000" y="4648320"/>
            <a:ext cx="4190760" cy="1394280"/>
            <a:chOff x="1143000" y="4648320"/>
            <a:chExt cx="4190760" cy="1394280"/>
          </a:xfrm>
        </p:grpSpPr>
        <p:sp>
          <p:nvSpPr>
            <p:cNvPr id="315" name=""/>
            <p:cNvSpPr/>
            <p:nvPr/>
          </p:nvSpPr>
          <p:spPr>
            <a:xfrm>
              <a:off x="1143000" y="4648320"/>
              <a:ext cx="4190760" cy="1394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onstruujemy ciąg  d = 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  gdy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i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0</a:t>
              </a:r>
              <a:br>
                <a:rPr sz="20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  gdy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i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 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5029560"/>
              <a:ext cx="106668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486400" y="4800600"/>
            <a:ext cx="35812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ąg 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  jest różny od wszystkich ciągów 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zeczność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2590920"/>
            <a:ext cx="182880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4C2-3C13-4ACD-B25F-2C8B7421BC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1447920"/>
            <a:ext cx="7549920" cy="39888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Przedział otwarty (0,1) jest zbiorem nieprzeliczal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133720"/>
            <a:ext cx="38098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ó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Gdyby zbiór liczb rzeczywistych z przedziału (0,1) był przeliczalny, wtedy moglibyśmy ustawić te liczby w ciąg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3809880"/>
            <a:ext cx="4190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znaczmy kolejne cyfry po przecinku liczby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zez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2057400"/>
            <a:ext cx="3639960" cy="2875680"/>
          </a:xfrm>
          <a:prstGeom prst="rect">
            <a:avLst/>
          </a:prstGeom>
          <a:solidFill>
            <a:srgbClr val="dddddd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ąg wszystkich liczb z przedziału (0,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9126200">
            <a:off x="6553080" y="1752120"/>
            <a:ext cx="268560" cy="3581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8080" y="4800600"/>
            <a:ext cx="4512960" cy="1394280"/>
            <a:chOff x="838080" y="4800600"/>
            <a:chExt cx="4512960" cy="1394280"/>
          </a:xfrm>
        </p:grpSpPr>
        <p:sp>
          <p:nvSpPr>
            <p:cNvPr id="326" name=""/>
            <p:cNvSpPr/>
            <p:nvPr/>
          </p:nvSpPr>
          <p:spPr>
            <a:xfrm>
              <a:off x="838080" y="4800600"/>
              <a:ext cx="4512960" cy="1394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onstruujemy liczbę  c = 0,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  gdy 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i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5</a:t>
              </a:r>
              <a:br>
                <a:rPr sz="20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   gdy 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i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 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01880" y="5181840"/>
              <a:ext cx="114876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4120" y="4952880"/>
            <a:ext cx="36288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zywiście c jest różne od wszystkich liczb z ciągu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zeczność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C8C-3809-4B10-B4B6-E47C1EA05C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Liczby   kardynal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660680"/>
            <a:ext cx="5943600" cy="2399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zba kardynalna zbioru jest cechą przypisaną zbiorowi w taki sposób, ż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liczba kardynalna  zbioru pustego  to 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liczba kardynalna dowolnego zbioru skończonego, to liczba jego element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zbiory równoliczne mają przypisaną tę samą cechę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4343400"/>
            <a:ext cx="2590920" cy="177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eni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kardynalna X =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oc zbioru X =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X) = |X|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22860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N) = alef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 R) =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4038480"/>
            <a:ext cx="5029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card(X) = card(Y) wttw X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X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ard(Y) wttw istnieje podzbiór zbioru Y równoliczny z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X) &lt; card(Y) wttw istnieje podzbiór właściwy zbioru Y równoliczny z X oraz X nie jest równoliczne z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4CC-8AEB-486C-A2AC-E5FBBEE687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Twierdzenie   Cantor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1447920"/>
            <a:ext cx="4953240" cy="3988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każdego zbioru X , card(X) &lt;  card(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133720"/>
            <a:ext cx="80010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: Jeśli X jest zbiorem pustym, to twierdzenie jest prawdzi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zywiście card(X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ard(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bo funkcja g(x)= {x} odwzorowuje X na podzbiór  zbioru potęgowego P(X), a mianowicie na {{x}: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starczy pokazać, że żaden podzbiór zbioru X nie jest równoliczny z 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 Przypuścmy przeciwnie, że dla pewnego A, istnieje bijekcja  f :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Mamy dla każdego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,  f(a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Z= {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: 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a)}. Oczywiście 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, czyli dla pewnego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Z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przypadek  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         II przypadek  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5486400"/>
            <a:ext cx="2133720" cy="762120"/>
          </a:xfrm>
          <a:prstGeom prst="cloudCallout">
            <a:avLst>
              <a:gd name="adj1" fmla="val 27680"/>
              <a:gd name="adj2" fmla="val -8416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e wtedy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24480" y="5334120"/>
            <a:ext cx="2133720" cy="761760"/>
          </a:xfrm>
          <a:prstGeom prst="cloudCallout">
            <a:avLst>
              <a:gd name="adj1" fmla="val -85490"/>
              <a:gd name="adj2" fmla="val -6291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e wtedy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9880" y="5638680"/>
            <a:ext cx="2409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przeczność!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70E-1F0E-4B29-A936-07CAABB366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Równoliczność 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19320" y="1600200"/>
            <a:ext cx="914400" cy="2971800"/>
            <a:chOff x="1219320" y="1600200"/>
            <a:chExt cx="914400" cy="2971800"/>
          </a:xfrm>
        </p:grpSpPr>
        <p:sp>
          <p:nvSpPr>
            <p:cNvPr id="136" name=""/>
            <p:cNvSpPr/>
            <p:nvPr/>
          </p:nvSpPr>
          <p:spPr>
            <a:xfrm>
              <a:off x="1524240" y="1701720"/>
              <a:ext cx="380880" cy="320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4240" y="4010040"/>
              <a:ext cx="380880" cy="3207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4240" y="3448080"/>
              <a:ext cx="380880" cy="320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4240" y="2235240"/>
              <a:ext cx="380880" cy="3207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4240" y="2921040"/>
              <a:ext cx="380880" cy="322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1600200"/>
              <a:ext cx="914400" cy="29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66880" y="1523880"/>
            <a:ext cx="1295280" cy="2895480"/>
            <a:chOff x="2666880" y="1523880"/>
            <a:chExt cx="1295280" cy="2895480"/>
          </a:xfrm>
        </p:grpSpPr>
        <p:sp>
          <p:nvSpPr>
            <p:cNvPr id="143" name=""/>
            <p:cNvSpPr/>
            <p:nvPr/>
          </p:nvSpPr>
          <p:spPr>
            <a:xfrm>
              <a:off x="2971800" y="1600200"/>
              <a:ext cx="609480" cy="228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71800" y="2057400"/>
              <a:ext cx="60948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2666880"/>
              <a:ext cx="60948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7760" y="3352680"/>
              <a:ext cx="6098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7760" y="3962160"/>
              <a:ext cx="60984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66880" y="1523880"/>
              <a:ext cx="1295280" cy="28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905120" y="1905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905120" y="18288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28800" y="22093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0481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752480"/>
            <a:ext cx="4267080" cy="1008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wa zbiory nazywamy równolicznymi wttw istnieje funkcja różnowartościowa odwzorowująca jeden zbiór na drug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724280"/>
            <a:ext cx="7467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  2  4  6  8  10  12  14  16  18   20   22   24   26   28 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715000"/>
            <a:ext cx="746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2  3  4   5    6    7   8     9    10   11    12   13   14   ..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3352680"/>
            <a:ext cx="2210040" cy="838440"/>
          </a:xfrm>
          <a:prstGeom prst="cloudCallout">
            <a:avLst>
              <a:gd name="adj1" fmla="val -35129"/>
              <a:gd name="adj2" fmla="val 1136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D6F-41D3-4960-908A-178B84525E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371600"/>
            <a:ext cx="449568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Dowolne dwa przedziały w zbiorze liczb rzeczywistych są równolicz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2286000"/>
            <a:ext cx="4038480" cy="3505320"/>
            <a:chOff x="1143000" y="2286000"/>
            <a:chExt cx="4038480" cy="3505320"/>
          </a:xfrm>
        </p:grpSpPr>
        <p:sp>
          <p:nvSpPr>
            <p:cNvPr id="172" name=""/>
            <p:cNvSpPr/>
            <p:nvPr/>
          </p:nvSpPr>
          <p:spPr>
            <a:xfrm>
              <a:off x="1143000" y="2286000"/>
              <a:ext cx="4038480" cy="350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7920" y="45720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676520" y="289584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572000"/>
              <a:ext cx="12189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676520" y="3200400"/>
              <a:ext cx="0" cy="914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4114800"/>
              <a:ext cx="2514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3200400"/>
              <a:ext cx="2590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590920" y="29714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809880" y="2971440"/>
              <a:ext cx="0" cy="1600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133720" y="2819160"/>
              <a:ext cx="2209680" cy="160020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38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600" y="297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19320" y="52578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(x) = (d - c)(x - a)/(b - a) +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22860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wód 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562720" y="4724280"/>
            <a:ext cx="3429000" cy="39888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(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)  ~  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791320"/>
            <a:ext cx="4267440" cy="398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m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Jeśli A ~ B i B ~ C,   to  A ~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38680" y="1295280"/>
            <a:ext cx="3276720" cy="3135960"/>
            <a:chOff x="5638680" y="1295280"/>
            <a:chExt cx="3276720" cy="3135960"/>
          </a:xfrm>
        </p:grpSpPr>
        <p:grpSp>
          <p:nvGrpSpPr>
            <p:cNvPr id="191" name=""/>
            <p:cNvGrpSpPr/>
            <p:nvPr/>
          </p:nvGrpSpPr>
          <p:grpSpPr>
            <a:xfrm>
              <a:off x="5638680" y="1295280"/>
              <a:ext cx="3276720" cy="3135960"/>
              <a:chOff x="5638680" y="1295280"/>
              <a:chExt cx="3276720" cy="31359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5638680" y="1295280"/>
                <a:ext cx="3276720" cy="3089880"/>
                <a:chOff x="5638680" y="1295280"/>
                <a:chExt cx="3276720" cy="3089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638680" y="1295280"/>
                  <a:ext cx="3276720" cy="30898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79600" y="2980440"/>
                  <a:ext cx="252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7208640" y="1435320"/>
                  <a:ext cx="0" cy="259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43160" y="2979360"/>
                  <a:ext cx="819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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252840" y="2980440"/>
                  <a:ext cx="1979280" cy="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52840" y="1576080"/>
                  <a:ext cx="0" cy="23875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27640" y="2979360"/>
                  <a:ext cx="819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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232480" y="1576080"/>
                  <a:ext cx="0" cy="23875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389280" y="1745640"/>
                  <a:ext cx="1787400" cy="2288160"/>
                </a:xfrm>
                <a:custGeom>
                  <a:avLst/>
                  <a:gdLst/>
                  <a:ahLst/>
                  <a:rect l="l" t="t" r="r" b="b"/>
                  <a:pathLst>
                    <a:path w="1320" h="1623">
                      <a:moveTo>
                        <a:pt x="23" y="1623"/>
                      </a:moveTo>
                      <a:cubicBezTo>
                        <a:pt x="0" y="1526"/>
                        <a:pt x="27" y="1452"/>
                        <a:pt x="69" y="1369"/>
                      </a:cubicBezTo>
                      <a:cubicBezTo>
                        <a:pt x="85" y="1338"/>
                        <a:pt x="83" y="1312"/>
                        <a:pt x="92" y="1277"/>
                      </a:cubicBezTo>
                      <a:cubicBezTo>
                        <a:pt x="101" y="1242"/>
                        <a:pt x="116" y="1208"/>
                        <a:pt x="127" y="1173"/>
                      </a:cubicBezTo>
                      <a:cubicBezTo>
                        <a:pt x="132" y="1158"/>
                        <a:pt x="152" y="1152"/>
                        <a:pt x="162" y="1139"/>
                      </a:cubicBezTo>
                      <a:cubicBezTo>
                        <a:pt x="275" y="994"/>
                        <a:pt x="131" y="1145"/>
                        <a:pt x="277" y="1000"/>
                      </a:cubicBezTo>
                      <a:cubicBezTo>
                        <a:pt x="323" y="954"/>
                        <a:pt x="365" y="926"/>
                        <a:pt x="427" y="908"/>
                      </a:cubicBezTo>
                      <a:cubicBezTo>
                        <a:pt x="456" y="899"/>
                        <a:pt x="499" y="884"/>
                        <a:pt x="531" y="873"/>
                      </a:cubicBezTo>
                      <a:cubicBezTo>
                        <a:pt x="542" y="869"/>
                        <a:pt x="565" y="862"/>
                        <a:pt x="565" y="862"/>
                      </a:cubicBezTo>
                      <a:cubicBezTo>
                        <a:pt x="621" y="809"/>
                        <a:pt x="724" y="813"/>
                        <a:pt x="796" y="804"/>
                      </a:cubicBezTo>
                      <a:cubicBezTo>
                        <a:pt x="847" y="787"/>
                        <a:pt x="894" y="770"/>
                        <a:pt x="946" y="758"/>
                      </a:cubicBezTo>
                      <a:cubicBezTo>
                        <a:pt x="958" y="750"/>
                        <a:pt x="969" y="741"/>
                        <a:pt x="981" y="735"/>
                      </a:cubicBezTo>
                      <a:cubicBezTo>
                        <a:pt x="992" y="730"/>
                        <a:pt x="1005" y="729"/>
                        <a:pt x="1015" y="723"/>
                      </a:cubicBezTo>
                      <a:cubicBezTo>
                        <a:pt x="1039" y="709"/>
                        <a:pt x="1085" y="677"/>
                        <a:pt x="1085" y="677"/>
                      </a:cubicBezTo>
                      <a:cubicBezTo>
                        <a:pt x="1118" y="627"/>
                        <a:pt x="1155" y="588"/>
                        <a:pt x="1189" y="539"/>
                      </a:cubicBezTo>
                      <a:cubicBezTo>
                        <a:pt x="1193" y="527"/>
                        <a:pt x="1195" y="515"/>
                        <a:pt x="1200" y="504"/>
                      </a:cubicBezTo>
                      <a:cubicBezTo>
                        <a:pt x="1206" y="491"/>
                        <a:pt x="1218" y="482"/>
                        <a:pt x="1223" y="469"/>
                      </a:cubicBezTo>
                      <a:cubicBezTo>
                        <a:pt x="1230" y="451"/>
                        <a:pt x="1230" y="431"/>
                        <a:pt x="1235" y="412"/>
                      </a:cubicBezTo>
                      <a:cubicBezTo>
                        <a:pt x="1242" y="388"/>
                        <a:pt x="1250" y="365"/>
                        <a:pt x="1258" y="342"/>
                      </a:cubicBezTo>
                      <a:cubicBezTo>
                        <a:pt x="1262" y="331"/>
                        <a:pt x="1269" y="308"/>
                        <a:pt x="1269" y="308"/>
                      </a:cubicBezTo>
                      <a:cubicBezTo>
                        <a:pt x="1270" y="298"/>
                        <a:pt x="1287" y="144"/>
                        <a:pt x="1292" y="123"/>
                      </a:cubicBezTo>
                      <a:cubicBezTo>
                        <a:pt x="1320" y="0"/>
                        <a:pt x="1315" y="103"/>
                        <a:pt x="1315" y="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6662520" y="4032360"/>
                <a:ext cx="129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(x)= tg 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5715000" y="13716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Dowod 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952-3404-4AC8-9940-F1B7373CD8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Zbiory   przeliczal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600200"/>
            <a:ext cx="6477120" cy="703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żdy zbiór równoliczny ze zbiorem liczb naturalnych nazywamy przeliczal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2971800"/>
            <a:ext cx="20574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liczb parzyst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038480"/>
            <a:ext cx="205740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liczb nieparzysty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2743200"/>
            <a:ext cx="1447920" cy="914400"/>
          </a:xfrm>
          <a:prstGeom prst="cloudCallout">
            <a:avLst>
              <a:gd name="adj1" fmla="val -128069"/>
              <a:gd name="adj2" fmla="val 4288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(n) = 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657600"/>
            <a:ext cx="1676520" cy="914400"/>
          </a:xfrm>
          <a:prstGeom prst="cloudCallout">
            <a:avLst>
              <a:gd name="adj1" fmla="val -103787"/>
              <a:gd name="adj2" fmla="val 4288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(n) = 2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5257800"/>
            <a:ext cx="213372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liczb całkowit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4952880"/>
            <a:ext cx="3352680" cy="1371600"/>
          </a:xfrm>
          <a:prstGeom prst="cloudCallout">
            <a:avLst>
              <a:gd name="adj1" fmla="val -105967"/>
              <a:gd name="adj2" fmla="val -324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(x) = 2x+1, gdy x 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f(x) = - 2x ,  gdy  x 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274320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ory  skończone lub przeliczalne nazywa się co najwyżej przeliczal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47F-4052-42F4-A770-907D6C7D50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łasnośc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1523880"/>
            <a:ext cx="556236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liczb wymiernych jest 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209680"/>
            <a:ext cx="563868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zbiór zbioru co najwyżej przeliczalnego jest co najwyżej 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3048120"/>
            <a:ext cx="563868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cięcie zbiorów co najwyżej przeliczalny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zbiorem co najwyżej przeliczaln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3962520"/>
            <a:ext cx="57150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a zbiorów co najwyżej przeliczalnych jest zbiorem co najwyżej przeliczal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876920"/>
            <a:ext cx="48006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kt zbiorów co najwyżej przeliczalnych jest zbiorem co najwyżej przeliczal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6248520" y="1447920"/>
            <a:ext cx="533160" cy="457200"/>
          </a:xfrm>
          <a:custGeom>
            <a:avLst/>
            <a:gdLst>
              <a:gd name="textAreaLeft" fmla="*/ 79920 w 533160"/>
              <a:gd name="textAreaRight" fmla="*/ 453240 w 533160"/>
              <a:gd name="textAreaTop" fmla="*/ 79920 h 457200"/>
              <a:gd name="textAreaBottom" fmla="*/ 3772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1406" y="3780"/>
                </a:lnTo>
                <a:lnTo>
                  <a:pt x="3780" y="378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1406" y="17820"/>
                </a:lnTo>
                <a:lnTo>
                  <a:pt x="21406" y="378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3780" y="17820"/>
                </a:lnTo>
                <a:lnTo>
                  <a:pt x="21406" y="1782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3780" y="3780"/>
                </a:lnTo>
                <a:lnTo>
                  <a:pt x="3780" y="17820"/>
                </a:lnTo>
                <a:close/>
              </a:path>
              <a:path fill="darken" w="25186" h="21600">
                <a:moveTo>
                  <a:pt x="12593" y="5568"/>
                </a:moveTo>
                <a:arcTo wR="5233" hR="5233" stAng="16200000" swAng="-5400000"/>
                <a:arcTo wR="5233" hR="5233" stAng="10800000" swAng="-5400000"/>
                <a:arcTo wR="5233" hR="5233" stAng="5400000" swAng="-5400000"/>
                <a:arcTo wR="5233" hR="5233" stAng="0" swAng="-5400000"/>
                <a:close/>
              </a:path>
              <a:path fill="lighten" w="25186" h="21600">
                <a:moveTo>
                  <a:pt x="12593" y="5847"/>
                </a:moveTo>
                <a:arcTo wR="1339" hR="1339" stAng="16200000" swAng="-5400000"/>
                <a:arcTo wR="1339" hR="1339" stAng="10800000" swAng="-5400000"/>
                <a:arcTo wR="1339" hR="1339" stAng="5400000" swAng="-5400000"/>
                <a:arcTo wR="1339" hR="1339" stAng="0" swAng="-5400000"/>
                <a:close/>
              </a:path>
              <a:path fill="lighten" w="25186" h="21600">
                <a:moveTo>
                  <a:pt x="10669" y="8876"/>
                </a:moveTo>
                <a:lnTo>
                  <a:pt x="13555" y="8876"/>
                </a:lnTo>
                <a:lnTo>
                  <a:pt x="13555" y="14102"/>
                </a:lnTo>
                <a:lnTo>
                  <a:pt x="14517" y="14102"/>
                </a:lnTo>
                <a:lnTo>
                  <a:pt x="14517" y="14791"/>
                </a:lnTo>
                <a:lnTo>
                  <a:pt x="10669" y="14791"/>
                </a:lnTo>
                <a:lnTo>
                  <a:pt x="10669" y="14102"/>
                </a:lnTo>
                <a:lnTo>
                  <a:pt x="11631" y="14102"/>
                </a:lnTo>
                <a:lnTo>
                  <a:pt x="11631" y="9552"/>
                </a:lnTo>
                <a:lnTo>
                  <a:pt x="10669" y="9552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705720" y="2057400"/>
            <a:ext cx="533160" cy="457200"/>
          </a:xfrm>
          <a:custGeom>
            <a:avLst/>
            <a:gdLst>
              <a:gd name="textAreaLeft" fmla="*/ 71280 w 533160"/>
              <a:gd name="textAreaRight" fmla="*/ 461880 w 533160"/>
              <a:gd name="textAreaTop" fmla="*/ 71280 h 457200"/>
              <a:gd name="textAreaBottom" fmla="*/ 38592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1811" y="3375"/>
                </a:lnTo>
                <a:lnTo>
                  <a:pt x="3375" y="3375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1811" y="18225"/>
                </a:lnTo>
                <a:lnTo>
                  <a:pt x="21811" y="3375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21811" y="18225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25186" h="21600">
                <a:moveTo>
                  <a:pt x="12593" y="5266"/>
                </a:moveTo>
                <a:arcTo wR="5534" hR="5534" stAng="16200000" swAng="-5400000"/>
                <a:arcTo wR="5534" hR="5534" stAng="10800000" swAng="-5400000"/>
                <a:arcTo wR="5534" hR="5534" stAng="5400000" swAng="-5400000"/>
                <a:arcTo wR="5534" hR="5534" stAng="0" swAng="-5400000"/>
                <a:close/>
              </a:path>
              <a:path fill="lighten" w="25186" h="21600">
                <a:moveTo>
                  <a:pt x="12593" y="5561"/>
                </a:moveTo>
                <a:arcTo wR="1416" hR="1416" stAng="16200000" swAng="-5400000"/>
                <a:arcTo wR="1416" hR="1416" stAng="10800000" swAng="-5400000"/>
                <a:arcTo wR="1416" hR="1416" stAng="5400000" swAng="-5400000"/>
                <a:arcTo wR="1416" hR="1416" stAng="0" swAng="-5400000"/>
                <a:close/>
              </a:path>
              <a:path fill="lighten" w="25186" h="21600">
                <a:moveTo>
                  <a:pt x="10558" y="8765"/>
                </a:moveTo>
                <a:lnTo>
                  <a:pt x="13610" y="8765"/>
                </a:lnTo>
                <a:lnTo>
                  <a:pt x="13610" y="14293"/>
                </a:lnTo>
                <a:lnTo>
                  <a:pt x="14628" y="14293"/>
                </a:lnTo>
                <a:lnTo>
                  <a:pt x="14628" y="15021"/>
                </a:lnTo>
                <a:lnTo>
                  <a:pt x="10558" y="15021"/>
                </a:lnTo>
                <a:lnTo>
                  <a:pt x="10558" y="14293"/>
                </a:lnTo>
                <a:lnTo>
                  <a:pt x="11575" y="14293"/>
                </a:lnTo>
                <a:lnTo>
                  <a:pt x="11575" y="9480"/>
                </a:lnTo>
                <a:lnTo>
                  <a:pt x="10558" y="948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6400800" y="4267080"/>
            <a:ext cx="533520" cy="457200"/>
          </a:xfrm>
          <a:custGeom>
            <a:avLst/>
            <a:gdLst>
              <a:gd name="textAreaLeft" fmla="*/ 85680 w 533520"/>
              <a:gd name="textAreaRight" fmla="*/ 447840 w 53352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1153" y="4050"/>
                </a:lnTo>
                <a:lnTo>
                  <a:pt x="4050" y="40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1153" y="17550"/>
                </a:lnTo>
                <a:lnTo>
                  <a:pt x="21153" y="40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1153" y="175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5203" h="21600">
                <a:moveTo>
                  <a:pt x="12601" y="5769"/>
                </a:moveTo>
                <a:arcTo wR="5031" hR="5031" stAng="16200000" swAng="-5400000"/>
                <a:arcTo wR="5031" hR="5031" stAng="10800000" swAng="-5400000"/>
                <a:arcTo wR="5031" hR="5031" stAng="5400000" swAng="-5400000"/>
                <a:arcTo wR="5031" hR="5031" stAng="0" swAng="-5400000"/>
                <a:close/>
              </a:path>
              <a:path fill="lighten" w="25203" h="21600">
                <a:moveTo>
                  <a:pt x="12601" y="6038"/>
                </a:moveTo>
                <a:arcTo wR="1288" hR="1288" stAng="16200000" swAng="-5400000"/>
                <a:arcTo wR="1288" hR="1288" stAng="10800000" swAng="-5400000"/>
                <a:arcTo wR="1288" hR="1288" stAng="5400000" swAng="-5400000"/>
                <a:arcTo wR="1288" hR="1288" stAng="0" swAng="-5400000"/>
                <a:close/>
              </a:path>
              <a:path fill="lighten" w="25203" h="21600">
                <a:moveTo>
                  <a:pt x="10751" y="8950"/>
                </a:moveTo>
                <a:lnTo>
                  <a:pt x="13526" y="8950"/>
                </a:lnTo>
                <a:lnTo>
                  <a:pt x="13526" y="13975"/>
                </a:lnTo>
                <a:lnTo>
                  <a:pt x="14451" y="13975"/>
                </a:lnTo>
                <a:lnTo>
                  <a:pt x="14451" y="14638"/>
                </a:lnTo>
                <a:lnTo>
                  <a:pt x="10751" y="14638"/>
                </a:lnTo>
                <a:lnTo>
                  <a:pt x="10751" y="13975"/>
                </a:lnTo>
                <a:lnTo>
                  <a:pt x="11676" y="13975"/>
                </a:lnTo>
                <a:lnTo>
                  <a:pt x="11676" y="9600"/>
                </a:lnTo>
                <a:lnTo>
                  <a:pt x="10751" y="9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590920"/>
            <a:ext cx="2895480" cy="1676160"/>
          </a:xfrm>
          <a:prstGeom prst="cloudCallout">
            <a:avLst>
              <a:gd name="adj1" fmla="val -44574"/>
              <a:gd name="adj2" fmla="val 428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Wniosek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zbiór słów nad alfabetem skończonym jest zbiorem przeliczalny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7391520" y="5334120"/>
            <a:ext cx="1066680" cy="53316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37800" y="5400"/>
                </a:lnTo>
                <a:lnTo>
                  <a:pt x="5400" y="5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37800" y="16200"/>
                </a:lnTo>
                <a:lnTo>
                  <a:pt x="37800" y="5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800" y="16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200" h="21600">
                <a:moveTo>
                  <a:pt x="17575" y="6775"/>
                </a:moveTo>
                <a:lnTo>
                  <a:pt x="25625" y="10800"/>
                </a:lnTo>
                <a:lnTo>
                  <a:pt x="17575" y="14825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AD2-DC54-4FC3-8F45-40D12BD3F6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Zbiór  liczb  wymiernych  jest  przeliczalny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7524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43000" y="1523880"/>
          <a:ext cx="7696080" cy="448020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685800"/>
                <a:gridCol w="685800"/>
                <a:gridCol w="761760"/>
                <a:gridCol w="685800"/>
                <a:gridCol w="762120"/>
                <a:gridCol w="685800"/>
                <a:gridCol w="685800"/>
                <a:gridCol w="609480"/>
                <a:gridCol w="6858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3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3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5029200" y="16765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676520"/>
            <a:ext cx="304920" cy="609480"/>
          </a:xfrm>
          <a:custGeom>
            <a:avLst/>
            <a:gdLst>
              <a:gd name="textAreaLeft" fmla="*/ 40680 w 304920"/>
              <a:gd name="textAreaRight" fmla="*/ 264240 w 3049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362320"/>
            <a:ext cx="838080" cy="75960"/>
          </a:xfrm>
          <a:prstGeom prst="leftArrow">
            <a:avLst>
              <a:gd name="adj1" fmla="val 50000"/>
              <a:gd name="adj2" fmla="val 275829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1828800"/>
            <a:ext cx="75960" cy="304920"/>
          </a:xfrm>
          <a:prstGeom prst="upArrow">
            <a:avLst>
              <a:gd name="adj1" fmla="val 50000"/>
              <a:gd name="adj2" fmla="val 10035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16765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82880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259092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32004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590920"/>
            <a:ext cx="76320" cy="380880"/>
          </a:xfrm>
          <a:prstGeom prst="upArrow">
            <a:avLst>
              <a:gd name="adj1" fmla="val 50000"/>
              <a:gd name="adj2" fmla="val 12476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1828800"/>
            <a:ext cx="76320" cy="380880"/>
          </a:xfrm>
          <a:prstGeom prst="upArrow">
            <a:avLst>
              <a:gd name="adj1" fmla="val 50000"/>
              <a:gd name="adj2" fmla="val 12476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1676520"/>
            <a:ext cx="381240" cy="75960"/>
          </a:xfrm>
          <a:prstGeom prst="rightArrow">
            <a:avLst>
              <a:gd name="adj1" fmla="val 50000"/>
              <a:gd name="adj2" fmla="val 125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167652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5909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335268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8862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3962520"/>
            <a:ext cx="761760" cy="75960"/>
          </a:xfrm>
          <a:prstGeom prst="leftArrow">
            <a:avLst>
              <a:gd name="adj1" fmla="val 50000"/>
              <a:gd name="adj2" fmla="val 25071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3886200"/>
            <a:ext cx="304920" cy="76320"/>
          </a:xfrm>
          <a:prstGeom prst="leftArrow">
            <a:avLst>
              <a:gd name="adj1" fmla="val 50000"/>
              <a:gd name="adj2" fmla="val 9988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476400" y="4114800"/>
            <a:ext cx="685800" cy="152280"/>
          </a:xfrm>
          <a:custGeom>
            <a:avLst/>
            <a:gdLst>
              <a:gd name="textAreaLeft" fmla="*/ 119520 w 685800"/>
              <a:gd name="textAreaRight" fmla="*/ 49680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894760" y="4114800"/>
            <a:ext cx="685800" cy="152280"/>
          </a:xfrm>
          <a:custGeom>
            <a:avLst/>
            <a:gdLst>
              <a:gd name="textAreaLeft" fmla="*/ 119520 w 685800"/>
              <a:gd name="textAreaRight" fmla="*/ 49680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182880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327672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5146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1828800"/>
            <a:ext cx="75960" cy="380880"/>
          </a:xfrm>
          <a:prstGeom prst="upArrow">
            <a:avLst>
              <a:gd name="adj1" fmla="val 50000"/>
              <a:gd name="adj2" fmla="val 12535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16765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733920" y="3352680"/>
            <a:ext cx="533160" cy="152640"/>
          </a:xfrm>
          <a:custGeom>
            <a:avLst/>
            <a:gdLst>
              <a:gd name="textAreaLeft" fmla="*/ 93240 w 533160"/>
              <a:gd name="textAreaRight" fmla="*/ 386640 w 53316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91320" y="3352680"/>
            <a:ext cx="533160" cy="152640"/>
          </a:xfrm>
          <a:custGeom>
            <a:avLst/>
            <a:gdLst>
              <a:gd name="textAreaLeft" fmla="*/ 93240 w 533160"/>
              <a:gd name="textAreaRight" fmla="*/ 386640 w 53316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8153280" y="5638680"/>
            <a:ext cx="533520" cy="457200"/>
          </a:xfrm>
          <a:custGeom>
            <a:avLst/>
            <a:gdLst>
              <a:gd name="textAreaLeft" fmla="*/ 85680 w 533520"/>
              <a:gd name="textAreaRight" fmla="*/ 447840 w 53352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1153" y="4050"/>
                </a:lnTo>
                <a:lnTo>
                  <a:pt x="4050" y="40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1153" y="17550"/>
                </a:lnTo>
                <a:lnTo>
                  <a:pt x="21153" y="40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21153" y="175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25203" h="21600">
                <a:moveTo>
                  <a:pt x="7570" y="8425"/>
                </a:moveTo>
                <a:lnTo>
                  <a:pt x="10089" y="8425"/>
                </a:lnTo>
                <a:lnTo>
                  <a:pt x="10089" y="12256"/>
                </a:lnTo>
                <a:cubicBezTo>
                  <a:pt x="10089" y="12919"/>
                  <a:pt x="10664" y="13444"/>
                  <a:pt x="11408" y="13444"/>
                </a:cubicBezTo>
                <a:lnTo>
                  <a:pt x="12601" y="13444"/>
                </a:lnTo>
                <a:cubicBezTo>
                  <a:pt x="13345" y="13444"/>
                  <a:pt x="13920" y="12919"/>
                  <a:pt x="13920" y="12256"/>
                </a:cubicBezTo>
                <a:lnTo>
                  <a:pt x="13920" y="8425"/>
                </a:lnTo>
                <a:lnTo>
                  <a:pt x="12601" y="8425"/>
                </a:lnTo>
                <a:lnTo>
                  <a:pt x="15120" y="5906"/>
                </a:lnTo>
                <a:lnTo>
                  <a:pt x="17758" y="8425"/>
                </a:lnTo>
                <a:lnTo>
                  <a:pt x="16439" y="8425"/>
                </a:lnTo>
                <a:lnTo>
                  <a:pt x="16439" y="12256"/>
                </a:lnTo>
                <a:cubicBezTo>
                  <a:pt x="16439" y="14244"/>
                  <a:pt x="14589" y="16081"/>
                  <a:pt x="12601" y="16081"/>
                </a:cubicBezTo>
                <a:lnTo>
                  <a:pt x="11408" y="16081"/>
                </a:lnTo>
                <a:cubicBezTo>
                  <a:pt x="9420" y="16081"/>
                  <a:pt x="7570" y="14244"/>
                  <a:pt x="7570" y="12256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659-2FF9-4DC6-B1E0-C43E080887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Podzbiór  zbioru  przeliczalnego jest  przeliczalny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8229600" y="5562720"/>
            <a:ext cx="533520" cy="457200"/>
          </a:xfrm>
          <a:custGeom>
            <a:avLst/>
            <a:gdLst>
              <a:gd name="textAreaLeft" fmla="*/ 114120 w 533520"/>
              <a:gd name="textAreaRight" fmla="*/ 41940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19803" y="5400"/>
                </a:lnTo>
                <a:lnTo>
                  <a:pt x="5400" y="5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19803" y="16200"/>
                </a:lnTo>
                <a:lnTo>
                  <a:pt x="19803" y="5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9803" y="16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5203" h="21600">
                <a:moveTo>
                  <a:pt x="8576" y="8900"/>
                </a:moveTo>
                <a:lnTo>
                  <a:pt x="10591" y="8900"/>
                </a:lnTo>
                <a:lnTo>
                  <a:pt x="10591" y="11965"/>
                </a:lnTo>
                <a:cubicBezTo>
                  <a:pt x="10591" y="12495"/>
                  <a:pt x="11051" y="12915"/>
                  <a:pt x="11646" y="12915"/>
                </a:cubicBezTo>
                <a:lnTo>
                  <a:pt x="12601" y="12915"/>
                </a:lnTo>
                <a:cubicBezTo>
                  <a:pt x="13196" y="12915"/>
                  <a:pt x="13656" y="12495"/>
                  <a:pt x="13656" y="11965"/>
                </a:cubicBezTo>
                <a:lnTo>
                  <a:pt x="13656" y="8900"/>
                </a:lnTo>
                <a:lnTo>
                  <a:pt x="12601" y="8900"/>
                </a:lnTo>
                <a:lnTo>
                  <a:pt x="14616" y="6885"/>
                </a:lnTo>
                <a:lnTo>
                  <a:pt x="16726" y="8900"/>
                </a:lnTo>
                <a:lnTo>
                  <a:pt x="15671" y="8900"/>
                </a:lnTo>
                <a:lnTo>
                  <a:pt x="15671" y="11965"/>
                </a:lnTo>
                <a:cubicBezTo>
                  <a:pt x="15671" y="13555"/>
                  <a:pt x="14191" y="15025"/>
                  <a:pt x="12601" y="15025"/>
                </a:cubicBezTo>
                <a:lnTo>
                  <a:pt x="11646" y="15025"/>
                </a:lnTo>
                <a:cubicBezTo>
                  <a:pt x="10056" y="15025"/>
                  <a:pt x="8576" y="13555"/>
                  <a:pt x="8576" y="11965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828800" y="1752480"/>
          <a:ext cx="6095880" cy="1166760"/>
        </p:xfrm>
        <a:graphic>
          <a:graphicData uri="http://schemas.openxmlformats.org/drawingml/2006/table">
            <a:tbl>
              <a:tblPr/>
              <a:tblGrid>
                <a:gridCol w="677880"/>
                <a:gridCol w="693720"/>
                <a:gridCol w="660240"/>
                <a:gridCol w="677880"/>
                <a:gridCol w="642960"/>
                <a:gridCol w="711360"/>
                <a:gridCol w="677880"/>
                <a:gridCol w="676080"/>
                <a:gridCol w="677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 rot="18146400">
            <a:off x="3161880" y="1866600"/>
            <a:ext cx="76320" cy="914400"/>
          </a:xfrm>
          <a:prstGeom prst="downArrow">
            <a:avLst>
              <a:gd name="adj1" fmla="val 50000"/>
              <a:gd name="adj2" fmla="val 29952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1552600">
            <a:off x="2133000" y="20574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rot="18303600">
            <a:off x="4548960" y="1969920"/>
            <a:ext cx="76680" cy="685800"/>
          </a:xfrm>
          <a:prstGeom prst="downArrow">
            <a:avLst>
              <a:gd name="adj1" fmla="val 50000"/>
              <a:gd name="adj2" fmla="val 22359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124080"/>
            <a:ext cx="6781680" cy="268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będzie zbiorem przeliczalnym, f - bijekcją taką, że f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oraz  niech  A będzie nieskończonym podzbiorem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efiniujemy funkcję g 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A tak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(0) = 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min{i : f(i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(1) = 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min{i : f(i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- {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(2) = 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)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min{i : f(i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- {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f(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7216400">
            <a:off x="5907240" y="1474200"/>
            <a:ext cx="75960" cy="1828800"/>
          </a:xfrm>
          <a:prstGeom prst="downArrow">
            <a:avLst>
              <a:gd name="adj1" fmla="val 50000"/>
              <a:gd name="adj2" fmla="val 60189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8146400">
            <a:off x="3847680" y="1790280"/>
            <a:ext cx="76320" cy="914400"/>
          </a:xfrm>
          <a:prstGeom prst="downArrow">
            <a:avLst>
              <a:gd name="adj1" fmla="val 50000"/>
              <a:gd name="adj2" fmla="val 29952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3886200"/>
            <a:ext cx="2133720" cy="1371600"/>
          </a:xfrm>
          <a:prstGeom prst="cloudCallout">
            <a:avLst>
              <a:gd name="adj1" fmla="val -93078"/>
              <a:gd name="adj2" fmla="val -1342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g jest funkcją różnowartoś-ciową i n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18B-1482-42C0-9001-101363BBED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Suma  zbiorów  przeliczalnych  jest  przeliczalna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523880"/>
            <a:ext cx="739116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 rodzina zbiorów co najwyżej przelicza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oro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jest co najwyżej przeliczalny, to możemy przedstawić ten zbiór w postaci ciągu nieskończonego {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 ...} ewentualnie powtarzając nieskończenie wiele razy element ostatni, gdy zbiór był skończon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971800" y="3124080"/>
          <a:ext cx="5638680" cy="3124440"/>
        </p:xfrm>
        <a:graphic>
          <a:graphicData uri="http://schemas.openxmlformats.org/drawingml/2006/table">
            <a:tbl>
              <a:tblPr/>
              <a:tblGrid>
                <a:gridCol w="1127160"/>
                <a:gridCol w="1128600"/>
                <a:gridCol w="1127160"/>
                <a:gridCol w="1128600"/>
                <a:gridCol w="11271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e4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a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. 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7e4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666880" y="3352680"/>
            <a:ext cx="381240" cy="60984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457200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3556800">
            <a:off x="3715560" y="329436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3556800">
            <a:off x="3791880" y="451368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3556800">
            <a:off x="4934880" y="382788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3556800">
            <a:off x="6001560" y="321840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3556800">
            <a:off x="6077880" y="451368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8320" y="2971800"/>
            <a:ext cx="761760" cy="228600"/>
          </a:xfrm>
          <a:custGeom>
            <a:avLst/>
            <a:gdLst>
              <a:gd name="textAreaLeft" fmla="*/ 133200 w 761760"/>
              <a:gd name="textAreaRight" fmla="*/ 55224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304812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rot="14196000">
            <a:off x="5027400" y="327708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rot="14478000">
            <a:off x="3791160" y="382824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4478000">
            <a:off x="7143840" y="321876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rot="14478000">
            <a:off x="6000840" y="382824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rot="14478000">
            <a:off x="4857840" y="451404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14478000">
            <a:off x="3791160" y="5123520"/>
            <a:ext cx="139680" cy="712800"/>
          </a:xfrm>
          <a:prstGeom prst="upArrow">
            <a:avLst>
              <a:gd name="adj1" fmla="val 50000"/>
              <a:gd name="adj2" fmla="val 12757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3794" y="11095"/>
                </a:moveTo>
                <a:lnTo>
                  <a:pt x="7301" y="11095"/>
                </a:lnTo>
                <a:lnTo>
                  <a:pt x="7301" y="16431"/>
                </a:lnTo>
                <a:cubicBezTo>
                  <a:pt x="7301" y="17353"/>
                  <a:pt x="8102" y="18084"/>
                  <a:pt x="9138" y="18084"/>
                </a:cubicBezTo>
                <a:lnTo>
                  <a:pt x="10800" y="18084"/>
                </a:lnTo>
                <a:cubicBezTo>
                  <a:pt x="11836" y="18084"/>
                  <a:pt x="12636" y="17353"/>
                  <a:pt x="12636" y="16431"/>
                </a:cubicBezTo>
                <a:lnTo>
                  <a:pt x="12636" y="11095"/>
                </a:lnTo>
                <a:lnTo>
                  <a:pt x="10800" y="11095"/>
                </a:lnTo>
                <a:lnTo>
                  <a:pt x="14308" y="7588"/>
                </a:lnTo>
                <a:lnTo>
                  <a:pt x="17981" y="11095"/>
                </a:lnTo>
                <a:lnTo>
                  <a:pt x="16144" y="11095"/>
                </a:lnTo>
                <a:lnTo>
                  <a:pt x="16144" y="16431"/>
                </a:lnTo>
                <a:cubicBezTo>
                  <a:pt x="16144" y="19199"/>
                  <a:pt x="13568" y="21757"/>
                  <a:pt x="10800" y="21757"/>
                </a:cubicBezTo>
                <a:lnTo>
                  <a:pt x="9138" y="21757"/>
                </a:lnTo>
                <a:cubicBezTo>
                  <a:pt x="6370" y="21757"/>
                  <a:pt x="3794" y="19199"/>
                  <a:pt x="3794" y="16431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238-4C67-4211-9DAF-FC3B8C54B1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Zbiory   nieprzeliczal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1600200"/>
            <a:ext cx="5334120" cy="76464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ory, które nie są co najwyżej przeliczalne nazywają się nieprzeliczalny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819520"/>
            <a:ext cx="46479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 liczb rzeczywistych z przedziału (0,1) jest nie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5029200"/>
            <a:ext cx="563868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żdy nadzbiór zbioru nieprzeliczalnego jest nie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3657600"/>
            <a:ext cx="37339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liczb rzeczywistych jest nie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3809880"/>
            <a:ext cx="33526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wszystkich funkcji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f :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0,1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nieprzelicza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Moce  zbiorów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6DF-7643-4671-A7C3-43644D1061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  listopada 2001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52:47Z</dcterms:modified>
  <cp:revision>101</cp:revision>
  <dc:subject/>
  <dc:title>Wykład 4</dc:title>
</cp:coreProperties>
</file>