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FD5-A54F-4D54-A6AB-08565A96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0ED-A313-46D9-8D15-826D6C5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5D8-27C7-4239-81B9-AD92D433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B01-2751-4A89-9185-FA5E8F4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5FF-2C42-428B-B06D-83E61A40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2B48-B394-4454-AD37-2267BA0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8FDF-C7AD-47E0-8157-25AFB870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F64-3F5C-4B7F-BEE6-7CC83269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34F7-E2FE-43AE-9857-51A400D3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2F85-AD99-407C-A16F-8957FAD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C506-5DBF-40E1-94ED-0085A4C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DEF-A0FF-416C-81CB-1F2A839A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09C8-8438-4F79-9156-3E46E05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5688-FCA3-4BC2-A9ED-C74DDDFD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31F3-9CB3-41A8-9239-00BE7EF6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BD7-898E-4E46-B013-CF4EAFF9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44792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08880"/>
            <a:ext cx="250236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61D-3FEB-492F-8683-5F03D444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357-89F0-403D-9F28-10081BC7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12B-7B2B-4BE8-9237-67A46B95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F1E-B92F-4D6B-88AB-156C3DA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904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9EF-C503-431A-B2FF-29D086B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0BC-28BF-4146-BB97-699ED94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390888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B4C-F028-46DC-82BA-404AE220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6072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1447920"/>
            <a:ext cx="37926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3908880"/>
            <a:ext cx="777240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C09-9EB5-47CB-A923-2B5F4D3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4479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59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248520"/>
            <a:ext cx="76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7B61-6751-43C5-8FF9-BF04BBF966F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14300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66680" y="1143000"/>
            <a:ext cx="295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0" y="11430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92040" y="114300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924320" y="617220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404-14CF-45BB-ACF2-43DA424BD09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ykład 10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Impact"/>
              </a:rPr>
              <a:t>Systemy algebraiczne 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D06-C103-4B44-9CD1-0205DBA978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600200"/>
            <a:ext cx="746784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kcja   h(X) =1, gdy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 i  h(X)=0, gdy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,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    jest homomorfizmem algebry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-  &gt;   w algebrę &lt; {0,1}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2971800"/>
            <a:ext cx="7543800" cy="307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dwa systemy  </a:t>
            </a:r>
            <a:br>
              <a:rPr sz="20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os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, push, pop, top, empt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  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, pu,pp,t,0&gt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ush(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c)= 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)                     pu(n,c)= (n+1)*10+ c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 o ile n&gt;1            pp(n) = n div 10 - 1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p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(n) = n mod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unkcja h określona następująco ustala homomorfizm między  tymi systema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(empty)= 0   h(c) = c      h(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= pu(pu(....pu(pu(0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...)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48520" y="2286000"/>
            <a:ext cx="256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laczeg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8381880" y="14479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9286"/>
                </a:moveTo>
                <a:lnTo>
                  <a:pt x="7301" y="9286"/>
                </a:lnTo>
                <a:lnTo>
                  <a:pt x="7301" y="14621"/>
                </a:lnTo>
                <a:cubicBezTo>
                  <a:pt x="7301" y="15543"/>
                  <a:pt x="8102" y="16275"/>
                  <a:pt x="9138" y="16275"/>
                </a:cubicBezTo>
                <a:lnTo>
                  <a:pt x="10800" y="16275"/>
                </a:lnTo>
                <a:cubicBezTo>
                  <a:pt x="11836" y="16275"/>
                  <a:pt x="12636" y="15543"/>
                  <a:pt x="12636" y="14621"/>
                </a:cubicBezTo>
                <a:lnTo>
                  <a:pt x="12636" y="9286"/>
                </a:lnTo>
                <a:lnTo>
                  <a:pt x="10800" y="9286"/>
                </a:lnTo>
                <a:lnTo>
                  <a:pt x="14308" y="5778"/>
                </a:lnTo>
                <a:lnTo>
                  <a:pt x="17981" y="9286"/>
                </a:lnTo>
                <a:lnTo>
                  <a:pt x="16144" y="9286"/>
                </a:lnTo>
                <a:lnTo>
                  <a:pt x="16144" y="14621"/>
                </a:lnTo>
                <a:cubicBezTo>
                  <a:pt x="16144" y="17389"/>
                  <a:pt x="13568" y="19948"/>
                  <a:pt x="10800" y="19948"/>
                </a:cubicBezTo>
                <a:lnTo>
                  <a:pt x="9138" y="19948"/>
                </a:lnTo>
                <a:cubicBezTo>
                  <a:pt x="6370" y="19948"/>
                  <a:pt x="3794" y="17389"/>
                  <a:pt x="3794" y="14621"/>
                </a:cubicBez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125-A170-4E22-B6FA-9DBA0CA2DC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zomorfiz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447920"/>
            <a:ext cx="7086600" cy="100872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h jest homomorfizmem odwzorowującym system A  w system podobny B oraz h jest bijekcją,  to h nazywamy izomorfizm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3880" y="3048120"/>
            <a:ext cx="2362320" cy="2590560"/>
            <a:chOff x="1523880" y="3048120"/>
            <a:chExt cx="2362320" cy="2590560"/>
          </a:xfrm>
        </p:grpSpPr>
        <p:sp>
          <p:nvSpPr>
            <p:cNvPr id="233" name=""/>
            <p:cNvSpPr/>
            <p:nvPr/>
          </p:nvSpPr>
          <p:spPr>
            <a:xfrm>
              <a:off x="1523880" y="3048120"/>
              <a:ext cx="2362320" cy="259056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9680" y="3352680"/>
              <a:ext cx="304920" cy="30492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05320" y="3505320"/>
              <a:ext cx="304560" cy="30456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4800600"/>
              <a:ext cx="304560" cy="30492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95480" y="4724280"/>
              <a:ext cx="304920" cy="30492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95480" y="3733920"/>
              <a:ext cx="304920" cy="30456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057040" y="3657600"/>
              <a:ext cx="2286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124080" y="380988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2514600" y="358092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047760" y="35053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048120"/>
            <a:ext cx="2361960" cy="2590560"/>
            <a:chOff x="5791320" y="3048120"/>
            <a:chExt cx="2361960" cy="2590560"/>
          </a:xfrm>
        </p:grpSpPr>
        <p:sp>
          <p:nvSpPr>
            <p:cNvPr id="244" name=""/>
            <p:cNvSpPr/>
            <p:nvPr/>
          </p:nvSpPr>
          <p:spPr>
            <a:xfrm>
              <a:off x="5791320" y="3048120"/>
              <a:ext cx="2361960" cy="2590560"/>
            </a:xfrm>
            <a:prstGeom prst="rect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3600" y="3962520"/>
              <a:ext cx="304920" cy="30456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0120" y="3962520"/>
              <a:ext cx="304560" cy="30456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876920"/>
              <a:ext cx="304560" cy="30456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3200400"/>
              <a:ext cx="304920" cy="30492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0120" y="4800600"/>
              <a:ext cx="304560" cy="30492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2200" y="4267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86600" y="35053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71840" y="3429000"/>
              <a:ext cx="6094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9608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191120" y="3505320"/>
            <a:ext cx="1218960" cy="1618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 dwa grafy są izomorfi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62520" y="2666880"/>
            <a:ext cx="1571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zykła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57B-E72F-49B0-84FC-2D2ECC0C07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ak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057400"/>
            <a:ext cx="7467840" cy="300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łożenie dwóch homomorfizmów jest homomorfizm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łożenie dwóch izomorfizmów jest izomorfizm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śli h jest homomorfizmem przkształcającym algebrę A w algebrę B to obraz h(A) jest podalgebrą B 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śli h jest izomorfizmem, to card(A)=card(B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homomorfizmie zbiór generatorów przechodzi na zbiór generator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00C-F6C1-41F9-92A1-B228417D76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wierdzenie o izomorfizmi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1523880"/>
            <a:ext cx="6705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 h jest izomorfizmem odwzorowującym system algebraiczny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 system algebraiczny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sygnatur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o dla dowolnej formuły rachunku predykatów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 której występują tylko operacje i relacje odpowiadające  operacjom  z rozważanej sygn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|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tedy i tylko wtedy gdy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|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95280" y="4537080"/>
            <a:ext cx="655344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Systemy izomorficzn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ją takie same własności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217-88E5-47F9-A849-ECB9B73325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Kongruencj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447920"/>
            <a:ext cx="75438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będzie  system algebraicz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&lt;A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1981080"/>
            <a:ext cx="6400800" cy="252504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Relację równoważności  ~ w A nazywamy kongruencją wtedy i tylko wtedy  gdy  dla dowolnych o, r i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, 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jeżeli 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~ 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~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~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•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 ~ o(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...,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•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 wttw  r(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...,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4724280"/>
            <a:ext cx="7772400" cy="13554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Relacja ~  określona w systemie algebraicznym &lt;N,+&gt; jako  n ~n’  wttw n mod p = n’ mod p  jest kongruencją, bo  gdy 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~a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az b~b’ , to  a=k</a:t>
            </a:r>
            <a:r>
              <a:rPr b="0" lang="pl-PL" sz="2000" spc="-1" strike="noStrike" baseline="-8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+c   i   a’=k’ </a:t>
            </a:r>
            <a:r>
              <a:rPr b="0" lang="pl-PL" sz="2000" spc="-1" strike="noStrike" baseline="-8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+c oraz b= l </a:t>
            </a:r>
            <a:r>
              <a:rPr b="0" lang="pl-PL" sz="2000" spc="-1" strike="noStrike" baseline="-8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+d    i    b’= l’ </a:t>
            </a:r>
            <a:r>
              <a:rPr b="0" lang="pl-PL" sz="2000" spc="-1" strike="noStrike" baseline="-8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+d. Stąd (a+b)mod p = (a’+b’) mod p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53A-129B-4C6E-8911-982F7A06AB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 ilorazow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1447920"/>
            <a:ext cx="7543800" cy="323100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ch będzie  system algebraiczny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&lt;A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i niech  będzie ~ kongruencją  w A.  Wtedy 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/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~ = &lt;A/~, o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o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r *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 z operacjami i relacj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*([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 ...,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) =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[ o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,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*([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, ...,[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) wttw  r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,...,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zywamy systemem ilorazow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4800600"/>
            <a:ext cx="7086600" cy="886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Lema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System ilorazow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/~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jest podobny d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 odwzorowanie  h(a)=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[a]  ustala homomorfiz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/~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6C6-E6AA-4912-96DC-CFE40845D5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14479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ważmy algebrę podzbiorów zbioru N, &lt; 2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-  &gt;  i kongruencję  X ~ Y wttw  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 lub 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\(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2209680"/>
            <a:ext cx="7467480" cy="379080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ór klas abstrakcji relacji   ~  ma dwie klasy abstrakcji [N] i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  . Operacje na tych klasach są określone następują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N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 = [N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N ]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N ] = [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N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N ] =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[N]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* [N ] =[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*[N] = 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          -*[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] =[N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Łatwo zauważyć, że jest to algebra izomorficzna z algebrą Boole’a &lt; {0,1}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295-95CD-4047-AD85-F5C241E89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truktury   danyc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62720" y="304920"/>
            <a:ext cx="2819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  to  jest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1828800"/>
            <a:ext cx="39625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ieś zależności między  dany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209680"/>
            <a:ext cx="39625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kieś metody modyfikowania tych danych (Czy zupełnie dowoln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447920"/>
            <a:ext cx="39625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pusty zbiór obiektów (danyc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733920"/>
            <a:ext cx="2819520" cy="228852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y:=1; s,k:= 1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while  k&lt;n  do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y := op1(y,2)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s := op2(s,y);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k := op3(k,1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o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3733920"/>
            <a:ext cx="3886200" cy="45972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)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) (r(f(x)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(x,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572000"/>
            <a:ext cx="3352680" cy="1600200"/>
          </a:xfrm>
          <a:prstGeom prst="cloudCallout">
            <a:avLst>
              <a:gd name="adj1" fmla="val 43939"/>
              <a:gd name="adj2" fmla="val -69347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wdziwość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j formuły zależy od teg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jakiej strukturz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ą analizuje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1371600"/>
            <a:ext cx="3352680" cy="1600200"/>
          </a:xfrm>
          <a:prstGeom prst="cloudCallout">
            <a:avLst>
              <a:gd name="adj1" fmla="val 22208"/>
              <a:gd name="adj2" fmla="val 10228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chowani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tego progamu zależy od t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jakiej strukturz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o wykonuje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47920" y="2971800"/>
            <a:ext cx="4857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biór  + operacje + relacj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D80-E508-464D-A0BC-CC00B3398F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Operacj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600200"/>
            <a:ext cx="7162920" cy="7038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peracją n-argumentową w A nazywamy  dowolną funkcję o przekształcającą  A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81480" y="2438280"/>
            <a:ext cx="3353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peracja  częściowa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24382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operacja całkowita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3048120"/>
            <a:ext cx="3657600" cy="13971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dla wszystkich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, f(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to o jest operacją całkowitą. Jeśli nie, to jest to operacja częściow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4952880"/>
            <a:ext cx="3581280" cy="10087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zywiście zbiór A nie musi być jednorodny (wszystkie elementy tego samego typ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495680"/>
            <a:ext cx="4038480" cy="177732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y operacji 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lenie w R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elenie w N, lg w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(s)=s’ wttw s’ jest starostą grupy, do której należy student 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276720"/>
            <a:ext cx="2743200" cy="1295280"/>
          </a:xfrm>
          <a:prstGeom prst="cloudCallout">
            <a:avLst>
              <a:gd name="adj1" fmla="val 33333"/>
              <a:gd name="adj2" fmla="val 76226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biór elementów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typu it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14A-50A2-4A75-8394-2CBA49030A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  algebraicz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600200"/>
            <a:ext cx="6476760" cy="7455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Systemem algebraicznym nazywamy  układ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&lt;  A,      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      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581280"/>
            <a:ext cx="2057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ygnatur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352680"/>
            <a:ext cx="3733560" cy="8571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 t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t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 t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y  operacji  i 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191120"/>
            <a:ext cx="75438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zbiorze A’ mówimy, że jest zamknięty ze względu na operacje w A, jeśli dla dowolnych argumentów wziętych z A’ wynik każdej z operacji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..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leży do A’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361960"/>
            <a:ext cx="2114640" cy="685800"/>
            <a:chOff x="1143000" y="2361960"/>
            <a:chExt cx="2114640" cy="685800"/>
          </a:xfrm>
        </p:grpSpPr>
        <p:sp>
          <p:nvSpPr>
            <p:cNvPr id="157" name=""/>
            <p:cNvSpPr/>
            <p:nvPr/>
          </p:nvSpPr>
          <p:spPr>
            <a:xfrm flipV="1">
              <a:off x="2057400" y="2361960"/>
              <a:ext cx="60948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143000" y="2558160"/>
              <a:ext cx="2114640" cy="48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Uniwersum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81280" y="2438280"/>
            <a:ext cx="2381400" cy="685440"/>
            <a:chOff x="3581280" y="2438280"/>
            <a:chExt cx="2381400" cy="685440"/>
          </a:xfrm>
        </p:grpSpPr>
        <p:sp>
          <p:nvSpPr>
            <p:cNvPr id="160" name=""/>
            <p:cNvSpPr/>
            <p:nvPr/>
          </p:nvSpPr>
          <p:spPr>
            <a:xfrm flipH="1" flipV="1">
              <a:off x="3657600" y="2438280"/>
              <a:ext cx="9144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581280" y="2634120"/>
              <a:ext cx="2381400" cy="48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Operacje w A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90960" y="2361960"/>
            <a:ext cx="2714760" cy="761760"/>
            <a:chOff x="5790960" y="2361960"/>
            <a:chExt cx="2714760" cy="761760"/>
          </a:xfrm>
        </p:grpSpPr>
        <p:sp>
          <p:nvSpPr>
            <p:cNvPr id="163" name=""/>
            <p:cNvSpPr/>
            <p:nvPr/>
          </p:nvSpPr>
          <p:spPr>
            <a:xfrm flipH="1" flipV="1">
              <a:off x="5790960" y="2361960"/>
              <a:ext cx="99036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6400800" y="2626920"/>
              <a:ext cx="2104920" cy="49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Relacje w A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676520" y="5221440"/>
            <a:ext cx="14572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geb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33920" y="5221440"/>
            <a:ext cx="2171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dalgeb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00800" y="5221440"/>
            <a:ext cx="20955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d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0B6-3E90-4B7E-B089-311DAAD9FD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  algeb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828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&lt; N, *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429000" y="1523880"/>
            <a:ext cx="5334120" cy="1600200"/>
            <a:chOff x="3429000" y="1523880"/>
            <a:chExt cx="5334120" cy="1600200"/>
          </a:xfrm>
        </p:grpSpPr>
        <p:sp>
          <p:nvSpPr>
            <p:cNvPr id="171" name=""/>
            <p:cNvSpPr/>
            <p:nvPr/>
          </p:nvSpPr>
          <p:spPr>
            <a:xfrm>
              <a:off x="3429000" y="1600200"/>
              <a:ext cx="1981080" cy="152388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1828800"/>
              <a:ext cx="114300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0" y="1600200"/>
              <a:ext cx="1905120" cy="1523880"/>
            </a:xfrm>
            <a:prstGeom prst="ellipse">
              <a:avLst/>
            </a:prstGeom>
            <a:solidFill>
              <a:srgbClr val="e1e7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1828800"/>
              <a:ext cx="114300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29200" y="1523880"/>
              <a:ext cx="3276720" cy="838440"/>
            </a:xfrm>
            <a:custGeom>
              <a:avLst/>
              <a:gdLst>
                <a:gd name="textAreaLeft" fmla="*/ 684360 w 3276720"/>
                <a:gd name="textAreaRight" fmla="*/ 2226240 w 327672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24" hR="21600" stAng="10800000" swAng="5400000"/>
                  <a:lnTo>
                    <a:pt x="10163" y="0"/>
                  </a:lnTo>
                  <a:arcTo wR="9024" hR="21600" stAng="-5400000" swAng="2858002"/>
                  <a:lnTo>
                    <a:pt x="21009" y="13909"/>
                  </a:lnTo>
                  <a:lnTo>
                    <a:pt x="18618" y="21600"/>
                  </a:lnTo>
                  <a:lnTo>
                    <a:pt x="15044" y="13909"/>
                  </a:lnTo>
                  <a:lnTo>
                    <a:pt x="17457" y="13909"/>
                  </a:lnTo>
                  <a:arcTo wR="9024" hR="21600" stAng="-2541998" swAng="-2767204"/>
                  <a:lnTo>
                    <a:pt x="9594" y="43"/>
                  </a:lnTo>
                  <a:arcTo wR="9024" hR="21600" stAng="-5490799" swAng="-5309201"/>
                  <a:close/>
                </a:path>
                <a:path fill="darkenLess" w="21600" h="21600">
                  <a:moveTo>
                    <a:pt x="0" y="21600"/>
                  </a:moveTo>
                  <a:arcTo wR="9024" hR="21600" stAng="10800000" swAng="5400000"/>
                  <a:lnTo>
                    <a:pt x="9024" y="0"/>
                  </a:lnTo>
                  <a:arcTo wR="9024" hR="21600" stAng="-5400000" swAng="90799"/>
                  <a:lnTo>
                    <a:pt x="9594" y="43"/>
                  </a:lnTo>
                  <a:arcTo wR="9024" hR="21600" stAng="-5490799" swAng="-5309201"/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29528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&lt; P, *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&lt; Z, +,*&gt;     algeb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N, +,*&gt;     jej  podalgebr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&lt; {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}, *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1240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&lt; {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}, *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419720"/>
            <a:ext cx="6324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Times New Roman"/>
              </a:rPr>
              <a:t>Ale</a:t>
            </a:r>
            <a:r>
              <a:rPr b="0" lang="pl-PL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NP, +,*&gt;    nie jest podalgebrą  algebry &lt; Z, +,*&gt;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895480" y="3581280"/>
            <a:ext cx="3600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odalgebry  &lt; N, * &gt;</a:t>
            </a:r>
            <a:endParaRPr b="1" lang="en-US" sz="32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5029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&lt;{0,1}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1,0&gt;  dwuelementowa algebra  Boole’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5394240"/>
            <a:ext cx="739152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ma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cięcie dowolnego zbioru podalgebr danej algebry, o ile jest niepuste, to jest też podalgebr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6F3-5F1C-403B-810B-C267D04AE2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Przykład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676520"/>
            <a:ext cx="6553080" cy="1838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os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, push, pop, top, empty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ush : Stos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os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 : Stos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os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p : Stos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mpt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tos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5520" y="2514600"/>
            <a:ext cx="3467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uktura stosó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886200"/>
            <a:ext cx="6553440" cy="1838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Kolejk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, in, out, first, empty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 : Kolejk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Kolej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ut : Kolejk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Kolej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irst : Kolejk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mpt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Kolej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05520" y="5105520"/>
            <a:ext cx="33242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uktura  koleje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40384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7301"/>
                </a:moveTo>
                <a:lnTo>
                  <a:pt x="10098" y="7301"/>
                </a:lnTo>
                <a:lnTo>
                  <a:pt x="10481" y="7667"/>
                </a:lnTo>
                <a:lnTo>
                  <a:pt x="19689" y="7667"/>
                </a:lnTo>
                <a:lnTo>
                  <a:pt x="20246" y="8224"/>
                </a:lnTo>
                <a:lnTo>
                  <a:pt x="20246" y="8772"/>
                </a:lnTo>
                <a:lnTo>
                  <a:pt x="22092" y="8772"/>
                </a:lnTo>
                <a:lnTo>
                  <a:pt x="22457" y="8224"/>
                </a:lnTo>
                <a:lnTo>
                  <a:pt x="23197" y="8224"/>
                </a:lnTo>
                <a:lnTo>
                  <a:pt x="23197" y="13376"/>
                </a:lnTo>
                <a:lnTo>
                  <a:pt x="22457" y="13376"/>
                </a:lnTo>
                <a:lnTo>
                  <a:pt x="22092" y="12828"/>
                </a:lnTo>
                <a:lnTo>
                  <a:pt x="20246" y="12828"/>
                </a:lnTo>
                <a:lnTo>
                  <a:pt x="20246" y="14107"/>
                </a:lnTo>
                <a:lnTo>
                  <a:pt x="10664" y="14107"/>
                </a:lnTo>
                <a:lnTo>
                  <a:pt x="10664" y="9877"/>
                </a:lnTo>
                <a:lnTo>
                  <a:pt x="10481" y="9877"/>
                </a:lnTo>
                <a:lnTo>
                  <a:pt x="10098" y="10243"/>
                </a:lnTo>
                <a:lnTo>
                  <a:pt x="9184" y="10243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ej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1676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80" h="21600">
                <a:moveTo>
                  <a:pt x="1389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80" h="21600">
                <a:moveTo>
                  <a:pt x="11314" y="8224"/>
                </a:moveTo>
                <a:lnTo>
                  <a:pt x="15178" y="8224"/>
                </a:lnTo>
                <a:lnTo>
                  <a:pt x="15178" y="15221"/>
                </a:lnTo>
                <a:lnTo>
                  <a:pt x="16466" y="15221"/>
                </a:lnTo>
                <a:lnTo>
                  <a:pt x="16466" y="16144"/>
                </a:lnTo>
                <a:lnTo>
                  <a:pt x="11314" y="16144"/>
                </a:lnTo>
                <a:lnTo>
                  <a:pt x="11314" y="15221"/>
                </a:lnTo>
                <a:lnTo>
                  <a:pt x="12602" y="15221"/>
                </a:lnTo>
                <a:lnTo>
                  <a:pt x="12602" y="9129"/>
                </a:lnTo>
                <a:lnTo>
                  <a:pt x="11314" y="9129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771-ADC5-485A-99D8-5358AE6F80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nerato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1600200"/>
            <a:ext cx="7391520" cy="113400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Niepusty podzbiór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zbioru A jest zbiorem generatorów  algebry   &lt;A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  wttw  gdy najmniejszą podalgebrą zawierającą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jest sama algebra &lt;A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447920" y="29718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Zbiór  generatorów = zbiór elementów tworzących.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809880"/>
            <a:ext cx="4724280" cy="86256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N,+,*&gt;         zbiór  generatorów {0,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3505320"/>
            <a:ext cx="3200400" cy="1981080"/>
          </a:xfrm>
          <a:prstGeom prst="cloudCallout">
            <a:avLst>
              <a:gd name="adj1" fmla="val -66518"/>
              <a:gd name="adj2" fmla="val -15865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, każdą liczb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turalną można otrzymać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0 i 1 za pomocą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ji + i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4648320"/>
            <a:ext cx="4876560" cy="1167480"/>
          </a:xfrm>
          <a:prstGeom prst="rect">
            <a:avLst/>
          </a:prstGeom>
          <a:solidFill>
            <a:srgbClr val="e1e7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Z, +, * &gt;       zbiór  generatorów {-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OSY       zbiór generator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{empt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Elementy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B7A-0FC0-47A9-A15B-92F254DCCB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Homomorfiz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1371600"/>
            <a:ext cx="7543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ch będą dwa systemy algebraicz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takiej samej sygnaturze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&lt;A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...,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,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&lt;B, o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o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 o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...,r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&gt;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 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o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oraz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r’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odpowiadającymi sobie operacjami  i relacj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2057400"/>
            <a:ext cx="2666880" cy="205740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taki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a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ówimy, że s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dob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4784760"/>
            <a:ext cx="2743200" cy="131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&lt; R, min, max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est podobny d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&lt; N, +, *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803680"/>
            <a:ext cx="4876920" cy="3314520"/>
          </a:xfrm>
          <a:prstGeom prst="rect">
            <a:avLst/>
          </a:prstGeom>
          <a:solidFill>
            <a:srgbClr val="e1e7e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Homomorfizmem systemu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system podob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zywamy  przekształcenie  h: 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 takie, ż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( o(a1,...an))= o’(h(a1),...,h(a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(b1,...,bm) wttw r’(h(b1),...,h(b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dowolnej operacji n-arg o (relacji m-arg. r) w A i odpowiadającej jej operacji o’ (relacji r’)w B oraz dla dowolnych a1,...,an b1,....,bm  z 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352680"/>
            <a:ext cx="3581280" cy="1676520"/>
          </a:xfrm>
          <a:prstGeom prst="leftArrow">
            <a:avLst>
              <a:gd name="adj1" fmla="val 50000"/>
              <a:gd name="adj2" fmla="val 39865"/>
            </a:avLst>
          </a:prstGeom>
          <a:solidFill>
            <a:srgbClr val="e1e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łasność zachowyw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ji i rel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816-16DF-4A9B-9295-8738140D74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Impact"/>
              </a:rPr>
              <a:t>Zachowywanie operacji przez homomorhizm</a:t>
            </a:r>
            <a:endParaRPr b="0" lang="en-US" sz="32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371600"/>
            <a:ext cx="3200400" cy="320040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447920"/>
            <a:ext cx="3200400" cy="320040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352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(a1,a2,...,an)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’(b1,b2,...,bn)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1680" y="2514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2819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523880"/>
            <a:ext cx="4495680" cy="1067040"/>
          </a:xfrm>
          <a:custGeom>
            <a:avLst/>
            <a:gdLst>
              <a:gd name="textAreaLeft" fmla="*/ 973080 w 4495680"/>
              <a:gd name="textAreaRight" fmla="*/ 3072960 w 4495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2" hR="21600" stAng="10800000" swAng="5400000"/>
                <a:lnTo>
                  <a:pt x="10089" y="0"/>
                </a:lnTo>
                <a:arcTo wR="9352" hR="21600" stAng="-5400000" swAng="3767467"/>
                <a:lnTo>
                  <a:pt x="21377" y="16907"/>
                </a:lnTo>
                <a:lnTo>
                  <a:pt x="19072" y="21600"/>
                </a:lnTo>
                <a:lnTo>
                  <a:pt x="16320" y="16907"/>
                </a:lnTo>
                <a:lnTo>
                  <a:pt x="18480" y="16907"/>
                </a:lnTo>
                <a:arcTo wR="9352" hR="21600" stAng="-1632533" swAng="-3708779"/>
                <a:lnTo>
                  <a:pt x="9720" y="17"/>
                </a:lnTo>
                <a:arcTo wR="9352" hR="21600" stAng="-5458688" swAng="-5341312"/>
                <a:close/>
              </a:path>
              <a:path fill="darkenLess" w="21600" h="21600">
                <a:moveTo>
                  <a:pt x="0" y="21600"/>
                </a:moveTo>
                <a:arcTo wR="9352" hR="21600" stAng="10800000" swAng="5400000"/>
                <a:lnTo>
                  <a:pt x="9352" y="0"/>
                </a:lnTo>
                <a:arcTo wR="9352" hR="21600" stAng="-5400000" swAng="58688"/>
                <a:lnTo>
                  <a:pt x="9720" y="17"/>
                </a:lnTo>
                <a:arcTo wR="9352" hR="21600" stAng="-5458688" swAng="-5341312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rot="10800000">
            <a:off x="2056320" y="3733560"/>
            <a:ext cx="4724280" cy="1600200"/>
          </a:xfrm>
          <a:custGeom>
            <a:avLst/>
            <a:gdLst>
              <a:gd name="textAreaLeft" fmla="*/ 1022040 w 4724280"/>
              <a:gd name="textAreaRight" fmla="*/ 3228840 w 472428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2" hR="21600" stAng="10800000" swAng="5400000"/>
                <a:lnTo>
                  <a:pt x="10089" y="0"/>
                </a:lnTo>
                <a:arcTo wR="9352" hR="21600" stAng="-5400000" swAng="3767467"/>
                <a:lnTo>
                  <a:pt x="21377" y="16907"/>
                </a:lnTo>
                <a:lnTo>
                  <a:pt x="19072" y="21600"/>
                </a:lnTo>
                <a:lnTo>
                  <a:pt x="16320" y="16907"/>
                </a:lnTo>
                <a:lnTo>
                  <a:pt x="18480" y="16907"/>
                </a:lnTo>
                <a:arcTo wR="9352" hR="21600" stAng="-1632533" swAng="-3708779"/>
                <a:lnTo>
                  <a:pt x="9720" y="17"/>
                </a:lnTo>
                <a:arcTo wR="9352" hR="21600" stAng="-5458688" swAng="-5341312"/>
                <a:close/>
              </a:path>
              <a:path fill="darkenLess" w="21600" h="21600">
                <a:moveTo>
                  <a:pt x="0" y="21600"/>
                </a:moveTo>
                <a:arcTo wR="9352" hR="21600" stAng="10800000" swAng="5400000"/>
                <a:lnTo>
                  <a:pt x="9352" y="0"/>
                </a:lnTo>
                <a:arcTo wR="9352" hR="21600" stAng="-5400000" swAng="58688"/>
                <a:lnTo>
                  <a:pt x="9720" y="17"/>
                </a:lnTo>
                <a:arcTo wR="9352" hR="21600" stAng="-5458688" swAng="-534131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30481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rot="10800000">
            <a:off x="3351600" y="3733560"/>
            <a:ext cx="4496040" cy="1066680"/>
          </a:xfrm>
          <a:custGeom>
            <a:avLst/>
            <a:gdLst>
              <a:gd name="textAreaLeft" fmla="*/ 972720 w 4496040"/>
              <a:gd name="textAreaRight" fmla="*/ 3072960 w 449604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2" hR="21600" stAng="10800000" swAng="5400000"/>
                <a:lnTo>
                  <a:pt x="10089" y="0"/>
                </a:lnTo>
                <a:arcTo wR="9352" hR="21600" stAng="-5400000" swAng="3767467"/>
                <a:lnTo>
                  <a:pt x="21377" y="16907"/>
                </a:lnTo>
                <a:lnTo>
                  <a:pt x="19072" y="21600"/>
                </a:lnTo>
                <a:lnTo>
                  <a:pt x="16320" y="16907"/>
                </a:lnTo>
                <a:lnTo>
                  <a:pt x="18480" y="16907"/>
                </a:lnTo>
                <a:arcTo wR="9352" hR="21600" stAng="-1632533" swAng="-3708779"/>
                <a:lnTo>
                  <a:pt x="9720" y="17"/>
                </a:lnTo>
                <a:arcTo wR="9352" hR="21600" stAng="-5458688" swAng="-5341312"/>
                <a:close/>
              </a:path>
              <a:path fill="darkenLess" w="21600" h="21600">
                <a:moveTo>
                  <a:pt x="0" y="21600"/>
                </a:moveTo>
                <a:arcTo wR="9352" hR="21600" stAng="10800000" swAng="5400000"/>
                <a:lnTo>
                  <a:pt x="9352" y="0"/>
                </a:lnTo>
                <a:arcTo wR="9352" hR="21600" stAng="-5400000" swAng="58688"/>
                <a:lnTo>
                  <a:pt x="9720" y="17"/>
                </a:lnTo>
                <a:arcTo wR="9352" hR="21600" stAng="-5458688" swAng="-5341312"/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562720"/>
            <a:ext cx="1828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a)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752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matyka Dyskretna,   Struktury algebraiczne   G.Mirkowska,  PJWST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F32-560A-4B12-9B07-F22315A49FE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 grudnia 2001</a:t>
            </a: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6:02:13Z</dcterms:created>
  <dc:creator>andrzej</dc:creator>
  <dc:description/>
  <dc:language>en-US</dc:language>
  <cp:lastModifiedBy>Jacek Kaliński</cp:lastModifiedBy>
  <dcterms:modified xsi:type="dcterms:W3CDTF">2002-05-29T18:55:57Z</dcterms:modified>
  <cp:revision>74</cp:revision>
  <dc:subject/>
  <dc:title>Wykład 4</dc:title>
</cp:coreProperties>
</file>