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20C-9D49-4964-9DB6-521CBA6C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EC7-413C-4968-AD98-6F1EA7C7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B89-0E84-42E3-902F-81558DCF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C6B-411E-411F-B91B-63D59961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917-830A-4BE6-9D45-B6755A76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337-43F8-4C15-A63F-8748B0F8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EDD-775D-4DA3-AAC8-BEFD5263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E67-02CE-4D67-B35B-EF4B5F97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BF5-D70B-4546-9BF8-B4131340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4D4-9E5D-43BE-91ED-B446B92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599-ED76-4196-A7E2-B0522C9D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039-D833-4F52-9BAA-8F8598D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26AD-2E3C-466D-83A6-FBF29884219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ykład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3429000"/>
            <a:ext cx="396252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UNKCJ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428-96E6-4187-9814-073FE5097A5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peracje na funkcj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7772400" cy="121932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ch f :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 i  g :Y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 . Funkcję h :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 nazywamy superpozycją (albo złożeniem) funkcji f i g,  jeżeli h(x) = g(f(x)) dla wszystkich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om(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480" y="838080"/>
            <a:ext cx="304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ładanie 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133720"/>
            <a:ext cx="2584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20600" y="2743200"/>
            <a:ext cx="2588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3124080"/>
            <a:ext cx="2588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581280"/>
            <a:ext cx="25884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2133720"/>
            <a:ext cx="258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743200"/>
            <a:ext cx="2588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276720"/>
            <a:ext cx="25884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828800"/>
            <a:ext cx="221004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3809880"/>
            <a:ext cx="2588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2860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8954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219320" y="220968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295280" y="3504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133720"/>
            <a:ext cx="25884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2743200"/>
            <a:ext cx="2588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200400"/>
            <a:ext cx="2588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3657600"/>
            <a:ext cx="25848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2133720"/>
            <a:ext cx="2584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2666880"/>
            <a:ext cx="2584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3276720"/>
            <a:ext cx="258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82880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809880"/>
            <a:ext cx="2584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2286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038480" y="3733560"/>
            <a:ext cx="1295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a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a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962520" y="236196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77320" y="2133720"/>
            <a:ext cx="2584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2743200"/>
            <a:ext cx="2584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3200400"/>
            <a:ext cx="2584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3657600"/>
            <a:ext cx="25884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182880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2286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781680" y="24379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58000" y="23623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781680" y="251424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a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2133720"/>
            <a:ext cx="25884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2666880"/>
            <a:ext cx="2588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20600" y="3124080"/>
            <a:ext cx="2588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20600" y="3581280"/>
            <a:ext cx="25884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7480" y="762120"/>
            <a:ext cx="14479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f o g =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2819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655-F619-4BD5-8E3C-4E80CE26A5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205740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1143000"/>
            <a:ext cx="205740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1066680"/>
            <a:ext cx="18288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95280" y="1600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914400"/>
            <a:ext cx="3962520" cy="609480"/>
          </a:xfrm>
          <a:custGeom>
            <a:avLst/>
            <a:gdLst>
              <a:gd name="textAreaLeft" fmla="*/ 847080 w 3962520"/>
              <a:gd name="textAreaRight" fmla="*/ 2719080 w 3962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38" hR="21600" stAng="10800000" swAng="5400000"/>
                <a:lnTo>
                  <a:pt x="10203" y="0"/>
                </a:lnTo>
                <a:arcTo wR="9238" hR="21600" stAng="-5400000" swAng="2751495"/>
                <a:lnTo>
                  <a:pt x="20894" y="13320"/>
                </a:lnTo>
                <a:lnTo>
                  <a:pt x="18958" y="21600"/>
                </a:lnTo>
                <a:lnTo>
                  <a:pt x="15609" y="13320"/>
                </a:lnTo>
                <a:lnTo>
                  <a:pt x="17769" y="13320"/>
                </a:lnTo>
                <a:arcTo wR="9238" hR="21600" stAng="-2648505" swAng="-2674611"/>
                <a:lnTo>
                  <a:pt x="9720" y="29"/>
                </a:lnTo>
                <a:arcTo wR="9238" hR="21600" stAng="-5476884" swAng="-5323116"/>
                <a:close/>
              </a:path>
              <a:path fill="darkenLess" w="21600" h="21600">
                <a:moveTo>
                  <a:pt x="0" y="21600"/>
                </a:moveTo>
                <a:arcTo wR="9238" hR="21600" stAng="10800000" swAng="5400000"/>
                <a:lnTo>
                  <a:pt x="9238" y="0"/>
                </a:lnTo>
                <a:arcTo wR="9238" hR="21600" stAng="-5400000" swAng="76884"/>
                <a:lnTo>
                  <a:pt x="9720" y="29"/>
                </a:lnTo>
                <a:arcTo wR="9238" hR="21600" stAng="-5476884" swAng="-532311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1600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1447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838080"/>
            <a:ext cx="3352680" cy="685800"/>
          </a:xfrm>
          <a:custGeom>
            <a:avLst/>
            <a:gdLst>
              <a:gd name="textAreaLeft" fmla="*/ 703080 w 3352680"/>
              <a:gd name="textAreaRight" fmla="*/ 2314080 w 3352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63" hR="21600" stAng="10800000" swAng="5400000"/>
                <a:lnTo>
                  <a:pt x="10378" y="0"/>
                </a:lnTo>
                <a:arcTo wR="9063" hR="21600" stAng="-5400000" swAng="2992797"/>
                <a:lnTo>
                  <a:pt x="21082" y="14400"/>
                </a:lnTo>
                <a:lnTo>
                  <a:pt x="18783" y="21600"/>
                </a:lnTo>
                <a:lnTo>
                  <a:pt x="15447" y="14400"/>
                </a:lnTo>
                <a:lnTo>
                  <a:pt x="17607" y="14400"/>
                </a:lnTo>
                <a:arcTo wR="9063" hR="21600" stAng="-2407203" swAng="-2887909"/>
                <a:lnTo>
                  <a:pt x="9720" y="57"/>
                </a:lnTo>
                <a:arcTo wR="9063" hR="21600" stAng="-5504888" swAng="-5295112"/>
                <a:close/>
              </a:path>
              <a:path fill="darkenLess" w="21600" h="21600">
                <a:moveTo>
                  <a:pt x="0" y="21600"/>
                </a:moveTo>
                <a:arcTo wR="9063" hR="21600" stAng="10800000" swAng="5400000"/>
                <a:lnTo>
                  <a:pt x="9063" y="0"/>
                </a:lnTo>
                <a:arcTo wR="9063" hR="21600" stAng="-5400000" swAng="104888"/>
                <a:lnTo>
                  <a:pt x="9720" y="57"/>
                </a:lnTo>
                <a:arcTo wR="9063" hR="21600" stAng="-5504888" swAng="-529511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(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24680" y="1523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1752480"/>
            <a:ext cx="7620120" cy="1295640"/>
          </a:xfrm>
          <a:custGeom>
            <a:avLst/>
            <a:gdLst>
              <a:gd name="textAreaLeft" fmla="*/ 1640520 w 7620120"/>
              <a:gd name="textAreaRight" fmla="*/ 5165280 w 7620120"/>
              <a:gd name="textAreaTop" fmla="*/ 173520 h 1295640"/>
              <a:gd name="textAreaBottom" fmla="*/ 1122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02" hR="21600" stAng="10800000" swAng="-5400000"/>
                <a:lnTo>
                  <a:pt x="9991" y="21600"/>
                </a:lnTo>
                <a:arcTo wR="9302" hR="21600" stAng="5400000" swAng="-2719152"/>
                <a:lnTo>
                  <a:pt x="20856" y="8463"/>
                </a:lnTo>
                <a:lnTo>
                  <a:pt x="18948" y="0"/>
                </a:lnTo>
                <a:lnTo>
                  <a:pt x="15551" y="8463"/>
                </a:lnTo>
                <a:lnTo>
                  <a:pt x="17859" y="8463"/>
                </a:lnTo>
                <a:arcTo wR="9302" hR="21600" stAng="2680848" swAng="2664290"/>
                <a:lnTo>
                  <a:pt x="9646" y="21585"/>
                </a:lnTo>
                <a:arcTo wR="9302" hR="21600" stAng="5454862" swAng="5345138"/>
                <a:close/>
              </a:path>
              <a:path fill="darkenLess" w="21600" h="21600">
                <a:moveTo>
                  <a:pt x="0" y="0"/>
                </a:moveTo>
                <a:arcTo wR="9302" hR="21600" stAng="10800000" swAng="-5400000"/>
                <a:lnTo>
                  <a:pt x="9991" y="21600"/>
                </a:lnTo>
                <a:arcTo wR="9302" hR="21600" stAng="5400000" swAng="54862"/>
                <a:lnTo>
                  <a:pt x="9646" y="21585"/>
                </a:lnTo>
                <a:arcTo wR="9302" hR="21600" stAng="5454862" swAng="5345138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990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o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276720"/>
            <a:ext cx="3581640" cy="177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kł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f(x) =  x+2 i g(x) 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. Wtedy złożeniem funkcji f i g  jest funkcja h : R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 taka, że  h(x) = g(f(x))= (x+2)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3429000"/>
            <a:ext cx="4419360" cy="244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kł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f: 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 i g: R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 oraz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n) = 1/(n+1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 (x)= log (x) dla x&gt;0 i g(x) = 0 dla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0. Wtedy złożenie funkcji f i g  jest funkcją h : N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 taką, ż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 (n) =g(f(n))= log(1/ (n+1))= -log (n+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D9A-D27D-4124-B972-50BD22384DA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peracje na funkcjach c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83808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dwracanie 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133720"/>
            <a:ext cx="2584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20600" y="2743200"/>
            <a:ext cx="2588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20600" y="3124080"/>
            <a:ext cx="2588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20600" y="3581280"/>
            <a:ext cx="25884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2133720"/>
            <a:ext cx="2588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2743200"/>
            <a:ext cx="2588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3276720"/>
            <a:ext cx="25884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1828800"/>
            <a:ext cx="221004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14600" y="3809880"/>
            <a:ext cx="2588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23623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28954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219320" y="220968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57800" y="2133720"/>
            <a:ext cx="25884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57800" y="2743200"/>
            <a:ext cx="2588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3200400"/>
            <a:ext cx="2588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4120" y="3657600"/>
            <a:ext cx="25848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2133720"/>
            <a:ext cx="2584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2666880"/>
            <a:ext cx="2584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3276720"/>
            <a:ext cx="258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182880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3809880"/>
            <a:ext cx="2584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38480" y="22860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038480" y="28191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962520" y="22860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038480" y="3733560"/>
            <a:ext cx="1295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0532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a od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4419720"/>
            <a:ext cx="8610480" cy="82548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ę  g : Y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nazywamy odwrotną do funkcji f :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, jeżeli Dom(g)=Im(f) i Dom(f)=Im(g) oraz g(f(x)) = x dla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m(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00800" y="1752480"/>
            <a:ext cx="2438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edzina funkcji g jest równa przeciwdziedzinie funkcji f i dziedzina funkcji f jest równa jest równa przeciwdziedzinie funkcji g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4864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Jeżeli f: 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P taka, że f(n)= 2n+1, to funkcja g : NP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 taka , że  g(n) = (n-1)div 2. Rzeczywiście: g(f(n))= (2n +1 -1)div 2=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99072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znaczenie: f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79C-7C8C-4FF3-8474-4803D4548D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sności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2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funkcje f i g są funkcjami całkowitymi i  g : Y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jest odwrotna do funkcji f :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, to są spełnione następujące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przekształca X na Y i  g przekształca  Y na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(y) = x wttw  f(x) = y dla dowolnych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, 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e f i g są różnowartości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38080" y="990720"/>
            <a:ext cx="2257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wierdzenia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1143000"/>
            <a:ext cx="4724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g jest  funkcją odwrotną do f, to f jest funkcją odwrotną do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4724280"/>
            <a:ext cx="533376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ażdej funkcji różnowartościowej odwzorowującej X na Y istnieje dokładnie    jedna  funkcja odwrot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5105520"/>
            <a:ext cx="16765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 f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383-ACF6-4CF1-9D29-383D510215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d. własn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19810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990720"/>
            <a:ext cx="8077320" cy="289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dowolnych funkcji f :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, g : Y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f przekształca X na Y i  g przekształca  Y na Z, to f o g przekształca X na 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f i g są różnowartościowe, to  f o g jest funkcją różnowartościow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f i g są bijekcjami, to istnieją funkcje  f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g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(f o g)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raz (f o g)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o f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4572000"/>
            <a:ext cx="8001000" cy="1313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f o g)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z) = x wttw (f o g)(x)= z wttw  g(f(x))=z wttw istnieje takie y, f(x)= y  i g(y)=z wttw   istnieje takie y, że   f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y)=x  i g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z)=y  wttw istnieje takie y, że   f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y)=x  i g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z)=y wtt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f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g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z)) = x   wttw ( g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f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(z) = 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880" y="3886200"/>
            <a:ext cx="188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owód (3)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F29-FC29-40C0-99DA-DEDD2270F0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iąg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11430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iąg jest to funkcja określona na zbiorze liczb naturalnych  N lub jego segmencie początkowy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3048120"/>
            <a:ext cx="26668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acj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ciąg o elementach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. oznaczamy przez (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2209680"/>
            <a:ext cx="1600200" cy="1219320"/>
          </a:xfrm>
          <a:prstGeom prst="cloudCallout">
            <a:avLst>
              <a:gd name="adj1" fmla="val -80157"/>
              <a:gd name="adj2" fmla="val 587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ty wyraz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iąg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1676520"/>
            <a:ext cx="30481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  f(n) = 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jest ciągiem o element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, 1, 2, 6, 24, 120,....) Jest to ciąg nieskończony. Zamiast f(n) piszemy też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3581280"/>
            <a:ext cx="2667240" cy="2210040"/>
          </a:xfrm>
          <a:prstGeom prst="cloudCallout">
            <a:avLst>
              <a:gd name="adj1" fmla="val -25000"/>
              <a:gd name="adj2" fmla="val 4101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Nie należy mylić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bioru elementó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ciągu w samym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ciąg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4038480"/>
            <a:ext cx="27432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   g(n)=(-1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 jest ciągiem o element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( 1, -1, 1, -1, 1,...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ór elementów tego ciągu to {-1,1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495288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3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 : {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 : n&lt;5}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(n)=n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ciągiem o wyrazach   0, 1, 4, 9, 16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B5C-BCFC-4523-AA5C-E5FE961AC5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otacja asymptotycz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f i g będą funkcjami określonymi na zbiorze liczb naturalnych i o wartościach w zbiorze liczb rzeczywistych dodatnich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 : 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+,  g : 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+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133720"/>
            <a:ext cx="7086600" cy="129204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a g jest rzędu funkcji  f, co oznaczamy g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f), jeżeli istnieją stałe c1,c2&gt;0  oraz liczba naturalna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taka, że  dla n&gt;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 c2 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(n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g(n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1 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572000"/>
            <a:ext cx="5715000" cy="1292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f), jeżeli istnieje stała c&gt;0 oraz liczba naturalna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aka, że  c 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(n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g(n)   dla wszystkich  n&gt;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581280"/>
            <a:ext cx="7467480" cy="926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 = O(f), jeżeli istnieje stała c&gt;0 oraz liczba naturalna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aka, że g(n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c 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(n) dla wszystkich  n&gt;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2743200"/>
            <a:ext cx="1828800" cy="1066680"/>
          </a:xfrm>
          <a:prstGeom prst="wedgeEllipseCallout">
            <a:avLst>
              <a:gd name="adj1" fmla="val -31768"/>
              <a:gd name="adj2" fmla="val 82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symptotyczn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raniczenie gó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4876920"/>
            <a:ext cx="2133720" cy="990360"/>
          </a:xfrm>
          <a:prstGeom prst="wedgeEllipseCallout">
            <a:avLst>
              <a:gd name="adj1" fmla="val 83777"/>
              <a:gd name="adj2" fmla="val -28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symptotyczn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raniczenie dol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AE1-39C2-4D55-917B-911B7B9966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1219320"/>
            <a:ext cx="4114800" cy="284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dla wszystkich n naturalnych. Rzeczywiście dla n&gt;0 ma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= 2 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3/2 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/3 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/(n-1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 prawej stronie mamy (n-1) elementów, z których każdy jest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2. Czyli n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3400" y="1295280"/>
            <a:ext cx="1752480" cy="838440"/>
          </a:xfrm>
          <a:prstGeom prst="wedgeEllipseCallout">
            <a:avLst>
              <a:gd name="adj1" fmla="val -95379"/>
              <a:gd name="adj2" fmla="val 753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= O(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2133720"/>
            <a:ext cx="3581280" cy="830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obnie 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9/4)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n&gt;1 . Zatem 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O(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1371600"/>
            <a:ext cx="25909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lg n = O(n) dla n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4876920"/>
            <a:ext cx="266724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 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+100 = O(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 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+100 = O(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124080"/>
            <a:ext cx="3429000" cy="3039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f(n) =O(g(n)) t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l-PL" sz="2400" spc="-1" strike="noStrike" baseline="-1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(n) = O(g(n)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f=O(h) i g=O(h), to f(n)+g(n) = O(h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f=O(g) i g=O(h), to f(n) = O(h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952880"/>
            <a:ext cx="1471680" cy="8254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 *lg n = O(lg n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99B-6878-476F-869C-A20690300E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o to jest funkcj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510552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iemy, że jest określona  funkcja f na zbiorze X  i o wartościach w zbiorze Y, jeżeli każdemu elementowi x ze zbioru X  został przyporządkowany element  y w zbiorze 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5800" y="3657600"/>
            <a:ext cx="2286000" cy="2514600"/>
            <a:chOff x="685800" y="3657600"/>
            <a:chExt cx="2286000" cy="2514600"/>
          </a:xfrm>
        </p:grpSpPr>
        <p:sp>
          <p:nvSpPr>
            <p:cNvPr id="46" name=""/>
            <p:cNvSpPr/>
            <p:nvPr/>
          </p:nvSpPr>
          <p:spPr>
            <a:xfrm>
              <a:off x="914400" y="41148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45720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49528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4100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57913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96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09680" y="4724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5334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3657600"/>
              <a:ext cx="2286000" cy="25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43000" y="419112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7242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143000" y="48765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143000" y="44193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143000" y="55627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2004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ykład fun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9880" y="3200400"/>
            <a:ext cx="2438640" cy="2971800"/>
            <a:chOff x="3809880" y="3200400"/>
            <a:chExt cx="2438640" cy="2971800"/>
          </a:xfrm>
        </p:grpSpPr>
        <p:sp>
          <p:nvSpPr>
            <p:cNvPr id="62" name=""/>
            <p:cNvSpPr/>
            <p:nvPr/>
          </p:nvSpPr>
          <p:spPr>
            <a:xfrm>
              <a:off x="3809880" y="3657600"/>
              <a:ext cx="2362320" cy="2514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9880" y="32004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A to nie jest funkc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14800" y="39625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14800" y="44197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480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4800" y="53341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14800" y="57913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10080" y="41148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0080" y="4648320"/>
              <a:ext cx="22860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0080" y="518148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3400" y="4114800"/>
              <a:ext cx="1066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3400" y="4038480"/>
              <a:ext cx="10666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495680"/>
              <a:ext cx="9907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502920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343400" y="541008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343400" y="4343040"/>
              <a:ext cx="10666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343400" y="42667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477120" y="1752480"/>
            <a:ext cx="2133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(x)=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3200400"/>
            <a:ext cx="2209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ór wszystkich argumentów funkcji nazywam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ziedziną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unkcji, a zbiór wszystkich wartości funkcji nazywam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ciwdziedzi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un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533520"/>
            <a:ext cx="1218960" cy="1143000"/>
          </a:xfrm>
          <a:prstGeom prst="wedgeEllipseCallout">
            <a:avLst>
              <a:gd name="adj1" fmla="val -44921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un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2362320"/>
            <a:ext cx="1371600" cy="761760"/>
          </a:xfrm>
          <a:prstGeom prst="wedgeEllipseCallout">
            <a:avLst>
              <a:gd name="adj1" fmla="val -36689"/>
              <a:gd name="adj2" fmla="val -53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unk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618-2EE1-4239-87AC-2A053F0A74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unkcja jako relac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7467480" cy="2113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ch X i Y będą dowolnymi zbiorami. Jeżeli relacja binarna 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spełnia waru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la każdego x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X istnieje  co najwyżej  jeden element  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Y taki, że  (x,y)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f 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o taką relację nazywać będziemy funkcją ze zbioru X w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27672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Relacj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={(x,y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 y=2x+1}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znacza funkcję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n) = 2n+1 dla 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m(f) = N  Im(f) = 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505320"/>
            <a:ext cx="42670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m(f) ={x : dla pewnego y, (x,y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962520"/>
            <a:ext cx="43434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m(f) = {y : dla pewnego x, (x,y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2971800"/>
            <a:ext cx="1066680" cy="685800"/>
          </a:xfrm>
          <a:prstGeom prst="wedgeRectCallout">
            <a:avLst>
              <a:gd name="adj1" fmla="val -174851"/>
              <a:gd name="adj2" fmla="val 370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ziedzin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funkcji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4495680"/>
            <a:ext cx="1752840" cy="685800"/>
          </a:xfrm>
          <a:prstGeom prst="wedgeRectCallout">
            <a:avLst>
              <a:gd name="adj1" fmla="val -138495"/>
              <a:gd name="adj2" fmla="val -74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ciwdziedzin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funkcji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9528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2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)=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m(f) = R  Im(f) = R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80060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3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: A*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 taka, ż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s) = liczba liter w  słowie s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m(f) = A*  Im(f) = 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28520" y="5257800"/>
            <a:ext cx="23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4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Relacj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={(x,y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 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y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 jest funkcj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1EB-E27A-4D71-BB86-28291FBD3C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Uwag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057400"/>
            <a:ext cx="4648320" cy="82548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dowolnych x, y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żeli (x,y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  i (x,y’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, to y = y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457200"/>
            <a:ext cx="2361960" cy="1828800"/>
          </a:xfrm>
          <a:prstGeom prst="cloudCallout">
            <a:avLst>
              <a:gd name="adj1" fmla="val -92273"/>
              <a:gd name="adj2" fmla="val 582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 jest funkcją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częściową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m(r)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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276720"/>
            <a:ext cx="45720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dowolnego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istnieje y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 taki, że  (x,y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819520"/>
            <a:ext cx="2895480" cy="1447560"/>
          </a:xfrm>
          <a:prstGeom prst="cloudCallout">
            <a:avLst>
              <a:gd name="adj1" fmla="val -96106"/>
              <a:gd name="adj2" fmla="val 2160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 jest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ą całkowitą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m(x)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09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zważmy relację binarną 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3434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zbiór Polaków, Y zbiór  Polek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 r ={(x,y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: x  jest mężem y}. Relacja r jest funkcją, bo każdy mężczyzna o ile jest żonaty, to tylko z jedną kobietą.Relacja r jest funkcją częściową,a nie jest funkcją całkowitą, bo są tacy mężczyźni, którzy nie mają ż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88F-0578-4CDF-904C-35D952FC57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ykres funk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4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unkcja charakterystyczna zbi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’,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Y= {0,1}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lacja dwuczłonowa r taka, ż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 = {(x,0) :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}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{(x,1) :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funkcją określoną na X’ i o wartościach w zbiorze {0,1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200400"/>
            <a:ext cx="5638680" cy="82548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kresem funkcji f :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nazywamy zbiór par (x,y) takich, że f(x) =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09480" y="4800600"/>
            <a:ext cx="3178080" cy="1313640"/>
            <a:chOff x="609480" y="4800600"/>
            <a:chExt cx="3178080" cy="1313640"/>
          </a:xfrm>
        </p:grpSpPr>
        <p:sp>
          <p:nvSpPr>
            <p:cNvPr id="104" name=""/>
            <p:cNvSpPr/>
            <p:nvPr/>
          </p:nvSpPr>
          <p:spPr>
            <a:xfrm>
              <a:off x="609480" y="4800600"/>
              <a:ext cx="3178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zykład 5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+x dla x&gt;0, x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f(x)=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-x dla x 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,  x</a:t>
              </a:r>
              <a:r>
                <a:rPr b="0" lang="pl-P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98080" y="5181480"/>
              <a:ext cx="47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886200" y="4343400"/>
            <a:ext cx="2286000" cy="1828800"/>
            <a:chOff x="3886200" y="4343400"/>
            <a:chExt cx="2286000" cy="1828800"/>
          </a:xfrm>
        </p:grpSpPr>
        <p:sp>
          <p:nvSpPr>
            <p:cNvPr id="107" name=""/>
            <p:cNvSpPr/>
            <p:nvPr/>
          </p:nvSpPr>
          <p:spPr>
            <a:xfrm>
              <a:off x="3886200" y="4343400"/>
              <a:ext cx="2286000" cy="1828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800600" y="44197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8480" y="5715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800600" y="495252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038120" y="5028840"/>
              <a:ext cx="7621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6920" y="45720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f(x)= |x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705720" y="3048120"/>
            <a:ext cx="2438280" cy="1523880"/>
            <a:chOff x="6705720" y="3048120"/>
            <a:chExt cx="2438280" cy="1523880"/>
          </a:xfrm>
        </p:grpSpPr>
        <p:sp>
          <p:nvSpPr>
            <p:cNvPr id="114" name=""/>
            <p:cNvSpPr/>
            <p:nvPr/>
          </p:nvSpPr>
          <p:spPr>
            <a:xfrm>
              <a:off x="6705720" y="3048120"/>
              <a:ext cx="243828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rzykład 6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X={1,2,3,4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x        1   2   3    4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f(x)    1   8   27  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3886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05720" y="41148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0120" y="3886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1000" y="3886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1880" y="3886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5880" y="1143000"/>
            <a:ext cx="2438640" cy="1480320"/>
            <a:chOff x="6095880" y="1143000"/>
            <a:chExt cx="2438640" cy="1480320"/>
          </a:xfrm>
        </p:grpSpPr>
        <p:sp>
          <p:nvSpPr>
            <p:cNvPr id="121" name=""/>
            <p:cNvSpPr/>
            <p:nvPr/>
          </p:nvSpPr>
          <p:spPr>
            <a:xfrm>
              <a:off x="6095880" y="1143000"/>
              <a:ext cx="2438640" cy="144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2286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781680" y="12949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62920" y="220968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77120" y="1371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5720" y="1676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91520" y="2286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172200" y="2209680"/>
            <a:ext cx="9907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1676520"/>
            <a:ext cx="91440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77320" y="2209680"/>
            <a:ext cx="3808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48006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7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  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)= najmniejsze takie n, że 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 i n&gt;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38B8-DDD8-488E-A336-A11E102E87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sności funk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4953240" cy="213336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iemy, że funkcja f :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 jest odwzorowan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óżnowartościowy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ttw różnym elementom  zbioru X funkcja przyporządkowuje różne elementy zbioru Y, tz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dowolnych x, x’, jeśli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’, to f(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’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1143000"/>
            <a:ext cx="2666880" cy="283824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iemy, że funkcj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: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dwzorowaniem   n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biór Y  wttw  każdy element zbioru Y jest wartością funkcji f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zn. dla dowolnego y istnieje x, takie, że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f(x) = 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685800"/>
            <a:ext cx="17049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finicj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4800600"/>
            <a:ext cx="510552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dwzorowanie różnowartościowe + odwzorowanie na = odwzorowanie wzajemnie jednoznacz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3657600"/>
            <a:ext cx="2590920" cy="2514600"/>
            <a:chOff x="685800" y="3657600"/>
            <a:chExt cx="2590920" cy="2514600"/>
          </a:xfrm>
        </p:grpSpPr>
        <p:sp>
          <p:nvSpPr>
            <p:cNvPr id="138" name=""/>
            <p:cNvSpPr/>
            <p:nvPr/>
          </p:nvSpPr>
          <p:spPr>
            <a:xfrm>
              <a:off x="944640" y="4114800"/>
              <a:ext cx="258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44640" y="4572000"/>
              <a:ext cx="258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44640" y="4952880"/>
              <a:ext cx="258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44640" y="5410080"/>
              <a:ext cx="25884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8280" y="3962520"/>
              <a:ext cx="2588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4572000"/>
              <a:ext cx="2588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5105520"/>
              <a:ext cx="2588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3657600"/>
              <a:ext cx="2590920" cy="25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8280" y="5638680"/>
              <a:ext cx="2588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2193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7242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219320" y="41911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219320" y="480024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86200" y="4038480"/>
            <a:ext cx="1380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njekcja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19320" y="4800240"/>
            <a:ext cx="1218960" cy="76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638680"/>
            <a:ext cx="1295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48520" y="4267080"/>
            <a:ext cx="1609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urjekcja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629400" y="5715000"/>
            <a:ext cx="139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bijekcja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705720" y="380880"/>
            <a:ext cx="1828800" cy="672840"/>
            <a:chOff x="6705720" y="380880"/>
            <a:chExt cx="1828800" cy="672840"/>
          </a:xfrm>
        </p:grpSpPr>
        <p:sp>
          <p:nvSpPr>
            <p:cNvPr id="157" name=""/>
            <p:cNvSpPr/>
            <p:nvPr/>
          </p:nvSpPr>
          <p:spPr>
            <a:xfrm>
              <a:off x="6705720" y="53316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f : X 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43800" y="3808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819520" y="762120"/>
            <a:ext cx="1904760" cy="699840"/>
            <a:chOff x="2819520" y="762120"/>
            <a:chExt cx="1904760" cy="699840"/>
          </a:xfrm>
        </p:grpSpPr>
        <p:sp>
          <p:nvSpPr>
            <p:cNvPr id="160" name=""/>
            <p:cNvSpPr/>
            <p:nvPr/>
          </p:nvSpPr>
          <p:spPr>
            <a:xfrm>
              <a:off x="2819520" y="94140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f : X 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05320" y="76212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1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76C-6584-4C31-B39F-F3432FCC9F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914400"/>
            <a:ext cx="8153280" cy="13816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na jest relacja  r = {(x,y)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 : y = 2x/(x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+ 1)  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y r jest funkcją?  TAK, bo dla każdego x jest tylko jedno y takie, że x 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5257800"/>
            <a:ext cx="42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 funkcja f wyznaczona przez t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lację jest różnowartościow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590920"/>
            <a:ext cx="3809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edziną  funkcj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f(x)= 2x/(x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+ 1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znaczonej przez r jest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ór liczb rzeczywistych R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2286000"/>
            <a:ext cx="3809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 funkcja f jest odwzorowaniem na zbiór R?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29718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, bo nie ma takiego x, by f(x) = 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2670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o jest przeciwdziedziną tej funkcj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581280"/>
            <a:ext cx="4191120" cy="1447920"/>
          </a:xfrm>
          <a:prstGeom prst="wedgeRectCallout">
            <a:avLst>
              <a:gd name="adj1" fmla="val -81324"/>
              <a:gd name="adj2" fmla="val 26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czywiście (x+1)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0 oraz (x-1)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0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tąd    2x /(x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+ 1)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1 i 2x /(x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+ 1)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-1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Czyli Im(f) = [-1,1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5105520"/>
            <a:ext cx="3276720" cy="1066680"/>
          </a:xfrm>
          <a:prstGeom prst="wedgeEllipseCallout">
            <a:avLst>
              <a:gd name="adj1" fmla="val 73689"/>
              <a:gd name="adj2" fmla="val 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imes New Roman"/>
              </a:rPr>
              <a:t>NIE. </a:t>
            </a:r>
            <a:br>
              <a:rPr sz="2000"/>
            </a:br>
            <a:r>
              <a:rPr b="0" lang="pl-PL" sz="2000" spc="-1" strike="noStrike">
                <a:solidFill>
                  <a:srgbClr val="ffffcc"/>
                </a:solidFill>
                <a:latin typeface="Times New Roman"/>
              </a:rPr>
              <a:t> f(2)= f(1/2)= 4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29000" y="304920"/>
            <a:ext cx="20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zykła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468-F6A4-4742-AC7D-0D9B11FA3C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braz wyznaczony przez funkcj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914400"/>
            <a:ext cx="2590920" cy="2362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914400"/>
            <a:ext cx="2819160" cy="236232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1752480"/>
            <a:ext cx="114300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1371600"/>
            <a:ext cx="2057400" cy="304920"/>
          </a:xfrm>
          <a:prstGeom prst="rightArrow">
            <a:avLst>
              <a:gd name="adj1" fmla="val 50000"/>
              <a:gd name="adj2" fmla="val 1686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124080"/>
            <a:ext cx="381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razem zbioru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wyznaczonym przez funkcję f nazywamy zbiór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(A) = {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 : istnieje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takie, że f(x) = y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676520"/>
            <a:ext cx="99036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3048120"/>
            <a:ext cx="449568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= zbiór obywateli naszego kraju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: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, tak, że f(x) = wiek osoby x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A= zbiór przedszkolaków, wted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A) = {3,4,5,6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20574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029200"/>
            <a:ext cx="32004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(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 = f(A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(B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(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(A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4724280"/>
            <a:ext cx="4267080" cy="1374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sin : R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[-1,+1]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= [-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-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/2]    B =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/2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A) = [-1,0]       f(B)= [0,1]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)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f(A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(B) = {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4D1-BB4E-42C1-9110-5E0DAD25E52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eciwobr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914400"/>
            <a:ext cx="2590920" cy="23623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914400"/>
            <a:ext cx="2819160" cy="236232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1371600"/>
            <a:ext cx="2057400" cy="304920"/>
          </a:xfrm>
          <a:prstGeom prst="rightArrow">
            <a:avLst>
              <a:gd name="adj1" fmla="val 50000"/>
              <a:gd name="adj2" fmla="val 1686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1240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ciwobrazem zbioru 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wyznaczonym przez funkcję f nazywamy zbiór  f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) taki, że f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) = {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: f(x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752480"/>
            <a:ext cx="14479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1676520"/>
            <a:ext cx="9144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2057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3200400"/>
            <a:ext cx="3657600" cy="1313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ażmy funkcję sin i niech B={0,1,-1}. Wted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) = {k</a:t>
            </a:r>
            <a:r>
              <a:rPr b="0" lang="pl-PL" sz="2000" spc="-1" strike="noStrike" baseline="-8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 k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4724280"/>
            <a:ext cx="41148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: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, A,B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 = f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 = f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75248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80880" y="4952520"/>
            <a:ext cx="3200400" cy="838800"/>
            <a:chOff x="380880" y="4952520"/>
            <a:chExt cx="3200400" cy="838800"/>
          </a:xfrm>
        </p:grpSpPr>
        <p:sp>
          <p:nvSpPr>
            <p:cNvPr id="197" name=""/>
            <p:cNvSpPr/>
            <p:nvPr/>
          </p:nvSpPr>
          <p:spPr>
            <a:xfrm>
              <a:off x="380880" y="57913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752480" y="495252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533520" y="4952520"/>
              <a:ext cx="12189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76520" y="4952880"/>
              <a:ext cx="15228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666880" y="5715000"/>
            <a:ext cx="685800" cy="76320"/>
          </a:xfrm>
          <a:prstGeom prst="rect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952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5334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5715000"/>
            <a:ext cx="5331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  G.Mirkowska   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719-9C3A-4AA6-B62D-D187D3E133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 października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18:27:41Z</dcterms:created>
  <dc:creator>andrzej</dc:creator>
  <dc:description/>
  <dc:language>en-US</dc:language>
  <cp:lastModifiedBy>Jacek Kaliński</cp:lastModifiedBy>
  <dcterms:modified xsi:type="dcterms:W3CDTF">2002-05-29T17:56:15Z</dcterms:modified>
  <cp:revision>32</cp:revision>
  <dc:subject/>
  <dc:title>Wykład 3</dc:title>
</cp:coreProperties>
</file>