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29ED-B97C-419C-8510-D94C8BD7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77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777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B2C-3C45-4900-AA32-964FED22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DD9-9D5D-4E0A-93BC-2271C692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129528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129528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383616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383616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8F24-0C0C-48AA-BD98-A01F757C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F98A-B128-4DD6-A96C-D5CFB95C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CE80-F485-473E-800E-5A67FBCC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3DDA-4575-4FDD-B028-07C6D01C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514A-7865-4D60-AF05-DE6BFF67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37A7-E7E3-4A33-8B80-4C869810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797C-44D2-41BF-BB44-D2303856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37F3-A601-4718-AC39-E87B55D2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712-B816-43FA-BB39-5AC13A74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EE9F-CEAE-4877-8DA1-D5ADA74E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777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06A1-F274-4FC3-8CD3-E57851FF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77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3836160"/>
            <a:ext cx="777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E13B-7F90-4277-BB3E-2C921AC1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0AE5-C212-4A86-AF32-C74BDD09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129528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129528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383616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383616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3836160"/>
            <a:ext cx="2502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425F-A698-4DC3-A634-C02C18C5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C58E-3BFF-4FF3-ABD0-0DFCA912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4A8-922A-45A5-8D80-5093DFC6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A748-3A6B-4673-BB13-9F13D0B0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22860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773E-C8AD-4DBF-87EF-41EED2AA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E279-84B0-451D-BF0E-57C30641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383616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83C2-02A8-4EAD-A327-24E25BA0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70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1295280"/>
            <a:ext cx="37926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3836160"/>
            <a:ext cx="777240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BF3-FBA8-40C6-9E5D-502E3983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59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248520"/>
            <a:ext cx="768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1786-4FA4-4D0D-AD14-9D7F6D0306D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914400"/>
            <a:ext cx="8596440" cy="33012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914400"/>
            <a:ext cx="295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839080" y="9144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392040" y="91440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228600" y="0"/>
            <a:ext cx="849240" cy="6858000"/>
            <a:chOff x="22860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20700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20628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20556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20628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20556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20556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328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2860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27428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924320" y="617220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B593-4ABC-4C23-8B56-0D1E130D21F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ykład 11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Impact"/>
              </a:rPr>
              <a:t>Elementy Kombinatoryki  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48D7-6DBA-45CE-837B-DB9B6205F4D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2 grudnia 2001</a:t>
            </a: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Rozmieszczenia uporządkowane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12193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zważmy sytuację, w której rozmieszczamy n obiektów w m pudełkach, ale pudełka zawierają teraz ciągi,  a nie zbiory  elemen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2133720"/>
            <a:ext cx="50292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e jest różnych możliwych rozmieszczeń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orządkowanych n obiektów w m pudełka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3124080"/>
            <a:ext cx="7696080" cy="120924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szy element na m sposobów, 2gi elememet na (m+1) sposob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-ty element można umieścić w pudełku k o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elementach  na 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+1- sposobów.  Czyli razem, ity element wkładamy na  m+i-1 sposob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95280" y="4952880"/>
            <a:ext cx="7010640" cy="1084680"/>
            <a:chOff x="1295280" y="4952880"/>
            <a:chExt cx="7010640" cy="1084680"/>
          </a:xfrm>
        </p:grpSpPr>
        <p:sp>
          <p:nvSpPr>
            <p:cNvPr id="271" name=""/>
            <p:cNvSpPr/>
            <p:nvPr/>
          </p:nvSpPr>
          <p:spPr>
            <a:xfrm>
              <a:off x="1371600" y="4952880"/>
              <a:ext cx="1219320" cy="6858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,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952880"/>
              <a:ext cx="1219320" cy="6858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52880" y="4952880"/>
              <a:ext cx="1219320" cy="6858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29400" y="4952880"/>
              <a:ext cx="1219320" cy="6858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95280" y="56386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udełko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95480" y="56386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udełko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76920" y="5638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udełko 3 .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53080" y="56386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udełko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37339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980720" y="4495680"/>
            <a:ext cx="175284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3392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4495680"/>
            <a:ext cx="160020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14800" y="4419720"/>
            <a:ext cx="320040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8280" y="42670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33920" y="449568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95680" y="45720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91320" y="426708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81680" y="2057400"/>
            <a:ext cx="2133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p.:  m(m+1)...(m+n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C52-7DB4-41EA-9700-FE61DC6A753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grudnia 2001</a:t>
            </a: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447920"/>
            <a:ext cx="6705720" cy="19234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puśćmy, że zajmujemy się układaniem rozkładu zajęć. Jedno z zadań z tym związanych to  przypisanie zajęć(grup) do sal. Oczywiście o tej samej godzinie nie możemy umieścić w tej samej sali różnych zajęć. Przypuśćmy, że dysponujemy  7 salami i mamy 40 rożnych zajęć. Ile różnych rozkładów zajęć można utworzyć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752480" y="3657600"/>
            <a:ext cx="5562720" cy="685800"/>
            <a:chOff x="1752480" y="3657600"/>
            <a:chExt cx="5562720" cy="685800"/>
          </a:xfrm>
        </p:grpSpPr>
        <p:sp>
          <p:nvSpPr>
            <p:cNvPr id="292" name=""/>
            <p:cNvSpPr txBox="1"/>
            <p:nvPr/>
          </p:nvSpPr>
          <p:spPr>
            <a:xfrm>
              <a:off x="1752480" y="3733920"/>
              <a:ext cx="121932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sala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29000" y="41148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5105520" y="3657600"/>
              <a:ext cx="22096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lista grup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371600" y="4724280"/>
            <a:ext cx="44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zyli: Ile jest różnych rozmieszczeń uporządkowanych  40 obiektów w siedmiu  pudełkach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848720" y="205740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citt10"/>
              </a:rPr>
              <a:t>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citt10"/>
              <a:ea typeface="dcitt10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4648320"/>
            <a:ext cx="2971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.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-4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4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 </a:t>
            </a:r>
            <a:r>
              <a:rPr b="0" lang="en-US" sz="2400" spc="-1" strike="noStrike" baseline="-4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400" spc="-1" strike="noStrike" baseline="-4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+40-1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CCE-FFE8-47EE-B942-4BD0342CEC4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grudnia 2001</a:t>
            </a: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ermutacj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1219320" y="1371600"/>
            <a:ext cx="358128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 wyrazowe wariacje ze zbioru n elementowego nazywamy permutacjami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czej: permutacje to funkcje całkowite, różnowartościowe ze zbioru X w zbiór 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2209680"/>
            <a:ext cx="365760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czba permutacji P(n) zbioru n elementowego wynosi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*(n-1)...*2 *1, tzn. 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3352680"/>
            <a:ext cx="7696080" cy="27046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wód tw. przez  indukcje ze względu na 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rok 1. Liczba permutacji w zb. 1-elementowym wynosi 1. P(1)=1!=1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łożenie Ind.: P(k)=k!   dla pewnego k &gt;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eza: P(k+1)= (k+1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wód.  Element (k+1)szy  umieszczamy  na wszystkich  możliwych pozycjach (tzn. k+1 pozycjach ) we wszystkich k-elementowych permutacjach.  Zatem P(k+1)= P(k) * (k+1)= (k+1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791320" y="1295280"/>
            <a:ext cx="22669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wierdzen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090D-4742-4BF3-94EC-288C4C53C0D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grudnia 2001</a:t>
            </a: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Oszacowanie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238880" y="1371600"/>
            <a:ext cx="838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citt10"/>
              </a:rPr>
              <a:t>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citt10"/>
              <a:ea typeface="dcitt10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2514600"/>
            <a:ext cx="20574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 n!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3429000"/>
            <a:ext cx="5943600" cy="10159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zięki  wzorowi Stirlinga  ma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!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) (n/e)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1+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1/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4952880"/>
            <a:ext cx="32767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 n! = O(n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00600" y="4952880"/>
            <a:ext cx="32767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lg n!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n lg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828800" y="1447920"/>
            <a:ext cx="4648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cti10"/>
              </a:rPr>
              <a:t>Co to za liczba   n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cti10"/>
              <a:ea typeface="dcti1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B17-05F6-473C-8564-D7972F55B45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grudnia 2001</a:t>
            </a: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1523880"/>
            <a:ext cx="5334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zważmy permutacje zbioru {1,2,3,4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2133720"/>
            <a:ext cx="1828800" cy="3751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,2,3,4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,2,4,3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,3,2,4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,3,4,2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,4,2,3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,4,3,2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,1,3,4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,1,4,3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,3,1,4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,3,4,1 i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2133720"/>
            <a:ext cx="1904760" cy="3751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2,3,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1,3,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3,2,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1,2,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3,1,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2,1,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2,4,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1,4,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4,2,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1,2,3itd</a:t>
            </a:r>
            <a:r>
              <a:rPr b="0" lang="en-US" sz="2400" spc="-1" strike="noStrike" baseline="-6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2133720"/>
            <a:ext cx="1904760" cy="3751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2,3,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3,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3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3,4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2,4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2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2,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3,2,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3,4,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4,2itd</a:t>
            </a:r>
            <a:r>
              <a:rPr b="0" lang="en-US" sz="2400" spc="-1" strike="noStrike" baseline="-6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F827-C1A5-45F6-9093-1AC96F9DE73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grudnia 2001</a:t>
            </a: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Interpretacja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6" name=""/>
          <p:cNvSpPr/>
          <p:nvPr/>
        </p:nvSpPr>
        <p:spPr>
          <a:xfrm>
            <a:off x="1523880" y="5389560"/>
            <a:ext cx="685800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en ciąg permutacji odpowiada drodze Hamiltona w graf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35320" y="5060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67080" y="4570560"/>
            <a:ext cx="11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886200"/>
            <a:ext cx="11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2819520"/>
            <a:ext cx="11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90680" y="1873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1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70160" y="1219320"/>
            <a:ext cx="11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5240" y="1219320"/>
            <a:ext cx="11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56360" y="1382760"/>
            <a:ext cx="11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4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07000" y="2200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9440" y="2854440"/>
            <a:ext cx="11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95920" y="3672000"/>
            <a:ext cx="11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19920" y="4800600"/>
            <a:ext cx="11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9880" y="4572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962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2920" y="3098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79960" y="2608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84680" y="3098880"/>
            <a:ext cx="11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87760" y="2444760"/>
            <a:ext cx="11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84680" y="1954080"/>
            <a:ext cx="11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70160" y="2527200"/>
            <a:ext cx="11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080880" y="4572000"/>
            <a:ext cx="1109880" cy="16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24240" y="3508200"/>
            <a:ext cx="0" cy="114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311360" y="2690640"/>
            <a:ext cx="439560" cy="490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209680"/>
            <a:ext cx="671400" cy="317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433680" y="2200320"/>
            <a:ext cx="527040" cy="49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057400" y="2819520"/>
            <a:ext cx="1295280" cy="193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1904760" y="3048120"/>
            <a:ext cx="7596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057400" y="3344760"/>
            <a:ext cx="673200" cy="617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54200" y="3017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7720" y="2200320"/>
            <a:ext cx="88920" cy="981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541840" y="1709280"/>
            <a:ext cx="701640" cy="327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554200" y="1463760"/>
            <a:ext cx="790560" cy="49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784320" y="1371600"/>
            <a:ext cx="787320" cy="11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5105520" y="1371240"/>
            <a:ext cx="12189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02280" y="1954080"/>
            <a:ext cx="11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4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838760" y="5029200"/>
            <a:ext cx="1181160" cy="27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324480" y="3916440"/>
            <a:ext cx="709560" cy="960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6419880" y="2935440"/>
            <a:ext cx="614160" cy="90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595920" y="2444400"/>
            <a:ext cx="527040" cy="490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122960" y="2444760"/>
            <a:ext cx="351000" cy="57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979600" y="3098880"/>
            <a:ext cx="1143000" cy="326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257800" y="3508200"/>
            <a:ext cx="722160" cy="530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3581280"/>
            <a:ext cx="11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3733920" y="3733920"/>
            <a:ext cx="1295280" cy="304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03560" y="3998880"/>
            <a:ext cx="52704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06640" y="4897440"/>
            <a:ext cx="131760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904760" y="22096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95920" y="1709640"/>
            <a:ext cx="52704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7122960" y="3181320"/>
            <a:ext cx="263520" cy="49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575240" y="4243320"/>
            <a:ext cx="614160" cy="10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67080" y="4572000"/>
            <a:ext cx="162576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44760" y="2935440"/>
            <a:ext cx="52704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02280" y="2608200"/>
            <a:ext cx="123012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224240" y="1546200"/>
            <a:ext cx="61452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62360" y="29354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886200" y="3262320"/>
            <a:ext cx="952560" cy="395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278320" y="2199960"/>
            <a:ext cx="87480" cy="817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84680" y="1463760"/>
            <a:ext cx="140472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06640" y="3344760"/>
            <a:ext cx="522360" cy="3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14800" y="3262320"/>
            <a:ext cx="61452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93B6-30F2-4C3B-9430-39BCD2CA44A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grudnia 2001</a:t>
            </a: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66"/>
                </a:solidFill>
                <a:latin typeface="Impact"/>
              </a:rPr>
              <a:t>Generowanie   permutacji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78" name=""/>
          <p:cNvSpPr/>
          <p:nvPr/>
        </p:nvSpPr>
        <p:spPr>
          <a:xfrm>
            <a:off x="1295280" y="129528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owanie wszystkich permutacji przez minimalną liczbę transpozycji sąsiednich elemen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47920" y="2133720"/>
            <a:ext cx="5181480" cy="4057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cedure ANTYLEX(m)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if  m=1 then wypisz_permutację P(1:n)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els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for  i :=1 to m d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ANTYLEX(m-1);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if   i&lt;m then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zamień(P(i), P(m));   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odwróć(m-1);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fi;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od;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f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81680" y="2666880"/>
            <a:ext cx="1981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czątko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i)=i  dla i=1...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EE68-5821-4507-825E-D6385722666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grudnia 2001</a:t>
            </a: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Symbol dwumianowy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82" name=""/>
          <p:cNvSpPr/>
          <p:nvPr/>
        </p:nvSpPr>
        <p:spPr>
          <a:xfrm>
            <a:off x="1371600" y="2286000"/>
            <a:ext cx="586728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czbę wszystkich podzbiorów k-elementowych zbioru n-elementowego oznaczamy przez (n nad k) i nazywamy symbolem dwumianowym Newt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71600" y="144792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śli X ma n elementów, to liczba wszystkich podzbiorów zbioru X wynosi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00800" y="1295280"/>
            <a:ext cx="27432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ombinacj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bez powtórze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29200" y="3505320"/>
            <a:ext cx="3352680" cy="86256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ma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n nad k)=0 gdy k&gt;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 nad k)= n!/ (k! (n-k)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95280" y="4419720"/>
            <a:ext cx="7620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iągów różnowartościowych długości k  w zbiorze n elem. j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 (n-1)... (n-k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le ciągów o różniących się kolejnością elementów jest  k! Stą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57150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 nad k)= n (n-1)... (n-k+1)/k!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 rot="5400000">
            <a:off x="7591320" y="4981680"/>
            <a:ext cx="1619280" cy="495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Dowó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85800" y="3429000"/>
            <a:ext cx="3124080" cy="1066680"/>
            <a:chOff x="685800" y="3429000"/>
            <a:chExt cx="3124080" cy="1066680"/>
          </a:xfrm>
        </p:grpSpPr>
        <p:sp>
          <p:nvSpPr>
            <p:cNvPr id="390" name=""/>
            <p:cNvSpPr/>
            <p:nvPr/>
          </p:nvSpPr>
          <p:spPr>
            <a:xfrm>
              <a:off x="685800" y="3429000"/>
              <a:ext cx="3124080" cy="1066680"/>
            </a:xfrm>
            <a:prstGeom prst="cloudCallout">
              <a:avLst>
                <a:gd name="adj1" fmla="val 94412"/>
                <a:gd name="adj2" fmla="val -66069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+y)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n nad i) x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n-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1746360" y="3733920"/>
                  <a:ext cx="30456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n</m:t>
                          </m:r>
                        </m:sup>
                        <m:e/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76C-6371-4F0B-A726-D62617A6AF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grudnia 2001</a:t>
            </a: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66"/>
                </a:solidFill>
                <a:latin typeface="Impact"/>
              </a:rPr>
              <a:t>Trójkąt   Pascala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93" name=""/>
          <p:cNvSpPr/>
          <p:nvPr/>
        </p:nvSpPr>
        <p:spPr>
          <a:xfrm>
            <a:off x="1523880" y="1676520"/>
            <a:ext cx="3505320" cy="4597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nad i) : i=0...n} = 2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29200" y="1676520"/>
            <a:ext cx="3657600" cy="4597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nad k) = (n nad n-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2438280"/>
            <a:ext cx="5791320" cy="4597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nad k) = (n-1 nad k ) + (n-1 nad k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43200" y="3352680"/>
            <a:ext cx="3352680" cy="2288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1  1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             1   2   1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          1   3    3    1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       1   4    6     4     1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   1    5   10   10    5     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D05F-A6C1-4B36-8658-665047BF38E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grudnia 2001</a:t>
            </a: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Przykłady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1447920"/>
            <a:ext cx="6553080" cy="703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Ile jest ciągów zero-jedynkowych o długości n, w których 1 występuje dokładnie k raz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23880" y="2362320"/>
            <a:ext cx="58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Uwag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Ciąg ( 0  1  0  1   1   1   0   0   0) można traktowć jako funkcję charakterystyczną zbior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3124080"/>
            <a:ext cx="3352680" cy="398880"/>
          </a:xfrm>
          <a:prstGeom prst="rect">
            <a:avLst/>
          </a:prstGeom>
          <a:solidFill>
            <a:srgbClr val="e1e7e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 odpowiedź :  (n nad 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371600" y="3886200"/>
            <a:ext cx="5638680" cy="76464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ch będzie graf pełny G (bez pętli) o n wierzchołkach. Ile taki graf ma krawędzi 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95280" y="487692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wag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ażda krawędź wyznacza 2 elementowy podzbiór i każdy 2 elementowy podzbiór zbioru wierzchołków wyznacza krawęd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562720"/>
            <a:ext cx="3352680" cy="398880"/>
          </a:xfrm>
          <a:prstGeom prst="rect">
            <a:avLst/>
          </a:prstGeom>
          <a:solidFill>
            <a:srgbClr val="e1e7e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 odpowiedź :  (n nad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363-F69A-49D3-BD8D-172AEBE5EE0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grudnia 2001</a:t>
            </a: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oble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2286000"/>
            <a:ext cx="7048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Na ile sposobów można rozmieścić pewne obiekty </a:t>
            </a:r>
            <a:endParaRPr b="0" lang="en-US" sz="2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w pewnej liczbie pudełek,</a:t>
            </a:r>
            <a:endParaRPr b="0" lang="en-US" sz="2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en-US" sz="2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ak by spełnione były zadane ograniczenia?</a:t>
            </a:r>
            <a:endParaRPr b="0" lang="en-US" sz="2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191120" y="426708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citt10"/>
              </a:rPr>
              <a:t>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citt10"/>
              <a:ea typeface="dcitt1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8B3-05C1-4FF6-A5D0-3DCC21728E0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grudnia 2001</a:t>
            </a: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Funkcje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1447920"/>
            <a:ext cx="6782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ble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Dane są dwa zbiory X i Y skończone, X= {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,x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, Y={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,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}. Ile jest funkcji całkowitych  f :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14400" y="2666880"/>
            <a:ext cx="8001000" cy="3355560"/>
            <a:chOff x="914400" y="2666880"/>
            <a:chExt cx="8001000" cy="3355560"/>
          </a:xfrm>
        </p:grpSpPr>
        <p:grpSp>
          <p:nvGrpSpPr>
            <p:cNvPr id="139" name=""/>
            <p:cNvGrpSpPr/>
            <p:nvPr/>
          </p:nvGrpSpPr>
          <p:grpSpPr>
            <a:xfrm>
              <a:off x="1447560" y="2666880"/>
              <a:ext cx="7467840" cy="3355560"/>
              <a:chOff x="1447560" y="2666880"/>
              <a:chExt cx="7467840" cy="3355560"/>
            </a:xfrm>
          </p:grpSpPr>
          <p:sp>
            <p:nvSpPr>
              <p:cNvPr id="140" name=""/>
              <p:cNvSpPr/>
              <p:nvPr/>
            </p:nvSpPr>
            <p:spPr>
              <a:xfrm>
                <a:off x="1752480" y="4267080"/>
                <a:ext cx="838080" cy="76212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76360" y="4267080"/>
                <a:ext cx="838440" cy="76212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800600" y="4267080"/>
                <a:ext cx="838080" cy="76212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24480" y="4267080"/>
                <a:ext cx="838080" cy="76212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96080" y="4267080"/>
                <a:ext cx="838080" cy="76212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7560" y="5029200"/>
                <a:ext cx="15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udełko nr.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95480" y="502920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udełko nr.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5680" y="502920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udełko nr. 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43600" y="502920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udełko nr. 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391160" y="5029200"/>
                <a:ext cx="15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udełko nr. 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76160" y="5562720"/>
                <a:ext cx="175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=7, m= 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47760" y="2666880"/>
                <a:ext cx="358164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:        a, b, c, d, e, f, 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91440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 flipH="1">
            <a:off x="2209680" y="3048120"/>
            <a:ext cx="19814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920" y="312408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038120" y="3048120"/>
            <a:ext cx="8384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44956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333760" y="3048120"/>
            <a:ext cx="1522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30481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449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3124080"/>
            <a:ext cx="19814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010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523880" y="5486400"/>
            <a:ext cx="7239240" cy="627480"/>
            <a:chOff x="1523880" y="5486400"/>
            <a:chExt cx="7239240" cy="627480"/>
          </a:xfrm>
        </p:grpSpPr>
        <p:sp>
          <p:nvSpPr>
            <p:cNvPr id="168" name=""/>
            <p:cNvSpPr/>
            <p:nvPr/>
          </p:nvSpPr>
          <p:spPr>
            <a:xfrm>
              <a:off x="4267080" y="5715000"/>
              <a:ext cx="4496040" cy="3988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eśli |X|=n i |Y|=m, to |{f: X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}| = m 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1523880" y="5486400"/>
              <a:ext cx="22860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71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Twierdzeni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660-A92B-42B6-85A7-27AF1F36FED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grudnia 2001</a:t>
            </a: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Przykład  1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1447920"/>
            <a:ext cx="64008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ile sposobów można wylosować pięć kart (ze zwracaniem) z talii zawierającej 52 kart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3623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czej mówiąc : ile jest 5elementowych ciągów, w których każdy element to jedna 52 kar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3581280"/>
            <a:ext cx="2210040" cy="143460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p.:  52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352680"/>
            <a:ext cx="548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e jest funkcji ze zbioru {1,2,3,4,5} w zbiór 52 elementow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4724280"/>
            <a:ext cx="5790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ile sposobów można włożyć liczby 1,2,3,4,5 do 52 pudełe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696080" y="1676520"/>
            <a:ext cx="838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citt10"/>
              </a:rPr>
              <a:t>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citt10"/>
              <a:ea typeface="dcitt1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862-9D9F-4466-B963-6AD7C6EB8AC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grudnia 2001</a:t>
            </a: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Przykład  2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1371600"/>
            <a:ext cx="678168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ile sposobów można pokolorować graf o n wierzchołkach, jeśli dysponujemy k koloram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52480" y="2362320"/>
            <a:ext cx="6019560" cy="703800"/>
            <a:chOff x="1752480" y="2362320"/>
            <a:chExt cx="6019560" cy="703800"/>
          </a:xfrm>
        </p:grpSpPr>
        <p:sp>
          <p:nvSpPr>
            <p:cNvPr id="180" name=""/>
            <p:cNvSpPr/>
            <p:nvPr/>
          </p:nvSpPr>
          <p:spPr>
            <a:xfrm>
              <a:off x="1752480" y="2362320"/>
              <a:ext cx="601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aczej: Ile jest różnych funkcji całkowitych postaci Kolor :  Wierzchołki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Zbiór_koloró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7314840" y="2362320"/>
              <a:ext cx="4572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8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Garamond"/>
                </a:rPr>
                <a:t>?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  <a:ea typeface="Garamond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371600" y="3657600"/>
            <a:ext cx="1981080" cy="1676520"/>
            <a:chOff x="1371600" y="3657600"/>
            <a:chExt cx="1981080" cy="1676520"/>
          </a:xfrm>
        </p:grpSpPr>
        <p:grpSp>
          <p:nvGrpSpPr>
            <p:cNvPr id="183" name=""/>
            <p:cNvGrpSpPr/>
            <p:nvPr/>
          </p:nvGrpSpPr>
          <p:grpSpPr>
            <a:xfrm>
              <a:off x="1676520" y="3733920"/>
              <a:ext cx="1295280" cy="1523880"/>
              <a:chOff x="1676520" y="3733920"/>
              <a:chExt cx="1295280" cy="1523880"/>
            </a:xfrm>
          </p:grpSpPr>
          <p:sp>
            <p:nvSpPr>
              <p:cNvPr id="184" name=""/>
              <p:cNvSpPr/>
              <p:nvPr/>
            </p:nvSpPr>
            <p:spPr>
              <a:xfrm>
                <a:off x="1752480" y="38098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676520" y="457200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743200" y="457200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743200" y="3733920"/>
                <a:ext cx="228600" cy="228600"/>
              </a:xfrm>
              <a:prstGeom prst="ellipse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09680" y="5029200"/>
                <a:ext cx="228600" cy="228600"/>
              </a:xfrm>
              <a:prstGeom prst="ellipse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1980720" y="396252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05120" y="4038480"/>
                <a:ext cx="30456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819520" y="3962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981080" y="4038480"/>
                <a:ext cx="7621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1752480" y="4038480"/>
                <a:ext cx="763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438280" y="4723920"/>
                <a:ext cx="3049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371600" y="3657600"/>
              <a:ext cx="19810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733920" y="4114800"/>
            <a:ext cx="1523880" cy="1983600"/>
            <a:chOff x="3733920" y="4114800"/>
            <a:chExt cx="1523880" cy="1983600"/>
          </a:xfrm>
        </p:grpSpPr>
        <p:sp>
          <p:nvSpPr>
            <p:cNvPr id="197" name=""/>
            <p:cNvSpPr/>
            <p:nvPr/>
          </p:nvSpPr>
          <p:spPr>
            <a:xfrm>
              <a:off x="4191120" y="4114800"/>
              <a:ext cx="761760" cy="990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33920" y="5181480"/>
              <a:ext cx="152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erzchołki pomalowane na żół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705720" y="4114800"/>
            <a:ext cx="1600200" cy="1983600"/>
            <a:chOff x="6705720" y="4114800"/>
            <a:chExt cx="1600200" cy="1983600"/>
          </a:xfrm>
        </p:grpSpPr>
        <p:sp>
          <p:nvSpPr>
            <p:cNvPr id="200" name=""/>
            <p:cNvSpPr/>
            <p:nvPr/>
          </p:nvSpPr>
          <p:spPr>
            <a:xfrm>
              <a:off x="6858000" y="4114800"/>
              <a:ext cx="838080" cy="9907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05720" y="518148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erzchołki pomalowane na niebiesk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181480" y="4114800"/>
            <a:ext cx="1524240" cy="1983600"/>
            <a:chOff x="5181480" y="4114800"/>
            <a:chExt cx="1524240" cy="1983600"/>
          </a:xfrm>
        </p:grpSpPr>
        <p:sp>
          <p:nvSpPr>
            <p:cNvPr id="203" name=""/>
            <p:cNvSpPr/>
            <p:nvPr/>
          </p:nvSpPr>
          <p:spPr>
            <a:xfrm>
              <a:off x="5486400" y="4114800"/>
              <a:ext cx="838080" cy="990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1480" y="518148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erzchołki pomalowane na  czerwo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638680" y="3276720"/>
            <a:ext cx="2057400" cy="581400"/>
          </a:xfrm>
          <a:prstGeom prst="rect">
            <a:avLst/>
          </a:prstGeom>
          <a:solidFill>
            <a:srgbClr val="e1e7e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P.:  k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106-B3B2-4905-B643-3FBC06A750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grudnia 2001</a:t>
            </a: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Przykład  3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1600200"/>
            <a:ext cx="5562720" cy="703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e różnych liczb można zapisać w n elementowym rejestrze bitowy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238880" y="1447920"/>
            <a:ext cx="838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citt10"/>
              </a:rPr>
              <a:t>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citt10"/>
              <a:ea typeface="dcitt10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297180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e jest n elementowych ciągów, których wyrazami jest zero lub jed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419112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e jest różnych funkcji ze zbioru n elementowego i o wartościach w zbiorze{0,1}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2438280"/>
            <a:ext cx="457200" cy="990720"/>
          </a:xfrm>
          <a:custGeom>
            <a:avLst/>
            <a:gdLst>
              <a:gd name="textAreaLeft" fmla="*/ 61200 w 457200"/>
              <a:gd name="textAreaRight" fmla="*/ 396000 w 45720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3733920"/>
            <a:ext cx="457200" cy="990360"/>
          </a:xfrm>
          <a:custGeom>
            <a:avLst/>
            <a:gdLst>
              <a:gd name="textAreaLeft" fmla="*/ 61200 w 457200"/>
              <a:gd name="textAreaRight" fmla="*/ 396000 w 45720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5105520"/>
            <a:ext cx="3429000" cy="581400"/>
          </a:xfrm>
          <a:prstGeom prst="rect">
            <a:avLst/>
          </a:prstGeom>
          <a:solidFill>
            <a:srgbClr val="e1e7e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powiedź :   2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2CB-1C55-448C-887F-72D1B801FF6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grudnia 2001</a:t>
            </a: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Funkcje różnowartościowe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144792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, jeśli wymagamy aby każde pudełko zawierało co najwyżej jeden obiek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2286000"/>
            <a:ext cx="4038480" cy="70380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ytan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le jest funkcji całkowitych różnowartościowych  f :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320040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zywiście pierwszy element możemy włożyć do dowolnego pudełk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371600" y="5486400"/>
            <a:ext cx="5943600" cy="459720"/>
            <a:chOff x="1371600" y="5486400"/>
            <a:chExt cx="5943600" cy="459720"/>
          </a:xfrm>
        </p:grpSpPr>
        <p:sp>
          <p:nvSpPr>
            <p:cNvPr id="219" name=""/>
            <p:cNvSpPr/>
            <p:nvPr/>
          </p:nvSpPr>
          <p:spPr>
            <a:xfrm>
              <a:off x="6781680" y="5486400"/>
              <a:ext cx="533520" cy="3808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0" y="5486400"/>
              <a:ext cx="533520" cy="3808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00400" y="5486400"/>
              <a:ext cx="533520" cy="3808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14800" y="5486400"/>
              <a:ext cx="533520" cy="3808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29200" y="5486400"/>
              <a:ext cx="533520" cy="3808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67280" y="5486400"/>
              <a:ext cx="533520" cy="3808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71600" y="5486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 txBox="1"/>
          <p:nvPr/>
        </p:nvSpPr>
        <p:spPr>
          <a:xfrm>
            <a:off x="6705720" y="3505320"/>
            <a:ext cx="1828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  możliwości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3809880"/>
            <a:ext cx="5181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śli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łożyliśmy do pudełka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5410080"/>
            <a:ext cx="9144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411480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 możemy tam włożyć już innych elementów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057400" y="5257800"/>
            <a:ext cx="685800" cy="838080"/>
            <a:chOff x="2057400" y="5257800"/>
            <a:chExt cx="685800" cy="838080"/>
          </a:xfrm>
        </p:grpSpPr>
        <p:sp>
          <p:nvSpPr>
            <p:cNvPr id="231" name=""/>
            <p:cNvSpPr/>
            <p:nvPr/>
          </p:nvSpPr>
          <p:spPr>
            <a:xfrm>
              <a:off x="2057400" y="5257800"/>
              <a:ext cx="68580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133720" y="5257800"/>
              <a:ext cx="53352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447920" y="4572000"/>
            <a:ext cx="5029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zyli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żemy włożyć tylko do jednego z pozostałych pudełe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629400" y="4648320"/>
            <a:ext cx="2238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-1  możliwości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1905120"/>
            <a:ext cx="2438280" cy="1381680"/>
          </a:xfrm>
          <a:prstGeom prst="rect">
            <a:avLst/>
          </a:prstGeom>
          <a:solidFill>
            <a:srgbClr val="e1e7e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wied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6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-1) </a:t>
            </a:r>
            <a:r>
              <a:rPr b="0" lang="en-US" sz="2400" spc="-1" strike="noStrike" baseline="-6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-2) ... </a:t>
            </a:r>
            <a:r>
              <a:rPr b="0" lang="en-US" sz="2400" spc="-1" strike="noStrike" baseline="-6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-n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523880" y="2133720"/>
            <a:ext cx="838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citt10"/>
              </a:rPr>
              <a:t>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citt10"/>
              <a:ea typeface="dcitt1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1E1-D7DA-4B7B-92FD-306AECD369D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grudnia 2001</a:t>
            </a: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Wariacje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2362320"/>
            <a:ext cx="472428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iąg n różnych elementów  ze zbioru m elementowego  nazywa się wariacją n wyrazową ze zbioru m-elementowego  bez powtórze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: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371600"/>
            <a:ext cx="297180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   2     3     ...    n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2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3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...     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1828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1447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447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1447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1676520"/>
            <a:ext cx="289548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 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 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2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3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...  , y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28800" y="4098960"/>
            <a:ext cx="6172200" cy="208224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Niech A={1,2,3,4}. Wszystkie trzy-wyrazowe wariacje ze zbioru A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,2,3    1,2,4    1,3,2     1,3,4    1,4,2    1,4,3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,1,3    2,1,4    2,3,1     2,3,4    2,4,1    2,4,3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,1,2    3,1,4    3,2,1     3,2,4    3,4,1    3,4,2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,1,2    4,1,3    4,2,1     4,2,3    4,3,1    4,3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24480" y="2438280"/>
            <a:ext cx="2438640" cy="1069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niose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czba tych  wariacji wynos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(m-1)...(m-n+1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1371600"/>
            <a:ext cx="609480" cy="152280"/>
          </a:xfrm>
          <a:custGeom>
            <a:avLst/>
            <a:gdLst>
              <a:gd name="textAreaLeft" fmla="*/ 106560 w 609480"/>
              <a:gd name="textAreaRight" fmla="*/ 442080 w 60948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1447920"/>
            <a:ext cx="609840" cy="152280"/>
          </a:xfrm>
          <a:custGeom>
            <a:avLst/>
            <a:gdLst>
              <a:gd name="textAreaLeft" fmla="*/ 106560 w 609840"/>
              <a:gd name="textAreaRight" fmla="*/ 442080 w 60984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1523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14479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óżne elementy zbioru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26D-6DD2-4159-898F-E94B3B0E856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grudnia 2001</a:t>
            </a: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54" name=""/>
          <p:cNvSpPr/>
          <p:nvPr/>
        </p:nvSpPr>
        <p:spPr>
          <a:xfrm>
            <a:off x="1447920" y="1371600"/>
            <a:ext cx="6476760" cy="10087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ka jest liczba możliwych słów 5cio literowych, jeśli litery w słowie nie mogą się powtarzać i dysponujemy alfabetem 24 literowy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371600" y="2590920"/>
            <a:ext cx="5791320" cy="1008720"/>
            <a:chOff x="1371600" y="2590920"/>
            <a:chExt cx="5791320" cy="1008720"/>
          </a:xfrm>
        </p:grpSpPr>
        <p:sp>
          <p:nvSpPr>
            <p:cNvPr id="256" name=""/>
            <p:cNvSpPr/>
            <p:nvPr/>
          </p:nvSpPr>
          <p:spPr>
            <a:xfrm>
              <a:off x="2133720" y="2590920"/>
              <a:ext cx="5029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le można utworzyć ciągów 5 elementowych, bez powtórzeń, jeśli elementami ciągu są litery z 24elementowego zbioru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71600" y="2666880"/>
              <a:ext cx="304920" cy="76212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133200 h 762120"/>
                <a:gd name="textAreaBottom" fmla="*/ 5526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676520" y="3657600"/>
            <a:ext cx="6705360" cy="932400"/>
            <a:chOff x="1676520" y="3657600"/>
            <a:chExt cx="6705360" cy="932400"/>
          </a:xfrm>
        </p:grpSpPr>
        <p:sp>
          <p:nvSpPr>
            <p:cNvPr id="259" name=""/>
            <p:cNvSpPr/>
            <p:nvPr/>
          </p:nvSpPr>
          <p:spPr>
            <a:xfrm>
              <a:off x="2209680" y="3886200"/>
              <a:ext cx="6172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Ile jest różnowartościowych funkcji odwzorowujących zbiór {1,2,3,4,5} w 24-ro literowy alfabe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76520" y="3657600"/>
              <a:ext cx="304560" cy="76212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133200 h 762120"/>
                <a:gd name="textAreaBottom" fmla="*/ 5526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752480" y="4800600"/>
            <a:ext cx="4267440" cy="1084680"/>
            <a:chOff x="1752480" y="4800600"/>
            <a:chExt cx="4267440" cy="1084680"/>
          </a:xfrm>
        </p:grpSpPr>
        <p:sp>
          <p:nvSpPr>
            <p:cNvPr id="262" name=""/>
            <p:cNvSpPr/>
            <p:nvPr/>
          </p:nvSpPr>
          <p:spPr>
            <a:xfrm>
              <a:off x="2133720" y="5181480"/>
              <a:ext cx="3886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le jest wariacji 5-wyrazowych ze zbioru 24elementowego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52480" y="4800600"/>
              <a:ext cx="304920" cy="76212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133200 h 762120"/>
                <a:gd name="textAreaBottom" fmla="*/ 55260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324480" y="4800600"/>
            <a:ext cx="2362320" cy="703800"/>
          </a:xfrm>
          <a:prstGeom prst="rect">
            <a:avLst/>
          </a:prstGeom>
          <a:solidFill>
            <a:srgbClr val="e1e7e4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P.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* 23*22*21*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848720" y="205740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citt10"/>
              </a:rPr>
              <a:t>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citt10"/>
              <a:ea typeface="dcitt1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Elementy Kombinatoryki   G.Mirkowska,  PJWSTK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880-F207-4522-9B64-6C5C42ABBE4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grudnia 2001</a:t>
            </a: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16:02:13Z</dcterms:created>
  <dc:creator>andrzej</dc:creator>
  <dc:description/>
  <dc:language>en-US</dc:language>
  <cp:lastModifiedBy>Jacek Kaliński</cp:lastModifiedBy>
  <dcterms:modified xsi:type="dcterms:W3CDTF">2002-05-29T18:59:18Z</dcterms:modified>
  <cp:revision>83</cp:revision>
  <dc:subject/>
  <dc:title>Wykład 4</dc:title>
</cp:coreProperties>
</file>