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695F-DA18-4D1E-A60E-9BB8F52C3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390888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C309-01B0-4F5B-8435-EE95F8D1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390888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390888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A77A-3DBE-4AA8-B4F6-11A64568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144792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144792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390888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390888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390888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4B3E-6329-4F54-B270-6694AF323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59C4-6636-4E38-87E4-4E527A14B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144792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E482-0E41-47CE-A56D-67DEBDCD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3BDF-AB08-4A4C-9591-8E6737F9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37C3-1C73-4753-A6B5-0E7DC1FD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D067-977C-4EC5-8AB2-0955584E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9040"/>
            <a:ext cx="77724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3BC1-CCCE-4BC3-9283-1B608A4F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390888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9EEB-4B48-464A-91A2-932BCF43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144792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E4CA-87AB-41EF-8208-ECC2D71B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390888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27B2-B895-42EC-B9CF-FC5B42D4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390888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6254-BE6A-49C2-95F6-B2434B79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390888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A274-0EEC-4147-A8A4-E64AEDC8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390888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390888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B604-0325-4256-9956-C1C1DC393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144792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144792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390888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390888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390888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72F7-485B-4ED2-9424-41F8A20E9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D9F4-7DC5-4F61-8124-4329BBC3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DAE8-25A7-4718-B2B7-AAEFBD3F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EDF0-A508-4B50-9529-DA7E9352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9040"/>
            <a:ext cx="77724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5604-3BAE-435F-AEDD-472AC3B8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390888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11F6-EDE6-42C9-88AC-FD5163CF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390888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F2C2-74A8-4CD7-88FD-9DCC4C69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390888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945A-6527-49CA-9D37-10297658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44792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080" y="6248520"/>
            <a:ext cx="1746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248520"/>
            <a:ext cx="768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9099-C155-48B7-BBA5-64254A531E07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14300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066680" y="1143000"/>
            <a:ext cx="295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144000" y="114300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392040" y="114300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492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04812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8076960" y="617220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D7EA-1519-40E5-A379-2EB98F67FCC3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../w8.ppt#Slide 2" TargetMode="Externa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Wykład 7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Rachunek  predykatów 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tematyka Dyskretna  Rachunek funkcyjny, G.Mirkowska,  PJWSTK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D73D-97BE-4588-BB94-B69D336749F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4 listopad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Kwantyfikatory  ograniczon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3200400"/>
            <a:ext cx="541044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otacja :   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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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1600200"/>
            <a:ext cx="487692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Warunek Cauchy’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iąg 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jest zbieżny  do liczby a wttw dla każdego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gt;0 istnieje liczba naturalna n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taka, że dla każdego n&gt;n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|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a | &lt;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1752480"/>
            <a:ext cx="3048120" cy="1524240"/>
          </a:xfrm>
          <a:prstGeom prst="cloudCallout">
            <a:avLst>
              <a:gd name="adj1" fmla="val -96875"/>
              <a:gd name="adj2" fmla="val 23648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wantyfik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 zakresie ograniczo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zez funkcj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daniow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4343400"/>
            <a:ext cx="7696080" cy="1472400"/>
          </a:xfrm>
          <a:prstGeom prst="rect">
            <a:avLst/>
          </a:prstGeom>
          <a:solidFill>
            <a:srgbClr val="ccccff"/>
          </a:solidFill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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awdziwe wttw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)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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prawdziw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awdziwe wttw 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x)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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prawdziw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3641760"/>
            <a:ext cx="784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iąg 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jest zbieżny  do a wttw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gt;0 )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n&gt;n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|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a | &lt;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5486400"/>
            <a:ext cx="7848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iąg 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jest zbieżny  do a wttw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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gt;0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(n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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&gt;n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|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a | &lt;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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Rachunek funkcyjny,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66AA-3F6F-4189-9442-416BFC96292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listopad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Język  rachunku  predykatów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1523880"/>
            <a:ext cx="7696080" cy="1050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ch V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będzie zbiorem zmiennych zdaniowych, V- zbiorem zmiennych indywiduowych, P-zbiorem nazw relacji, F-zbiorem nazw funkcj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3200400"/>
            <a:ext cx="2819520" cy="2311920"/>
          </a:xfrm>
          <a:prstGeom prst="rect">
            <a:avLst/>
          </a:prstGeom>
          <a:solidFill>
            <a:srgbClr val="ccccff"/>
          </a:solidFill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biór termów jest to najmniejszy zbiór zawierający V i taki, że jeśli f jest nazwą funkcji n argumentowej a t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...,t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termami, to f(t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...,t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jest term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666880" y="2362320"/>
            <a:ext cx="3429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rmy    +    Formuł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3124080"/>
            <a:ext cx="4572000" cy="2921760"/>
          </a:xfrm>
          <a:prstGeom prst="rect">
            <a:avLst/>
          </a:prstGeom>
          <a:solidFill>
            <a:srgbClr val="ccccff"/>
          </a:solidFill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biór formuł jest to najmniejszy zbiór wyrażeń zawierających V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taki, ż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jeśli r jest nazwą relacji n argum., a t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...,t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są termami, to  r(t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...,t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jest  formułą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jeśli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są formułami, to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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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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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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są formułam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jeśli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jest formułą ze zmienną wolną x, to 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)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)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są formuła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Rachunek funkcyjny,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EEC1-25B8-481D-91A9-9DB9DCCA803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listopad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Semantyka  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2209680"/>
            <a:ext cx="624852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y określić sens formuły rachunku funkcyjnego potrzeb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2743200"/>
            <a:ext cx="594360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talić interpretację symboli funkcyjnych i predykatywnyc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az wybrać wartości dla zmien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4038480"/>
            <a:ext cx="7696080" cy="20948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R, v |=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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ttw  STR, v |=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lub STR, v |=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R, v |=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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ttw  STR, v |=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i STR, v |=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R, v |=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)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ttw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R, v(x/a) |=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wszystkich  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R, v |=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x)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ttw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R, v(x/a) |=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pewnego 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1600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+ y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,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914400"/>
            <a:ext cx="2895480" cy="1295280"/>
          </a:xfrm>
          <a:prstGeom prst="cloudCallout">
            <a:avLst>
              <a:gd name="adj1" fmla="val -75657"/>
              <a:gd name="adj2" fmla="val 1813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ak policzyć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artość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go wyrażen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2438280"/>
            <a:ext cx="2590920" cy="1752840"/>
          </a:xfrm>
          <a:prstGeom prst="cloudCallout">
            <a:avLst>
              <a:gd name="adj1" fmla="val -83148"/>
              <a:gd name="adj2" fmla="val -307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zyli ustalić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ukturę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danych STR  i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wartościowanie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Rachunek funkcyjny,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1BC6-0267-4DAD-A448-7393AF53947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listopad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Przykład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6002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95280" y="5410080"/>
            <a:ext cx="6858000" cy="459720"/>
          </a:xfrm>
          <a:prstGeom prst="rect">
            <a:avLst/>
          </a:prstGeom>
          <a:solidFill>
            <a:srgbClr val="ccccff"/>
          </a:solidFill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2)   Stosy |=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e)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)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top(pop(push(e, s))) = top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3276720"/>
            <a:ext cx="4496040" cy="1631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  N, (x/1,y/3)  |=  (x + y &gt;2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em  mamy też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N |=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)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) (x + y &gt;2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az    N |=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)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)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) (x + y &gt;z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+y) *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5791320" y="1523880"/>
            <a:ext cx="2818800" cy="2133360"/>
            <a:chOff x="5791320" y="1523880"/>
            <a:chExt cx="2818800" cy="2133360"/>
          </a:xfrm>
        </p:grpSpPr>
        <p:sp>
          <p:nvSpPr>
            <p:cNvPr id="212" name=""/>
            <p:cNvSpPr/>
            <p:nvPr/>
          </p:nvSpPr>
          <p:spPr>
            <a:xfrm>
              <a:off x="5791320" y="3124080"/>
              <a:ext cx="608040" cy="457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/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86000" y="3200040"/>
              <a:ext cx="663120" cy="457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/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947000" y="2361960"/>
              <a:ext cx="663120" cy="457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z/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233400" y="2742480"/>
              <a:ext cx="3866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6785640" y="2742840"/>
              <a:ext cx="331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43920" y="2285640"/>
              <a:ext cx="663120" cy="457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841440" y="1904760"/>
              <a:ext cx="497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7725960" y="1904760"/>
              <a:ext cx="442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28440" y="1523880"/>
              <a:ext cx="607680" cy="457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Rachunek funkcyjny,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D3D0-A594-48CA-868F-CF6D8115807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listopad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Tautologi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1523880"/>
            <a:ext cx="7543800" cy="131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finicj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ułę rachunku funkcyjnego nazywamy tautologią(lub prawem rachunku funkcyjnego), jeżeli jej wartością jest prawda, niezależnie od wartości zmiennych oraz interpretacji symboli relacyjnych i funkcyjnych  w niej występujący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895480"/>
            <a:ext cx="5562720" cy="16185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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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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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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y)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x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(x)       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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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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4343400"/>
            <a:ext cx="4114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śli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jest prawem rachunku zdań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podstawiając za zmienne zdaniowe występujące w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wolne  formuły rachunku funkcyjnego otrzymujemy  tautologię  rachunku predykat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295280" y="3429000"/>
            <a:ext cx="14479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ema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6" name=""/>
          <p:cNvSpPr/>
          <p:nvPr/>
        </p:nvSpPr>
        <p:spPr>
          <a:xfrm>
            <a:off x="5334120" y="4038480"/>
            <a:ext cx="3809880" cy="2228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wód (*) Gdyby ta implikacja była fałszywa przy pewnej interpretacji formuł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niepustym uniwersum X, wtedy byłoby {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=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az {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Czyli X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, sprzeczność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07080" y="39402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Rachunek funkcyjny,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2CFC-8917-43C3-BF18-253C679F3F4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listopad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Przykłady   tautologii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2286000"/>
            <a:ext cx="7924680" cy="3143160"/>
          </a:xfrm>
          <a:prstGeom prst="rect">
            <a:avLst/>
          </a:prstGeom>
          <a:solidFill>
            <a:srgbClr val="e1e7e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stępujące formuły są prawami rachunku predykatów (są tautologiam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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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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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awa de Morg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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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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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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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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x))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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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x))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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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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x,y)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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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,y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5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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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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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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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 ile zmienna x nie występuje w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awo włączania i wyłączania kwantyfikator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144792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znaczenie  Zamiast „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jest tautologią rachunku  funkcyjnego” piszemy krótko    |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95280" y="5410080"/>
            <a:ext cx="7467840" cy="703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p.: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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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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gt;x+1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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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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gt;x+1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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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est  zdaniem prawdziwym w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Rachunek funkcyjny,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E512-0BBA-4067-82C8-A26DC548417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listopad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Reguły  wnioskowania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160020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ły dowodzenia (reguły wnioskowania) są to przekształcenia posta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14600" y="2438280"/>
            <a:ext cx="335268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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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14600" y="3048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66680" y="4038480"/>
            <a:ext cx="76201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tóre pewnemu skończonemu zbiorowi formuł (formuł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przyporządkowują formułę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w taki sposób, że dla dowolnej struktury danych  STR takiej, że STR |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to  STR |=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(tzn. wniosek też jest zdaniem prawdziwym w strukturze STR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38680" y="1981080"/>
            <a:ext cx="2514600" cy="838440"/>
          </a:xfrm>
          <a:prstGeom prst="cloudCallout">
            <a:avLst>
              <a:gd name="adj1" fmla="val -50694"/>
              <a:gd name="adj2" fmla="val 59092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zesłan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2514600"/>
            <a:ext cx="1828800" cy="762120"/>
          </a:xfrm>
          <a:prstGeom prst="cloudCallout">
            <a:avLst>
              <a:gd name="adj1" fmla="val 85157"/>
              <a:gd name="adj2" fmla="val 63125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nios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Rachunek funkcyjny,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C838-F229-4FBA-919D-674668208B1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listopad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Przykłady   reguł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295280" y="1523880"/>
            <a:ext cx="2362320" cy="1219320"/>
            <a:chOff x="1295280" y="1523880"/>
            <a:chExt cx="2362320" cy="1219320"/>
          </a:xfrm>
        </p:grpSpPr>
        <p:sp>
          <p:nvSpPr>
            <p:cNvPr id="241" name=""/>
            <p:cNvSpPr/>
            <p:nvPr/>
          </p:nvSpPr>
          <p:spPr>
            <a:xfrm>
              <a:off x="1295280" y="1523880"/>
              <a:ext cx="2362320" cy="1219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52480" y="19810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1219320" y="3124080"/>
            <a:ext cx="2361960" cy="1218960"/>
            <a:chOff x="1219320" y="3124080"/>
            <a:chExt cx="2361960" cy="1218960"/>
          </a:xfrm>
        </p:grpSpPr>
        <p:sp>
          <p:nvSpPr>
            <p:cNvPr id="244" name=""/>
            <p:cNvSpPr/>
            <p:nvPr/>
          </p:nvSpPr>
          <p:spPr>
            <a:xfrm>
              <a:off x="1219320" y="3124080"/>
              <a:ext cx="2361960" cy="12189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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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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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600200" y="3581280"/>
              <a:ext cx="159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447920" y="4572000"/>
            <a:ext cx="2514240" cy="1447560"/>
            <a:chOff x="1447920" y="4572000"/>
            <a:chExt cx="2514240" cy="1447560"/>
          </a:xfrm>
        </p:grpSpPr>
        <p:sp>
          <p:nvSpPr>
            <p:cNvPr id="247" name=""/>
            <p:cNvSpPr/>
            <p:nvPr/>
          </p:nvSpPr>
          <p:spPr>
            <a:xfrm>
              <a:off x="1447920" y="4572000"/>
              <a:ext cx="2514240" cy="1447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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</a:t>
              </a: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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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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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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x nie występuje w </a:t>
              </a: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09920" y="5114880"/>
              <a:ext cx="20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3048120" y="1752480"/>
            <a:ext cx="2743200" cy="1295640"/>
          </a:xfrm>
          <a:prstGeom prst="leftArrow">
            <a:avLst>
              <a:gd name="adj1" fmla="val 47056"/>
              <a:gd name="adj2" fmla="val 48520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uła odryw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3352680"/>
            <a:ext cx="2361960" cy="1143000"/>
          </a:xfrm>
          <a:prstGeom prst="leftArrow">
            <a:avLst>
              <a:gd name="adj1" fmla="val 46389"/>
              <a:gd name="adj2" fmla="val 60128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guła uogólnian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81280" y="4572000"/>
            <a:ext cx="2514600" cy="1676520"/>
          </a:xfrm>
          <a:prstGeom prst="leftArrow">
            <a:avLst>
              <a:gd name="adj1" fmla="val 46815"/>
              <a:gd name="adj2" fmla="val 24234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guła dołączania kwantyfikatora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egzystencjaln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523880"/>
            <a:ext cx="3276720" cy="506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d (*) Przypuśćmy, ż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1) STR |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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raz (2)  nie zachodz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R |=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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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tedy  z (2) dla pewnego wartościowania v mamy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STR,v |=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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R,v |=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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zyli dla pewnego a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ST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R,v(x/a) |=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R,v(x/a) |=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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zn. STR,v(x/a) |=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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przeczność z (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24080" y="685800"/>
            <a:ext cx="3048120" cy="1600200"/>
          </a:xfrm>
          <a:prstGeom prst="cloudCallout">
            <a:avLst>
              <a:gd name="adj1" fmla="val 82189"/>
              <a:gd name="adj2" fmla="val 236708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Wnios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o są popraw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eguły wnioskowan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 rachunku predykat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Rachunek funkcyjny,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21E4-BC59-4023-9A1D-0DB4C1927D3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listopad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Zastosowani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55" name=""/>
          <p:cNvSpPr/>
          <p:nvPr/>
        </p:nvSpPr>
        <p:spPr>
          <a:xfrm>
            <a:off x="1676520" y="1676520"/>
            <a:ext cx="6629400" cy="888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ch będzie rodzina podzbiorów zbioru X,  ( 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i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 oraz funkcja f : 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Y. Udowodnimy, że  f(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f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19320" y="2666880"/>
            <a:ext cx="7467480" cy="343512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owód:  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. y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f(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                                     na mocy def. obrazu funkcji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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(x)=y)          z def. iloczynu uogólnionego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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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(x)=y)   z prawa włączania- wyłączani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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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(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(x)=y)    cz. przemienność kwantyfik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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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(x)=y)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z def. obrazu funkcji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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f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z def. iloczynu uogólnionego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7. y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f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8120" y="5562720"/>
            <a:ext cx="3886200" cy="542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(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f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Rachunek funkcyjny,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18DA-9E21-45F3-9B4F-5D16ACA29BB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listopad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Implikacja    semantyczna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175248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ech STR będzie ustaloną strukturą danych, w której interpretujemy rozważane formuł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4114800"/>
            <a:ext cx="678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ędziemy pisali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dla oznaczenia, że wyrażenie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jest semantycznie równoważne wyrażeniu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 strukturze STR, tzn.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  wttw  STR |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47920" y="5257800"/>
            <a:ext cx="6476760" cy="76464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poprzednim przykładzie:  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4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6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zyli    1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7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71600" y="2514600"/>
            <a:ext cx="7543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ędziemy pisali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dla oznaczenia, że wyrażenie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mplikuje semantycznie w strukturze STR wyrażenie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tz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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 wttw  STR |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 (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zn. implikacja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jest prawdziwa w  strukturze ST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Rachunek funkcyjny,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E547-8DE5-4D25-B079-FD8B79174E0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listopad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Funkcje zdaniow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1371600"/>
            <a:ext cx="8077320" cy="131364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ech 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Funkcją zdaniową jednej zmiennej x, której zakresem zmienności jest przestrzeń X, nazywamy wyrażenie  f(x), w którym występuje zmienna x i które staje się zdaniem prawdziwym lub fałszywym, gdy w miejsce zmiennej x wstawimy dowolny obiekt ze zbioru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4648320"/>
            <a:ext cx="3962160" cy="1739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Uwag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unkcja zdaniowa f(x),jednej zmiennej x, jest po prostu funkcją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 : X --&gt; {0,1} taką, że dla dowolnego x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, f(x) jest zdaniem w sensie rachunku zdań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2743200"/>
            <a:ext cx="2286000" cy="1746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kła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+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0 ,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+1 &lt; 2, 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x|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 ,  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&gt;0, (x,y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9880" y="2666880"/>
            <a:ext cx="4953240" cy="161856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strzeń X może sama być produktem kartezjańskim X1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Xn.  Wtedy zmienna x przyjmuje jako wartości elementy tego produktu. Mówimy wówczas, że mamy do czynienia z funkcją zdaniową n argumentow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4191120"/>
            <a:ext cx="4267080" cy="2133360"/>
          </a:xfrm>
          <a:prstGeom prst="cloudCallout">
            <a:avLst>
              <a:gd name="adj1" fmla="val -89250"/>
              <a:gd name="adj2" fmla="val 12055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ażda funkcja zdaniowa wyznacza pewien podzbiór (pewna własność) przestrzeni, w której została określo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Rachunek funkcyjny,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8450-356A-441C-8643-3B8ED44977B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listopad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Zastosowani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64" name=""/>
          <p:cNvSpPr/>
          <p:nvPr/>
        </p:nvSpPr>
        <p:spPr>
          <a:xfrm>
            <a:off x="1447920" y="1523880"/>
            <a:ext cx="35812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ozważmy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z:= x; y :=1; m := n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hile (m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0)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{   if  odd(m)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   { y := y </a:t>
            </a:r>
            <a:r>
              <a:rPr b="0" lang="pl-PL" sz="2400" spc="-1" strike="noStrike" baseline="-4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z; }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    m := m div 2;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    z := z </a:t>
            </a:r>
            <a:r>
              <a:rPr b="0" lang="pl-PL" sz="2400" spc="-1" strike="noStrike" baseline="-4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z;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}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2438280"/>
            <a:ext cx="15238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 baseline="-4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y = x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23880" y="5410080"/>
            <a:ext cx="198144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 baseline="-4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y = x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oraz  m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33920" y="2971800"/>
            <a:ext cx="15238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 baseline="-4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y = x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57800" y="3048120"/>
            <a:ext cx="38862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d(m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(z </a:t>
            </a:r>
            <a:r>
              <a:rPr b="0" lang="pl-PL" sz="2000" spc="-1" strike="noStrike" baseline="-4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z)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mdiv 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 baseline="-4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(y </a:t>
            </a:r>
            <a:r>
              <a:rPr b="0" lang="pl-PL" sz="2000" spc="-1" strike="noStrike" baseline="-4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z) = x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n 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lub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d(m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(z </a:t>
            </a:r>
            <a:r>
              <a:rPr b="0" lang="pl-PL" sz="2000" spc="-1" strike="noStrike" baseline="-4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z)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mdiv 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 baseline="-4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y = x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4800600"/>
            <a:ext cx="16761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 baseline="-4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y = x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4876920" y="373392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91320" y="4038480"/>
            <a:ext cx="3047760" cy="1922760"/>
          </a:xfrm>
          <a:prstGeom prst="rect">
            <a:avLst/>
          </a:prstGeom>
          <a:noFill/>
          <a:ln w="104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Wniose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dowolnych x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 i n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,  po wykonaniu programu mam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      y = x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Rachunek funkcyjny,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D065-7F9A-4172-9C61-EC26EA96787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listopad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System formalny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73" name=""/>
          <p:cNvSpPr/>
          <p:nvPr/>
        </p:nvSpPr>
        <p:spPr>
          <a:xfrm>
            <a:off x="4267080" y="1752480"/>
            <a:ext cx="20574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sjoma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24480" y="16765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81680" y="1752480"/>
            <a:ext cx="19814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ł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3880" y="2971800"/>
            <a:ext cx="2590920" cy="15238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uł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awdzi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638680" y="3048120"/>
            <a:ext cx="2362320" cy="144756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Formuły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wodli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16200000">
            <a:off x="6114960" y="1962000"/>
            <a:ext cx="952560" cy="1447920"/>
          </a:xfrm>
          <a:custGeom>
            <a:avLst/>
            <a:gdLst>
              <a:gd name="textAreaLeft" fmla="*/ 608760 w 952560"/>
              <a:gd name="textAreaRight" fmla="*/ 952920 w 952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781"/>
                </a:lnTo>
                <a:cubicBezTo>
                  <a:pt x="10800" y="10681"/>
                  <a:pt x="5400" y="11581"/>
                  <a:pt x="0" y="11581"/>
                </a:cubicBezTo>
                <a:cubicBezTo>
                  <a:pt x="5400" y="11581"/>
                  <a:pt x="10800" y="12481"/>
                  <a:pt x="10800" y="1338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95280" y="1752480"/>
            <a:ext cx="19051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y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09680" y="2286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05120" y="4800600"/>
            <a:ext cx="5638680" cy="1326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ełność rachunku logicz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=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wtedy i tylko wtedy    |-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la dowolnej formuły rozważanego język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91120" y="32004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Rachunek funkcyjny,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2402-B953-4608-8665-893928E2B23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listopad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Problemy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84" name=""/>
          <p:cNvSpPr/>
          <p:nvPr/>
        </p:nvSpPr>
        <p:spPr>
          <a:xfrm>
            <a:off x="1905120" y="1905120"/>
            <a:ext cx="3733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ESPRZECZNOŚ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81080" y="2971800"/>
            <a:ext cx="32767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PEŁNOŚ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81080" y="4191120"/>
            <a:ext cx="44960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STRZYGALNOŚ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>
            <a:hlinkClick r:id="" action="ppaction://hlinkshowjump?jump=nextslide"/>
          </p:cNvPr>
          <p:cNvSpPr/>
          <p:nvPr/>
        </p:nvSpPr>
        <p:spPr>
          <a:xfrm>
            <a:off x="8077320" y="48006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w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Rachunek funkcyjny,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0DB9-0F5C-4E14-8DD0-A4691086CB6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listopad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Predykaty   złożon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1600200"/>
            <a:ext cx="678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kcje zdaniowe (inaczej predykaty) można łączyć spójnikami logicznymi. Powstają w ten sposób nowe, złożone funkcje zdaniow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2638440"/>
            <a:ext cx="6248160" cy="1631160"/>
          </a:xfrm>
          <a:prstGeom prst="rect">
            <a:avLst/>
          </a:prstGeom>
          <a:solidFill>
            <a:srgbClr val="ccccff"/>
          </a:solidFill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kłady złożonych predykató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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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,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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,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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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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+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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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4343400"/>
            <a:ext cx="7620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śli  po wstawieniu w miejsce zmiennej x elementu 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 w predykaci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) określonym w pewnym zbiorze X otrzymujemy  zdanie prawdziwe, to mówimy, ż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 spełnia funkcję zdaniow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). Ogół tych wartości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dla których funkcja zdaniow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)  jest spełniona oznaczamy  przez   {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) 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Rachunek funkcyjny,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19F4-268E-4941-96B8-FE449F647E0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listopad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Spełniani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1447920"/>
            <a:ext cx="670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Element 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 spełnia funkcję zdaniową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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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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ttw a spełni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lub a spełnia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2362320"/>
            <a:ext cx="73152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kt 1  {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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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 = {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{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: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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2895480"/>
            <a:ext cx="67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Element 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 spełnia funkcję zdaniową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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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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ttw a spełni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a spełnia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3641760"/>
            <a:ext cx="73152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kt 2   {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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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 = {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{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: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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4572000"/>
            <a:ext cx="29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Element 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 spełnia funkcję zdaniową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ttw a nie spełni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4648320"/>
            <a:ext cx="4114800" cy="1564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akt 3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{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 :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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}  =  X \{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 :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br>
              <a:rPr sz="20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Rachunek funkcyjny,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2881-777B-4C03-900B-44639172D2F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listopad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Kwantyfikatory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1905120"/>
            <a:ext cx="1752480" cy="459720"/>
          </a:xfrm>
          <a:prstGeom prst="rect">
            <a:avLst/>
          </a:prstGeom>
          <a:solidFill>
            <a:srgbClr val="cc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4800600"/>
            <a:ext cx="1752840" cy="459720"/>
          </a:xfrm>
          <a:prstGeom prst="rect">
            <a:avLst/>
          </a:prstGeom>
          <a:solidFill>
            <a:srgbClr val="cc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05320" y="1447920"/>
            <a:ext cx="3352680" cy="1600200"/>
          </a:xfrm>
          <a:prstGeom prst="cloudCallout">
            <a:avLst>
              <a:gd name="adj1" fmla="val -62925"/>
              <a:gd name="adj2" fmla="val -99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wantyfikator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gzystencjalny (szczegółow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tnieje x takie, ż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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43200" y="4876920"/>
            <a:ext cx="2895480" cy="1523880"/>
          </a:xfrm>
          <a:prstGeom prst="cloudCallout">
            <a:avLst>
              <a:gd name="adj1" fmla="val -1481"/>
              <a:gd name="adj2" fmla="val -3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wantyfikator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iwersalny (ogóln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la każdego x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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3048120"/>
            <a:ext cx="4952880" cy="1472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st zakresem kwantyfikatora szczegółowego lub ogól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mienna x będąca w zakresie kwantyfikatora wiążącego tę zmienną jest zmienną związan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0" y="1752480"/>
            <a:ext cx="198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wantyfikator wiąże wymienioną zmienn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3352680"/>
            <a:ext cx="26668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)( x+y&lt;6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x*y&gt;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)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)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,y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248520" y="5105160"/>
            <a:ext cx="2285640" cy="612000"/>
            <a:chOff x="6248520" y="5105160"/>
            <a:chExt cx="2285640" cy="612000"/>
          </a:xfrm>
        </p:grpSpPr>
        <p:sp>
          <p:nvSpPr>
            <p:cNvPr id="159" name=""/>
            <p:cNvSpPr/>
            <p:nvPr/>
          </p:nvSpPr>
          <p:spPr>
            <a:xfrm>
              <a:off x="6248520" y="5410080"/>
              <a:ext cx="22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olne wystąpienie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6721200" y="5105160"/>
              <a:ext cx="4726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6705720" y="5029200"/>
            <a:ext cx="2209680" cy="1175400"/>
            <a:chOff x="6705720" y="5029200"/>
            <a:chExt cx="2209680" cy="1175400"/>
          </a:xfrm>
        </p:grpSpPr>
        <p:sp>
          <p:nvSpPr>
            <p:cNvPr id="162" name=""/>
            <p:cNvSpPr/>
            <p:nvPr/>
          </p:nvSpPr>
          <p:spPr>
            <a:xfrm>
              <a:off x="6705720" y="58672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związane wystąpienie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7696080" y="5029200"/>
              <a:ext cx="6858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Rachunek funkcyjny,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A45B-815D-4FC2-91E9-26E0802C78E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listopad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Spełniani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1447920"/>
            <a:ext cx="7619760" cy="1936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ch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będzie predykatem określonym w pewnym zbiorze X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danie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)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jest prawdziwe w X wttw istnieje element 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 , który spełnia funkcję zdaniową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danie 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)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prawdziwe w X wttw każdy element a spełnia funkcje zdaniową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3505320"/>
            <a:ext cx="2590920" cy="10087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danie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)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jest prawdziwe w X wttw {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 :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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62720" y="3505320"/>
            <a:ext cx="2743200" cy="10087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danie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x)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jest prawdziwe w X wttw {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 :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}=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4952880"/>
            <a:ext cx="2590920" cy="10087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)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jest zdaniem fałszywym wttw {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 :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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62720" y="4952880"/>
            <a:ext cx="2971800" cy="100872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x)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jest zdaniem fałszywym wttw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{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 :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990720" y="4038480"/>
            <a:ext cx="1371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37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niosk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Rachunek funkcyjny,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1AF5-0D39-49F1-AC6A-97D57F62EF6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listopad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Przykład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1371600"/>
            <a:ext cx="69343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Rozważmy funkcję zdaniową (x+2)*(x-3)&lt;0 w zbiorze liczb rzeczywistych R. Ponieważ  2 spełnia tę funkcję a liczba 3 nie spełnia tej funkcji,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) ((x+2)*(x-3)&lt;0)   jest zdaniem prawdziwym,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x) ( (x+2)*(x-3)&lt;0)   jest zdaniem fałszywy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3429000"/>
            <a:ext cx="7467480" cy="10087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ogólnieni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Niech 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,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ędzie funkcją zdaniową o zmiennych wolnych 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 Wtedy 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,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oraz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,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ą funkcjami zdaniowymi zmiennych wolnyc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4724280"/>
            <a:ext cx="3733560" cy="1313640"/>
          </a:xfrm>
          <a:prstGeom prst="rect">
            <a:avLst/>
          </a:prstGeom>
          <a:solidFill>
            <a:srgbClr val="cc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Element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y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spełnia funkcję zdaniową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)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,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ttw istnieje takie 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, że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,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zdaniem prawdziwy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4648320"/>
            <a:ext cx="3429000" cy="1618560"/>
          </a:xfrm>
          <a:prstGeom prst="rect">
            <a:avLst/>
          </a:prstGeom>
          <a:solidFill>
            <a:srgbClr val="cc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Element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y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spełnia funkcję zdaniową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x)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,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ttw dla dowolnego 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,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,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zdaniem prawdziwy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Rachunek funkcyjny,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FBA3-A502-436E-B49C-F10CEC56213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listopad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Operacje  logiczne   a   kwantyfikatory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4343400"/>
            <a:ext cx="320040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wantyfikator ogólny można uważać za uogólnienie koniunkcj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4038480"/>
            <a:ext cx="426708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śli X ={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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}, 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edykatem określonym w zbiorze X,  to prawdziwa jest następująca równoważność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)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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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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1905120"/>
            <a:ext cx="419076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śli X jest  zb. skończonym  o elementach 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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edykatem określonym w zbiorze X,  to prawdziwa jest następująca równoważność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x)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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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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57800" y="2209680"/>
            <a:ext cx="320040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wantyfikator szczegółowy można uważać za uogólnienie alternatyw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Rachunek funkcyjny,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B35A-98FA-43CE-B4E2-475F3E044FF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listopad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Działania  uogólnione  a    kwantyfikatory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82" name=""/>
          <p:cNvSpPr/>
          <p:nvPr/>
        </p:nvSpPr>
        <p:spPr>
          <a:xfrm>
            <a:off x="1447920" y="1523880"/>
            <a:ext cx="5715000" cy="203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ch  A={ 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}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będzie indeksowaną rodziną podzbiorów pewnej przestrzeni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 {x:  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dla pewnego j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}</a:t>
            </a:r>
            <a:br>
              <a:rPr sz="20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 {x:  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dla każdego j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00800" y="1600200"/>
            <a:ext cx="1905120" cy="838080"/>
          </a:xfrm>
          <a:prstGeom prst="cloudCallout">
            <a:avLst>
              <a:gd name="adj1" fmla="val -66916"/>
              <a:gd name="adj2" fmla="val 6609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ogólni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2666880"/>
            <a:ext cx="1905120" cy="838440"/>
          </a:xfrm>
          <a:prstGeom prst="cloudCallout">
            <a:avLst>
              <a:gd name="adj1" fmla="val -80166"/>
              <a:gd name="adj2" fmla="val -13069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locz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ogólnio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364176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zważmy funkcję zdaniową 2 zmiennyc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,y), 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, 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4495680"/>
            <a:ext cx="5257800" cy="1657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 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,y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{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 :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,y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 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,y)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{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 :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,y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Rachunek funkcyjny,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0F77-0060-4CDE-968F-F7973560F46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listopad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1T16:02:13Z</dcterms:created>
  <dc:creator>andrzej</dc:creator>
  <dc:description/>
  <dc:language>en-US</dc:language>
  <cp:lastModifiedBy>Jacek Kaliński</cp:lastModifiedBy>
  <dcterms:modified xsi:type="dcterms:W3CDTF">2002-05-29T18:45:03Z</dcterms:modified>
  <cp:revision>68</cp:revision>
  <dc:subject/>
  <dc:title>Wykład 4</dc:title>
</cp:coreProperties>
</file>