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6A9-1ED0-45F4-AD1E-1A2CD975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418-AAA3-47C2-8789-4FF6584C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56F-674A-4F63-9637-70BF518A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2F5-63ED-4178-8D16-29CED8E6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E494-2975-43FD-982B-5CB1A6EB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BE7A-A484-49D5-AAAA-169154B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777A-B6FF-480F-9558-CF9F145A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F4B8-6105-4429-9DA0-3F36DDAC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F32C-18D5-49FE-9CB8-AF9239D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55A9-B95B-4581-A8FD-25C31D55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714C-084D-4E2E-B92A-51E15B1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F3E-C254-4F00-9CB5-70ED9613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47E2-9DAB-480E-BFDA-3F1C8A3E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C206-7E41-458C-920F-5BF7C0C4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70C9-AF48-4EC7-85EB-7B933828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BED6-F5A0-45D1-BBC4-BC20F6C5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9660-5041-4F99-B341-826EAE34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71C-8277-4413-8C49-3981EEC8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923-6CF5-4E53-BADA-05AAFFEE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293-051B-479A-BC1A-1A0D5276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7EE-6CD8-49C9-880C-F188579C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521-A961-494A-A3AE-46B881A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336-D633-4A02-820B-0C0371B1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DBF-2B86-40AE-B846-014700D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080" y="6248520"/>
            <a:ext cx="1289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248520"/>
            <a:ext cx="6019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248520"/>
            <a:ext cx="76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2395-1173-4669-A847-AA911078491D}" type="slidenum"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914400"/>
            <a:ext cx="8596440" cy="33012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914400"/>
            <a:ext cx="295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39080" y="9144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92040" y="9144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228600" y="0"/>
            <a:ext cx="849240" cy="6858000"/>
            <a:chOff x="22860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20700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20628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20556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20628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20556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20556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328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2860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266688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8153280" y="6172200"/>
            <a:ext cx="609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D3B-AE5B-444A-A296-3BE5847708A8}" type="slidenum">
              <a:rPr b="0" lang="pl-PL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ykład 13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Elementy  Rachunku  Prawdopodobieństwa 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DE39-109C-473B-837F-9961B6AE664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c.d. Operacje na Zdarzeniach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37160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świadczenie z rzutem 2 kostkami sześciennymi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„suma oczek jest liczbą parzystą lub nieparzystą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„w sumie wypadło co najwyżej 12 oczek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 = „ w sumie wypadło 17 oczek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„iloczyn wyrzuconych oczek jest liczbą parzystą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= „co najmniej na jednej kostce jest liczba parzysta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 = „wyrzucono co najmniej raz 6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„wyrzucono co najmniej raz 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705360" y="1447920"/>
            <a:ext cx="2232360" cy="642600"/>
            <a:chOff x="6705360" y="1447920"/>
            <a:chExt cx="2232360" cy="642600"/>
          </a:xfrm>
        </p:grpSpPr>
        <p:sp>
          <p:nvSpPr>
            <p:cNvPr id="202" name=""/>
            <p:cNvSpPr/>
            <p:nvPr/>
          </p:nvSpPr>
          <p:spPr>
            <a:xfrm flipH="1" flipV="1">
              <a:off x="7391160" y="1599840"/>
              <a:ext cx="3920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8720" y="1447920"/>
              <a:ext cx="108900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darzenia pew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705360" y="1828800"/>
              <a:ext cx="11430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876560" y="2286000"/>
            <a:ext cx="3962520" cy="368280"/>
            <a:chOff x="4876560" y="2286000"/>
            <a:chExt cx="3962520" cy="368280"/>
          </a:xfrm>
        </p:grpSpPr>
        <p:sp>
          <p:nvSpPr>
            <p:cNvPr id="206" name=""/>
            <p:cNvSpPr/>
            <p:nvPr/>
          </p:nvSpPr>
          <p:spPr>
            <a:xfrm flipH="1">
              <a:off x="4876560" y="25146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0800" y="2286000"/>
              <a:ext cx="243828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darzenie niemożli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781680" y="2743200"/>
            <a:ext cx="2210040" cy="642600"/>
            <a:chOff x="6781680" y="2743200"/>
            <a:chExt cx="2210040" cy="642600"/>
          </a:xfrm>
        </p:grpSpPr>
        <p:sp>
          <p:nvSpPr>
            <p:cNvPr id="209" name=""/>
            <p:cNvSpPr/>
            <p:nvPr/>
          </p:nvSpPr>
          <p:spPr>
            <a:xfrm flipH="1" flipV="1">
              <a:off x="6781680" y="2895480"/>
              <a:ext cx="990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857640" y="3048120"/>
              <a:ext cx="10666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72400" y="2743200"/>
              <a:ext cx="121932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darzenia identycz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800600" y="3428640"/>
            <a:ext cx="4106880" cy="795240"/>
            <a:chOff x="4800600" y="3428640"/>
            <a:chExt cx="4106880" cy="795240"/>
          </a:xfrm>
        </p:grpSpPr>
        <p:sp>
          <p:nvSpPr>
            <p:cNvPr id="213" name=""/>
            <p:cNvSpPr/>
            <p:nvPr/>
          </p:nvSpPr>
          <p:spPr>
            <a:xfrm flipH="1" flipV="1">
              <a:off x="4800600" y="3428640"/>
              <a:ext cx="1393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4800600" y="3809520"/>
              <a:ext cx="1317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15000" y="3581280"/>
              <a:ext cx="3192480" cy="642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loczyn tych zdarzeń to „suma wyrzuconych oczek wynosi 11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066680" y="4267080"/>
            <a:ext cx="8077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e F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jest realizowane przez zdarzenia elementarne {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=1,2,3,4,5,6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i=1,2,3,4,5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=1,2,3,4,5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i=1,2,3,4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Jest 20 zdarzeń elementarnych sprzyjających zdarzeniu F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e „ani razu nie wystąpiła 6 ani 5” to zdarzen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)= {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,j=1,2,3,4} . Zdarzeń sprzyjających jest tu  1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BDF-4FD3-4A62-82CE-2E338C73FB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yłącznie się zdarzeń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371600"/>
            <a:ext cx="563868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em przeciwnym do zdarzenia A nazywa się zdarzenie A’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2096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1523880"/>
            <a:ext cx="3352680" cy="1524240"/>
          </a:xfrm>
          <a:prstGeom prst="cloudCallout">
            <a:avLst>
              <a:gd name="adj1" fmla="val -70314"/>
              <a:gd name="adj2" fmla="val -19685"/>
            </a:avLst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u A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zyjają tylko te zdarzen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arne, któ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 należą d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2514600"/>
            <a:ext cx="3962160" cy="703800"/>
          </a:xfrm>
          <a:prstGeom prst="rect">
            <a:avLst/>
          </a:prstGeom>
          <a:solidFill>
            <a:srgbClr val="eaeaea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iemy, że dwa zdarzenia A i B wyłączają się wttw 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4038480"/>
            <a:ext cx="5410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doświadczeniu polegającym na wylosowaniu kolejno ze zwracaniem 2 kart,  zdarzen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= „wylosowano za każdym razem  asa”    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„za drugim razem wylosowano dziesiątkę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ą zdarzeniami wyłączającymi si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3886200"/>
            <a:ext cx="3352680" cy="1523880"/>
          </a:xfrm>
          <a:prstGeom prst="cloudCallout">
            <a:avLst>
              <a:gd name="adj1" fmla="val -90532"/>
              <a:gd name="adj2" fmla="val 29791"/>
            </a:avLst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 ma takich zdarzeń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arnych, któ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zyjają równocześnie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u zdarzeni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3581280"/>
            <a:ext cx="1571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zykł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C6E-57AF-4544-97D2-F38BD2A1070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ojęcie prawdopodobieństw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219320"/>
            <a:ext cx="6553440" cy="270468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znacza przestrzeń zdarzeń elementarnych. Prawdopodobieństwem nazywamy funkcję P określoną na zdarzeniach taką, ż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  P(A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 dla dowolnego zdarzenia 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  P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 = P(A) + P(B) dla dowolnych zdarzeń A, B wyłączających się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  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685800"/>
            <a:ext cx="2057400" cy="685800"/>
          </a:xfrm>
          <a:prstGeom prst="cloudCallout">
            <a:avLst>
              <a:gd name="adj1" fmla="val -68671"/>
              <a:gd name="adj2" fmla="val 391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efini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łmogoro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4114800"/>
            <a:ext cx="754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Prawdopodobieństwo jest teoretycznym odpowiednikiem pojęcia częst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5029200"/>
            <a:ext cx="7010640" cy="12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darzenia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yłączają się parami, t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...+ P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wód przez indukcje ze względu na n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14400" y="48006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wierdzen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077-728E-4D5E-9120-F5D8D5B5E41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Obliczanie prawdopodobieństw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1219320"/>
            <a:ext cx="754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 i załóżmy, że wszystkie zdarzenia elementarne są jednakowo prawdopodobne, P(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19051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mocy poprzedniego twierdzenia ma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286000"/>
            <a:ext cx="6858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P(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) = P(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{ 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 ) =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P( 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... +P(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n*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2743200"/>
            <a:ext cx="2209680" cy="39888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ąd    p = 1/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276720"/>
            <a:ext cx="75438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, jeśli rozważymy dowolne zdarzenie A = {wi</a:t>
            </a:r>
            <a:r>
              <a:rPr b="0" lang="pl-PL" sz="2000" spc="-1" strike="noStrike" baseline="-32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i</a:t>
            </a:r>
            <a:r>
              <a:rPr b="0" lang="pl-PL" sz="2000" spc="-1" strike="noStrike" baseline="-3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w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,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3657600"/>
            <a:ext cx="6705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A) = P({w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w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) = P({w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{ w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{w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 ) =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(w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P( w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+ ... +P(w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k*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4191120"/>
            <a:ext cx="2133720" cy="39888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ąd  P(A) = k/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4952880"/>
            <a:ext cx="7620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wdopodobieństwo zdarzenia A jest ilorazem liczby zdarzeń elementarnych sprzyjających zdarzeniu A i liczby zdarzeń elementarnych w rozważanej przestrzeni, o ile zdarzenia elementarne wyłączają się param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" y="4495680"/>
            <a:ext cx="1809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wierdzen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352680" y="4572000"/>
            <a:ext cx="2409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place'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90A-302F-449A-A736-F93E8D9873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 1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219320"/>
            <a:ext cx="5105520" cy="1789920"/>
          </a:xfrm>
          <a:prstGeom prst="rect">
            <a:avLst/>
          </a:prstGeom>
          <a:noFill/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zut dwiema kost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A =„na obu kostkach wypadło 6 ocze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B = „suma wyrzuconych oczek wynosi 1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C = „suma wyrzuconych oczek wynosi 7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1523880"/>
            <a:ext cx="2590920" cy="862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{(6,6)} wi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= 1/3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380880"/>
            <a:ext cx="3733920" cy="990720"/>
          </a:xfrm>
          <a:prstGeom prst="cloudCallout">
            <a:avLst>
              <a:gd name="adj1" fmla="val -59523"/>
              <a:gd name="adj2" fmla="val 504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strzeń zdarzeń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arny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 36 elemen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590920"/>
            <a:ext cx="2666880" cy="862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= {(4,6), (5,5), (6,4)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ęc P(B) = 3/36 =1/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3657600"/>
            <a:ext cx="3048120" cy="1167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{(1,6),(2,5), (3,4),(4,3),(5,2),(6,1)} wi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C)= 6/36=1/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295280" y="3657600"/>
            <a:ext cx="3733560" cy="2304360"/>
            <a:chOff x="1295280" y="3657600"/>
            <a:chExt cx="3733560" cy="2304360"/>
          </a:xfrm>
        </p:grpSpPr>
        <p:sp>
          <p:nvSpPr>
            <p:cNvPr id="249" name=""/>
            <p:cNvSpPr/>
            <p:nvPr/>
          </p:nvSpPr>
          <p:spPr>
            <a:xfrm>
              <a:off x="1295280" y="4038480"/>
              <a:ext cx="3657600" cy="1923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1,1) (1,2) (1,3) (1,4) (1,5) (1,6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2,1) (2,2) (2,3) (2,4) (2,5) (2,6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3,1)  (3,2) (3,3) (3,4) (3,5) (3,6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4,1) (4,2) (4,3) (4,4) (4,5) (4,6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5,1) (5,2) (5,3) (5,4) (5,5) (5,6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6,1) (6,2) (6,3) (6,4) (6,5) (6,6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71240" y="3657600"/>
              <a:ext cx="3657600" cy="368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zestrzeń zdarzeń elementarny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 txBox="1"/>
          <p:nvPr/>
        </p:nvSpPr>
        <p:spPr>
          <a:xfrm>
            <a:off x="1066680" y="3048120"/>
            <a:ext cx="2076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ozwiązani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6B4-0BBD-44F6-A741-383AA842DD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 2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295280"/>
            <a:ext cx="4952880" cy="1008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osób  {a,b,c,..g,h,i} siada przy okrągłym stole. Jakie jest prawdopodobieństwo, że osoby a, b będą siedziały obok siebi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048120"/>
            <a:ext cx="47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strzeń zdarzeń elementarnych, to zbiór wszystkich możliwych ustawień 9 osób na 9   miejsca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3048120"/>
            <a:ext cx="1600200" cy="1371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2819520"/>
            <a:ext cx="152280" cy="152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43200" y="2895480"/>
            <a:ext cx="152280" cy="1526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4343400"/>
            <a:ext cx="152280" cy="152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3886200"/>
            <a:ext cx="152640" cy="152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3124080"/>
            <a:ext cx="152280" cy="1526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733920"/>
            <a:ext cx="152280" cy="152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4267080"/>
            <a:ext cx="152640" cy="1526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4495680"/>
            <a:ext cx="152280" cy="1526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1680" y="1676520"/>
            <a:ext cx="1828800" cy="990360"/>
          </a:xfrm>
          <a:prstGeom prst="cloudCallout">
            <a:avLst>
              <a:gd name="adj1" fmla="val -26212"/>
              <a:gd name="adj2" fmla="val 7756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 9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3505320"/>
            <a:ext cx="38124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2819520"/>
            <a:ext cx="38088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19720" y="4114800"/>
            <a:ext cx="4343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9 możliwych pozycji dla pary (a,b) i 9 możliwych pozycji dla pary (b,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ostałe osoby mogą być rozmieszczone dowolnie, tzn 7! możliwych ustawi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48006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tatecznie, szukane prawdopodobieństwo  = 2*9*7!/9!=1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581280" y="2362320"/>
            <a:ext cx="2381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ozwiązani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1C3-181C-4501-81EB-93447BD3AE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 3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1143000"/>
            <a:ext cx="7315200" cy="1313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urnie jest 9 kul ponumerowanych od 1 do 9. Losujemy bez zwracania dwie kule. Pierwsza z nich jest traktowana jako liczba jedności a druga jako liczba dziesiątek. Jakie jest prawdopodobieństwo zdarzenia A = „wylosowano liczbę parzystą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447920" y="2590920"/>
            <a:ext cx="1600200" cy="838080"/>
            <a:chOff x="1447920" y="2590920"/>
            <a:chExt cx="1600200" cy="838080"/>
          </a:xfrm>
        </p:grpSpPr>
        <p:sp>
          <p:nvSpPr>
            <p:cNvPr id="274" name=""/>
            <p:cNvSpPr/>
            <p:nvPr/>
          </p:nvSpPr>
          <p:spPr>
            <a:xfrm>
              <a:off x="1447920" y="2590920"/>
              <a:ext cx="160020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29160" y="312408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760" y="312408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2320" y="312408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90920" y="312408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81440" y="297180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10040" y="297180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4960" y="297180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00560" y="312408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76520" y="297180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696080" y="2590920"/>
            <a:ext cx="228600" cy="2286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2971800"/>
            <a:ext cx="228600" cy="2286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52960" y="247968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za pierwszym razem wylosowa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2895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za drugim razem wylosow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352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wylosowana liczba wynosi 6*10 + 4 = 6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39625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strzeń zdarzeń elementarnych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(k,l) : k,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1,2,...9} oraz 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4343400"/>
            <a:ext cx="1981080" cy="914400"/>
          </a:xfrm>
          <a:prstGeom prst="cloudCallout">
            <a:avLst>
              <a:gd name="adj1" fmla="val -108333"/>
              <a:gd name="adj2" fmla="val -5486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*8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4648320"/>
            <a:ext cx="487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u A sprzyjają  zdarzenia elementarne (2,x), gdzi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,x), gdzi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,x), gdzi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,x), gdzi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1560" y="523080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zem jest ich 4*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35400" y="5638680"/>
            <a:ext cx="3332520" cy="39888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 P(A)= 4*8/(9*8) = 4/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371600" y="3429000"/>
            <a:ext cx="1467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ozwiązani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1AB-2201-4DC5-AC79-5EA7C9F1A7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 4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12952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zucamy 10 razy monetą. Jakie jest prawdopodobieństwo, że w dziesięciu rzutach dokładnie 4 razy pojawi się orze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600200" y="2133720"/>
            <a:ext cx="2381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ozwiązani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259092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zeń zdarzeń elementarnych tozbior ciągów o wartościach O-orzeł i R-resz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3200400"/>
            <a:ext cx="3276360" cy="1523880"/>
          </a:xfrm>
          <a:prstGeom prst="wedgeRectCallout">
            <a:avLst>
              <a:gd name="adj1" fmla="val 47722"/>
              <a:gd name="adj2" fmla="val -6374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ich elementów jest ty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le różnych funkcj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 zbioru 10 elementoweg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zbiór 2 elementowy, tzn.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358128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u A sprzyjają wszystkie zdarzenia elementarne, w których na 4 pozycjach są orły a na pozostałych resz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4480" y="4952880"/>
            <a:ext cx="2286000" cy="1219320"/>
          </a:xfrm>
          <a:prstGeom prst="wedgeRectCallout">
            <a:avLst>
              <a:gd name="adj1" fmla="val -76805"/>
              <a:gd name="adj2" fmla="val -6262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st ich ty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podzbioró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elementowych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zn.(10 nad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55627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tatecznie  P(A) = (10 nad 4) / 2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825-B3D4-47DD-BF86-4AFD264193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Własności prawdopodobieństw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1447920"/>
            <a:ext cx="6629400" cy="226476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ędzie przestrzenią zdarzeń elementarnych.Wt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jeżeli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, to P(A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B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dla każdego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(A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P(A’) =1 - P(A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 P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 = P(A) + P(B) - P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4120" y="1981080"/>
            <a:ext cx="3738600" cy="1121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. Dowód (b).    B= (B-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. Dowód (e).  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 =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-A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B= (B-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3962520"/>
            <a:ext cx="658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zucamy 3 razy kostką. jakie jest prawdopodobieństwo zdarzenia A=„choć raz wypadła 6”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66680" y="4114800"/>
            <a:ext cx="112248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zykł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4800600"/>
            <a:ext cx="8001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ozwiąza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Zbiór zdarzeń elementarnych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{(x,y,z): x,y,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{1,2,...6}}. card(W)= 6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Zdarzenie przeciwne do A, A’ =„ani razu nie wypadła 6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’={(x,y,z): x,y,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{1,2,3,4,5}}. Zatem P(A’) = 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6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ięc P(A) = 1- 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6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66680" y="1066680"/>
            <a:ext cx="199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wierdzen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00B-C5B0-4A00-8503-15674DA338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1295280"/>
            <a:ext cx="7848720" cy="1472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zucamy dwiema różnokolorowymi kostkami do gry i rozważamy dwa zdarzenia      A = „ suma oczek wyrzuconych wyniesie 8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„obie liczby oczek są nieparzyst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ie jest prawdopodobieństwo zdarzenia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27432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ozwiązan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mocy twierdzenia  P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 = P(A) + P(B) - P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34290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  A={(2,6),(3,5),(4,4),(5,3), (6,2)}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{(x,y): x,y=1,3,5}  oraz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= {(3,5),(5,3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44197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P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 = 5/36 + 9/36 - 2/36 = 1/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4876920"/>
            <a:ext cx="388620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zucamy 10 razy monetą. jakie jest prawdopodobieństwo, że choć raz dostaniemy orł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3581280"/>
            <a:ext cx="3200400" cy="2667240"/>
          </a:xfrm>
          <a:prstGeom prst="wedgeRectCallout">
            <a:avLst>
              <a:gd name="adj1" fmla="val -97518"/>
              <a:gd name="adj2" fmla="val 1291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ór zdarzeń elementarny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o zbiór funkcji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 : {1,2,3...,10} -&gt; {O,R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liczymy najpierw P(A’)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my P(A’)=1/2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ąd    P(A)= 1-1/102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2CE-6257-4CF3-B1CB-C3A0797A08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O rachunku prawdopodobieństwa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6858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zym zajmuje się rachunek prawdopodobieństwa?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rochę historii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95B-0339-4C71-A3A1-27BB0CB22B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awdopodobieństwo warunkowe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1066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71600" y="1447920"/>
            <a:ext cx="1295280" cy="838080"/>
            <a:chOff x="1371600" y="1447920"/>
            <a:chExt cx="1295280" cy="838080"/>
          </a:xfrm>
        </p:grpSpPr>
        <p:sp>
          <p:nvSpPr>
            <p:cNvPr id="320" name=""/>
            <p:cNvSpPr/>
            <p:nvPr/>
          </p:nvSpPr>
          <p:spPr>
            <a:xfrm>
              <a:off x="1371600" y="1447920"/>
              <a:ext cx="129528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47920" y="19810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7400" y="198108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819520" y="1447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rnie znajdują sie 4 kule: dwie białe i dwie czarne ponumerowanie od 1 do 4.Losujemy 2 kule bez zwraca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228600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zeń zdarzeń elementarnych to {(x,y):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i x,y =1,2,3,4}. card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4*3 =12. Zakładamy, że zdarzenia elementarne  są jednakowo prawdopodobne. Czyli P(x,y)=1/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3429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ważmy zdarzenia: A=” za drugim razem biała kula”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B= „ za pierwszym razem kula czarn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41911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u A sprzyja 6 zdarzeń: (1,3),(1,4),(3,4),(2,3),(2,4), (4,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44956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u B sprzyja 6 zdarzeń el. : (1,3),(1,4),(1,4),(2,1),(2,3), (2,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3800" y="3124080"/>
            <a:ext cx="1295280" cy="762120"/>
          </a:xfrm>
          <a:prstGeom prst="cloudCallout">
            <a:avLst>
              <a:gd name="adj1" fmla="val -74634"/>
              <a:gd name="adj2" fmla="val 11479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=6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19320" y="4952880"/>
            <a:ext cx="66294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wiemy, że zaszło zdarzenie B po pierwszym losowaniu, to jakie jest prawdopodobieństwo zdarzenia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5638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u A sprzyjają 4 zdarzenia el. występujące w B, czyli P(A/B)= 4/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C18-A265-41ED-A897-4FA01A94A7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awdopodobieństwo warunkowe c.d.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1219320"/>
            <a:ext cx="6629400" cy="116748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wdopodobieństwo zajścia zdarzenia A pod warunkiem, że zajdzie zdarzenie B, P(A|B), wyraża się wzor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|B) = P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/ P(B)  o ile P(B) &g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09680" y="3581280"/>
            <a:ext cx="518184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a elementarne to trójki (x,y,z) gdzie x,y,z =1,2,3,4,5,6. Jest ich 6*6*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25146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zucamy 3 kostkami. Jakie jest prawdopodobieństwo, że A=„chociaż na jednej kostce wypadnie 1”, jeśli B=„na każdej kostce wypadnie inna liczba oczek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44197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ń sprzyjających B jest tyle ile funkcji 1-1na zb. 3 elem. w zbiór 6 elementowy. Jest ich 6*5*4. Czyli P(B) = 6*5*4/(6*6*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4197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u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sprzyjają trójki (1,x,y) ,(x,1,y), (x,y,1) gdzie x jest jedną z 5 wartości a y jedną z 4 wartości. P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= 5*4*3/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5791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tatecznie  P(A|B) = (10/36)/(20/36)= 1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6F9-4719-4E33-BF4F-5675317722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Niezależność zdarzeń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1295280"/>
            <a:ext cx="5791320" cy="703800"/>
          </a:xfrm>
          <a:prstGeom prst="rect">
            <a:avLst/>
          </a:prstGeom>
          <a:solidFill>
            <a:srgbClr val="eaeae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a A i B nazywamy niezależnymi, jeśli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 = P(A) * P(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2133720"/>
            <a:ext cx="763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uważmy, że jeśli A i B stanowią parę zdarzeń niezależnych,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|B) = P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/P(B) = P(A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2971800"/>
            <a:ext cx="704988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zyli, zajście zdarzenia B nie wpływa na prawdopodobieństwo zajścia zdarzenia A. Zdarzenie A nie zależy od tego czy zajdzie czy też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darzenie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90720" y="1143000"/>
            <a:ext cx="1562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finicj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4191120"/>
            <a:ext cx="7531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Z talii kart losujemy 2 ze zwracaniem. Rozważmy zdarzenia A =„ za pierwszym razem wylosowano  asa” B = „ za drugim razem wylosowano asa”.  M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 = (4*4)/5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P(A)= 4/52    P(B) = 4/52, czyli P(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) = P(A) * P(B), a więc są to zdarzenia niezależ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BC3-B53E-4B28-B2E7-37168CF0CB1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estrzeń zdarzeń elementarnych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600200"/>
            <a:ext cx="6629400" cy="459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darzenie elementarne - pojęcie pierwotne teor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590920"/>
            <a:ext cx="24382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świadczenie polega na rzucie kostką sześcienną. Obserwujemy liczbę wyrzuconych oczek. Zdarzenie elementarne, to 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„wyrzucono i oczek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114800" y="2590920"/>
            <a:ext cx="4495680" cy="1295280"/>
            <a:chOff x="4114800" y="2590920"/>
            <a:chExt cx="4495680" cy="1295280"/>
          </a:xfrm>
        </p:grpSpPr>
        <p:grpSp>
          <p:nvGrpSpPr>
            <p:cNvPr id="139" name=""/>
            <p:cNvGrpSpPr/>
            <p:nvPr/>
          </p:nvGrpSpPr>
          <p:grpSpPr>
            <a:xfrm>
              <a:off x="4191120" y="2590920"/>
              <a:ext cx="761760" cy="685800"/>
              <a:chOff x="4191120" y="2590920"/>
              <a:chExt cx="761760" cy="685800"/>
            </a:xfrm>
          </p:grpSpPr>
          <p:sp>
            <p:nvSpPr>
              <p:cNvPr id="140" name=""/>
              <p:cNvSpPr/>
              <p:nvPr/>
            </p:nvSpPr>
            <p:spPr>
              <a:xfrm>
                <a:off x="4191120" y="2590920"/>
                <a:ext cx="761760" cy="685800"/>
              </a:xfrm>
              <a:prstGeom prst="cube">
                <a:avLst>
                  <a:gd name="adj" fmla="val 29166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72000" y="31240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43400" y="28954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95680" y="26668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95680" y="297180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00600" y="3048120"/>
                <a:ext cx="76320" cy="7596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00600" y="274320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562720" y="2590920"/>
              <a:ext cx="761760" cy="685800"/>
              <a:chOff x="5562720" y="2590920"/>
              <a:chExt cx="761760" cy="685800"/>
            </a:xfrm>
          </p:grpSpPr>
          <p:sp>
            <p:nvSpPr>
              <p:cNvPr id="148" name=""/>
              <p:cNvSpPr/>
              <p:nvPr/>
            </p:nvSpPr>
            <p:spPr>
              <a:xfrm>
                <a:off x="5562720" y="2590920"/>
                <a:ext cx="761760" cy="685800"/>
              </a:xfrm>
              <a:prstGeom prst="cube">
                <a:avLst>
                  <a:gd name="adj" fmla="val 29166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3600" y="31240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15000" y="28954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67280" y="26668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15000" y="31240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72200" y="3048120"/>
                <a:ext cx="76320" cy="7596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72200" y="274320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43600" y="28954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162920" y="2590920"/>
              <a:ext cx="761760" cy="685800"/>
              <a:chOff x="7162920" y="2590920"/>
              <a:chExt cx="761760" cy="68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7162920" y="2590920"/>
                <a:ext cx="761760" cy="685800"/>
              </a:xfrm>
              <a:prstGeom prst="cube">
                <a:avLst>
                  <a:gd name="adj" fmla="val 29166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43800" y="31240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15200" y="28954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91520" y="2590920"/>
                <a:ext cx="75960" cy="7596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467480" y="297180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772400" y="3048120"/>
                <a:ext cx="76320" cy="7596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772400" y="274320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543800" y="2590920"/>
                <a:ext cx="76320" cy="7596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696080" y="2590920"/>
                <a:ext cx="76320" cy="7596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15200" y="26668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7480" y="2666880"/>
                <a:ext cx="7632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620120" y="2666880"/>
                <a:ext cx="75960" cy="76320"/>
              </a:xfrm>
              <a:prstGeom prst="ellipse">
                <a:avLst/>
              </a:prstGeom>
              <a:solidFill>
                <a:srgbClr val="e1e7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137120" y="3429000"/>
              <a:ext cx="2035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14800" y="3352680"/>
              <a:ext cx="2286000" cy="337320"/>
            </a:xfrm>
            <a:prstGeom prst="rect">
              <a:avLst/>
            </a:prstGeom>
            <a:solidFill>
              <a:srgbClr val="e1e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yrzucono jedno oczk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3352680"/>
              <a:ext cx="1981080" cy="337320"/>
            </a:xfrm>
            <a:prstGeom prst="rect">
              <a:avLst/>
            </a:prstGeom>
            <a:solidFill>
              <a:srgbClr val="e1e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yrzucono 6 ocze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191120" y="3962520"/>
            <a:ext cx="4724280" cy="100872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ór wszystkich możliwych zdarzeń elementarnych nazywamy przestrzenią zdarzeń. Ozn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5410080"/>
            <a:ext cx="5257800" cy="7455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rozważanym doświadczeniu jest 6 zdarzeń elementarnych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08C-023C-4C80-BED0-F5B7F1E153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y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1295280"/>
            <a:ext cx="3581280" cy="2228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Niech doświadczenie polega na rzucie monetą. Zdarzenia elementarne to O=„wyrzucono orła” i R=„wyrzucono reszkę” Przestrzeń zdarzeń elementarnych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{O,R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1371600"/>
            <a:ext cx="3733920" cy="2228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Rzucamy dwoma monetami. Możliwe sytuacje możemy scharakteryzować parą : wynik uzyskany na pierwszej monecie i wynik uzyskany na drugiej monecie. Czyl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(O,O),(O,R),(R,R),(R,O)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809880"/>
            <a:ext cx="7696080" cy="23871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4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zawodach narciarskich każdy zawodnik oddaje 2 skoki. Wynik każdego skoku można uznać za zdarzenie losowe. Długość skoku mierzymy z dokładnością do 0.5 m. Na rozważanej skoczni nie można oddać dłuższego skoku niż 140 m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(x,y): x długość pierwszego, a y długość drugiego skoku}= {0, 0.5, 1, 1.5, 2, ..., 139, 139.5, 14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strzeń zdarzeń składa się z 281 zdarzeń elementar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B03-57BA-4672-803D-054F75184F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y c.d.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523880"/>
            <a:ext cx="7391520" cy="30096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ena końcowa z MAD zależy od liczby uzyskanych punktów z 2 sprawdzianów i z egzaminu. Przestrzenią zdarzeń elementarnych może być zbiór trójek (x,y,z), gdzie x,y są liczbami punktów uzyskanymi ze sprawdzianów a z liczbą punktów uzyskanych z egzami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{(x,y,z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 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,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a przestrzeń zdarzeń ma 11*21*31 różnych elemen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200-2D6E-4234-B058-D13B902A45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Zdarzenia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523880"/>
            <a:ext cx="6934320" cy="3988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e to podzbiór zbioru zdarzeń elementar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362320"/>
            <a:ext cx="7238880" cy="3828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świadczeniu z rzutem jedną kostką  sześcienną niech 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znaczają odpowiednio zdarzenia elementarne polegające na wyrzuceniu 1,2  ... lub 6 oczek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: i=1,2...6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e A=„wypadła liczba parzysta”, to podzbiór przestrzeni zdarzeń elementarnych A=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e B=„ wypadło więcej niż 4 oczka”, zachodzi wtedy i tylko wtedy, gdy wypadło 5 lub 6 oczek, czyli B=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e C=„wypadły co najwyżej 4 oczka”, zachodzi wttw, gdy wypadło 1 lub 2 lub 3 lub 4 oczka.    C = 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391-C398-455C-BE12-7516A4207D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Zdarzenia c.d.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1676520"/>
            <a:ext cx="1981440" cy="745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= {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 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1371600"/>
            <a:ext cx="2590920" cy="1295280"/>
          </a:xfrm>
          <a:prstGeom prst="cloudCallout">
            <a:avLst>
              <a:gd name="adj1" fmla="val -116361"/>
              <a:gd name="adj2" fmla="val 1188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zdarzenia elmentarne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sprzyjające zdarzeniu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743200"/>
            <a:ext cx="7238880" cy="343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doświadczeniu polegającym na rzucie dwoma kostkami  mamy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,j=1,2...6}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e A=„co najmniej raz wypadła szóstka” , to podzbió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=1,2...6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=1,2...5}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ń elementarnych sprzyjających zdarzeniu A jest 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darzenie B= „suma oczek wynosi 8”, to podzbió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}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st tylko 5 zdarzeń elementarnych sprzyjających zdarzeniu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64B-AF95-4CB8-AFFE-0066081640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Przykłady zdarzeń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1447920"/>
            <a:ext cx="7315200" cy="4438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W doświadczeniu z rzutem jedną kostką  sześcienną niech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: i=1,2...6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e A=„wypadła liczba parzysta”, to podzbiór przestrzeni zdarzeń elementarnych A=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e B=„ wypadły więcej niż 4 oczka”, zachodzi wtedy i tylko wtedy, gdy wypadło 5 lub 6 oczek, czyli B=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e C=„liczba wyrzuconych oczek jest kwadratem liczby naturalnej”, zachodzi wttw, gdy wypadło 1 lub 4 oczka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C = 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darzenie  D=„liczba wyrzuconych oczek przystaje do 1 modulo 3, zachodzi wttw gdy liczba wyrzuconych oczek przy dzieleniu przez 3 daje resztę 1. Czyli D = {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772400" y="5562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EC8-C37F-4398-BED0-94C599D5CE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Działania na zdarzeniach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1600200"/>
            <a:ext cx="716292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zdarzeniach wykonujemy takie same operacje jak na zbior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3657600"/>
            <a:ext cx="3505320" cy="1066680"/>
          </a:xfrm>
          <a:prstGeom prst="cloudCallout">
            <a:avLst>
              <a:gd name="adj1" fmla="val -46560"/>
              <a:gd name="adj2" fmla="val -12351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szystkie zdarzenia elementar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przyjają temu zdarzen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05320"/>
            <a:ext cx="3657600" cy="1218960"/>
          </a:xfrm>
          <a:prstGeom prst="cloudCallout">
            <a:avLst>
              <a:gd name="adj1" fmla="val -38194"/>
              <a:gd name="adj2" fmla="val -8984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żadne zdarzenie elementarne n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przyjają temu zdarzen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514600"/>
            <a:ext cx="1752480" cy="457200"/>
          </a:xfrm>
          <a:custGeom>
            <a:avLst/>
            <a:gdLst>
              <a:gd name="textAreaLeft" fmla="*/ 0 w 1752480"/>
              <a:gd name="textAreaRight" fmla="*/ 1752840 w 175248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darzenie pew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2514600"/>
            <a:ext cx="2286000" cy="457200"/>
          </a:xfrm>
          <a:custGeom>
            <a:avLst/>
            <a:gdLst>
              <a:gd name="textAreaLeft" fmla="*/ 0 w 2286000"/>
              <a:gd name="textAreaRight" fmla="*/ 2286360 w 2286000"/>
              <a:gd name="textAreaTop" fmla="*/ 59040 h 457200"/>
              <a:gd name="textAreaBottom" fmla="*/ 398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darzenie niemożli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4952880"/>
            <a:ext cx="723888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emy, że dwa zdarzenia są identyczne jeśli mają te same zbiory sprzyjających zdarzeń elementarnych.  Por. zdarzenia C i D z poprzedniego przykła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Rachunek Prawdopodobieństwa    Grażyna 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C59-5833-482E-BF69-4C16AFC96E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 stycznia 2002</a:t>
            </a: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9:06:34Z</dcterms:modified>
  <cp:revision>130</cp:revision>
  <dc:subject/>
  <dc:title>Wykład 4</dc:title>
</cp:coreProperties>
</file>