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ADF-6170-4369-B46A-BEBE5A1A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96B-3307-4356-9F83-D15BA4B8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AC7-4E1F-4011-A0CC-0649C0CC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41C-0E62-4535-AF2D-C625447D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DC5D-0347-4B4C-868F-C6824620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857E-F544-4207-9DF8-9E4F7EF1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2330-383B-4C61-B237-DEA07020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E03C-3BDD-42A6-9922-7BADC998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77F8-A9CB-4450-9910-2B607708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D8F3-658B-4C02-8E56-E1A856EA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1E94-3867-4176-9A59-BAC38C37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245-7225-4119-99F9-FC253EFF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8115-D352-471F-A21E-691AE03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37DB-A0D2-4122-AA7E-15EA0F74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4B33-3ABF-49DC-880A-5084DE5C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9D72-9AF8-4C19-83EF-115DC235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9B4A-DD03-4408-8105-EF641FB7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BD4-4361-42E7-95A9-4689640F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5CD-2583-4E5C-9466-8DDDC7BF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C00-F1BB-44AE-B8EC-E66FA65A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055-CAD6-41D6-A81F-C6162507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B69-07F1-4D28-BED2-07C17FDE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5E4-FD01-4B32-AD0B-9B09E663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4BA-4EEF-4FFE-B0E5-E36B0981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F891-C37D-465B-91AA-A861DF7A0D8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DEFD-BD17-4640-B0E1-F0C27244851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w3.ppt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w1.ppt" TargetMode="Externa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Wykład 4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Impact"/>
              </a:rPr>
              <a:t>Relacje równoważności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AB3F-602B-4E4A-B121-B664AAD7175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4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Zastosowanie  3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2209680"/>
            <a:ext cx="4876920" cy="233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Rozważmy relację binarną </a:t>
            </a:r>
            <a:r>
              <a:rPr b="0" lang="pl-PL" sz="24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  w zbiorze ciągów liczb wymiernych spełniających warunek Cauchy’ego, określoną następująco</a:t>
            </a:r>
            <a:br>
              <a:rPr sz="2400"/>
            </a:b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(a</a:t>
            </a:r>
            <a:r>
              <a:rPr b="0" lang="pl-PL" sz="2400" spc="-1" strike="noStrike" baseline="-25000">
                <a:solidFill>
                  <a:srgbClr val="969696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) </a:t>
            </a:r>
            <a:r>
              <a:rPr b="0" lang="pl-PL" sz="24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 (b</a:t>
            </a:r>
            <a:r>
              <a:rPr b="0" lang="pl-PL" sz="2400" spc="-1" strike="noStrike" baseline="-25000">
                <a:solidFill>
                  <a:srgbClr val="969696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) wttw  lim </a:t>
            </a:r>
            <a:r>
              <a:rPr b="0" lang="pl-PL" sz="2400" spc="-1" strike="noStrike" baseline="-25000">
                <a:solidFill>
                  <a:srgbClr val="969696"/>
                </a:solidFill>
                <a:latin typeface="Times New Roman"/>
              </a:rPr>
              <a:t>n </a:t>
            </a:r>
            <a:r>
              <a:rPr b="0" lang="pl-PL" sz="2400" spc="-1" strike="noStrike" baseline="-25000">
                <a:solidFill>
                  <a:srgbClr val="969696"/>
                </a:solidFill>
                <a:latin typeface="Symbol"/>
                <a:ea typeface="Symbol"/>
              </a:rPr>
              <a:t>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 (a</a:t>
            </a:r>
            <a:r>
              <a:rPr b="0" lang="pl-PL" sz="2400" spc="-1" strike="noStrike" baseline="-25000">
                <a:solidFill>
                  <a:srgbClr val="969696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-b</a:t>
            </a:r>
            <a:r>
              <a:rPr b="0" lang="pl-PL" sz="2400" spc="-1" strike="noStrike" baseline="-25000">
                <a:solidFill>
                  <a:srgbClr val="969696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) = 0.</a:t>
            </a:r>
            <a:br>
              <a:rPr sz="2400"/>
            </a:b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         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762120"/>
            <a:ext cx="2133720" cy="1523880"/>
          </a:xfrm>
          <a:prstGeom prst="cloudCallout">
            <a:avLst>
              <a:gd name="adj1" fmla="val -57439"/>
              <a:gd name="adj2" fmla="val 7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jest relacj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ównoważ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4800600"/>
            <a:ext cx="61722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tnieje wzajemnie jednoznaczna odpowiedniość między zbiorem klas abstrakcji tej relacji a liczbami rzeczywist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2514600"/>
            <a:ext cx="1676160" cy="161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etoda Cantora konstrukcji liczb rzeczywist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BC6-2D11-4E11-BF79-57E4452C6B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2133720"/>
            <a:ext cx="777240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ch X klasa funkcji f : N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+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g   wttw istnieją stałe c1, c2, n0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   takie, ż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            g(n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1*f(n) i g(n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2*f(n)      dla     n&gt;n0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tedy  klasą abstrakcji funkcji f jest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f), czyli wszystkie funkcje, mające ten sam rząd co f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572000"/>
            <a:ext cx="7696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Funkcje  lg n, </a:t>
            </a:r>
            <a:r>
              <a:rPr b="0" lang="pl-PL" sz="2400" spc="-1" strike="noStrike">
                <a:solidFill>
                  <a:srgbClr val="969696"/>
                </a:solidFill>
                <a:latin typeface="Symbol"/>
                <a:ea typeface="Symbol"/>
              </a:rPr>
              <a:t>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n,  n,  n log n,   n</a:t>
            </a:r>
            <a:r>
              <a:rPr b="0" lang="pl-PL" sz="2400" spc="-1" strike="noStrike" baseline="30000">
                <a:solidFill>
                  <a:srgbClr val="969696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, n</a:t>
            </a:r>
            <a:r>
              <a:rPr b="0" lang="pl-PL" sz="2400" spc="-1" strike="noStrike" baseline="30000">
                <a:solidFill>
                  <a:srgbClr val="969696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 , n</a:t>
            </a:r>
            <a:r>
              <a:rPr b="0" lang="pl-PL" sz="2400" spc="-1" strike="noStrike" baseline="30000">
                <a:solidFill>
                  <a:srgbClr val="969696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 dla k&gt;3,  2 </a:t>
            </a:r>
            <a:r>
              <a:rPr b="0" lang="pl-PL" sz="2400" spc="-1" strike="noStrike" baseline="30000">
                <a:solidFill>
                  <a:srgbClr val="969696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, 3</a:t>
            </a:r>
            <a:r>
              <a:rPr b="0" lang="pl-PL" sz="2400" spc="-1" strike="noStrike" baseline="30000">
                <a:solidFill>
                  <a:srgbClr val="969696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,  n</a:t>
            </a:r>
            <a:r>
              <a:rPr b="0" lang="pl-PL" sz="2400" spc="-1" strike="noStrike" baseline="30000">
                <a:solidFill>
                  <a:srgbClr val="969696"/>
                </a:solidFill>
                <a:latin typeface="Times New Roman"/>
              </a:rPr>
              <a:t>n    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wyznaczają różne klasy równoważności ze względu na relację </a:t>
            </a:r>
            <a:r>
              <a:rPr b="0" lang="pl-PL" sz="24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/>
          </p:cNvPr>
          <p:cNvSpPr/>
          <p:nvPr/>
        </p:nvSpPr>
        <p:spPr>
          <a:xfrm>
            <a:off x="7543800" y="2057400"/>
            <a:ext cx="1295280" cy="762120"/>
          </a:xfrm>
          <a:custGeom>
            <a:avLst/>
            <a:gdLst>
              <a:gd name="textAreaLeft" fmla="*/ 190440 w 1295280"/>
              <a:gd name="textAreaRight" fmla="*/ 1104840 w 12952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1304" y="5400"/>
                </a:lnTo>
                <a:lnTo>
                  <a:pt x="5400" y="5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1304" y="16200"/>
                </a:lnTo>
                <a:lnTo>
                  <a:pt x="31304" y="5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1304" y="16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6704" h="21600">
                <a:moveTo>
                  <a:pt x="14327" y="6775"/>
                </a:moveTo>
                <a:lnTo>
                  <a:pt x="22377" y="10800"/>
                </a:lnTo>
                <a:lnTo>
                  <a:pt x="14327" y="148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W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Notacja</a:t>
            </a:r>
            <a:br>
              <a:rPr sz="1600"/>
            </a:b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 asymptotycz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0DB-F4E9-4386-B91D-0D66424B425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Relacja Równoważności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133720"/>
            <a:ext cx="7315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Przykład. Niech X oznacza zbiór samochodów oraz x,y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 x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y wttw x i y są samochodami tej samej mark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2. x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y wttw x i y mają tę samą pojemność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3. x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y wttw x i y zostały wyprodukowane tego samego ro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Zwrotnoś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5334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+ sy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+ przechodni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523880" y="4038480"/>
            <a:ext cx="2057400" cy="914400"/>
            <a:chOff x="1523880" y="4038480"/>
            <a:chExt cx="2057400" cy="914400"/>
          </a:xfrm>
        </p:grpSpPr>
        <p:sp>
          <p:nvSpPr>
            <p:cNvPr id="139" name=""/>
            <p:cNvSpPr/>
            <p:nvPr/>
          </p:nvSpPr>
          <p:spPr>
            <a:xfrm>
              <a:off x="1523880" y="4038480"/>
              <a:ext cx="2057400" cy="9144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3880" y="4038480"/>
              <a:ext cx="53352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6969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4038480"/>
              <a:ext cx="838080" cy="609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7120b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4038480"/>
              <a:ext cx="381240" cy="76212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69696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4648320"/>
              <a:ext cx="137160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69696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114800" y="4038480"/>
            <a:ext cx="2057400" cy="914400"/>
            <a:chOff x="4114800" y="4038480"/>
            <a:chExt cx="2057400" cy="914400"/>
          </a:xfrm>
        </p:grpSpPr>
        <p:sp>
          <p:nvSpPr>
            <p:cNvPr id="145" name=""/>
            <p:cNvSpPr/>
            <p:nvPr/>
          </p:nvSpPr>
          <p:spPr>
            <a:xfrm>
              <a:off x="4114800" y="4038480"/>
              <a:ext cx="2057400" cy="9144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14800" y="4038480"/>
              <a:ext cx="1066680" cy="6098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69696"/>
                  </a:solidFill>
                  <a:latin typeface="Times New Roman"/>
                </a:rPr>
                <a:t>1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81480" y="4038480"/>
              <a:ext cx="76212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69696"/>
                  </a:solidFill>
                  <a:latin typeface="Times New Roman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14800" y="4648320"/>
              <a:ext cx="1066680" cy="3045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69696"/>
                  </a:solidFill>
                  <a:latin typeface="Times New Roman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05720" y="4038480"/>
            <a:ext cx="1981080" cy="914400"/>
            <a:chOff x="6705720" y="4038480"/>
            <a:chExt cx="1981080" cy="914400"/>
          </a:xfrm>
        </p:grpSpPr>
        <p:sp>
          <p:nvSpPr>
            <p:cNvPr id="150" name=""/>
            <p:cNvSpPr/>
            <p:nvPr/>
          </p:nvSpPr>
          <p:spPr>
            <a:xfrm>
              <a:off x="6705720" y="4038480"/>
              <a:ext cx="1981080" cy="9144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5720" y="4038480"/>
              <a:ext cx="838080" cy="533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43800" y="4038480"/>
              <a:ext cx="83808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4572000"/>
              <a:ext cx="609480" cy="38088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19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5200" y="4572000"/>
              <a:ext cx="609480" cy="380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19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44C-FB8B-4146-8DC1-38F0F890DD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rzykład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2057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X zbiór studentów  studiujących w Warszawie. Przyjmijmy, że każdy x 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X jest studentem tylko jednej Uczel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30481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1. x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y wttw  x i y są studentami tej samej Uczel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4648320"/>
            <a:ext cx="2666880" cy="1295280"/>
            <a:chOff x="1447920" y="4648320"/>
            <a:chExt cx="2666880" cy="1295280"/>
          </a:xfrm>
        </p:grpSpPr>
        <p:sp>
          <p:nvSpPr>
            <p:cNvPr id="159" name=""/>
            <p:cNvSpPr/>
            <p:nvPr/>
          </p:nvSpPr>
          <p:spPr>
            <a:xfrm>
              <a:off x="1447920" y="4648320"/>
              <a:ext cx="2666880" cy="1295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7920" y="4648320"/>
              <a:ext cx="1143000" cy="761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Times New Roman"/>
                </a:rPr>
                <a:t>U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4648320"/>
              <a:ext cx="838080" cy="838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Times New Roman"/>
                </a:rPr>
                <a:t>SGG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47920" y="5410080"/>
              <a:ext cx="91440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Times New Roman"/>
                </a:rPr>
                <a:t>SGP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62320" y="5410080"/>
              <a:ext cx="1219320" cy="5331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Times New Roman"/>
                </a:rPr>
                <a:t>PJWST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4648320"/>
              <a:ext cx="685800" cy="685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Times New Roman"/>
                </a:rPr>
                <a:t>P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219320" y="3505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2. x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y wttw  x i y są kobietami lub x i y są mężczyzn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952880" y="4648320"/>
            <a:ext cx="2666880" cy="1295280"/>
            <a:chOff x="4952880" y="4648320"/>
            <a:chExt cx="2666880" cy="1295280"/>
          </a:xfrm>
        </p:grpSpPr>
        <p:sp>
          <p:nvSpPr>
            <p:cNvPr id="167" name=""/>
            <p:cNvSpPr/>
            <p:nvPr/>
          </p:nvSpPr>
          <p:spPr>
            <a:xfrm>
              <a:off x="4952880" y="4648320"/>
              <a:ext cx="2666880" cy="1295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52880" y="4648320"/>
              <a:ext cx="26668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Times New Roman"/>
                </a:rPr>
                <a:t>kob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2880" y="5181480"/>
              <a:ext cx="2666880" cy="761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69696"/>
                  </a:solidFill>
                  <a:latin typeface="Times New Roman"/>
                </a:rPr>
                <a:t>mężczyź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295280" y="4038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3. x 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y wttw zarówno  x jak  i y  śpią na wy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4648320"/>
            <a:ext cx="1447920" cy="1295280"/>
          </a:xfrm>
          <a:prstGeom prst="rect">
            <a:avLst/>
          </a:prstGeom>
          <a:solidFill>
            <a:srgbClr val="66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AD9-62CF-46A6-B17B-0C433E943B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Definicj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19810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Relacja binarna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w zbiorze X,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X  jest relacją równoważności wttw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jest relacją zwrotną, symetryczną i przechodni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200400"/>
            <a:ext cx="5105520" cy="1557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tzn.  dla dowolnych x, y, z </a:t>
            </a:r>
            <a:r>
              <a:rPr b="0" lang="pl-PL" sz="2400" spc="-1" strike="noStrike">
                <a:solidFill>
                  <a:srgbClr val="969696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X,</a:t>
            </a:r>
            <a:br>
              <a:rPr sz="2400"/>
            </a:br>
            <a:r>
              <a:rPr b="0" lang="pl-PL" sz="2400" spc="-1" strike="noStrike">
                <a:solidFill>
                  <a:srgbClr val="969696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27120b"/>
                </a:solidFill>
                <a:latin typeface="Times New Roman"/>
              </a:rPr>
              <a:t>x </a:t>
            </a:r>
            <a:r>
              <a:rPr b="0" lang="pl-PL" sz="2400" spc="-1" strike="noStrike">
                <a:solidFill>
                  <a:srgbClr val="27120b"/>
                </a:solidFill>
                <a:latin typeface="Symbol"/>
                <a:ea typeface="Symbol"/>
              </a:rPr>
              <a:t></a:t>
            </a:r>
            <a:r>
              <a:rPr b="0" lang="pl-PL" sz="2400" spc="-1" strike="noStrike">
                <a:solidFill>
                  <a:srgbClr val="27120b"/>
                </a:solidFill>
                <a:latin typeface="Times New Roman"/>
              </a:rPr>
              <a:t> x </a:t>
            </a:r>
            <a:br>
              <a:rPr sz="2400"/>
            </a:br>
            <a:r>
              <a:rPr b="0" lang="pl-PL" sz="2400" spc="-1" strike="noStrike">
                <a:solidFill>
                  <a:srgbClr val="27120b"/>
                </a:solidFill>
                <a:latin typeface="Times New Roman"/>
              </a:rPr>
              <a:t> jeżeli x </a:t>
            </a:r>
            <a:r>
              <a:rPr b="0" lang="pl-PL" sz="2400" spc="-1" strike="noStrike">
                <a:solidFill>
                  <a:srgbClr val="27120b"/>
                </a:solidFill>
                <a:latin typeface="Symbol"/>
                <a:ea typeface="Symbol"/>
              </a:rPr>
              <a:t></a:t>
            </a:r>
            <a:r>
              <a:rPr b="0" lang="pl-PL" sz="2400" spc="-1" strike="noStrike">
                <a:solidFill>
                  <a:srgbClr val="27120b"/>
                </a:solidFill>
                <a:latin typeface="Times New Roman"/>
              </a:rPr>
              <a:t> y, to  y </a:t>
            </a:r>
            <a:r>
              <a:rPr b="0" lang="pl-PL" sz="2400" spc="-1" strike="noStrike">
                <a:solidFill>
                  <a:srgbClr val="27120b"/>
                </a:solidFill>
                <a:latin typeface="Symbol"/>
                <a:ea typeface="Symbol"/>
              </a:rPr>
              <a:t></a:t>
            </a:r>
            <a:r>
              <a:rPr b="0" lang="pl-PL" sz="2400" spc="-1" strike="noStrike">
                <a:solidFill>
                  <a:srgbClr val="27120b"/>
                </a:solidFill>
                <a:latin typeface="Times New Roman"/>
              </a:rPr>
              <a:t> x</a:t>
            </a:r>
            <a:br>
              <a:rPr sz="2400"/>
            </a:br>
            <a:r>
              <a:rPr b="0" lang="pl-PL" sz="2400" spc="-1" strike="noStrike">
                <a:solidFill>
                  <a:srgbClr val="27120b"/>
                </a:solidFill>
                <a:latin typeface="Times New Roman"/>
              </a:rPr>
              <a:t> jeżeli x </a:t>
            </a:r>
            <a:r>
              <a:rPr b="0" lang="pl-PL" sz="2400" spc="-1" strike="noStrike">
                <a:solidFill>
                  <a:srgbClr val="27120b"/>
                </a:solidFill>
                <a:latin typeface="Symbol"/>
                <a:ea typeface="Symbol"/>
              </a:rPr>
              <a:t></a:t>
            </a:r>
            <a:r>
              <a:rPr b="0" lang="pl-PL" sz="2400" spc="-1" strike="noStrike">
                <a:solidFill>
                  <a:srgbClr val="27120b"/>
                </a:solidFill>
                <a:latin typeface="Times New Roman"/>
              </a:rPr>
              <a:t> y i  y </a:t>
            </a:r>
            <a:r>
              <a:rPr b="0" lang="pl-PL" sz="2400" spc="-1" strike="noStrike">
                <a:solidFill>
                  <a:srgbClr val="27120b"/>
                </a:solidFill>
                <a:latin typeface="Symbol"/>
                <a:ea typeface="Symbol"/>
              </a:rPr>
              <a:t></a:t>
            </a:r>
            <a:r>
              <a:rPr b="0" lang="pl-PL" sz="2400" spc="-1" strike="noStrike">
                <a:solidFill>
                  <a:srgbClr val="27120b"/>
                </a:solidFill>
                <a:latin typeface="Times New Roman"/>
              </a:rPr>
              <a:t> z, to  x </a:t>
            </a:r>
            <a:r>
              <a:rPr b="0" lang="pl-PL" sz="2400" spc="-1" strike="noStrike">
                <a:solidFill>
                  <a:srgbClr val="27120b"/>
                </a:solidFill>
                <a:latin typeface="Symbol"/>
                <a:ea typeface="Symbol"/>
              </a:rPr>
              <a:t></a:t>
            </a:r>
            <a:r>
              <a:rPr b="0" lang="pl-PL" sz="2400" spc="-1" strike="noStrike">
                <a:solidFill>
                  <a:srgbClr val="27120b"/>
                </a:solidFill>
                <a:latin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4876920"/>
            <a:ext cx="571500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69696"/>
                </a:solidFill>
                <a:latin typeface="Times New Roman"/>
              </a:rPr>
              <a:t>Uwaga  Każda funkcja f : X </a:t>
            </a:r>
            <a:r>
              <a:rPr b="0" lang="pl-PL" sz="2000" spc="-1" strike="noStrike">
                <a:solidFill>
                  <a:srgbClr val="969696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969696"/>
                </a:solidFill>
                <a:latin typeface="Times New Roman"/>
              </a:rPr>
              <a:t> X wyznacza w zbiorze X relację równoważności </a:t>
            </a:r>
            <a:r>
              <a:rPr b="0" lang="pl-PL" sz="24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pl-PL" sz="2000" spc="-1" strike="noStrike">
                <a:solidFill>
                  <a:srgbClr val="969696"/>
                </a:solidFill>
                <a:latin typeface="Times New Roman"/>
              </a:rPr>
              <a:t> taką, że    </a:t>
            </a:r>
            <a:br>
              <a:rPr sz="2000"/>
            </a:br>
            <a:r>
              <a:rPr b="0" lang="pl-PL" sz="2000" spc="-1" strike="noStrike">
                <a:solidFill>
                  <a:srgbClr val="969696"/>
                </a:solidFill>
                <a:latin typeface="Times New Roman"/>
              </a:rPr>
              <a:t>           x </a:t>
            </a:r>
            <a:r>
              <a:rPr b="0" lang="pl-PL" sz="24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pl-PL" sz="2000" spc="-1" strike="noStrike">
                <a:solidFill>
                  <a:srgbClr val="969696"/>
                </a:solidFill>
                <a:latin typeface="Times New Roman"/>
              </a:rPr>
              <a:t> y  wttw  f(x)= f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2438280"/>
            <a:ext cx="1905120" cy="350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Każda relacja równoważności 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w zbiorze X  wyznacza  pewną funkcję zwaną</a:t>
            </a:r>
            <a:br>
              <a:rPr sz="2000"/>
            </a:b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odwzorowaniem kanonicznym f : X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P(X) taką, że </a:t>
            </a:r>
            <a:br>
              <a:rPr sz="2000"/>
            </a:b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f(x) = [x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D55-C440-432B-8158-6A8A16225A4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rzykład Relacji Równoważności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209680"/>
            <a:ext cx="4724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Times New Roman"/>
              </a:rPr>
              <a:t>Przykład 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Dany jest graf niezorientowany &lt;V,E&gt;, gdzie V jest zbiorem wierzchołków a E zbiorem krawędzi grafu. Definiuje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y wttw y jest osiągalne z x, tzn. istnieje droga łącząca wierzchołki x i y w grafie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172200" y="2286000"/>
            <a:ext cx="2590920" cy="2666880"/>
            <a:chOff x="6172200" y="2286000"/>
            <a:chExt cx="2590920" cy="2666880"/>
          </a:xfrm>
        </p:grpSpPr>
        <p:sp>
          <p:nvSpPr>
            <p:cNvPr id="180" name=""/>
            <p:cNvSpPr/>
            <p:nvPr/>
          </p:nvSpPr>
          <p:spPr>
            <a:xfrm>
              <a:off x="6172200" y="2286000"/>
              <a:ext cx="2590920" cy="2666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34320" y="2590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2920" y="2743200"/>
              <a:ext cx="457200" cy="0"/>
            </a:xfrm>
            <a:prstGeom prst="line">
              <a:avLst/>
            </a:prstGeom>
            <a:ln w="9360">
              <a:solidFill>
                <a:srgbClr val="2712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77120" y="30481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1680" y="3733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62920" y="32004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05920" y="28954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29600" y="3733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43800" y="43434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20120" y="2590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48720" y="2743200"/>
              <a:ext cx="457200" cy="228600"/>
            </a:xfrm>
            <a:prstGeom prst="line">
              <a:avLst/>
            </a:prstGeom>
            <a:ln w="9360">
              <a:solidFill>
                <a:srgbClr val="2712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705360" y="2743200"/>
              <a:ext cx="228600" cy="380880"/>
            </a:xfrm>
            <a:prstGeom prst="line">
              <a:avLst/>
            </a:prstGeom>
            <a:ln w="9360">
              <a:solidFill>
                <a:srgbClr val="2712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29400" y="3276720"/>
              <a:ext cx="228600" cy="533160"/>
            </a:xfrm>
            <a:prstGeom prst="line">
              <a:avLst/>
            </a:prstGeom>
            <a:ln w="9360">
              <a:solidFill>
                <a:srgbClr val="2712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86600" y="2819520"/>
              <a:ext cx="152280" cy="380880"/>
            </a:xfrm>
            <a:prstGeom prst="line">
              <a:avLst/>
            </a:prstGeom>
            <a:ln w="9360">
              <a:solidFill>
                <a:srgbClr val="2712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696080" y="3886200"/>
              <a:ext cx="533520" cy="457200"/>
            </a:xfrm>
            <a:prstGeom prst="line">
              <a:avLst/>
            </a:prstGeom>
            <a:ln w="9360">
              <a:solidFill>
                <a:srgbClr val="2712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96080" y="33526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48720" y="3505320"/>
              <a:ext cx="457200" cy="304560"/>
            </a:xfrm>
            <a:prstGeom prst="line">
              <a:avLst/>
            </a:prstGeom>
            <a:ln w="9360">
              <a:solidFill>
                <a:srgbClr val="2712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H="1">
            <a:off x="7391520" y="28195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7086240" y="274284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629040" y="28195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391160" y="30481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933960" y="2819520"/>
            <a:ext cx="759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3200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619760" y="358128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114800"/>
            <a:ext cx="46483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Times New Roman"/>
              </a:rPr>
              <a:t>Uwaga 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Tak zdefiniowana relacja jest tranzytywnym (przechodnim) domknięciem relacji sąsiedztwa E i jest relacją równoważ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541008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Relacja inkluzji w zbiorze  P(X) nie jest relacją równoważności. Dlacze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408-724B-4FE8-8952-E069B1B47D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e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335268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Jeżeli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jest relacją równoważności w zbiorze X, to dla dowolnych x,y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X, </a:t>
            </a:r>
            <a:br>
              <a:rPr sz="2400"/>
            </a:b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[x]</a:t>
            </a:r>
            <a:br>
              <a:rPr sz="2400"/>
            </a:b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[x] = [y]    wttw    x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y</a:t>
            </a:r>
            <a:br>
              <a:rPr sz="2400"/>
            </a:b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Jeżeli [x] 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[y] , to [x] 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[y] = 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2286000"/>
            <a:ext cx="51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Times New Roman"/>
              </a:rPr>
              <a:t>Oznaczenie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  Niech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będzie  relacją równoważności w zbiorze X,  wtedy  dla dowolnego x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X,  [x] = {y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X : x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y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7280" y="609480"/>
            <a:ext cx="2743200" cy="1600200"/>
          </a:xfrm>
          <a:prstGeom prst="cloudCallout">
            <a:avLst>
              <a:gd name="adj1" fmla="val -135995"/>
              <a:gd name="adj2" fmla="val 9543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lasa abstrakcj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ównoważności) elementu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4038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Bo relacja jest zwrot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45720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Jeśli [x]=[y], to w szczególności x </a:t>
            </a:r>
            <a:r>
              <a:rPr b="0" lang="en-US" sz="1800" spc="-1" strike="noStrike">
                <a:solidFill>
                  <a:srgbClr val="969696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 [y], czyli x </a:t>
            </a:r>
            <a:r>
              <a:rPr b="0" lang="en-US" sz="18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 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220968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Jeśli x </a:t>
            </a:r>
            <a:r>
              <a:rPr b="0" lang="en-US" sz="18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 y, to dla dowolnego z </a:t>
            </a:r>
            <a:r>
              <a:rPr b="0" lang="en-US" sz="1800" spc="-1" strike="noStrike">
                <a:solidFill>
                  <a:srgbClr val="969696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[x] mamy z </a:t>
            </a:r>
            <a:r>
              <a:rPr b="0" lang="en-US" sz="18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 x, zatem z przechodniości relacji </a:t>
            </a:r>
            <a:r>
              <a:rPr b="0" lang="en-US" sz="18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 mamy z </a:t>
            </a:r>
            <a:r>
              <a:rPr b="0" lang="en-US" sz="18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 y, tzn. z </a:t>
            </a:r>
            <a:r>
              <a:rPr b="0" lang="en-US" sz="1800" spc="-1" strike="noStrike">
                <a:solidFill>
                  <a:srgbClr val="969696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[y]. Zatem [x] </a:t>
            </a:r>
            <a:r>
              <a:rPr b="0" lang="en-US" sz="1800" spc="-1" strike="noStrike">
                <a:solidFill>
                  <a:srgbClr val="969696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 [y]. Podobnie [y] </a:t>
            </a:r>
            <a:r>
              <a:rPr b="0" lang="en-US" sz="1800" spc="-1" strike="noStrike">
                <a:solidFill>
                  <a:srgbClr val="969696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 [x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2286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Gdyby w zbiorze [x] </a:t>
            </a:r>
            <a:r>
              <a:rPr b="0" lang="en-US" sz="1800" spc="-1" strike="noStrike">
                <a:solidFill>
                  <a:srgbClr val="969696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 [y]  był chociaż jeden element z, to byłoby </a:t>
            </a:r>
            <a:r>
              <a:rPr b="0" lang="en-US" sz="1800" spc="-1" strike="noStrike">
                <a:solidFill>
                  <a:srgbClr val="27120b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27120b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27120b"/>
                </a:solidFill>
                <a:latin typeface="Times New Roman"/>
              </a:rPr>
              <a:t>x oraz z</a:t>
            </a:r>
            <a:r>
              <a:rPr b="0" lang="en-US" sz="1800" spc="-1" strike="noStrike">
                <a:solidFill>
                  <a:srgbClr val="27120b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27120b"/>
                </a:solidFill>
                <a:latin typeface="Times New Roman"/>
              </a:rPr>
              <a:t>y. Zatem z przechodniości mielibyśmy x </a:t>
            </a:r>
            <a:r>
              <a:rPr b="0" lang="en-US" sz="1800" spc="-1" strike="noStrike">
                <a:solidFill>
                  <a:srgbClr val="27120b"/>
                </a:solidFill>
                <a:latin typeface="Symbol"/>
                <a:ea typeface="Symbol"/>
              </a:rPr>
              <a:t></a:t>
            </a:r>
            <a:r>
              <a:rPr b="0" lang="en-US" sz="1800" spc="-1" strike="noStrike">
                <a:solidFill>
                  <a:srgbClr val="27120b"/>
                </a:solidFill>
                <a:latin typeface="Times New Roman"/>
              </a:rPr>
              <a:t> y, co oznaczałoby, że [x]=[y]. Sprzecznoś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1B1-6AA1-4BE2-8740-E95CBD1322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Podział Zbioru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2133720"/>
            <a:ext cx="7086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69696"/>
                </a:solidFill>
                <a:uFillTx/>
                <a:latin typeface="Times New Roman"/>
              </a:rPr>
              <a:t>Definicja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Podziałem zbioru X nazywamy taką rodzinę (X </a:t>
            </a:r>
            <a:r>
              <a:rPr b="0" lang="en-US" sz="2000" spc="-1" strike="noStrike" baseline="-25000">
                <a:solidFill>
                  <a:srgbClr val="969696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) </a:t>
            </a:r>
            <a:r>
              <a:rPr b="0" lang="en-US" sz="2000" spc="-1" strike="noStrike" baseline="-25000">
                <a:solidFill>
                  <a:srgbClr val="969696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969696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969696"/>
                </a:solidFill>
                <a:latin typeface="Times New Roman"/>
              </a:rPr>
              <a:t> I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niepustych podzbiorów zbioru X, że X</a:t>
            </a:r>
            <a:r>
              <a:rPr b="0" lang="en-US" sz="2000" spc="-1" strike="noStrike" baseline="-25000">
                <a:solidFill>
                  <a:srgbClr val="969696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X</a:t>
            </a:r>
            <a:r>
              <a:rPr b="0" lang="en-US" sz="2000" spc="-1" strike="noStrike" baseline="-25000">
                <a:solidFill>
                  <a:srgbClr val="96969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  oraz 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969696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=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3124080"/>
            <a:ext cx="7086600" cy="24789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69696"/>
                </a:solidFill>
                <a:uFillTx/>
                <a:latin typeface="Times New Roman"/>
              </a:rPr>
              <a:t>Zasada abstra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Każda relacja równoważności 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w niepustym zbirze X wyznacza podział zbioru X na niepuste i rozłączne podzbiory, a mianowicie na klasy abstrakcji relacji 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, w taki sposób, że dwa elementy  x,y należą do tego samego zbioru podziału, gdy  x </a:t>
            </a:r>
            <a:r>
              <a:rPr b="0" lang="en-US" sz="2400" spc="-1" strike="noStrike">
                <a:solidFill>
                  <a:srgbClr val="969696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1"/>
          </p:cNvPr>
          <p:cNvSpPr/>
          <p:nvPr/>
        </p:nvSpPr>
        <p:spPr>
          <a:xfrm>
            <a:off x="8001000" y="2057400"/>
            <a:ext cx="838080" cy="380880"/>
          </a:xfrm>
          <a:custGeom>
            <a:avLst/>
            <a:gdLst>
              <a:gd name="textAreaLeft" fmla="*/ 95040 w 838080"/>
              <a:gd name="textAreaRight" fmla="*/ 743040 w 838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2104" y="5400"/>
                </a:lnTo>
                <a:lnTo>
                  <a:pt x="5400" y="5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2104" y="16200"/>
                </a:lnTo>
                <a:lnTo>
                  <a:pt x="42104" y="5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42104" y="16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47504" h="21600">
                <a:moveTo>
                  <a:pt x="19727" y="6775"/>
                </a:moveTo>
                <a:lnTo>
                  <a:pt x="27777" y="10800"/>
                </a:lnTo>
                <a:lnTo>
                  <a:pt x="19727" y="148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36A-C662-4D6A-AB6C-3F495329AF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Zastosowanie 1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209680"/>
            <a:ext cx="457200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Rozważmy relację binarną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w zbiorze 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(n,m)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(k,l) wttw   n+l = m+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32767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Oczywiście jest relacją zwrotną i symetryczn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36576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Ponadto jest to relacja przechodnia, b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0384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Jeśli (n,m)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(k,l) oraz (k,l)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(u,w), to  n+l = m+k oraz k+w = l+u . Stąd n+w = m+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5720" y="1523880"/>
            <a:ext cx="2438280" cy="914400"/>
          </a:xfrm>
          <a:prstGeom prst="cloudCallout">
            <a:avLst>
              <a:gd name="adj1" fmla="val -77671"/>
              <a:gd name="adj2" fmla="val 69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jest relacja równoważnoś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31240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Klasy abstrakcji tej relacji wyznaczają liczby całkow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4495680"/>
            <a:ext cx="2361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Np..: [(1,1)] = [(4,4)]  wyznacza liczbę całkowitą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Klasa [(2,1)] wyznacza liczbę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8006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Ogólnie: klasa [(m,n)] wyznacza liczbę 0 gdy m=n, </a:t>
            </a:r>
            <a:br>
              <a:rPr sz="2000"/>
            </a:b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liczbę całkowitą k, gdy m&gt;n i m = n+k oraz  liczbę całkowitą –k, gdy m&lt;n i n = m+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CA1-B262-4740-8DBA-FED11B7053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Zastosowanie 2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2209680"/>
            <a:ext cx="457200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Rozważmy relację binarną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 Z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Z\{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(n,m)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(k,l) wttw   n * l = m *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32767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Oczywiście jest relacją zwrotną i symetryczn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3581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Relacja jest przechodnia, 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4038480"/>
            <a:ext cx="5029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Jeśli (n,m)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(k,l) oraz (k,l) 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(u,w), to  n*l = m*k  oraz   k*w = l*u . Stąd </a:t>
            </a:r>
            <a:br>
              <a:rPr sz="2000"/>
            </a:b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           n*(k*l)*w = m*(k*l)*u. </a:t>
            </a:r>
            <a:br>
              <a:rPr sz="2000"/>
            </a:b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O ile k*l</a:t>
            </a:r>
            <a:r>
              <a:rPr b="0" lang="en-US" sz="2000" spc="-1" strike="noStrike">
                <a:solidFill>
                  <a:srgbClr val="969696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0, to  otrzymujemy    n*w = m*u..</a:t>
            </a:r>
            <a:br>
              <a:rPr sz="2000"/>
            </a:b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Jeśli k*l = 0, to k=0. Ale wtedy n=0 i u=0, czyli    n*w = m*u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57200"/>
            <a:ext cx="2514600" cy="1600200"/>
          </a:xfrm>
          <a:prstGeom prst="cloudCallout">
            <a:avLst>
              <a:gd name="adj1" fmla="val -63069"/>
              <a:gd name="adj2" fmla="val 8640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jest relacj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ównoważn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2438280"/>
            <a:ext cx="25146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iór klas abstrakcji tej relacji, to zbiór liczb wymiernych Q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429000"/>
            <a:ext cx="25146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lasie [(m,n)] charakteryzuje liczbę wymierną   m/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4495680"/>
            <a:ext cx="2819520" cy="161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Co więcej</a:t>
            </a:r>
            <a:r>
              <a:rPr b="0" lang="en-US" sz="2000" spc="-1" strike="noStrike">
                <a:solidFill>
                  <a:srgbClr val="27120b"/>
                </a:solidFill>
                <a:latin typeface="Times New Roman"/>
              </a:rPr>
              <a:t>, na klasach abstrakcji można określić operacje odpowiadające działaniom arytmetyczn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G.Mirkowsk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318-B246-4192-B307-3D2707EBBF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 października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6:02:13Z</dcterms:created>
  <dc:creator>andrzej</dc:creator>
  <dc:description/>
  <dc:language>en-US</dc:language>
  <cp:lastModifiedBy>Jacek Kaliński</cp:lastModifiedBy>
  <dcterms:modified xsi:type="dcterms:W3CDTF">2002-05-29T18:09:17Z</dcterms:modified>
  <cp:revision>19</cp:revision>
  <dc:subject/>
  <dc:title>Wykład 4</dc:title>
</cp:coreProperties>
</file>