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C98-FE05-448B-AE30-B8EE1A33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EBE-CE5C-48FB-9223-98173D1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E58-3F06-4102-BC38-7494EBDE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43E-7DB4-435C-9A29-94B17D1D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9213-0D9C-4E45-A71D-60593094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58E-B74E-497E-9474-1C02EA01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C01C-0AEE-4F24-A4B4-192DB40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1EF3-A0AD-4451-9C83-F42E247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AC19-7C2F-4A22-ADEE-2E93EC56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C9E4-2D9A-42C5-8655-938A09B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402-0C0C-4616-9067-04F845D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50A-133B-4DD4-9ED4-3C0403B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4ACD-BE4E-4F45-9F15-A204EFD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ADD-22C9-42D0-9E94-308E0F0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1528-7F36-46C1-BEEE-3154557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0D3-2E0E-4BC1-A6E8-874545C6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2ECE-EE54-4450-9DBE-A2A86E87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F37-B9C1-4DE1-B0F4-AFF93F6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820-C265-4EA7-8AE1-58AD7B7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630-1E53-4EB9-A6A1-4FE69ABA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F59-E0F6-437F-829E-21D1B944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347-8C04-432A-8EEF-E1F25EA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D14-D18C-4E8F-9C93-A75849C2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4BC-67DF-414F-8176-E979EBF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9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52C-2D75-4B2C-B4BA-70EE87E1162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1430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11430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0" y="11430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1143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924320" y="61722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023-0B2A-4960-B5FC-B85240BA40E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w7.ppt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8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Indukcja  i   Rekursja 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82D-FCAA-4E7C-B9C9-4B2A27C9DF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  1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600200"/>
            <a:ext cx="7467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czba podzbiorów zbioru n elementowego wynosi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057400"/>
            <a:ext cx="739116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:  Niech będzie własność W  liczb naturalnych określona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(n) wttw liczba podzbiorów zbioru n elementowego wynosi 2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65760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Liczba 0 ma własność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4191120"/>
            <a:ext cx="46483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(2) Załóżmy, że wszystkie zbiory k elementowe mają własność W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ozważmy zbiór k elementowy X. X = {x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..., x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x 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}.Będziemy dowodzili, że zbiór k+1 elementowy ma też własność 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733920"/>
            <a:ext cx="2971800" cy="614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dzbiory zbioru X, w których nie występuje element x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800600"/>
            <a:ext cx="1218960" cy="990720"/>
          </a:xfrm>
          <a:prstGeom prst="cloudCallout">
            <a:avLst>
              <a:gd name="adj1" fmla="val 28907"/>
              <a:gd name="adj2" fmla="val -10352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est ich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743200"/>
            <a:ext cx="2286000" cy="914400"/>
          </a:xfrm>
          <a:prstGeom prst="cloudCallout">
            <a:avLst>
              <a:gd name="adj1" fmla="val -95416"/>
              <a:gd name="adj2" fmla="val 6493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Zbiór pusty  ma tylko 1 podzbió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5105520"/>
            <a:ext cx="1752480" cy="110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dzbiory zbioru X, w których występuje element x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3200400"/>
            <a:ext cx="1371600" cy="914400"/>
          </a:xfrm>
          <a:prstGeom prst="cloudCallout">
            <a:avLst>
              <a:gd name="adj1" fmla="val 14930"/>
              <a:gd name="adj2" fmla="val 1300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est ich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e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dzbi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E33-1E3D-4DE8-A1AA-67E2E8ACBF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  2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523880"/>
            <a:ext cx="6782040" cy="764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  n = 37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- 37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100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czy nie jest  wielokrotnością 10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2438280"/>
            <a:ext cx="6781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zywiście ma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 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 ta liczba jest podzielna przez 2 jako różnica liczb nieparzystyc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ybyśmy udowodnili, że (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7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podzielne przez 5 , to twierdzenie byłoby udowodn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3434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że każda liczba postaci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 dla n&gt;0 jest  podzielna przez 5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4038480"/>
            <a:ext cx="5029200" cy="2082240"/>
          </a:xfrm>
          <a:prstGeom prst="rect">
            <a:avLst/>
          </a:prstGeom>
          <a:solidFill>
            <a:srgbClr val="e1e7e4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zeczywiście: Nie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={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: n&gt;1 i (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n)mod 5=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my    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, 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, 3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łóżmy, że k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 Wte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k+1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(k+1) = 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5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10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+10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+5k +1-k-1 = 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k + 5(...)    Stąd   k+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DA3-BB64-4071-A1B3-54EC79ADBA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Algorytm   Euklides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1600200"/>
            <a:ext cx="61722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n,m)= największy wspólny dzielnik n i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5627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WD(x,y) = NWD(x,y mod x)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WD(x,y) = NWD(x,y -x), gdy y&gt;x NWD(x,y) = NWD(x-y,y), gdy x&gt;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2362320"/>
            <a:ext cx="2819520" cy="30704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:=n;  y := m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hile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f   x&gt;y   then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x := x-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els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y:=y-x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f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438280"/>
            <a:ext cx="304812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x,y)=NWD(n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124080"/>
            <a:ext cx="304812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x,y)=NWD(n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641760"/>
            <a:ext cx="304812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x,y)=NWD(n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4343400"/>
            <a:ext cx="304812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x,y)=NWD(n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029200"/>
            <a:ext cx="304812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WD(x,y)=NWD(n,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 rot="5400000">
            <a:off x="6204960" y="34714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niezmiennik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E7E-5D0A-481B-BE31-B7B68592AB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iezmiennik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038480"/>
            <a:ext cx="6324480" cy="1191240"/>
          </a:xfrm>
          <a:prstGeom prst="rect">
            <a:avLst/>
          </a:prstGeom>
          <a:noFill/>
          <a:ln w="1522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zdani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prawdziwe przed  wejściem do pętli oraz jest niezmiennikiem pętli, to po wyjściu z pętli zdani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eż jest prawdziw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600200"/>
            <a:ext cx="7086600" cy="147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iemy, że zda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iezmiennikiem pętl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lt;warunek&gt;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lt;Instrukcja&gt;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z tego, ż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prawdziwe przed wykonaniem Instrukcji pętli wynika, ż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prawdziwe po wykonaniu instrukcji pęt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62320" y="320040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asada  niezmiennik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8077320" y="4952880"/>
            <a:ext cx="761760" cy="914400"/>
          </a:xfrm>
          <a:custGeom>
            <a:avLst/>
            <a:gdLst>
              <a:gd name="textAreaLeft" fmla="*/ 190440 w 761760"/>
              <a:gd name="textAreaRight" fmla="*/ 571320 w 76176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16200" y="20526"/>
                </a:lnTo>
                <a:lnTo>
                  <a:pt x="16200" y="5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5400" y="20526"/>
                </a:lnTo>
                <a:lnTo>
                  <a:pt x="16200" y="20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5400" y="5400"/>
                </a:lnTo>
                <a:lnTo>
                  <a:pt x="5400" y="20526"/>
                </a:lnTo>
                <a:close/>
              </a:path>
              <a:path fill="darken" w="21600" h="25926">
                <a:moveTo>
                  <a:pt x="6775" y="12963"/>
                </a:moveTo>
                <a:lnTo>
                  <a:pt x="14825" y="8938"/>
                </a:lnTo>
                <a:lnTo>
                  <a:pt x="14825" y="16988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EA9-2B1B-4C0E-95AA-34A394D4CC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1523880"/>
            <a:ext cx="3581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waż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z:= x; y :=1; m :=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hile (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0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{   if  odd(m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{ y := y </a:t>
            </a:r>
            <a:r>
              <a:rPr b="0" lang="pl-PL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; }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m := m div 2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z := z </a:t>
            </a:r>
            <a:r>
              <a:rPr b="0" lang="pl-PL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43828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5410080"/>
            <a:ext cx="1981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oraz  m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97180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124080"/>
            <a:ext cx="3886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d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div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y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ub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d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div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800600"/>
            <a:ext cx="16761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76920" y="37339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038480"/>
            <a:ext cx="3047760" cy="1922760"/>
          </a:xfrm>
          <a:prstGeom prst="rect">
            <a:avLst/>
          </a:prstGeom>
          <a:noFill/>
          <a:ln w="104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nios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 i n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,  po wykonaniu programu mam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y = x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39E-C769-443E-8410-F8534AE799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ytmetyk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666880"/>
            <a:ext cx="2590920" cy="1008720"/>
          </a:xfrm>
          <a:prstGeom prst="rect">
            <a:avLst/>
          </a:prstGeom>
          <a:solidFill>
            <a:srgbClr val="cccc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nie jest następnikiem żadnej liczby naturaln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752480"/>
            <a:ext cx="3429000" cy="398880"/>
          </a:xfrm>
          <a:prstGeom prst="rect">
            <a:avLst/>
          </a:prstGeom>
          <a:solidFill>
            <a:srgbClr val="cccc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 0 jest liczbą naturaln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038480"/>
            <a:ext cx="3124080" cy="1313640"/>
          </a:xfrm>
          <a:prstGeom prst="rect">
            <a:avLst/>
          </a:prstGeom>
          <a:solidFill>
            <a:srgbClr val="cccc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każdej liczby naturalnej n istnieje dokładnie jedna liczba naturalna s(n) , która jest następnikiem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2362320"/>
            <a:ext cx="3809880" cy="1008720"/>
          </a:xfrm>
          <a:prstGeom prst="rect">
            <a:avLst/>
          </a:prstGeom>
          <a:solidFill>
            <a:srgbClr val="ccccff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k jest następnikiem liczby n i k jest następnikiem liczby m, to n=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29528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8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ksjomaty  Arytmetyk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733920"/>
            <a:ext cx="4343400" cy="254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a indukcji zupełn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A jest podzbiorem zbioru liczb naturalnych N takim, ż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Dla każdej liczby naturalnej n, jeżeli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i m jest następnikiem n, to 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   A =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0EF-A29E-4D83-8534-108C9AFC61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efiniowanie przez indukcję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523880"/>
            <a:ext cx="2568600" cy="132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daw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+ 0 =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+ s (m) = s (n+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523880"/>
            <a:ext cx="2568600" cy="132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noż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* 0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* s (m) = (n* m) +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9718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la każdej pary  liczb naturalnych  zdefiniowany jest iloczyn  n *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657600"/>
            <a:ext cx="7619760" cy="254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  n będzie dowolnie ustaloną liczbą naturalną  i A będzie zbiorem tych liczb naturalnych m, dla których n*m jest zdefiniow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Założenie indukcyjne:  n*m jest dobrze  zdefiniowane, tzn  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a mocy definicji  mamy  n*s (m) = (n* m) + n. Zatem z założenia indukcyjnego  n*s 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. Czyli s 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mocy zasady indukcji   A=N c.b.d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E46-6D67-4619-A96B-1E37FCC7CC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Zasada  indukcji  II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1981080"/>
            <a:ext cx="5943600" cy="2669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W jest własnością określoną w zbiorze liczb naturalnych N, taką ż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W(0),  tzn. 0 ma własność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dla dowolnej liczby naturalnej 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jeśli  W(n), to W(n+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każda liczba naturalna ma własność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1828800"/>
            <a:ext cx="1981080" cy="990720"/>
          </a:xfrm>
          <a:prstGeom prst="cloudCallout">
            <a:avLst>
              <a:gd name="adj1" fmla="val -115384"/>
              <a:gd name="adj2" fmla="val 5352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za induk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76920"/>
            <a:ext cx="1676520" cy="838080"/>
          </a:xfrm>
          <a:prstGeom prst="cloudCallout">
            <a:avLst>
              <a:gd name="adj1" fmla="val -98486"/>
              <a:gd name="adj2" fmla="val -14564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3429000"/>
            <a:ext cx="1981080" cy="990720"/>
          </a:xfrm>
          <a:prstGeom prst="cloudCallout">
            <a:avLst>
              <a:gd name="adj1" fmla="val -96074"/>
              <a:gd name="adj2" fmla="val -29805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rok  indukcyj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4952880"/>
            <a:ext cx="2514600" cy="914400"/>
          </a:xfrm>
          <a:prstGeom prst="cloudCallout">
            <a:avLst>
              <a:gd name="adj1" fmla="val 5745"/>
              <a:gd name="adj2" fmla="val -151912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łożenie  indukcyj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7B8-6F92-481D-A0F0-6B32AC2710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asada  minimu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1523880"/>
            <a:ext cx="60199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każdym niepustym zbiorze liczb naturalnych istnieje liczba najmniej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666880"/>
            <a:ext cx="6782040" cy="307044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ó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Niech 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 i niech A nie ma liczby najmniejszej (pierwszej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źmy B = {n 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)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Załóżmy, że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yby n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o byłby to element najmniejszy w A. Zatem n+1 nie należy do A. Czyli n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mocy zasady indukcji wszystkie liczby naturalne należą do B. Ale to oznacza że zbiór A jest pusty, wbrew założeni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066680"/>
            <a:ext cx="2266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10B-303A-48EC-9B23-76A669AA20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Zasada  indukcji   III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4120"/>
            <a:ext cx="77724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ody  twierdzeń matematycznych, w których korzysta się z zasady indukcji matematycznej nazywamy indukcyj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6782040" cy="2094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A jest podzbiorem zbioru N takim, ż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0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dla każdej liczby n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jeśli dla wszystkich  k&lt;n+1, k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 , to  n+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 A=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733920"/>
            <a:ext cx="7772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yby (1) i (2) oraz dla pewnego n,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tedy zbiór N\A nie jest pusty. Weźmy więc jego element najmniejszy n0. Ale n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, bo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zystkie liczby &lt;n0 też nie należą do  N\A, więc należą do A. Zatem na mocy (2) n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  Sprzecz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B6B-86A6-4A42-9E2F-D4BF7DE7AA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Zasada indukcji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676520"/>
            <a:ext cx="7238880" cy="378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ch  n będzie liczbą całkowitą oraz niech p(n) będzie ciągiem zdań zdefiniowanych na zbiorze {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: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zdanie p(m) jest prawdz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Jeśli wszystkie zdania p(m),...,p(k-1)dla  k&gt;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ą prawdziwe, to p(k) też jest zdani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prawdziwy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 p(n) jest zdaniem prawdziwym dla dowolnych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388-7B89-4882-A81F-9DA3C73554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 rot="5400000">
            <a:off x="-343440" y="346716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Definiowani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5785920" y="3510000"/>
            <a:ext cx="46479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przez  rekursję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676520"/>
            <a:ext cx="3352680" cy="862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nia(0)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nia(n+1)= silnia (n) * (n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276720"/>
            <a:ext cx="4572000" cy="1167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 Fibonacci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F(0) = F(1)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n) = F(n -1) + F(n - 2)  dla n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4648320"/>
            <a:ext cx="3505320" cy="1167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(1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(n) = 2 T(n/2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dla n &gt;1 będących potęgą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2133720"/>
            <a:ext cx="1600200" cy="825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1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B8A-9C89-47E9-87FE-7EB013F01E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efiniowanie c.d.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600200"/>
            <a:ext cx="76960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cja Ackermmann’a    A :  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(x,y) = if x=0 then y+1 else if  y=0 then A(x-1,1) else A(x-1, A(x,y-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65760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orządkujmy wszystkie pary (n,m) leksykograficzni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Twierdzenie jest prawdziwe dla wszystkich par postaci (0,y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Załóżmy, że jest prawdziwe dla wszystkich par &lt; (n,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800600"/>
            <a:ext cx="6019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szczególności dobrze określone są wartości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(n -1,1) ,  A(n-1, y) dla dowolnego y, oraz   A(n , m-1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zyli wartość A(n,m) też jest dobrze określo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2666880"/>
            <a:ext cx="1447920" cy="31431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ąd  na mocy zasady indukcji, twierdzenie jest prawdziwe dla wszystkich par (n,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26668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(x,y) jest funkcją całkowit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Indukcja i Rekursja  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691-2603-423A-9041-5DB79CC104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 listopada 2001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49:19Z</dcterms:modified>
  <cp:revision>73</cp:revision>
  <dc:subject/>
  <dc:title>Wykład 4</dc:title>
</cp:coreProperties>
</file>