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D1C-B750-4FC9-B4DD-71E85EE3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408-CB8B-43C8-BBB2-CBA16B1D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CAF-8010-4003-91F0-A8F73D36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501-FCD2-4A17-B138-517731EB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00DE-10FB-4B77-ABA5-6EBC4262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EC7C-26A9-42F5-9E8C-D0BCEF3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C893-4673-4EA7-8936-76D68A0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BAE-8762-4A3C-8AD5-988EFC16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4F8E-FFC3-4682-B925-0193324B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45E-6019-480E-80CC-C3B62BD3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D2F-9835-498E-84CC-B683572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21C-1621-4240-BDDE-21E8214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8602-E0CD-4263-A0D0-A583F7D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0D47-9177-4426-8F23-574C31C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C12A-E358-4ADA-B9B9-3BBE63AB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1EA-5CD5-4F92-B95A-191155AA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21896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759480"/>
            <a:ext cx="250236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8AB2-0D3F-4F53-8848-485BE3AC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F5D-B5C8-4AD7-BA26-FDCD69BA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0C9-C674-4B68-B8AE-50567A5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D94-3593-4091-B5FF-08D5A4C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8DD-DBAB-4EB3-9256-8475569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3EC-960E-4CF1-92FA-D19D476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75948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164-6FAD-4F51-BAFE-FB3569B4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218960"/>
            <a:ext cx="37926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759480"/>
            <a:ext cx="7772400" cy="23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375-98AD-47A1-B047-704FDD2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21896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080" y="6248520"/>
            <a:ext cx="128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248520"/>
            <a:ext cx="601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7E6-51E8-4185-AE8C-20B7B8918C5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914400"/>
            <a:ext cx="8596440" cy="33012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9144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9144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9144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28600" y="0"/>
            <a:ext cx="849240" cy="6858000"/>
            <a:chOff x="22860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20700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20628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20556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20628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20556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20556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32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2860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8153280" y="617220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0BF-D621-4E47-8351-6DBB1EC050C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ykład 14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Elementy  Rachunku  Prawdopodobieństwa c.d.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5E7A-063D-483D-A8FA-9F1DFAEFFF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Obliczamy . . 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143000" y="1371600"/>
                <a:ext cx="6908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229600" y="4572000"/>
            <a:ext cx="609480" cy="533520"/>
          </a:xfrm>
          <a:custGeom>
            <a:avLst/>
            <a:gdLst>
              <a:gd name="textAreaLeft" fmla="*/ 115920 w 609480"/>
              <a:gd name="textAreaRight" fmla="*/ 493560 w 609480"/>
              <a:gd name="textAreaTop" fmla="*/ 115920 h 533520"/>
              <a:gd name="textAreaBottom" fmla="*/ 41760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19980" y="4693"/>
                </a:lnTo>
                <a:lnTo>
                  <a:pt x="4693" y="4693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19980" y="16907"/>
                </a:lnTo>
                <a:lnTo>
                  <a:pt x="19980" y="4693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4693" y="16907"/>
                </a:lnTo>
                <a:lnTo>
                  <a:pt x="19980" y="16907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4693" y="4693"/>
                </a:lnTo>
                <a:lnTo>
                  <a:pt x="4693" y="16907"/>
                </a:lnTo>
                <a:close/>
              </a:path>
              <a:path fill="darken" w="24673" h="21600">
                <a:moveTo>
                  <a:pt x="7785" y="8651"/>
                </a:moveTo>
                <a:lnTo>
                  <a:pt x="10063" y="8651"/>
                </a:lnTo>
                <a:lnTo>
                  <a:pt x="10063" y="12118"/>
                </a:lnTo>
                <a:cubicBezTo>
                  <a:pt x="10063" y="12717"/>
                  <a:pt x="10584" y="13192"/>
                  <a:pt x="11257" y="13192"/>
                </a:cubicBezTo>
                <a:lnTo>
                  <a:pt x="12337" y="13192"/>
                </a:lnTo>
                <a:cubicBezTo>
                  <a:pt x="13010" y="13192"/>
                  <a:pt x="13530" y="12717"/>
                  <a:pt x="13530" y="12118"/>
                </a:cubicBezTo>
                <a:lnTo>
                  <a:pt x="13530" y="8651"/>
                </a:lnTo>
                <a:lnTo>
                  <a:pt x="12337" y="8651"/>
                </a:lnTo>
                <a:lnTo>
                  <a:pt x="14615" y="6372"/>
                </a:lnTo>
                <a:lnTo>
                  <a:pt x="17002" y="8651"/>
                </a:lnTo>
                <a:lnTo>
                  <a:pt x="15809" y="8651"/>
                </a:lnTo>
                <a:lnTo>
                  <a:pt x="15809" y="12118"/>
                </a:lnTo>
                <a:cubicBezTo>
                  <a:pt x="15809" y="13916"/>
                  <a:pt x="14135" y="15578"/>
                  <a:pt x="12337" y="15578"/>
                </a:cubicBezTo>
                <a:lnTo>
                  <a:pt x="11257" y="15578"/>
                </a:lnTo>
                <a:cubicBezTo>
                  <a:pt x="9458" y="15578"/>
                  <a:pt x="7785" y="13916"/>
                  <a:pt x="7785" y="12118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295280" y="2971800"/>
                <a:ext cx="6931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95280" y="4495680"/>
                <a:ext cx="6908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066680" y="2438280"/>
            <a:ext cx="7848720" cy="44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A)= (10/23 * 3/100)/(10/23 * 3/100 + 5/23 * 2/100 + 8/23 * 4/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038480"/>
            <a:ext cx="7848720" cy="44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A)= (5/23 * 2/100)/(10/23 * 3/100 + 5/23 * 2/100 + 8/23 * 4/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5562720"/>
            <a:ext cx="7848720" cy="440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A)= (8/23 * 4/100)/(10/23 * 3/100 + 5/23 * 2/100 + 8/23 * 4/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1D4-E16C-443C-8C0E-E6F606A16F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Zmienna   losow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1447920"/>
            <a:ext cx="746748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iec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ędzie przestrzenią zdarzeń elementarnych. Każdą funkcję określoną na zbior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o wartościach w zbiorze liczb rzeczywistych nazywać będziemy zmienną losow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2590920"/>
            <a:ext cx="59436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zut jedną kostk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219320" y="3124080"/>
            <a:ext cx="5105160" cy="992880"/>
            <a:chOff x="1219320" y="3124080"/>
            <a:chExt cx="5105160" cy="992880"/>
          </a:xfrm>
        </p:grpSpPr>
        <p:sp>
          <p:nvSpPr>
            <p:cNvPr id="267" name=""/>
            <p:cNvSpPr/>
            <p:nvPr/>
          </p:nvSpPr>
          <p:spPr>
            <a:xfrm>
              <a:off x="1295280" y="3124080"/>
              <a:ext cx="53316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360" y="3124080"/>
              <a:ext cx="53316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1800" y="3124080"/>
              <a:ext cx="53280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9880" y="3124080"/>
              <a:ext cx="53316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3124080"/>
              <a:ext cx="53316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3124080"/>
              <a:ext cx="533160" cy="5331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1600" y="32000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23880" y="3352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160" y="35049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86000" y="32000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14600" y="34286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0400" y="335268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32000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0760" y="3352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200" y="3352680"/>
              <a:ext cx="7560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38480" y="35049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4280" y="32000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9200" y="350496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29200" y="3200040"/>
              <a:ext cx="7560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4280" y="35049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6560" y="3352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360" y="32000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360" y="3352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62360" y="35049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90960" y="320004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0960" y="335268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90960" y="35049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9320" y="3657240"/>
              <a:ext cx="51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3         2         1          4         5   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705720" y="32767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(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724280"/>
            <a:ext cx="5486400" cy="1167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Rzut dwoma  kostk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a elementarne wij= (i,j) , gdz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, j =1,2,3,4,5,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4952880"/>
            <a:ext cx="1752480" cy="49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i+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4114800"/>
            <a:ext cx="6172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1 gdy  i  parzyste     Y(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0 gdy i  nieparzy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5638680"/>
            <a:ext cx="2057400" cy="49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i/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2514600"/>
            <a:ext cx="1981080" cy="380880"/>
          </a:xfrm>
          <a:prstGeom prst="wedgeEllipseCallout">
            <a:avLst>
              <a:gd name="adj1" fmla="val 42148"/>
              <a:gd name="adj2" fmla="val 20333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zwa zmien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2286000"/>
            <a:ext cx="2057400" cy="990720"/>
          </a:xfrm>
          <a:prstGeom prst="wedgeEllipseCallout">
            <a:avLst>
              <a:gd name="adj1" fmla="val -8564"/>
              <a:gd name="adj2" fmla="val 75319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zmien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zdarzenia 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38680"/>
            <a:ext cx="2819520" cy="49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max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3581280"/>
            <a:ext cx="2209680" cy="1524240"/>
          </a:xfrm>
          <a:prstGeom prst="irregularSeal1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mien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yskret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AB7-135C-41F8-82CE-A613F210A6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Niezależność zmiennych losowych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3352680"/>
            <a:ext cx="7467480" cy="100872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emy, że dwie zmienne losowe X i Y są niezależne wttw dla dowolnych przedziałów  I, J w zbiorze liczb rzeczywist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P (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 i 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) = P(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) * P(Y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1371600"/>
            <a:ext cx="7772400" cy="1860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ata) - liczba stłuczek samochodowych w Krakow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ata) - liczba stłuczek samochodowych w Warszaw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ość stłuczek w Warszawie nie powinna mieć wpływu na liczbę stłuczek w Krakowie. Intuicyjnie te zmienne są niezależ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4648320"/>
            <a:ext cx="7619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przypadku zmiennych dyskretnych : niezależność wyraża się warunki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X=x i Y= y) = P(X=x) * P(Y=y)   dla dowolnych x,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1371600" cy="533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400800" y="609480"/>
            <a:ext cx="2743200" cy="1371600"/>
          </a:xfrm>
          <a:prstGeom prst="wedgeEllipseCallout">
            <a:avLst>
              <a:gd name="adj1" fmla="val -54111"/>
              <a:gd name="adj2" fmla="val 15243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cję tę możn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ogólnić na dowoln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ciąg zmienny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3E8-9780-452E-909A-327632438E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1295280"/>
            <a:ext cx="5486400" cy="838440"/>
            <a:chOff x="1219320" y="1295280"/>
            <a:chExt cx="5486400" cy="838440"/>
          </a:xfrm>
        </p:grpSpPr>
        <p:sp>
          <p:nvSpPr>
            <p:cNvPr id="312" name=""/>
            <p:cNvSpPr/>
            <p:nvPr/>
          </p:nvSpPr>
          <p:spPr>
            <a:xfrm>
              <a:off x="1219320" y="1295280"/>
              <a:ext cx="350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zważmy doświadczenie z rzutem dwoma kostkami do gr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5105520" y="1523880"/>
              <a:ext cx="609480" cy="609840"/>
              <a:chOff x="5105520" y="1523880"/>
              <a:chExt cx="609480" cy="609840"/>
            </a:xfrm>
          </p:grpSpPr>
          <p:sp>
            <p:nvSpPr>
              <p:cNvPr id="314" name=""/>
              <p:cNvSpPr/>
              <p:nvPr/>
            </p:nvSpPr>
            <p:spPr>
              <a:xfrm>
                <a:off x="5105520" y="1523880"/>
                <a:ext cx="609480" cy="609840"/>
              </a:xfrm>
              <a:prstGeom prst="cube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0440" y="1584720"/>
                <a:ext cx="60480" cy="604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66360" y="1706760"/>
                <a:ext cx="60840" cy="608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88040" y="1828440"/>
                <a:ext cx="60840" cy="608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10440" y="1950840"/>
                <a:ext cx="60480" cy="604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592960" y="1706760"/>
                <a:ext cx="60480" cy="608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592960" y="1950840"/>
                <a:ext cx="60480" cy="604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095880" y="1523880"/>
              <a:ext cx="609840" cy="609840"/>
              <a:chOff x="6095880" y="1523880"/>
              <a:chExt cx="60984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6095880" y="1523880"/>
                <a:ext cx="609840" cy="60984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00800" y="158472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56720" y="1706760"/>
                <a:ext cx="6084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78760" y="1828440"/>
                <a:ext cx="6084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00800" y="195084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83680" y="1706760"/>
                <a:ext cx="6048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83680" y="195084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1066680" y="228600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ujemy    zmienne losowe X , Y i Z :  X(i,j)= i , Y(i,j) = j, Z(i,j)=i+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819520"/>
            <a:ext cx="34290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A= „liczba oczek na kostce 1 jest nie większa niż 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29718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2895480"/>
            <a:ext cx="12193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3733920"/>
            <a:ext cx="38862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B = „liczba oczek na drugiej kostce wynosi co najmniej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91320" y="3733920"/>
            <a:ext cx="1295280" cy="3045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733920"/>
            <a:ext cx="121932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46483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(A) = 1/2 = P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3)    P(B) =1/3 =P(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5334120"/>
            <a:ext cx="57690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dowolnych k i l mam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X=k  i Y=l) = 1/36 = P(X=k) * P(X=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876920"/>
            <a:ext cx="2895480" cy="1066680"/>
          </a:xfrm>
          <a:prstGeom prst="wedgeEllipseCallout">
            <a:avLst>
              <a:gd name="adj1" fmla="val -67541"/>
              <a:gd name="adj2" fmla="val 1547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zn. X i Y są zmiennymi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zależ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380880"/>
            <a:ext cx="2667240" cy="1067040"/>
          </a:xfrm>
          <a:prstGeom prst="wedgeEllipseCallout">
            <a:avLst>
              <a:gd name="adj1" fmla="val 20416"/>
              <a:gd name="adj2" fmla="val 12425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mienne X i Z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 są niezależ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DBA-000C-4C26-B027-7899B3759F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Rozkład   prawdopodobieństw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2193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X będzie  zmienną losową określoną w przestrzen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905120"/>
            <a:ext cx="7162920" cy="139716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unkcję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oną  na zbiorze R  i o wartośc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biorze [0,1] taką, ż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 = P(X=x) dla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zywamy rozkładem prawdopodobieństwa zmiennej losowej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295280" y="4800600"/>
            <a:ext cx="3429000" cy="1167480"/>
            <a:chOff x="1295280" y="4800600"/>
            <a:chExt cx="3429000" cy="1167480"/>
          </a:xfrm>
        </p:grpSpPr>
        <p:sp>
          <p:nvSpPr>
            <p:cNvPr id="344" name=""/>
            <p:cNvSpPr/>
            <p:nvPr/>
          </p:nvSpPr>
          <p:spPr>
            <a:xfrm>
              <a:off x="1295280" y="50292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360" y="4800600"/>
              <a:ext cx="304920" cy="9144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56"/>
                  </a:lnTo>
                  <a:cubicBezTo>
                    <a:pt x="10800" y="9556"/>
                    <a:pt x="5400" y="10456"/>
                    <a:pt x="0" y="10456"/>
                  </a:cubicBezTo>
                  <a:cubicBezTo>
                    <a:pt x="5400" y="10456"/>
                    <a:pt x="10800" y="11356"/>
                    <a:pt x="10800" y="122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1960" y="4800600"/>
              <a:ext cx="23623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/6  dla x=1,2,3,4,5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dla pozostałych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029200" y="4267080"/>
            <a:ext cx="3733560" cy="2014200"/>
            <a:chOff x="5029200" y="4267080"/>
            <a:chExt cx="3733560" cy="2014200"/>
          </a:xfrm>
        </p:grpSpPr>
        <p:sp>
          <p:nvSpPr>
            <p:cNvPr id="348" name=""/>
            <p:cNvSpPr/>
            <p:nvPr/>
          </p:nvSpPr>
          <p:spPr>
            <a:xfrm>
              <a:off x="5029200" y="50292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19560" y="4343400"/>
              <a:ext cx="457200" cy="19051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56"/>
                  </a:lnTo>
                  <a:cubicBezTo>
                    <a:pt x="10800" y="9556"/>
                    <a:pt x="5400" y="10456"/>
                    <a:pt x="0" y="10456"/>
                  </a:cubicBezTo>
                  <a:cubicBezTo>
                    <a:pt x="5400" y="10456"/>
                    <a:pt x="10800" y="11356"/>
                    <a:pt x="10800" y="122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0800" y="4267080"/>
              <a:ext cx="23619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36  dla x=2 i x= 1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/36  dla x=3 i x=11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/36  dla x=4 i x=1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/36  dla x=5 i x=9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/36  dla x=6 i x=8 6/36  dla  x=7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dla pozostałych 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447920" y="3505320"/>
            <a:ext cx="7391160" cy="779760"/>
            <a:chOff x="1447920" y="3505320"/>
            <a:chExt cx="7391160" cy="779760"/>
          </a:xfrm>
        </p:grpSpPr>
        <p:sp>
          <p:nvSpPr>
            <p:cNvPr id="352" name=""/>
            <p:cNvSpPr/>
            <p:nvPr/>
          </p:nvSpPr>
          <p:spPr>
            <a:xfrm>
              <a:off x="1447920" y="3581280"/>
              <a:ext cx="609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zykła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Rozważmy zmienne X, Y,  Z  rozpatrywan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 przykładzie z rzutem dwoma kostkami do gr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238880" y="3505320"/>
              <a:ext cx="1600200" cy="609480"/>
              <a:chOff x="7238880" y="3505320"/>
              <a:chExt cx="1600200" cy="60948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7238880" y="3505320"/>
                <a:ext cx="609480" cy="609480"/>
                <a:chOff x="7238880" y="3505320"/>
                <a:chExt cx="609480" cy="6094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238880" y="3505320"/>
                  <a:ext cx="609480" cy="609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43800" y="3566160"/>
                  <a:ext cx="60480" cy="6048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99720" y="3687840"/>
                  <a:ext cx="60840" cy="6084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421400" y="3809880"/>
                  <a:ext cx="60840" cy="6084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543800" y="3931920"/>
                  <a:ext cx="60480" cy="6048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726320" y="3687840"/>
                  <a:ext cx="60480" cy="6084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26320" y="3931920"/>
                  <a:ext cx="60480" cy="6048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229240" y="3505320"/>
                <a:ext cx="609840" cy="609480"/>
                <a:chOff x="8229240" y="3505320"/>
                <a:chExt cx="609840" cy="609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229240" y="3505320"/>
                  <a:ext cx="609840" cy="609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534160" y="3566160"/>
                  <a:ext cx="60480" cy="6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290080" y="368784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412120" y="3809880"/>
                  <a:ext cx="6084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534160" y="3931920"/>
                  <a:ext cx="60480" cy="6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717040" y="3687840"/>
                  <a:ext cx="60480" cy="60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717040" y="3931920"/>
                  <a:ext cx="60480" cy="6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313-B437-40B4-B0ED-2D612BCE64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1295280"/>
            <a:ext cx="66294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zucamy n-krotnie monetą . Nie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w i-tym rzucie wypadł orzeł) = 1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w i-tym rzucie wypadła reszka) = 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791320" y="1447920"/>
            <a:ext cx="2209320" cy="838080"/>
            <a:chOff x="5791320" y="1447920"/>
            <a:chExt cx="2209320" cy="838080"/>
          </a:xfrm>
        </p:grpSpPr>
        <p:sp>
          <p:nvSpPr>
            <p:cNvPr id="373" name=""/>
            <p:cNvSpPr/>
            <p:nvPr/>
          </p:nvSpPr>
          <p:spPr>
            <a:xfrm>
              <a:off x="5791320" y="1447920"/>
              <a:ext cx="867960" cy="838080"/>
            </a:xfrm>
            <a:prstGeom prst="ellipse">
              <a:avLst/>
            </a:prstGeom>
            <a:solidFill>
              <a:srgbClr val="666699"/>
            </a:solidFill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rze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33040" y="1447920"/>
              <a:ext cx="867600" cy="838080"/>
            </a:xfrm>
            <a:prstGeom prst="ellipse">
              <a:avLst/>
            </a:prstGeom>
            <a:solidFill>
              <a:srgbClr val="eaeaea"/>
            </a:solidFill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z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62720" y="251460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my   P(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)=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2743200"/>
            <a:ext cx="464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S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+...+  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05520" y="3048120"/>
            <a:ext cx="3581280" cy="761760"/>
          </a:xfrm>
          <a:prstGeom prst="wedgeRoundRectCallout">
            <a:avLst>
              <a:gd name="adj1" fmla="val -70833"/>
              <a:gd name="adj2" fmla="val -29375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zba orłów w n rzutach monet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3886200"/>
            <a:ext cx="35053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S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k) = (n nad k)/ 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3505320"/>
            <a:ext cx="2666880" cy="838080"/>
          </a:xfrm>
          <a:prstGeom prst="wedgeEllipseCallout">
            <a:avLst>
              <a:gd name="adj1" fmla="val 62796"/>
              <a:gd name="adj2" fmla="val 2727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orłó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n rzutach monet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4495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kłady prawdopodobieństwa zmiennych są następują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5181480"/>
            <a:ext cx="3657240" cy="914400"/>
            <a:chOff x="1295280" y="5181480"/>
            <a:chExt cx="3657240" cy="914400"/>
          </a:xfrm>
        </p:grpSpPr>
        <p:sp>
          <p:nvSpPr>
            <p:cNvPr id="382" name=""/>
            <p:cNvSpPr/>
            <p:nvPr/>
          </p:nvSpPr>
          <p:spPr>
            <a:xfrm>
              <a:off x="1295280" y="541008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X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89160" y="5181480"/>
              <a:ext cx="325080" cy="914400"/>
            </a:xfrm>
            <a:custGeom>
              <a:avLst/>
              <a:gdLst>
                <a:gd name="textAreaLeft" fmla="*/ 207720 w 325080"/>
                <a:gd name="textAreaRight" fmla="*/ 325080 w 325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56"/>
                  </a:lnTo>
                  <a:cubicBezTo>
                    <a:pt x="10800" y="9556"/>
                    <a:pt x="5400" y="10456"/>
                    <a:pt x="0" y="10456"/>
                  </a:cubicBezTo>
                  <a:cubicBezTo>
                    <a:pt x="5400" y="10456"/>
                    <a:pt x="10800" y="11356"/>
                    <a:pt x="10800" y="122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2880" y="5181480"/>
              <a:ext cx="2519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/2  dla x=0,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dla pozostałych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724280" y="5105520"/>
            <a:ext cx="3961800" cy="914400"/>
            <a:chOff x="4724280" y="5105520"/>
            <a:chExt cx="3961800" cy="914400"/>
          </a:xfrm>
        </p:grpSpPr>
        <p:sp>
          <p:nvSpPr>
            <p:cNvPr id="386" name=""/>
            <p:cNvSpPr/>
            <p:nvPr/>
          </p:nvSpPr>
          <p:spPr>
            <a:xfrm>
              <a:off x="4724280" y="5334120"/>
              <a:ext cx="132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92680" y="5105520"/>
              <a:ext cx="352080" cy="914400"/>
            </a:xfrm>
            <a:custGeom>
              <a:avLst/>
              <a:gdLst>
                <a:gd name="textAreaLeft" fmla="*/ 225000 w 352080"/>
                <a:gd name="textAreaRight" fmla="*/ 352440 w 352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56"/>
                  </a:lnTo>
                  <a:cubicBezTo>
                    <a:pt x="10800" y="9556"/>
                    <a:pt x="5400" y="10456"/>
                    <a:pt x="0" y="10456"/>
                  </a:cubicBezTo>
                  <a:cubicBezTo>
                    <a:pt x="5400" y="10456"/>
                    <a:pt x="10800" y="11356"/>
                    <a:pt x="10800" y="122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56560" y="5105520"/>
              <a:ext cx="2729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 nad x)/ 2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la 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dla pozostałych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315200" y="3809880"/>
            <a:ext cx="1828800" cy="1219320"/>
          </a:xfrm>
          <a:prstGeom prst="cloudCallout">
            <a:avLst>
              <a:gd name="adj1" fmla="val -61111"/>
              <a:gd name="adj2" fmla="val 5755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zkła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wumia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" action="ppaction://hlinkshowjump?jump=previousslide"/>
          </p:cNvPr>
          <p:cNvSpPr/>
          <p:nvPr/>
        </p:nvSpPr>
        <p:spPr>
          <a:xfrm>
            <a:off x="86868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11087"/>
                </a:moveTo>
                <a:lnTo>
                  <a:pt x="7301" y="11087"/>
                </a:lnTo>
                <a:lnTo>
                  <a:pt x="7301" y="16422"/>
                </a:lnTo>
                <a:cubicBezTo>
                  <a:pt x="7301" y="17345"/>
                  <a:pt x="8102" y="18076"/>
                  <a:pt x="9138" y="18076"/>
                </a:cubicBezTo>
                <a:lnTo>
                  <a:pt x="10800" y="18076"/>
                </a:lnTo>
                <a:cubicBezTo>
                  <a:pt x="11836" y="18076"/>
                  <a:pt x="12636" y="17345"/>
                  <a:pt x="12636" y="16422"/>
                </a:cubicBezTo>
                <a:lnTo>
                  <a:pt x="12636" y="11087"/>
                </a:lnTo>
                <a:lnTo>
                  <a:pt x="10800" y="11087"/>
                </a:lnTo>
                <a:lnTo>
                  <a:pt x="14308" y="7579"/>
                </a:lnTo>
                <a:lnTo>
                  <a:pt x="17981" y="11087"/>
                </a:lnTo>
                <a:lnTo>
                  <a:pt x="16144" y="11087"/>
                </a:lnTo>
                <a:lnTo>
                  <a:pt x="16144" y="16422"/>
                </a:lnTo>
                <a:cubicBezTo>
                  <a:pt x="16144" y="19190"/>
                  <a:pt x="13568" y="21749"/>
                  <a:pt x="10800" y="21749"/>
                </a:cubicBezTo>
                <a:lnTo>
                  <a:pt x="9138" y="21749"/>
                </a:lnTo>
                <a:cubicBezTo>
                  <a:pt x="6370" y="21749"/>
                  <a:pt x="3794" y="19190"/>
                  <a:pt x="3794" y="16422"/>
                </a:cubicBez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923-C2FB-4AC8-AEF1-B35D83C149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Dystrybuant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2" name=""/>
          <p:cNvSpPr/>
          <p:nvPr/>
        </p:nvSpPr>
        <p:spPr>
          <a:xfrm>
            <a:off x="1219320" y="1295280"/>
            <a:ext cx="7315200" cy="151416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iech X będzie zmienną losową określoną na dowolnej przestrzeni zdarzeń losowy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Dystrybuantą zmiennej X nazywamy funkcję F :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0,1] taką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 = P(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) dla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304812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zypadku zmiennej losowej dyskretnej mamy   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x)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209680"/>
            <a:ext cx="3124080" cy="1371600"/>
          </a:xfrm>
          <a:prstGeom prst="wedgeEllipseCallout">
            <a:avLst>
              <a:gd name="adj1" fmla="val -58027"/>
              <a:gd name="adj2" fmla="val 557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trybuanta akumuluj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tości rozkład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dopodobieńs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038480"/>
            <a:ext cx="3048120" cy="1472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trybuanta zmiennej losowej X w rzucie jedną kostką do g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876920" y="3962520"/>
            <a:ext cx="3962160" cy="2197080"/>
            <a:chOff x="4876920" y="3962520"/>
            <a:chExt cx="3962160" cy="2197080"/>
          </a:xfrm>
        </p:grpSpPr>
        <p:grpSp>
          <p:nvGrpSpPr>
            <p:cNvPr id="397" name=""/>
            <p:cNvGrpSpPr/>
            <p:nvPr/>
          </p:nvGrpSpPr>
          <p:grpSpPr>
            <a:xfrm>
              <a:off x="4876920" y="3962520"/>
              <a:ext cx="3657600" cy="2133360"/>
              <a:chOff x="4876920" y="3962520"/>
              <a:chExt cx="3657600" cy="2133360"/>
            </a:xfrm>
          </p:grpSpPr>
          <p:sp>
            <p:nvSpPr>
              <p:cNvPr id="398" name=""/>
              <p:cNvSpPr/>
              <p:nvPr/>
            </p:nvSpPr>
            <p:spPr>
              <a:xfrm>
                <a:off x="4876920" y="3962520"/>
                <a:ext cx="3657600" cy="21333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181840" y="579096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5486400" y="4038480"/>
                <a:ext cx="0" cy="20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70866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1722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7150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9436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4008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6294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858000" y="571500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410080" y="55623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410080" y="53337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410080" y="51051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410080" y="48765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15000" y="556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43600" y="5333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2200" y="5105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00800" y="495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29400" y="4724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486400" y="46479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410080" y="441936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58000" y="4419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29200" y="4190760"/>
                <a:ext cx="91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/6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/6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/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562720" y="579132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 2  3  4  5  6  7 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758-5249-4C1D-BD6B-05A25541A4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1295280"/>
            <a:ext cx="7238880" cy="257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Zliczanie liczby  orłów w n rzutach mone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ystrybuanta  każdej ze zmiennych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st określ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y) = 0  gdy  y &lt;0    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y) = 1/2 gdy  0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 &lt;1  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y)=1 dla 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ystrybuanta zmiennej S  ma postać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y)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(n nad x) / 2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7620120" y="1447920"/>
            <a:ext cx="1066680" cy="609480"/>
          </a:xfrm>
          <a:custGeom>
            <a:avLst/>
            <a:gdLst>
              <a:gd name="textAreaLeft" fmla="*/ 120600 w 1066680"/>
              <a:gd name="textAreaRight" fmla="*/ 946080 w 1066680"/>
              <a:gd name="textAreaTop" fmla="*/ 120600 h 609480"/>
              <a:gd name="textAreaBottom" fmla="*/ 48888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3519" y="4275"/>
                </a:lnTo>
                <a:lnTo>
                  <a:pt x="4275" y="42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3519" y="17325"/>
                </a:lnTo>
                <a:lnTo>
                  <a:pt x="33519" y="42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33519" y="173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7794" h="21600">
                <a:moveTo>
                  <a:pt x="14033" y="10800"/>
                </a:moveTo>
                <a:lnTo>
                  <a:pt x="23760" y="5936"/>
                </a:lnTo>
                <a:lnTo>
                  <a:pt x="23760" y="15664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373392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Wybieramy losowo liczbę z przedziału [0,1)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0,1). Niech U będzie zmienną losową taką że dla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,1), U(x)=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391520" y="2895480"/>
            <a:ext cx="1752480" cy="838440"/>
          </a:xfrm>
          <a:prstGeom prst="wedgeEllipseCallout">
            <a:avLst>
              <a:gd name="adj1" fmla="val -63314"/>
              <a:gd name="adj2" fmla="val 943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mienn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jednostaj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4419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 U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,b))= b-a   b&gt;a i b,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724280"/>
            <a:ext cx="3886200" cy="1447920"/>
          </a:xfrm>
          <a:prstGeom prst="irregularSeal2">
            <a:avLst/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nie je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kretna zmien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41972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trybuanta 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y) = P(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4120" y="4952880"/>
            <a:ext cx="3200400" cy="1066680"/>
            <a:chOff x="5334120" y="4952880"/>
            <a:chExt cx="3200400" cy="1066680"/>
          </a:xfrm>
        </p:grpSpPr>
        <p:sp>
          <p:nvSpPr>
            <p:cNvPr id="431" name=""/>
            <p:cNvSpPr/>
            <p:nvPr/>
          </p:nvSpPr>
          <p:spPr>
            <a:xfrm>
              <a:off x="6782040" y="4952880"/>
              <a:ext cx="175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gdy y&lt;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 gdy 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y&lt;1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gdy 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34120" y="5257440"/>
              <a:ext cx="10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y)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24840" y="5028840"/>
              <a:ext cx="380880" cy="990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50"/>
                  </a:lnTo>
                  <a:cubicBezTo>
                    <a:pt x="10800" y="9450"/>
                    <a:pt x="5400" y="10350"/>
                    <a:pt x="0" y="10350"/>
                  </a:cubicBezTo>
                  <a:cubicBezTo>
                    <a:pt x="5400" y="10350"/>
                    <a:pt x="10800" y="11250"/>
                    <a:pt x="10800" y="1215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EDA-124B-46EB-893A-DA0DDF63F0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artość oczekiwan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1371600"/>
            <a:ext cx="7162920" cy="14061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kończona przestrzeń zdarzeń elementarnych, X zmienna losowa określona 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Wartością oczekiwaną zmiennej X nazywamy liczb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(w)* P({w}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895480"/>
            <a:ext cx="586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wszystkie zdarzenia elementarne są jednakowo prawdopodobne, to P({w}) = 1/card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czyl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124080" y="3657600"/>
                <a:ext cx="21337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1295280" y="4876920"/>
            <a:ext cx="7010640" cy="1313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zucamy jedną kostką do gry. Liczba wyrzuconych oczek X jest zmienną losową o wartościach 1,2,3,4,5,6 i ma rozkład jednostajny P(X=i)=1/6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E(X)= (1+2+...6)/6 = 3.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B35-2D8A-47EF-BC13-16DFE7BEBD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523880"/>
            <a:ext cx="716256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progra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:= 0; p := false;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 = fals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.= x+1; p := random({true,false})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4572000"/>
            <a:ext cx="3353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   P(X=k)= 1/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2720" y="609480"/>
            <a:ext cx="2895480" cy="1067040"/>
          </a:xfrm>
          <a:prstGeom prst="wedgeRoundRectCallout">
            <a:avLst>
              <a:gd name="adj1" fmla="val -33166"/>
              <a:gd name="adj2" fmla="val 98064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ch prawdopodobieństw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wyboru obu wart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np rzucamy monet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3200" y="5105520"/>
            <a:ext cx="4419720" cy="4914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    E(X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7432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 oznacza zmienną losową taką, że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= i, jeśli program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trzymuje się po i-krokach (tzn. w której iteracji po raz pierwszy wypadło ‘true’  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e wynosi oczekiwany  średni czas oczekiwania na zatrzymanie się tego program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70C-5694-44F9-8ED0-1155D2D224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zkic wykładu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086600" cy="1904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Impact"/>
              </a:rPr>
              <a:t>Porównanie pojęć wyłączania się zdarzeń i  niezależności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Impact"/>
              </a:rPr>
              <a:t>Niezależność n zdarzeń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Impact"/>
              </a:rPr>
              <a:t>Prawdopodobieństwo całkowit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Impact"/>
              </a:rPr>
              <a:t>Wzór Bayesa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52320" y="3200400"/>
            <a:ext cx="5334120" cy="1828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Zmienna losowa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Rozkład prawdopodobieństwa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Dystrybuanta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Wartość oczekiwana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FBD-F35F-4578-8C91-BCAB68407532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Impact"/>
              </a:rPr>
              <a:t>Uzasadnienie wzoru Bayes’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2819520"/>
            <a:ext cx="5486400" cy="49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B) =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/ P(B)                  (*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99920" y="3886200"/>
            <a:ext cx="6761520" cy="440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)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...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1676520"/>
            <a:ext cx="3581280" cy="94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= P(B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219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wzoru na prawdopodobieństwo warunko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3429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wzoru na prawdopodobieństwo całkowi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42670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tawiając P(B) do wzoru (*) otrzymujemy wzór Bay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95280" y="5029200"/>
            <a:ext cx="7377840" cy="1050480"/>
            <a:chOff x="1295280" y="5029200"/>
            <a:chExt cx="7377840" cy="1050480"/>
          </a:xfrm>
        </p:grpSpPr>
        <p:sp>
          <p:nvSpPr>
            <p:cNvPr id="454" name=""/>
            <p:cNvSpPr/>
            <p:nvPr/>
          </p:nvSpPr>
          <p:spPr>
            <a:xfrm>
              <a:off x="1295280" y="5334120"/>
              <a:ext cx="1263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|B)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18200" y="5334120"/>
              <a:ext cx="6154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+ 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+ ... + 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32360" y="5029200"/>
              <a:ext cx="1965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066680" y="4876920"/>
            <a:ext cx="7696440" cy="12189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104760 w 838080"/>
              <a:gd name="textAreaRight" fmla="*/ 733320 w 838080"/>
              <a:gd name="textAreaTop" fmla="*/ 104760 h 685800"/>
              <a:gd name="textAreaBottom" fmla="*/ 58104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3094" y="3300"/>
                </a:lnTo>
                <a:lnTo>
                  <a:pt x="3300" y="33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3094" y="18300"/>
                </a:lnTo>
                <a:lnTo>
                  <a:pt x="23094" y="33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3300" y="18300"/>
                </a:lnTo>
                <a:lnTo>
                  <a:pt x="23094" y="183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3300" y="3300"/>
                </a:lnTo>
                <a:lnTo>
                  <a:pt x="3300" y="18300"/>
                </a:lnTo>
                <a:close/>
              </a:path>
              <a:path fill="darken" w="26394" h="21600">
                <a:moveTo>
                  <a:pt x="7607" y="8161"/>
                </a:moveTo>
                <a:lnTo>
                  <a:pt x="10405" y="8161"/>
                </a:lnTo>
                <a:lnTo>
                  <a:pt x="10405" y="12418"/>
                </a:lnTo>
                <a:cubicBezTo>
                  <a:pt x="10405" y="13154"/>
                  <a:pt x="11044" y="13738"/>
                  <a:pt x="11870" y="13738"/>
                </a:cubicBezTo>
                <a:lnTo>
                  <a:pt x="13197" y="13738"/>
                </a:lnTo>
                <a:cubicBezTo>
                  <a:pt x="14023" y="13738"/>
                  <a:pt x="14662" y="13154"/>
                  <a:pt x="14662" y="12418"/>
                </a:cubicBezTo>
                <a:lnTo>
                  <a:pt x="14662" y="8161"/>
                </a:lnTo>
                <a:lnTo>
                  <a:pt x="13197" y="8161"/>
                </a:lnTo>
                <a:lnTo>
                  <a:pt x="15995" y="5363"/>
                </a:lnTo>
                <a:lnTo>
                  <a:pt x="18926" y="8161"/>
                </a:lnTo>
                <a:lnTo>
                  <a:pt x="17461" y="8161"/>
                </a:lnTo>
                <a:lnTo>
                  <a:pt x="17461" y="12418"/>
                </a:lnTo>
                <a:cubicBezTo>
                  <a:pt x="17461" y="14626"/>
                  <a:pt x="15405" y="16668"/>
                  <a:pt x="13197" y="16668"/>
                </a:cubicBezTo>
                <a:lnTo>
                  <a:pt x="11870" y="16668"/>
                </a:lnTo>
                <a:cubicBezTo>
                  <a:pt x="9662" y="16668"/>
                  <a:pt x="7607" y="14626"/>
                  <a:pt x="7607" y="12418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DE7-2E26-47DB-9331-ECD043B42C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yłączanie  i  niezależność zdarzeń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19320" y="1295280"/>
            <a:ext cx="5486400" cy="838440"/>
            <a:chOff x="1219320" y="1295280"/>
            <a:chExt cx="5486400" cy="838440"/>
          </a:xfrm>
        </p:grpSpPr>
        <p:sp>
          <p:nvSpPr>
            <p:cNvPr id="138" name=""/>
            <p:cNvSpPr/>
            <p:nvPr/>
          </p:nvSpPr>
          <p:spPr>
            <a:xfrm>
              <a:off x="1219320" y="1295280"/>
              <a:ext cx="350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zważmy doświadczenie z rzutem dwoma kostkami do gr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5105520" y="1523880"/>
              <a:ext cx="609480" cy="609840"/>
              <a:chOff x="5105520" y="1523880"/>
              <a:chExt cx="609480" cy="609840"/>
            </a:xfrm>
          </p:grpSpPr>
          <p:sp>
            <p:nvSpPr>
              <p:cNvPr id="140" name=""/>
              <p:cNvSpPr/>
              <p:nvPr/>
            </p:nvSpPr>
            <p:spPr>
              <a:xfrm>
                <a:off x="5105520" y="1523880"/>
                <a:ext cx="609480" cy="60984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10440" y="158472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66360" y="1706760"/>
                <a:ext cx="6084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88040" y="1828440"/>
                <a:ext cx="6084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10440" y="195084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92960" y="1706760"/>
                <a:ext cx="6048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92960" y="195084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95880" y="1523880"/>
              <a:ext cx="609840" cy="609840"/>
              <a:chOff x="6095880" y="1523880"/>
              <a:chExt cx="609840" cy="609840"/>
            </a:xfrm>
          </p:grpSpPr>
          <p:sp>
            <p:nvSpPr>
              <p:cNvPr id="148" name=""/>
              <p:cNvSpPr/>
              <p:nvPr/>
            </p:nvSpPr>
            <p:spPr>
              <a:xfrm>
                <a:off x="6095880" y="1523880"/>
                <a:ext cx="609840" cy="609840"/>
              </a:xfrm>
              <a:prstGeom prst="cube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00800" y="158472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56720" y="1706760"/>
                <a:ext cx="6084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78760" y="1828440"/>
                <a:ext cx="6084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00800" y="195084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83680" y="1706760"/>
                <a:ext cx="60480" cy="60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83680" y="1950840"/>
                <a:ext cx="60480" cy="60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1219320" y="2057400"/>
            <a:ext cx="5029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ważmy następujące zdarzen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„Suma wyrzuconych oczek wynosi 5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„W pierwszym rzucie &gt;2 oczka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„W drugim rzucie co najwyżej 3 oczka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„Suma wyrzuconych oczek &gt;9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1676520"/>
            <a:ext cx="152424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286000"/>
            <a:ext cx="2590920" cy="457200"/>
          </a:xfrm>
          <a:prstGeom prst="wedgeRoundRectCallout">
            <a:avLst>
              <a:gd name="adj1" fmla="val -74078"/>
              <a:gd name="adj2" fmla="val 39236"/>
              <a:gd name="adj3" fmla="val 1666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4),(2,3),(3,2),(4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895480"/>
            <a:ext cx="2971800" cy="609840"/>
          </a:xfrm>
          <a:prstGeom prst="wedgeRoundRectCallout">
            <a:avLst>
              <a:gd name="adj1" fmla="val -72115"/>
              <a:gd name="adj2" fmla="val -26560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,x), (4,x), (5,x) lub (6,x) dla x =1,2,3,4,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952880"/>
            <a:ext cx="487656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a A i B nie są niezależne i nie są wyłączając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44956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) = 4/36  P(B) = 4*6/36   P(C) = 3*6/36   P(D)=6/36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733920"/>
            <a:ext cx="2133360" cy="685800"/>
          </a:xfrm>
          <a:prstGeom prst="wedgeRoundRectCallout">
            <a:avLst>
              <a:gd name="adj1" fmla="val -111828"/>
              <a:gd name="adj2" fmla="val -96064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1), (x,2), (x,3) dla x =1,2,3,4,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941640"/>
            <a:ext cx="5333760" cy="457200"/>
          </a:xfrm>
          <a:prstGeom prst="wedgeRoundRectCallout">
            <a:avLst>
              <a:gd name="adj1" fmla="val 24194"/>
              <a:gd name="adj2" fmla="val -104513"/>
              <a:gd name="adj3" fmla="val 1666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,6) , (5,x) dla  x=5,6  lub (6,y) dla y= 4, 5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4876920"/>
            <a:ext cx="213372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a A i D wyłączają się i nie są niezależ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91320"/>
            <a:ext cx="56386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a B i C  nie wyłączają się  i  są niezależ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EF0-4197-408D-BB22-23484D4752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Niezależność zbioru zdarzeń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838080"/>
            <a:ext cx="7467840" cy="152280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ch będzie dany ciąg zdarzeń losowych 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Powiemy, że zdarzenia te są niezależne wttw dla dowolnego podciągu indeksów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38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38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38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 baseline="-2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pl-PL" sz="24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38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971800"/>
            <a:ext cx="7696080" cy="13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(Bernstein)  W urnie znajduj a się 4 paski oznaczone 110,101, 011,000. Niech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darzenie polegające na wybraniu paska z 1 na pozycji i-tej. Zakładamy, że wyciągnięcie każdego paska jest tak samo prawdo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4267080"/>
            <a:ext cx="7772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my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½   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724280"/>
            <a:ext cx="723888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le 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¼ =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 baseline="-2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¼ 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¼ =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4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209680"/>
            <a:ext cx="2971800" cy="762120"/>
          </a:xfrm>
          <a:prstGeom prst="cloudCallout">
            <a:avLst>
              <a:gd name="adj1" fmla="val -53685"/>
              <a:gd name="adj2" fmla="val 22062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 zdarzenia nie są niezależ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81080"/>
            <a:ext cx="3200400" cy="1067040"/>
          </a:xfrm>
          <a:prstGeom prst="cloudCallout">
            <a:avLst>
              <a:gd name="adj1" fmla="val 77578"/>
              <a:gd name="adj2" fmla="val 16785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są zdarzenia parami niezależ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9528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4876920"/>
            <a:ext cx="396216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Jest możliwe, że zdarzenia są parami niezależne ale nie są niezależ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7CB-75AC-4897-932E-03B82DB608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Impact"/>
              </a:rPr>
              <a:t>Twierdzenie o prawdopodobieństwie całkowitym</a:t>
            </a:r>
            <a:endParaRPr b="0" lang="en-US" sz="2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1219320"/>
            <a:ext cx="7162920" cy="164844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darzenia los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anowią podział przestrzeni zdarzeń elementarnych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raz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&gt;0, to  dla dowolnego zdarzenia B zachodzi równoś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)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...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937040"/>
            <a:ext cx="78487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rzystając z wzoru na prawdopodobieństwo warunkowe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otrzymujemy  wzó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)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...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(B|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cb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97180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ó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B =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2895480"/>
            <a:ext cx="2209680" cy="609840"/>
          </a:xfrm>
          <a:prstGeom prst="wedgeRoundRectCallout">
            <a:avLst>
              <a:gd name="adj1" fmla="val -80314"/>
              <a:gd name="adj2" fmla="val -78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a rachunk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429000"/>
            <a:ext cx="7924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ieważ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la 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  zatem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la 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B) = P(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))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) +...+ P 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495680"/>
            <a:ext cx="3352680" cy="457200"/>
          </a:xfrm>
          <a:prstGeom prst="wedgeRoundRectCallout">
            <a:avLst>
              <a:gd name="adj1" fmla="val 55064"/>
              <a:gd name="adj2" fmla="val -10173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definicji rawdopodobieńst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5A8-991E-49A9-91DA-50ADEFB7D0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 1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1447920"/>
            <a:ext cx="1066680" cy="91440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1447920"/>
            <a:ext cx="1067040" cy="91440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2057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1905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1905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057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057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057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1828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1828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286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przypadkowo wybranej urny wybieram 1 kul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27432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ie jest prawdopodobieństwo, że wyciągniemy kulę białą, jeżeli prawdopodobieństwo wybrania każdej z urn wynosi ½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505320"/>
            <a:ext cx="58672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znaczen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iech B oznacza wybranie kuli białej. U1 wybranie urny pierwszej i U2 wybranie urny  drug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731520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biór zdarzeń elementarnych polegających na wybraniu jednej kuli rozpada się na dwa podzbiory: wybrana kula pochodzi z urny U1, wybrana kula pochodzi z urny U2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5410080"/>
            <a:ext cx="7315200" cy="9234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) = P(U1)</a:t>
            </a:r>
            <a:r>
              <a:rPr b="0" lang="en-US" sz="2000" spc="-1" strike="noStrike" baseline="-2000">
                <a:solidFill>
                  <a:srgbClr val="000000"/>
                </a:solidFill>
                <a:latin typeface="Times New Roman"/>
              </a:rPr>
              <a:t> 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|U1) + P(U2) </a:t>
            </a:r>
            <a:r>
              <a:rPr b="0" lang="en-US" sz="2000" spc="-1" strike="noStrike" baseline="-2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|U2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½ </a:t>
            </a:r>
            <a:r>
              <a:rPr b="0" lang="en-US" sz="2400" spc="-1" strike="noStrike" baseline="-2000">
                <a:solidFill>
                  <a:srgbClr val="000000"/>
                </a:solidFill>
                <a:latin typeface="Times New Roman"/>
              </a:rPr>
              <a:t> * 3/5 + ½  * 1/5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)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F21-E399-44CC-849A-06106E1598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 2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371600"/>
            <a:ext cx="7238880" cy="1374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wizory produkują dwie fabryki, z których jedna wykonuje 60% a druga 40% całej produkcji. Pierwsza fabryka wypuszcza na rynek 90% telewizorów bez braków, a druga 80%. Jakie jest prawdopodobieństwo kupienia telewizora bez bra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819520"/>
            <a:ext cx="342900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znacze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„telewizor wyprodukowała fabryka i-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=„kupiony telewizor nie ma braku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657600" y="2895480"/>
            <a:ext cx="4800600" cy="2608560"/>
            <a:chOff x="3657600" y="2895480"/>
            <a:chExt cx="4800600" cy="2608560"/>
          </a:xfrm>
        </p:grpSpPr>
        <p:sp>
          <p:nvSpPr>
            <p:cNvPr id="206" name=""/>
            <p:cNvSpPr/>
            <p:nvPr/>
          </p:nvSpPr>
          <p:spPr>
            <a:xfrm>
              <a:off x="7696080" y="46479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702040" y="2895480"/>
              <a:ext cx="9036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05640" y="2895480"/>
              <a:ext cx="7905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5240" y="350496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83160" y="350496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857640" y="3886200"/>
              <a:ext cx="5950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3080" y="3886200"/>
              <a:ext cx="3952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00240" y="3886200"/>
              <a:ext cx="731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32480" y="3886200"/>
              <a:ext cx="3952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472428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02040" y="480060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49840" y="4724280"/>
              <a:ext cx="5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360" y="2971800"/>
              <a:ext cx="79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F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5120" y="2971800"/>
              <a:ext cx="113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F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00800" y="411480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A|F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360" y="411480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A|F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57600" y="50292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F1)*P(A|F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8160" y="510516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(F2)*P(A|F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371600" y="457200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1)=6/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2)= 4/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F1)= 9/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F2)=8/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715000"/>
            <a:ext cx="266688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.: P(A) = 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83C-F9CD-405C-B465-F2C79082A2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Impact"/>
              </a:rPr>
              <a:t>Wzór Bayes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371600"/>
            <a:ext cx="7620120" cy="164844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zdarzenia loso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anowią podział przestrzeni zdarzeń elementarnych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raz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&gt;0 dla i =1,2...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łóżmy, że zaszło zdarzenie B. Jakie jest wtedy prawdopodobieństwo zdarzenia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71600" y="3200400"/>
            <a:ext cx="7486200" cy="1050480"/>
            <a:chOff x="1371600" y="3200400"/>
            <a:chExt cx="7486200" cy="1050480"/>
          </a:xfrm>
        </p:grpSpPr>
        <p:sp>
          <p:nvSpPr>
            <p:cNvPr id="229" name=""/>
            <p:cNvSpPr/>
            <p:nvPr/>
          </p:nvSpPr>
          <p:spPr>
            <a:xfrm>
              <a:off x="1371600" y="350532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|B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2880" y="3505320"/>
              <a:ext cx="615492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+ 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+ ... + 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 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400" y="3200400"/>
              <a:ext cx="2133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l-PL" sz="2000" spc="-1" strike="noStrike" baseline="-2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(B| A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143000" y="4724280"/>
            <a:ext cx="3657600" cy="1447920"/>
          </a:xfrm>
          <a:prstGeom prst="cloudCallout">
            <a:avLst>
              <a:gd name="adj1" fmla="val 8939"/>
              <a:gd name="adj2" fmla="val -8420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Możliwe przyczyny zajścia zdarzenia B (skutku): A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...A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572000"/>
            <a:ext cx="3810240" cy="11113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śl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B zaistniało, to jakie jest prawdopodobieństwo, że przyczyną tego było zdarzenie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6934320" y="5715000"/>
            <a:ext cx="1066680" cy="53352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37771" y="5400"/>
                </a:lnTo>
                <a:lnTo>
                  <a:pt x="5400" y="5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37771" y="16200"/>
                </a:lnTo>
                <a:lnTo>
                  <a:pt x="37771" y="5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71" y="16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171" h="21600">
                <a:moveTo>
                  <a:pt x="21585" y="6775"/>
                </a:moveTo>
                <a:arcTo wR="4025" hR="4025" stAng="16200000" swAng="-5400000"/>
                <a:arcTo wR="4025" hR="4025" stAng="10800000" swAng="-5400000"/>
                <a:arcTo wR="4025" hR="4025" stAng="5400000" swAng="-5400000"/>
                <a:arcTo wR="4025" hR="4025" stAng="0" swAng="-5400000"/>
                <a:close/>
              </a:path>
              <a:path fill="lighten" w="43171" h="21600">
                <a:moveTo>
                  <a:pt x="21585" y="6990"/>
                </a:moveTo>
                <a:arcTo wR="1030" hR="1030" stAng="16200000" swAng="-5400000"/>
                <a:arcTo wR="1030" hR="1030" stAng="10800000" swAng="-5400000"/>
                <a:arcTo wR="1030" hR="1030" stAng="5400000" swAng="-5400000"/>
                <a:arcTo wR="1030" hR="1030" stAng="0" swAng="-5400000"/>
                <a:close/>
              </a:path>
              <a:path fill="lighten" w="43171" h="21600">
                <a:moveTo>
                  <a:pt x="20105" y="9320"/>
                </a:moveTo>
                <a:lnTo>
                  <a:pt x="22325" y="9320"/>
                </a:lnTo>
                <a:lnTo>
                  <a:pt x="22325" y="13340"/>
                </a:lnTo>
                <a:lnTo>
                  <a:pt x="23065" y="13340"/>
                </a:lnTo>
                <a:lnTo>
                  <a:pt x="23065" y="13870"/>
                </a:lnTo>
                <a:lnTo>
                  <a:pt x="20105" y="13870"/>
                </a:lnTo>
                <a:lnTo>
                  <a:pt x="20105" y="13340"/>
                </a:lnTo>
                <a:lnTo>
                  <a:pt x="20845" y="13340"/>
                </a:lnTo>
                <a:lnTo>
                  <a:pt x="20845" y="9840"/>
                </a:lnTo>
                <a:lnTo>
                  <a:pt x="20105" y="984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wó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A1F-2771-445D-BA6C-762EDED321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Litebulb"/>
          <p:cNvSpPr/>
          <p:nvPr/>
        </p:nvSpPr>
        <p:spPr>
          <a:xfrm>
            <a:off x="1752480" y="1371600"/>
            <a:ext cx="609840" cy="990720"/>
          </a:xfrm>
          <a:prstGeom prst="pie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tebulb"/>
          <p:cNvSpPr/>
          <p:nvPr/>
        </p:nvSpPr>
        <p:spPr>
          <a:xfrm>
            <a:off x="3048120" y="1371600"/>
            <a:ext cx="609480" cy="990720"/>
          </a:xfrm>
          <a:prstGeom prst="pi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tebulb"/>
          <p:cNvSpPr/>
          <p:nvPr/>
        </p:nvSpPr>
        <p:spPr>
          <a:xfrm>
            <a:off x="4419720" y="1371600"/>
            <a:ext cx="609480" cy="990720"/>
          </a:xfrm>
          <a:prstGeom prst="pie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438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sztu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yk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2438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sztu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yk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2438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sztu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yka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1600200"/>
            <a:ext cx="281916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-|--I---|--II--|--III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ki  |  3% | 2% | 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3276720"/>
            <a:ext cx="60958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ie jest prawdopodobieństwo, ż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kupiona wadliwa żarówka pochodzi  z fabryki  i tej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19560" y="3869640"/>
            <a:ext cx="3661920" cy="689760"/>
            <a:chOff x="1519560" y="3869640"/>
            <a:chExt cx="3661920" cy="689760"/>
          </a:xfrm>
        </p:grpSpPr>
        <p:sp>
          <p:nvSpPr>
            <p:cNvPr id="245" name=""/>
            <p:cNvSpPr/>
            <p:nvPr/>
          </p:nvSpPr>
          <p:spPr>
            <a:xfrm flipV="1" rot="16241400">
              <a:off x="2703240" y="2704680"/>
              <a:ext cx="457200" cy="28195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05"/>
                  </a:lnTo>
                  <a:cubicBezTo>
                    <a:pt x="10800" y="9105"/>
                    <a:pt x="5400" y="10005"/>
                    <a:pt x="0" y="10005"/>
                  </a:cubicBezTo>
                  <a:cubicBezTo>
                    <a:pt x="5400" y="10005"/>
                    <a:pt x="10800" y="10905"/>
                    <a:pt x="10800" y="1180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520" y="41911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darzenie A= ‘wadliwa żarówk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181480" y="3945600"/>
            <a:ext cx="3962520" cy="651240"/>
            <a:chOff x="5181480" y="3945600"/>
            <a:chExt cx="3962520" cy="651240"/>
          </a:xfrm>
        </p:grpSpPr>
        <p:sp>
          <p:nvSpPr>
            <p:cNvPr id="248" name=""/>
            <p:cNvSpPr/>
            <p:nvPr/>
          </p:nvSpPr>
          <p:spPr>
            <a:xfrm flipV="1" rot="16278600">
              <a:off x="6171840" y="3352680"/>
              <a:ext cx="304560" cy="15238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7961"/>
                  </a:lnTo>
                  <a:cubicBezTo>
                    <a:pt x="10800" y="8861"/>
                    <a:pt x="5400" y="9761"/>
                    <a:pt x="0" y="9761"/>
                  </a:cubicBezTo>
                  <a:cubicBezTo>
                    <a:pt x="5400" y="9761"/>
                    <a:pt x="10800" y="10661"/>
                    <a:pt x="10800" y="1156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1480" y="4191120"/>
              <a:ext cx="396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darzenie F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=‘żarówka z fabryki itej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219320" y="4724280"/>
            <a:ext cx="769608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elementarne polega na wybraniu 1 żarówki z 230 możli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5181480"/>
            <a:ext cx="25146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/23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50/23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80/2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5181480"/>
            <a:ext cx="2133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3/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 2/1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4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257800" y="5334120"/>
            <a:ext cx="1066680" cy="685800"/>
          </a:xfrm>
          <a:custGeom>
            <a:avLst/>
            <a:gdLst>
              <a:gd name="textAreaLeft" fmla="*/ 171360 w 1066680"/>
              <a:gd name="textAreaRight" fmla="*/ 895320 w 1066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28190" y="5400"/>
                </a:lnTo>
                <a:lnTo>
                  <a:pt x="5400" y="5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28190" y="16200"/>
                </a:lnTo>
                <a:lnTo>
                  <a:pt x="28190" y="5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8190" y="16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3590" h="21600">
                <a:moveTo>
                  <a:pt x="16795" y="6775"/>
                </a:moveTo>
                <a:arcTo wR="4025" hR="4025" stAng="16200000" swAng="-5400000"/>
                <a:arcTo wR="4025" hR="4025" stAng="10800000" swAng="-5400000"/>
                <a:arcTo wR="4025" hR="4025" stAng="5400000" swAng="-5400000"/>
                <a:arcTo wR="4025" hR="4025" stAng="0" swAng="-5400000"/>
                <a:close/>
              </a:path>
              <a:path fill="lighten" w="33590" h="21600">
                <a:moveTo>
                  <a:pt x="16795" y="6990"/>
                </a:moveTo>
                <a:arcTo wR="1030" hR="1030" stAng="16200000" swAng="-5400000"/>
                <a:arcTo wR="1030" hR="1030" stAng="10800000" swAng="-5400000"/>
                <a:arcTo wR="1030" hR="1030" stAng="5400000" swAng="-5400000"/>
                <a:arcTo wR="1030" hR="1030" stAng="0" swAng="-5400000"/>
                <a:close/>
              </a:path>
              <a:path fill="lighten" w="33590" h="21600">
                <a:moveTo>
                  <a:pt x="15315" y="9320"/>
                </a:moveTo>
                <a:lnTo>
                  <a:pt x="17535" y="9320"/>
                </a:lnTo>
                <a:lnTo>
                  <a:pt x="17535" y="13340"/>
                </a:lnTo>
                <a:lnTo>
                  <a:pt x="18275" y="13340"/>
                </a:lnTo>
                <a:lnTo>
                  <a:pt x="18275" y="13870"/>
                </a:lnTo>
                <a:lnTo>
                  <a:pt x="15315" y="13870"/>
                </a:lnTo>
                <a:lnTo>
                  <a:pt x="15315" y="13340"/>
                </a:lnTo>
                <a:lnTo>
                  <a:pt x="16055" y="13340"/>
                </a:lnTo>
                <a:lnTo>
                  <a:pt x="16055" y="9840"/>
                </a:lnTo>
                <a:lnTo>
                  <a:pt x="15315" y="984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l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5181480"/>
            <a:ext cx="1905120" cy="1134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A)=15/36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A)= 5/36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A)= 16/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D,   Rachunek Prawdopodobieństwa c.d.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EB7-A19E-4FF4-B2CD-DE5305DF94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stycznia 2002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9:13:39Z</dcterms:modified>
  <cp:revision>155</cp:revision>
  <dc:subject/>
  <dc:title>Wykład 4</dc:title>
</cp:coreProperties>
</file>