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70AD-A3E6-4D5A-9455-767EF14AB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7028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1295280"/>
            <a:ext cx="777240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219320" y="3836160"/>
            <a:ext cx="777240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FD69-07F0-4461-9FBA-DD05031FF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17028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295280"/>
            <a:ext cx="379260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1295280"/>
            <a:ext cx="379260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3836160"/>
            <a:ext cx="379260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202000" y="3836160"/>
            <a:ext cx="379260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66B2-0BA0-4670-B2E9-C2F0FA1C7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17028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295280"/>
            <a:ext cx="2502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47320" y="1295280"/>
            <a:ext cx="2502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4960" y="1295280"/>
            <a:ext cx="2502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219320" y="3836160"/>
            <a:ext cx="2502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47320" y="3836160"/>
            <a:ext cx="2502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74960" y="3836160"/>
            <a:ext cx="2502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BEC8-0C70-4DBB-8FBC-27C95E24E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152BE-F914-4FF7-B53F-B779BEB2B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17028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19320" y="1295280"/>
            <a:ext cx="777240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84C6B-7D91-4EF2-89DE-CF06EECCF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17028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295280"/>
            <a:ext cx="777240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49F1A-BF4F-442B-A5E1-313BF3DE2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17028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295280"/>
            <a:ext cx="379260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02000" y="1295280"/>
            <a:ext cx="379260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9CB99-2596-4D16-B0C6-00FC9583A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17028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62B51-3E97-4C65-BE15-A46440AE9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143000" y="228600"/>
            <a:ext cx="777240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48DA8-0745-4172-A8FD-294A008A0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17028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295280"/>
            <a:ext cx="379260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02000" y="1295280"/>
            <a:ext cx="379260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19320" y="3836160"/>
            <a:ext cx="379260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1603D-9A12-41C4-8F4E-23F28CD20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7028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219320" y="1295280"/>
            <a:ext cx="777240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A131-8A72-40DD-976C-CEF393820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17028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295280"/>
            <a:ext cx="379260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02000" y="1295280"/>
            <a:ext cx="379260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202000" y="3836160"/>
            <a:ext cx="379260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E9A16-7170-467F-B323-8073BE9F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17028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295280"/>
            <a:ext cx="379260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02000" y="1295280"/>
            <a:ext cx="379260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219320" y="3836160"/>
            <a:ext cx="777240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1C7B3-1F49-4946-B59D-D085C5238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17028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295280"/>
            <a:ext cx="777240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219320" y="3836160"/>
            <a:ext cx="777240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B2B97-3921-4417-8DA2-57A4E508E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17028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295280"/>
            <a:ext cx="379260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02000" y="1295280"/>
            <a:ext cx="379260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19320" y="3836160"/>
            <a:ext cx="379260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202000" y="3836160"/>
            <a:ext cx="379260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1416F-343F-4EB6-9661-6A3B8608E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17028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1295280"/>
            <a:ext cx="2502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47320" y="1295280"/>
            <a:ext cx="2502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474960" y="1295280"/>
            <a:ext cx="2502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219320" y="3836160"/>
            <a:ext cx="2502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847320" y="3836160"/>
            <a:ext cx="2502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474960" y="3836160"/>
            <a:ext cx="2502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B7735-8441-42D6-8584-FA3F07A50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17028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295280"/>
            <a:ext cx="777240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AD82-3B64-4D7E-B675-61EA968C3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17028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1295280"/>
            <a:ext cx="379260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1295280"/>
            <a:ext cx="379260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94CE-A462-4363-901B-CEF660C1D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17028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C11B-6A01-4710-814E-6497E4FD5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43000" y="228600"/>
            <a:ext cx="777240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C8E1-FD63-4B39-833D-C23FA2BB4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17028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1295280"/>
            <a:ext cx="379260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1295280"/>
            <a:ext cx="379260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3836160"/>
            <a:ext cx="379260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BF33-A30D-48AC-9AFE-75C2C80F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17028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1295280"/>
            <a:ext cx="379260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1295280"/>
            <a:ext cx="379260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202000" y="3836160"/>
            <a:ext cx="379260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D039-9FE8-481E-B1FA-2E317B0D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17028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1295280"/>
            <a:ext cx="379260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02000" y="1295280"/>
            <a:ext cx="379260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19320" y="3836160"/>
            <a:ext cx="777240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ED4C-C792-46D7-9521-D81445FA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295280"/>
            <a:ext cx="777240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99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1" marL="743040" indent="-285840">
              <a:spcBef>
                <a:spcPts val="499"/>
              </a:spcBef>
              <a:buClr>
                <a:srgbClr val="cccc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594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512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29600" y="6248520"/>
            <a:ext cx="768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ACCCB-4EA1-4FD4-816A-DCED0B30C39D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eaeaea"/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546840" y="914400"/>
            <a:ext cx="8596440" cy="33012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330120"/>
              <a:gd name="textAreaBottom" fmla="*/ 330480 h 33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50000">
                <a:srgbClr val="eaeaea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1066680" y="914400"/>
            <a:ext cx="295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8839080" y="914400"/>
            <a:ext cx="30492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392040" y="91440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228600" y="0"/>
            <a:ext cx="849240" cy="6858000"/>
            <a:chOff x="228600" y="0"/>
            <a:chExt cx="849240" cy="6858000"/>
          </a:xfrm>
        </p:grpSpPr>
        <p:sp>
          <p:nvSpPr>
            <p:cNvPr id="20" name=""/>
            <p:cNvSpPr/>
            <p:nvPr/>
          </p:nvSpPr>
          <p:spPr>
            <a:xfrm rot="16200000">
              <a:off x="20700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6200000">
              <a:off x="20628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6200000">
              <a:off x="20556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6200000">
              <a:off x="20628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6200000">
              <a:off x="20556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6200000">
              <a:off x="20556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3328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2860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274284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7924320" y="6172200"/>
            <a:ext cx="838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AC05B-C797-4C59-A858-BB019B89D9E0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72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eaeaea"/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50000">
                <a:srgbClr val="eaeaea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6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Impac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8.xml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Wykład 12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Impact"/>
              </a:rPr>
              <a:t>Elementy Kombinatoryki (c.d.)  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atematyka Dyskretna, Elementy Kombinatoryki   G.Mirkowska,  PJWSTK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ACA4E-8663-43B2-92A7-9678870F289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17 grudnia 2001</a:t>
            </a: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66"/>
                </a:solidFill>
                <a:latin typeface="Impact"/>
              </a:rPr>
              <a:t>Trójkąt  Stirlinga</a:t>
            </a:r>
            <a:endParaRPr b="0" lang="en-US" sz="40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89" name=""/>
          <p:cNvSpPr/>
          <p:nvPr/>
        </p:nvSpPr>
        <p:spPr>
          <a:xfrm>
            <a:off x="1219320" y="1447920"/>
            <a:ext cx="5181480" cy="1313640"/>
          </a:xfrm>
          <a:prstGeom prst="rect">
            <a:avLst/>
          </a:prstGeom>
          <a:solidFill>
            <a:srgbClr val="e1e7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czba różnych relacji równoważności w n elementowym zbiorze jest równa sumie wszystkich możliwych podziałów tego zbioru na 1,2,3..., n części  czyli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629400" y="1523880"/>
            <a:ext cx="2057400" cy="990720"/>
          </a:xfrm>
          <a:prstGeom prst="cloudCallout">
            <a:avLst>
              <a:gd name="adj1" fmla="val -81791"/>
              <a:gd name="adj2" fmla="val 9487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Liczby Bel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4038480" y="2590920"/>
                <a:ext cx="167652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92" name=""/>
          <p:cNvSpPr txBox="1"/>
          <p:nvPr/>
        </p:nvSpPr>
        <p:spPr>
          <a:xfrm>
            <a:off x="2438280" y="3581280"/>
            <a:ext cx="51530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Jak policzyć wartość S(n,k)?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362320" y="441972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(0,0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(1,0) S(1,1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(2,0) S(2,1) S(2,2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(3,0) S(3,1) S(3,2) S(3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715000" y="4495680"/>
            <a:ext cx="2743200" cy="609840"/>
          </a:xfrm>
          <a:prstGeom prst="wedgeRoundRectCallout">
            <a:avLst>
              <a:gd name="adj1" fmla="val -84898"/>
              <a:gd name="adj2" fmla="val 138541"/>
              <a:gd name="adj3" fmla="val 16667"/>
            </a:avLst>
          </a:prstGeom>
          <a:solidFill>
            <a:srgbClr val="e1e7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(2,1)+3S(2,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 rot="5400000">
            <a:off x="-75960" y="4190760"/>
            <a:ext cx="3429000" cy="99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c4b596"/>
                  </a:solidFill>
                  <a:miter/>
                </a:ln>
                <a:solidFill>
                  <a:srgbClr val="000066"/>
                </a:solidFill>
                <a:effectLst>
                  <a:outerShdw dist="53966" dir="2700000" blurRad="0" rotWithShape="0">
                    <a:srgbClr val="cbcbcb"/>
                  </a:outerShdw>
                </a:effectLst>
                <a:latin typeface="Times New Roman"/>
              </a:rPr>
              <a:t>Trójkąt </a:t>
            </a:r>
            <a:endParaRPr b="0" lang="en-US" sz="2400" spc="1" strike="noStrike">
              <a:ln w="12600">
                <a:solidFill>
                  <a:srgbClr val="c4b596"/>
                </a:solidFill>
                <a:miter/>
              </a:ln>
              <a:solidFill>
                <a:srgbClr val="000066"/>
              </a:solidFill>
              <a:effectLst>
                <a:outerShdw dist="53966" dir="2700000" blurRad="0" rotWithShape="0">
                  <a:srgbClr val="cbcbcb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c4b596"/>
                  </a:solidFill>
                  <a:miter/>
                </a:ln>
                <a:solidFill>
                  <a:srgbClr val="000066"/>
                </a:solidFill>
                <a:effectLst>
                  <a:outerShdw dist="53966" dir="2700000" blurRad="0" rotWithShape="0">
                    <a:srgbClr val="cbcbcb"/>
                  </a:outerShdw>
                </a:effectLst>
                <a:latin typeface="Times New Roman"/>
              </a:rPr>
              <a:t>Stirlinga</a:t>
            </a:r>
            <a:endParaRPr b="0" lang="en-US" sz="2400" spc="1" strike="noStrike">
              <a:ln w="12600">
                <a:solidFill>
                  <a:srgbClr val="c4b596"/>
                </a:solidFill>
                <a:miter/>
              </a:ln>
              <a:solidFill>
                <a:srgbClr val="000066"/>
              </a:solidFill>
              <a:effectLst>
                <a:outerShdw dist="53966" dir="2700000" blurRad="0" rotWithShape="0">
                  <a:srgbClr val="cbcbcb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Elementy Kombinatoryki   G.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8147-125C-4AD9-BB9C-FBE46F9A257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 grudnia 2001</a:t>
            </a: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Impact"/>
              </a:rPr>
              <a:t>Ile ...</a:t>
            </a:r>
            <a:endParaRPr b="0" lang="en-US" sz="40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97" name=""/>
          <p:cNvSpPr/>
          <p:nvPr/>
        </p:nvSpPr>
        <p:spPr>
          <a:xfrm>
            <a:off x="1371600" y="1981080"/>
            <a:ext cx="6477120" cy="398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le jest wszystkich funkcji całkowitych ze zbioru X w 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343400" y="2514600"/>
            <a:ext cx="4419720" cy="7038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le jest różnych funkcji całkowitych różnowartościowych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447920" y="3733920"/>
            <a:ext cx="4800600" cy="398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le jest funkcji całkowitych z X na 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447920" y="4343400"/>
            <a:ext cx="44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uważmy, że jeśli mamy podział zbioru X na k części,  to przypisując tym częściom elementy zbioru Y określamy funkcję z X na 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295280" y="1371600"/>
            <a:ext cx="701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iech X i Y będą zbiorami skończonymi, |X|= n i |Y| = 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696080" y="1447920"/>
            <a:ext cx="1447920" cy="1066680"/>
          </a:xfrm>
          <a:prstGeom prst="cloudCallout">
            <a:avLst>
              <a:gd name="adj1" fmla="val -95064"/>
              <a:gd name="adj2" fmla="val 33037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|X|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|Y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914400" y="2590920"/>
            <a:ext cx="3200400" cy="761760"/>
          </a:xfrm>
          <a:prstGeom prst="cloudCallout">
            <a:avLst>
              <a:gd name="adj1" fmla="val 72319"/>
              <a:gd name="adj2" fmla="val 3395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*(m-1)*...3*2*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477120" y="3276720"/>
            <a:ext cx="609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41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?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5638680" y="4876920"/>
            <a:ext cx="2990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dp.:   k!  S(n,k)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6" name="">
            <a:hlinkClick r:id="rId1" action="ppaction://hlinksldjump"/>
          </p:cNvPr>
          <p:cNvSpPr/>
          <p:nvPr/>
        </p:nvSpPr>
        <p:spPr>
          <a:xfrm>
            <a:off x="7772400" y="37339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15435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30870" h="21600">
                <a:moveTo>
                  <a:pt x="15435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30870" h="21600">
                <a:moveTo>
                  <a:pt x="12859" y="8224"/>
                </a:moveTo>
                <a:lnTo>
                  <a:pt x="16723" y="8224"/>
                </a:lnTo>
                <a:lnTo>
                  <a:pt x="16723" y="15221"/>
                </a:lnTo>
                <a:lnTo>
                  <a:pt x="18011" y="15221"/>
                </a:lnTo>
                <a:lnTo>
                  <a:pt x="18011" y="16144"/>
                </a:lnTo>
                <a:lnTo>
                  <a:pt x="12859" y="16144"/>
                </a:lnTo>
                <a:lnTo>
                  <a:pt x="12859" y="15221"/>
                </a:lnTo>
                <a:lnTo>
                  <a:pt x="14147" y="15221"/>
                </a:lnTo>
                <a:lnTo>
                  <a:pt x="14147" y="9129"/>
                </a:lnTo>
                <a:lnTo>
                  <a:pt x="12859" y="9129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>
            <a:hlinkClick r:id="rId2" action="ppaction://hlinksldjump"/>
          </p:cNvPr>
          <p:cNvSpPr/>
          <p:nvPr/>
        </p:nvSpPr>
        <p:spPr>
          <a:xfrm>
            <a:off x="8001000" y="57913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Elementy Kombinatoryki   G.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24C8-7385-479D-816E-9182D56202D8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 grudnia 2001</a:t>
            </a:r>
          </a:p>
        </p:txBody>
      </p:sp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Impact"/>
              </a:rPr>
              <a:t>Ilustracja 3</a:t>
            </a:r>
            <a:endParaRPr b="0" lang="en-US" sz="40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09" name=""/>
          <p:cNvSpPr/>
          <p:nvPr/>
        </p:nvSpPr>
        <p:spPr>
          <a:xfrm>
            <a:off x="1828800" y="1905120"/>
            <a:ext cx="6172200" cy="45720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143000" y="1981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1828800" y="2438280"/>
            <a:ext cx="6172200" cy="457200"/>
            <a:chOff x="1828800" y="2438280"/>
            <a:chExt cx="6172200" cy="457200"/>
          </a:xfrm>
        </p:grpSpPr>
        <p:sp>
          <p:nvSpPr>
            <p:cNvPr id="312" name=""/>
            <p:cNvSpPr/>
            <p:nvPr/>
          </p:nvSpPr>
          <p:spPr>
            <a:xfrm>
              <a:off x="1828800" y="2438280"/>
              <a:ext cx="6172200" cy="4572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28800" y="2438280"/>
              <a:ext cx="1447920" cy="457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276720" y="2438280"/>
              <a:ext cx="60948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886200" y="2438280"/>
              <a:ext cx="228600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172200" y="2438280"/>
              <a:ext cx="1828800" cy="45720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2057400" y="24382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1               2               3                          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295280" y="1371600"/>
            <a:ext cx="64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iech Y będzie zbiorem cztero-elementowy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523880" y="3048120"/>
            <a:ext cx="4724640" cy="24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ażdy taki podział determinuje funkcję na zbiór Y określoną jako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(x)= 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eśli x jest elementem niebieskim, f(x)= 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 jeśli x jest czerwony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(x)=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jeśli x jest żółty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(x)= 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eśli x jest zielon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172200" y="3124080"/>
            <a:ext cx="2666880" cy="1295640"/>
          </a:xfrm>
          <a:prstGeom prst="wedgeRoundRectCallout">
            <a:avLst>
              <a:gd name="adj1" fmla="val -73393"/>
              <a:gd name="adj2" fmla="val -15564"/>
              <a:gd name="adj3" fmla="val 16667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my dokładnie S(n,k) różnych podziałów zbioru X na k częśc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2666880" y="5410080"/>
            <a:ext cx="6172200" cy="457200"/>
            <a:chOff x="2666880" y="5410080"/>
            <a:chExt cx="6172200" cy="457200"/>
          </a:xfrm>
        </p:grpSpPr>
        <p:sp>
          <p:nvSpPr>
            <p:cNvPr id="322" name=""/>
            <p:cNvSpPr/>
            <p:nvPr/>
          </p:nvSpPr>
          <p:spPr>
            <a:xfrm>
              <a:off x="2666880" y="5410080"/>
              <a:ext cx="6172200" cy="4572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666880" y="5410080"/>
              <a:ext cx="1447560" cy="457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114440" y="5410080"/>
              <a:ext cx="60984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724280" y="5410080"/>
              <a:ext cx="228600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010280" y="5410080"/>
              <a:ext cx="1828800" cy="45720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380880" y="5334120"/>
            <a:ext cx="2286000" cy="761760"/>
          </a:xfrm>
          <a:prstGeom prst="wedgeRoundRectCallout">
            <a:avLst>
              <a:gd name="adj1" fmla="val 86458"/>
              <a:gd name="adj2" fmla="val 26249"/>
              <a:gd name="adj3" fmla="val 16667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k! różnych przypisań wartoś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>
            <a:hlinkClick r:id="" action="ppaction://hlinkshowjump?jump=previousslide"/>
          </p:cNvPr>
          <p:cNvSpPr/>
          <p:nvPr/>
        </p:nvSpPr>
        <p:spPr>
          <a:xfrm>
            <a:off x="8153280" y="46483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7493"/>
                </a:moveTo>
                <a:lnTo>
                  <a:pt x="7308" y="7493"/>
                </a:lnTo>
                <a:lnTo>
                  <a:pt x="7308" y="12828"/>
                </a:lnTo>
                <a:cubicBezTo>
                  <a:pt x="7308" y="13751"/>
                  <a:pt x="8109" y="14482"/>
                  <a:pt x="9145" y="14482"/>
                </a:cubicBezTo>
                <a:lnTo>
                  <a:pt x="10807" y="14482"/>
                </a:lnTo>
                <a:cubicBezTo>
                  <a:pt x="11843" y="14482"/>
                  <a:pt x="12644" y="13751"/>
                  <a:pt x="12644" y="12828"/>
                </a:cubicBezTo>
                <a:lnTo>
                  <a:pt x="12644" y="7493"/>
                </a:lnTo>
                <a:lnTo>
                  <a:pt x="10807" y="7493"/>
                </a:lnTo>
                <a:lnTo>
                  <a:pt x="14315" y="3985"/>
                </a:lnTo>
                <a:lnTo>
                  <a:pt x="17988" y="7493"/>
                </a:lnTo>
                <a:lnTo>
                  <a:pt x="16151" y="7493"/>
                </a:lnTo>
                <a:lnTo>
                  <a:pt x="16151" y="12828"/>
                </a:lnTo>
                <a:cubicBezTo>
                  <a:pt x="16151" y="15596"/>
                  <a:pt x="13575" y="18155"/>
                  <a:pt x="10807" y="18155"/>
                </a:cubicBezTo>
                <a:lnTo>
                  <a:pt x="9145" y="18155"/>
                </a:lnTo>
                <a:cubicBezTo>
                  <a:pt x="6377" y="18155"/>
                  <a:pt x="3801" y="15596"/>
                  <a:pt x="3801" y="12828"/>
                </a:cubicBezTo>
                <a:close/>
              </a:path>
            </a:pathLst>
          </a:custGeom>
          <a:solidFill>
            <a:srgbClr val="e1e7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Elementy Kombinatoryki   G.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68E2-D27E-4B6C-BC80-BEA8D822B8E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 grudnia 2001</a:t>
            </a:r>
          </a:p>
        </p:txBody>
      </p:sp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Impact"/>
              </a:rPr>
              <a:t>Liczność sumy  t.m.</a:t>
            </a:r>
            <a:endParaRPr b="0" lang="en-US" sz="40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30" name=""/>
          <p:cNvSpPr/>
          <p:nvPr/>
        </p:nvSpPr>
        <p:spPr>
          <a:xfrm>
            <a:off x="1295280" y="14479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Jeśli card(X)= n i card(Y)= m  to ile elementów ma  suma X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371600" y="213372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Przykład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X= {1,2,3,4},  Y= {5,6,7,8,9}, wtedy card(X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Y) = 4+5= 9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191120" y="2666880"/>
            <a:ext cx="13716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le ..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3" name=""/>
          <p:cNvSpPr/>
          <p:nvPr/>
        </p:nvSpPr>
        <p:spPr>
          <a:xfrm>
            <a:off x="1752480" y="327672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Przykład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X= {1,2,3,4},  Y= {1,2,3,4,5}, wtedy card(X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Y) = 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1219320" y="4114800"/>
            <a:ext cx="2057400" cy="1371600"/>
            <a:chOff x="1219320" y="4114800"/>
            <a:chExt cx="2057400" cy="1371600"/>
          </a:xfrm>
        </p:grpSpPr>
        <p:sp>
          <p:nvSpPr>
            <p:cNvPr id="335" name=""/>
            <p:cNvSpPr/>
            <p:nvPr/>
          </p:nvSpPr>
          <p:spPr>
            <a:xfrm>
              <a:off x="1219320" y="4114800"/>
              <a:ext cx="1066680" cy="1219320"/>
            </a:xfrm>
            <a:prstGeom prst="ellipse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905120" y="4114800"/>
              <a:ext cx="1371600" cy="1371600"/>
            </a:xfrm>
            <a:prstGeom prst="ellipse">
              <a:avLst/>
            </a:prstGeom>
            <a:solidFill>
              <a:srgbClr val="6666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1143000" y="55627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| = |X| +|Y| - |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5562720" y="3809880"/>
            <a:ext cx="1904400" cy="1600200"/>
            <a:chOff x="5562720" y="3809880"/>
            <a:chExt cx="1904400" cy="1600200"/>
          </a:xfrm>
        </p:grpSpPr>
        <p:sp>
          <p:nvSpPr>
            <p:cNvPr id="339" name=""/>
            <p:cNvSpPr/>
            <p:nvPr/>
          </p:nvSpPr>
          <p:spPr>
            <a:xfrm>
              <a:off x="6172200" y="3809880"/>
              <a:ext cx="1066320" cy="990720"/>
            </a:xfrm>
            <a:prstGeom prst="ellipse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562720" y="3886200"/>
              <a:ext cx="914040" cy="1295280"/>
            </a:xfrm>
            <a:prstGeom prst="ellipse">
              <a:avLst/>
            </a:prstGeom>
            <a:solidFill>
              <a:srgbClr val="6666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867280" y="4572000"/>
              <a:ext cx="1599840" cy="83808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4648320" y="5410080"/>
            <a:ext cx="4190760" cy="703800"/>
          </a:xfrm>
          <a:prstGeom prst="rect">
            <a:avLst/>
          </a:prstGeom>
          <a:solidFill>
            <a:srgbClr val="e1e7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Z| = |X| +|Y| +|Z| - |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| - |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Z| - |Y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Z| + |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Z |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Elementy Kombinatoryki   G.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1DC1-BCB4-4142-BE7B-FCB6C131358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 grudnia 2001</a:t>
            </a:r>
          </a:p>
        </p:txBody>
      </p:sp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Impact"/>
              </a:rPr>
              <a:t>Zasada włączania - wyłączania</a:t>
            </a:r>
            <a:endParaRPr b="0" lang="en-US" sz="40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44" name=""/>
          <p:cNvSpPr/>
          <p:nvPr/>
        </p:nvSpPr>
        <p:spPr>
          <a:xfrm>
            <a:off x="1295280" y="1371600"/>
            <a:ext cx="7620120" cy="745560"/>
          </a:xfrm>
          <a:prstGeom prst="rect">
            <a:avLst/>
          </a:prstGeom>
          <a:solidFill>
            <a:srgbClr val="e1e7e4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iech X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, ..., X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będą podzbiorami zbioru X. Wtedy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1295280" y="1828800"/>
                <a:ext cx="7620120" cy="12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∪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∪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∪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|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&lt;</m:t>
                            </m:r>
                            <m:r>
                              <m:t xml:space="preserve">j</m:t>
                            </m:r>
                            <m:r>
                              <m:t xml:space="preserve">≤</m:t>
                            </m:r>
                            <m:r>
                              <m:t xml:space="preserve">n</m:t>
                            </m:r>
                          </m:sub>
                          <m:sup/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∩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&lt;</m:t>
                            </m:r>
                            <m:r>
                              <m:t xml:space="preserve">j</m:t>
                            </m:r>
                            <m:r>
                              <m:t xml:space="preserve">&lt;</m:t>
                            </m:r>
                            <m:r>
                              <m:t xml:space="preserve">k</m:t>
                            </m:r>
                            <m:r>
                              <m:t xml:space="preserve">≤</m:t>
                            </m:r>
                            <m:r>
                              <m:t xml:space="preserve">n</m:t>
                            </m:r>
                          </m:sub>
                          <m:sup/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∩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∩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∩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∩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46" name=""/>
          <p:cNvSpPr txBox="1"/>
          <p:nvPr/>
        </p:nvSpPr>
        <p:spPr>
          <a:xfrm>
            <a:off x="2514600" y="3352680"/>
            <a:ext cx="5181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Ile składników ma ten wzór?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48" name=""/>
          <p:cNvSpPr/>
          <p:nvPr/>
        </p:nvSpPr>
        <p:spPr>
          <a:xfrm flipV="1">
            <a:off x="1676520" y="2971440"/>
            <a:ext cx="2286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 flipV="1">
            <a:off x="3200040" y="2819160"/>
            <a:ext cx="6858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 flipV="1">
            <a:off x="5105160" y="2895480"/>
            <a:ext cx="106668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371600" y="4800600"/>
            <a:ext cx="14954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Razem :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3657600" y="4648320"/>
                <a:ext cx="16556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(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</m:e>
                    </m:nary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1523880" y="4114800"/>
                <a:ext cx="4780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(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3886200" y="4114800"/>
                <a:ext cx="4777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(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6172200" y="4191120"/>
                <a:ext cx="4777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(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6" name=""/>
          <p:cNvSpPr/>
          <p:nvPr/>
        </p:nvSpPr>
        <p:spPr>
          <a:xfrm>
            <a:off x="5715000" y="4724280"/>
            <a:ext cx="3429000" cy="1472400"/>
          </a:xfrm>
          <a:prstGeom prst="rect">
            <a:avLst/>
          </a:prstGeom>
          <a:solidFill>
            <a:srgbClr val="e1e7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zasadnieni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) przez zliczanie podzbiorów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b) indukcj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) z wzoru dwumianowe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Elementy Kombinatoryki   G.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9928-55D8-4DC2-BF64-D9AA3E5DFBA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 grudnia 2001</a:t>
            </a:r>
          </a:p>
        </p:txBody>
      </p:sp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Impact"/>
              </a:rPr>
              <a:t>Zastosowanie</a:t>
            </a:r>
            <a:endParaRPr b="0" lang="en-US" sz="40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58" name=""/>
          <p:cNvSpPr/>
          <p:nvPr/>
        </p:nvSpPr>
        <p:spPr>
          <a:xfrm>
            <a:off x="1371600" y="1447920"/>
            <a:ext cx="6477120" cy="1167480"/>
          </a:xfrm>
          <a:prstGeom prst="rect">
            <a:avLst/>
          </a:prstGeom>
          <a:solidFill>
            <a:srgbClr val="e1e7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eżeli |X|=n i |Y|=m, to liczba wszystkich funkcji całkowitych z X na Y   jest  rów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4114800" y="1828800"/>
                <a:ext cx="28209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sSubSup>
                          <m:e>
                            <m:r>
                              <m:t xml:space="preserve">(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60" name=""/>
          <p:cNvSpPr/>
          <p:nvPr/>
        </p:nvSpPr>
        <p:spPr>
          <a:xfrm>
            <a:off x="2743200" y="3048120"/>
            <a:ext cx="6019920" cy="440640"/>
          </a:xfrm>
          <a:prstGeom prst="rect">
            <a:avLst/>
          </a:prstGeom>
          <a:solidFill>
            <a:srgbClr val="e1e7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iech Y={1,...,m} oraz 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= {f :X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Y tak, że i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f(X)}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523880" y="3809880"/>
            <a:ext cx="2286000" cy="703800"/>
          </a:xfrm>
          <a:prstGeom prst="rect">
            <a:avLst/>
          </a:prstGeom>
          <a:solidFill>
            <a:srgbClr val="e1e7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szystkich funkcji f :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  jest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 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343400" y="3886200"/>
            <a:ext cx="3581280" cy="745560"/>
          </a:xfrm>
          <a:prstGeom prst="rect">
            <a:avLst/>
          </a:prstGeom>
          <a:solidFill>
            <a:srgbClr val="e1e7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szystkich funkcji, które nie są ‘na’ jest |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...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|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143000" y="4952880"/>
            <a:ext cx="7620120" cy="1240200"/>
          </a:xfrm>
          <a:prstGeom prst="rect">
            <a:avLst/>
          </a:prstGeom>
          <a:solidFill>
            <a:srgbClr val="e1e7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Zatem wszystkich funkcji ‘na’ jest m</a:t>
            </a:r>
            <a:r>
              <a:rPr b="0" lang="pl-PL" sz="1800" spc="-1" strike="noStrike" baseline="30000">
                <a:solidFill>
                  <a:srgbClr val="000000"/>
                </a:solidFill>
                <a:latin typeface="Times New Roman"/>
              </a:rPr>
              <a:t> n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|A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... 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|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1523880" y="5410080"/>
                <a:ext cx="670572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bSup>
                          <m:e>
                            <m:r>
                              <m:t xml:space="preserve">(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</m:e>
                    </m:nary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i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sSubSup>
                          <m:e>
                            <m:r>
                              <m:t xml:space="preserve">(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</m:e>
                    </m:nary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i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sSubSup>
                          <m:e>
                            <m:r>
                              <m:t xml:space="preserve">(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</m:e>
                    </m:nary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i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65" name=""/>
          <p:cNvSpPr txBox="1"/>
          <p:nvPr/>
        </p:nvSpPr>
        <p:spPr>
          <a:xfrm rot="21538800">
            <a:off x="1218960" y="2895480"/>
            <a:ext cx="13525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owód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6" name="">
            <a:hlinkClick r:id="rId1" action="ppaction://hlinksldjump"/>
          </p:cNvPr>
          <p:cNvSpPr/>
          <p:nvPr/>
        </p:nvSpPr>
        <p:spPr>
          <a:xfrm>
            <a:off x="8229600" y="4114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5203" h="21600">
                <a:moveTo>
                  <a:pt x="12601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5203" h="21600">
                <a:moveTo>
                  <a:pt x="10025" y="8224"/>
                </a:moveTo>
                <a:lnTo>
                  <a:pt x="13890" y="8224"/>
                </a:lnTo>
                <a:lnTo>
                  <a:pt x="13890" y="15221"/>
                </a:lnTo>
                <a:lnTo>
                  <a:pt x="15178" y="15221"/>
                </a:lnTo>
                <a:lnTo>
                  <a:pt x="15178" y="16144"/>
                </a:lnTo>
                <a:lnTo>
                  <a:pt x="10025" y="16144"/>
                </a:lnTo>
                <a:lnTo>
                  <a:pt x="10025" y="15221"/>
                </a:lnTo>
                <a:lnTo>
                  <a:pt x="11313" y="15221"/>
                </a:lnTo>
                <a:lnTo>
                  <a:pt x="11313" y="9129"/>
                </a:lnTo>
                <a:lnTo>
                  <a:pt x="10025" y="9129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Elementy Kombinatoryki   G.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6C9D-9967-43A5-B591-C17FFC242FF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 grudnia 2001</a:t>
            </a:r>
          </a:p>
        </p:txBody>
      </p:sp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66"/>
                </a:solidFill>
                <a:latin typeface="Impact"/>
              </a:rPr>
              <a:t>Zasada szufladkowa Dirichleta</a:t>
            </a:r>
            <a:endParaRPr b="0" lang="en-US" sz="40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68" name=""/>
          <p:cNvSpPr/>
          <p:nvPr/>
        </p:nvSpPr>
        <p:spPr>
          <a:xfrm>
            <a:off x="1905120" y="1600200"/>
            <a:ext cx="121896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858000" y="1600200"/>
            <a:ext cx="121932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952880" y="1600200"/>
            <a:ext cx="121932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429000" y="1600200"/>
            <a:ext cx="121932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 rot="16192200">
            <a:off x="4686120" y="36360"/>
            <a:ext cx="533520" cy="47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{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324480" y="2133720"/>
            <a:ext cx="76320" cy="7596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477120" y="2133720"/>
            <a:ext cx="75960" cy="7596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629400" y="2133720"/>
            <a:ext cx="76320" cy="7596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343400" y="2666880"/>
            <a:ext cx="16765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n   szufladek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1143000" y="2514600"/>
            <a:ext cx="1539360" cy="1554120"/>
            <a:chOff x="1143000" y="2514600"/>
            <a:chExt cx="1539360" cy="1554120"/>
          </a:xfrm>
        </p:grpSpPr>
        <p:sp>
          <p:nvSpPr>
            <p:cNvPr id="378" name=""/>
            <p:cNvSpPr/>
            <p:nvPr/>
          </p:nvSpPr>
          <p:spPr>
            <a:xfrm>
              <a:off x="1329840" y="2514600"/>
              <a:ext cx="680760" cy="749160"/>
            </a:xfrm>
            <a:custGeom>
              <a:avLst/>
              <a:gdLst/>
              <a:ahLst/>
              <a:rect l="l" t="t" r="r" b="b"/>
              <a:pathLst>
                <a:path w="429" h="472">
                  <a:moveTo>
                    <a:pt x="26" y="28"/>
                  </a:moveTo>
                  <a:cubicBezTo>
                    <a:pt x="78" y="15"/>
                    <a:pt x="112" y="0"/>
                    <a:pt x="169" y="28"/>
                  </a:cubicBezTo>
                  <a:cubicBezTo>
                    <a:pt x="181" y="34"/>
                    <a:pt x="176" y="55"/>
                    <a:pt x="182" y="67"/>
                  </a:cubicBezTo>
                  <a:cubicBezTo>
                    <a:pt x="202" y="107"/>
                    <a:pt x="223" y="148"/>
                    <a:pt x="248" y="185"/>
                  </a:cubicBezTo>
                  <a:cubicBezTo>
                    <a:pt x="287" y="181"/>
                    <a:pt x="328" y="184"/>
                    <a:pt x="365" y="172"/>
                  </a:cubicBezTo>
                  <a:cubicBezTo>
                    <a:pt x="382" y="166"/>
                    <a:pt x="386" y="133"/>
                    <a:pt x="404" y="133"/>
                  </a:cubicBezTo>
                  <a:cubicBezTo>
                    <a:pt x="418" y="133"/>
                    <a:pt x="413" y="159"/>
                    <a:pt x="417" y="172"/>
                  </a:cubicBezTo>
                  <a:cubicBezTo>
                    <a:pt x="383" y="310"/>
                    <a:pt x="429" y="148"/>
                    <a:pt x="378" y="263"/>
                  </a:cubicBezTo>
                  <a:cubicBezTo>
                    <a:pt x="346" y="334"/>
                    <a:pt x="331" y="407"/>
                    <a:pt x="287" y="472"/>
                  </a:cubicBezTo>
                  <a:cubicBezTo>
                    <a:pt x="278" y="459"/>
                    <a:pt x="272" y="444"/>
                    <a:pt x="261" y="433"/>
                  </a:cubicBezTo>
                  <a:cubicBezTo>
                    <a:pt x="250" y="422"/>
                    <a:pt x="232" y="419"/>
                    <a:pt x="222" y="407"/>
                  </a:cubicBezTo>
                  <a:cubicBezTo>
                    <a:pt x="183" y="363"/>
                    <a:pt x="150" y="300"/>
                    <a:pt x="117" y="250"/>
                  </a:cubicBezTo>
                  <a:cubicBezTo>
                    <a:pt x="108" y="237"/>
                    <a:pt x="96" y="226"/>
                    <a:pt x="91" y="211"/>
                  </a:cubicBezTo>
                  <a:cubicBezTo>
                    <a:pt x="87" y="198"/>
                    <a:pt x="85" y="184"/>
                    <a:pt x="78" y="172"/>
                  </a:cubicBezTo>
                  <a:cubicBezTo>
                    <a:pt x="63" y="145"/>
                    <a:pt x="26" y="94"/>
                    <a:pt x="26" y="94"/>
                  </a:cubicBezTo>
                  <a:cubicBezTo>
                    <a:pt x="12" y="35"/>
                    <a:pt x="0" y="54"/>
                    <a:pt x="26" y="2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143000" y="3100320"/>
              <a:ext cx="601200" cy="325440"/>
            </a:xfrm>
            <a:custGeom>
              <a:avLst/>
              <a:gdLst/>
              <a:ahLst/>
              <a:rect l="l" t="t" r="r" b="b"/>
              <a:pathLst>
                <a:path w="379" h="205">
                  <a:moveTo>
                    <a:pt x="379" y="103"/>
                  </a:moveTo>
                  <a:cubicBezTo>
                    <a:pt x="372" y="102"/>
                    <a:pt x="274" y="83"/>
                    <a:pt x="261" y="77"/>
                  </a:cubicBezTo>
                  <a:cubicBezTo>
                    <a:pt x="106" y="0"/>
                    <a:pt x="249" y="41"/>
                    <a:pt x="131" y="12"/>
                  </a:cubicBezTo>
                  <a:cubicBezTo>
                    <a:pt x="26" y="27"/>
                    <a:pt x="31" y="11"/>
                    <a:pt x="0" y="103"/>
                  </a:cubicBezTo>
                  <a:cubicBezTo>
                    <a:pt x="106" y="205"/>
                    <a:pt x="263" y="152"/>
                    <a:pt x="379" y="103"/>
                  </a:cubicBezTo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827000" y="3220920"/>
              <a:ext cx="496440" cy="235080"/>
            </a:xfrm>
            <a:custGeom>
              <a:avLst/>
              <a:gdLst/>
              <a:ahLst/>
              <a:rect l="l" t="t" r="r" b="b"/>
              <a:pathLst>
                <a:path w="313" h="148">
                  <a:moveTo>
                    <a:pt x="0" y="61"/>
                  </a:moveTo>
                  <a:cubicBezTo>
                    <a:pt x="13" y="52"/>
                    <a:pt x="25" y="41"/>
                    <a:pt x="39" y="35"/>
                  </a:cubicBezTo>
                  <a:cubicBezTo>
                    <a:pt x="64" y="24"/>
                    <a:pt x="117" y="9"/>
                    <a:pt x="117" y="9"/>
                  </a:cubicBezTo>
                  <a:cubicBezTo>
                    <a:pt x="236" y="22"/>
                    <a:pt x="275" y="0"/>
                    <a:pt x="313" y="113"/>
                  </a:cubicBezTo>
                  <a:cubicBezTo>
                    <a:pt x="300" y="122"/>
                    <a:pt x="290" y="137"/>
                    <a:pt x="274" y="139"/>
                  </a:cubicBezTo>
                  <a:cubicBezTo>
                    <a:pt x="201" y="148"/>
                    <a:pt x="185" y="89"/>
                    <a:pt x="130" y="61"/>
                  </a:cubicBezTo>
                  <a:cubicBezTo>
                    <a:pt x="80" y="36"/>
                    <a:pt x="65" y="52"/>
                    <a:pt x="0" y="61"/>
                  </a:cubicBezTo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174320" y="3243240"/>
              <a:ext cx="1508040" cy="825480"/>
            </a:xfrm>
            <a:custGeom>
              <a:avLst/>
              <a:gdLst/>
              <a:ahLst/>
              <a:rect l="l" t="t" r="r" b="b"/>
              <a:pathLst>
                <a:path w="950" h="520">
                  <a:moveTo>
                    <a:pt x="333" y="0"/>
                  </a:moveTo>
                  <a:cubicBezTo>
                    <a:pt x="277" y="36"/>
                    <a:pt x="232" y="79"/>
                    <a:pt x="176" y="117"/>
                  </a:cubicBezTo>
                  <a:cubicBezTo>
                    <a:pt x="163" y="126"/>
                    <a:pt x="150" y="134"/>
                    <a:pt x="137" y="143"/>
                  </a:cubicBezTo>
                  <a:cubicBezTo>
                    <a:pt x="124" y="152"/>
                    <a:pt x="98" y="169"/>
                    <a:pt x="98" y="169"/>
                  </a:cubicBezTo>
                  <a:cubicBezTo>
                    <a:pt x="78" y="200"/>
                    <a:pt x="48" y="254"/>
                    <a:pt x="33" y="287"/>
                  </a:cubicBezTo>
                  <a:cubicBezTo>
                    <a:pt x="22" y="312"/>
                    <a:pt x="7" y="365"/>
                    <a:pt x="7" y="365"/>
                  </a:cubicBezTo>
                  <a:cubicBezTo>
                    <a:pt x="11" y="387"/>
                    <a:pt x="0" y="420"/>
                    <a:pt x="20" y="430"/>
                  </a:cubicBezTo>
                  <a:cubicBezTo>
                    <a:pt x="63" y="451"/>
                    <a:pt x="115" y="439"/>
                    <a:pt x="163" y="443"/>
                  </a:cubicBezTo>
                  <a:cubicBezTo>
                    <a:pt x="421" y="464"/>
                    <a:pt x="243" y="446"/>
                    <a:pt x="450" y="469"/>
                  </a:cubicBezTo>
                  <a:cubicBezTo>
                    <a:pt x="477" y="468"/>
                    <a:pt x="839" y="520"/>
                    <a:pt x="946" y="417"/>
                  </a:cubicBezTo>
                  <a:cubicBezTo>
                    <a:pt x="941" y="382"/>
                    <a:pt x="950" y="343"/>
                    <a:pt x="932" y="313"/>
                  </a:cubicBezTo>
                  <a:cubicBezTo>
                    <a:pt x="916" y="286"/>
                    <a:pt x="880" y="278"/>
                    <a:pt x="854" y="261"/>
                  </a:cubicBezTo>
                  <a:cubicBezTo>
                    <a:pt x="841" y="252"/>
                    <a:pt x="815" y="235"/>
                    <a:pt x="815" y="235"/>
                  </a:cubicBezTo>
                  <a:cubicBezTo>
                    <a:pt x="811" y="222"/>
                    <a:pt x="811" y="206"/>
                    <a:pt x="802" y="195"/>
                  </a:cubicBezTo>
                  <a:cubicBezTo>
                    <a:pt x="777" y="164"/>
                    <a:pt x="732" y="162"/>
                    <a:pt x="698" y="156"/>
                  </a:cubicBezTo>
                  <a:cubicBezTo>
                    <a:pt x="636" y="145"/>
                    <a:pt x="575" y="137"/>
                    <a:pt x="515" y="117"/>
                  </a:cubicBezTo>
                  <a:cubicBezTo>
                    <a:pt x="471" y="51"/>
                    <a:pt x="513" y="96"/>
                    <a:pt x="450" y="65"/>
                  </a:cubicBezTo>
                  <a:cubicBezTo>
                    <a:pt x="436" y="58"/>
                    <a:pt x="411" y="39"/>
                    <a:pt x="411" y="39"/>
                  </a:cubicBezTo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603080" y="3186000"/>
              <a:ext cx="306000" cy="181080"/>
            </a:xfrm>
            <a:custGeom>
              <a:avLst/>
              <a:gdLst/>
              <a:ahLst/>
              <a:rect l="l" t="t" r="r" b="b"/>
              <a:pathLst>
                <a:path w="193" h="114">
                  <a:moveTo>
                    <a:pt x="63" y="62"/>
                  </a:moveTo>
                  <a:cubicBezTo>
                    <a:pt x="84" y="0"/>
                    <a:pt x="95" y="3"/>
                    <a:pt x="154" y="23"/>
                  </a:cubicBezTo>
                  <a:cubicBezTo>
                    <a:pt x="163" y="36"/>
                    <a:pt x="184" y="47"/>
                    <a:pt x="180" y="62"/>
                  </a:cubicBezTo>
                  <a:cubicBezTo>
                    <a:pt x="177" y="75"/>
                    <a:pt x="155" y="75"/>
                    <a:pt x="141" y="75"/>
                  </a:cubicBezTo>
                  <a:cubicBezTo>
                    <a:pt x="110" y="75"/>
                    <a:pt x="80" y="66"/>
                    <a:pt x="50" y="62"/>
                  </a:cubicBezTo>
                  <a:cubicBezTo>
                    <a:pt x="37" y="58"/>
                    <a:pt x="20" y="39"/>
                    <a:pt x="10" y="49"/>
                  </a:cubicBezTo>
                  <a:cubicBezTo>
                    <a:pt x="0" y="59"/>
                    <a:pt x="13" y="78"/>
                    <a:pt x="23" y="88"/>
                  </a:cubicBezTo>
                  <a:cubicBezTo>
                    <a:pt x="29" y="94"/>
                    <a:pt x="115" y="114"/>
                    <a:pt x="115" y="114"/>
                  </a:cubicBezTo>
                  <a:cubicBezTo>
                    <a:pt x="141" y="105"/>
                    <a:pt x="193" y="88"/>
                    <a:pt x="193" y="88"/>
                  </a:cubicBezTo>
                </a:path>
              </a:pathLst>
            </a:custGeom>
            <a:solidFill>
              <a:srgbClr val="0000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1219320" y="35812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  przedmiotó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124080" y="3352680"/>
            <a:ext cx="5334120" cy="10695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Jeśli skończony zbiór X podzielimy na n podzbiorów, to co najmniej  jeden z podzbiorów będzie miał co najmniej  |X|/n   elementów.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209680" y="18288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581280" y="18288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334120" y="18288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086600" y="18288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620120" y="18288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371600" y="3962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&gt;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219320" y="4648320"/>
            <a:ext cx="4343400" cy="13136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iech f :X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Y, Dom(f)=X, |X| &gt;k |Y| . Wtedy co najmniej dla jednego y , przeciwobraz f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{y}) ma więcej niż k elementó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91320" y="4800600"/>
            <a:ext cx="3047760" cy="1295280"/>
          </a:xfrm>
          <a:prstGeom prst="wedgeRoundRectCallout">
            <a:avLst>
              <a:gd name="adj1" fmla="val -36717"/>
              <a:gd name="adj2" fmla="val -78185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Bo gdyby było inaczej,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to suma mocy tych zbioró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byłaby mniejsza of |X|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Elementy Kombinatoryki   G.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3863-13D0-4068-95F0-D2A14E2D376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 grudnia 2001</a:t>
            </a:r>
          </a:p>
        </p:txBody>
      </p:sp>
    </p:spTree>
  </p:cSld>
  <p:transition spd="med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Impact"/>
              </a:rPr>
              <a:t>Przykład</a:t>
            </a:r>
            <a:endParaRPr b="0" lang="en-US" sz="40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94" name=""/>
          <p:cNvSpPr/>
          <p:nvPr/>
        </p:nvSpPr>
        <p:spPr>
          <a:xfrm>
            <a:off x="1295280" y="1523880"/>
            <a:ext cx="678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ypuśćmy, że pewne 9 osób  O1,...O9, waży razem 810kg. Czy dowolna trójka z tych osób może wsiąść do windy o udźwigu 250 kg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8305920" y="1523880"/>
            <a:ext cx="457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?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3720" y="2743200"/>
            <a:ext cx="3657600" cy="1557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1  O2  O3 ... O7  O8  O9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2  O3  O4 ... O8  O9  O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3  O4  O5 ... O9  O1  O2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41280" y="4564080"/>
            <a:ext cx="6836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a  mocy zasady szufladkowej Dirichleta przynajmniej w jednej kolumnie suma wag wynosi co najmniej 2430/9 =  270kg Czyli istnieje taka trojka osób (co najmniej jedna), która 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nie moż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razem wsiąść do wind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rot="12603600">
            <a:off x="5714640" y="2742840"/>
            <a:ext cx="1905120" cy="533520"/>
          </a:xfrm>
          <a:custGeom>
            <a:avLst/>
            <a:gdLst>
              <a:gd name="textAreaLeft" fmla="*/ 356760 w 1905120"/>
              <a:gd name="textAreaRight" fmla="*/ 1263960 w 190512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092" hR="21600" stAng="10800000" swAng="-5400000"/>
                <a:lnTo>
                  <a:pt x="10286" y="21600"/>
                </a:lnTo>
                <a:arcTo wR="8092" hR="21600" stAng="5400000" swAng="-2799367"/>
                <a:lnTo>
                  <a:pt x="21137" y="7200"/>
                </a:lnTo>
                <a:lnTo>
                  <a:pt x="17280" y="0"/>
                </a:lnTo>
                <a:lnTo>
                  <a:pt x="12497" y="7200"/>
                </a:lnTo>
                <a:lnTo>
                  <a:pt x="15720" y="7200"/>
                </a:lnTo>
                <a:arcTo wR="8092" hR="21600" stAng="2600633" swAng="2623301"/>
                <a:lnTo>
                  <a:pt x="9189" y="21401"/>
                </a:lnTo>
                <a:arcTo wR="8092" hR="21600" stAng="5576066" swAng="5223934"/>
                <a:close/>
              </a:path>
              <a:path fill="darkenLess" w="21600" h="21600">
                <a:moveTo>
                  <a:pt x="0" y="0"/>
                </a:moveTo>
                <a:arcTo wR="8092" hR="21600" stAng="10800000" swAng="-5400000"/>
                <a:lnTo>
                  <a:pt x="10286" y="21600"/>
                </a:lnTo>
                <a:arcTo wR="8092" hR="21600" stAng="5400000" swAng="176066"/>
                <a:lnTo>
                  <a:pt x="9189" y="21401"/>
                </a:lnTo>
                <a:arcTo wR="8092" hR="21600" stAng="5576066" swAng="5223934"/>
                <a:close/>
              </a:path>
            </a:pathLst>
          </a:cu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019920" y="35812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ma wag wynosi 243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Elementy Kombinatoryki   G.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034E-4248-4906-9517-FFDC474EC29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 grudnia 2001</a:t>
            </a:r>
          </a:p>
        </p:txBody>
      </p:sp>
    </p:spTree>
  </p:cSld>
  <p:transition spd="med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Impact"/>
              </a:rPr>
              <a:t>Wyjaśnienia</a:t>
            </a:r>
            <a:endParaRPr b="0" lang="en-US" sz="3600" spc="-1" strike="noStrike">
              <a:solidFill>
                <a:srgbClr val="000066"/>
              </a:solidFill>
              <a:latin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3352680" y="5334120"/>
                <a:ext cx="28195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bSup>
                          <m:e>
                            <m:r>
                              <m:t xml:space="preserve">(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</m:e>
                    </m:nary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i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02" name="">
            <a:hlinkClick r:id="" action="ppaction://hlinkshowjump?jump=previousslide"/>
          </p:cNvPr>
          <p:cNvSpPr/>
          <p:nvPr/>
        </p:nvSpPr>
        <p:spPr>
          <a:xfrm>
            <a:off x="7772400" y="55627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7493"/>
                </a:moveTo>
                <a:lnTo>
                  <a:pt x="9103" y="7493"/>
                </a:lnTo>
                <a:lnTo>
                  <a:pt x="9103" y="12828"/>
                </a:lnTo>
                <a:cubicBezTo>
                  <a:pt x="9103" y="13751"/>
                  <a:pt x="9903" y="14482"/>
                  <a:pt x="10939" y="14482"/>
                </a:cubicBezTo>
                <a:lnTo>
                  <a:pt x="12601" y="14482"/>
                </a:lnTo>
                <a:cubicBezTo>
                  <a:pt x="13637" y="14482"/>
                  <a:pt x="14438" y="13751"/>
                  <a:pt x="14438" y="12828"/>
                </a:cubicBezTo>
                <a:lnTo>
                  <a:pt x="14438" y="7493"/>
                </a:lnTo>
                <a:lnTo>
                  <a:pt x="12601" y="7493"/>
                </a:lnTo>
                <a:lnTo>
                  <a:pt x="16109" y="3985"/>
                </a:lnTo>
                <a:lnTo>
                  <a:pt x="19782" y="7493"/>
                </a:lnTo>
                <a:lnTo>
                  <a:pt x="17945" y="7493"/>
                </a:lnTo>
                <a:lnTo>
                  <a:pt x="17945" y="12828"/>
                </a:lnTo>
                <a:cubicBezTo>
                  <a:pt x="17945" y="15596"/>
                  <a:pt x="15369" y="18155"/>
                  <a:pt x="12601" y="18155"/>
                </a:cubicBezTo>
                <a:lnTo>
                  <a:pt x="10939" y="18155"/>
                </a:lnTo>
                <a:cubicBezTo>
                  <a:pt x="8171" y="18155"/>
                  <a:pt x="5595" y="15596"/>
                  <a:pt x="5595" y="12828"/>
                </a:cubicBezTo>
                <a:close/>
              </a:path>
            </a:pathLst>
          </a:cu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1371600" y="1347840"/>
                <a:ext cx="7467480" cy="16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limLow>
                          <m:e/>
                          <m:lim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m</m:t>
                            </m:r>
                          </m:lim>
                        </m:limLow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|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&lt;</m:t>
                            </m:r>
                            <m:r>
                              <m:t xml:space="preserve">j</m:t>
                            </m:r>
                            <m:r>
                              <m:t xml:space="preserve">≤</m:t>
                            </m:r>
                            <m:r>
                              <m:t xml:space="preserve">m</m:t>
                            </m:r>
                          </m:sub>
                          <m:sup/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∩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&lt;</m:t>
                            </m:r>
                            <m:r>
                              <m:t xml:space="preserve">j</m:t>
                            </m:r>
                            <m:r>
                              <m:t xml:space="preserve">&lt;</m:t>
                            </m:r>
                            <m:r>
                              <m:t xml:space="preserve">k</m:t>
                            </m:r>
                            <m:r>
                              <m:t xml:space="preserve">≤</m:t>
                            </m:r>
                            <m:r>
                              <m:t xml:space="preserve">m</m:t>
                            </m:r>
                          </m:sub>
                          <m:sup/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∩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∩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|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∩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∩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2293920" y="3352680"/>
                <a:ext cx="168768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∩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∩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i</m:t>
                        </m:r>
                      </m:sub>
                    </m:sSub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5" name=""/>
          <p:cNvSpPr/>
          <p:nvPr/>
        </p:nvSpPr>
        <p:spPr>
          <a:xfrm>
            <a:off x="5562720" y="2971800"/>
            <a:ext cx="3276360" cy="1066680"/>
          </a:xfrm>
          <a:prstGeom prst="wedgeRoundRectCallout">
            <a:avLst>
              <a:gd name="adj1" fmla="val -87500"/>
              <a:gd name="adj2" fmla="val 6101"/>
              <a:gd name="adj3" fmla="val 16667"/>
            </a:avLst>
          </a:prstGeom>
          <a:solidFill>
            <a:srgbClr val="e1e7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Moc zbioru funkcji,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które nie przyjmują wartości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j1, j2,..., 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91320" y="4343400"/>
            <a:ext cx="2666880" cy="459720"/>
          </a:xfrm>
          <a:prstGeom prst="rect">
            <a:avLst/>
          </a:prstGeom>
          <a:solidFill>
            <a:srgbClr val="e1e7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zyli  (m- i)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447920" y="4191120"/>
            <a:ext cx="2438280" cy="1066680"/>
          </a:xfrm>
          <a:prstGeom prst="wedgeRoundRectCallout">
            <a:avLst>
              <a:gd name="adj1" fmla="val 34375"/>
              <a:gd name="adj2" fmla="val -94046"/>
              <a:gd name="adj3" fmla="val 16667"/>
            </a:avLst>
          </a:prstGeom>
          <a:solidFill>
            <a:srgbClr val="e1e7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kich iloczynów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est dokładnie (m nad 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895480" y="1447920"/>
            <a:ext cx="4496040" cy="398880"/>
          </a:xfrm>
          <a:prstGeom prst="rect">
            <a:avLst/>
          </a:prstGeom>
          <a:solidFill>
            <a:srgbClr val="e1e7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 mocy zasady włączeń i wyłącze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Elementy Kombinatoryki   G.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7BFF-CAA6-4D88-9D4C-34DDA1A3F7B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 grudnia 2001</a:t>
            </a: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Impact"/>
              </a:rPr>
              <a:t>Przykłady </a:t>
            </a:r>
            <a:r>
              <a:rPr b="0" lang="en-US" sz="2400" spc="-1" strike="noStrike">
                <a:solidFill>
                  <a:srgbClr val="000066"/>
                </a:solidFill>
                <a:latin typeface="Impact"/>
              </a:rPr>
              <a:t>(wzór dwumianowy)</a:t>
            </a:r>
            <a:endParaRPr b="0" lang="en-US" sz="2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1447920"/>
            <a:ext cx="6553080" cy="703800"/>
          </a:xfrm>
          <a:prstGeom prst="rect">
            <a:avLst/>
          </a:prstGeom>
          <a:solidFill>
            <a:srgbClr val="e1e7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1. Ile jest ciągów zero-jedynkowych o długości n, w których 1 występuje dokładnie k raz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23880" y="2362320"/>
            <a:ext cx="586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Uwaga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Ciąg ( 0  1  0  1   1   1   0   0   0) można traktowć jako funkcję charakterystyczną zbior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486400" y="3124080"/>
            <a:ext cx="3352680" cy="398880"/>
          </a:xfrm>
          <a:prstGeom prst="rect">
            <a:avLst/>
          </a:prstGeom>
          <a:solidFill>
            <a:srgbClr val="e1e7e4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tem odpowiedź :  (n nad 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371600" y="3886200"/>
            <a:ext cx="5638680" cy="764640"/>
          </a:xfrm>
          <a:prstGeom prst="rect">
            <a:avLst/>
          </a:prstGeom>
          <a:solidFill>
            <a:srgbClr val="e1e7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iech będzie graf pełny G(bez pętli) o n wierzchołkach. Ile taki graf ma krawędzi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95280" y="4876920"/>
            <a:ext cx="6248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Uwag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Każda krawędź wyznacza 2 elementowy podzbiór i każdy 2 elementowy podzbiór zbioru wierzchołków wyznacza krawędź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57800" y="5562720"/>
            <a:ext cx="3352680" cy="398880"/>
          </a:xfrm>
          <a:prstGeom prst="rect">
            <a:avLst/>
          </a:prstGeom>
          <a:solidFill>
            <a:srgbClr val="e1e7e4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tem odpowiedź :  (n nad 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Elementy Kombinatoryki   G.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6A73-2013-4FAE-A736-752A387727F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 grudnia 2001</a:t>
            </a: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Impact"/>
              </a:rPr>
              <a:t>Przykład</a:t>
            </a:r>
            <a:endParaRPr b="0" lang="en-US" sz="40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41" name=""/>
          <p:cNvSpPr/>
          <p:nvPr/>
        </p:nvSpPr>
        <p:spPr>
          <a:xfrm>
            <a:off x="1371600" y="1371600"/>
            <a:ext cx="7238880" cy="1008720"/>
          </a:xfrm>
          <a:prstGeom prst="rect">
            <a:avLst/>
          </a:prstGeom>
          <a:solidFill>
            <a:srgbClr val="e1e7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l w pokerze to układ 5 kart, w których występują tylko karty dwóch różnych wysokości x , y  i to 3 karty wysokości x i 2 karty wysokości y. Oznaczenie (x,y) - typ fu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76520" y="2971800"/>
            <a:ext cx="3047760" cy="2545920"/>
          </a:xfrm>
          <a:prstGeom prst="rect">
            <a:avLst/>
          </a:prstGeom>
          <a:solidFill>
            <a:srgbClr val="e1e7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Ile jest różnych układów typu (5,9)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ybieram trzy piątki z czterech, które znajdują się w talii ora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ybieram  dwie 9 z czterech możliwych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800600" y="2362320"/>
            <a:ext cx="3448080" cy="100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le  różnych  układów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kart   to fule ?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715000" y="5410080"/>
            <a:ext cx="2666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dp.:  13 * 12 * 24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"/>
          <p:cNvSpPr/>
          <p:nvPr/>
        </p:nvSpPr>
        <p:spPr>
          <a:xfrm>
            <a:off x="1676520" y="5562720"/>
            <a:ext cx="3124080" cy="459720"/>
          </a:xfrm>
          <a:prstGeom prst="rect">
            <a:avLst/>
          </a:prstGeom>
          <a:solidFill>
            <a:srgbClr val="e1e7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zem  4* 6 = 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257800" y="3657600"/>
            <a:ext cx="3429000" cy="398880"/>
          </a:xfrm>
          <a:prstGeom prst="rect">
            <a:avLst/>
          </a:prstGeom>
          <a:solidFill>
            <a:srgbClr val="e1e7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Ile jest różnych typów fuli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4114800"/>
            <a:ext cx="4343400" cy="1008720"/>
          </a:xfrm>
          <a:prstGeom prst="rect">
            <a:avLst/>
          </a:prstGeom>
          <a:solidFill>
            <a:srgbClr val="e1e7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ybieram 2 różne wysokości kart spośród 13tu. Ale kolejność w parze (x,y) jest istotna! Czyli mam 13 *12 p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 rot="5400000">
            <a:off x="7781400" y="3962160"/>
            <a:ext cx="220032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/>
                  </a:outerShdw>
                </a:effectLst>
                <a:latin typeface="Times New Roman"/>
              </a:rPr>
              <a:t>wariacje</a:t>
            </a:r>
            <a:endParaRPr b="0" lang="en-US" sz="24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 rot="5400000">
            <a:off x="-233280" y="4043160"/>
            <a:ext cx="3124080" cy="524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/>
                  </a:outerShdw>
                </a:effectLst>
                <a:latin typeface="Times New Roman"/>
              </a:rPr>
              <a:t>kombinacje</a:t>
            </a:r>
            <a:endParaRPr b="0" lang="en-US" sz="24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Elementy Kombinatoryki   G.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C355-7F31-4D50-AD2C-FD1365B3278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 grudnia 2001</a:t>
            </a: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Impact"/>
              </a:rPr>
              <a:t>Przykład lody</a:t>
            </a:r>
            <a:endParaRPr b="0" lang="en-US" sz="4000" spc="-1" strike="noStrike">
              <a:solidFill>
                <a:srgbClr val="000066"/>
              </a:solidFill>
              <a:latin typeface="Impact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1600200" y="1600200"/>
            <a:ext cx="903240" cy="1617480"/>
            <a:chOff x="1600200" y="1600200"/>
            <a:chExt cx="903240" cy="1617480"/>
          </a:xfrm>
        </p:grpSpPr>
        <p:sp>
          <p:nvSpPr>
            <p:cNvPr id="152" name=""/>
            <p:cNvSpPr/>
            <p:nvPr/>
          </p:nvSpPr>
          <p:spPr>
            <a:xfrm>
              <a:off x="1676160" y="2286000"/>
              <a:ext cx="827280" cy="931680"/>
            </a:xfrm>
            <a:custGeom>
              <a:avLst/>
              <a:gdLst/>
              <a:ahLst/>
              <a:rect l="l" t="t" r="r" b="b"/>
              <a:pathLst>
                <a:path w="521" h="587">
                  <a:moveTo>
                    <a:pt x="26" y="101"/>
                  </a:moveTo>
                  <a:cubicBezTo>
                    <a:pt x="67" y="163"/>
                    <a:pt x="47" y="125"/>
                    <a:pt x="78" y="218"/>
                  </a:cubicBezTo>
                  <a:cubicBezTo>
                    <a:pt x="83" y="233"/>
                    <a:pt x="98" y="243"/>
                    <a:pt x="104" y="257"/>
                  </a:cubicBezTo>
                  <a:cubicBezTo>
                    <a:pt x="115" y="282"/>
                    <a:pt x="115" y="313"/>
                    <a:pt x="130" y="336"/>
                  </a:cubicBezTo>
                  <a:cubicBezTo>
                    <a:pt x="139" y="349"/>
                    <a:pt x="150" y="361"/>
                    <a:pt x="156" y="375"/>
                  </a:cubicBezTo>
                  <a:cubicBezTo>
                    <a:pt x="216" y="510"/>
                    <a:pt x="150" y="406"/>
                    <a:pt x="209" y="492"/>
                  </a:cubicBezTo>
                  <a:cubicBezTo>
                    <a:pt x="213" y="509"/>
                    <a:pt x="217" y="527"/>
                    <a:pt x="222" y="544"/>
                  </a:cubicBezTo>
                  <a:cubicBezTo>
                    <a:pt x="226" y="557"/>
                    <a:pt x="222" y="580"/>
                    <a:pt x="235" y="583"/>
                  </a:cubicBezTo>
                  <a:cubicBezTo>
                    <a:pt x="250" y="587"/>
                    <a:pt x="261" y="566"/>
                    <a:pt x="274" y="557"/>
                  </a:cubicBezTo>
                  <a:cubicBezTo>
                    <a:pt x="311" y="483"/>
                    <a:pt x="332" y="406"/>
                    <a:pt x="378" y="336"/>
                  </a:cubicBezTo>
                  <a:cubicBezTo>
                    <a:pt x="408" y="244"/>
                    <a:pt x="395" y="283"/>
                    <a:pt x="417" y="218"/>
                  </a:cubicBezTo>
                  <a:cubicBezTo>
                    <a:pt x="422" y="203"/>
                    <a:pt x="436" y="193"/>
                    <a:pt x="443" y="179"/>
                  </a:cubicBezTo>
                  <a:cubicBezTo>
                    <a:pt x="449" y="167"/>
                    <a:pt x="452" y="153"/>
                    <a:pt x="456" y="140"/>
                  </a:cubicBezTo>
                  <a:cubicBezTo>
                    <a:pt x="461" y="123"/>
                    <a:pt x="464" y="105"/>
                    <a:pt x="469" y="88"/>
                  </a:cubicBezTo>
                  <a:cubicBezTo>
                    <a:pt x="477" y="61"/>
                    <a:pt x="521" y="0"/>
                    <a:pt x="495" y="9"/>
                  </a:cubicBezTo>
                  <a:cubicBezTo>
                    <a:pt x="388" y="45"/>
                    <a:pt x="444" y="31"/>
                    <a:pt x="326" y="49"/>
                  </a:cubicBezTo>
                  <a:cubicBezTo>
                    <a:pt x="313" y="53"/>
                    <a:pt x="301" y="62"/>
                    <a:pt x="287" y="62"/>
                  </a:cubicBezTo>
                  <a:cubicBezTo>
                    <a:pt x="269" y="62"/>
                    <a:pt x="253" y="46"/>
                    <a:pt x="235" y="49"/>
                  </a:cubicBezTo>
                  <a:cubicBezTo>
                    <a:pt x="220" y="51"/>
                    <a:pt x="210" y="68"/>
                    <a:pt x="196" y="75"/>
                  </a:cubicBezTo>
                  <a:cubicBezTo>
                    <a:pt x="183" y="81"/>
                    <a:pt x="169" y="84"/>
                    <a:pt x="156" y="88"/>
                  </a:cubicBezTo>
                  <a:cubicBezTo>
                    <a:pt x="53" y="54"/>
                    <a:pt x="105" y="57"/>
                    <a:pt x="0" y="75"/>
                  </a:cubicBezTo>
                  <a:cubicBezTo>
                    <a:pt x="43" y="103"/>
                    <a:pt x="55" y="101"/>
                    <a:pt x="26" y="101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00200" y="1828800"/>
              <a:ext cx="38088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981080" y="1600200"/>
              <a:ext cx="380880" cy="3808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752480" y="2057400"/>
              <a:ext cx="457200" cy="3808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828800" y="1752480"/>
              <a:ext cx="38088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057400" y="1981080"/>
              <a:ext cx="380880" cy="38088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895480" y="1600200"/>
            <a:ext cx="556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 lodziarni są tylko trzy rodzaje lodów: jogurtowe, śmietankowe i miętowe, sprzedawane w waflach po 5 kule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438280" y="2819520"/>
            <a:ext cx="563904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Na ile sposobów można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 </a:t>
            </a: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skomponować lodowy deser?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600200" y="4419720"/>
            <a:ext cx="3733920" cy="380880"/>
            <a:chOff x="1600200" y="4419720"/>
            <a:chExt cx="3733920" cy="380880"/>
          </a:xfrm>
        </p:grpSpPr>
        <p:sp>
          <p:nvSpPr>
            <p:cNvPr id="161" name=""/>
            <p:cNvSpPr/>
            <p:nvPr/>
          </p:nvSpPr>
          <p:spPr>
            <a:xfrm>
              <a:off x="1600200" y="4419720"/>
              <a:ext cx="533520" cy="380880"/>
            </a:xfrm>
            <a:prstGeom prst="rect">
              <a:avLst/>
            </a:prstGeom>
            <a:solidFill>
              <a:srgbClr val="e1e7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667240" y="4419720"/>
              <a:ext cx="533160" cy="380880"/>
            </a:xfrm>
            <a:prstGeom prst="rect">
              <a:avLst/>
            </a:prstGeom>
            <a:solidFill>
              <a:srgbClr val="e1e7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133720" y="4419720"/>
              <a:ext cx="533520" cy="380880"/>
            </a:xfrm>
            <a:prstGeom prst="rect">
              <a:avLst/>
            </a:prstGeom>
            <a:solidFill>
              <a:srgbClr val="e1e7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00400" y="4419720"/>
              <a:ext cx="533520" cy="380880"/>
            </a:xfrm>
            <a:prstGeom prst="rect">
              <a:avLst/>
            </a:prstGeom>
            <a:solidFill>
              <a:srgbClr val="e1e7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733920" y="4419720"/>
              <a:ext cx="533520" cy="380880"/>
            </a:xfrm>
            <a:prstGeom prst="rect">
              <a:avLst/>
            </a:prstGeom>
            <a:solidFill>
              <a:srgbClr val="e1e7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267440" y="4419720"/>
              <a:ext cx="533160" cy="380880"/>
            </a:xfrm>
            <a:prstGeom prst="rect">
              <a:avLst/>
            </a:prstGeom>
            <a:solidFill>
              <a:srgbClr val="e1e7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800600" y="4419720"/>
              <a:ext cx="533520" cy="380880"/>
            </a:xfrm>
            <a:prstGeom prst="rect">
              <a:avLst/>
            </a:prstGeom>
            <a:solidFill>
              <a:srgbClr val="e1e7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267440" y="4419720"/>
              <a:ext cx="533160" cy="380880"/>
            </a:xfrm>
            <a:prstGeom prst="rect">
              <a:avLst/>
            </a:prstGeom>
            <a:solidFill>
              <a:srgbClr val="e1e7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5638680" y="3962520"/>
            <a:ext cx="2819520" cy="1218600"/>
            <a:chOff x="5638680" y="3962520"/>
            <a:chExt cx="2819520" cy="1218600"/>
          </a:xfrm>
        </p:grpSpPr>
        <p:sp>
          <p:nvSpPr>
            <p:cNvPr id="170" name=""/>
            <p:cNvSpPr/>
            <p:nvPr/>
          </p:nvSpPr>
          <p:spPr>
            <a:xfrm>
              <a:off x="6019560" y="3962520"/>
              <a:ext cx="2438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 jogurtowe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śmietankowe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kulka miętow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 txBox="1"/>
            <p:nvPr/>
          </p:nvSpPr>
          <p:spPr>
            <a:xfrm>
              <a:off x="5638680" y="4038480"/>
              <a:ext cx="457200" cy="1142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{</a:t>
              </a:r>
              <a:endPara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447920" y="5257800"/>
            <a:ext cx="3124080" cy="792000"/>
            <a:chOff x="1447920" y="5257800"/>
            <a:chExt cx="3124080" cy="792000"/>
          </a:xfrm>
        </p:grpSpPr>
        <p:sp>
          <p:nvSpPr>
            <p:cNvPr id="173" name=""/>
            <p:cNvSpPr txBox="1"/>
            <p:nvPr/>
          </p:nvSpPr>
          <p:spPr>
            <a:xfrm>
              <a:off x="1447920" y="5410080"/>
              <a:ext cx="182880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Odpowiedź:</a:t>
              </a:r>
              <a:endPara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4" name=""/>
                <p:cNvSpPr txBox="1"/>
                <p:nvPr/>
              </p:nvSpPr>
              <p:spPr>
                <a:xfrm>
                  <a:off x="3581280" y="5257800"/>
                  <a:ext cx="990720" cy="79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(</m:t>
                          </m:r>
                        </m:e>
                        <m:sub>
                          <m:r>
                            <m:t xml:space="preserve"> </m:t>
                          </m:r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5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75" name=""/>
          <p:cNvSpPr/>
          <p:nvPr/>
        </p:nvSpPr>
        <p:spPr>
          <a:xfrm>
            <a:off x="5029200" y="5334120"/>
            <a:ext cx="35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 ile sposobów można ustawić X w tych kratkach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rot="17915400">
            <a:off x="4834080" y="4614480"/>
            <a:ext cx="237960" cy="1066680"/>
          </a:xfrm>
          <a:prstGeom prst="upArrow">
            <a:avLst>
              <a:gd name="adj1" fmla="val 50000"/>
              <a:gd name="adj2" fmla="val 112065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Elementy Kombinatoryki   G.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C399-7442-4469-B87F-92997B2BE9E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 grudnia 2001</a:t>
            </a: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Ile ...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78" name=""/>
          <p:cNvSpPr/>
          <p:nvPr/>
        </p:nvSpPr>
        <p:spPr>
          <a:xfrm>
            <a:off x="1371600" y="1523880"/>
            <a:ext cx="6172200" cy="703800"/>
          </a:xfrm>
          <a:prstGeom prst="rect">
            <a:avLst/>
          </a:prstGeom>
          <a:solidFill>
            <a:srgbClr val="e1e7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le różnych relacji binarnych można określić w zbiorze n elementowym  X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326600" y="2362320"/>
            <a:ext cx="628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czywiście tyle ile jest różnych podzbiorów zbioru  X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467480" y="1371600"/>
            <a:ext cx="1295640" cy="990720"/>
          </a:xfrm>
          <a:prstGeom prst="cloudCallout">
            <a:avLst>
              <a:gd name="adj1" fmla="val -109560"/>
              <a:gd name="adj2" fmla="val 15703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tzn 2 </a:t>
            </a:r>
            <a:r>
              <a:rPr b="0" lang="pl-PL" sz="20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000" spc="-1" strike="noStrike" baseline="42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95280" y="3124080"/>
            <a:ext cx="4572000" cy="398880"/>
          </a:xfrm>
          <a:prstGeom prst="rect">
            <a:avLst/>
          </a:prstGeom>
          <a:solidFill>
            <a:srgbClr val="e1e7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ile jest różnych relacji zwrotnych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809880"/>
            <a:ext cx="4343400" cy="398880"/>
          </a:xfrm>
          <a:prstGeom prst="rect">
            <a:avLst/>
          </a:prstGeom>
          <a:solidFill>
            <a:srgbClr val="e1e7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le jest różnych relacji symetrycznych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19320" y="4800600"/>
            <a:ext cx="6019560" cy="703800"/>
          </a:xfrm>
          <a:prstGeom prst="rect">
            <a:avLst/>
          </a:prstGeom>
          <a:solidFill>
            <a:srgbClr val="e1e7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le  różnych relacji równoważności można zdefiniować w zbiorze n elementowym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2743200"/>
            <a:ext cx="1676160" cy="685800"/>
          </a:xfrm>
          <a:prstGeom prst="cloudCallout">
            <a:avLst>
              <a:gd name="adj1" fmla="val -101703"/>
              <a:gd name="adj2" fmla="val 39351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n(n-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523880" y="3657600"/>
            <a:ext cx="1676520" cy="914400"/>
          </a:xfrm>
          <a:prstGeom prst="cloudCallout">
            <a:avLst>
              <a:gd name="adj1" fmla="val 100759"/>
              <a:gd name="adj2" fmla="val -1212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n(n+1)/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96080" y="4648320"/>
            <a:ext cx="6098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95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dcti10"/>
              </a:rPr>
              <a:t>?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dcti10"/>
              <a:ea typeface="dcti10"/>
            </a:endParaRPr>
          </a:p>
        </p:txBody>
      </p:sp>
      <p:sp>
        <p:nvSpPr>
          <p:cNvPr id="187" name="">
            <a:hlinkClick r:id="" action="ppaction://hlinkshowjump?jump=nextslide"/>
          </p:cNvPr>
          <p:cNvSpPr/>
          <p:nvPr/>
        </p:nvSpPr>
        <p:spPr>
          <a:xfrm>
            <a:off x="8153280" y="28195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3794"/>
                </a:moveTo>
                <a:lnTo>
                  <a:pt x="23213" y="10800"/>
                </a:lnTo>
                <a:lnTo>
                  <a:pt x="9200" y="17806"/>
                </a:lnTo>
                <a:close/>
              </a:path>
            </a:pathLst>
          </a:custGeom>
          <a:solidFill>
            <a:srgbClr val="e1e7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>
            <a:hlinkClick r:id="rId1" action="ppaction://hlinksldjump"/>
          </p:cNvPr>
          <p:cNvSpPr/>
          <p:nvPr/>
        </p:nvSpPr>
        <p:spPr>
          <a:xfrm>
            <a:off x="8534520" y="388620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23194" y="10800"/>
                </a:lnTo>
                <a:lnTo>
                  <a:pt x="9181" y="17806"/>
                </a:lnTo>
                <a:close/>
              </a:path>
            </a:pathLst>
          </a:custGeom>
          <a:solidFill>
            <a:srgbClr val="e1e7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rId2" action="ppaction://hlinksldjump"/>
          </p:cNvPr>
          <p:cNvSpPr/>
          <p:nvPr/>
        </p:nvSpPr>
        <p:spPr>
          <a:xfrm>
            <a:off x="8534520" y="53341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3794"/>
                </a:moveTo>
                <a:lnTo>
                  <a:pt x="23213" y="10800"/>
                </a:lnTo>
                <a:lnTo>
                  <a:pt x="9200" y="17806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Elementy Kombinatoryki   G.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DD86-AC7A-4CB4-8EB4-F5247C4DA8C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 grudnia 2001</a:t>
            </a: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Impact"/>
              </a:rPr>
              <a:t>Ilustracja 1</a:t>
            </a:r>
            <a:endParaRPr b="0" lang="en-US" sz="4000" spc="-1" strike="noStrike">
              <a:solidFill>
                <a:srgbClr val="000066"/>
              </a:solidFill>
              <a:latin typeface="Impact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745640" y="1371600"/>
            <a:ext cx="3511800" cy="3206160"/>
            <a:chOff x="1745640" y="1371600"/>
            <a:chExt cx="3511800" cy="3206160"/>
          </a:xfrm>
        </p:grpSpPr>
        <p:sp>
          <p:nvSpPr>
            <p:cNvPr id="192" name=""/>
            <p:cNvSpPr/>
            <p:nvPr/>
          </p:nvSpPr>
          <p:spPr>
            <a:xfrm>
              <a:off x="1752120" y="2256480"/>
              <a:ext cx="2360520" cy="231552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324520" y="2256480"/>
              <a:ext cx="0" cy="231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896920" y="2256480"/>
              <a:ext cx="0" cy="231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468960" y="2256480"/>
              <a:ext cx="0" cy="231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1751760" y="2869560"/>
              <a:ext cx="236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1751760" y="3414600"/>
              <a:ext cx="236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1751760" y="4027320"/>
              <a:ext cx="236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 txBox="1"/>
            <p:nvPr/>
          </p:nvSpPr>
          <p:spPr>
            <a:xfrm rot="5450400">
              <a:off x="2759400" y="768240"/>
              <a:ext cx="340200" cy="2363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319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{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00" name=""/>
            <p:cNvSpPr txBox="1"/>
            <p:nvPr/>
          </p:nvSpPr>
          <p:spPr>
            <a:xfrm rot="10742400">
              <a:off x="4327200" y="2324520"/>
              <a:ext cx="357840" cy="2250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319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{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01" name=""/>
            <p:cNvSpPr txBox="1"/>
            <p:nvPr/>
          </p:nvSpPr>
          <p:spPr>
            <a:xfrm>
              <a:off x="4899960" y="3278160"/>
              <a:ext cx="357480" cy="340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n  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10360" y="2256480"/>
              <a:ext cx="0" cy="231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83120" y="2256480"/>
              <a:ext cx="0" cy="231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26800" y="2256480"/>
              <a:ext cx="0" cy="231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038320" y="2256480"/>
              <a:ext cx="0" cy="231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752120" y="4299840"/>
              <a:ext cx="236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1751760" y="3754800"/>
              <a:ext cx="236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1751760" y="3142080"/>
              <a:ext cx="236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751760" y="2597400"/>
              <a:ext cx="236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752120" y="2324880"/>
              <a:ext cx="286200" cy="272520"/>
            </a:xfrm>
            <a:prstGeom prst="ellipse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038320" y="2597400"/>
              <a:ext cx="286200" cy="272160"/>
            </a:xfrm>
            <a:prstGeom prst="ellipse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324520" y="2869560"/>
              <a:ext cx="285840" cy="272520"/>
            </a:xfrm>
            <a:prstGeom prst="ellipse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610360" y="3142080"/>
              <a:ext cx="286200" cy="272520"/>
            </a:xfrm>
            <a:prstGeom prst="ellipse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896920" y="3482280"/>
              <a:ext cx="286200" cy="272520"/>
            </a:xfrm>
            <a:prstGeom prst="ellipse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83120" y="3754800"/>
              <a:ext cx="285840" cy="272520"/>
            </a:xfrm>
            <a:prstGeom prst="ellipse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468960" y="4027320"/>
              <a:ext cx="286200" cy="272160"/>
            </a:xfrm>
            <a:prstGeom prst="ellipse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826800" y="4299840"/>
              <a:ext cx="285840" cy="272520"/>
            </a:xfrm>
            <a:prstGeom prst="ellipse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 txBox="1"/>
            <p:nvPr/>
          </p:nvSpPr>
          <p:spPr>
            <a:xfrm>
              <a:off x="2825280" y="1371600"/>
              <a:ext cx="214560" cy="340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n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5562720" y="182880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kątna to n pozycj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562720" y="3048120"/>
            <a:ext cx="2819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za przekątną jest zatem (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n) pozycji, które można dowolnie wypełnić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86000" y="4952880"/>
            <a:ext cx="5486400" cy="914400"/>
          </a:xfrm>
          <a:prstGeom prst="wedgeRectCallout">
            <a:avLst>
              <a:gd name="adj1" fmla="val 35763"/>
              <a:gd name="adj2" fmla="val -89412"/>
            </a:avLst>
          </a:prstGeom>
          <a:solidFill>
            <a:srgbClr val="e1e7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óżnych wypełnień jest tyle ile różnych podzbiorów zbioru (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n)-elementowe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>
            <a:hlinkClick r:id="" action="ppaction://hlinkshowjump?jump=previousslide"/>
          </p:cNvPr>
          <p:cNvSpPr/>
          <p:nvPr/>
        </p:nvSpPr>
        <p:spPr>
          <a:xfrm>
            <a:off x="8381880" y="51055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  <a:path fill="darken" w="21600" h="25186">
                <a:moveTo>
                  <a:pt x="3794" y="9286"/>
                </a:moveTo>
                <a:lnTo>
                  <a:pt x="7301" y="9286"/>
                </a:lnTo>
                <a:lnTo>
                  <a:pt x="7301" y="14621"/>
                </a:lnTo>
                <a:cubicBezTo>
                  <a:pt x="7301" y="15543"/>
                  <a:pt x="8102" y="16275"/>
                  <a:pt x="9138" y="16275"/>
                </a:cubicBezTo>
                <a:lnTo>
                  <a:pt x="10800" y="16275"/>
                </a:lnTo>
                <a:cubicBezTo>
                  <a:pt x="11836" y="16275"/>
                  <a:pt x="12636" y="15543"/>
                  <a:pt x="12636" y="14621"/>
                </a:cubicBezTo>
                <a:lnTo>
                  <a:pt x="12636" y="9286"/>
                </a:lnTo>
                <a:lnTo>
                  <a:pt x="10800" y="9286"/>
                </a:lnTo>
                <a:lnTo>
                  <a:pt x="14308" y="5778"/>
                </a:lnTo>
                <a:lnTo>
                  <a:pt x="17981" y="9286"/>
                </a:lnTo>
                <a:lnTo>
                  <a:pt x="16144" y="9286"/>
                </a:lnTo>
                <a:lnTo>
                  <a:pt x="16144" y="14621"/>
                </a:lnTo>
                <a:cubicBezTo>
                  <a:pt x="16144" y="17389"/>
                  <a:pt x="13568" y="19948"/>
                  <a:pt x="10800" y="19948"/>
                </a:cubicBezTo>
                <a:lnTo>
                  <a:pt x="9138" y="19948"/>
                </a:lnTo>
                <a:cubicBezTo>
                  <a:pt x="6370" y="19948"/>
                  <a:pt x="3794" y="17389"/>
                  <a:pt x="3794" y="14621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Elementy Kombinatoryki   G.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3732-82D7-4B6F-9350-443B2B14B07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 grudnia 2001</a:t>
            </a: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Impact"/>
              </a:rPr>
              <a:t>Ilustracja 2</a:t>
            </a:r>
            <a:endParaRPr b="0" lang="en-US" sz="4000" spc="-1" strike="noStrike">
              <a:solidFill>
                <a:srgbClr val="000066"/>
              </a:solidFill>
              <a:latin typeface="Impact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1745640" y="1371600"/>
            <a:ext cx="3512160" cy="3228840"/>
            <a:chOff x="1745640" y="1371600"/>
            <a:chExt cx="3512160" cy="3228840"/>
          </a:xfrm>
        </p:grpSpPr>
        <p:sp>
          <p:nvSpPr>
            <p:cNvPr id="225" name=""/>
            <p:cNvSpPr/>
            <p:nvPr/>
          </p:nvSpPr>
          <p:spPr>
            <a:xfrm>
              <a:off x="1752480" y="2286000"/>
              <a:ext cx="2360880" cy="23144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362320" y="2286000"/>
              <a:ext cx="0" cy="231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971800" y="2286000"/>
              <a:ext cx="0" cy="231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581280" y="2286000"/>
              <a:ext cx="0" cy="231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1752480" y="2895480"/>
              <a:ext cx="236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1752480" y="3505320"/>
              <a:ext cx="236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1752480" y="4027320"/>
              <a:ext cx="236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 txBox="1"/>
            <p:nvPr/>
          </p:nvSpPr>
          <p:spPr>
            <a:xfrm rot="5450400">
              <a:off x="2759040" y="767880"/>
              <a:ext cx="341280" cy="2363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319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{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33" name=""/>
            <p:cNvSpPr txBox="1"/>
            <p:nvPr/>
          </p:nvSpPr>
          <p:spPr>
            <a:xfrm rot="10742400">
              <a:off x="4327200" y="2324880"/>
              <a:ext cx="357120" cy="2249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319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{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34" name=""/>
            <p:cNvSpPr txBox="1"/>
            <p:nvPr/>
          </p:nvSpPr>
          <p:spPr>
            <a:xfrm>
              <a:off x="4900680" y="3278160"/>
              <a:ext cx="357120" cy="341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n  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66880" y="2286000"/>
              <a:ext cx="0" cy="231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276720" y="2286000"/>
              <a:ext cx="0" cy="231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86200" y="2286000"/>
              <a:ext cx="0" cy="231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057400" y="2286000"/>
              <a:ext cx="0" cy="231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752480" y="4343400"/>
              <a:ext cx="236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1752480" y="3754440"/>
              <a:ext cx="236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1752480" y="3200400"/>
              <a:ext cx="236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1752480" y="2590920"/>
              <a:ext cx="236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 txBox="1"/>
            <p:nvPr/>
          </p:nvSpPr>
          <p:spPr>
            <a:xfrm>
              <a:off x="2825640" y="1371600"/>
              <a:ext cx="214560" cy="33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n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828800" y="26668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133720" y="3276720"/>
              <a:ext cx="228600" cy="228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752480" y="40384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657600" y="38098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438280" y="4343400"/>
              <a:ext cx="228600" cy="228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743200" y="4343400"/>
              <a:ext cx="228600" cy="228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48120" y="4343400"/>
              <a:ext cx="228600" cy="228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362320" y="3505320"/>
              <a:ext cx="228600" cy="228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3720" y="26668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2133720" y="23623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666880" y="266688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971800" y="289548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276720" y="403848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86200" y="35053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886200" y="32004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289548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581280" y="2286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486400" y="1676520"/>
            <a:ext cx="3124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y utworzyć relację symetryczną wystarczy  wypełnić dowolnie pewne kratki poniżej i na przekątnej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76520" y="480060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stępnie wypełnić kratki symetrycznie względem głównej przekątnej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486400" y="4267080"/>
            <a:ext cx="3352680" cy="1600200"/>
          </a:xfrm>
          <a:prstGeom prst="wedgeRoundRectCallout">
            <a:avLst>
              <a:gd name="adj1" fmla="val 17189"/>
              <a:gd name="adj2" fmla="val -115375"/>
              <a:gd name="adj3" fmla="val 16667"/>
            </a:avLst>
          </a:prstGeom>
          <a:solidFill>
            <a:srgbClr val="e1e7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ich wypełnień jest tyle ile możliwych podzbiorów zbioru n(n+1)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>
            <a:hlinkClick r:id="" action="ppaction://hlinkshowjump?jump=previousslide"/>
          </p:cNvPr>
          <p:cNvSpPr/>
          <p:nvPr/>
        </p:nvSpPr>
        <p:spPr>
          <a:xfrm>
            <a:off x="8534520" y="34290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e1e7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Elementy Kombinatoryki   G.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42C9-00B0-4ABC-B3CD-91FBF538380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 grudnia 2001</a:t>
            </a: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Impact"/>
              </a:rPr>
              <a:t>Podziały zbioru</a:t>
            </a:r>
            <a:endParaRPr b="0" lang="en-US" sz="40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66" name=""/>
          <p:cNvSpPr/>
          <p:nvPr/>
        </p:nvSpPr>
        <p:spPr>
          <a:xfrm>
            <a:off x="1523880" y="1447920"/>
            <a:ext cx="6400800" cy="1597680"/>
          </a:xfrm>
          <a:prstGeom prst="rect">
            <a:avLst/>
          </a:prstGeom>
          <a:solidFill>
            <a:srgbClr val="e1e7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działem n-elementowego zbioru  X na k podzbiorów nazywamy rodzinę zbiorów {X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...,X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} taką, ż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1) X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dla i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j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(2) X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...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371600" y="4419720"/>
            <a:ext cx="37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ażdy podział zbioru X wyznacza pewną relację równoważnośc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1295280" y="2971800"/>
            <a:ext cx="7363080" cy="1219320"/>
            <a:chOff x="1295280" y="2971800"/>
            <a:chExt cx="7363080" cy="1219320"/>
          </a:xfrm>
        </p:grpSpPr>
        <p:sp>
          <p:nvSpPr>
            <p:cNvPr id="269" name=""/>
            <p:cNvSpPr txBox="1"/>
            <p:nvPr/>
          </p:nvSpPr>
          <p:spPr>
            <a:xfrm>
              <a:off x="1295280" y="3124080"/>
              <a:ext cx="135252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odział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70" name=""/>
            <p:cNvSpPr txBox="1"/>
            <p:nvPr/>
          </p:nvSpPr>
          <p:spPr>
            <a:xfrm>
              <a:off x="4343400" y="3124080"/>
              <a:ext cx="431496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relacja równoważności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2666880" y="3809880"/>
              <a:ext cx="1905120" cy="381240"/>
            </a:xfrm>
            <a:custGeom>
              <a:avLst/>
              <a:gdLst>
                <a:gd name="textAreaLeft" fmla="*/ 333720 w 1905120"/>
                <a:gd name="textAreaRight" fmla="*/ 1381680 w 1905120"/>
                <a:gd name="textAreaTop" fmla="*/ 51120 h 381240"/>
                <a:gd name="textAreaBottom" fmla="*/ 33012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971800" y="2971800"/>
              <a:ext cx="1371600" cy="304920"/>
            </a:xfrm>
            <a:custGeom>
              <a:avLst/>
              <a:gdLst>
                <a:gd name="textAreaLeft" fmla="*/ 239760 w 1371600"/>
                <a:gd name="textAreaRight" fmla="*/ 994320 w 1371600"/>
                <a:gd name="textAreaTop" fmla="*/ 40680 h 304920"/>
                <a:gd name="textAreaBottom" fmla="*/ 26424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5410080" y="4191120"/>
            <a:ext cx="34290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ażda relacja równoważności wyznacza podział, którego elementami są klasy abstrakcji tej relacj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371600" y="5257800"/>
            <a:ext cx="3429000" cy="510120"/>
          </a:xfrm>
          <a:prstGeom prst="rect">
            <a:avLst/>
          </a:prstGeom>
          <a:solidFill>
            <a:srgbClr val="e1e7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y wttw (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) x,y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Elementy Kombinatoryki   G.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8579-27E3-4425-BFA1-E0E88147D93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 grudnia 2001</a:t>
            </a: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66"/>
                </a:solidFill>
                <a:latin typeface="Impact"/>
              </a:rPr>
              <a:t>Liczby Stirlinga 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76" name=""/>
          <p:cNvSpPr/>
          <p:nvPr/>
        </p:nvSpPr>
        <p:spPr>
          <a:xfrm>
            <a:off x="1295280" y="1447920"/>
            <a:ext cx="6629400" cy="703800"/>
          </a:xfrm>
          <a:prstGeom prst="rect">
            <a:avLst/>
          </a:prstGeom>
          <a:solidFill>
            <a:srgbClr val="e1e7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Liczbą Stirlinga (drugiego rodzaju) S(n,k) nazywamy liczbę podziałów zbioru n-elementowego na k części (bloków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295280" y="243828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my : S(n,k)= 0, gdy k&gt;n   S(n,n)=1  S(n,1) = 1, S(n,0) = 0 dla n&gt;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371600" y="3048120"/>
            <a:ext cx="36576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rzykła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Zbiór {1,2,3} ma trzy możliwe podziały na 2 blok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1}, {2,3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2}, {1,3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3}, {1,2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029200" y="3124080"/>
            <a:ext cx="3352680" cy="1008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szystkie podziały zbioru n elementowego na k części można podzielić na dwa typ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743200" y="4495680"/>
            <a:ext cx="2514600" cy="1008720"/>
          </a:xfrm>
          <a:prstGeom prst="rect">
            <a:avLst/>
          </a:prstGeom>
          <a:solidFill>
            <a:srgbClr val="e1e7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działy, które zawierają blok jedno-elementowy {n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095880" y="4572000"/>
            <a:ext cx="2590920" cy="1008720"/>
          </a:xfrm>
          <a:prstGeom prst="rect">
            <a:avLst/>
          </a:prstGeom>
          <a:solidFill>
            <a:srgbClr val="e1e7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działy, w których n występuje w większych bloka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rot="2458800">
            <a:off x="5028840" y="4191120"/>
            <a:ext cx="304920" cy="533160"/>
          </a:xfrm>
          <a:prstGeom prst="downArrow">
            <a:avLst>
              <a:gd name="adj1" fmla="val 50000"/>
              <a:gd name="adj2" fmla="val 43713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rot="18579000">
            <a:off x="7124760" y="422856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048120" y="5715000"/>
            <a:ext cx="2361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S(n-1,k-1)  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5867280" y="5715000"/>
            <a:ext cx="256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k* S(n-1,k)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1066680" y="5638680"/>
            <a:ext cx="1828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S(n,k) = 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5257800" y="5638680"/>
            <a:ext cx="4366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+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Elementy Kombinatoryki   G.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DB23-5C7D-4CB5-8B81-49C9E1F6CDC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7 grudnia 2001</a:t>
            </a: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1T16:02:13Z</dcterms:created>
  <dc:creator>andrzej</dc:creator>
  <dc:description/>
  <dc:language>en-US</dc:language>
  <cp:lastModifiedBy>Jacek Kaliński</cp:lastModifiedBy>
  <dcterms:modified xsi:type="dcterms:W3CDTF">2002-05-29T19:03:26Z</dcterms:modified>
  <cp:revision>112</cp:revision>
  <dc:subject/>
  <dc:title>Wykład 4</dc:title>
</cp:coreProperties>
</file>