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E8E-1D8E-457C-86D4-DB0487F1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0F8-1752-4D4F-804B-70A096E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B73-CFD3-4558-A0D1-2A4E3C6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613-8C0E-45DF-B805-1C6FBE4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BDC-491F-4AF0-88E2-844CCE2F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1FEB-6E5D-4225-844C-9643EF0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D4D-F098-46D2-908A-8933CE3C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288C-61F4-4AF3-AA70-5EA884F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21F1-74C4-42FC-8579-C413083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BE00-DE1F-4138-A64C-C81F117F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4149-4838-40BE-9E94-050E66D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8D1-E2B8-4BD0-89A8-2A1EA0C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7C42-8505-4614-9B05-2544209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7C1E-6E34-4B90-A21B-EBC5B95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B93-2B1D-4BC8-B197-722CA34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D647-2652-4CB1-A43D-BDD23A0C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DBFD-8081-4654-B1F0-24BEB0B3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D96-5C17-4DBF-93AF-7F1A9FA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EB1-571C-47F0-9821-E6FF9D7D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9C1-FA8F-434A-B030-1A8D05D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1E5-9D5D-40C9-873C-A737996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4BB-C4E3-4479-AB70-7BCC3FBF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311-0ABB-41AC-A011-3674AF65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4A0-BA28-413E-BDD7-04A7B15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1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826-6974-4D4C-9789-CCB6DB40246D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914400"/>
            <a:ext cx="8596440" cy="33012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9144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9144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9144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28600" y="0"/>
            <a:ext cx="849240" cy="6858000"/>
            <a:chOff x="22860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20700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20628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20556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20628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20556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20556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32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60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8153280" y="617220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1A57-0D3E-4CF5-98BD-F3753E546974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ykład 15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Elementy  Rachunku  Prawdopodobieństwa c.d.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745B-6DD4-4476-99AB-930C08D44A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12952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zmienną losową o rozkładzie zero-jedynk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895480"/>
            <a:ext cx="693432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tedy   EX = p oraz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VX =  E((X- EX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(1-p)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 +(0-p)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p) =  p(1-p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1752480"/>
                <a:ext cx="41911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{"/>
                            <m:endChr m:val=""/>
                          </m:dPr>
                        </m:d>
                      </m:e>
                      <m:sub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awdo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awdo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600200" y="5410080"/>
            <a:ext cx="6172200" cy="703800"/>
          </a:xfrm>
          <a:prstGeom prst="rect">
            <a:avLst/>
          </a:prstGeom>
          <a:solidFill>
            <a:srgbClr val="cccc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Liczbę  sqrt( VX) nazywamy odchyleniem standardowym zmiennej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3809880"/>
            <a:ext cx="7391520" cy="131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egzaminie jest 30 zadań i za każde można dostać 1 punkt o ile poprawnie odpowie się na 3 wykluczające się pytania. Jaka jest wartość oczekiwana zmiennej losowej opisującej wynik egzaminu i jaka jest wariancja tej zmienn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2A9-6222-4D23-9C31-944ED66BA9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łasności wariancji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5334120"/>
            <a:ext cx="571500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nios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zmienne X i Y są niezależne, to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(X-Y) = V(X+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371600"/>
            <a:ext cx="6629400" cy="1313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V(c) = 0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V(cX) = c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V(X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V(X + Y) = V(X) + V(Y) o ile X i Y są niezależ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743200"/>
            <a:ext cx="746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ó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(X+Y) = E((X+Y - E(X+Y)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= E((X-EX + Y-EY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((X-E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2(X-EX)(Y-EY) + (Y-EY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((X-E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 + E(2(X-EX)(Y-EY)) + E((Y-EY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V(X) + V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 X i Y są niezależne więc również (X-c) i (Y-c) są zmiennymi niezależ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19920" y="4343400"/>
            <a:ext cx="2590560" cy="533520"/>
          </a:xfrm>
          <a:prstGeom prst="wedgeRoundRectCallout">
            <a:avLst>
              <a:gd name="adj1" fmla="val -121324"/>
              <a:gd name="adj2" fmla="val -12172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(2(X-EX)(Y-EY))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8320" y="4495680"/>
            <a:ext cx="914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tąd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1A5-2B35-460A-9AE7-B39127FAFC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Schemat Bernoulliego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1371600"/>
            <a:ext cx="7620120" cy="177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D będzie pewnym doświadczeniem, w wyniku którego moż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jść zdarzenie A lub zdarzenie A’(przeciw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ładamy, że doświadczenie D może być wielokrotnie powtarzane oraz P(A) =p niezależnie od tego ile razy wykonujemy to doświadcze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048120"/>
            <a:ext cx="5257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 n-krotnie wykonanych doświadczeń D,  D1,.... Dn nazywa się schematem Bernoull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4197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element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4495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4956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ąg n-elementowy o wyrazach A lub 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44956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3886200"/>
            <a:ext cx="1371600" cy="457200"/>
          </a:xfrm>
          <a:prstGeom prst="wedgeRoundRectCallout">
            <a:avLst>
              <a:gd name="adj1" fmla="val 86342"/>
              <a:gd name="adj2" fmla="val 170833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k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3886200"/>
            <a:ext cx="1371600" cy="457200"/>
          </a:xfrm>
          <a:prstGeom prst="wedgeRoundRectCallout">
            <a:avLst>
              <a:gd name="adj1" fmla="val -63078"/>
              <a:gd name="adj2" fmla="val 19340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aż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5410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n,k,p) = (n nad k) p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-p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5029200"/>
            <a:ext cx="1981080" cy="685800"/>
          </a:xfrm>
          <a:prstGeom prst="wedgeRoundRectCallout">
            <a:avLst>
              <a:gd name="adj1" fmla="val -115703"/>
              <a:gd name="adj2" fmla="val 4166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zór Bernoull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0AF-6A95-4AF9-8D21-D7B137A8D8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.d. Rozkład dwumianow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kładem dwumianowym nazywamy rozkład prawdopodobieństwa określony  wzor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k) = (n nad k) p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-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-k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k=0,1,...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 = 0 dla  pozostałyc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7057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a jest wartość oczekiwana zmiennej losowej  X o rozkładzie dwumianowym z parametrami n i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3352680"/>
            <a:ext cx="67057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(X) = n*p  oraz V(X) = n*p*(1-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4267080"/>
            <a:ext cx="7010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miast badać zmienną X rozważmy zmienną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aką, ż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kces w i-tym doświadczeniu)=1 i 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rażka)=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4952880"/>
            <a:ext cx="4724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y  P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 =p   P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)=1-p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yli 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p  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p, V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p(1-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5000" y="4952880"/>
            <a:ext cx="68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95280" y="373392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ód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334120"/>
            <a:ext cx="2361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=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...+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1520" y="4114800"/>
            <a:ext cx="1371600" cy="990720"/>
          </a:xfrm>
          <a:prstGeom prst="wedgeRoundRectCallout">
            <a:avLst>
              <a:gd name="adj1" fmla="val -46180"/>
              <a:gd name="adj2" fmla="val 83972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mien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zależ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5791320"/>
            <a:ext cx="571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tem E(X)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np    V(X)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V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 np(1-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B90-7D76-49FF-B1E2-E4B1B2A15B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ozkład geometryczn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129528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kładem geometrycznym nazywamy funkcję określoną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k) = P(X=k) = p (1-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2362320"/>
            <a:ext cx="2667240" cy="838080"/>
          </a:xfrm>
          <a:prstGeom prst="wedgeRoundRectCallout">
            <a:avLst>
              <a:gd name="adj1" fmla="val 64939"/>
              <a:gd name="adj2" fmla="val -85606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mienna X wyraża cz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zekiwania na suk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tość oczekiwana zmiennej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2286000"/>
            <a:ext cx="3962520" cy="703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mienna X przyjmuje jako wartości wszystkie liczby natural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38480" y="3200400"/>
                <a:ext cx="3962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flipV="1">
            <a:off x="2819520" y="373356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19112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iech P(żarówka przepali się w ciągu 1godziny)=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q jest małe to możemy założyć, że zdarzenia „żarówka przepali się w ciągu k tej godziny” są niezależne. Wt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54100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żarówka przepali się w ciągu k-tej godziny) = (1-q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791320"/>
            <a:ext cx="7467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dziewany czas oczekiwania na przepalenie się żarówki wynosi 1/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921200">
            <a:off x="7695720" y="5409720"/>
            <a:ext cx="762120" cy="304920"/>
          </a:xfrm>
          <a:custGeom>
            <a:avLst/>
            <a:gdLst>
              <a:gd name="textAreaLeft" fmla="*/ 133200 w 762120"/>
              <a:gd name="textAreaRight" fmla="*/ 552600 w 7621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AAA-C8D4-401A-9B9B-830A63ED1E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Zastosowani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13372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ustalenia liczby ryb w jeziorze odławiamy pewną liczbę ryb, np. 1000sztuk. Złapane ryby znakujemy i wpuszczamy je do jeziora. Po upływie pewnego czasu dokonujemy odłowu uzyskując np.: 1200 ryb wśród których było 25 znakow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13000" y="3657600"/>
                <a:ext cx="212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 txBox="1"/>
          <p:nvPr/>
        </p:nvSpPr>
        <p:spPr>
          <a:xfrm>
            <a:off x="1981080" y="1295280"/>
            <a:ext cx="4067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le jest ryb w jeziorze?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3505320"/>
            <a:ext cx="5334120" cy="1923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 liczba ryb = liczba kul w urn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 ryby znakowane = kule biał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 ryby nieznakowane = kule czarn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 ryby odłowione = liczba losowań zależn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 wyłowione znakowane =wylosowane biał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 wyłowione nieznakowane = wylosowane cz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4952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548640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opodobieństwo wylosowania b kul białych i c kul czarnych w n losowa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F61-55B9-43A6-8212-15C2DB590C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Cd. ryb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1295280"/>
            <a:ext cx="7391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y na podstawie tych danych empirycznych  oszacować liczbę ryb w jeziorze zastosujemy zasadę największej wiarygodności, polegającej na wyznaczeniu takiej liczby N, aby prawdopodobieństwo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iało wartość największ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600" y="2666880"/>
            <a:ext cx="1800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iczymy :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419720"/>
            <a:ext cx="3810240" cy="9460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gt;1  dla N&lt;B*n/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1 dla N&gt; B*n/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523880" y="3276720"/>
                <a:ext cx="6477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 txBox="1"/>
          <p:nvPr/>
        </p:nvSpPr>
        <p:spPr>
          <a:xfrm>
            <a:off x="4800600" y="4724280"/>
            <a:ext cx="809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tąd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4572000"/>
            <a:ext cx="2743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siąga największą wartość dla N = [Bn/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43000" y="556272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ajbardziej wiarygodna liczba ryb w jeziorze = 48000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D21-55AF-491F-BD86-3330D32DF5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1371600"/>
            <a:ext cx="65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ny jest ciąg rosnący 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oraz  element x,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a,b]. Rozważmy algory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2133720"/>
            <a:ext cx="3886200" cy="26586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f x&lt;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hen i :=0 els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f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hen i:= n els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i := 1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while x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:= i+1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od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562720" y="2133720"/>
            <a:ext cx="3200400" cy="1084680"/>
            <a:chOff x="5562720" y="2133720"/>
            <a:chExt cx="3200400" cy="1084680"/>
          </a:xfrm>
        </p:grpSpPr>
        <p:sp>
          <p:nvSpPr>
            <p:cNvPr id="285" name=""/>
            <p:cNvSpPr/>
            <p:nvPr/>
          </p:nvSpPr>
          <p:spPr>
            <a:xfrm>
              <a:off x="5562720" y="2133720"/>
              <a:ext cx="3200400" cy="440640"/>
            </a:xfrm>
            <a:prstGeom prst="rect">
              <a:avLst/>
            </a:prstGeom>
            <a:solidFill>
              <a:srgbClr val="e1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a=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..., 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e 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=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6324120" y="251460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5720" y="2819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5486400" y="3048120"/>
            <a:ext cx="3124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lgorytm wyszukuje takie i, że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&lt;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+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95280" y="4724280"/>
            <a:ext cx="6705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le porównań wykona średnio ten algorytm?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3962520"/>
            <a:ext cx="4267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(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(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/(b-a)=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oz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486400"/>
            <a:ext cx="685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X = 1*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2*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=1...(n-1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2+i) 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37C-D726-4ED1-8EF7-8D041D9DD5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zkic wykładu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5867280" cy="1904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Własności wartości oczekiwanej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Wariancja zmiennej losowej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Własności wariancji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Odchylenie standardow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52320" y="3200400"/>
            <a:ext cx="5334120" cy="1828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Rozkład  dwumianowy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Rozkład geometryczny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Zastosowani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1F5-15C4-4252-962B-14D323EB1261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artość oczekiwan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371600"/>
            <a:ext cx="7162920" cy="14061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kończona przestrzeń zdarzeń elementarnych, X zmienna losowa określona 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Wartością oczekiwaną zmiennej X nazywamy liczb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(w)* P({w}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895480"/>
            <a:ext cx="586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wszystkie zdarzenia elementarne są jednakowo prawdopodobne, to P({w}) = 1/card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czyl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124080" y="3657600"/>
                <a:ext cx="2133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295280" y="4876920"/>
            <a:ext cx="754380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zucamy  jedną kostką do gry. Liczba wyrzuconych oczek X jest zmienną losową o wartościach 1,2,3,4,5,6 i ma rozkład jednostajny P(X=i)=1/6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E(X)= (1+2+...6)/6 = 3.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E86-39AB-4E87-9393-DBF404C39C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artość oczekiwana zmiennej dyskretnej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371600"/>
            <a:ext cx="6781680" cy="156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będzie zmienną losową   dyskretną określoną w pewnej przestrzeni zdarzeń elementarny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 Wted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X)  =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438280"/>
            <a:ext cx="3352680" cy="990720"/>
          </a:xfrm>
          <a:prstGeom prst="wedgeRoundRectCallout">
            <a:avLst>
              <a:gd name="adj1" fmla="val 55300"/>
              <a:gd name="adj2" fmla="val -60898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mienna X przyjmuje tylk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kończoną liczbę wart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514600"/>
            <a:ext cx="3657600" cy="838080"/>
          </a:xfrm>
          <a:prstGeom prst="wedgeRoundRectCallout">
            <a:avLst>
              <a:gd name="adj1" fmla="val -35935"/>
              <a:gd name="adj2" fmla="val -68180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 suma ma tylko skończo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czbę składników różnych od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334120"/>
            <a:ext cx="7238880" cy="8888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statecz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X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(w)*P({w})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(w)= 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P({w})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*P(X=x)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76520" y="3733920"/>
            <a:ext cx="6476760" cy="1294920"/>
            <a:chOff x="1676520" y="3733920"/>
            <a:chExt cx="6476760" cy="1294920"/>
          </a:xfrm>
        </p:grpSpPr>
        <p:grpSp>
          <p:nvGrpSpPr>
            <p:cNvPr id="147" name=""/>
            <p:cNvGrpSpPr/>
            <p:nvPr/>
          </p:nvGrpSpPr>
          <p:grpSpPr>
            <a:xfrm>
              <a:off x="1676520" y="3733920"/>
              <a:ext cx="6476760" cy="485640"/>
              <a:chOff x="1676520" y="3733920"/>
              <a:chExt cx="6476760" cy="485640"/>
            </a:xfrm>
          </p:grpSpPr>
          <p:sp>
            <p:nvSpPr>
              <p:cNvPr id="148" name=""/>
              <p:cNvSpPr/>
              <p:nvPr/>
            </p:nvSpPr>
            <p:spPr>
              <a:xfrm>
                <a:off x="1676520" y="3733920"/>
                <a:ext cx="6476760" cy="485640"/>
              </a:xfrm>
              <a:prstGeom prst="rect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76520" y="3733920"/>
                <a:ext cx="1980720" cy="485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(w)=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57240" y="3733920"/>
                <a:ext cx="1981080" cy="48564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(w)=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71840" y="3733920"/>
                <a:ext cx="1981080" cy="485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X(w)=x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676520" y="4543200"/>
              <a:ext cx="2819160" cy="485640"/>
            </a:xfrm>
            <a:prstGeom prst="wedgeRoundRectCallout">
              <a:avLst>
                <a:gd name="adj1" fmla="val -15314"/>
                <a:gd name="adj2" fmla="val -107175"/>
                <a:gd name="adj3" fmla="val 16667"/>
              </a:avLst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{w}) = P(X=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8840" y="4543200"/>
              <a:ext cx="2819160" cy="485640"/>
            </a:xfrm>
            <a:prstGeom prst="wedgeRoundRectCallout">
              <a:avLst>
                <a:gd name="adj1" fmla="val -61319"/>
                <a:gd name="adj2" fmla="val -124305"/>
                <a:gd name="adj3" fmla="val 16667"/>
              </a:avLst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{w}) = P(X=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 rot="5400000">
            <a:off x="339120" y="4384800"/>
            <a:ext cx="194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owód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5AC-387F-4F25-A1D4-967DB8875B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581280"/>
            <a:ext cx="7391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enna losowa przypisująca losowi wygraną ma rozkład prawdopodobieństwa f :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f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P(X=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n ,  f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P(X=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n  ... f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P(X=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n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6483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tość oczekiwana zmiennej X , EX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...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)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...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5029200"/>
            <a:ext cx="1676520" cy="1066680"/>
          </a:xfrm>
          <a:prstGeom prst="flowChartPunchedTap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os = EX z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7600" y="5459400"/>
            <a:ext cx="16866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ysk = n *E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5181480"/>
            <a:ext cx="2286000" cy="745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a wygranych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=1...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9320" y="1295280"/>
            <a:ext cx="7391160" cy="2286000"/>
            <a:chOff x="1219320" y="1295280"/>
            <a:chExt cx="7391160" cy="2286000"/>
          </a:xfrm>
        </p:grpSpPr>
        <p:sp>
          <p:nvSpPr>
            <p:cNvPr id="162" name=""/>
            <p:cNvSpPr/>
            <p:nvPr/>
          </p:nvSpPr>
          <p:spPr>
            <a:xfrm>
              <a:off x="1219320" y="1295280"/>
              <a:ext cx="7391160" cy="2286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1295280"/>
              <a:ext cx="72392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 pewnej loterii sprzedaje się n losów, z których n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wygrywa sumę x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zł., n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- wygrywa x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zł., ...n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losów wygrywa x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z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1981080"/>
              <a:ext cx="6705720" cy="703800"/>
            </a:xfrm>
            <a:prstGeom prst="rect">
              <a:avLst/>
            </a:prstGeom>
            <a:solidFill>
              <a:srgbClr val="e1e7e4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terię nazywamy sprawiedliwą, jeśli suma wygranych jest równa ilości pieniędzy uzyskanych ze sprzedaży biletów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2971800"/>
              <a:ext cx="73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ka powinna być cena jednego losu, żeby loteria była sprawiedliw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638680" y="5105520"/>
            <a:ext cx="990720" cy="380880"/>
          </a:xfrm>
          <a:custGeom>
            <a:avLst/>
            <a:gdLst>
              <a:gd name="textAreaLeft" fmla="*/ 173160 w 990720"/>
              <a:gd name="textAreaRight" fmla="*/ 718200 w 9907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681200">
            <a:off x="2894040" y="5791320"/>
            <a:ext cx="914400" cy="380880"/>
          </a:xfrm>
          <a:custGeom>
            <a:avLst/>
            <a:gdLst>
              <a:gd name="textAreaLeft" fmla="*/ 159840 w 914400"/>
              <a:gd name="textAreaRight" fmla="*/ 663120 w 914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2B2-2D09-4D88-8B93-CC7C2B7F53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447920"/>
            <a:ext cx="716256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progra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:= 0; p := false;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 = fals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.= x+1; p := random({true,false})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562720"/>
            <a:ext cx="335304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   P(X=k)= 1/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80880"/>
            <a:ext cx="2895480" cy="1067040"/>
          </a:xfrm>
          <a:prstGeom prst="wedgeRoundRectCallout">
            <a:avLst>
              <a:gd name="adj1" fmla="val -33166"/>
              <a:gd name="adj2" fmla="val 9806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ch prawdopodobieństw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yboru obu wart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np rzucamy monet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5562720"/>
            <a:ext cx="3962160" cy="491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    E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7432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oznacza zmienną losową taką, że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= i, jeśli progra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trzymuje się po i-krokach (tzn. w której iteracji po raz pierwszy wypadło ‘true’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28800" y="3809880"/>
            <a:ext cx="5867280" cy="13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ki jest   średni czas oczekiwania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a zatrzymanie się tego programu?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6E7-11B7-4D2A-9649-38E1945362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1523880"/>
            <a:ext cx="6629400" cy="1923120"/>
            <a:chOff x="1143000" y="1523880"/>
            <a:chExt cx="6629400" cy="1923120"/>
          </a:xfrm>
        </p:grpSpPr>
        <p:sp>
          <p:nvSpPr>
            <p:cNvPr id="177" name=""/>
            <p:cNvSpPr/>
            <p:nvPr/>
          </p:nvSpPr>
          <p:spPr>
            <a:xfrm>
              <a:off x="1143000" y="304812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biletów po 1,20z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97180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 bilety po 2,40 z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1080" y="158760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19320" y="171468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57560" y="184140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95440" y="196848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2240" y="209556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,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8040" y="152388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55920" y="1650960"/>
              <a:ext cx="96552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4160" y="177804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32400" y="190512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8200" y="152388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56440" y="165096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880" y="177804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31120" y="1905120"/>
              <a:ext cx="965160" cy="88884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69000" y="203184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7240" y="2158920"/>
              <a:ext cx="965160" cy="889200"/>
            </a:xfrm>
            <a:prstGeom prst="flowChartInputOutpu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477120" y="312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biletów po 4,80 z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657600"/>
            <a:ext cx="71625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tramwaju zgasło światło i pasażer skasował losowo wyciągnięty bilet. Jaka jest wartość oczekiwana jego opłaty za przejaz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572000"/>
            <a:ext cx="4648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kład prawdopodobieństwa 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1,20)= 5/15 f(2,40)= 4/15 f(4,80)= 6/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23880" y="4572000"/>
            <a:ext cx="2590920" cy="1008720"/>
            <a:chOff x="1523880" y="4572000"/>
            <a:chExt cx="2590920" cy="1008720"/>
          </a:xfrm>
        </p:grpSpPr>
        <p:sp>
          <p:nvSpPr>
            <p:cNvPr id="198" name=""/>
            <p:cNvSpPr/>
            <p:nvPr/>
          </p:nvSpPr>
          <p:spPr>
            <a:xfrm>
              <a:off x="1523880" y="4648320"/>
              <a:ext cx="762120" cy="838080"/>
            </a:xfrm>
            <a:prstGeom prst="foldedCorner">
              <a:avLst>
                <a:gd name="adj" fmla="val 50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2320" y="4572000"/>
              <a:ext cx="990360" cy="304920"/>
            </a:xfrm>
            <a:custGeom>
              <a:avLst/>
              <a:gdLst>
                <a:gd name="textAreaLeft" fmla="*/ 171360 w 990360"/>
                <a:gd name="textAreaRight" fmla="*/ 726840 w 99036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484" hR="21600" stAng="10800000" swAng="5400000"/>
                  <a:lnTo>
                    <a:pt x="12108" y="0"/>
                  </a:lnTo>
                  <a:arcTo wR="7484" hR="21600" stAng="-5400000" swAng="2665272"/>
                  <a:lnTo>
                    <a:pt x="21172" y="14400"/>
                  </a:lnTo>
                  <a:lnTo>
                    <a:pt x="17280" y="21600"/>
                  </a:lnTo>
                  <a:lnTo>
                    <a:pt x="12532" y="14400"/>
                  </a:lnTo>
                  <a:lnTo>
                    <a:pt x="14540" y="14400"/>
                  </a:lnTo>
                  <a:arcTo wR="7484" hR="21600" stAng="-2734728" swAng="-2280003"/>
                  <a:lnTo>
                    <a:pt x="9796" y="1057"/>
                  </a:lnTo>
                  <a:arcTo wR="7484" hR="21600" stAng="-5785269" swAng="-5014731"/>
                  <a:close/>
                </a:path>
                <a:path fill="darkenLess" w="21600" h="21600">
                  <a:moveTo>
                    <a:pt x="0" y="21600"/>
                  </a:moveTo>
                  <a:arcTo wR="7484" hR="21600" stAng="10800000" swAng="5400000"/>
                  <a:lnTo>
                    <a:pt x="7484" y="0"/>
                  </a:lnTo>
                  <a:arcTo wR="7484" hR="21600" stAng="-5400000" swAng="385269"/>
                  <a:lnTo>
                    <a:pt x="9796" y="1057"/>
                  </a:lnTo>
                  <a:arcTo wR="7484" hR="21600" stAng="-5785269" swAng="-5014731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95480" y="4876920"/>
              <a:ext cx="1219320" cy="703800"/>
            </a:xfrm>
            <a:prstGeom prst="rect">
              <a:avLst/>
            </a:prstGeom>
            <a:solidFill>
              <a:srgbClr val="e1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na tego bile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0920" y="4572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71600" y="5715000"/>
            <a:ext cx="716292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 = 1,20 *5/15 + 2,40* 4/15+ 4,80 * 6/15 =  2,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F15-8F9E-43D3-8A83-EF02BAA44F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łasności wartości oczekiwanej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12193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zeń zdarzeń, w której określone są zmienne losowe X i 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676520"/>
            <a:ext cx="3200400" cy="177732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wierdzeni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cX) = c E(X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X + Y) = E(X) + E(Y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a) = 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X – E(X)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752480"/>
            <a:ext cx="3276720" cy="14724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ierdzeni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X i Y są niezależnymi zmiennymi losowymi,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(X * Y) = E(X) * E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3581280"/>
            <a:ext cx="7848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 Tw. 2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(X*Y)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(w) *X(w) * P({w})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Y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y P(X=x i Y=y)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Y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y P(X=x)*P(y=y) =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* P(X=x) *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* P(Y=y) ) = E(X) * E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81080" y="50292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rtośc oczekiwana jest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wną średnią ważoną wartości zmiennej losowej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AE5-5BD7-40C5-8424-0FC382B56B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ariancj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276720"/>
            <a:ext cx="32004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cja VX = E((X-E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3716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ozważmy dwie zmienne o rozkładach {(100,1/2), (100,1/2)},   {(2,1/3), (-1,2/3)} Mamy EX = EY = 0. Chociaż zmienne bardzo si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óżnią, to  wartości oczekiwane są takie s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2590920"/>
            <a:ext cx="1828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ariancj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2438280"/>
            <a:ext cx="4114800" cy="1067040"/>
          </a:xfrm>
          <a:prstGeom prst="wedgeRoundRectCallout">
            <a:avLst>
              <a:gd name="adj1" fmla="val -75810"/>
              <a:gd name="adj2" fmla="val -5805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wy parametr, który charakteryzuje rozrzut wartości zmiennej losow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3809880"/>
            <a:ext cx="7467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 ma rozkład prawdopodobieństwa {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} i=1,...n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my EX= m.  Wtedy VX = (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m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...+ (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–m)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*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4572000"/>
            <a:ext cx="25146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 to znaczy, że VX jest małą liczbą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5715000"/>
            <a:ext cx="403848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VX = E(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(EX)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800600"/>
            <a:ext cx="838080" cy="152280"/>
          </a:xfrm>
          <a:custGeom>
            <a:avLst/>
            <a:gdLst>
              <a:gd name="textAreaLeft" fmla="*/ 146520 w 838080"/>
              <a:gd name="textAreaRight" fmla="*/ 607680 w 8380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4648320"/>
            <a:ext cx="3657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opodobieństwo zdarzenia, że X przyjmuje wartość dużo różniącą się od m jest mał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MAD,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51A-6938-4C1E-AFFD-BE54401557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  stycznia 2002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9:16:35Z</dcterms:modified>
  <cp:revision>171</cp:revision>
  <dc:subject/>
  <dc:title>Wykład 4</dc:title>
</cp:coreProperties>
</file>