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media/whoosh.wav" ContentType="audio/x-wav"/>
  <Override PartName="/ppt/media/camera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4E5-ED2F-495C-9B8D-83EC4349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A9DA-B7D2-4129-BAE9-BFD60CB4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1F9-1B6B-47A8-B5DA-BC5F8954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19F-7EC1-4B97-946C-BEBB33C8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E515-82AB-4DD7-849B-035BF345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C470-A8BB-4494-9655-0BD96A8D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AA60-B05F-44AD-985C-FF3A2638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4347-CAA4-48BC-B3AE-2FC87DB3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A140-F66C-4A95-A635-8445F8B5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5799-EED6-4465-ADAD-3B3C511C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FB16-848B-4BDE-BE5C-BA8D7B7B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F3B-D434-42B7-8341-623C1481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35DF-23EB-42F4-853F-C71F5414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5E6E-B493-4C76-AFFF-2F95F328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CA0C-7341-4EF2-A38B-3D22B13F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9E86-4EBD-47B4-9820-ABB95898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9A22-4618-4EE7-BAAE-0521C575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405-9579-45CE-9F7F-3CAFDB08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B08-D065-43E7-BFD1-D7B05F0C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DE7-7801-43C5-B48B-1A8967D1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BEF-D217-4BF9-A097-EC53A515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6F4-16CE-4E14-81A2-DEB6FD01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D60-67BF-481B-95E8-5017CDD0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6E8-1DE9-4DD3-A3E4-BC23A276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d9dbd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14213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8A91-ED0F-40D9-A24A-DFA4519D35C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491d49"/>
              </a:gs>
              <a:gs pos="50000">
                <a:srgbClr val="dbdbf1"/>
              </a:gs>
              <a:gs pos="100000">
                <a:srgbClr val="49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91d49"/>
              </a:gs>
              <a:gs pos="50000">
                <a:srgbClr val="dbdbf1"/>
              </a:gs>
              <a:gs pos="100000">
                <a:srgbClr val="491d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dbdbf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dbdbf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dbdbf1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db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0B60-29CD-4BF6-A167-AFA9808F19A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14213c"/>
                </a:gs>
                <a:gs pos="100000">
                  <a:srgbClr val="9d9d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491d49"/>
              </a:gs>
              <a:gs pos="50000">
                <a:srgbClr val="dbdbf1"/>
              </a:gs>
              <a:gs pos="100000">
                <a:srgbClr val="49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91d49"/>
              </a:gs>
              <a:gs pos="50000">
                <a:srgbClr val="dbdbf1"/>
              </a:gs>
              <a:gs pos="100000">
                <a:srgbClr val="491d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dbdbf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dbdbf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d9dbd"/>
                </a:gs>
                <a:gs pos="100000">
                  <a:srgbClr val="1421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carbrake.wav"/><Relationship Id="rId3" Type="http://schemas.openxmlformats.org/officeDocument/2006/relationships/audio" Target="../media/whoosh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brak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Impact"/>
              </a:rPr>
              <a:t>Wykład 5</a:t>
            </a: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Zbiory uporządkowan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F56E-8B51-45E3-8006-BB51C0C54FD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1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Impact"/>
              </a:rPr>
              <a:t>Przykład</a:t>
            </a: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225" name=""/>
          <p:cNvSpPr/>
          <p:nvPr/>
        </p:nvSpPr>
        <p:spPr>
          <a:xfrm>
            <a:off x="1676520" y="2209680"/>
            <a:ext cx="50292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4343400"/>
            <a:ext cx="609480" cy="457200"/>
          </a:xfrm>
          <a:prstGeom prst="ellipse">
            <a:avLst/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1d4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4343400"/>
            <a:ext cx="609840" cy="457200"/>
          </a:xfrm>
          <a:prstGeom prst="ellipse">
            <a:avLst/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1d4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4343400"/>
            <a:ext cx="609840" cy="457200"/>
          </a:xfrm>
          <a:prstGeom prst="ellipse">
            <a:avLst/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1d49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3429000"/>
            <a:ext cx="609480" cy="457200"/>
          </a:xfrm>
          <a:prstGeom prst="ellipse">
            <a:avLst/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1d49"/>
                </a:solidFill>
                <a:latin typeface="Times New Roman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3429000"/>
            <a:ext cx="609840" cy="457200"/>
          </a:xfrm>
          <a:prstGeom prst="ellipse">
            <a:avLst/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1d49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14600" y="3429000"/>
            <a:ext cx="609480" cy="457200"/>
          </a:xfrm>
          <a:prstGeom prst="ellipse">
            <a:avLst/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1d49"/>
                </a:solidFill>
                <a:latin typeface="Times New Roman"/>
              </a:rPr>
              <a:t>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2438280"/>
            <a:ext cx="609480" cy="457200"/>
          </a:xfrm>
          <a:prstGeom prst="ellipse">
            <a:avLst/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1d49"/>
                </a:solidFill>
                <a:latin typeface="Times New Roman"/>
              </a:rPr>
              <a:t>R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5410080"/>
            <a:ext cx="609480" cy="457200"/>
          </a:xfrm>
          <a:prstGeom prst="ellipse">
            <a:avLst/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472428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571640" y="480060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862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048120" y="373356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37339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267080" y="373356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048120" y="27432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9112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28195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57200"/>
            <a:ext cx="2210040" cy="1295280"/>
          </a:xfrm>
          <a:prstGeom prst="cloudCallout">
            <a:avLst>
              <a:gd name="adj1" fmla="val -46981"/>
              <a:gd name="adj2" fmla="val 11237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1d49"/>
                </a:solidFill>
                <a:latin typeface="Times New Roman"/>
              </a:rPr>
              <a:t>Sześcian kol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2514600"/>
            <a:ext cx="1676520" cy="1447920"/>
          </a:xfrm>
          <a:prstGeom prst="horizontalScroll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1d49"/>
                </a:solidFill>
                <a:latin typeface="Times New Roman"/>
              </a:rPr>
              <a:t>K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70760" y="3962520"/>
            <a:ext cx="207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dowolnych dwóch elem. istnieje kres górny i kres dol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B5A-0A10-468B-9A83-EBDB4DB2936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Impact"/>
              </a:rPr>
              <a:t>Porządek liniowy </a:t>
            </a: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2209680"/>
            <a:ext cx="7315200" cy="174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lację binarną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 zbiorze X nazywamy porządkiem liniowym wttw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jest porządkiem częściowym oraz ma następującą własność spójności: dla dowolnych x, 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lbo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 albo y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 albo x =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4114800"/>
            <a:ext cx="33526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Zbiór liczb wymiernych  jest liniowo uporządkowany przez relację niewiększośc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 Co więcej jest to zbiór liniowo uporządkowany gę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914400"/>
            <a:ext cx="1676160" cy="762120"/>
          </a:xfrm>
          <a:prstGeom prst="cloudCallout">
            <a:avLst>
              <a:gd name="adj1" fmla="val -83425"/>
              <a:gd name="adj2" fmla="val 119375"/>
            </a:avLst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1d49"/>
                </a:solidFill>
                <a:latin typeface="Times New Roman"/>
              </a:rPr>
              <a:t>łańc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52880" y="4267080"/>
            <a:ext cx="3886200" cy="1679400"/>
          </a:xfrm>
          <a:prstGeom prst="rect">
            <a:avLst/>
          </a:prstGeom>
          <a:solidFill>
            <a:srgbClr val="9d9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1d49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491d49"/>
                </a:solidFill>
                <a:uFillTx/>
                <a:latin typeface="Times New Roman"/>
              </a:rPr>
              <a:t>Twierdzenie</a:t>
            </a:r>
            <a:r>
              <a:rPr b="0" lang="en-US" sz="2000" spc="-1" strike="noStrike">
                <a:solidFill>
                  <a:srgbClr val="491d49"/>
                </a:solidFill>
                <a:latin typeface="Times New Roman"/>
              </a:rPr>
              <a:t> W każdym niepustym zbiorze liniowo uporządkowanym i skończonym istnieje element najmniejszy (pierwszy) i element największy(ostatni</a:t>
            </a:r>
            <a:r>
              <a:rPr b="0" lang="en-US" sz="2400" spc="-1" strike="noStrike">
                <a:solidFill>
                  <a:srgbClr val="491d4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0FE-1049-4814-A77A-8AF8BF782F2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Impact"/>
              </a:rPr>
              <a:t>Przykład </a:t>
            </a: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981080"/>
            <a:ext cx="67053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ch będą zbiory (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, (X 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, ..., (X 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, liniowo  uporządkowne. Definiujemy relację w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produkcie (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....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następują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3429000"/>
            <a:ext cx="6553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...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...,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wttw istnieje takie i, że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...,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...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oraz   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95280" y="4495680"/>
            <a:ext cx="4876920" cy="1241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 zdefiniowana relacja jest relacją porządku liniowego w produkcie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380880"/>
            <a:ext cx="2971800" cy="1295640"/>
          </a:xfrm>
          <a:prstGeom prst="cloudCallout">
            <a:avLst>
              <a:gd name="adj1" fmla="val -64314"/>
              <a:gd name="adj2" fmla="val 75000"/>
            </a:avLst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1d49"/>
                </a:solidFill>
                <a:latin typeface="Times New Roman"/>
              </a:rPr>
              <a:t>Porządek </a:t>
            </a:r>
            <a:br>
              <a:rPr sz="2400"/>
            </a:br>
            <a:r>
              <a:rPr b="1" lang="en-US" sz="2400" spc="-1" strike="noStrike">
                <a:solidFill>
                  <a:srgbClr val="491d49"/>
                </a:solidFill>
                <a:latin typeface="Times New Roman"/>
              </a:rPr>
              <a:t>leksykografi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91520" y="3429000"/>
            <a:ext cx="1752480" cy="2606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1d49"/>
                </a:solidFill>
                <a:latin typeface="Times New Roman"/>
              </a:rPr>
              <a:t>Przykład</a:t>
            </a:r>
            <a:br>
              <a:rPr sz="2000"/>
            </a:br>
            <a:r>
              <a:rPr b="0" lang="en-US" sz="2000" spc="-1" strike="noStrike">
                <a:solidFill>
                  <a:srgbClr val="491d49"/>
                </a:solidFill>
                <a:latin typeface="Times New Roman"/>
              </a:rPr>
              <a:t>Xi ={0,1,...,9}</a:t>
            </a:r>
            <a:br>
              <a:rPr sz="2000"/>
            </a:br>
            <a:r>
              <a:rPr b="0" lang="en-US" sz="2000" spc="-1" strike="noStrike">
                <a:solidFill>
                  <a:srgbClr val="491d49"/>
                </a:solidFill>
                <a:latin typeface="Times New Roman"/>
              </a:rPr>
              <a:t>dla i =1,2,..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1d49"/>
                </a:solidFill>
                <a:latin typeface="Times New Roman"/>
              </a:rPr>
              <a:t>Wt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1d49"/>
                </a:solidFill>
                <a:latin typeface="Times New Roman"/>
              </a:rPr>
              <a:t>1234</a:t>
            </a:r>
            <a:r>
              <a:rPr b="0" lang="en-US" sz="2000" spc="-1" strike="noStrike">
                <a:solidFill>
                  <a:srgbClr val="27120b"/>
                </a:solidFill>
                <a:latin typeface="Times New Roman"/>
              </a:rPr>
              <a:t> 5</a:t>
            </a:r>
            <a:r>
              <a:rPr b="0" lang="en-US" sz="2000" spc="-1" strike="noStrike">
                <a:solidFill>
                  <a:srgbClr val="27120b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27120b"/>
                </a:solidFill>
                <a:latin typeface="Times New Roman"/>
              </a:rPr>
              <a:t>12346</a:t>
            </a:r>
            <a:r>
              <a:rPr b="0" lang="en-US" sz="2400" spc="-1" strike="noStrike">
                <a:solidFill>
                  <a:srgbClr val="27120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27120b"/>
                </a:solidFill>
                <a:latin typeface="Times New Roman"/>
              </a:rPr>
              <a:t>12435 </a:t>
            </a:r>
            <a:r>
              <a:rPr b="0" lang="en-US" sz="2000" spc="-1" strike="noStrike">
                <a:solidFill>
                  <a:srgbClr val="27120b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27120b"/>
                </a:solidFill>
                <a:latin typeface="Times New Roman"/>
              </a:rPr>
              <a:t>13245</a:t>
            </a:r>
            <a:br>
              <a:rPr sz="2000"/>
            </a:br>
            <a:r>
              <a:rPr b="0" lang="en-US" sz="2000" spc="-1" strike="noStrike">
                <a:solidFill>
                  <a:srgbClr val="27120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27120b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27120b"/>
                </a:solidFill>
                <a:latin typeface="Times New Roman"/>
              </a:rPr>
              <a:t>232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9C2-7DB0-4143-A066-06E8FFD9DDF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Impact"/>
              </a:rPr>
              <a:t>Porządek słownikowy</a:t>
            </a: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2860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ch  będzie dany alfab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 pewna relacj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iowego porządku 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Rozważamy relacj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 zbiorze słó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zdefiniowaną następują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3429000"/>
            <a:ext cx="72392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..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.. 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ttw   n &lt;m  i 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...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 albo istnieje takie i, że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 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...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oraz    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&lt; 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5257800"/>
            <a:ext cx="7543800" cy="45972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1d4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491d49"/>
                </a:solidFill>
                <a:latin typeface="Times New Roman"/>
              </a:rPr>
              <a:t>k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osmit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osmolog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osmonaut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os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23E-7B12-4D38-9008-E345C6AC95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Impact"/>
              </a:rPr>
              <a:t>Lemat</a:t>
            </a: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2133720"/>
            <a:ext cx="533376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uratowski (1922) - Zorn(1935)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żeli w zbiorze uporządkowanym X dla każdego łańcucha istnieje ograniczenie górne, to w  X istnieje element maksymal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4724280"/>
            <a:ext cx="1676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sjomat wyb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3962520"/>
            <a:ext cx="2286000" cy="1066680"/>
          </a:xfrm>
          <a:prstGeom prst="cloudCallout">
            <a:avLst>
              <a:gd name="adj1" fmla="val -100208"/>
              <a:gd name="adj2" fmla="val 60861"/>
            </a:avLst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91d49"/>
                </a:solidFill>
                <a:latin typeface="Times New Roman"/>
              </a:rPr>
              <a:t>G</a:t>
            </a:r>
            <a:r>
              <a:rPr b="0" lang="pl-PL" sz="1800" spc="-1" strike="noStrike">
                <a:solidFill>
                  <a:srgbClr val="491d49"/>
                </a:solidFill>
                <a:latin typeface="Times New Roman"/>
                <a:ea typeface="Times New Roman"/>
              </a:rPr>
              <a:t>ö</a:t>
            </a:r>
            <a:r>
              <a:rPr b="0" lang="pl-PL" sz="1800" spc="-1" strike="noStrike">
                <a:solidFill>
                  <a:srgbClr val="491d49"/>
                </a:solidFill>
                <a:latin typeface="Times New Roman"/>
              </a:rPr>
              <a:t>del 1940 </a:t>
            </a:r>
            <a:br>
              <a:rPr sz="1800"/>
            </a:br>
            <a:r>
              <a:rPr b="0" lang="pl-PL" sz="1800" spc="-1" strike="noStrike">
                <a:solidFill>
                  <a:srgbClr val="491d49"/>
                </a:solidFill>
                <a:latin typeface="Times New Roman"/>
              </a:rPr>
              <a:t>niesprzeczno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4267080"/>
            <a:ext cx="1752480" cy="1295640"/>
          </a:xfrm>
          <a:prstGeom prst="cloudCallout">
            <a:avLst>
              <a:gd name="adj1" fmla="val 78893"/>
              <a:gd name="adj2" fmla="val 14462"/>
            </a:avLst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1d49"/>
                </a:solidFill>
                <a:latin typeface="Times New Roman"/>
              </a:rPr>
              <a:t>Cohen1963</a:t>
            </a:r>
            <a:br>
              <a:rPr sz="1800"/>
            </a:br>
            <a:r>
              <a:rPr b="0" lang="en-US" sz="1800" spc="-1" strike="noStrike">
                <a:solidFill>
                  <a:srgbClr val="491d49"/>
                </a:solidFill>
                <a:latin typeface="Times New Roman"/>
              </a:rPr>
              <a:t>niezależno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47FA-68EB-4EA0-BD66-87484A229D7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Impact"/>
              </a:rPr>
              <a:t>Dobry porządek</a:t>
            </a: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2209680"/>
            <a:ext cx="70866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lację  binarną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w zbiorze X nazywamy dobrym porządkiem  wttw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jest liniowym porządkiem  oraz dla dowolnego niepustego podzbioru A zbioru X  istnieje element  minimal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4114800"/>
            <a:ext cx="7239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(1) Zbiór  &lt;N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&gt; jest dobrze uporządkowany przez relację niewiększośc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) Każdy zbiór skończony, liniowo uporządkowany jest dobrze uporządkowany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3) Zbiór liczb rzeczywistych nie jest dobrze uporządkowany przez relację   niewiększośc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5D1-4C5F-4C6F-AE60-AB1B773EC3C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Impact"/>
              </a:rPr>
              <a:t>Definicja</a:t>
            </a: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2096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lację binarną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 zbiorze X nazywamy porządkiem (częściowym porządkiem) wttw  jest to relacja zwrotna, antysymetryczna  i przechod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36576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biór  X wraz z porządkie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zywamy zbiorem uporządkowanym. Ozn.   &lt;X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4800600"/>
            <a:ext cx="7086600" cy="459720"/>
          </a:xfrm>
          <a:prstGeom prst="rect">
            <a:avLst/>
          </a:prstGeom>
          <a:solidFill>
            <a:srgbClr val="9d9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91d49"/>
                </a:solidFill>
                <a:uFillTx/>
                <a:latin typeface="Times New Roman"/>
              </a:rPr>
              <a:t>Przykład </a:t>
            </a:r>
            <a:r>
              <a:rPr b="0" lang="en-US" sz="2400" spc="-1" strike="noStrike">
                <a:solidFill>
                  <a:srgbClr val="491d49"/>
                </a:solidFill>
                <a:latin typeface="Times New Roman"/>
              </a:rPr>
              <a:t>   1.&lt;R, </a:t>
            </a:r>
            <a:r>
              <a:rPr b="0" lang="en-US" sz="2400" spc="-1" strike="noStrike">
                <a:solidFill>
                  <a:srgbClr val="491d4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491d49"/>
                </a:solidFill>
                <a:latin typeface="Times New Roman"/>
              </a:rPr>
              <a:t> &gt; ,    2.&lt; P(X), </a:t>
            </a:r>
            <a:r>
              <a:rPr b="0" lang="en-US" sz="2400" spc="-1" strike="noStrike">
                <a:solidFill>
                  <a:srgbClr val="491d49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491d49"/>
                </a:solidFill>
                <a:latin typeface="Times New Roman"/>
              </a:rPr>
              <a:t> &gt;,     3. &lt;N, |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4100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waga  Jeśli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i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, to piszemy   x&lt;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0"/>
            <a:ext cx="3962520" cy="1828800"/>
          </a:xfrm>
          <a:prstGeom prst="cloudCallout">
            <a:avLst>
              <a:gd name="adj1" fmla="val 7291"/>
              <a:gd name="adj2" fmla="val 65625"/>
            </a:avLst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91d4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491d49"/>
                </a:solidFill>
                <a:latin typeface="Times New Roman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609480"/>
            <a:ext cx="2971800" cy="368280"/>
          </a:xfrm>
          <a:prstGeom prst="rect">
            <a:avLst/>
          </a:prstGeom>
          <a:solidFill>
            <a:srgbClr val="9d9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91d49"/>
                </a:solidFill>
                <a:latin typeface="Times New Roman"/>
              </a:rPr>
              <a:t>jeśli  x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491d49"/>
                </a:solidFill>
                <a:latin typeface="Times New Roman"/>
              </a:rPr>
              <a:t>y i  y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491d49"/>
                </a:solidFill>
                <a:latin typeface="Times New Roman"/>
              </a:rPr>
              <a:t>x,   to x=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990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91d49"/>
                </a:solidFill>
                <a:latin typeface="Times New Roman"/>
              </a:rPr>
              <a:t>jeśli  x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491d49"/>
                </a:solidFill>
                <a:latin typeface="Times New Roman"/>
              </a:rPr>
              <a:t>y i  y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491d49"/>
                </a:solidFill>
                <a:latin typeface="Times New Roman"/>
              </a:rPr>
              <a:t>z,   to 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491d49"/>
                </a:solidFill>
                <a:latin typeface="Times New Roman"/>
              </a:rPr>
              <a:t>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4BC-E289-44A1-9793-E192FC450E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440044"/>
                </a:solidFill>
                <a:latin typeface="Impact"/>
              </a:rPr>
              <a:t>Diagramy Hassego</a:t>
            </a: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133720"/>
            <a:ext cx="739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iagramem Hassego relacji porządku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 X nazywamy graf zorientowany (skierowany) G= &lt;V, E&gt;,  gdzie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=X oraz  (y,x)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 wttw nie istnieje z, takie że  z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 i z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  i    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z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 ( y jest bezpośrednim następnikiem x w sensie relacj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.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3733920"/>
            <a:ext cx="1905120" cy="2533320"/>
          </a:xfrm>
          <a:prstGeom prst="rect">
            <a:avLst/>
          </a:prstGeom>
          <a:solidFill>
            <a:srgbClr val="9d9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491d49"/>
                </a:solidFill>
                <a:uFillTx/>
                <a:latin typeface="Times New Roman"/>
              </a:rPr>
              <a:t>Konwencja</a:t>
            </a:r>
            <a:br>
              <a:rPr sz="2000"/>
            </a:br>
            <a:r>
              <a:rPr b="0" lang="pl-PL" sz="2000" spc="-1" strike="noStrike">
                <a:solidFill>
                  <a:srgbClr val="491d49"/>
                </a:solidFill>
                <a:latin typeface="Times New Roman"/>
              </a:rPr>
              <a:t>Zwykle nie rysujemy strzałek i jeśli  </a:t>
            </a:r>
            <a:br>
              <a:rPr sz="2000"/>
            </a:br>
            <a:r>
              <a:rPr b="0" lang="pl-PL" sz="2000" spc="-1" strike="noStrike">
                <a:solidFill>
                  <a:srgbClr val="491d49"/>
                </a:solidFill>
                <a:latin typeface="Times New Roman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491d49"/>
                </a:solidFill>
                <a:latin typeface="Times New Roman"/>
              </a:rPr>
              <a:t>y i 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491d49"/>
                </a:solidFill>
                <a:latin typeface="Times New Roman"/>
              </a:rPr>
              <a:t>y, to y znajduje się na grafie Hassego wyżej niż x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4191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lacja | w   zbiorze {1,2,...9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est relacją porząd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038480" y="3962520"/>
            <a:ext cx="2362320" cy="2209680"/>
            <a:chOff x="4038480" y="3962520"/>
            <a:chExt cx="2362320" cy="2209680"/>
          </a:xfrm>
        </p:grpSpPr>
        <p:sp>
          <p:nvSpPr>
            <p:cNvPr id="146" name=""/>
            <p:cNvSpPr/>
            <p:nvPr/>
          </p:nvSpPr>
          <p:spPr>
            <a:xfrm>
              <a:off x="4038480" y="3962520"/>
              <a:ext cx="2362320" cy="2209680"/>
            </a:xfrm>
            <a:prstGeom prst="rect">
              <a:avLst/>
            </a:prstGeom>
            <a:solidFill>
              <a:srgbClr val="dbdbf1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7080" y="4495680"/>
              <a:ext cx="304920" cy="228600"/>
            </a:xfrm>
            <a:prstGeom prst="ellipse">
              <a:avLst/>
            </a:prstGeom>
            <a:solidFill>
              <a:srgbClr val="dbd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91d49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2880" y="4191120"/>
              <a:ext cx="304920" cy="228600"/>
            </a:xfrm>
            <a:prstGeom prst="ellipse">
              <a:avLst/>
            </a:prstGeom>
            <a:solidFill>
              <a:srgbClr val="dbd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91d49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4343400"/>
              <a:ext cx="228600" cy="228600"/>
            </a:xfrm>
            <a:prstGeom prst="ellipse">
              <a:avLst/>
            </a:prstGeom>
            <a:solidFill>
              <a:srgbClr val="dbd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91d49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52880" y="4724280"/>
              <a:ext cx="304920" cy="304920"/>
            </a:xfrm>
            <a:prstGeom prst="ellipse">
              <a:avLst/>
            </a:prstGeom>
            <a:solidFill>
              <a:srgbClr val="dbd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91d49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5181480"/>
              <a:ext cx="304920" cy="304920"/>
            </a:xfrm>
            <a:prstGeom prst="ellipse">
              <a:avLst/>
            </a:prstGeom>
            <a:solidFill>
              <a:srgbClr val="dbd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91d4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29200" y="5715000"/>
              <a:ext cx="304920" cy="228600"/>
            </a:xfrm>
            <a:prstGeom prst="ellipse">
              <a:avLst/>
            </a:prstGeom>
            <a:solidFill>
              <a:srgbClr val="dbd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91d4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38680" y="5181480"/>
              <a:ext cx="304920" cy="304920"/>
            </a:xfrm>
            <a:prstGeom prst="ellipse">
              <a:avLst/>
            </a:prstGeom>
            <a:solidFill>
              <a:srgbClr val="dbd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91d4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91120" y="5257800"/>
              <a:ext cx="304560" cy="228600"/>
            </a:xfrm>
            <a:prstGeom prst="ellipse">
              <a:avLst/>
            </a:prstGeom>
            <a:solidFill>
              <a:srgbClr val="dbd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91d49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05520" y="4419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95680" y="4724280"/>
              <a:ext cx="5335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19720" y="54100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5000" y="4572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05520" y="4952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05520" y="5486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257800" y="541008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447920" y="5410080"/>
            <a:ext cx="2286000" cy="533520"/>
          </a:xfrm>
          <a:prstGeom prst="rightArrow">
            <a:avLst>
              <a:gd name="adj1" fmla="val 50000"/>
              <a:gd name="adj2" fmla="val 107119"/>
            </a:avLst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91d49"/>
                </a:solidFill>
                <a:latin typeface="Times New Roman"/>
              </a:rPr>
              <a:t>Diagram Hass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467480" y="838080"/>
            <a:ext cx="762120" cy="533520"/>
          </a:xfrm>
          <a:custGeom>
            <a:avLst/>
            <a:gdLst>
              <a:gd name="textAreaLeft" fmla="*/ 0 w 762120"/>
              <a:gd name="textAreaRight" fmla="*/ 762480 w 7621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30849" y="0"/>
                </a:lnTo>
                <a:lnTo>
                  <a:pt x="0" y="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30849" y="21600"/>
                </a:lnTo>
                <a:lnTo>
                  <a:pt x="30849" y="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0849" y="216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30849" h="21600">
                <a:moveTo>
                  <a:pt x="7374" y="2750"/>
                </a:moveTo>
                <a:lnTo>
                  <a:pt x="23474" y="10800"/>
                </a:lnTo>
                <a:lnTo>
                  <a:pt x="7374" y="18850"/>
                </a:lnTo>
                <a:close/>
              </a:path>
            </a:pathLst>
          </a:cu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1d49"/>
                </a:solidFill>
                <a:latin typeface="Times New Roman"/>
              </a:rPr>
              <a:t>powró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7B0-A5C0-4F9B-AB23-16608B3050F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Impact"/>
              </a:rPr>
              <a:t>Przykład</a:t>
            </a: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057400"/>
            <a:ext cx="44956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ch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{0,1}. W zbiorze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* definiujemy relację w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 w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ttw  istnieje z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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*, że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= w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228600"/>
            <a:ext cx="2514600" cy="1752480"/>
          </a:xfrm>
          <a:prstGeom prst="cloudCallout">
            <a:avLst>
              <a:gd name="adj1" fmla="val 62185"/>
              <a:gd name="adj2" fmla="val 72643"/>
            </a:avLst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91d49"/>
                </a:solidFill>
                <a:latin typeface="Times New Roman"/>
              </a:rPr>
              <a:t>Diagram Hass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91d49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491d49"/>
                </a:solidFill>
                <a:latin typeface="Times New Roman"/>
              </a:rPr>
              <a:t>relacji r w zbiorze </a:t>
            </a:r>
            <a:r>
              <a:rPr b="0" lang="pl-PL" sz="1800" spc="-1" strike="noStrike">
                <a:solidFill>
                  <a:srgbClr val="491d49"/>
                </a:solidFill>
                <a:latin typeface="Symbol"/>
                <a:ea typeface="Symbol"/>
              </a:rPr>
              <a:t></a:t>
            </a:r>
            <a:r>
              <a:rPr b="0" lang="pl-PL" sz="1800" spc="-1" strike="noStrike">
                <a:solidFill>
                  <a:srgbClr val="491d49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800600" y="2438280"/>
            <a:ext cx="4114800" cy="3657600"/>
            <a:chOff x="4800600" y="2438280"/>
            <a:chExt cx="4114800" cy="3657600"/>
          </a:xfrm>
        </p:grpSpPr>
        <p:sp>
          <p:nvSpPr>
            <p:cNvPr id="168" name=""/>
            <p:cNvSpPr/>
            <p:nvPr/>
          </p:nvSpPr>
          <p:spPr>
            <a:xfrm>
              <a:off x="4800600" y="2438280"/>
              <a:ext cx="4114800" cy="3657600"/>
            </a:xfrm>
            <a:prstGeom prst="rect">
              <a:avLst/>
            </a:prstGeom>
            <a:solidFill>
              <a:srgbClr val="dbdb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91d49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00   001   010   011   100   101</a:t>
              </a:r>
              <a:r>
                <a:rPr b="0" lang="en-US" sz="2400" spc="-1" strike="noStrike">
                  <a:solidFill>
                    <a:srgbClr val="491d49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0    01       10       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491d49"/>
                  </a:solidFill>
                  <a:latin typeface="Times New Roman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491d49"/>
                  </a:solidFill>
                  <a:latin typeface="Symbol"/>
                  <a:ea typeface="Symbol"/>
                </a:rPr>
                <a:t>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57800" y="289548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867280" y="289512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77120" y="29718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553080" y="2895120"/>
              <a:ext cx="6098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91320" y="3962520"/>
              <a:ext cx="4572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248520" y="3962160"/>
              <a:ext cx="1522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0800" y="51055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010280" y="510516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91520" y="3962520"/>
              <a:ext cx="152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620120" y="3962520"/>
              <a:ext cx="380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467120" y="2971800"/>
              <a:ext cx="3812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543800" y="289512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143000" y="3657600"/>
            <a:ext cx="3657600" cy="1313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Uwag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które zbiory częściowo uporządkowane nie mają diagramu Hassego,  np.: &lt;R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&gt;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5181480"/>
            <a:ext cx="3657600" cy="1008720"/>
          </a:xfrm>
          <a:prstGeom prst="rect">
            <a:avLst/>
          </a:prstGeom>
          <a:solidFill>
            <a:srgbClr val="9d9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91d49"/>
                </a:solidFill>
                <a:latin typeface="Times New Roman"/>
              </a:rPr>
              <a:t>Każdy skończony zbiór częściowo uporządkowany ma diagram Hass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C98-E225-456D-ABD7-497B6C6589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Impact"/>
              </a:rPr>
              <a:t>Przykład</a:t>
            </a: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1981080"/>
            <a:ext cx="3581640" cy="3886200"/>
          </a:xfrm>
          <a:prstGeom prst="rect">
            <a:avLst/>
          </a:prstGeom>
          <a:solidFill>
            <a:srgbClr val="dbdb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666880"/>
            <a:ext cx="304920" cy="228600"/>
          </a:xfrm>
          <a:prstGeom prst="ellipse">
            <a:avLst/>
          </a:prstGeom>
          <a:solidFill>
            <a:srgbClr val="dbdb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1d49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2666880"/>
            <a:ext cx="304920" cy="228600"/>
          </a:xfrm>
          <a:prstGeom prst="ellipse">
            <a:avLst/>
          </a:prstGeom>
          <a:solidFill>
            <a:srgbClr val="dbdb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1d4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4267080"/>
            <a:ext cx="304920" cy="228600"/>
          </a:xfrm>
          <a:prstGeom prst="ellipse">
            <a:avLst/>
          </a:prstGeom>
          <a:solidFill>
            <a:srgbClr val="dbdb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1d49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304920" cy="228600"/>
          </a:xfrm>
          <a:prstGeom prst="ellipse">
            <a:avLst/>
          </a:prstGeom>
          <a:solidFill>
            <a:srgbClr val="dbdb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1d4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4191120"/>
            <a:ext cx="304920" cy="228600"/>
          </a:xfrm>
          <a:prstGeom prst="ellipse">
            <a:avLst/>
          </a:prstGeom>
          <a:solidFill>
            <a:srgbClr val="dbdb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1d4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19520" y="5486400"/>
            <a:ext cx="304560" cy="228600"/>
          </a:xfrm>
          <a:prstGeom prst="ellipse">
            <a:avLst/>
          </a:prstGeom>
          <a:solidFill>
            <a:srgbClr val="dbdb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1d4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2895480"/>
            <a:ext cx="2286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209680" y="2895120"/>
            <a:ext cx="838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2895480"/>
            <a:ext cx="3812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4419720"/>
            <a:ext cx="7617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971800" y="44197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124080" y="4495680"/>
            <a:ext cx="12193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2096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diagramu Hassego można odczytać pełną informację o opisanej relacji porząd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886200"/>
            <a:ext cx="3429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{a,b,c,d,e,f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 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 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 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 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  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 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 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 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  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   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 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457200"/>
            <a:ext cx="2819520" cy="1676520"/>
          </a:xfrm>
          <a:prstGeom prst="cloudCallout">
            <a:avLst>
              <a:gd name="adj1" fmla="val -46791"/>
              <a:gd name="adj2" fmla="val 72726"/>
            </a:avLst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91d49"/>
                </a:solidFill>
                <a:latin typeface="Times New Roman"/>
              </a:rPr>
              <a:t>Diagram Hass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91d49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491d49"/>
                </a:solidFill>
                <a:latin typeface="Times New Roman"/>
              </a:rPr>
              <a:t>pewnej rel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115-829F-48EF-84BF-0BB5D70122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Impact"/>
              </a:rPr>
              <a:t>Minima i maksima</a:t>
            </a: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2133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c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ędzie relacją porządku w 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3809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x nazywamy minimalnym, jeżeli w X nie istnieje żaden element y taki, że y &lt;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4952880"/>
            <a:ext cx="7010640" cy="703800"/>
          </a:xfrm>
          <a:prstGeom prst="rect">
            <a:avLst/>
          </a:prstGeom>
          <a:solidFill>
            <a:srgbClr val="9d9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491d49"/>
                </a:solidFill>
                <a:uFillTx/>
                <a:latin typeface="Times New Roman"/>
              </a:rPr>
              <a:t>Uwaga  </a:t>
            </a:r>
            <a:r>
              <a:rPr b="0" lang="pl-PL" sz="2000" spc="-1" strike="noStrike">
                <a:solidFill>
                  <a:srgbClr val="491d49"/>
                </a:solidFill>
                <a:latin typeface="Times New Roman"/>
              </a:rPr>
              <a:t> W diagramie Hassego relacj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elementy maksymalne znajdują się na górze a elementy minimalne na dole graf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16320" y="2743200"/>
            <a:ext cx="655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x nazywamy maksymalnym, jeżeli w X ni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tnieje element y większy od x tzn. taki, że x &lt;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8153280" y="2743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1d49"/>
                </a:solidFill>
                <a:latin typeface="Times New Roman"/>
              </a:rPr>
              <a:t>przykł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CCA-BCA1-4124-B4E1-F73293EAC64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Impact"/>
              </a:rPr>
              <a:t>Definicje c.d.</a:t>
            </a: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22096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0 dla wszystkich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, to x0 nazywamy elementem największym zbioru 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32767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x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dla wszystkich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, to x0 nazywamy elementem  najmniejszym zbioru 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4419720"/>
            <a:ext cx="6933960" cy="1557000"/>
          </a:xfrm>
          <a:prstGeom prst="rect">
            <a:avLst/>
          </a:prstGeom>
          <a:solidFill>
            <a:srgbClr val="9d9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91d49"/>
                </a:solidFill>
                <a:uFillTx/>
                <a:latin typeface="Times New Roman"/>
              </a:rPr>
              <a:t>Uwaga</a:t>
            </a:r>
            <a:r>
              <a:rPr b="0" lang="en-US" sz="2400" spc="-1" strike="noStrike">
                <a:solidFill>
                  <a:srgbClr val="491d49"/>
                </a:solidFill>
                <a:latin typeface="Times New Roman"/>
              </a:rPr>
              <a:t>  W zbiorze X może być więcej niż jeden element maksymalny lub minimalny ale jest co najwyżej jeden element największy i co najwyżej jeden element najmniejs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0BF-54CD-4D1C-A876-1A208902073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Impact"/>
              </a:rPr>
              <a:t>Kresy</a:t>
            </a: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2133720"/>
            <a:ext cx="64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ędzie relacją porządku w X oraz niech A będzie podzbiorem X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19320" y="2895480"/>
            <a:ext cx="51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raniczeniem górnym zbioru A  w X nazywamy taki element x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,  że 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0 dla wszystkich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403848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raniczeniem dolnym zbioru A  w X nazywamy taki element x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,  że  x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dla wszystkich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2895480"/>
            <a:ext cx="1981080" cy="1923480"/>
          </a:xfrm>
          <a:prstGeom prst="rect">
            <a:avLst/>
          </a:prstGeom>
          <a:solidFill>
            <a:srgbClr val="9d9d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91d49"/>
                </a:solidFill>
                <a:latin typeface="Times New Roman"/>
              </a:rPr>
              <a:t>Najmniejsze ograniczenie górne zbioru A nazywamy kresem górnym</a:t>
            </a:r>
            <a:br>
              <a:rPr sz="2000"/>
            </a:br>
            <a:r>
              <a:rPr b="0" lang="pl-PL" sz="2000" spc="-1" strike="noStrike">
                <a:solidFill>
                  <a:srgbClr val="491d49"/>
                </a:solidFill>
                <a:latin typeface="Times New Roman"/>
              </a:rPr>
              <a:t>(supremu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4952880"/>
            <a:ext cx="3733560" cy="1008720"/>
          </a:xfrm>
          <a:prstGeom prst="rect">
            <a:avLst/>
          </a:prstGeom>
          <a:solidFill>
            <a:srgbClr val="9d9d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91d49"/>
                </a:solidFill>
                <a:latin typeface="Times New Roman"/>
              </a:rPr>
              <a:t>Największe ograniczenie dolne zbioru A nazywamy kresem dolnym (infimu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1447920"/>
            <a:ext cx="1371600" cy="914400"/>
          </a:xfrm>
          <a:prstGeom prst="cloudCallout">
            <a:avLst>
              <a:gd name="adj1" fmla="val -27430"/>
              <a:gd name="adj2" fmla="val 92361"/>
            </a:avLst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91d49"/>
                </a:solidFill>
                <a:latin typeface="Times New Roman"/>
              </a:rPr>
              <a:t>Sup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5486400"/>
            <a:ext cx="1447560" cy="533520"/>
          </a:xfrm>
          <a:prstGeom prst="cloudCallout">
            <a:avLst>
              <a:gd name="adj1" fmla="val -74125"/>
              <a:gd name="adj2" fmla="val -80356"/>
            </a:avLst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91d49"/>
                </a:solidFill>
                <a:latin typeface="Times New Roman"/>
              </a:rPr>
              <a:t>In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B21-63F7-4054-BFD0-0E4C781F3DE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0044"/>
                </a:solidFill>
                <a:latin typeface="Impact"/>
              </a:rPr>
              <a:t>Przykład</a:t>
            </a:r>
            <a:endParaRPr b="0" lang="en-US" sz="4400" spc="-1" strike="noStrike">
              <a:solidFill>
                <a:srgbClr val="440044"/>
              </a:solidFill>
              <a:latin typeface="Impact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058840"/>
            <a:ext cx="5334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zważmy relacje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w N :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  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 wttw x jest dzielnikiem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to relacja porząd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3962520"/>
            <a:ext cx="327672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91d49"/>
                </a:solidFill>
                <a:latin typeface="Times New Roman"/>
              </a:rPr>
              <a:t>Co jest kresem górnym zbioru {n,m}, tzn. sup{n,m}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2819520"/>
            <a:ext cx="3048120" cy="1447560"/>
          </a:xfrm>
          <a:prstGeom prst="cloudCallout">
            <a:avLst>
              <a:gd name="adj1" fmla="val -71300"/>
              <a:gd name="adj2" fmla="val 92875"/>
            </a:avLst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91d49"/>
                </a:solidFill>
                <a:latin typeface="Times New Roman"/>
              </a:rPr>
              <a:t>Sup(n,m)=</a:t>
            </a:r>
            <a:br>
              <a:rPr sz="2000"/>
            </a:br>
            <a:r>
              <a:rPr b="0" lang="pl-PL" sz="2000" spc="-1" strike="noStrike">
                <a:solidFill>
                  <a:srgbClr val="491d49"/>
                </a:solidFill>
                <a:latin typeface="Times New Roman"/>
              </a:rPr>
              <a:t> najmniejsza wspólna</a:t>
            </a:r>
            <a:br>
              <a:rPr sz="2000"/>
            </a:br>
            <a:r>
              <a:rPr b="0" lang="pl-PL" sz="2000" spc="-1" strike="noStrike">
                <a:solidFill>
                  <a:srgbClr val="491d49"/>
                </a:solidFill>
                <a:latin typeface="Times New Roman"/>
              </a:rPr>
              <a:t> wielokrotność liczb n,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5410080"/>
            <a:ext cx="41911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91d49"/>
                </a:solidFill>
                <a:latin typeface="Times New Roman"/>
              </a:rPr>
              <a:t>A kres dolny? Tzn., inf{n,m} 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4572000"/>
            <a:ext cx="2438280" cy="1371600"/>
          </a:xfrm>
          <a:prstGeom prst="cloudCallout">
            <a:avLst>
              <a:gd name="adj1" fmla="val -87694"/>
              <a:gd name="adj2" fmla="val 39699"/>
            </a:avLst>
          </a:prstGeom>
          <a:solidFill>
            <a:srgbClr val="9d9d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91d49"/>
                </a:solidFill>
                <a:latin typeface="Times New Roman"/>
              </a:rPr>
              <a:t>Inf{n,m}=</a:t>
            </a:r>
            <a:br>
              <a:rPr sz="2000"/>
            </a:br>
            <a:r>
              <a:rPr b="0" lang="pl-PL" sz="2000" spc="-1" strike="noStrike">
                <a:solidFill>
                  <a:srgbClr val="491d49"/>
                </a:solidFill>
                <a:latin typeface="Times New Roman"/>
              </a:rPr>
              <a:t>największy wspólny</a:t>
            </a:r>
            <a:br>
              <a:rPr sz="2000"/>
            </a:br>
            <a:r>
              <a:rPr b="0" lang="pl-PL" sz="2000" spc="-1" strike="noStrike">
                <a:solidFill>
                  <a:srgbClr val="491d49"/>
                </a:solidFill>
                <a:latin typeface="Times New Roman"/>
              </a:rPr>
              <a:t> dzieln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C4B-9E99-4A83-BB1B-63B62004B1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1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16:02:13Z</dcterms:created>
  <dc:creator>andrzej</dc:creator>
  <dc:description/>
  <dc:language>en-US</dc:language>
  <cp:lastModifiedBy>Jacek Kaliński</cp:lastModifiedBy>
  <dcterms:modified xsi:type="dcterms:W3CDTF">2002-05-29T18:25:32Z</dcterms:modified>
  <cp:revision>23</cp:revision>
  <dc:subject/>
  <dc:title>Wykład 4</dc:title>
</cp:coreProperties>
</file>