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8043-FF4D-4EB0-BD9E-CA0F26AA9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em wykładu jest zdobycie umiejętności poprawnego wnioskowania i zrozumienie podstawowych pojęc matematycznych takich jak zbiór, funkcja, ciąg, relacja, graf itd. Tak się składa, że pojęcia te są również niezbędne z informatyce. Wykład  będzie zawierał elementy logiki matematycznej, teorii mnogości algebry abstrakcyjnejm kombinatoryki i rachunku prawdopodobieństwa. Wszystkie te tematy należą do działu, który od pewnego czasu zwie się Matematyką Dyskretn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yć może niektóre pojęcia i tematy poruszane w wykładzie będzą powtórzeniem materiału poznanego w szkole średniej. Niech to będzie okazją do ujednolocenia notacji przypomnienia pewnych definicji i poglebienia wied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DE9-0771-47B8-939B-2CD3B85C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1F6-377B-48AB-9F94-4545989C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9AB-2C72-46F0-9AD8-C1FCA63B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179-943D-454E-BEBC-903A93F8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868-0A7F-42C8-9310-32255263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F5E-7359-4AE1-8335-3AE80B4F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9EF8-0C02-4035-A771-A984C2E4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44C-0BBC-492C-A985-BEE49E12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4E1-9B54-4E16-A4AC-8765BEA1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102-974C-4D1B-BB3B-CB015CF9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33C6-D195-4C12-AADD-DC1A56E2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9D1D-F16E-444A-A47E-212E1D61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FBE1-E607-42B1-9B09-9A6415BA2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ykład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57400" y="3429000"/>
            <a:ext cx="501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GEBRA  ZBIORÓ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FC5-61EF-4633-A9B5-DF521A5842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kluzja a su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990720"/>
            <a:ext cx="7620120" cy="26845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wierdzenie   Dla dowolnych zbiorów A,  B,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  oraz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   i B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 , to 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  i C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D , to 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wttw 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=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038480"/>
            <a:ext cx="8381880" cy="2082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ch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oraz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. Wtedy x należy albo do A lub do B. Na mocy założenia , jeśli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, to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. Zatem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.Ponieważ powyższe rozumowanie jest poprawne dla dowolnego x więc udowodniliśmy, że jeśli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to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= 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wrotnie, załóżmy, że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= B. Jeżeli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wtedy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, a ponieważ  zbiory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 i  B są równe więc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Czyli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400800" y="3429000"/>
            <a:ext cx="205740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Dowód (4)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1A6-27EC-4EF8-984E-E7595A7814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oczyn zbi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219320"/>
            <a:ext cx="7315200" cy="23036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fini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czynem(przecięciem) zbiorów A i B nazywamy zbiór, którego elementami są  te elementy zbioru A , które są równocześnie elementami zbioru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wttw 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 i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4114800"/>
            <a:ext cx="1447560" cy="1447920"/>
          </a:xfrm>
          <a:prstGeom prst="ellipse">
            <a:avLst/>
          </a:prstGeom>
          <a:solidFill>
            <a:srgbClr val="ff66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3962520"/>
            <a:ext cx="1828800" cy="1447560"/>
          </a:xfrm>
          <a:prstGeom prst="ellipse">
            <a:avLst/>
          </a:prstGeom>
          <a:solidFill>
            <a:srgbClr val="99ff99">
              <a:alpha val="50000"/>
            </a:srgbClr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3886200"/>
            <a:ext cx="30481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365760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edy element nie należy do iloczyn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343400"/>
            <a:ext cx="4419360" cy="4597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 wttw   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     lub  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343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980720" y="44956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057040" y="4648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133720" y="4800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285640" y="4952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5257800"/>
            <a:ext cx="51814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kła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{2i : i&lt;16} B={3i : i&lt;11}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={0,6,12,18,24,30}= {6i : i &lt; 6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BED-BBCC-4144-88D1-784D21991F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07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łasności iloczy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914400"/>
            <a:ext cx="5790960" cy="2537640"/>
          </a:xfrm>
          <a:prstGeom prst="rect">
            <a:avLst/>
          </a:prstGeom>
          <a:solidFill>
            <a:srgbClr val="c0c0c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wierdzeni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dowolnych zbiorów A,B,C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=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=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2209680"/>
            <a:ext cx="1822320" cy="1295640"/>
          </a:xfrm>
          <a:prstGeom prst="cloudCallout">
            <a:avLst>
              <a:gd name="adj1" fmla="val -110888"/>
              <a:gd name="adj2" fmla="val 279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łączno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295280"/>
            <a:ext cx="1752480" cy="990720"/>
          </a:xfrm>
          <a:prstGeom prst="cloudCallout">
            <a:avLst>
              <a:gd name="adj1" fmla="val 70833"/>
              <a:gd name="adj2" fmla="val 895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mienn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886200"/>
            <a:ext cx="312444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191120"/>
            <a:ext cx="1600200" cy="121896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4191120"/>
            <a:ext cx="129528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4800600"/>
            <a:ext cx="1600200" cy="1295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809880"/>
            <a:ext cx="31240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4114800"/>
            <a:ext cx="1600200" cy="121932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4114800"/>
            <a:ext cx="129564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4724280"/>
            <a:ext cx="1600200" cy="1295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4343400"/>
            <a:ext cx="409680" cy="797040"/>
          </a:xfrm>
          <a:custGeom>
            <a:avLst/>
            <a:gdLst/>
            <a:ahLst/>
            <a:rect l="l" t="t" r="r" b="b"/>
            <a:pathLst>
              <a:path w="258" h="502">
                <a:moveTo>
                  <a:pt x="111" y="0"/>
                </a:moveTo>
                <a:cubicBezTo>
                  <a:pt x="103" y="16"/>
                  <a:pt x="96" y="34"/>
                  <a:pt x="86" y="49"/>
                </a:cubicBezTo>
                <a:cubicBezTo>
                  <a:pt x="80" y="59"/>
                  <a:pt x="68" y="64"/>
                  <a:pt x="62" y="74"/>
                </a:cubicBezTo>
                <a:cubicBezTo>
                  <a:pt x="22" y="139"/>
                  <a:pt x="25" y="224"/>
                  <a:pt x="0" y="294"/>
                </a:cubicBezTo>
                <a:cubicBezTo>
                  <a:pt x="16" y="354"/>
                  <a:pt x="13" y="372"/>
                  <a:pt x="74" y="392"/>
                </a:cubicBezTo>
                <a:cubicBezTo>
                  <a:pt x="82" y="416"/>
                  <a:pt x="90" y="441"/>
                  <a:pt x="98" y="465"/>
                </a:cubicBezTo>
                <a:cubicBezTo>
                  <a:pt x="102" y="477"/>
                  <a:pt x="111" y="502"/>
                  <a:pt x="111" y="502"/>
                </a:cubicBezTo>
                <a:cubicBezTo>
                  <a:pt x="138" y="460"/>
                  <a:pt x="149" y="445"/>
                  <a:pt x="196" y="429"/>
                </a:cubicBezTo>
                <a:cubicBezTo>
                  <a:pt x="254" y="371"/>
                  <a:pt x="247" y="351"/>
                  <a:pt x="258" y="257"/>
                </a:cubicBezTo>
                <a:cubicBezTo>
                  <a:pt x="248" y="201"/>
                  <a:pt x="249" y="151"/>
                  <a:pt x="209" y="110"/>
                </a:cubicBezTo>
                <a:cubicBezTo>
                  <a:pt x="205" y="94"/>
                  <a:pt x="205" y="75"/>
                  <a:pt x="196" y="61"/>
                </a:cubicBezTo>
                <a:cubicBezTo>
                  <a:pt x="189" y="51"/>
                  <a:pt x="126" y="8"/>
                  <a:pt x="111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24200" y="4816440"/>
            <a:ext cx="976320" cy="528840"/>
          </a:xfrm>
          <a:custGeom>
            <a:avLst/>
            <a:gdLst/>
            <a:ahLst/>
            <a:rect l="l" t="t" r="r" b="b"/>
            <a:pathLst>
              <a:path w="615" h="333">
                <a:moveTo>
                  <a:pt x="0" y="27"/>
                </a:moveTo>
                <a:cubicBezTo>
                  <a:pt x="133" y="17"/>
                  <a:pt x="183" y="0"/>
                  <a:pt x="307" y="15"/>
                </a:cubicBezTo>
                <a:cubicBezTo>
                  <a:pt x="376" y="32"/>
                  <a:pt x="443" y="49"/>
                  <a:pt x="503" y="88"/>
                </a:cubicBezTo>
                <a:cubicBezTo>
                  <a:pt x="533" y="181"/>
                  <a:pt x="489" y="70"/>
                  <a:pt x="552" y="149"/>
                </a:cubicBezTo>
                <a:cubicBezTo>
                  <a:pt x="560" y="159"/>
                  <a:pt x="558" y="174"/>
                  <a:pt x="564" y="186"/>
                </a:cubicBezTo>
                <a:cubicBezTo>
                  <a:pt x="615" y="292"/>
                  <a:pt x="565" y="158"/>
                  <a:pt x="601" y="260"/>
                </a:cubicBezTo>
                <a:cubicBezTo>
                  <a:pt x="543" y="316"/>
                  <a:pt x="459" y="289"/>
                  <a:pt x="392" y="333"/>
                </a:cubicBezTo>
                <a:cubicBezTo>
                  <a:pt x="233" y="294"/>
                  <a:pt x="344" y="325"/>
                  <a:pt x="258" y="296"/>
                </a:cubicBezTo>
                <a:cubicBezTo>
                  <a:pt x="233" y="288"/>
                  <a:pt x="209" y="280"/>
                  <a:pt x="184" y="272"/>
                </a:cubicBezTo>
                <a:cubicBezTo>
                  <a:pt x="172" y="268"/>
                  <a:pt x="147" y="260"/>
                  <a:pt x="147" y="260"/>
                </a:cubicBezTo>
                <a:cubicBezTo>
                  <a:pt x="139" y="252"/>
                  <a:pt x="132" y="242"/>
                  <a:pt x="123" y="235"/>
                </a:cubicBezTo>
                <a:cubicBezTo>
                  <a:pt x="112" y="226"/>
                  <a:pt x="96" y="221"/>
                  <a:pt x="86" y="211"/>
                </a:cubicBezTo>
                <a:cubicBezTo>
                  <a:pt x="35" y="160"/>
                  <a:pt x="84" y="190"/>
                  <a:pt x="49" y="137"/>
                </a:cubicBezTo>
                <a:cubicBezTo>
                  <a:pt x="39" y="123"/>
                  <a:pt x="25" y="112"/>
                  <a:pt x="13" y="100"/>
                </a:cubicBezTo>
                <a:cubicBezTo>
                  <a:pt x="9" y="88"/>
                  <a:pt x="0" y="77"/>
                  <a:pt x="0" y="64"/>
                </a:cubicBezTo>
                <a:cubicBezTo>
                  <a:pt x="0" y="5"/>
                  <a:pt x="83" y="10"/>
                  <a:pt x="123" y="2"/>
                </a:cubicBezTo>
                <a:cubicBezTo>
                  <a:pt x="229" y="16"/>
                  <a:pt x="188" y="15"/>
                  <a:pt x="245" y="15"/>
                </a:cubicBez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4792680"/>
            <a:ext cx="509400" cy="446040"/>
          </a:xfrm>
          <a:custGeom>
            <a:avLst/>
            <a:gdLst/>
            <a:ahLst/>
            <a:rect l="l" t="t" r="r" b="b"/>
            <a:pathLst>
              <a:path w="321" h="281">
                <a:moveTo>
                  <a:pt x="0" y="17"/>
                </a:moveTo>
                <a:cubicBezTo>
                  <a:pt x="94" y="21"/>
                  <a:pt x="193" y="0"/>
                  <a:pt x="282" y="30"/>
                </a:cubicBezTo>
                <a:cubicBezTo>
                  <a:pt x="321" y="43"/>
                  <a:pt x="244" y="116"/>
                  <a:pt x="233" y="128"/>
                </a:cubicBezTo>
                <a:cubicBezTo>
                  <a:pt x="229" y="148"/>
                  <a:pt x="231" y="171"/>
                  <a:pt x="221" y="189"/>
                </a:cubicBezTo>
                <a:cubicBezTo>
                  <a:pt x="210" y="209"/>
                  <a:pt x="172" y="238"/>
                  <a:pt x="172" y="238"/>
                </a:cubicBezTo>
                <a:cubicBezTo>
                  <a:pt x="168" y="250"/>
                  <a:pt x="171" y="269"/>
                  <a:pt x="159" y="275"/>
                </a:cubicBezTo>
                <a:cubicBezTo>
                  <a:pt x="148" y="281"/>
                  <a:pt x="133" y="270"/>
                  <a:pt x="123" y="262"/>
                </a:cubicBezTo>
                <a:cubicBezTo>
                  <a:pt x="104" y="248"/>
                  <a:pt x="90" y="229"/>
                  <a:pt x="74" y="213"/>
                </a:cubicBezTo>
                <a:cubicBezTo>
                  <a:pt x="66" y="205"/>
                  <a:pt x="57" y="197"/>
                  <a:pt x="49" y="189"/>
                </a:cubicBezTo>
                <a:cubicBezTo>
                  <a:pt x="41" y="181"/>
                  <a:pt x="25" y="164"/>
                  <a:pt x="25" y="164"/>
                </a:cubicBezTo>
                <a:cubicBezTo>
                  <a:pt x="24" y="160"/>
                  <a:pt x="0" y="95"/>
                  <a:pt x="0" y="91"/>
                </a:cubicBezTo>
                <a:cubicBezTo>
                  <a:pt x="10" y="9"/>
                  <a:pt x="57" y="17"/>
                  <a:pt x="0" y="17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70520" y="4676760"/>
            <a:ext cx="453960" cy="453960"/>
          </a:xfrm>
          <a:custGeom>
            <a:avLst/>
            <a:gdLst/>
            <a:ahLst/>
            <a:rect l="l" t="t" r="r" b="b"/>
            <a:pathLst>
              <a:path w="286" h="286">
                <a:moveTo>
                  <a:pt x="0" y="54"/>
                </a:moveTo>
                <a:cubicBezTo>
                  <a:pt x="80" y="0"/>
                  <a:pt x="150" y="21"/>
                  <a:pt x="245" y="29"/>
                </a:cubicBezTo>
                <a:cubicBezTo>
                  <a:pt x="286" y="70"/>
                  <a:pt x="271" y="77"/>
                  <a:pt x="233" y="115"/>
                </a:cubicBezTo>
                <a:cubicBezTo>
                  <a:pt x="232" y="119"/>
                  <a:pt x="217" y="269"/>
                  <a:pt x="196" y="274"/>
                </a:cubicBezTo>
                <a:cubicBezTo>
                  <a:pt x="180" y="278"/>
                  <a:pt x="163" y="282"/>
                  <a:pt x="147" y="286"/>
                </a:cubicBezTo>
                <a:cubicBezTo>
                  <a:pt x="112" y="263"/>
                  <a:pt x="84" y="236"/>
                  <a:pt x="49" y="213"/>
                </a:cubicBezTo>
                <a:cubicBezTo>
                  <a:pt x="32" y="160"/>
                  <a:pt x="14" y="108"/>
                  <a:pt x="0" y="54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0" y="3581280"/>
            <a:ext cx="3876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iagramy Eulera-Ven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CEB-580E-47B2-A74A-71874EE3DD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76520" y="914400"/>
            <a:ext cx="5790960" cy="2018160"/>
          </a:xfrm>
          <a:prstGeom prst="rect">
            <a:avLst/>
          </a:prstGeom>
          <a:solidFill>
            <a:srgbClr val="c0c0c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wierdzeni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dowolnych zbiorów A,B,C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) = A  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=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)  =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) =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886200"/>
            <a:ext cx="312444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4191120"/>
            <a:ext cx="1600200" cy="121896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4191120"/>
            <a:ext cx="129528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4800600"/>
            <a:ext cx="1600200" cy="1295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3809880"/>
            <a:ext cx="31240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114800"/>
            <a:ext cx="1600200" cy="121932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4114800"/>
            <a:ext cx="129564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724280"/>
            <a:ext cx="1600200" cy="1295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685800"/>
            <a:ext cx="1523880" cy="914400"/>
          </a:xfrm>
          <a:prstGeom prst="cloudCallout">
            <a:avLst>
              <a:gd name="adj1" fmla="val 78648"/>
              <a:gd name="adj2" fmla="val 574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aw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bsorb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1676520"/>
            <a:ext cx="1371600" cy="990360"/>
          </a:xfrm>
          <a:prstGeom prst="cloudCallout">
            <a:avLst>
              <a:gd name="adj1" fmla="val -87847"/>
              <a:gd name="adj2" fmla="val 259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aw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ozdzielno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4267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4191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4191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4191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4191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267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3429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441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4191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4114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191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4267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876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334120" y="52578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5486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5715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5867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352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2971800"/>
            <a:ext cx="220968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zykład dowodu (3)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240-4C39-4427-8856-5EA0C73BDE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óżnica symetrycz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676520"/>
            <a:ext cx="7543800" cy="174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óznicą symetryczną zbiorów A, B nazywamy zbiór 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taki, ż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lub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 ale x nie należy do obu zbiorów równocześ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4419720"/>
            <a:ext cx="525780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 A= {2i : i&lt;6}     B= {3i : i&lt;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 = {2, 3,4,8,9,10,1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= {0,2,3,4,6,8,9,10,12,1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3886200"/>
            <a:ext cx="121932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4191120"/>
            <a:ext cx="1295640" cy="1066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477120" y="3886200"/>
            <a:ext cx="1371600" cy="1371600"/>
            <a:chOff x="6477120" y="3886200"/>
            <a:chExt cx="1371600" cy="1371600"/>
          </a:xfrm>
        </p:grpSpPr>
        <p:sp>
          <p:nvSpPr>
            <p:cNvPr id="204" name=""/>
            <p:cNvSpPr/>
            <p:nvPr/>
          </p:nvSpPr>
          <p:spPr>
            <a:xfrm>
              <a:off x="6477120" y="4114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29400" y="396252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81680" y="38862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343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6600" y="388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3888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4267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96080" y="4267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48720" y="4343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91520" y="4876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38880" y="5029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172200" y="3809880"/>
            <a:ext cx="23623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4C2-7578-4214-A030-E1F8453B17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óżnica zbi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1295280"/>
            <a:ext cx="7848360" cy="1747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finicja Różnicą zbiorów A i B nazywamy zbiór , którego elementami są te obiekty zbioru A, które nie są równocześnie elementami zbioru B.Różnicę zbiorów oznaczamy przez A\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\B wttw 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 i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5638680"/>
            <a:ext cx="4572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\ B wttw 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  lub 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3657600"/>
            <a:ext cx="182880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3733920"/>
            <a:ext cx="1676520" cy="137160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3505320"/>
            <a:ext cx="32767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600200" y="3657600"/>
            <a:ext cx="1219320" cy="1523880"/>
            <a:chOff x="1600200" y="3657600"/>
            <a:chExt cx="1219320" cy="1523880"/>
          </a:xfrm>
        </p:grpSpPr>
        <p:sp>
          <p:nvSpPr>
            <p:cNvPr id="223" name=""/>
            <p:cNvSpPr/>
            <p:nvPr/>
          </p:nvSpPr>
          <p:spPr>
            <a:xfrm>
              <a:off x="1600200" y="403848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28800" y="38098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57400" y="37339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0" y="36576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14600" y="36576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66880" y="3657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6880" y="4648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19520" y="3733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19520" y="4876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876920" y="3352680"/>
            <a:ext cx="3809880" cy="178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 {1,2,3,4,5,6} B={ 2i+1: i&lt;5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\B = {2,4,6}  B\A = {7,9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5181480"/>
            <a:ext cx="3200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wa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  wttw 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\B lub 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\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04E-77D8-43A3-A59C-1F969CD612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łasności różn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990720"/>
            <a:ext cx="5791320" cy="26845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wierdzen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Dla dowolnych zbiorów A,B,C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\B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wttw A\B 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,  to  C\B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\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A \(B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)= (A\B)\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3809880"/>
            <a:ext cx="5943600" cy="10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wód (4):  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 \(B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C) wttw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 i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B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C)  wttw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 i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 i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 wttw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\B i x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 wttw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(A \B)\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1523880"/>
            <a:ext cx="914400" cy="9144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1371600"/>
            <a:ext cx="137160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91520" y="1371600"/>
            <a:ext cx="1447560" cy="137160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3657600"/>
            <a:ext cx="914400" cy="91440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3505320"/>
            <a:ext cx="137160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3505320"/>
            <a:ext cx="1447560" cy="137160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772400" y="1371600"/>
            <a:ext cx="914400" cy="1371600"/>
            <a:chOff x="7772400" y="1371600"/>
            <a:chExt cx="914400" cy="1371600"/>
          </a:xfrm>
        </p:grpSpPr>
        <p:sp>
          <p:nvSpPr>
            <p:cNvPr id="244" name=""/>
            <p:cNvSpPr/>
            <p:nvPr/>
          </p:nvSpPr>
          <p:spPr>
            <a:xfrm>
              <a:off x="7924680" y="1371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77320" y="13716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600" y="13716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81880" y="14479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534520" y="15238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686800" y="16765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72400" y="144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543800" y="3505320"/>
            <a:ext cx="1219320" cy="1371600"/>
            <a:chOff x="7543800" y="3505320"/>
            <a:chExt cx="1219320" cy="1371600"/>
          </a:xfrm>
        </p:grpSpPr>
        <p:sp>
          <p:nvSpPr>
            <p:cNvPr id="252" name=""/>
            <p:cNvSpPr/>
            <p:nvPr/>
          </p:nvSpPr>
          <p:spPr>
            <a:xfrm>
              <a:off x="7696080" y="3657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48720" y="35816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3800" y="4496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96080" y="4419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01000" y="35053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53280" y="35053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05920" y="35053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58200" y="35816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610480" y="37339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763120" y="38865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629400" y="5638680"/>
            <a:ext cx="2133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\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\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086600" y="685800"/>
            <a:ext cx="1419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7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wód 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5105520"/>
            <a:ext cx="373392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\(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) = (A\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\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\(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) = (A\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\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600" y="5334120"/>
            <a:ext cx="194328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Prawa de Morgana</a:t>
            </a:r>
            <a:endParaRPr b="0" lang="en-US" sz="2000" spc="1" strike="noStrike">
              <a:ln w="0">
                <a:noFill/>
              </a:ln>
              <a:solidFill>
                <a:srgbClr val="3333cc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5D5-5868-4D6E-8666-BE5D593A45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5720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pełnienie zbio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2286000"/>
            <a:ext cx="7315200" cy="24789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cja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pełnieniem(Uzupełnieniem) zbioru A w przestrzeni U nazywamy zbiór -A, którego elementami  są wszystkie elementy  przestrzeni U nie należące do zbioru A, tzn. dla dowolnego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 i dowolnego podzbioru A przestrzeni 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A wttw 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066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zastosowaniach algebry zbiorów bardzo często ograniczamy się do  podzbiorów pewnego ustalonego zbioru. Nazywać go będziemy uniwersum, lub przestrzeni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3962520"/>
            <a:ext cx="396216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zywiście mamy  U\A = -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029200"/>
            <a:ext cx="426708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iech uniwersum U=N oraz A={2i: 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}.  Wtedy -A jest zbiorem wszystkich liczb nieparzyst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4952880"/>
            <a:ext cx="236232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00800" y="5105520"/>
            <a:ext cx="8380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4F4-7E5D-47E5-B1C2-3587787DB1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łasności dopełnie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990720"/>
            <a:ext cx="5791320" cy="24940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wierdzen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Dla dowolnych zbiorów A,B pewnego uniwersum  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(-A )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śli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,  to -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-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4800600"/>
            <a:ext cx="3276360" cy="1015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ae6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A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3733920"/>
            <a:ext cx="2809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awa  de  Morgan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962520" y="1676520"/>
            <a:ext cx="2209680" cy="1828800"/>
            <a:chOff x="3962520" y="1676520"/>
            <a:chExt cx="2209680" cy="1828800"/>
          </a:xfrm>
        </p:grpSpPr>
        <p:sp>
          <p:nvSpPr>
            <p:cNvPr id="278" name=""/>
            <p:cNvSpPr/>
            <p:nvPr/>
          </p:nvSpPr>
          <p:spPr>
            <a:xfrm>
              <a:off x="3962520" y="1676520"/>
              <a:ext cx="220968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38720" y="2042280"/>
              <a:ext cx="846000" cy="8881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14560" y="1989720"/>
              <a:ext cx="1081080" cy="109728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09320" y="1833120"/>
              <a:ext cx="21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62520" y="19897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62520" y="2146680"/>
              <a:ext cx="94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96800" y="2094480"/>
              <a:ext cx="117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62520" y="2355840"/>
              <a:ext cx="75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62520" y="2564640"/>
              <a:ext cx="75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62520" y="2773800"/>
              <a:ext cx="75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62520" y="2930400"/>
              <a:ext cx="98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84720" y="2407680"/>
              <a:ext cx="98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84720" y="2616840"/>
              <a:ext cx="98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43960" y="2773800"/>
              <a:ext cx="11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02840" y="2930400"/>
              <a:ext cx="126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90760" y="2251080"/>
              <a:ext cx="10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62520" y="308736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62520" y="34009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62520" y="324396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248520" y="1676520"/>
            <a:ext cx="2209680" cy="1828800"/>
            <a:chOff x="6248520" y="1676520"/>
            <a:chExt cx="2209680" cy="1828800"/>
          </a:xfrm>
        </p:grpSpPr>
        <p:sp>
          <p:nvSpPr>
            <p:cNvPr id="298" name=""/>
            <p:cNvSpPr/>
            <p:nvPr/>
          </p:nvSpPr>
          <p:spPr>
            <a:xfrm>
              <a:off x="6248520" y="1676520"/>
              <a:ext cx="220968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24360" y="2042280"/>
              <a:ext cx="846000" cy="8881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00560" y="1989720"/>
              <a:ext cx="1081440" cy="109728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95320" y="1833120"/>
              <a:ext cx="216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48520" y="19897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48520" y="214668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82440" y="2094480"/>
              <a:ext cx="117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48520" y="2355840"/>
              <a:ext cx="42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48520" y="2564640"/>
              <a:ext cx="37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48520" y="27738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48520" y="2930400"/>
              <a:ext cx="98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70720" y="2407680"/>
              <a:ext cx="98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70720" y="2616840"/>
              <a:ext cx="98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29600" y="2773800"/>
              <a:ext cx="11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88480" y="2930400"/>
              <a:ext cx="126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76760" y="225108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48520" y="308736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48520" y="340092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48520" y="324396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648320" y="3657600"/>
            <a:ext cx="3581280" cy="2666880"/>
            <a:chOff x="4648320" y="3657600"/>
            <a:chExt cx="3581280" cy="2666880"/>
          </a:xfrm>
        </p:grpSpPr>
        <p:sp>
          <p:nvSpPr>
            <p:cNvPr id="318" name=""/>
            <p:cNvSpPr/>
            <p:nvPr/>
          </p:nvSpPr>
          <p:spPr>
            <a:xfrm>
              <a:off x="4648320" y="3657600"/>
              <a:ext cx="3581280" cy="2666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57800" y="4190760"/>
              <a:ext cx="1371600" cy="129564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67280" y="4114800"/>
              <a:ext cx="1752840" cy="160020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24280" y="388620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48320" y="411480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48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38880" y="42670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48320" y="46479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48320" y="4952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48320" y="5257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48320" y="5486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43800" y="4724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20120" y="5029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4380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91520" y="5486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7480" y="4495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48320" y="571500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48320" y="617220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48320" y="594360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A96-9EAA-4C7F-AE5F-0B2EFB3367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08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ziałania nieskończone</a:t>
            </a:r>
            <a:br>
              <a:rPr sz="4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tego nie było trzeba zrobić później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1371600"/>
            <a:ext cx="7696080" cy="29214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cj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iech będzie rodzina zbiorów  A= {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: 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umą nieskończonej rodziny zbiorów nazywamy zbiór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taki, że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ttw istnieje takie 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, że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czynem (lub przecięciem) nieskończonej rodziny zbiorów nazywamy zbiór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taki, że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ttw dla wszystkich 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, 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4343400"/>
            <a:ext cx="8458200" cy="1532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zykła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 1.Niech dla 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,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zbiór ciągów długości  i o elementach z pewnego zbioru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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tedy zbiór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{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 : x&lt;i}  dla 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{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 : x&lt;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601992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14600" y="5791320"/>
            <a:ext cx="22860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57913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0010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F36-CD67-4ACA-A1E9-B8F651C312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bió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066680"/>
            <a:ext cx="74678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zykła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biór studentów 1go roku PJWS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biór książek w bibliot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biór liczb naturalnych (ozn.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biór liczb rzeczywistych (ozn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biór słów nad alfabetem A (ozn. A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419720"/>
            <a:ext cx="5715000" cy="1747440"/>
          </a:xfrm>
          <a:prstGeom prst="rect">
            <a:avLst/>
          </a:prstGeom>
          <a:solidFill>
            <a:srgbClr val="ff99ff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ział matematyki, którego zadaniem jest badanie ogólnych własności zbiorów nazywamy Teorią Mnog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 jego twórcę uważa się George Can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380880"/>
            <a:ext cx="3581280" cy="2844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miast mówić, że 5 jest liczbą naturalną, mówimy, że 5 należy do zbioru liczb naturalnych i piszemy 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zywamy relacją należ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3124080"/>
            <a:ext cx="28195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śli element nie należy do zbioru, np. -2.5 nie jest liczbą naturalną, tzn. -2.5 nie należy do zbioru N, tzn. -2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FC4-2BAF-4E57-AEE8-2C02C73D10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owanie zbi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5943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z wymienienie ich elem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z podanie własności, które muszą spełniać elem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z podanie sposobu wyliczania elemen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295280"/>
            <a:ext cx="304776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 {a,b,c,d,e,f,g}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590920"/>
            <a:ext cx="289548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= {x : 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oraz  x&lt;6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429000"/>
            <a:ext cx="304812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 {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 :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86200"/>
            <a:ext cx="426708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śli zbiór nie posiada żadnych elementów, to powiemy że jest pusty. Zbiór pusty oznaczamy przez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1219320"/>
            <a:ext cx="2895480" cy="4863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biór A nie jest pusty, bo należy do niego element a.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śli jakiś obiekt nie należy do zbioru, to używamy symbol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p.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 ma takiego obiektu, który należałby  do zbioru pusteg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5029200"/>
            <a:ext cx="419076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zykład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Jeśli A= {0,1},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000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*, 010101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*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 zbioru A* zalicza się też ciąg pusty ozn.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9380-7894-4533-A23B-67B20552BB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ówność zbi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371600"/>
            <a:ext cx="7543800" cy="192276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finic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iemy, że dwa zbiory są równe wtedy i tylko wte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y mają dokładnie te same elem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= B  wttw  dla dowolnego x, jeżeli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, to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i odwrotnie jeżeli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, to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657600"/>
            <a:ext cx="4952880" cy="132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{5,50,500,5000} = {5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i x&lt;4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{5000,5,50,50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410080"/>
            <a:ext cx="5334120" cy="459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waga :    Jeżeli A = B i B= C , to A =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3657600"/>
            <a:ext cx="2514600" cy="192348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 wttw istnieje taki element zbioru A, który nie należy do B lub istnieje taki element zbioru B, który nie należy do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FFF-05CA-4F45-8A52-6E09472415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ja zawier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295280"/>
            <a:ext cx="7924680" cy="1381680"/>
          </a:xfrm>
          <a:prstGeom prst="rect">
            <a:avLst/>
          </a:prstGeom>
          <a:solidFill>
            <a:srgbClr val="ffcc99"/>
          </a:solidFill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fini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iemy, że zbiór A zawiera się w  zbiorze B, ozn. 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wttw  dla dowolnego obiektu x, jeśli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, to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819520"/>
            <a:ext cx="4267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A=B, to również 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 zbiorze A mówimy, że jest podzbiorem zbioru B, a o B mówimy, że jest nadzbiorem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 i 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, to mówimy, że A jest właściwym podzbiorem zbioru B, ozn. 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86600" y="838080"/>
            <a:ext cx="1752480" cy="914400"/>
          </a:xfrm>
          <a:prstGeom prst="cloudCallout">
            <a:avLst>
              <a:gd name="adj1" fmla="val -48370"/>
              <a:gd name="adj2" fmla="val 69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kluz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3200400"/>
            <a:ext cx="2210040" cy="1676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3962520"/>
            <a:ext cx="83844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5181480"/>
            <a:ext cx="4267080" cy="78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zykłady:  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, Q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,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d, a}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{a,b,c,d,e,f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3252960"/>
            <a:ext cx="990720" cy="1067400"/>
          </a:xfrm>
          <a:prstGeom prst="borderCallout2">
            <a:avLst>
              <a:gd name="adj1" fmla="val 18750"/>
              <a:gd name="adj2" fmla="val -8333"/>
              <a:gd name="adj3" fmla="val 10587"/>
              <a:gd name="adj4" fmla="val -26120"/>
              <a:gd name="adj5" fmla="val 97837"/>
              <a:gd name="adj6" fmla="val -9229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jest zawarty w zbiorz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862360"/>
            <a:ext cx="1523880" cy="580680"/>
          </a:xfrm>
          <a:prstGeom prst="borderCallout2">
            <a:avLst>
              <a:gd name="adj1" fmla="val 18750"/>
              <a:gd name="adj2" fmla="val -8333"/>
              <a:gd name="adj3" fmla="val 19356"/>
              <a:gd name="adj4" fmla="val 125625"/>
              <a:gd name="adj5" fmla="val 165671"/>
              <a:gd name="adj6" fmla="val 1470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biór B zawiera zbió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25E-1459-46F0-B302-21290DC72C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38088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zbiór A nie zawiera się w zbiorze B, tzn. nie jest prawdą, że zbiór A jest zawarty w zbiorze B, to musi istnieć taki obiekt (element), który należy do zboru A  i jednocześnie nie należy do zbioru B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362320"/>
            <a:ext cx="160020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2438280"/>
            <a:ext cx="1447920" cy="114300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362320"/>
            <a:ext cx="13716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2666880"/>
            <a:ext cx="1219320" cy="114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4191120"/>
            <a:ext cx="4267080" cy="825480"/>
          </a:xfrm>
          <a:prstGeom prst="rect">
            <a:avLst/>
          </a:prstGeom>
          <a:solidFill>
            <a:srgbClr val="ffcc99"/>
          </a:solidFill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 wttw istnieje takie x, że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i 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33720"/>
            <a:ext cx="2971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2209680"/>
            <a:ext cx="33526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495680"/>
            <a:ext cx="25909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4648320"/>
            <a:ext cx="213372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5181480"/>
            <a:ext cx="1143000" cy="533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334120"/>
            <a:ext cx="502920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zykład. Zbiór liczb podzielnych przez 2 nie jest podzbiorem zbioru liczb podzielnych przez 5, bo  np. 4 jest podzielne przez 2 a nie jest podzielne przez 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344-9A4B-42FB-8E7B-7B0B593FF6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łasności inkluz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009800"/>
            <a:ext cx="5791320" cy="3240720"/>
          </a:xfrm>
          <a:prstGeom prst="rect">
            <a:avLst/>
          </a:prstGeom>
          <a:solidFill>
            <a:srgbClr val="c0c0c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wierdzeni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Dla dowolnych zbiorów A,B,C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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oraz B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, to 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oraz B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, to A =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, to non 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lub non B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1523880"/>
            <a:ext cx="5029200" cy="45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ae6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waga  Jeśli 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to   { x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2133720"/>
            <a:ext cx="2286000" cy="33858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biór, który składa się z wszystkich podzbiorów pewnego zbioru  A nazywa się zbiorem potęgowym. Ozn. P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4876920"/>
            <a:ext cx="3809880" cy="1008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ch A={1,2,3}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edy P(A) =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{1},{2}, {3}, {1,2},{2,3},{1,3}, {1,2,3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4267080"/>
            <a:ext cx="1076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rzykład</a:t>
            </a:r>
            <a:endParaRPr b="0" lang="en-US" sz="24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4724280"/>
            <a:ext cx="198144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924-44BC-49E9-9AF9-272E39D1C5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a zbi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371600"/>
            <a:ext cx="7543800" cy="23036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fini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umą zbiorów A i B nazywamy zbiór, którego elementami są wszystkie elementy zbioru A i wszystkie elementy zbioru B. Sumę zbiorów A i B oznaczamy  przez 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wttw 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A lub x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267080"/>
            <a:ext cx="3733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waga  Kiedy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  wttw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A   i   x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5562720"/>
            <a:ext cx="8534160" cy="76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kład. A={3k: 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}, B= {2k : 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}. 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= {n: n jest liczbą,, która dzieli się przez 2 lub przez 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886200"/>
            <a:ext cx="1676160" cy="1447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3886200"/>
            <a:ext cx="182880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257440" y="403848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62720" y="3886200"/>
            <a:ext cx="3045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943240" y="3962520"/>
            <a:ext cx="3049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48520" y="3962520"/>
            <a:ext cx="3045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552720" y="3886200"/>
            <a:ext cx="3049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934320" y="3962520"/>
            <a:ext cx="3045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7314840" y="411480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619760" y="44197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8C4-5666-4E1F-8409-D49EA00B43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łasności su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914400"/>
            <a:ext cx="5791320" cy="3093840"/>
          </a:xfrm>
          <a:prstGeom prst="rect">
            <a:avLst/>
          </a:prstGeom>
          <a:solidFill>
            <a:srgbClr val="c0c0c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er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dowolnych zbiorów A,B,C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=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=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419720"/>
            <a:ext cx="853416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ae6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waga  Powyższe równości można udowodnić wykazując, że jeżeli  element należy do lewej strony równości, to należy do prawej strony i odwrot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2209680"/>
            <a:ext cx="2286000" cy="1295640"/>
          </a:xfrm>
          <a:prstGeom prst="cloudCallout">
            <a:avLst>
              <a:gd name="adj1" fmla="val -80833"/>
              <a:gd name="adj2" fmla="val 639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łącznoś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523880"/>
            <a:ext cx="1600200" cy="990720"/>
          </a:xfrm>
          <a:prstGeom prst="cloudCallout">
            <a:avLst>
              <a:gd name="adj1" fmla="val 69046"/>
              <a:gd name="adj2" fmla="val 119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mienn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azyna Mirkowska    Matematyka Dyskretna  PJWSTK 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DFB-E235-4EF5-9AB1-C82053A36B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3:36:13Z</dcterms:created>
  <dc:creator>andrzej</dc:creator>
  <dc:description/>
  <dc:language>en-US</dc:language>
  <cp:lastModifiedBy>Jacek Kaliński</cp:lastModifiedBy>
  <dcterms:modified xsi:type="dcterms:W3CDTF">2002-05-29T17:38:20Z</dcterms:modified>
  <cp:revision>31</cp:revision>
  <dc:subject/>
  <dc:title>Wykład 1</dc:title>
</cp:coreProperties>
</file>