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6D4-2027-4D20-BA47-6CAEADD7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E8B-4BB4-41A3-8903-6BCCC593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65C-5370-4854-8A5C-FBAF109E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8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93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4EA-B8C9-4127-9C11-22C883C8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A4F3-AA94-4E8D-8D2C-C9F64069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698F-CE81-4312-82BB-EE8BB9F0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BFA4-5D52-4449-BA75-E288E1B2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CD59-95E0-4B7D-90AA-6749157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B13-958A-498B-8CCA-104A0C8F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CB1D-846A-4777-9F7D-029F30E4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9C1-4572-4FA4-93E5-9A91621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75E-8E16-47DC-80F0-48448BA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96B7-5EA8-44B2-9289-4081323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FCEB-8E86-4E69-A274-6BC2A8A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D7A-F92B-4D64-920C-B9ACF31E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E220-F971-43A7-8B2F-459261B2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4F09-4575-4497-996C-95409424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548-8E58-4B5F-B4C5-ACCEA36F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47B-B314-4E9C-A82A-1008FAD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FCB-D009-4D1A-BE42-AC32251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3EA-58C1-4C8D-A50D-21B52973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CD5-CEB4-4DBD-9704-CB44A76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EFC-335E-41A6-B9BF-A32FE026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3DB-69B5-4B3F-80E9-C0541C5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F9C-1CD4-4F95-B4BF-293E8EFA757E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219320"/>
            <a:ext cx="761976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D7CB-1E05-4863-89DD-6489380537D4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D:\Dydaktyka\ASD2002\index.html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04  Podstawowe struktury danych. 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 II rok semestr letni 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Przykład : Algorytm ‘Turniej’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 rot="5400000">
            <a:off x="-15264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 - Turniej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1905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137160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etoda polega na porównywaniu sąsiednich elementów ciągu. Elementy większe (wygrywające) przechodzą do następnej ‘rundy’.Elementu drugiego co do wielkości szukamy wśród elementów, które przegrały z największym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86000" y="2895480"/>
            <a:ext cx="5943600" cy="381240"/>
            <a:chOff x="2286000" y="2895480"/>
            <a:chExt cx="5943600" cy="381240"/>
          </a:xfrm>
        </p:grpSpPr>
        <p:sp>
          <p:nvSpPr>
            <p:cNvPr id="269" name=""/>
            <p:cNvSpPr/>
            <p:nvPr/>
          </p:nvSpPr>
          <p:spPr>
            <a:xfrm>
              <a:off x="3048120" y="2895480"/>
              <a:ext cx="53316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8620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8600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608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588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2895480"/>
              <a:ext cx="53316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715000" y="3276720"/>
            <a:ext cx="685440" cy="609480"/>
            <a:chOff x="5715000" y="3276720"/>
            <a:chExt cx="685440" cy="609480"/>
          </a:xfrm>
        </p:grpSpPr>
        <p:sp>
          <p:nvSpPr>
            <p:cNvPr id="278" name=""/>
            <p:cNvSpPr/>
            <p:nvPr/>
          </p:nvSpPr>
          <p:spPr>
            <a:xfrm>
              <a:off x="571500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9552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666880" y="388620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388620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3886200"/>
            <a:ext cx="53316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88620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191120" y="3276720"/>
            <a:ext cx="685440" cy="609480"/>
            <a:chOff x="4191120" y="3276720"/>
            <a:chExt cx="685440" cy="609480"/>
          </a:xfrm>
        </p:grpSpPr>
        <p:sp>
          <p:nvSpPr>
            <p:cNvPr id="285" name=""/>
            <p:cNvSpPr/>
            <p:nvPr/>
          </p:nvSpPr>
          <p:spPr>
            <a:xfrm>
              <a:off x="419112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57164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590920" y="3276720"/>
            <a:ext cx="685440" cy="609480"/>
            <a:chOff x="2590920" y="3276720"/>
            <a:chExt cx="685440" cy="609480"/>
          </a:xfrm>
        </p:grpSpPr>
        <p:sp>
          <p:nvSpPr>
            <p:cNvPr id="288" name=""/>
            <p:cNvSpPr/>
            <p:nvPr/>
          </p:nvSpPr>
          <p:spPr>
            <a:xfrm>
              <a:off x="259092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97144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162920" y="3276720"/>
            <a:ext cx="685440" cy="609480"/>
            <a:chOff x="7162920" y="3276720"/>
            <a:chExt cx="685440" cy="609480"/>
          </a:xfrm>
        </p:grpSpPr>
        <p:sp>
          <p:nvSpPr>
            <p:cNvPr id="291" name=""/>
            <p:cNvSpPr/>
            <p:nvPr/>
          </p:nvSpPr>
          <p:spPr>
            <a:xfrm>
              <a:off x="716292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4344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048120" y="4191120"/>
            <a:ext cx="1371240" cy="685800"/>
            <a:chOff x="3048120" y="4191120"/>
            <a:chExt cx="1371240" cy="685800"/>
          </a:xfrm>
        </p:grpSpPr>
        <p:sp>
          <p:nvSpPr>
            <p:cNvPr id="294" name=""/>
            <p:cNvSpPr/>
            <p:nvPr/>
          </p:nvSpPr>
          <p:spPr>
            <a:xfrm>
              <a:off x="3048120" y="41911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733560" y="41911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95880" y="4267080"/>
            <a:ext cx="1371240" cy="685800"/>
            <a:chOff x="6095880" y="4267080"/>
            <a:chExt cx="1371240" cy="685800"/>
          </a:xfrm>
        </p:grpSpPr>
        <p:sp>
          <p:nvSpPr>
            <p:cNvPr id="297" name=""/>
            <p:cNvSpPr/>
            <p:nvPr/>
          </p:nvSpPr>
          <p:spPr>
            <a:xfrm>
              <a:off x="6095880" y="426708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781320" y="426708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429000" y="487692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4952880"/>
            <a:ext cx="533520" cy="3812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5638680"/>
            <a:ext cx="533520" cy="3812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62520" y="5105520"/>
            <a:ext cx="2590200" cy="609480"/>
            <a:chOff x="3962520" y="5105520"/>
            <a:chExt cx="2590200" cy="609480"/>
          </a:xfrm>
        </p:grpSpPr>
        <p:sp>
          <p:nvSpPr>
            <p:cNvPr id="303" name=""/>
            <p:cNvSpPr/>
            <p:nvPr/>
          </p:nvSpPr>
          <p:spPr>
            <a:xfrm>
              <a:off x="3962520" y="5105520"/>
              <a:ext cx="9903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09720" y="5181480"/>
              <a:ext cx="11430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BE2-49B9-4C45-9C39-1C86E99B70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Struktura danych dla  algorytmu ‘Turniej’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1752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astępny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lement głównej lis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3048120"/>
            <a:ext cx="99036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2767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sta elementów, które przegrały z e (kandydaci do drugiego miejsc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95280" y="3809880"/>
            <a:ext cx="2362320" cy="1828800"/>
            <a:chOff x="1295280" y="3809880"/>
            <a:chExt cx="2362320" cy="1828800"/>
          </a:xfrm>
        </p:grpSpPr>
        <p:sp>
          <p:nvSpPr>
            <p:cNvPr id="310" name=""/>
            <p:cNvSpPr/>
            <p:nvPr/>
          </p:nvSpPr>
          <p:spPr>
            <a:xfrm>
              <a:off x="2286000" y="3809880"/>
              <a:ext cx="762120" cy="685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e’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3809880"/>
              <a:ext cx="609480" cy="685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402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0400" y="4343400"/>
              <a:ext cx="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0" y="4724280"/>
              <a:ext cx="762120" cy="685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e”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8120" y="4724280"/>
              <a:ext cx="609480" cy="685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402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00400" y="5257800"/>
              <a:ext cx="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 rot="5400000">
              <a:off x="825120" y="4356000"/>
              <a:ext cx="1587600" cy="648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STO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371600" y="1600200"/>
            <a:ext cx="2286000" cy="1523880"/>
            <a:chOff x="1371600" y="1600200"/>
            <a:chExt cx="2286000" cy="1523880"/>
          </a:xfrm>
        </p:grpSpPr>
        <p:grpSp>
          <p:nvGrpSpPr>
            <p:cNvPr id="318" name=""/>
            <p:cNvGrpSpPr/>
            <p:nvPr/>
          </p:nvGrpSpPr>
          <p:grpSpPr>
            <a:xfrm>
              <a:off x="1371600" y="2514600"/>
              <a:ext cx="2286000" cy="609480"/>
              <a:chOff x="1371600" y="2514600"/>
              <a:chExt cx="2286000" cy="609480"/>
            </a:xfrm>
          </p:grpSpPr>
          <p:sp>
            <p:nvSpPr>
              <p:cNvPr id="319" name=""/>
              <p:cNvSpPr/>
              <p:nvPr/>
            </p:nvSpPr>
            <p:spPr>
              <a:xfrm>
                <a:off x="1371600" y="2514600"/>
                <a:ext cx="1371600" cy="60948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43200" y="2514600"/>
                <a:ext cx="914400" cy="304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next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43200" y="2819520"/>
                <a:ext cx="91440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stosp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 txBox="1"/>
            <p:nvPr/>
          </p:nvSpPr>
          <p:spPr>
            <a:xfrm>
              <a:off x="1676520" y="1600200"/>
              <a:ext cx="1218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LISTA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V="1">
            <a:off x="3276720" y="2361960"/>
            <a:ext cx="129528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2286000"/>
            <a:ext cx="2895480" cy="106668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OGNIWO lis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724280" y="2209680"/>
            <a:ext cx="2438280" cy="761760"/>
            <a:chOff x="4724280" y="2209680"/>
            <a:chExt cx="2438280" cy="761760"/>
          </a:xfrm>
        </p:grpSpPr>
        <p:sp>
          <p:nvSpPr>
            <p:cNvPr id="326" name=""/>
            <p:cNvSpPr/>
            <p:nvPr/>
          </p:nvSpPr>
          <p:spPr>
            <a:xfrm>
              <a:off x="4724280" y="2209680"/>
              <a:ext cx="1256040" cy="5079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80320" y="2209680"/>
              <a:ext cx="664920" cy="253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402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0320" y="2463480"/>
              <a:ext cx="664920" cy="2538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402000"/>
                  </a:solidFill>
                  <a:latin typeface="Times New Roman"/>
                </a:rPr>
                <a:t>stosp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571800" y="2293920"/>
              <a:ext cx="443160" cy="84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97640" y="2633040"/>
              <a:ext cx="664920" cy="338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A39-1C2A-460B-A070-F33F5674C5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Algorytm ‘Turniej’ -  implementacj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676520"/>
            <a:ext cx="4724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or i := 1 to n div 2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if e[i]  &gt; e[i+1] then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L:= push(i,L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L.stosp := push(i+1, L.stosp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L:= push(i+1, L);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L.stosp := push(i, L.stosp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fi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12952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Tworzenie wyników pierwszej rund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4114800"/>
            <a:ext cx="1447920" cy="1752480"/>
            <a:chOff x="5486400" y="4114800"/>
            <a:chExt cx="1447920" cy="1752480"/>
          </a:xfrm>
        </p:grpSpPr>
        <p:sp>
          <p:nvSpPr>
            <p:cNvPr id="335" name=""/>
            <p:cNvSpPr/>
            <p:nvPr/>
          </p:nvSpPr>
          <p:spPr>
            <a:xfrm>
              <a:off x="5486400" y="4114800"/>
              <a:ext cx="68580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i+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4114800"/>
              <a:ext cx="457200" cy="1522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72200" y="4267080"/>
              <a:ext cx="4572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00800" y="419076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00800" y="441936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72200" y="4876560"/>
              <a:ext cx="45720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5257800"/>
              <a:ext cx="4572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41008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010280" y="4114800"/>
            <a:ext cx="1447560" cy="1752480"/>
            <a:chOff x="7010280" y="4114800"/>
            <a:chExt cx="1447560" cy="1752480"/>
          </a:xfrm>
        </p:grpSpPr>
        <p:sp>
          <p:nvSpPr>
            <p:cNvPr id="344" name=""/>
            <p:cNvSpPr/>
            <p:nvPr/>
          </p:nvSpPr>
          <p:spPr>
            <a:xfrm>
              <a:off x="7010280" y="4114800"/>
              <a:ext cx="68580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96080" y="4114800"/>
              <a:ext cx="457200" cy="1522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96080" y="4267080"/>
              <a:ext cx="4572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4680" y="4190760"/>
              <a:ext cx="5331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24680" y="441936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96080" y="4876560"/>
              <a:ext cx="45720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5257800"/>
              <a:ext cx="4572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4680" y="541008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6002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52880" y="1981080"/>
            <a:ext cx="3581640" cy="457200"/>
            <a:chOff x="4952880" y="1981080"/>
            <a:chExt cx="3581640" cy="457200"/>
          </a:xfrm>
        </p:grpSpPr>
        <p:grpSp>
          <p:nvGrpSpPr>
            <p:cNvPr id="354" name=""/>
            <p:cNvGrpSpPr/>
            <p:nvPr/>
          </p:nvGrpSpPr>
          <p:grpSpPr>
            <a:xfrm>
              <a:off x="5486400" y="1981080"/>
              <a:ext cx="3048120" cy="457200"/>
              <a:chOff x="5486400" y="1981080"/>
              <a:chExt cx="3048120" cy="457200"/>
            </a:xfrm>
          </p:grpSpPr>
          <p:sp>
            <p:nvSpPr>
              <p:cNvPr id="355" name=""/>
              <p:cNvSpPr/>
              <p:nvPr/>
            </p:nvSpPr>
            <p:spPr>
              <a:xfrm>
                <a:off x="5486400" y="1981080"/>
                <a:ext cx="76212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e[i]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48520" y="1981080"/>
                <a:ext cx="76212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e[i+1]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10640" y="1981080"/>
                <a:ext cx="76176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e[i+2]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72400" y="1981080"/>
                <a:ext cx="76212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402000"/>
                    </a:solidFill>
                    <a:latin typeface="Times New Roman"/>
                  </a:rPr>
                  <a:t>e[i+3]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952880" y="1981080"/>
              <a:ext cx="5335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895480" y="4038480"/>
            <a:ext cx="1447920" cy="1752480"/>
            <a:chOff x="2895480" y="4038480"/>
            <a:chExt cx="1447920" cy="1752480"/>
          </a:xfrm>
        </p:grpSpPr>
        <p:sp>
          <p:nvSpPr>
            <p:cNvPr id="361" name=""/>
            <p:cNvSpPr/>
            <p:nvPr/>
          </p:nvSpPr>
          <p:spPr>
            <a:xfrm>
              <a:off x="2895480" y="4038480"/>
              <a:ext cx="68580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81280" y="4038480"/>
              <a:ext cx="457200" cy="1522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1280" y="4190760"/>
              <a:ext cx="4572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09880" y="411444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434304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81280" y="4800240"/>
              <a:ext cx="45720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81280" y="5181480"/>
              <a:ext cx="457200" cy="228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09880" y="5333760"/>
              <a:ext cx="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V="1">
            <a:off x="1905120" y="4343040"/>
            <a:ext cx="914400" cy="7621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41148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27432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kładam na stos element, który przegrał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419720" y="2895120"/>
            <a:ext cx="83808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A56-8623-4EA8-B1F4-7891CA10B0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Budowa drzewa turniej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13716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1219320"/>
            <a:ext cx="5105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hile  not empty(L.next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x := L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while not empty(x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y := x.next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if e[x.w] &gt; e[y.w]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x.stosp := push (x.stosp, y.w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y.stosp := push(y.stosp, x.w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x.w := y.w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x.stosp := y.stosp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x.next := y.next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x := x.next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od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590920"/>
            <a:ext cx="28195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łącz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y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 elementów, które przegrały z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800600" y="2819520"/>
            <a:ext cx="99072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3809880"/>
            <a:ext cx="28191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łącz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o elementów, które przegrały z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809520" y="3885840"/>
            <a:ext cx="11430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5029200"/>
            <a:ext cx="289584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ważmy pierwszy element  następnej par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276360" y="5028840"/>
            <a:ext cx="1904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1523880"/>
            <a:ext cx="3200040" cy="612360"/>
            <a:chOff x="4724280" y="1523880"/>
            <a:chExt cx="3200040" cy="612360"/>
          </a:xfrm>
        </p:grpSpPr>
        <p:grpSp>
          <p:nvGrpSpPr>
            <p:cNvPr id="384" name=""/>
            <p:cNvGrpSpPr/>
            <p:nvPr/>
          </p:nvGrpSpPr>
          <p:grpSpPr>
            <a:xfrm>
              <a:off x="4724280" y="1523880"/>
              <a:ext cx="1067040" cy="228600"/>
              <a:chOff x="4724280" y="1523880"/>
              <a:chExt cx="1067040" cy="2286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4724280" y="1523880"/>
                <a:ext cx="685800" cy="228600"/>
                <a:chOff x="4724280" y="1523880"/>
                <a:chExt cx="685800" cy="2286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724280" y="1523880"/>
                  <a:ext cx="533520" cy="228600"/>
                </a:xfrm>
                <a:prstGeom prst="rect">
                  <a:avLst/>
                </a:prstGeom>
                <a:solidFill>
                  <a:srgbClr val="ce9964"/>
                </a:solidFill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257800" y="1523880"/>
                  <a:ext cx="152280" cy="228600"/>
                </a:xfrm>
                <a:prstGeom prst="rect">
                  <a:avLst/>
                </a:prstGeom>
                <a:solidFill>
                  <a:srgbClr val="ce9964"/>
                </a:solidFill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410080" y="1600200"/>
                <a:ext cx="3812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791320" y="1523880"/>
              <a:ext cx="1066320" cy="228600"/>
              <a:chOff x="5791320" y="1523880"/>
              <a:chExt cx="1066320" cy="2286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5791320" y="1523880"/>
                <a:ext cx="685080" cy="228600"/>
                <a:chOff x="5791320" y="1523880"/>
                <a:chExt cx="685080" cy="2286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791320" y="1523880"/>
                  <a:ext cx="533160" cy="228600"/>
                </a:xfrm>
                <a:prstGeom prst="rect">
                  <a:avLst/>
                </a:prstGeom>
                <a:solidFill>
                  <a:srgbClr val="ce9964"/>
                </a:solidFill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324480" y="1523880"/>
                  <a:ext cx="151920" cy="228600"/>
                </a:xfrm>
                <a:prstGeom prst="rect">
                  <a:avLst/>
                </a:prstGeom>
                <a:solidFill>
                  <a:srgbClr val="ce9964"/>
                </a:solidFill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476760" y="1600200"/>
                <a:ext cx="3808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858000" y="1523880"/>
              <a:ext cx="1066320" cy="228600"/>
              <a:chOff x="6858000" y="1523880"/>
              <a:chExt cx="1066320" cy="22860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858000" y="1523880"/>
                <a:ext cx="685080" cy="228600"/>
                <a:chOff x="6858000" y="1523880"/>
                <a:chExt cx="685080" cy="2286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858000" y="1523880"/>
                  <a:ext cx="533160" cy="228600"/>
                </a:xfrm>
                <a:prstGeom prst="rect">
                  <a:avLst/>
                </a:prstGeom>
                <a:solidFill>
                  <a:srgbClr val="ce9964"/>
                </a:solidFill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391160" y="1523880"/>
                  <a:ext cx="151920" cy="228600"/>
                </a:xfrm>
                <a:prstGeom prst="rect">
                  <a:avLst/>
                </a:prstGeom>
                <a:solidFill>
                  <a:srgbClr val="ce9964"/>
                </a:solidFill>
                <a:ln w="9360">
                  <a:solidFill>
                    <a:srgbClr val="402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7543440" y="1600200"/>
                <a:ext cx="3808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800600" y="1676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1676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334120" y="1054080"/>
            <a:ext cx="1600200" cy="469800"/>
          </a:xfrm>
          <a:custGeom>
            <a:avLst/>
            <a:gdLst/>
            <a:ahLst/>
            <a:rect l="l" t="t" r="r" b="b"/>
            <a:pathLst>
              <a:path w="1008" h="296">
                <a:moveTo>
                  <a:pt x="0" y="296"/>
                </a:moveTo>
                <a:cubicBezTo>
                  <a:pt x="324" y="156"/>
                  <a:pt x="648" y="16"/>
                  <a:pt x="816" y="8"/>
                </a:cubicBezTo>
                <a:cubicBezTo>
                  <a:pt x="984" y="0"/>
                  <a:pt x="976" y="208"/>
                  <a:pt x="1008" y="248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A4A-49EF-4CA7-AC7C-8626C8935E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III etap - przeszukiwanie stos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1371600"/>
            <a:ext cx="525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Pom := L.stos;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drugi := pom.w; pom :=pop(pom);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while not empty(pom) do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     if e[drugi ] &lt; e[top(pom)] then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          drugi := top(pom)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     fi;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   pom := pop(pom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od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1581400">
            <a:off x="3657240" y="2361960"/>
            <a:ext cx="5486400" cy="3733560"/>
          </a:xfrm>
          <a:prstGeom prst="irregularSeal2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Algorytm Turniej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jest algorytmem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optymalnym znajdowania 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rugiego co do wielkości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lementu ciągu.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2209680"/>
            <a:ext cx="2266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838-3FA9-4967-A057-C17F2E09F0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523880"/>
            <a:ext cx="4191120" cy="375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for i := 2 to n do tab[i] := i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for i := 2 to n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if tab[i] &lt;&gt;0 then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for j := i+1 to n do                        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if ( tab[j] mod i = 0)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        tab[j] := 0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fi;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od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4120" y="1523880"/>
            <a:ext cx="3352680" cy="685800"/>
          </a:xfrm>
          <a:prstGeom prst="wedgeRoundRectCallout">
            <a:avLst>
              <a:gd name="adj1" fmla="val -69791"/>
              <a:gd name="adj2" fmla="val 38888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blica wszystkich liczb naturalnych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514600"/>
            <a:ext cx="2743200" cy="990720"/>
          </a:xfrm>
          <a:prstGeom prst="wedgeRoundRectCallout">
            <a:avLst>
              <a:gd name="adj1" fmla="val -114759"/>
              <a:gd name="adj2" fmla="val -8495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kreślam z tablicy wszystkie liczby podzielne przez 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5257800"/>
            <a:ext cx="3809880" cy="685800"/>
          </a:xfrm>
          <a:prstGeom prst="wedgeRoundRectCallout">
            <a:avLst>
              <a:gd name="adj1" fmla="val -36583"/>
              <a:gd name="adj2" fmla="val -8773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ab[i] , o ile nie jest zerem, jest liczbą pierwszą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934320" y="685800"/>
            <a:ext cx="162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  tablicą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867280" y="3733920"/>
            <a:ext cx="229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iezmienni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15000" y="44197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5683"/>
                </a:solidFill>
                <a:latin typeface="Times New Roman"/>
              </a:rPr>
              <a:t>Wszystkie elementy tablicy różne od zera na pozycjach &lt; i są</a:t>
            </a:r>
            <a:r>
              <a:rPr b="1" lang="pl-PL" sz="2400" spc="-1" strike="noStrike">
                <a:solidFill>
                  <a:srgbClr val="2734e3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255683"/>
                </a:solidFill>
                <a:latin typeface="Times New Roman"/>
              </a:rPr>
              <a:t>liczbami pierwszym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352320" y="2361960"/>
            <a:ext cx="2590920" cy="16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ito Eratostenes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75A-2447-468C-A8BC-5D55500641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ito Eratostenes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219320"/>
            <a:ext cx="77724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295280"/>
            <a:ext cx="5715000" cy="475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{  poczatek := new ogniwo(2)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x := początek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for i := 3 to n do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x.next:= new ogniwo(i); x:= x.next;  od;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x := początek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while x&lt;&gt;null do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w:= x.wartość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poprzedni := x; y :=x.next; 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while  y&lt;&gt;null  do                         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    if ( y.wartość mod w = 0) then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            poprzedni.next := y.next;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     else poprzedni := y;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     fi;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    y := y.next; 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od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x:= x.next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od 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315200" y="685800"/>
            <a:ext cx="117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  listą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238880" y="1752480"/>
            <a:ext cx="1295640" cy="3962520"/>
            <a:chOff x="7238880" y="1752480"/>
            <a:chExt cx="1295640" cy="3962520"/>
          </a:xfrm>
        </p:grpSpPr>
        <p:grpSp>
          <p:nvGrpSpPr>
            <p:cNvPr id="421" name=""/>
            <p:cNvGrpSpPr/>
            <p:nvPr/>
          </p:nvGrpSpPr>
          <p:grpSpPr>
            <a:xfrm>
              <a:off x="7238880" y="1752480"/>
              <a:ext cx="1219320" cy="990720"/>
              <a:chOff x="7238880" y="1752480"/>
              <a:chExt cx="1219320" cy="99072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8880" y="1752480"/>
                <a:ext cx="121932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Wartość=2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38880" y="2209680"/>
                <a:ext cx="1219320" cy="2286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next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848720" y="2362320"/>
                <a:ext cx="0" cy="3808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315200" y="2743200"/>
              <a:ext cx="1219320" cy="990720"/>
              <a:chOff x="7315200" y="2743200"/>
              <a:chExt cx="1219320" cy="990720"/>
            </a:xfrm>
          </p:grpSpPr>
          <p:sp>
            <p:nvSpPr>
              <p:cNvPr id="426" name=""/>
              <p:cNvSpPr/>
              <p:nvPr/>
            </p:nvSpPr>
            <p:spPr>
              <a:xfrm>
                <a:off x="7315200" y="2743200"/>
                <a:ext cx="121932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Wartość=3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15200" y="3200400"/>
                <a:ext cx="1219320" cy="2286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next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5040" y="3353040"/>
                <a:ext cx="0" cy="3808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315200" y="3733920"/>
              <a:ext cx="1219320" cy="990000"/>
              <a:chOff x="7315200" y="3733920"/>
              <a:chExt cx="1219320" cy="990000"/>
            </a:xfrm>
          </p:grpSpPr>
          <p:sp>
            <p:nvSpPr>
              <p:cNvPr id="430" name=""/>
              <p:cNvSpPr/>
              <p:nvPr/>
            </p:nvSpPr>
            <p:spPr>
              <a:xfrm>
                <a:off x="7315200" y="3733920"/>
                <a:ext cx="1219320" cy="45684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Wartość=4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315200" y="4190760"/>
                <a:ext cx="1219320" cy="22824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next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25040" y="4343400"/>
                <a:ext cx="0" cy="380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315200" y="4724280"/>
              <a:ext cx="1219320" cy="990720"/>
              <a:chOff x="7315200" y="4724280"/>
              <a:chExt cx="1219320" cy="990720"/>
            </a:xfrm>
          </p:grpSpPr>
          <p:sp>
            <p:nvSpPr>
              <p:cNvPr id="434" name=""/>
              <p:cNvSpPr/>
              <p:nvPr/>
            </p:nvSpPr>
            <p:spPr>
              <a:xfrm>
                <a:off x="7315200" y="4724280"/>
                <a:ext cx="1219320" cy="4572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Wartość=5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15200" y="5181480"/>
                <a:ext cx="1219320" cy="22860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402000"/>
                    </a:solidFill>
                    <a:latin typeface="Times New Roman"/>
                  </a:rPr>
                  <a:t>next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25040" y="5334120"/>
                <a:ext cx="0" cy="38088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5867280" y="1295280"/>
            <a:ext cx="1371600" cy="457200"/>
            <a:chOff x="5867280" y="1295280"/>
            <a:chExt cx="1371600" cy="457200"/>
          </a:xfrm>
        </p:grpSpPr>
        <p:sp>
          <p:nvSpPr>
            <p:cNvPr id="438" name=""/>
            <p:cNvSpPr/>
            <p:nvPr/>
          </p:nvSpPr>
          <p:spPr>
            <a:xfrm>
              <a:off x="58672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d3333"/>
                  </a:solidFill>
                  <a:latin typeface="Times New Roman"/>
                </a:rPr>
                <a:t>początek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34320" y="1523880"/>
              <a:ext cx="304560" cy="228600"/>
            </a:xfrm>
            <a:prstGeom prst="line">
              <a:avLst/>
            </a:prstGeom>
            <a:ln w="3816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53452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d33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933600" y="2743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d33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d3333"/>
                </a:solidFill>
                <a:latin typeface="Times New Roman"/>
              </a:rPr>
              <a:t>poprzedn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190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267080" y="5334120"/>
            <a:ext cx="247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ak to działa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010280" y="3657600"/>
            <a:ext cx="1752840" cy="838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733920"/>
            <a:ext cx="1676520" cy="76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10280" y="2819520"/>
            <a:ext cx="2286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77120" y="3276720"/>
            <a:ext cx="838080" cy="18288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94560 h 1828800"/>
              <a:gd name="textAreaBottom" fmla="*/ 12481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1" stAng="-5400000" swAng="-5400000"/>
                <a:lnTo>
                  <a:pt x="0" y="10083"/>
                </a:lnTo>
                <a:arcTo wR="21600" hR="9321" stAng="10800000" swAng="-3706136"/>
                <a:lnTo>
                  <a:pt x="16725" y="21360"/>
                </a:lnTo>
                <a:lnTo>
                  <a:pt x="21600" y="19022"/>
                </a:lnTo>
                <a:lnTo>
                  <a:pt x="16725" y="16204"/>
                </a:lnTo>
                <a:lnTo>
                  <a:pt x="16725" y="18401"/>
                </a:lnTo>
                <a:arcTo wR="21600" hR="9321" stAng="7093864" swAng="3645454"/>
                <a:lnTo>
                  <a:pt x="18" y="9702"/>
                </a:lnTo>
                <a:arcTo wR="21600" hR="9321" stAng="-10739318" swAng="5339318"/>
                <a:close/>
              </a:path>
              <a:path fill="darkenLess" w="21600" h="21600">
                <a:moveTo>
                  <a:pt x="21600" y="0"/>
                </a:moveTo>
                <a:arcTo wR="21600" hR="9321" stAng="-5400000" swAng="-5400000"/>
                <a:lnTo>
                  <a:pt x="0" y="9321"/>
                </a:lnTo>
                <a:arcTo wR="21600" hR="9321" stAng="10800000" swAng="-60682"/>
                <a:lnTo>
                  <a:pt x="18" y="9702"/>
                </a:lnTo>
                <a:arcTo wR="21600" hR="9321" stAng="-10739318" swAng="5339318"/>
                <a:close/>
              </a:path>
            </a:pathLst>
          </a:cu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ito Eratostenes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851-2D0E-4A21-A2C3-E83C831E21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ito Eratostenes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676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wszystkie liczby pierwsz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1447920"/>
            <a:ext cx="4191120" cy="466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   p:= null; wynik := null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for i := 2 to n do p := in(i,p)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while not empty(p) do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i := first(p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wynik := in(i,wynik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p := out(p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q:= null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while not empty(p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if  (first(p) mod i &lt;&gt;0)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q := in(first(p), q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p := out(p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p := q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91320" y="1219320"/>
            <a:ext cx="3124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wyni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awiera wszystkie liczby pierwsze &lt; first(p)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a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awiera liczby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, które nie dzielą się przez żadną z liczb x należących do kolejki wyni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581280"/>
            <a:ext cx="3047760" cy="1676520"/>
          </a:xfrm>
          <a:prstGeom prst="cloudCallout">
            <a:avLst>
              <a:gd name="adj1" fmla="val -94689"/>
              <a:gd name="adj2" fmla="val -3731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suwamy  z kolejki 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zystkie liczby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dzielne przez 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962160" y="1295280"/>
            <a:ext cx="1828800" cy="2057040"/>
            <a:chOff x="3962160" y="1295280"/>
            <a:chExt cx="1828800" cy="2057040"/>
          </a:xfrm>
        </p:grpSpPr>
        <p:sp>
          <p:nvSpPr>
            <p:cNvPr id="457" name=""/>
            <p:cNvSpPr/>
            <p:nvPr/>
          </p:nvSpPr>
          <p:spPr>
            <a:xfrm flipH="1">
              <a:off x="3962160" y="2324160"/>
              <a:ext cx="14626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25200" y="1295280"/>
              <a:ext cx="365760" cy="2057040"/>
            </a:xfrm>
            <a:custGeom>
              <a:avLst/>
              <a:gdLst>
                <a:gd name="textAreaLeft" fmla="*/ 233640 w 365760"/>
                <a:gd name="textAreaRight" fmla="*/ 366120 w 365760"/>
                <a:gd name="textAreaTop" fmla="*/ 53640 h 2057040"/>
                <a:gd name="textAreaBottom" fmla="*/ 2003400 h 20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 txBox="1"/>
          <p:nvPr/>
        </p:nvSpPr>
        <p:spPr>
          <a:xfrm>
            <a:off x="6781680" y="762120"/>
            <a:ext cx="1704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  kolejką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838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naleźć wszystkie liczby pierwsz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ito Eratostenes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223-B884-499F-A1A5-392B97CDA1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29528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 rot="5400000">
            <a:off x="456840" y="2362320"/>
            <a:ext cx="19051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4" name=""/>
          <p:cNvSpPr/>
          <p:nvPr/>
        </p:nvSpPr>
        <p:spPr>
          <a:xfrm>
            <a:off x="1828800" y="144792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biorem wyrażeń algebraicznych WA nazywać będziemy najmniejszy zbiór napisów nad alfabetem {x,y,z,u}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+,* -}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{(,)}  taki, ż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1)  x,y, z, u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2) jeśli w1, w2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WA , to (w1+w2) oraz (w1*w2) należą do WA,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3) Jeśli w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WA, to (-w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W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219320" y="3962520"/>
            <a:ext cx="14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/>
          <p:nvPr/>
        </p:nvSpPr>
        <p:spPr>
          <a:xfrm>
            <a:off x="3200400" y="3886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bliczyć wartość danego wyrażenia algebraiczneg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4800600"/>
            <a:ext cx="7238880" cy="131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Uwagi -założenia :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1. Wyrażenie jest zapisane w tablicy znakowej o elementach s[1],...,s[n]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Wartości zmiennych są zapisane w obiekcie v, którego atrybutami są x,y,z,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bliczanie wartości wyrażeń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D2B-6B15-4F38-88F2-130E5464AB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752480" y="129528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zytamy kolejno znaki wyrażenia i  kolejne argumenty operacji wpisujemy na stos argumentów, a kolejno spotkane operacje wpisujemy na stos operacji. Pojawienie się ‘)’ sygnalizuje, że można wykonać ostatnio zapamiętaną operację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 rot="5400000">
            <a:off x="856800" y="1809360"/>
            <a:ext cx="1295280" cy="419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 rot="5400000">
            <a:off x="7105680" y="4019400"/>
            <a:ext cx="2361960" cy="419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3352680" y="2819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((x+(y*z))+(-u)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343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os argumentó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5562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os operacj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3962520"/>
            <a:ext cx="381240" cy="30456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525780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3657600"/>
            <a:ext cx="38124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495288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3352680"/>
            <a:ext cx="38124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25780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514600" y="3657600"/>
            <a:ext cx="609480" cy="609480"/>
            <a:chOff x="2514600" y="3657600"/>
            <a:chExt cx="609480" cy="609480"/>
          </a:xfrm>
        </p:grpSpPr>
        <p:sp>
          <p:nvSpPr>
            <p:cNvPr id="483" name=""/>
            <p:cNvSpPr/>
            <p:nvPr/>
          </p:nvSpPr>
          <p:spPr>
            <a:xfrm>
              <a:off x="2514600" y="3962520"/>
              <a:ext cx="60948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4600" y="3657600"/>
              <a:ext cx="60948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y*z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895480" y="5562720"/>
            <a:ext cx="38124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76720" y="3962520"/>
            <a:ext cx="1066680" cy="30456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+(y*z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525780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9000" y="495288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495680" y="3657600"/>
            <a:ext cx="990720" cy="609480"/>
            <a:chOff x="4495680" y="3657600"/>
            <a:chExt cx="990720" cy="609480"/>
          </a:xfrm>
        </p:grpSpPr>
        <p:sp>
          <p:nvSpPr>
            <p:cNvPr id="491" name=""/>
            <p:cNvSpPr/>
            <p:nvPr/>
          </p:nvSpPr>
          <p:spPr>
            <a:xfrm>
              <a:off x="4495680" y="3962520"/>
              <a:ext cx="990720" cy="30456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x+(y*z)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24280" y="3657600"/>
              <a:ext cx="38124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-u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62520" y="5257800"/>
            <a:ext cx="380880" cy="304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556272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3962520"/>
            <a:ext cx="1752840" cy="30456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+(y*z)+(-u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pis metod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17D-6803-46FF-91D2-CEF949638C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5790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tosy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3800" indent="-3196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łasnośc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3800" indent="-3196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mplementac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3800" indent="-3196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kład: turnie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lejk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3800" indent="-3196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łasnośc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3800" indent="-3196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mplementacj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3800" indent="-3196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zykład : sito Eratostenes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s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600-0925-476E-8DE3-F1AE15E2D1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29528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362320"/>
            <a:ext cx="1752480" cy="585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Wpisz s[i]  na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tos operacj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8120" y="1600200"/>
            <a:ext cx="2514600" cy="5461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[i] jest operacją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76720" y="3200400"/>
            <a:ext cx="1828800" cy="7430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włóż wartość s[i] na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stos argumentów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590920" y="2006640"/>
            <a:ext cx="761760" cy="3031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2068560"/>
            <a:ext cx="685800" cy="301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2370240"/>
            <a:ext cx="1904760" cy="485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[i] jest zmienną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304920"/>
            <a:ext cx="1218960" cy="2426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i := 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1461960"/>
            <a:ext cx="0" cy="181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114440" y="2795760"/>
            <a:ext cx="762120" cy="423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590920"/>
            <a:ext cx="76212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18860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8480" y="2735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1946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2743200"/>
            <a:ext cx="1218960" cy="423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[i] =‘)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53080" y="3429000"/>
            <a:ext cx="2286000" cy="14479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Weź operację o ze stosu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Weź ze stosu odpowiednią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liczbę argumentów.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Oblicz wynik operacji o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na tych argumentach.</a:t>
            </a:r>
            <a:br>
              <a:rPr sz="1600"/>
            </a:b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0" y="5181480"/>
            <a:ext cx="1752480" cy="9144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Usuń ze stosu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wykonaną operacje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i użyte argument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772400" y="3124080"/>
            <a:ext cx="3808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191120" y="3048120"/>
            <a:ext cx="2590560" cy="30477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81280" y="3962520"/>
            <a:ext cx="0" cy="21333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2895480"/>
            <a:ext cx="0" cy="3200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96080" y="48769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4008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76920" y="5486400"/>
            <a:ext cx="160020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Wpisz wynik na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stos argumentów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038480"/>
            <a:ext cx="91440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371600" y="6095880"/>
            <a:ext cx="3581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371600" y="4647960"/>
            <a:ext cx="0" cy="1447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371600" y="1218960"/>
            <a:ext cx="0" cy="2819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95280" y="121932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48520" y="29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57600" y="914400"/>
            <a:ext cx="990720" cy="5461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i&lt;n+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33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Schemat blokowy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84C-EA66-4972-8B44-BC8A49A4A7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295280" y="1219320"/>
            <a:ext cx="7162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05120" y="2819520"/>
            <a:ext cx="1752480" cy="585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OP :=push(s[i],OP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52680" y="3505320"/>
            <a:ext cx="251460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RG:= push(val(s[i]),ARG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514240" y="1905120"/>
            <a:ext cx="685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1905120"/>
            <a:ext cx="53352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05320" y="304920"/>
            <a:ext cx="1218960" cy="2426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i := 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91120" y="1295280"/>
            <a:ext cx="0" cy="3477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885840" y="2590920"/>
            <a:ext cx="68580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24480" y="2590920"/>
            <a:ext cx="99072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718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29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05520" y="1946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10280" y="3429000"/>
            <a:ext cx="175284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O := top(OP);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OP :=pop(OP);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 := top(ARG);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RG := pop(ARG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5181480"/>
            <a:ext cx="1752480" cy="9144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b:= top(ARG);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RG := pop(ARG);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:= O(a,b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48720" y="3048120"/>
            <a:ext cx="60948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77320" y="29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419360" y="2971800"/>
            <a:ext cx="2438280" cy="3124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411480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429000"/>
            <a:ext cx="0" cy="2666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29600" y="49528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552720" y="6324480"/>
            <a:ext cx="12956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5181480"/>
            <a:ext cx="1066680" cy="4572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 := O(a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5638680"/>
            <a:ext cx="91440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:=i+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981080" y="6095880"/>
            <a:ext cx="28958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1066680"/>
            <a:ext cx="914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371600" y="1066680"/>
            <a:ext cx="0" cy="457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71600" y="10666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48520" y="29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019920" y="1066680"/>
            <a:ext cx="259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 jaki jest koszt 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533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29400" y="4724280"/>
            <a:ext cx="2133720" cy="3049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 dwuargumentow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848720" y="457200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6095880"/>
            <a:ext cx="175248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ARG:= push(a,ARG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248160" y="4952880"/>
            <a:ext cx="53316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563868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609588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381880" y="4876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19920" y="4800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762120"/>
            <a:ext cx="990720" cy="609480"/>
          </a:xfrm>
          <a:prstGeom prst="diamond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2000"/>
                </a:solidFill>
                <a:latin typeface="Times New Roman"/>
              </a:rPr>
              <a:t>i &lt; n+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d.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0" y="2666880"/>
            <a:ext cx="990720" cy="685800"/>
          </a:xfrm>
          <a:prstGeom prst="diamond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[i] =‘)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2133720"/>
            <a:ext cx="2438280" cy="914400"/>
          </a:xfrm>
          <a:prstGeom prst="diamond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[i] jest zmienną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00400" y="1523880"/>
            <a:ext cx="2057400" cy="762120"/>
          </a:xfrm>
          <a:prstGeom prst="diamond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[i] jest operacją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91120" y="1219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76920" y="762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C20-76B4-4F23-8DD3-4E7ACF56B5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dstawowe struktury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447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Algorytmy + struktury Danych = Program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1059120" y="2750400"/>
            <a:ext cx="1423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is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2362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1, e2, e3, ..., 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666880" y="2743200"/>
            <a:ext cx="22860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723920" y="2743200"/>
            <a:ext cx="68580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cząt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nie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Operacje na lista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724280"/>
            <a:ext cx="42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branie  elementu z listy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tawianie elementu na listę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suwanie elementu z list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648320"/>
            <a:ext cx="91440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op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sh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876920"/>
            <a:ext cx="990720" cy="10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ear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ject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j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040" y="4191120"/>
            <a:ext cx="121932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429000"/>
            <a:ext cx="1447560" cy="100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peracje na lewym końcu list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4952880"/>
            <a:ext cx="60984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4648320"/>
            <a:ext cx="1523880" cy="10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peracje na prawym końcu list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7607160" y="3289320"/>
            <a:ext cx="15872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0" y="762120"/>
          <a:ext cx="2133720" cy="18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762120"/>
                    <a:ext cx="21337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816-585A-4576-BF78-C70F42794F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Stos i jego własnośc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371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&lt; S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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E, push, pop, top,  empty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133720"/>
            <a:ext cx="48769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ush(s, e) = (e,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...,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p(s) = (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,...,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 o ile n&gt;1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top(s) = e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mpty(s)    wttw   n=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7524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s = (e</a:t>
            </a:r>
            <a:r>
              <a:rPr b="1" lang="pl-P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,e</a:t>
            </a:r>
            <a:r>
              <a:rPr b="1" lang="pl-P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,..., e</a:t>
            </a:r>
            <a:r>
              <a:rPr b="1" lang="pl-PL" sz="24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26708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op(push(s,e)) = e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pop(push(s,e))= s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not empty(s) =&gt; push(pop(s),top(s))=s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Istnieje i takie że  empty(pop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i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(s)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38098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łasności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4267080"/>
            <a:ext cx="121932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lement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4648320"/>
            <a:ext cx="12193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49528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867280" y="1828800"/>
            <a:ext cx="2590920" cy="2438280"/>
            <a:chOff x="5867280" y="1828800"/>
            <a:chExt cx="2590920" cy="2438280"/>
          </a:xfrm>
        </p:grpSpPr>
        <p:sp>
          <p:nvSpPr>
            <p:cNvPr id="123" name=""/>
            <p:cNvSpPr/>
            <p:nvPr/>
          </p:nvSpPr>
          <p:spPr>
            <a:xfrm>
              <a:off x="7238880" y="1828800"/>
              <a:ext cx="121932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lement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8880" y="2209680"/>
              <a:ext cx="121932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38880" y="3124080"/>
              <a:ext cx="1219320" cy="3812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element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3505320"/>
              <a:ext cx="1219320" cy="380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next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733920"/>
              <a:ext cx="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2400" y="2590920"/>
              <a:ext cx="0" cy="5331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095880" y="2285640"/>
              <a:ext cx="9907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274320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ogniwo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C24-77A9-4EB5-9FD2-DD89AC86F8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bstrakcyjna struktura kolejek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1752480"/>
            <a:ext cx="533520" cy="1067040"/>
            <a:chOff x="1523880" y="1752480"/>
            <a:chExt cx="533520" cy="1067040"/>
          </a:xfrm>
        </p:grpSpPr>
        <p:grpSp>
          <p:nvGrpSpPr>
            <p:cNvPr id="133" name=""/>
            <p:cNvGrpSpPr/>
            <p:nvPr/>
          </p:nvGrpSpPr>
          <p:grpSpPr>
            <a:xfrm>
              <a:off x="1523880" y="1752480"/>
              <a:ext cx="533520" cy="1067040"/>
              <a:chOff x="1523880" y="1752480"/>
              <a:chExt cx="533520" cy="1067040"/>
            </a:xfrm>
          </p:grpSpPr>
          <p:sp>
            <p:nvSpPr>
              <p:cNvPr id="134" name=""/>
              <p:cNvSpPr/>
              <p:nvPr/>
            </p:nvSpPr>
            <p:spPr>
              <a:xfrm>
                <a:off x="1523880" y="1981080"/>
                <a:ext cx="533520" cy="60984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76520" y="1752480"/>
                <a:ext cx="22860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76520" y="2590920"/>
                <a:ext cx="0" cy="2286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05120" y="2590920"/>
                <a:ext cx="0" cy="2286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23880" y="2209680"/>
                <a:ext cx="1526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05120" y="2209680"/>
                <a:ext cx="1522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752480" y="1905120"/>
              <a:ext cx="76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14600" y="2590920"/>
            <a:ext cx="533520" cy="990000"/>
            <a:chOff x="2514600" y="2590920"/>
            <a:chExt cx="533520" cy="990000"/>
          </a:xfrm>
        </p:grpSpPr>
        <p:grpSp>
          <p:nvGrpSpPr>
            <p:cNvPr id="142" name=""/>
            <p:cNvGrpSpPr/>
            <p:nvPr/>
          </p:nvGrpSpPr>
          <p:grpSpPr>
            <a:xfrm>
              <a:off x="2514600" y="2590920"/>
              <a:ext cx="533520" cy="990000"/>
              <a:chOff x="2514600" y="2590920"/>
              <a:chExt cx="533520" cy="990000"/>
            </a:xfrm>
          </p:grpSpPr>
          <p:sp>
            <p:nvSpPr>
              <p:cNvPr id="143" name=""/>
              <p:cNvSpPr/>
              <p:nvPr/>
            </p:nvSpPr>
            <p:spPr>
              <a:xfrm>
                <a:off x="2514600" y="2802960"/>
                <a:ext cx="533520" cy="56592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67240" y="2590920"/>
                <a:ext cx="228600" cy="2120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67240" y="3368880"/>
                <a:ext cx="0" cy="2120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95840" y="3368880"/>
                <a:ext cx="0" cy="2120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14600" y="3015000"/>
                <a:ext cx="1526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95840" y="3015000"/>
                <a:ext cx="1522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721240" y="2700720"/>
              <a:ext cx="137520" cy="73080"/>
            </a:xfrm>
            <a:custGeom>
              <a:avLst/>
              <a:gdLst/>
              <a:ahLst/>
              <a:rect l="l" t="t" r="r" b="b"/>
              <a:pathLst>
                <a:path w="384" h="160">
                  <a:moveTo>
                    <a:pt x="0" y="0"/>
                  </a:moveTo>
                  <a:cubicBezTo>
                    <a:pt x="12" y="36"/>
                    <a:pt x="24" y="72"/>
                    <a:pt x="48" y="96"/>
                  </a:cubicBezTo>
                  <a:cubicBezTo>
                    <a:pt x="72" y="120"/>
                    <a:pt x="112" y="136"/>
                    <a:pt x="144" y="144"/>
                  </a:cubicBezTo>
                  <a:cubicBezTo>
                    <a:pt x="176" y="152"/>
                    <a:pt x="200" y="160"/>
                    <a:pt x="240" y="144"/>
                  </a:cubicBezTo>
                  <a:cubicBezTo>
                    <a:pt x="280" y="128"/>
                    <a:pt x="360" y="64"/>
                    <a:pt x="384" y="48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676520" y="1905120"/>
            <a:ext cx="533160" cy="1066320"/>
            <a:chOff x="1676520" y="1905120"/>
            <a:chExt cx="533160" cy="1066320"/>
          </a:xfrm>
        </p:grpSpPr>
        <p:grpSp>
          <p:nvGrpSpPr>
            <p:cNvPr id="151" name=""/>
            <p:cNvGrpSpPr/>
            <p:nvPr/>
          </p:nvGrpSpPr>
          <p:grpSpPr>
            <a:xfrm>
              <a:off x="1676520" y="1905120"/>
              <a:ext cx="533160" cy="1066320"/>
              <a:chOff x="1676520" y="1905120"/>
              <a:chExt cx="533160" cy="10663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76520" y="2133360"/>
                <a:ext cx="533160" cy="60948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8800" y="1905120"/>
                <a:ext cx="228240" cy="2282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28800" y="2743200"/>
                <a:ext cx="0" cy="2282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57400" y="2743200"/>
                <a:ext cx="0" cy="2282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2361960"/>
                <a:ext cx="1522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57400" y="2361960"/>
                <a:ext cx="15192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904760" y="2057400"/>
              <a:ext cx="759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28800" y="2057400"/>
            <a:ext cx="533520" cy="1066320"/>
            <a:chOff x="1828800" y="2057400"/>
            <a:chExt cx="533520" cy="1066320"/>
          </a:xfrm>
        </p:grpSpPr>
        <p:grpSp>
          <p:nvGrpSpPr>
            <p:cNvPr id="160" name=""/>
            <p:cNvGrpSpPr/>
            <p:nvPr/>
          </p:nvGrpSpPr>
          <p:grpSpPr>
            <a:xfrm>
              <a:off x="1828800" y="2057400"/>
              <a:ext cx="533520" cy="1066320"/>
              <a:chOff x="1828800" y="2057400"/>
              <a:chExt cx="533520" cy="1066320"/>
            </a:xfrm>
          </p:grpSpPr>
          <p:sp>
            <p:nvSpPr>
              <p:cNvPr id="161" name=""/>
              <p:cNvSpPr/>
              <p:nvPr/>
            </p:nvSpPr>
            <p:spPr>
              <a:xfrm>
                <a:off x="1828800" y="2285640"/>
                <a:ext cx="5335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81440" y="2057400"/>
                <a:ext cx="228600" cy="22824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81440" y="2895480"/>
                <a:ext cx="0" cy="2282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10040" y="2895480"/>
                <a:ext cx="0" cy="22824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28800" y="2514240"/>
                <a:ext cx="1526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10040" y="2514240"/>
                <a:ext cx="1522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057400" y="2209680"/>
              <a:ext cx="76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2209680"/>
            <a:ext cx="533520" cy="1067040"/>
            <a:chOff x="1981080" y="2209680"/>
            <a:chExt cx="533520" cy="1067040"/>
          </a:xfrm>
        </p:grpSpPr>
        <p:grpSp>
          <p:nvGrpSpPr>
            <p:cNvPr id="169" name=""/>
            <p:cNvGrpSpPr/>
            <p:nvPr/>
          </p:nvGrpSpPr>
          <p:grpSpPr>
            <a:xfrm>
              <a:off x="1981080" y="2209680"/>
              <a:ext cx="533520" cy="1067040"/>
              <a:chOff x="1981080" y="2209680"/>
              <a:chExt cx="533520" cy="1067040"/>
            </a:xfrm>
          </p:grpSpPr>
          <p:sp>
            <p:nvSpPr>
              <p:cNvPr id="170" name=""/>
              <p:cNvSpPr/>
              <p:nvPr/>
            </p:nvSpPr>
            <p:spPr>
              <a:xfrm>
                <a:off x="1981080" y="2438280"/>
                <a:ext cx="533520" cy="609840"/>
              </a:xfrm>
              <a:prstGeom prst="triangle">
                <a:avLst>
                  <a:gd name="adj" fmla="val 50000"/>
                </a:avLst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33720" y="2209680"/>
                <a:ext cx="228600" cy="228600"/>
              </a:xfrm>
              <a:prstGeom prst="ellipse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33720" y="3048120"/>
                <a:ext cx="0" cy="2286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62320" y="3048120"/>
                <a:ext cx="0" cy="22860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81080" y="2666880"/>
                <a:ext cx="1526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62320" y="2666880"/>
                <a:ext cx="1522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209680" y="2362320"/>
              <a:ext cx="76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4648320" y="160020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sada  --  FIF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6680" y="3504960"/>
            <a:ext cx="1219320" cy="1161360"/>
            <a:chOff x="1066680" y="3504960"/>
            <a:chExt cx="1219320" cy="1161360"/>
          </a:xfrm>
        </p:grpSpPr>
        <p:sp>
          <p:nvSpPr>
            <p:cNvPr id="179" name=""/>
            <p:cNvSpPr/>
            <p:nvPr/>
          </p:nvSpPr>
          <p:spPr>
            <a:xfrm flipV="1">
              <a:off x="1523880" y="3504960"/>
              <a:ext cx="76212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396252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oczątek kolejki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057400" y="1600200"/>
            <a:ext cx="1981080" cy="703800"/>
            <a:chOff x="2057400" y="1600200"/>
            <a:chExt cx="1981080" cy="703800"/>
          </a:xfrm>
        </p:grpSpPr>
        <p:sp>
          <p:nvSpPr>
            <p:cNvPr id="182" name=""/>
            <p:cNvSpPr/>
            <p:nvPr/>
          </p:nvSpPr>
          <p:spPr>
            <a:xfrm flipH="1" flipV="1">
              <a:off x="2057400" y="1752120"/>
              <a:ext cx="9144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160020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oniec kolejki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rId3"/>
          </p:cNvPr>
          <p:cNvSpPr/>
          <p:nvPr/>
        </p:nvSpPr>
        <p:spPr>
          <a:xfrm>
            <a:off x="6858000" y="2514600"/>
            <a:ext cx="1295280" cy="609480"/>
          </a:xfrm>
          <a:custGeom>
            <a:avLst/>
            <a:gdLst>
              <a:gd name="textAreaLeft" fmla="*/ 152280 w 1295280"/>
              <a:gd name="textAreaRight" fmla="*/ 114300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0490" y="5400"/>
                </a:lnTo>
                <a:lnTo>
                  <a:pt x="5400" y="5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0490" y="16200"/>
                </a:lnTo>
                <a:lnTo>
                  <a:pt x="40490" y="5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0490" y="16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5890" h="21600">
                <a:moveTo>
                  <a:pt x="18920" y="8790"/>
                </a:moveTo>
                <a:lnTo>
                  <a:pt x="19445" y="8790"/>
                </a:lnTo>
                <a:lnTo>
                  <a:pt x="19665" y="9000"/>
                </a:lnTo>
                <a:lnTo>
                  <a:pt x="24955" y="9000"/>
                </a:lnTo>
                <a:lnTo>
                  <a:pt x="25275" y="9320"/>
                </a:lnTo>
                <a:lnTo>
                  <a:pt x="25275" y="9635"/>
                </a:lnTo>
                <a:lnTo>
                  <a:pt x="26335" y="9635"/>
                </a:lnTo>
                <a:lnTo>
                  <a:pt x="26545" y="9320"/>
                </a:lnTo>
                <a:lnTo>
                  <a:pt x="26970" y="9320"/>
                </a:lnTo>
                <a:lnTo>
                  <a:pt x="26970" y="12280"/>
                </a:lnTo>
                <a:lnTo>
                  <a:pt x="26545" y="12280"/>
                </a:lnTo>
                <a:lnTo>
                  <a:pt x="26335" y="11965"/>
                </a:lnTo>
                <a:lnTo>
                  <a:pt x="25275" y="11965"/>
                </a:lnTo>
                <a:lnTo>
                  <a:pt x="25275" y="12700"/>
                </a:lnTo>
                <a:lnTo>
                  <a:pt x="19770" y="12700"/>
                </a:lnTo>
                <a:lnTo>
                  <a:pt x="19770" y="10270"/>
                </a:lnTo>
                <a:lnTo>
                  <a:pt x="19665" y="10270"/>
                </a:lnTo>
                <a:lnTo>
                  <a:pt x="19445" y="10480"/>
                </a:lnTo>
                <a:lnTo>
                  <a:pt x="18920" y="1048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ka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3505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Standardowa struktura kolej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038480"/>
            <a:ext cx="495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irst(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= 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, gdy n&gt;0  i nieokr. w p.p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4495680"/>
            <a:ext cx="3962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((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,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,e) = (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,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029200"/>
            <a:ext cx="563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ut(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= (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...,e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, gdy n&gt;0  i nieokr. w p.p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562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e) wttw e jest ciągiem  pusty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D62-06FF-484B-9102-A30A756A0F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Specyfikacja  kolejek FIFO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1447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Q =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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Q , in, out, first, empty, =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133720"/>
            <a:ext cx="3048120" cy="2438280"/>
          </a:xfrm>
          <a:prstGeom prst="cloudCallout">
            <a:avLst>
              <a:gd name="adj1" fmla="val -42601"/>
              <a:gd name="adj2" fmla="val 67643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105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140a00"/>
                </a:solidFill>
                <a:latin typeface="Times New Roman"/>
              </a:rPr>
              <a:t>Sygnatu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038480"/>
            <a:ext cx="32004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in(e,q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362320"/>
            <a:ext cx="3353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out(in(e,q)) = q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2819520"/>
            <a:ext cx="365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first(in(e,q)) = 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4495680"/>
            <a:ext cx="42670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first(in(e,q)) = first(q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952880"/>
            <a:ext cx="4572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n(e,out(q)) = out(in(e,q)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 rot="5400000">
            <a:off x="6133680" y="300996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łasności kolejek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438280"/>
            <a:ext cx="289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in : E </a:t>
            </a:r>
            <a:r>
              <a:rPr b="0" lang="pl-PL" sz="2400" spc="-1" strike="noStrike">
                <a:solidFill>
                  <a:srgbClr val="140a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 Q </a:t>
            </a:r>
            <a:r>
              <a:rPr b="0" lang="pl-PL" sz="24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 Q</a:t>
            </a:r>
            <a:br>
              <a:rPr sz="2400"/>
            </a:b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out : Q </a:t>
            </a:r>
            <a:r>
              <a:rPr b="0" lang="pl-PL" sz="24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 Q</a:t>
            </a:r>
            <a:br>
              <a:rPr sz="2400"/>
            </a:b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first Q </a:t>
            </a:r>
            <a:r>
              <a:rPr b="0" lang="pl-PL" sz="24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 E</a:t>
            </a:r>
            <a:br>
              <a:rPr sz="2400"/>
            </a:b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empty : Q </a:t>
            </a:r>
            <a:r>
              <a:rPr b="0" lang="pl-PL" sz="24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 B</a:t>
            </a:r>
            <a:r>
              <a:rPr b="0" lang="pl-PL" sz="2400" spc="-1" strike="noStrike" baseline="-25000">
                <a:solidFill>
                  <a:srgbClr val="140a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140a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D74-FB7B-4749-8241-9803E35DAB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9880" y="243828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hile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mpty(q) do q := out(q) od  </a:t>
            </a:r>
            <a:br>
              <a:rPr sz="2000"/>
            </a:br>
            <a:r>
              <a:rPr b="1" i="1" lang="pl-PL" sz="2000" spc="-1" strike="noStrike">
                <a:solidFill>
                  <a:srgbClr val="402000"/>
                </a:solidFill>
                <a:latin typeface="Times New Roman"/>
              </a:rPr>
              <a:t>ten progra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pl-PL" sz="2000" spc="-1" strike="noStrike">
                <a:solidFill>
                  <a:srgbClr val="402000"/>
                </a:solidFill>
                <a:latin typeface="Times New Roman"/>
              </a:rPr>
              <a:t>nie zapętla si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96252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q =q’ wttw </a:t>
            </a:r>
            <a:br>
              <a:rPr sz="2000"/>
            </a:br>
            <a:r>
              <a:rPr b="0" i="1" lang="pl-PL" sz="2000" spc="-1" strike="noStrike">
                <a:solidFill>
                  <a:srgbClr val="402000"/>
                </a:solidFill>
                <a:latin typeface="Times New Roman"/>
              </a:rPr>
              <a:t>Po wykonaniu programu P spełniony jest warunek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empty(q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mpty(q’)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6094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Specyfikacja   kolejek FIF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1676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Q =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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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Q , in, out, first, empty, =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362320"/>
            <a:ext cx="2895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in : E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Q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Q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out : Q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Q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first : Q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E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empty : Q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B</a:t>
            </a:r>
            <a:r>
              <a:rPr b="0" lang="pl-PL" sz="2000" spc="-1" strike="noStrike" baseline="-25000">
                <a:solidFill>
                  <a:srgbClr val="140a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3276720"/>
            <a:ext cx="4343400" cy="28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P = {b:=true;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    while (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empty(q)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empty(q’) </a:t>
            </a:r>
            <a:r>
              <a:rPr b="0" lang="pl-PL" sz="2000" spc="-1" strike="noStrike">
                <a:solidFill>
                  <a:srgbClr val="140a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b)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    do 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             b := (first(q)=first(q’)); 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             q := out(q); 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             q’:= out(q’)  ;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     od </a:t>
            </a:r>
            <a:br>
              <a:rPr sz="2000"/>
            </a:br>
            <a:r>
              <a:rPr b="0" lang="pl-PL" sz="2000" spc="-1" strike="noStrike">
                <a:solidFill>
                  <a:srgbClr val="140a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 rot="5400000">
            <a:off x="5810040" y="3028680"/>
            <a:ext cx="53341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łasności Algorytmicz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6A0-382B-45E2-91BE-2A663C935E5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6633"/>
                </a:solidFill>
                <a:latin typeface="Times New Roman"/>
              </a:rPr>
              <a:t>Impelementacja  koleje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219320"/>
            <a:ext cx="77724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23880" y="1523880"/>
            <a:ext cx="5104800" cy="1676520"/>
            <a:chOff x="1523880" y="1523880"/>
            <a:chExt cx="5104800" cy="1676520"/>
          </a:xfrm>
        </p:grpSpPr>
        <p:grpSp>
          <p:nvGrpSpPr>
            <p:cNvPr id="211" name=""/>
            <p:cNvGrpSpPr/>
            <p:nvPr/>
          </p:nvGrpSpPr>
          <p:grpSpPr>
            <a:xfrm>
              <a:off x="2017800" y="1523880"/>
              <a:ext cx="932760" cy="358920"/>
              <a:chOff x="2017800" y="1523880"/>
              <a:chExt cx="932760" cy="358920"/>
            </a:xfrm>
          </p:grpSpPr>
          <p:sp>
            <p:nvSpPr>
              <p:cNvPr id="212" name=""/>
              <p:cNvSpPr/>
              <p:nvPr/>
            </p:nvSpPr>
            <p:spPr>
              <a:xfrm>
                <a:off x="2017800" y="1523880"/>
                <a:ext cx="76824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402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86040" y="1523880"/>
                <a:ext cx="16452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523880" y="2182680"/>
              <a:ext cx="1042560" cy="10177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Początek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Koniec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401920" y="1882440"/>
              <a:ext cx="54720" cy="7182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457000" y="2003040"/>
              <a:ext cx="3403440" cy="8380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170520" y="1523880"/>
              <a:ext cx="932760" cy="358920"/>
              <a:chOff x="3170520" y="1523880"/>
              <a:chExt cx="932760" cy="3589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70520" y="1523880"/>
                <a:ext cx="76824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402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8760" y="1523880"/>
                <a:ext cx="16452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323600" y="1523880"/>
              <a:ext cx="932760" cy="358920"/>
              <a:chOff x="4323600" y="1523880"/>
              <a:chExt cx="932760" cy="3589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23600" y="1523880"/>
                <a:ext cx="76824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402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91840" y="1523880"/>
                <a:ext cx="16452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695920" y="1523880"/>
              <a:ext cx="932760" cy="358920"/>
              <a:chOff x="5695920" y="1523880"/>
              <a:chExt cx="932760" cy="358920"/>
            </a:xfrm>
          </p:grpSpPr>
          <p:sp>
            <p:nvSpPr>
              <p:cNvPr id="224" name=""/>
              <p:cNvSpPr/>
              <p:nvPr/>
            </p:nvSpPr>
            <p:spPr>
              <a:xfrm>
                <a:off x="5695920" y="1523880"/>
                <a:ext cx="76824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02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402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64160" y="1523880"/>
                <a:ext cx="164520" cy="35892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895840" y="1763280"/>
              <a:ext cx="274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48920" y="1763280"/>
              <a:ext cx="274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01640" y="1763280"/>
              <a:ext cx="274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11800" y="164232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43000" y="3657600"/>
            <a:ext cx="3276720" cy="17773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blic  class kolejka( 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gniwo poczatek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gniwo koniec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.................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3352680"/>
            <a:ext cx="4114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blic kolejka  in (int e; kolejka q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o = New ogniwo(e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o. next = null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if (q=null) {q = New kolejka(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q.początek = o;}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else  q.koniec.next = o;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q.koniec = o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return q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3048120" cy="10087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ublic class ogniwo (int e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ogniwo next; .......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71600" y="55627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y operacji 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3FA-5E5D-47CB-9689-D9D6FD8DD6A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List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11430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lejki  i Stosy są szczególnymi przykładami  struktur listowyc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2057400"/>
            <a:ext cx="3657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Operacje na lista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stęp do elementu list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dlis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łożeni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kładanie element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suwanie element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2438280"/>
            <a:ext cx="2133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alizacje 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 Tablicow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-  dowiązaniow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62520" y="3962520"/>
            <a:ext cx="4724280" cy="535680"/>
            <a:chOff x="3962520" y="3962520"/>
            <a:chExt cx="4724280" cy="535680"/>
          </a:xfrm>
        </p:grpSpPr>
        <p:grpSp>
          <p:nvGrpSpPr>
            <p:cNvPr id="239" name=""/>
            <p:cNvGrpSpPr/>
            <p:nvPr/>
          </p:nvGrpSpPr>
          <p:grpSpPr>
            <a:xfrm>
              <a:off x="3962520" y="3962520"/>
              <a:ext cx="1143000" cy="304560"/>
              <a:chOff x="3962520" y="3962520"/>
              <a:chExt cx="1143000" cy="304560"/>
            </a:xfrm>
          </p:grpSpPr>
          <p:sp>
            <p:nvSpPr>
              <p:cNvPr id="240" name=""/>
              <p:cNvSpPr/>
              <p:nvPr/>
            </p:nvSpPr>
            <p:spPr>
              <a:xfrm>
                <a:off x="3962520" y="3962520"/>
                <a:ext cx="6094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2000" y="3962520"/>
                <a:ext cx="1522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4114800"/>
                <a:ext cx="3812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105520" y="3962520"/>
              <a:ext cx="1143000" cy="304560"/>
              <a:chOff x="5105520" y="3962520"/>
              <a:chExt cx="1143000" cy="304560"/>
            </a:xfrm>
          </p:grpSpPr>
          <p:sp>
            <p:nvSpPr>
              <p:cNvPr id="244" name=""/>
              <p:cNvSpPr/>
              <p:nvPr/>
            </p:nvSpPr>
            <p:spPr>
              <a:xfrm>
                <a:off x="5105520" y="3962520"/>
                <a:ext cx="6094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15000" y="3962520"/>
                <a:ext cx="1522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7280" y="4114800"/>
                <a:ext cx="3812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248520" y="3962520"/>
              <a:ext cx="1143000" cy="304560"/>
              <a:chOff x="6248520" y="3962520"/>
              <a:chExt cx="1143000" cy="304560"/>
            </a:xfrm>
          </p:grpSpPr>
          <p:sp>
            <p:nvSpPr>
              <p:cNvPr id="248" name=""/>
              <p:cNvSpPr/>
              <p:nvPr/>
            </p:nvSpPr>
            <p:spPr>
              <a:xfrm>
                <a:off x="6248520" y="3962520"/>
                <a:ext cx="6094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58000" y="3962520"/>
                <a:ext cx="1522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10280" y="4114800"/>
                <a:ext cx="3812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543800" y="3962520"/>
              <a:ext cx="1143000" cy="304560"/>
              <a:chOff x="7543800" y="3962520"/>
              <a:chExt cx="1143000" cy="304560"/>
            </a:xfrm>
          </p:grpSpPr>
          <p:sp>
            <p:nvSpPr>
              <p:cNvPr id="252" name=""/>
              <p:cNvSpPr/>
              <p:nvPr/>
            </p:nvSpPr>
            <p:spPr>
              <a:xfrm>
                <a:off x="7543800" y="3962520"/>
                <a:ext cx="6094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53280" y="3962520"/>
                <a:ext cx="152280" cy="304560"/>
              </a:xfrm>
              <a:prstGeom prst="rect">
                <a:avLst/>
              </a:prstGeom>
              <a:solidFill>
                <a:srgbClr val="ce9964"/>
              </a:solidFill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05560" y="4114800"/>
                <a:ext cx="38124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010280" y="4038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143000" y="4952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sta :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dnokierunkowa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5257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yklicz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486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wukierunkow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30520" y="4089240"/>
            <a:ext cx="5079960" cy="736920"/>
          </a:xfrm>
          <a:custGeom>
            <a:avLst/>
            <a:gdLst/>
            <a:ahLst/>
            <a:rect l="l" t="t" r="r" b="b"/>
            <a:pathLst>
              <a:path w="3200" h="464">
                <a:moveTo>
                  <a:pt x="3200" y="64"/>
                </a:moveTo>
                <a:cubicBezTo>
                  <a:pt x="3180" y="176"/>
                  <a:pt x="3160" y="288"/>
                  <a:pt x="3008" y="352"/>
                </a:cubicBezTo>
                <a:cubicBezTo>
                  <a:pt x="2856" y="416"/>
                  <a:pt x="2728" y="432"/>
                  <a:pt x="2288" y="448"/>
                </a:cubicBezTo>
                <a:cubicBezTo>
                  <a:pt x="1848" y="464"/>
                  <a:pt x="736" y="456"/>
                  <a:pt x="368" y="448"/>
                </a:cubicBezTo>
                <a:cubicBezTo>
                  <a:pt x="0" y="440"/>
                  <a:pt x="136" y="464"/>
                  <a:pt x="80" y="400"/>
                </a:cubicBezTo>
                <a:cubicBezTo>
                  <a:pt x="24" y="336"/>
                  <a:pt x="0" y="128"/>
                  <a:pt x="32" y="64"/>
                </a:cubicBezTo>
                <a:cubicBezTo>
                  <a:pt x="64" y="0"/>
                  <a:pt x="232" y="24"/>
                  <a:pt x="272" y="16"/>
                </a:cubicBezTo>
              </a:path>
            </a:pathLst>
          </a:custGeom>
          <a:noFill/>
          <a:ln w="12600">
            <a:solidFill>
              <a:srgbClr val="402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723920" y="4267080"/>
            <a:ext cx="3812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009920" y="396252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57913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wukierunkowa cyklicz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4 Podstawowe struktury dany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089-376A-4DFF-AABF-EA3A67F4A7A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cp:keywords>drugi najwiekszy turniej stos algorytm Hoare złożoność poprawność koszt</cp:keywords>
  <dc:language>en-US</dc:language>
  <cp:lastModifiedBy>mirkowska</cp:lastModifiedBy>
  <dcterms:modified xsi:type="dcterms:W3CDTF">2003-04-07T14:20:47Z</dcterms:modified>
  <cp:revision>137</cp:revision>
  <dc:subject>W04, k-ty co do wielkości, stos-struktura pomocnicza</dc:subject>
  <dc:title>ALGORYTMY I STRUKTURY  DANYCH</dc:title>
</cp:coreProperties>
</file>