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3D9B-AE98-4A9C-812B-FB2C06993C1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u może przytoczyć dokładny rachun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30DB-0ADC-4A68-8E04-B3D84B03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2CF-FB29-4EFC-8018-743477EA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2254-C1D4-46D1-B164-30DD4AEF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8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4636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8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4636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0CF-28D8-4380-BDD7-22381BDA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BD4C-5813-47AD-BA5E-C5B1862D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68D5-77DD-4337-80A9-B6A00F66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8068-04C6-4DDA-B1E0-02B783CB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D138-A45D-485B-AF05-A2F3DBCD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3738-2364-4B8C-86F0-4E82EB86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91D9-B6F8-49CA-80C3-24020D90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22A5-8B69-4CA1-B380-FFA4193D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F08-B8BC-4A7D-840E-5C1983BB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15EF-7F70-4D1C-AF50-4767F694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E695-2CA1-4A87-92CB-B9040AE0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7B19-A04B-490B-BE44-CDA4A1B6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D800-37DA-44F2-894A-82360A00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18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4636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90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18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4636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2A88-74BE-4678-9793-5D519CF9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0915-7746-470E-B8EB-AC740033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9C8-1EC2-4399-B5A0-CBF4344B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732-ECCB-4ADE-9C05-6CB669A5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1648-D9DE-4BA5-BA7E-21611D5E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B71-032C-4A61-B004-BB2E27C2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AB9-2E90-4931-A556-D469456F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41E-3EF5-404A-A93D-D1972364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520" y="60958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96D5-01A4-44D3-A62B-CF21E2BEA563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1447920"/>
            <a:ext cx="76201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8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A76B-A70D-4DE6-B20F-7D63C9117C78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6633"/>
                </a:solidFill>
                <a:latin typeface="Times New Roman"/>
              </a:rPr>
              <a:t>ALGORYTMY I STRUKTURY  DANYCH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WYKŁAD 9   Kopiec 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Grażyna Mirkowska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PJWSTK, semestr letni 2002/2003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Zastosowani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 rot="5400000">
            <a:off x="-114480" y="2857320"/>
            <a:ext cx="28195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Algoryt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7" name=""/>
          <p:cNvSpPr/>
          <p:nvPr/>
        </p:nvSpPr>
        <p:spPr>
          <a:xfrm>
            <a:off x="1752480" y="236232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(1) Z danego n elementowego zbioru utworzyć kopiec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(2) Dopóki kopiec nie jest pusty, wypisywać i usuwać element minimalny kopc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52480" y="1600200"/>
            <a:ext cx="3886200" cy="520560"/>
          </a:xfrm>
          <a:prstGeom prst="rect">
            <a:avLst/>
          </a:prstGeom>
          <a:solidFill>
            <a:srgbClr val="a08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Algorytm Heap_sor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49528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Koszt sortowania = koszt utworzenia kopca  + n * O(lg n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724280" y="3809880"/>
            <a:ext cx="1828800" cy="1143000"/>
          </a:xfrm>
          <a:prstGeom prst="line">
            <a:avLst/>
          </a:prstGeom>
          <a:ln w="1908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438280"/>
            <a:ext cx="1905120" cy="192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 ile wkładamy kolejno elementy stosując operacje insert : O(n lg n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= O(n lg n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  ASD_9     Kopie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76B7-F36B-4F4F-89C0-87B0DBEAA97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Implementacja kopca w tablicy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6765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Reprezentujemy kopiec jako parę    Tab + idx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3352680"/>
            <a:ext cx="731520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Organizacja elementów w tablicy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Tab[1] = etykieta korzenia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Tab[2i] = etykieta lewego syna wierzchołka i-tego 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o ile 2i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idx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Tab[2i+1] = etykieta prawego syna wierzchołka i-tego 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o ile 2i+1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id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14600" y="2514600"/>
            <a:ext cx="2209680" cy="533520"/>
          </a:xfrm>
          <a:prstGeom prst="wedgeRoundRectCallout">
            <a:avLst>
              <a:gd name="adj1" fmla="val 99282"/>
              <a:gd name="adj2" fmla="val -139287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ablica etykie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324480" y="2743200"/>
            <a:ext cx="2438640" cy="914400"/>
          </a:xfrm>
          <a:prstGeom prst="wedgeRoundRectCallout">
            <a:avLst>
              <a:gd name="adj1" fmla="val -29555"/>
              <a:gd name="adj2" fmla="val -120662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ktualna liczba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lementów w tablic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  ASD_9     Kopie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992-3732-4CD8-B135-BE1F89DC959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219320" y="1676520"/>
            <a:ext cx="3656880" cy="3650400"/>
            <a:chOff x="1219320" y="1676520"/>
            <a:chExt cx="3656880" cy="3650400"/>
          </a:xfrm>
        </p:grpSpPr>
        <p:grpSp>
          <p:nvGrpSpPr>
            <p:cNvPr id="320" name=""/>
            <p:cNvGrpSpPr/>
            <p:nvPr/>
          </p:nvGrpSpPr>
          <p:grpSpPr>
            <a:xfrm>
              <a:off x="1219320" y="1676520"/>
              <a:ext cx="3656880" cy="2957040"/>
              <a:chOff x="1219320" y="1676520"/>
              <a:chExt cx="3656880" cy="2957040"/>
            </a:xfrm>
          </p:grpSpPr>
          <p:sp>
            <p:nvSpPr>
              <p:cNvPr id="321" name=""/>
              <p:cNvSpPr/>
              <p:nvPr/>
            </p:nvSpPr>
            <p:spPr>
              <a:xfrm>
                <a:off x="3150360" y="1676520"/>
                <a:ext cx="271800" cy="23328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66840" y="2376720"/>
                <a:ext cx="273240" cy="23328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32080" y="2454840"/>
                <a:ext cx="273240" cy="23328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696320" y="3310920"/>
                <a:ext cx="272880" cy="23328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877120" y="3310920"/>
                <a:ext cx="272880" cy="23328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13240" y="3388680"/>
                <a:ext cx="273240" cy="23328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7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03320" y="3310920"/>
                <a:ext cx="272880" cy="23328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8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219320" y="4400280"/>
                <a:ext cx="271440" cy="23328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9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173320" y="4322520"/>
                <a:ext cx="272880" cy="23328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10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514240" y="1832040"/>
                <a:ext cx="635760" cy="62280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422160" y="1832040"/>
                <a:ext cx="635760" cy="54468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1878480" y="2688120"/>
                <a:ext cx="545040" cy="62244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14240" y="2688120"/>
                <a:ext cx="453600" cy="70020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3695040" y="2610360"/>
                <a:ext cx="362520" cy="7783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240440" y="2610360"/>
                <a:ext cx="545040" cy="70020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1298160" y="3544200"/>
                <a:ext cx="453960" cy="8557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34640" y="3544200"/>
                <a:ext cx="362160" cy="7783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650320" y="4322520"/>
                <a:ext cx="272880" cy="23328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809080" y="3544200"/>
                <a:ext cx="238320" cy="7783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2173320" y="4867200"/>
              <a:ext cx="182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Kopiec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581280" y="4038480"/>
            <a:ext cx="5105160" cy="1676160"/>
            <a:chOff x="3581280" y="4038480"/>
            <a:chExt cx="5105160" cy="1676160"/>
          </a:xfrm>
        </p:grpSpPr>
        <p:sp>
          <p:nvSpPr>
            <p:cNvPr id="342" name=""/>
            <p:cNvSpPr/>
            <p:nvPr/>
          </p:nvSpPr>
          <p:spPr>
            <a:xfrm>
              <a:off x="3581280" y="4038480"/>
              <a:ext cx="5105160" cy="1676160"/>
            </a:xfrm>
            <a:prstGeom prst="rect">
              <a:avLst/>
            </a:prstGeom>
            <a:noFill/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19360" y="4571640"/>
              <a:ext cx="380880" cy="3812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00240" y="4571640"/>
              <a:ext cx="381240" cy="3812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81480" y="4571640"/>
              <a:ext cx="380880" cy="3812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62360" y="4571640"/>
              <a:ext cx="380880" cy="3812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43240" y="4571640"/>
              <a:ext cx="381240" cy="3812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24480" y="4571640"/>
              <a:ext cx="380880" cy="3812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05360" y="4571640"/>
              <a:ext cx="380880" cy="3812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240" y="4571640"/>
              <a:ext cx="381240" cy="3812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67480" y="4571640"/>
              <a:ext cx="380880" cy="3812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848360" y="4571640"/>
              <a:ext cx="380880" cy="3812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1280" y="45716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Tab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57240" y="510516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n :    1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43040" y="411444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    2   3   4   5   6   7   8  9  1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562720" y="16765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Reprezentacja tablicowa kopc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809880"/>
            <a:ext cx="609480" cy="457200"/>
          </a:xfrm>
          <a:custGeom>
            <a:avLst/>
            <a:gdLst>
              <a:gd name="textAreaLeft" fmla="*/ 122400 w 609480"/>
              <a:gd name="textAreaRight" fmla="*/ 426240 w 6094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74" hR="21600" stAng="10800000" swAng="5400000"/>
                <a:lnTo>
                  <a:pt x="10766" y="0"/>
                </a:lnTo>
                <a:arcTo wR="8674" hR="21600" stAng="-5400000" swAng="2918322"/>
                <a:lnTo>
                  <a:pt x="21104" y="14400"/>
                </a:lnTo>
                <a:lnTo>
                  <a:pt x="18394" y="21600"/>
                </a:lnTo>
                <a:lnTo>
                  <a:pt x="14692" y="14400"/>
                </a:lnTo>
                <a:lnTo>
                  <a:pt x="16852" y="14400"/>
                </a:lnTo>
                <a:arcTo wR="8674" hR="21600" stAng="-2481678" swAng="-2750755"/>
                <a:lnTo>
                  <a:pt x="9720" y="158"/>
                </a:lnTo>
                <a:arcTo wR="8674" hR="21600" stAng="-5567567" swAng="-5232433"/>
                <a:close/>
              </a:path>
              <a:path fill="darkenLess" w="21600" h="21600">
                <a:moveTo>
                  <a:pt x="0" y="21600"/>
                </a:moveTo>
                <a:arcTo wR="8674" hR="21600" stAng="10800000" swAng="5400000"/>
                <a:lnTo>
                  <a:pt x="8674" y="0"/>
                </a:lnTo>
                <a:arcTo wR="8674" hR="21600" stAng="-5400000" swAng="167567"/>
                <a:lnTo>
                  <a:pt x="9720" y="158"/>
                </a:lnTo>
                <a:arcTo wR="8674" hR="21600" stAng="-5567567" swAng="-5232433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3581280"/>
            <a:ext cx="838080" cy="457200"/>
          </a:xfrm>
          <a:custGeom>
            <a:avLst/>
            <a:gdLst>
              <a:gd name="textAreaLeft" fmla="*/ 168120 w 838080"/>
              <a:gd name="textAreaRight" fmla="*/ 586080 w 8380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74" hR="21600" stAng="10800000" swAng="5400000"/>
                <a:lnTo>
                  <a:pt x="10766" y="0"/>
                </a:lnTo>
                <a:arcTo wR="8674" hR="21600" stAng="-5400000" swAng="2918322"/>
                <a:lnTo>
                  <a:pt x="21104" y="14400"/>
                </a:lnTo>
                <a:lnTo>
                  <a:pt x="18394" y="21600"/>
                </a:lnTo>
                <a:lnTo>
                  <a:pt x="14692" y="14400"/>
                </a:lnTo>
                <a:lnTo>
                  <a:pt x="16852" y="14400"/>
                </a:lnTo>
                <a:arcTo wR="8674" hR="21600" stAng="-2481678" swAng="-2750755"/>
                <a:lnTo>
                  <a:pt x="9720" y="158"/>
                </a:lnTo>
                <a:arcTo wR="8674" hR="21600" stAng="-5567567" swAng="-5232433"/>
                <a:close/>
              </a:path>
              <a:path fill="darkenLess" w="21600" h="21600">
                <a:moveTo>
                  <a:pt x="0" y="21600"/>
                </a:moveTo>
                <a:arcTo wR="8674" hR="21600" stAng="10800000" swAng="5400000"/>
                <a:lnTo>
                  <a:pt x="8674" y="0"/>
                </a:lnTo>
                <a:arcTo wR="8674" hR="21600" stAng="-5400000" swAng="167567"/>
                <a:lnTo>
                  <a:pt x="9720" y="158"/>
                </a:lnTo>
                <a:arcTo wR="8674" hR="21600" stAng="-5567567" swAng="-5232433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105520" y="5029200"/>
            <a:ext cx="609480" cy="457200"/>
          </a:xfrm>
          <a:custGeom>
            <a:avLst/>
            <a:gdLst>
              <a:gd name="textAreaLeft" fmla="*/ 122400 w 609480"/>
              <a:gd name="textAreaRight" fmla="*/ 426240 w 6094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74" hR="21600" stAng="10800000" swAng="5400000"/>
                <a:lnTo>
                  <a:pt x="10766" y="0"/>
                </a:lnTo>
                <a:arcTo wR="8674" hR="21600" stAng="-5400000" swAng="2918322"/>
                <a:lnTo>
                  <a:pt x="21104" y="14400"/>
                </a:lnTo>
                <a:lnTo>
                  <a:pt x="18394" y="21600"/>
                </a:lnTo>
                <a:lnTo>
                  <a:pt x="14692" y="14400"/>
                </a:lnTo>
                <a:lnTo>
                  <a:pt x="16852" y="14400"/>
                </a:lnTo>
                <a:arcTo wR="8674" hR="21600" stAng="-2481678" swAng="-2750755"/>
                <a:lnTo>
                  <a:pt x="9720" y="158"/>
                </a:lnTo>
                <a:arcTo wR="8674" hR="21600" stAng="-5567567" swAng="-5232433"/>
                <a:close/>
              </a:path>
              <a:path fill="darkenLess" w="21600" h="21600">
                <a:moveTo>
                  <a:pt x="0" y="21600"/>
                </a:moveTo>
                <a:arcTo wR="8674" hR="21600" stAng="10800000" swAng="5400000"/>
                <a:lnTo>
                  <a:pt x="8674" y="0"/>
                </a:lnTo>
                <a:arcTo wR="8674" hR="21600" stAng="-5400000" swAng="167567"/>
                <a:lnTo>
                  <a:pt x="9720" y="158"/>
                </a:lnTo>
                <a:arcTo wR="8674" hR="21600" stAng="-5567567" swAng="-5232433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05520" y="5029200"/>
            <a:ext cx="1218960" cy="457200"/>
          </a:xfrm>
          <a:custGeom>
            <a:avLst/>
            <a:gdLst>
              <a:gd name="textAreaLeft" fmla="*/ 244800 w 1218960"/>
              <a:gd name="textAreaRight" fmla="*/ 852480 w 12189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74" hR="21600" stAng="10800000" swAng="5400000"/>
                <a:lnTo>
                  <a:pt x="10766" y="0"/>
                </a:lnTo>
                <a:arcTo wR="8674" hR="21600" stAng="-5400000" swAng="2918322"/>
                <a:lnTo>
                  <a:pt x="21104" y="14400"/>
                </a:lnTo>
                <a:lnTo>
                  <a:pt x="18394" y="21600"/>
                </a:lnTo>
                <a:lnTo>
                  <a:pt x="14692" y="14400"/>
                </a:lnTo>
                <a:lnTo>
                  <a:pt x="16852" y="14400"/>
                </a:lnTo>
                <a:arcTo wR="8674" hR="21600" stAng="-2481678" swAng="-2750755"/>
                <a:lnTo>
                  <a:pt x="9720" y="158"/>
                </a:lnTo>
                <a:arcTo wR="8674" hR="21600" stAng="-5567567" swAng="-5232433"/>
                <a:close/>
              </a:path>
              <a:path fill="darkenLess" w="21600" h="21600">
                <a:moveTo>
                  <a:pt x="0" y="21600"/>
                </a:moveTo>
                <a:arcTo wR="8674" hR="21600" stAng="10800000" swAng="5400000"/>
                <a:lnTo>
                  <a:pt x="8674" y="0"/>
                </a:lnTo>
                <a:arcTo wR="8674" hR="21600" stAng="-5400000" swAng="167567"/>
                <a:lnTo>
                  <a:pt x="9720" y="158"/>
                </a:lnTo>
                <a:arcTo wR="8674" hR="21600" stAng="-5567567" swAng="-5232433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86400" y="3581280"/>
            <a:ext cx="1219320" cy="609840"/>
          </a:xfrm>
          <a:custGeom>
            <a:avLst/>
            <a:gdLst>
              <a:gd name="textAreaLeft" fmla="*/ 250920 w 1219320"/>
              <a:gd name="textAreaRight" fmla="*/ 846360 w 121932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93" hR="21600" stAng="10800000" swAng="5400000"/>
                <a:lnTo>
                  <a:pt x="10548" y="0"/>
                </a:lnTo>
                <a:arcTo wR="8893" hR="21600" stAng="-5400000" swAng="2960669"/>
                <a:lnTo>
                  <a:pt x="21091" y="14400"/>
                </a:lnTo>
                <a:lnTo>
                  <a:pt x="18613" y="21600"/>
                </a:lnTo>
                <a:lnTo>
                  <a:pt x="15116" y="14400"/>
                </a:lnTo>
                <a:lnTo>
                  <a:pt x="17276" y="14400"/>
                </a:lnTo>
                <a:arcTo wR="8893" hR="21600" stAng="-2439331" swAng="-2828459"/>
                <a:lnTo>
                  <a:pt x="9720" y="94"/>
                </a:lnTo>
                <a:arcTo wR="8893" hR="21600" stAng="-5532209" swAng="-5267791"/>
                <a:close/>
              </a:path>
              <a:path fill="darkenLess" w="21600" h="21600">
                <a:moveTo>
                  <a:pt x="0" y="21600"/>
                </a:moveTo>
                <a:arcTo wR="8893" hR="21600" stAng="10800000" swAng="5400000"/>
                <a:lnTo>
                  <a:pt x="8893" y="0"/>
                </a:lnTo>
                <a:arcTo wR="8893" hR="21600" stAng="-5400000" swAng="132209"/>
                <a:lnTo>
                  <a:pt x="9720" y="94"/>
                </a:lnTo>
                <a:arcTo wR="8893" hR="21600" stAng="-5532209" swAng="-5267791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62720" y="3505320"/>
            <a:ext cx="1600200" cy="685800"/>
          </a:xfrm>
          <a:custGeom>
            <a:avLst/>
            <a:gdLst>
              <a:gd name="textAreaLeft" fmla="*/ 334800 w 1600200"/>
              <a:gd name="textAreaRight" fmla="*/ 1125720 w 16002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43" hR="21600" stAng="10800000" swAng="5400000"/>
                <a:lnTo>
                  <a:pt x="10671" y="0"/>
                </a:lnTo>
                <a:arcTo wR="9043" hR="21600" stAng="-5400000" swAng="3561310"/>
                <a:lnTo>
                  <a:pt x="21334" y="16400"/>
                </a:lnTo>
                <a:lnTo>
                  <a:pt x="18900" y="21600"/>
                </a:lnTo>
                <a:lnTo>
                  <a:pt x="15934" y="16400"/>
                </a:lnTo>
                <a:lnTo>
                  <a:pt x="17820" y="16400"/>
                </a:lnTo>
                <a:arcTo wR="9043" hR="21600" stAng="-1838690" swAng="-3431292"/>
                <a:lnTo>
                  <a:pt x="9857" y="88"/>
                </a:lnTo>
                <a:arcTo wR="9043" hR="21600" stAng="-5530018" swAng="-5269982"/>
                <a:close/>
              </a:path>
              <a:path fill="darkenLess" w="21600" h="21600">
                <a:moveTo>
                  <a:pt x="0" y="21600"/>
                </a:moveTo>
                <a:arcTo wR="9043" hR="21600" stAng="10800000" swAng="5400000"/>
                <a:lnTo>
                  <a:pt x="9043" y="0"/>
                </a:lnTo>
                <a:arcTo wR="9043" hR="21600" stAng="-5400000" swAng="130018"/>
                <a:lnTo>
                  <a:pt x="9857" y="88"/>
                </a:lnTo>
                <a:arcTo wR="9043" hR="21600" stAng="-5530018" swAng="-5269982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38680" y="5105520"/>
            <a:ext cx="1905120" cy="838080"/>
          </a:xfrm>
          <a:custGeom>
            <a:avLst/>
            <a:gdLst>
              <a:gd name="textAreaLeft" fmla="*/ 396720 w 1905120"/>
              <a:gd name="textAreaRight" fmla="*/ 1317600 w 190512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00" hR="21600" stAng="10800000" swAng="-5400000"/>
                <a:lnTo>
                  <a:pt x="10440" y="21600"/>
                </a:lnTo>
                <a:arcTo wR="9000" hR="21600" stAng="5400000" swAng="-3286885"/>
                <a:lnTo>
                  <a:pt x="21234" y="6095"/>
                </a:lnTo>
                <a:lnTo>
                  <a:pt x="18720" y="0"/>
                </a:lnTo>
                <a:lnTo>
                  <a:pt x="15474" y="6095"/>
                </a:lnTo>
                <a:lnTo>
                  <a:pt x="17634" y="6095"/>
                </a:lnTo>
                <a:arcTo wR="9000" hR="21600" stAng="2113115" swAng="3171967"/>
                <a:lnTo>
                  <a:pt x="9720" y="21531"/>
                </a:lnTo>
                <a:arcTo wR="9000" hR="21600" stAng="5514917" swAng="5285083"/>
                <a:close/>
              </a:path>
              <a:path fill="darkenLess" w="21600" h="21600">
                <a:moveTo>
                  <a:pt x="0" y="0"/>
                </a:moveTo>
                <a:arcTo wR="9000" hR="21600" stAng="10800000" swAng="-5400000"/>
                <a:lnTo>
                  <a:pt x="10440" y="21600"/>
                </a:lnTo>
                <a:arcTo wR="9000" hR="21600" stAng="5400000" swAng="114917"/>
                <a:lnTo>
                  <a:pt x="9720" y="21531"/>
                </a:lnTo>
                <a:arcTo wR="9000" hR="21600" stAng="5514917" swAng="5285083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38680" y="5105520"/>
            <a:ext cx="2362320" cy="685800"/>
          </a:xfrm>
          <a:custGeom>
            <a:avLst/>
            <a:gdLst>
              <a:gd name="textAreaLeft" fmla="*/ 502200 w 2362320"/>
              <a:gd name="textAreaRight" fmla="*/ 1623600 w 23623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7" hR="21600" stAng="10800000" swAng="-5400000"/>
                <a:lnTo>
                  <a:pt x="10253" y="21600"/>
                </a:lnTo>
                <a:arcTo wR="9187" hR="21600" stAng="5400000" swAng="-3015884"/>
                <a:lnTo>
                  <a:pt x="21075" y="7200"/>
                </a:lnTo>
                <a:lnTo>
                  <a:pt x="18907" y="0"/>
                </a:lnTo>
                <a:lnTo>
                  <a:pt x="15689" y="7200"/>
                </a:lnTo>
                <a:lnTo>
                  <a:pt x="17849" y="7200"/>
                </a:lnTo>
                <a:arcTo wR="9187" hR="21600" stAng="2384116" swAng="2930928"/>
                <a:lnTo>
                  <a:pt x="9720" y="21564"/>
                </a:lnTo>
                <a:arcTo wR="9187" hR="21600" stAng="5484955" swAng="5315045"/>
                <a:close/>
              </a:path>
              <a:path fill="darkenLess" w="21600" h="21600">
                <a:moveTo>
                  <a:pt x="0" y="0"/>
                </a:moveTo>
                <a:arcTo wR="9187" hR="21600" stAng="10800000" swAng="-5400000"/>
                <a:lnTo>
                  <a:pt x="10253" y="21600"/>
                </a:lnTo>
                <a:arcTo wR="9187" hR="21600" stAng="5400000" swAng="84955"/>
                <a:lnTo>
                  <a:pt x="9720" y="21564"/>
                </a:lnTo>
                <a:arcTo wR="9187" hR="21600" stAng="5484955" swAng="5315045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3429000"/>
            <a:ext cx="2210040" cy="685800"/>
          </a:xfrm>
          <a:custGeom>
            <a:avLst/>
            <a:gdLst>
              <a:gd name="textAreaLeft" fmla="*/ 470520 w 2210040"/>
              <a:gd name="textAreaRight" fmla="*/ 1518480 w 221004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01" hR="21600" stAng="10800000" swAng="5400000"/>
                <a:lnTo>
                  <a:pt x="10240" y="0"/>
                </a:lnTo>
                <a:arcTo wR="9201" hR="21600" stAng="-5400000" swAng="3018365"/>
                <a:lnTo>
                  <a:pt x="21074" y="14400"/>
                </a:lnTo>
                <a:lnTo>
                  <a:pt x="18921" y="21600"/>
                </a:lnTo>
                <a:lnTo>
                  <a:pt x="15715" y="14400"/>
                </a:lnTo>
                <a:lnTo>
                  <a:pt x="17875" y="14400"/>
                </a:lnTo>
                <a:arcTo wR="9201" hR="21600" stAng="-2381635" swAng="-2935568"/>
                <a:lnTo>
                  <a:pt x="9720" y="34"/>
                </a:lnTo>
                <a:arcTo wR="9201" hR="21600" stAng="-5482797" swAng="-5317203"/>
                <a:close/>
              </a:path>
              <a:path fill="darkenLess" w="21600" h="21600">
                <a:moveTo>
                  <a:pt x="0" y="21600"/>
                </a:moveTo>
                <a:arcTo wR="9201" hR="21600" stAng="10800000" swAng="5400000"/>
                <a:lnTo>
                  <a:pt x="9201" y="0"/>
                </a:lnTo>
                <a:arcTo wR="9201" hR="21600" stAng="-5400000" swAng="82797"/>
                <a:lnTo>
                  <a:pt x="9720" y="34"/>
                </a:lnTo>
                <a:arcTo wR="9201" hR="21600" stAng="-5482797" swAng="-5317203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  ASD_9     Kopie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698-5FD0-49E4-A7A2-E20A0B7A318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Operacja insert w implementacji tablicowej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0020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Kopiec 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1676520"/>
            <a:ext cx="3047400" cy="2743200"/>
            <a:chOff x="990720" y="1676520"/>
            <a:chExt cx="3047400" cy="2743200"/>
          </a:xfrm>
        </p:grpSpPr>
        <p:sp>
          <p:nvSpPr>
            <p:cNvPr id="369" name=""/>
            <p:cNvSpPr/>
            <p:nvPr/>
          </p:nvSpPr>
          <p:spPr>
            <a:xfrm>
              <a:off x="2685600" y="1676520"/>
              <a:ext cx="237960" cy="21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01640" y="2325600"/>
              <a:ext cx="239400" cy="21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967040" y="2397600"/>
              <a:ext cx="239400" cy="21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09760" y="3193200"/>
              <a:ext cx="239400" cy="21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46200" y="3193200"/>
              <a:ext cx="239400" cy="21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63760" y="3301920"/>
              <a:ext cx="239760" cy="21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98720" y="3231000"/>
              <a:ext cx="239400" cy="21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9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90720" y="4203360"/>
              <a:ext cx="237960" cy="21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6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27720" y="4131000"/>
              <a:ext cx="239400" cy="21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127240" y="1820520"/>
              <a:ext cx="558360" cy="576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23920" y="1820520"/>
              <a:ext cx="558720" cy="504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1568160" y="2614320"/>
              <a:ext cx="479160" cy="578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27240" y="2614320"/>
              <a:ext cx="398160" cy="650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3330360" y="2524680"/>
              <a:ext cx="200520" cy="7772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98200" y="2524680"/>
              <a:ext cx="334080" cy="706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060200" y="3409560"/>
              <a:ext cx="398160" cy="793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18560" y="3409560"/>
              <a:ext cx="317520" cy="721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46760" y="4131000"/>
              <a:ext cx="239760" cy="21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2386080" y="3409560"/>
              <a:ext cx="208800" cy="721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28800" y="4150080"/>
              <a:ext cx="239400" cy="216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20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95240" y="3372840"/>
              <a:ext cx="267120" cy="7772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962520" y="1752480"/>
            <a:ext cx="4572000" cy="688320"/>
            <a:chOff x="3962520" y="1752480"/>
            <a:chExt cx="4572000" cy="688320"/>
          </a:xfrm>
        </p:grpSpPr>
        <p:sp>
          <p:nvSpPr>
            <p:cNvPr id="391" name=""/>
            <p:cNvSpPr/>
            <p:nvPr/>
          </p:nvSpPr>
          <p:spPr>
            <a:xfrm>
              <a:off x="4953240" y="205704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58160" y="2057040"/>
              <a:ext cx="30456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62720" y="205704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67640" y="205704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172560" y="2057040"/>
              <a:ext cx="30456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477120" y="205704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82040" y="205704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9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86960" y="2057040"/>
              <a:ext cx="30456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391520" y="205704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96440" y="205704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01360" y="2057040"/>
              <a:ext cx="30456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53240" y="1752480"/>
              <a:ext cx="35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   2   3    4   5    6   7   8    9  10  1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62520" y="1981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Tab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556272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Insert(D,3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038480" y="3200400"/>
            <a:ext cx="4800600" cy="688320"/>
            <a:chOff x="4038480" y="3200400"/>
            <a:chExt cx="4800600" cy="688320"/>
          </a:xfrm>
        </p:grpSpPr>
        <p:grpSp>
          <p:nvGrpSpPr>
            <p:cNvPr id="406" name=""/>
            <p:cNvGrpSpPr/>
            <p:nvPr/>
          </p:nvGrpSpPr>
          <p:grpSpPr>
            <a:xfrm>
              <a:off x="4038480" y="3200400"/>
              <a:ext cx="4572000" cy="688320"/>
              <a:chOff x="4038480" y="3200400"/>
              <a:chExt cx="4572000" cy="688320"/>
            </a:xfrm>
          </p:grpSpPr>
          <p:sp>
            <p:nvSpPr>
              <p:cNvPr id="407" name=""/>
              <p:cNvSpPr/>
              <p:nvPr/>
            </p:nvSpPr>
            <p:spPr>
              <a:xfrm>
                <a:off x="5029200" y="350496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34120" y="3504960"/>
                <a:ext cx="30456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638680" y="350496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943600" y="350496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48520" y="3504960"/>
                <a:ext cx="30456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53080" y="350496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58000" y="350496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19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62920" y="3504960"/>
                <a:ext cx="30456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16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67480" y="350496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772400" y="350496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077320" y="3504960"/>
                <a:ext cx="30456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20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029200" y="3200400"/>
                <a:ext cx="358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1   2   3    4   5    6   7   8    9  10  11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038480" y="3429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02000"/>
                    </a:solidFill>
                    <a:latin typeface="Times New Roman"/>
                  </a:rPr>
                  <a:t>Tab: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8381880" y="3505320"/>
              <a:ext cx="304920" cy="304560"/>
            </a:xfrm>
            <a:prstGeom prst="rect">
              <a:avLst/>
            </a:prstGeom>
            <a:solidFill>
              <a:srgbClr val="cd33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81880" y="3200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886200" y="4648320"/>
            <a:ext cx="4800600" cy="688320"/>
            <a:chOff x="3886200" y="4648320"/>
            <a:chExt cx="4800600" cy="688320"/>
          </a:xfrm>
        </p:grpSpPr>
        <p:grpSp>
          <p:nvGrpSpPr>
            <p:cNvPr id="423" name=""/>
            <p:cNvGrpSpPr/>
            <p:nvPr/>
          </p:nvGrpSpPr>
          <p:grpSpPr>
            <a:xfrm>
              <a:off x="3886200" y="4648320"/>
              <a:ext cx="4572000" cy="688320"/>
              <a:chOff x="3886200" y="4648320"/>
              <a:chExt cx="4572000" cy="688320"/>
            </a:xfrm>
          </p:grpSpPr>
          <p:sp>
            <p:nvSpPr>
              <p:cNvPr id="424" name=""/>
              <p:cNvSpPr/>
              <p:nvPr/>
            </p:nvSpPr>
            <p:spPr>
              <a:xfrm>
                <a:off x="4876920" y="495288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181840" y="4952880"/>
                <a:ext cx="30456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86400" y="495288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791320" y="495288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096240" y="4952880"/>
                <a:ext cx="30456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00800" y="495288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705720" y="495288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19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010640" y="4952880"/>
                <a:ext cx="30456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16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315200" y="495288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620120" y="495288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925040" y="4952880"/>
                <a:ext cx="30456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20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876920" y="4648320"/>
                <a:ext cx="358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1   2   3    4   5    6   7   8    9  10  11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886200" y="48769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02000"/>
                    </a:solidFill>
                    <a:latin typeface="Times New Roman"/>
                  </a:rPr>
                  <a:t>Tab: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8229600" y="4953240"/>
              <a:ext cx="304920" cy="304560"/>
            </a:xfrm>
            <a:prstGeom prst="rect">
              <a:avLst/>
            </a:prstGeom>
            <a:solidFill>
              <a:srgbClr val="cd33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229600" y="4648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6781680" y="3809880"/>
            <a:ext cx="1752840" cy="381240"/>
          </a:xfrm>
          <a:custGeom>
            <a:avLst/>
            <a:gdLst/>
            <a:ahLst/>
            <a:rect l="l" t="t" r="r" b="b"/>
            <a:pathLst>
              <a:path w="1104" h="288">
                <a:moveTo>
                  <a:pt x="1104" y="0"/>
                </a:moveTo>
                <a:cubicBezTo>
                  <a:pt x="860" y="144"/>
                  <a:pt x="616" y="288"/>
                  <a:pt x="432" y="288"/>
                </a:cubicBezTo>
                <a:cubicBezTo>
                  <a:pt x="248" y="288"/>
                  <a:pt x="72" y="48"/>
                  <a:pt x="0" y="0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91320" y="3809880"/>
            <a:ext cx="990360" cy="304920"/>
          </a:xfrm>
          <a:custGeom>
            <a:avLst/>
            <a:gdLst/>
            <a:ahLst/>
            <a:rect l="l" t="t" r="r" b="b"/>
            <a:pathLst>
              <a:path w="624" h="192">
                <a:moveTo>
                  <a:pt x="624" y="0"/>
                </a:moveTo>
                <a:cubicBezTo>
                  <a:pt x="532" y="96"/>
                  <a:pt x="440" y="192"/>
                  <a:pt x="336" y="192"/>
                </a:cubicBezTo>
                <a:cubicBezTo>
                  <a:pt x="232" y="192"/>
                  <a:pt x="56" y="32"/>
                  <a:pt x="0" y="0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81480" y="3809880"/>
            <a:ext cx="609840" cy="30492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384" y="0"/>
                </a:moveTo>
                <a:cubicBezTo>
                  <a:pt x="344" y="72"/>
                  <a:pt x="304" y="144"/>
                  <a:pt x="240" y="144"/>
                </a:cubicBezTo>
                <a:cubicBezTo>
                  <a:pt x="176" y="144"/>
                  <a:pt x="48" y="24"/>
                  <a:pt x="0" y="0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200400" y="3505320"/>
            <a:ext cx="272880" cy="842760"/>
            <a:chOff x="3200400" y="3505320"/>
            <a:chExt cx="272880" cy="842760"/>
          </a:xfrm>
        </p:grpSpPr>
        <p:sp>
          <p:nvSpPr>
            <p:cNvPr id="443" name=""/>
            <p:cNvSpPr/>
            <p:nvPr/>
          </p:nvSpPr>
          <p:spPr>
            <a:xfrm>
              <a:off x="3200400" y="4114800"/>
              <a:ext cx="272880" cy="233280"/>
            </a:xfrm>
            <a:prstGeom prst="ellipse">
              <a:avLst/>
            </a:prstGeom>
            <a:solidFill>
              <a:srgbClr val="cd33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3276360" y="3505320"/>
              <a:ext cx="7596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3200400" y="4114800"/>
            <a:ext cx="272880" cy="233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3276720"/>
            <a:ext cx="272880" cy="233280"/>
          </a:xfrm>
          <a:prstGeom prst="ellipse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3276720"/>
            <a:ext cx="272880" cy="233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52680" y="2362320"/>
            <a:ext cx="273240" cy="233280"/>
          </a:xfrm>
          <a:prstGeom prst="ellipse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352680" y="2362320"/>
            <a:ext cx="273240" cy="233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66880" y="1676520"/>
            <a:ext cx="273240" cy="233280"/>
          </a:xfrm>
          <a:prstGeom prst="ellipse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  ASD_9     Kopie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F51-B688-4F40-8534-B20F8591D9E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Delmin w implementacji tablicowej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3886200" y="1981080"/>
            <a:ext cx="4800600" cy="688320"/>
            <a:chOff x="3886200" y="1981080"/>
            <a:chExt cx="4800600" cy="688320"/>
          </a:xfrm>
        </p:grpSpPr>
        <p:grpSp>
          <p:nvGrpSpPr>
            <p:cNvPr id="453" name=""/>
            <p:cNvGrpSpPr/>
            <p:nvPr/>
          </p:nvGrpSpPr>
          <p:grpSpPr>
            <a:xfrm>
              <a:off x="3886200" y="1981080"/>
              <a:ext cx="4572000" cy="688320"/>
              <a:chOff x="3886200" y="1981080"/>
              <a:chExt cx="4572000" cy="688320"/>
            </a:xfrm>
          </p:grpSpPr>
          <p:sp>
            <p:nvSpPr>
              <p:cNvPr id="454" name=""/>
              <p:cNvSpPr/>
              <p:nvPr/>
            </p:nvSpPr>
            <p:spPr>
              <a:xfrm>
                <a:off x="4876920" y="228564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181840" y="2285640"/>
                <a:ext cx="30456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486400" y="228564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791320" y="228564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096240" y="2285640"/>
                <a:ext cx="30456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400800" y="228564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705720" y="228564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19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010640" y="2285640"/>
                <a:ext cx="30456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16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15200" y="228564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620120" y="2285640"/>
                <a:ext cx="30492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925040" y="2285640"/>
                <a:ext cx="30456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20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876920" y="1981080"/>
                <a:ext cx="358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1   2   3    4   5    6   7   8    9  10  11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86200" y="22096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02000"/>
                    </a:solidFill>
                    <a:latin typeface="Times New Roman"/>
                  </a:rPr>
                  <a:t>Tab: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8229600" y="2286000"/>
              <a:ext cx="304920" cy="304560"/>
            </a:xfrm>
            <a:prstGeom prst="rect">
              <a:avLst/>
            </a:prstGeom>
            <a:solidFill>
              <a:srgbClr val="cd33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229600" y="1981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990720" y="1676520"/>
            <a:ext cx="3047760" cy="2743200"/>
            <a:chOff x="990720" y="1676520"/>
            <a:chExt cx="3047760" cy="2743200"/>
          </a:xfrm>
        </p:grpSpPr>
        <p:sp>
          <p:nvSpPr>
            <p:cNvPr id="470" name=""/>
            <p:cNvSpPr/>
            <p:nvPr/>
          </p:nvSpPr>
          <p:spPr>
            <a:xfrm>
              <a:off x="2685960" y="1676520"/>
              <a:ext cx="238320" cy="2156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02000" y="2325600"/>
              <a:ext cx="239760" cy="2160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67040" y="2397240"/>
              <a:ext cx="239760" cy="217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09760" y="3192480"/>
              <a:ext cx="239760" cy="217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46200" y="3192480"/>
              <a:ext cx="239760" cy="217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63760" y="3301920"/>
              <a:ext cx="239760" cy="2160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98720" y="3230640"/>
              <a:ext cx="239760" cy="217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9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90720" y="4203720"/>
              <a:ext cx="237960" cy="2160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6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27360" y="4130640"/>
              <a:ext cx="239400" cy="217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127240" y="1820520"/>
              <a:ext cx="558720" cy="5763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24280" y="1820880"/>
              <a:ext cx="558720" cy="504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1568520" y="2614680"/>
              <a:ext cx="479520" cy="577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127240" y="2614680"/>
              <a:ext cx="398520" cy="65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3330720" y="2523960"/>
              <a:ext cx="201600" cy="777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98920" y="2523960"/>
              <a:ext cx="333360" cy="7066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1060200" y="3409920"/>
              <a:ext cx="398520" cy="793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19280" y="3409920"/>
              <a:ext cx="317520" cy="720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47840" y="4130640"/>
              <a:ext cx="238320" cy="217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2386080" y="3409920"/>
              <a:ext cx="209520" cy="720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28800" y="4149720"/>
              <a:ext cx="239760" cy="217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20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95600" y="3373560"/>
              <a:ext cx="266760" cy="776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200400" y="3505320"/>
              <a:ext cx="201600" cy="777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24080" y="4114800"/>
              <a:ext cx="239760" cy="217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5105520" y="2971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Delmin(D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3886200" y="3733920"/>
            <a:ext cx="4572000" cy="688320"/>
            <a:chOff x="3886200" y="3733920"/>
            <a:chExt cx="4572000" cy="688320"/>
          </a:xfrm>
        </p:grpSpPr>
        <p:sp>
          <p:nvSpPr>
            <p:cNvPr id="495" name=""/>
            <p:cNvSpPr/>
            <p:nvPr/>
          </p:nvSpPr>
          <p:spPr>
            <a:xfrm>
              <a:off x="4876920" y="403848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181840" y="4038480"/>
              <a:ext cx="30456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486400" y="403848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91320" y="403848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96240" y="4038480"/>
              <a:ext cx="30456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00800" y="403848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05720" y="403848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9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10640" y="4038480"/>
              <a:ext cx="30456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15200" y="403848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20120" y="403848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5040" y="4038480"/>
              <a:ext cx="30456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76920" y="3733920"/>
              <a:ext cx="35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   2   3    4   5    6   7   8    9  10  1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86200" y="3962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Tab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029200" y="4343400"/>
            <a:ext cx="609480" cy="317520"/>
          </a:xfrm>
          <a:custGeom>
            <a:avLst/>
            <a:gdLst/>
            <a:ahLst/>
            <a:rect l="l" t="t" r="r" b="b"/>
            <a:pathLst>
              <a:path w="384" h="200">
                <a:moveTo>
                  <a:pt x="0" y="48"/>
                </a:moveTo>
                <a:cubicBezTo>
                  <a:pt x="88" y="124"/>
                  <a:pt x="176" y="200"/>
                  <a:pt x="240" y="192"/>
                </a:cubicBezTo>
                <a:cubicBezTo>
                  <a:pt x="304" y="184"/>
                  <a:pt x="360" y="32"/>
                  <a:pt x="384" y="0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8680" y="4343400"/>
            <a:ext cx="990720" cy="380880"/>
          </a:xfrm>
          <a:custGeom>
            <a:avLst/>
            <a:gdLst/>
            <a:ahLst/>
            <a:rect l="l" t="t" r="r" b="b"/>
            <a:pathLst>
              <a:path w="624" h="152">
                <a:moveTo>
                  <a:pt x="0" y="48"/>
                </a:moveTo>
                <a:cubicBezTo>
                  <a:pt x="164" y="100"/>
                  <a:pt x="328" y="152"/>
                  <a:pt x="432" y="144"/>
                </a:cubicBezTo>
                <a:cubicBezTo>
                  <a:pt x="536" y="136"/>
                  <a:pt x="592" y="24"/>
                  <a:pt x="624" y="0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00200" y="5410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Ostatecznie 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809880" y="5029200"/>
            <a:ext cx="4572000" cy="688320"/>
            <a:chOff x="3809880" y="5029200"/>
            <a:chExt cx="4572000" cy="688320"/>
          </a:xfrm>
        </p:grpSpPr>
        <p:sp>
          <p:nvSpPr>
            <p:cNvPr id="512" name=""/>
            <p:cNvSpPr/>
            <p:nvPr/>
          </p:nvSpPr>
          <p:spPr>
            <a:xfrm>
              <a:off x="4800600" y="533376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05520" y="5333760"/>
              <a:ext cx="30456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10080" y="533376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15000" y="533376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19920" y="5333760"/>
              <a:ext cx="30456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24480" y="533376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629400" y="533376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9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34320" y="5333760"/>
              <a:ext cx="30456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238880" y="533376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43800" y="5333760"/>
              <a:ext cx="30492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848720" y="5333760"/>
              <a:ext cx="30456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00600" y="5029200"/>
              <a:ext cx="35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   2   3    4   5    6   7   8    9  10  1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09880" y="5257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Tab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2666880" y="1676520"/>
            <a:ext cx="304920" cy="304560"/>
          </a:xfrm>
          <a:prstGeom prst="ellipse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35053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3581280"/>
            <a:ext cx="609480" cy="10159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276720"/>
            <a:ext cx="304920" cy="304560"/>
          </a:xfrm>
          <a:prstGeom prst="ellipse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666880" y="1676520"/>
            <a:ext cx="304920" cy="3045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52680" y="2286000"/>
            <a:ext cx="304920" cy="304920"/>
          </a:xfrm>
          <a:prstGeom prst="ellipse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2286000"/>
            <a:ext cx="304920" cy="3049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  ASD_9     Kopie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816-ED28-4A2E-B9E4-909CE51CDD7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nstrukcja kopca w tablicy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 rot="5400000">
            <a:off x="194760" y="3386160"/>
            <a:ext cx="212400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Metod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4" name=""/>
          <p:cNvSpPr/>
          <p:nvPr/>
        </p:nvSpPr>
        <p:spPr>
          <a:xfrm>
            <a:off x="1143000" y="1600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ałożenie: Znamy z góry liczbę elementów tworzonego kopca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553080" y="2286000"/>
            <a:ext cx="2057400" cy="1752480"/>
            <a:chOff x="6553080" y="2286000"/>
            <a:chExt cx="2057400" cy="1752480"/>
          </a:xfrm>
        </p:grpSpPr>
        <p:sp>
          <p:nvSpPr>
            <p:cNvPr id="536" name=""/>
            <p:cNvSpPr/>
            <p:nvPr/>
          </p:nvSpPr>
          <p:spPr>
            <a:xfrm>
              <a:off x="6553080" y="3276720"/>
              <a:ext cx="685800" cy="76176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3276720"/>
              <a:ext cx="685800" cy="76176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6934320" y="2819520"/>
              <a:ext cx="38088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91520" y="2819520"/>
              <a:ext cx="53316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38880" y="259092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91520" y="2286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553080" y="30481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2i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924680" y="30481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2i+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523880" y="2438280"/>
            <a:ext cx="480060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.Tworzymy tablicę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awierającą wszystkie elementy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.Jeżeli są już utworzone kopce A  i B o korzeniach w 2itej i 2i+1szej pozycji, t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402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bo tab[i] &lt;tab[2i] oraz tab[i]&lt;tab[2i+1] i wtedy mamy już kopiec o korzeniu w i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402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bo tak nie jest i wtedy poprawiamy ścieżkę „w dół” tak jak w algorytmie delmi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  ASD_9     Kopie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DF9-37E6-4E28-ABEC-DD5D7B1A4E7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lgorytm tworzenia kopc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05320" y="5105520"/>
            <a:ext cx="49528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For i:= n div 2 downto 1 do downheap(i) od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1600200"/>
            <a:ext cx="6248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ocedure downheap (k:integer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/* utwórz kopiec o korzeniu w pozycji k zakładając, że 2k i 2k+1 są korzeniami kopców w tablicy*/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egin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v := tab[k]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while (k&lt;= n div 2 )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j := 2*k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if (j&lt;n) then if (tab[j] &gt; tab[j+1] )then j := j+1 fi fi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if v&lt;tab[j] then exit fi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tab[k] := tab[j]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k := j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od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tab[k] := v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nd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  ASD_9     Kopie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678-C773-40D3-B811-7465430441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 - konstrukcja kopc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838080" y="1523880"/>
            <a:ext cx="3047760" cy="2579400"/>
            <a:chOff x="838080" y="1523880"/>
            <a:chExt cx="3047760" cy="2579400"/>
          </a:xfrm>
        </p:grpSpPr>
        <p:sp>
          <p:nvSpPr>
            <p:cNvPr id="550" name=""/>
            <p:cNvSpPr/>
            <p:nvPr/>
          </p:nvSpPr>
          <p:spPr>
            <a:xfrm>
              <a:off x="2533320" y="1523880"/>
              <a:ext cx="238320" cy="2156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49360" y="2172960"/>
              <a:ext cx="239760" cy="2160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14400" y="2244600"/>
              <a:ext cx="239760" cy="217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57120" y="3039840"/>
              <a:ext cx="239760" cy="217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293560" y="3039840"/>
              <a:ext cx="239760" cy="217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71440" y="3047760"/>
              <a:ext cx="239760" cy="2160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46080" y="3078000"/>
              <a:ext cx="239760" cy="217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38080" y="3885840"/>
              <a:ext cx="237960" cy="2160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99840" y="3885840"/>
              <a:ext cx="239760" cy="217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1974600" y="1667880"/>
              <a:ext cx="558720" cy="5763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71640" y="1668240"/>
              <a:ext cx="558720" cy="504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1415880" y="2462040"/>
              <a:ext cx="479520" cy="577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974600" y="2462040"/>
              <a:ext cx="398520" cy="65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3124080" y="2371320"/>
              <a:ext cx="255600" cy="676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446280" y="2371320"/>
              <a:ext cx="333360" cy="7066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990360" y="3257280"/>
              <a:ext cx="316080" cy="628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66640" y="3257280"/>
              <a:ext cx="209520" cy="628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4419720" y="1600200"/>
            <a:ext cx="3581280" cy="688320"/>
            <a:chOff x="4419720" y="1600200"/>
            <a:chExt cx="3581280" cy="688320"/>
          </a:xfrm>
        </p:grpSpPr>
        <p:sp>
          <p:nvSpPr>
            <p:cNvPr id="568" name=""/>
            <p:cNvSpPr/>
            <p:nvPr/>
          </p:nvSpPr>
          <p:spPr>
            <a:xfrm>
              <a:off x="5181480" y="190512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86400" y="190512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791320" y="1905120"/>
              <a:ext cx="30456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95880" y="190512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00800" y="190512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705720" y="1905120"/>
              <a:ext cx="30456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10280" y="190512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5200" y="190512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20120" y="1905120"/>
              <a:ext cx="30456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19720" y="1828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Tab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29200" y="160020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   </a:t>
              </a: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    2    3    4    5    6    7    8    9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553080" y="2209680"/>
            <a:ext cx="1752840" cy="596880"/>
            <a:chOff x="6553080" y="2209680"/>
            <a:chExt cx="1752840" cy="596880"/>
          </a:xfrm>
        </p:grpSpPr>
        <p:sp>
          <p:nvSpPr>
            <p:cNvPr id="580" name=""/>
            <p:cNvSpPr/>
            <p:nvPr/>
          </p:nvSpPr>
          <p:spPr>
            <a:xfrm flipV="1" rot="5400000">
              <a:off x="7048440" y="1713960"/>
              <a:ext cx="304560" cy="129564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973"/>
                  </a:lnTo>
                  <a:cubicBezTo>
                    <a:pt x="10800" y="9873"/>
                    <a:pt x="16200" y="10773"/>
                    <a:pt x="21600" y="10773"/>
                  </a:cubicBezTo>
                  <a:cubicBezTo>
                    <a:pt x="16200" y="10773"/>
                    <a:pt x="10800" y="11673"/>
                    <a:pt x="10800" y="1257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705720" y="24382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To są liście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648320" y="2819520"/>
            <a:ext cx="3581280" cy="688320"/>
            <a:chOff x="4648320" y="2819520"/>
            <a:chExt cx="3581280" cy="688320"/>
          </a:xfrm>
        </p:grpSpPr>
        <p:sp>
          <p:nvSpPr>
            <p:cNvPr id="583" name=""/>
            <p:cNvSpPr/>
            <p:nvPr/>
          </p:nvSpPr>
          <p:spPr>
            <a:xfrm>
              <a:off x="5410080" y="312444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15000" y="312444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19920" y="3124440"/>
              <a:ext cx="30456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324480" y="312444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29400" y="312444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34320" y="3124440"/>
              <a:ext cx="30456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38880" y="312444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43800" y="312444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848720" y="3124440"/>
              <a:ext cx="30456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4832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Tab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257800" y="281952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   </a:t>
              </a: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    2    3    4    5    6    7    8    9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 flipV="1">
            <a:off x="6477120" y="3429000"/>
            <a:ext cx="1447560" cy="457200"/>
          </a:xfrm>
          <a:custGeom>
            <a:avLst/>
            <a:gdLst>
              <a:gd name="textAreaLeft" fmla="*/ 295200 w 1447560"/>
              <a:gd name="textAreaRight" fmla="*/ 992160 w 14475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11" hR="21600" stAng="10800000" swAng="5400000"/>
                <a:lnTo>
                  <a:pt x="10398" y="0"/>
                </a:lnTo>
                <a:arcTo wR="8811" hR="21600" stAng="-5400000" swAng="2944917"/>
                <a:lnTo>
                  <a:pt x="21096" y="14400"/>
                </a:lnTo>
                <a:lnTo>
                  <a:pt x="18415" y="21600"/>
                </a:lnTo>
                <a:lnTo>
                  <a:pt x="14725" y="14400"/>
                </a:lnTo>
                <a:lnTo>
                  <a:pt x="17117" y="14400"/>
                </a:lnTo>
                <a:arcTo wR="8811" hR="21600" stAng="-2455083" swAng="-2818170"/>
                <a:lnTo>
                  <a:pt x="9604" y="88"/>
                </a:lnTo>
                <a:arcTo wR="8811" hR="21600" stAng="-5526747" swAng="-5273253"/>
                <a:close/>
              </a:path>
              <a:path fill="darkenLess" w="21600" h="21600">
                <a:moveTo>
                  <a:pt x="0" y="21600"/>
                </a:moveTo>
                <a:arcTo wR="8811" hR="21600" stAng="10800000" swAng="5400000"/>
                <a:lnTo>
                  <a:pt x="8811" y="0"/>
                </a:lnTo>
                <a:arcTo wR="8811" hR="21600" stAng="-5400000" swAng="126747"/>
                <a:lnTo>
                  <a:pt x="9604" y="88"/>
                </a:lnTo>
                <a:arcTo wR="8811" hR="21600" stAng="-5526747" swAng="-5273253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6477120" y="3428280"/>
            <a:ext cx="1904760" cy="609480"/>
          </a:xfrm>
          <a:custGeom>
            <a:avLst/>
            <a:gdLst>
              <a:gd name="textAreaLeft" fmla="*/ 388440 w 1904760"/>
              <a:gd name="textAreaRight" fmla="*/ 1305360 w 190476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11" hR="21600" stAng="10800000" swAng="5400000"/>
                <a:lnTo>
                  <a:pt x="10398" y="0"/>
                </a:lnTo>
                <a:arcTo wR="8811" hR="21600" stAng="-5400000" swAng="2944917"/>
                <a:lnTo>
                  <a:pt x="21096" y="14400"/>
                </a:lnTo>
                <a:lnTo>
                  <a:pt x="18415" y="21600"/>
                </a:lnTo>
                <a:lnTo>
                  <a:pt x="14725" y="14400"/>
                </a:lnTo>
                <a:lnTo>
                  <a:pt x="17117" y="14400"/>
                </a:lnTo>
                <a:arcTo wR="8811" hR="21600" stAng="-2455083" swAng="-2818170"/>
                <a:lnTo>
                  <a:pt x="9604" y="88"/>
                </a:lnTo>
                <a:arcTo wR="8811" hR="21600" stAng="-5526747" swAng="-5273253"/>
                <a:close/>
              </a:path>
              <a:path fill="darkenLess" w="21600" h="21600">
                <a:moveTo>
                  <a:pt x="0" y="21600"/>
                </a:moveTo>
                <a:arcTo wR="8811" hR="21600" stAng="10800000" swAng="5400000"/>
                <a:lnTo>
                  <a:pt x="8811" y="0"/>
                </a:lnTo>
                <a:arcTo wR="8811" hR="21600" stAng="-5400000" swAng="126747"/>
                <a:lnTo>
                  <a:pt x="9604" y="88"/>
                </a:lnTo>
                <a:arcTo wR="8811" hR="21600" stAng="-5526747" swAng="-5273253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2057400" y="3809880"/>
            <a:ext cx="3581280" cy="688320"/>
            <a:chOff x="2057400" y="3809880"/>
            <a:chExt cx="3581280" cy="688320"/>
          </a:xfrm>
        </p:grpSpPr>
        <p:sp>
          <p:nvSpPr>
            <p:cNvPr id="597" name=""/>
            <p:cNvSpPr/>
            <p:nvPr/>
          </p:nvSpPr>
          <p:spPr>
            <a:xfrm>
              <a:off x="2819160" y="411480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4080" y="411480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4114800"/>
              <a:ext cx="30456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733560" y="411480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38480" y="411480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343400" y="4114800"/>
              <a:ext cx="30456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647960" y="411480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952880" y="411480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257800" y="4114800"/>
              <a:ext cx="30456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057400" y="4038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Tab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666880" y="380988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   </a:t>
              </a: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    2    3    4    5    6    7    8    9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3581280" y="4419720"/>
            <a:ext cx="1447920" cy="457200"/>
          </a:xfrm>
          <a:custGeom>
            <a:avLst/>
            <a:gdLst>
              <a:gd name="textAreaLeft" fmla="*/ 295200 w 1447920"/>
              <a:gd name="textAreaRight" fmla="*/ 992520 w 14479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11" hR="21600" stAng="10800000" swAng="5400000"/>
                <a:lnTo>
                  <a:pt x="10398" y="0"/>
                </a:lnTo>
                <a:arcTo wR="8811" hR="21600" stAng="-5400000" swAng="2944917"/>
                <a:lnTo>
                  <a:pt x="21096" y="14400"/>
                </a:lnTo>
                <a:lnTo>
                  <a:pt x="18415" y="21600"/>
                </a:lnTo>
                <a:lnTo>
                  <a:pt x="14725" y="14400"/>
                </a:lnTo>
                <a:lnTo>
                  <a:pt x="17117" y="14400"/>
                </a:lnTo>
                <a:arcTo wR="8811" hR="21600" stAng="-2455083" swAng="-2818170"/>
                <a:lnTo>
                  <a:pt x="9604" y="88"/>
                </a:lnTo>
                <a:arcTo wR="8811" hR="21600" stAng="-5526747" swAng="-5273253"/>
                <a:close/>
              </a:path>
              <a:path fill="darkenLess" w="21600" h="21600">
                <a:moveTo>
                  <a:pt x="0" y="21600"/>
                </a:moveTo>
                <a:arcTo wR="8811" hR="21600" stAng="10800000" swAng="5400000"/>
                <a:lnTo>
                  <a:pt x="8811" y="0"/>
                </a:lnTo>
                <a:arcTo wR="8811" hR="21600" stAng="-5400000" swAng="126747"/>
                <a:lnTo>
                  <a:pt x="9604" y="88"/>
                </a:lnTo>
                <a:arcTo wR="8811" hR="21600" stAng="-5526747" swAng="-5273253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3581280" y="4419720"/>
            <a:ext cx="1143000" cy="457200"/>
          </a:xfrm>
          <a:custGeom>
            <a:avLst/>
            <a:gdLst>
              <a:gd name="textAreaLeft" fmla="*/ 232920 w 1143000"/>
              <a:gd name="textAreaRight" fmla="*/ 783360 w 11430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11" hR="21600" stAng="10800000" swAng="5400000"/>
                <a:lnTo>
                  <a:pt x="10398" y="0"/>
                </a:lnTo>
                <a:arcTo wR="8811" hR="21600" stAng="-5400000" swAng="2944917"/>
                <a:lnTo>
                  <a:pt x="21096" y="14400"/>
                </a:lnTo>
                <a:lnTo>
                  <a:pt x="18415" y="21600"/>
                </a:lnTo>
                <a:lnTo>
                  <a:pt x="14725" y="14400"/>
                </a:lnTo>
                <a:lnTo>
                  <a:pt x="17117" y="14400"/>
                </a:lnTo>
                <a:arcTo wR="8811" hR="21600" stAng="-2455083" swAng="-2818170"/>
                <a:lnTo>
                  <a:pt x="9604" y="88"/>
                </a:lnTo>
                <a:arcTo wR="8811" hR="21600" stAng="-5526747" swAng="-5273253"/>
                <a:close/>
              </a:path>
              <a:path fill="darkenLess" w="21600" h="21600">
                <a:moveTo>
                  <a:pt x="0" y="21600"/>
                </a:moveTo>
                <a:arcTo wR="8811" hR="21600" stAng="10800000" swAng="5400000"/>
                <a:lnTo>
                  <a:pt x="8811" y="0"/>
                </a:lnTo>
                <a:arcTo wR="8811" hR="21600" stAng="-5400000" swAng="126747"/>
                <a:lnTo>
                  <a:pt x="9604" y="88"/>
                </a:lnTo>
                <a:arcTo wR="8811" hR="21600" stAng="-5526747" swAng="-5273253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066680" y="5029200"/>
            <a:ext cx="3581280" cy="688320"/>
            <a:chOff x="1066680" y="5029200"/>
            <a:chExt cx="3581280" cy="688320"/>
          </a:xfrm>
        </p:grpSpPr>
        <p:sp>
          <p:nvSpPr>
            <p:cNvPr id="611" name=""/>
            <p:cNvSpPr/>
            <p:nvPr/>
          </p:nvSpPr>
          <p:spPr>
            <a:xfrm>
              <a:off x="1828440" y="533412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133360" y="533412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438280" y="5334120"/>
              <a:ext cx="30456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42840" y="533412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047760" y="533412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52680" y="5334120"/>
              <a:ext cx="30456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657240" y="533412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62160" y="533412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5334120"/>
              <a:ext cx="30456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06668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Tab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676160" y="502920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   </a:t>
              </a: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    2    3    4    5    6    7    8    9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2362320" y="5715000"/>
            <a:ext cx="914400" cy="380880"/>
          </a:xfrm>
          <a:custGeom>
            <a:avLst/>
            <a:gdLst>
              <a:gd name="textAreaLeft" fmla="*/ 186480 w 914400"/>
              <a:gd name="textAreaRight" fmla="*/ 626760 w 9144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11" hR="21600" stAng="10800000" swAng="5400000"/>
                <a:lnTo>
                  <a:pt x="10398" y="0"/>
                </a:lnTo>
                <a:arcTo wR="8811" hR="21600" stAng="-5400000" swAng="2944917"/>
                <a:lnTo>
                  <a:pt x="21096" y="14400"/>
                </a:lnTo>
                <a:lnTo>
                  <a:pt x="18415" y="21600"/>
                </a:lnTo>
                <a:lnTo>
                  <a:pt x="14725" y="14400"/>
                </a:lnTo>
                <a:lnTo>
                  <a:pt x="17117" y="14400"/>
                </a:lnTo>
                <a:arcTo wR="8811" hR="21600" stAng="-2455083" swAng="-2818170"/>
                <a:lnTo>
                  <a:pt x="9604" y="88"/>
                </a:lnTo>
                <a:arcTo wR="8811" hR="21600" stAng="-5526747" swAng="-5273253"/>
                <a:close/>
              </a:path>
              <a:path fill="darkenLess" w="21600" h="21600">
                <a:moveTo>
                  <a:pt x="0" y="21600"/>
                </a:moveTo>
                <a:arcTo wR="8811" hR="21600" stAng="10800000" swAng="5400000"/>
                <a:lnTo>
                  <a:pt x="8811" y="0"/>
                </a:lnTo>
                <a:arcTo wR="8811" hR="21600" stAng="-5400000" swAng="126747"/>
                <a:lnTo>
                  <a:pt x="9604" y="88"/>
                </a:lnTo>
                <a:arcTo wR="8811" hR="21600" stAng="-5526747" swAng="-5273253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362320" y="5637960"/>
            <a:ext cx="533160" cy="304920"/>
          </a:xfrm>
          <a:custGeom>
            <a:avLst/>
            <a:gdLst>
              <a:gd name="textAreaLeft" fmla="*/ 108720 w 533160"/>
              <a:gd name="textAreaRight" fmla="*/ 365400 w 5331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11" hR="21600" stAng="10800000" swAng="5400000"/>
                <a:lnTo>
                  <a:pt x="10398" y="0"/>
                </a:lnTo>
                <a:arcTo wR="8811" hR="21600" stAng="-5400000" swAng="2944917"/>
                <a:lnTo>
                  <a:pt x="21096" y="14400"/>
                </a:lnTo>
                <a:lnTo>
                  <a:pt x="18415" y="21600"/>
                </a:lnTo>
                <a:lnTo>
                  <a:pt x="14725" y="14400"/>
                </a:lnTo>
                <a:lnTo>
                  <a:pt x="17117" y="14400"/>
                </a:lnTo>
                <a:arcTo wR="8811" hR="21600" stAng="-2455083" swAng="-2818170"/>
                <a:lnTo>
                  <a:pt x="9604" y="88"/>
                </a:lnTo>
                <a:arcTo wR="8811" hR="21600" stAng="-5526747" swAng="-5273253"/>
                <a:close/>
              </a:path>
              <a:path fill="darkenLess" w="21600" h="21600">
                <a:moveTo>
                  <a:pt x="0" y="21600"/>
                </a:moveTo>
                <a:arcTo wR="8811" hR="21600" stAng="10800000" swAng="5400000"/>
                <a:lnTo>
                  <a:pt x="8811" y="0"/>
                </a:lnTo>
                <a:arcTo wR="8811" hR="21600" stAng="-5400000" swAng="126747"/>
                <a:lnTo>
                  <a:pt x="9604" y="88"/>
                </a:lnTo>
                <a:arcTo wR="8811" hR="21600" stAng="-5526747" swAng="-5273253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5181480" y="4343400"/>
            <a:ext cx="3581280" cy="688320"/>
            <a:chOff x="5181480" y="4343400"/>
            <a:chExt cx="3581280" cy="688320"/>
          </a:xfrm>
        </p:grpSpPr>
        <p:sp>
          <p:nvSpPr>
            <p:cNvPr id="625" name=""/>
            <p:cNvSpPr/>
            <p:nvPr/>
          </p:nvSpPr>
          <p:spPr>
            <a:xfrm>
              <a:off x="5943240" y="464832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48160" y="464832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53080" y="4648320"/>
              <a:ext cx="30456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57640" y="464832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162560" y="464832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67480" y="4648320"/>
              <a:ext cx="30456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72040" y="464832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076960" y="4648320"/>
              <a:ext cx="3049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81880" y="4648320"/>
              <a:ext cx="30456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81480" y="4572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Tab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790960" y="434340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   </a:t>
              </a: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    2    3    4    5    6    7    8    9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6019920" y="4952880"/>
            <a:ext cx="457200" cy="228600"/>
          </a:xfrm>
          <a:custGeom>
            <a:avLst/>
            <a:gdLst>
              <a:gd name="textAreaLeft" fmla="*/ 91440 w 457200"/>
              <a:gd name="textAreaRight" fmla="*/ 32004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655" hR="21600" stAng="10800000" swAng="-5400000"/>
                <a:lnTo>
                  <a:pt x="10785" y="21600"/>
                </a:lnTo>
                <a:arcTo wR="8655" hR="21600" stAng="5400000" swAng="-2914583"/>
                <a:lnTo>
                  <a:pt x="21105" y="7200"/>
                </a:lnTo>
                <a:lnTo>
                  <a:pt x="18375" y="0"/>
                </a:lnTo>
                <a:lnTo>
                  <a:pt x="14655" y="7200"/>
                </a:lnTo>
                <a:lnTo>
                  <a:pt x="16815" y="7200"/>
                </a:lnTo>
                <a:arcTo wR="8655" hR="21600" stAng="2485417" swAng="2743925"/>
                <a:lnTo>
                  <a:pt x="9720" y="21436"/>
                </a:lnTo>
                <a:arcTo wR="8655" hR="21600" stAng="5570658" swAng="5229342"/>
                <a:close/>
              </a:path>
              <a:path fill="darkenLess" w="21600" h="21600">
                <a:moveTo>
                  <a:pt x="0" y="0"/>
                </a:moveTo>
                <a:arcTo wR="8655" hR="21600" stAng="10800000" swAng="-5400000"/>
                <a:lnTo>
                  <a:pt x="10785" y="21600"/>
                </a:lnTo>
                <a:arcTo wR="8655" hR="21600" stAng="5400000" swAng="170658"/>
                <a:lnTo>
                  <a:pt x="9720" y="21436"/>
                </a:lnTo>
                <a:arcTo wR="8655" hR="21600" stAng="5570658" swAng="5229342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095880" y="4952880"/>
            <a:ext cx="685800" cy="381240"/>
          </a:xfrm>
          <a:custGeom>
            <a:avLst/>
            <a:gdLst>
              <a:gd name="textAreaLeft" fmla="*/ 131400 w 685800"/>
              <a:gd name="textAreaRight" fmla="*/ 486000 w 6858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80" hR="21600" stAng="10800000" swAng="-5400000"/>
                <a:lnTo>
                  <a:pt x="11160" y="21600"/>
                </a:lnTo>
                <a:arcTo wR="8280" hR="21600" stAng="5400000" swAng="-2838855"/>
                <a:lnTo>
                  <a:pt x="21126" y="7200"/>
                </a:lnTo>
                <a:lnTo>
                  <a:pt x="18000" y="0"/>
                </a:lnTo>
                <a:lnTo>
                  <a:pt x="13926" y="7200"/>
                </a:lnTo>
                <a:lnTo>
                  <a:pt x="16086" y="7200"/>
                </a:lnTo>
                <a:arcTo wR="8280" hR="21600" stAng="2561145" swAng="2606480"/>
                <a:lnTo>
                  <a:pt x="9720" y="21271"/>
                </a:lnTo>
                <a:arcTo wR="8280" hR="21600" stAng="5632375" swAng="5167625"/>
                <a:close/>
              </a:path>
              <a:path fill="darkenLess" w="21600" h="21600">
                <a:moveTo>
                  <a:pt x="0" y="0"/>
                </a:moveTo>
                <a:arcTo wR="8280" hR="21600" stAng="10800000" swAng="-5400000"/>
                <a:lnTo>
                  <a:pt x="11160" y="21600"/>
                </a:lnTo>
                <a:arcTo wR="8280" hR="21600" stAng="5400000" swAng="232375"/>
                <a:lnTo>
                  <a:pt x="9720" y="21271"/>
                </a:lnTo>
                <a:arcTo wR="8280" hR="21600" stAng="5632375" swAng="5167625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5105520" y="5410080"/>
            <a:ext cx="3581280" cy="688320"/>
            <a:chOff x="5105520" y="5410080"/>
            <a:chExt cx="3581280" cy="688320"/>
          </a:xfrm>
        </p:grpSpPr>
        <p:sp>
          <p:nvSpPr>
            <p:cNvPr id="639" name=""/>
            <p:cNvSpPr/>
            <p:nvPr/>
          </p:nvSpPr>
          <p:spPr>
            <a:xfrm>
              <a:off x="5867280" y="5715000"/>
              <a:ext cx="304920" cy="304560"/>
            </a:xfrm>
            <a:prstGeom prst="rect">
              <a:avLst/>
            </a:prstGeom>
            <a:solidFill>
              <a:srgbClr val="cd33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172200" y="5715000"/>
              <a:ext cx="304920" cy="304560"/>
            </a:xfrm>
            <a:prstGeom prst="rect">
              <a:avLst/>
            </a:prstGeom>
            <a:solidFill>
              <a:srgbClr val="cd33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477120" y="5715000"/>
              <a:ext cx="304560" cy="304560"/>
            </a:xfrm>
            <a:prstGeom prst="rect">
              <a:avLst/>
            </a:prstGeom>
            <a:solidFill>
              <a:srgbClr val="cd33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81680" y="5715000"/>
              <a:ext cx="304920" cy="304560"/>
            </a:xfrm>
            <a:prstGeom prst="rect">
              <a:avLst/>
            </a:prstGeom>
            <a:solidFill>
              <a:srgbClr val="cd33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086600" y="5715000"/>
              <a:ext cx="304920" cy="304560"/>
            </a:xfrm>
            <a:prstGeom prst="rect">
              <a:avLst/>
            </a:prstGeom>
            <a:solidFill>
              <a:srgbClr val="cd33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91520" y="5715000"/>
              <a:ext cx="304560" cy="304560"/>
            </a:xfrm>
            <a:prstGeom prst="rect">
              <a:avLst/>
            </a:prstGeom>
            <a:solidFill>
              <a:srgbClr val="cd33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96080" y="5715000"/>
              <a:ext cx="304920" cy="304560"/>
            </a:xfrm>
            <a:prstGeom prst="rect">
              <a:avLst/>
            </a:prstGeom>
            <a:solidFill>
              <a:srgbClr val="cd33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001000" y="5715000"/>
              <a:ext cx="304920" cy="304560"/>
            </a:xfrm>
            <a:prstGeom prst="rect">
              <a:avLst/>
            </a:prstGeom>
            <a:solidFill>
              <a:srgbClr val="cd33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05920" y="5715000"/>
              <a:ext cx="304560" cy="304560"/>
            </a:xfrm>
            <a:prstGeom prst="rect">
              <a:avLst/>
            </a:prstGeom>
            <a:solidFill>
              <a:srgbClr val="cd33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5638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Tab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15000" y="541008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   </a:t>
              </a: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    2    3    4    5    6    7    8    9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  ASD_9     Kopie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645-C33D-4AD9-99FD-9A369AFE17F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szt konstrukcji kopc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295280" y="16002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ałóżmy, że n jest liczbą elementów w kopcu, a h jego wysokości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62520" y="2133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W(n) =  lw * l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371600" y="2743200"/>
            <a:ext cx="2590920" cy="990720"/>
          </a:xfrm>
          <a:prstGeom prst="wedgeRoundRectCallout">
            <a:avLst>
              <a:gd name="adj1" fmla="val 99388"/>
              <a:gd name="adj2" fmla="val -71472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liczba wierzchołków które trzeba być może poprawić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24480" y="2819520"/>
            <a:ext cx="2362320" cy="914400"/>
          </a:xfrm>
          <a:prstGeom prst="wedgeRoundRectCallout">
            <a:avLst>
              <a:gd name="adj1" fmla="val -68009"/>
              <a:gd name="adj2" fmla="val -78125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liczba porównań, które trzeba wtedy wykonać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3581280" y="3505320"/>
                <a:ext cx="27432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≤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r>
                      <m:t xml:space="preserve">∗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 flipH="1">
            <a:off x="2590560" y="4191120"/>
            <a:ext cx="1981080" cy="4572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43434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Gdyby to było pełne drzewo binarn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4114440" y="4495680"/>
            <a:ext cx="7621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05320" y="49528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Nie trzeba poprawiać liśc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10080" y="4191120"/>
            <a:ext cx="457200" cy="8380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257800" y="5029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Liczba wierzchołków na poziomie h-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781680" y="4114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Co najwyżej dwa porównania dla każdego elementu na ścieżce do liścia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5880" y="4114800"/>
            <a:ext cx="68580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429000" y="4495680"/>
            <a:ext cx="3581280" cy="5205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Razem W(n) = O(n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  ASD_9     Kopie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907-219D-4C89-8697-5A3A28268E8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lan wykład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piec (sterta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Definicj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Operacja wkładania elementu do kopc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Usuwanie elementu minimalneg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Koszty operacj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astosowanie - algorytm Heap_sor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mplementacja kopca w tablic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Konstrukcja kopca w tablic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Przykła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Koszt konstrukcji kopc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  ASD_9     Kopie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06B-15E5-4465-AC49-B1923E8BD0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piec czyli sterta, czyli heap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 rot="5400000">
            <a:off x="418680" y="255276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Definicj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167652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pcem nazywamy etykietowane, doskonałe drzewo binarne częściowo uporządkowan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2590920"/>
            <a:ext cx="5715000" cy="346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tykietowane drzewo binarne  D = &lt;V, E, et&gt; jest kopcem wtedy  i tylko wtedy, gd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1)  D jest drzewem częściowo uporządkowanym: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t(v) &lt; et(v.lewy) i et(v)&lt; et(v.prawy)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la wszystkich wierzchołków v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V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2) D jest drzewem doskonałym: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szystkie poziomy drzewa, z wyjątkiem co najwyżej ostatniego poziomu, są maksymalnie zapełnione, a na ostatnim poziomie wszystkie liście  są zgrupowane maksymalnie na lewo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66680" y="4267080"/>
            <a:ext cx="1599840" cy="1600200"/>
            <a:chOff x="1066680" y="4267080"/>
            <a:chExt cx="1599840" cy="1600200"/>
          </a:xfrm>
        </p:grpSpPr>
        <p:sp>
          <p:nvSpPr>
            <p:cNvPr id="106" name=""/>
            <p:cNvSpPr/>
            <p:nvPr/>
          </p:nvSpPr>
          <p:spPr>
            <a:xfrm>
              <a:off x="1066680" y="4267080"/>
              <a:ext cx="1506240" cy="152424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13760" y="5410080"/>
              <a:ext cx="752760" cy="45720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  ASD_9     Kopie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4D7C-5FFA-4268-BD0D-33A6A327AEF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 kopc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90720" y="1828800"/>
            <a:ext cx="2437920" cy="2285640"/>
            <a:chOff x="990720" y="1828800"/>
            <a:chExt cx="2437920" cy="2285640"/>
          </a:xfrm>
        </p:grpSpPr>
        <p:sp>
          <p:nvSpPr>
            <p:cNvPr id="110" name=""/>
            <p:cNvSpPr/>
            <p:nvPr/>
          </p:nvSpPr>
          <p:spPr>
            <a:xfrm>
              <a:off x="2104920" y="1828800"/>
              <a:ext cx="208800" cy="190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32040" y="2400120"/>
              <a:ext cx="208800" cy="190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78160" y="2463840"/>
              <a:ext cx="208800" cy="190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0720" y="3162240"/>
              <a:ext cx="208800" cy="190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6120" y="3162240"/>
              <a:ext cx="208800" cy="190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83920" y="3225600"/>
              <a:ext cx="208800" cy="190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19840" y="3162240"/>
              <a:ext cx="208800" cy="190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17480" y="3924000"/>
              <a:ext cx="208800" cy="190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44600" y="3924000"/>
              <a:ext cx="208800" cy="190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617480" y="1955160"/>
              <a:ext cx="487440" cy="507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14080" y="1955520"/>
              <a:ext cx="487440" cy="444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129320" y="2654280"/>
              <a:ext cx="417960" cy="507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17480" y="2654280"/>
              <a:ext cx="348120" cy="571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522880" y="2590560"/>
              <a:ext cx="278640" cy="6350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41200" y="2590560"/>
              <a:ext cx="417960" cy="571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617120" y="3288960"/>
              <a:ext cx="348120" cy="698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35440" y="3288960"/>
              <a:ext cx="278280" cy="6350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914400" y="4419720"/>
            <a:ext cx="3124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o nie jest kopiec , bo nie jest to drzewo doskonałe(chociaż jest to drzewo cz. uporządkowane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952520" y="1600200"/>
            <a:ext cx="2972160" cy="2819520"/>
            <a:chOff x="4952520" y="1600200"/>
            <a:chExt cx="2972160" cy="2819520"/>
          </a:xfrm>
        </p:grpSpPr>
        <p:sp>
          <p:nvSpPr>
            <p:cNvPr id="129" name=""/>
            <p:cNvSpPr/>
            <p:nvPr/>
          </p:nvSpPr>
          <p:spPr>
            <a:xfrm>
              <a:off x="6477120" y="160020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62920" y="228600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236232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57800" y="320040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48520" y="320040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1680" y="327672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96080" y="320040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52880" y="419112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38680" y="419112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943600" y="1752480"/>
              <a:ext cx="53352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05720" y="1752840"/>
              <a:ext cx="533160" cy="533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410080" y="2590920"/>
              <a:ext cx="45720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43600" y="2590920"/>
              <a:ext cx="38088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934320" y="2514600"/>
              <a:ext cx="30456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1520" y="2514600"/>
              <a:ext cx="4572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952520" y="3429000"/>
              <a:ext cx="381240" cy="838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10080" y="3429000"/>
              <a:ext cx="30492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343400" y="48006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o nie jest kopiec , bo nie jest to drzewo częściowo uporządkowane (chociaż jest to drzewo doskonałe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752480"/>
            <a:ext cx="3200400" cy="266724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1523880"/>
            <a:ext cx="4572000" cy="32767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219320" y="1752480"/>
            <a:ext cx="3504960" cy="3584160"/>
            <a:chOff x="1219320" y="1752480"/>
            <a:chExt cx="3504960" cy="3584160"/>
          </a:xfrm>
        </p:grpSpPr>
        <p:grpSp>
          <p:nvGrpSpPr>
            <p:cNvPr id="150" name=""/>
            <p:cNvGrpSpPr/>
            <p:nvPr/>
          </p:nvGrpSpPr>
          <p:grpSpPr>
            <a:xfrm>
              <a:off x="1219320" y="1752480"/>
              <a:ext cx="3504960" cy="2895480"/>
              <a:chOff x="1219320" y="1752480"/>
              <a:chExt cx="3504960" cy="2895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070080" y="1752480"/>
                <a:ext cx="260640" cy="22860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52720" y="2438280"/>
                <a:ext cx="262080" cy="22860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86000" y="2514600"/>
                <a:ext cx="262080" cy="22860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76520" y="3352680"/>
                <a:ext cx="261720" cy="22860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808360" y="3352680"/>
                <a:ext cx="261720" cy="22860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417840" y="3429000"/>
                <a:ext cx="262080" cy="22860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7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62560" y="3352680"/>
                <a:ext cx="261720" cy="22860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8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19320" y="4419360"/>
                <a:ext cx="260280" cy="22860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9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4343400"/>
                <a:ext cx="261720" cy="22860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10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2460600" y="1904760"/>
                <a:ext cx="609480" cy="60984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330720" y="1904760"/>
                <a:ext cx="609480" cy="5335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1850760" y="2743200"/>
                <a:ext cx="522360" cy="60948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460600" y="2743200"/>
                <a:ext cx="434880" cy="68580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3592440" y="2666880"/>
                <a:ext cx="347760" cy="7621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114800" y="2666880"/>
                <a:ext cx="522360" cy="68580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1294920" y="3581280"/>
                <a:ext cx="435240" cy="83808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05120" y="3581280"/>
                <a:ext cx="347400" cy="7621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90920" y="4343400"/>
                <a:ext cx="261720" cy="22860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742840" y="3581280"/>
                <a:ext cx="228600" cy="7621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133720" y="48769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Kopiec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105520" y="1828800"/>
            <a:ext cx="3276360" cy="33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Własności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.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tykiety na dowolnej drodze od korzenia do liścia tworzą ciąg uporządkowany rosnąco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. Element najmniejszy wśród etykiet wierzchołków znajduje się w korzeniu drzewa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  ASD_9     Kopie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F4B-027F-4F9D-BF93-C419FF05B39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Wstawianie element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1219320"/>
            <a:ext cx="5638680" cy="520560"/>
          </a:xfrm>
          <a:prstGeom prst="rect">
            <a:avLst/>
          </a:prstGeom>
          <a:solidFill>
            <a:srgbClr val="a08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Insert :  Heap </a:t>
            </a:r>
            <a:r>
              <a:rPr b="1" lang="pl-PL" sz="2800" spc="-1" strike="noStrike">
                <a:solidFill>
                  <a:srgbClr val="ff6600"/>
                </a:solidFill>
                <a:latin typeface="Symbol"/>
                <a:ea typeface="Symbol"/>
              </a:rPr>
              <a:t></a:t>
            </a: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  Et </a:t>
            </a:r>
            <a:r>
              <a:rPr b="1" lang="pl-PL" sz="2800" spc="-1" strike="noStrike">
                <a:solidFill>
                  <a:srgbClr val="ff6600"/>
                </a:solidFill>
                <a:latin typeface="Symbol"/>
                <a:ea typeface="Symbol"/>
              </a:rPr>
              <a:t></a:t>
            </a: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 Heap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743200"/>
            <a:ext cx="59436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1) Dowiązać nowy wierzchołek x  do pierwszego z lewej wierzchołka na przedostatnim poziomie drzewa, którego rząd jest &lt;2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2) Nadać nowemu wierzchołkowi etykietę 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3) Jeżeli tak otrzymane drzewo nie jest częściowo uporządkowane, to przechodząc wzdłuż drogi od liścia x do korzenia, poprawić etykiety zamieniając etykietę ojca z etykietą syna, jeśli etykieta ojca jest większa niż etykieta syna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1905120"/>
            <a:ext cx="73152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adanie: Do zbioru etykiet danego kopca D dołączyć nową etykietę e, czyli wykonać operację insert(D,e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934320" y="3200400"/>
            <a:ext cx="1752120" cy="2133360"/>
            <a:chOff x="6934320" y="3200400"/>
            <a:chExt cx="1752120" cy="2133360"/>
          </a:xfrm>
        </p:grpSpPr>
        <p:sp>
          <p:nvSpPr>
            <p:cNvPr id="177" name=""/>
            <p:cNvSpPr/>
            <p:nvPr/>
          </p:nvSpPr>
          <p:spPr>
            <a:xfrm>
              <a:off x="6934320" y="3200400"/>
              <a:ext cx="1649520" cy="203220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62040" y="4724280"/>
              <a:ext cx="824400" cy="6094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848720" y="4724280"/>
            <a:ext cx="228600" cy="533520"/>
            <a:chOff x="7848720" y="4724280"/>
            <a:chExt cx="228600" cy="533520"/>
          </a:xfrm>
        </p:grpSpPr>
        <p:sp>
          <p:nvSpPr>
            <p:cNvPr id="180" name=""/>
            <p:cNvSpPr/>
            <p:nvPr/>
          </p:nvSpPr>
          <p:spPr>
            <a:xfrm>
              <a:off x="7848720" y="4724280"/>
              <a:ext cx="152280" cy="381240"/>
            </a:xfrm>
            <a:prstGeom prst="line">
              <a:avLst/>
            </a:prstGeom>
            <a:ln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01000" y="5105520"/>
              <a:ext cx="76320" cy="15228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772400" y="3195720"/>
            <a:ext cx="165240" cy="1528560"/>
          </a:xfrm>
          <a:custGeom>
            <a:avLst/>
            <a:gdLst/>
            <a:ahLst/>
            <a:rect l="l" t="t" r="r" b="b"/>
            <a:pathLst>
              <a:path w="120" h="920">
                <a:moveTo>
                  <a:pt x="53" y="920"/>
                </a:moveTo>
                <a:cubicBezTo>
                  <a:pt x="75" y="854"/>
                  <a:pt x="82" y="777"/>
                  <a:pt x="120" y="720"/>
                </a:cubicBezTo>
                <a:cubicBezTo>
                  <a:pt x="59" y="628"/>
                  <a:pt x="97" y="650"/>
                  <a:pt x="27" y="627"/>
                </a:cubicBezTo>
                <a:cubicBezTo>
                  <a:pt x="31" y="609"/>
                  <a:pt x="33" y="591"/>
                  <a:pt x="40" y="574"/>
                </a:cubicBezTo>
                <a:cubicBezTo>
                  <a:pt x="46" y="559"/>
                  <a:pt x="65" y="550"/>
                  <a:pt x="67" y="534"/>
                </a:cubicBezTo>
                <a:cubicBezTo>
                  <a:pt x="72" y="490"/>
                  <a:pt x="41" y="417"/>
                  <a:pt x="27" y="374"/>
                </a:cubicBezTo>
                <a:cubicBezTo>
                  <a:pt x="62" y="339"/>
                  <a:pt x="110" y="300"/>
                  <a:pt x="53" y="254"/>
                </a:cubicBezTo>
                <a:cubicBezTo>
                  <a:pt x="42" y="245"/>
                  <a:pt x="26" y="245"/>
                  <a:pt x="13" y="240"/>
                </a:cubicBezTo>
                <a:cubicBezTo>
                  <a:pt x="18" y="191"/>
                  <a:pt x="27" y="143"/>
                  <a:pt x="27" y="94"/>
                </a:cubicBezTo>
                <a:cubicBezTo>
                  <a:pt x="27" y="75"/>
                  <a:pt x="18" y="58"/>
                  <a:pt x="13" y="40"/>
                </a:cubicBezTo>
                <a:cubicBezTo>
                  <a:pt x="9" y="27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140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  ASD_9     Kopie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9F3-A42A-4594-A78C-B964D35537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  - dołączanie nowego element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19320" y="1752480"/>
            <a:ext cx="3504960" cy="2895480"/>
            <a:chOff x="1219320" y="1752480"/>
            <a:chExt cx="3504960" cy="2895480"/>
          </a:xfrm>
        </p:grpSpPr>
        <p:sp>
          <p:nvSpPr>
            <p:cNvPr id="185" name=""/>
            <p:cNvSpPr/>
            <p:nvPr/>
          </p:nvSpPr>
          <p:spPr>
            <a:xfrm>
              <a:off x="3070080" y="1752480"/>
              <a:ext cx="26064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52720" y="2438280"/>
              <a:ext cx="26208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86000" y="2514600"/>
              <a:ext cx="26208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3352680"/>
              <a:ext cx="26172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08360" y="3352680"/>
              <a:ext cx="26172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17840" y="3429000"/>
              <a:ext cx="26208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62560" y="3352680"/>
              <a:ext cx="26172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9320" y="4419360"/>
              <a:ext cx="26028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33720" y="4343400"/>
              <a:ext cx="26172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460600" y="1904760"/>
              <a:ext cx="609480" cy="609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30720" y="1904760"/>
              <a:ext cx="60948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1850760" y="2743200"/>
              <a:ext cx="52236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60600" y="2743200"/>
              <a:ext cx="43488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592440" y="2666880"/>
              <a:ext cx="34776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14800" y="2666880"/>
              <a:ext cx="52236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294920" y="3581280"/>
              <a:ext cx="435240" cy="838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05120" y="3581280"/>
              <a:ext cx="34740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90920" y="4343400"/>
              <a:ext cx="26172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742840" y="3581280"/>
              <a:ext cx="22860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295280" y="51814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o dołączeniu  nowego wierzchołk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48120" y="3505320"/>
            <a:ext cx="609480" cy="1066680"/>
            <a:chOff x="3048120" y="3505320"/>
            <a:chExt cx="609480" cy="1066680"/>
          </a:xfrm>
        </p:grpSpPr>
        <p:sp>
          <p:nvSpPr>
            <p:cNvPr id="206" name=""/>
            <p:cNvSpPr/>
            <p:nvPr/>
          </p:nvSpPr>
          <p:spPr>
            <a:xfrm>
              <a:off x="3048120" y="3505320"/>
              <a:ext cx="45720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29000" y="4191120"/>
              <a:ext cx="228600" cy="380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181480" y="1905120"/>
            <a:ext cx="3505320" cy="2895480"/>
            <a:chOff x="5181480" y="1905120"/>
            <a:chExt cx="3505320" cy="2895480"/>
          </a:xfrm>
        </p:grpSpPr>
        <p:sp>
          <p:nvSpPr>
            <p:cNvPr id="209" name=""/>
            <p:cNvSpPr/>
            <p:nvPr/>
          </p:nvSpPr>
          <p:spPr>
            <a:xfrm>
              <a:off x="7032600" y="1905120"/>
              <a:ext cx="26028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815240" y="2590920"/>
              <a:ext cx="26208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48520" y="2666880"/>
              <a:ext cx="26172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38680" y="3505320"/>
              <a:ext cx="26208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70520" y="3505320"/>
              <a:ext cx="26208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80360" y="3581280"/>
              <a:ext cx="26172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24720" y="3505320"/>
              <a:ext cx="26208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81480" y="4572000"/>
              <a:ext cx="26064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5880" y="4495680"/>
              <a:ext cx="26208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423120" y="2057040"/>
              <a:ext cx="60948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92880" y="2057400"/>
              <a:ext cx="60984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812920" y="2895480"/>
              <a:ext cx="522360" cy="609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23120" y="2895480"/>
              <a:ext cx="43488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554960" y="2819520"/>
              <a:ext cx="347760" cy="7617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77320" y="2819520"/>
              <a:ext cx="5220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257800" y="3733920"/>
              <a:ext cx="434880" cy="838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67280" y="3733920"/>
              <a:ext cx="347760" cy="7617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53080" y="4495680"/>
              <a:ext cx="26208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05360" y="3733920"/>
              <a:ext cx="228600" cy="7617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34320" y="3733920"/>
              <a:ext cx="457200" cy="7617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38880" y="4495680"/>
              <a:ext cx="26208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648320" y="518148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ero „wędruje” wzdłuż drogi do korzeni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8880" y="4495680"/>
            <a:ext cx="26208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3505320"/>
            <a:ext cx="26208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81680" y="3505320"/>
            <a:ext cx="26208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2666880"/>
            <a:ext cx="26172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2666880"/>
            <a:ext cx="26172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10280" y="1905120"/>
            <a:ext cx="26208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  ASD_9     Kopie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13D-7FA4-4EF1-8ECF-A88189274B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Usuwanie minimum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 rot="5400000">
            <a:off x="-360" y="3048120"/>
            <a:ext cx="25909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Algoryt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2057400" y="1219320"/>
            <a:ext cx="5638680" cy="520560"/>
          </a:xfrm>
          <a:prstGeom prst="rect">
            <a:avLst/>
          </a:prstGeom>
          <a:solidFill>
            <a:srgbClr val="a08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delmin :  Heap  </a:t>
            </a:r>
            <a:r>
              <a:rPr b="1" lang="pl-PL" sz="2800" spc="-1" strike="noStrike">
                <a:solidFill>
                  <a:srgbClr val="ff6600"/>
                </a:solidFill>
                <a:latin typeface="Symbol"/>
                <a:ea typeface="Symbol"/>
              </a:rPr>
              <a:t></a:t>
            </a: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  Heap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2057400"/>
            <a:ext cx="52578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e będzie etykietą liścia  x znajdującego się najbardziej na prawo na ostatnim poziomie kopca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1) Usunąć wierzchołek x z drzewa d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2) Zastąpić etykietę w korzeniu drzewa przez 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3) Jeśli tak otrzymane drzewo nie jest kopcem, to zaczynając od korzenia i idąc w kierunku liścia, zamieniać  etykietę ojca z etykietą tego z jego synów, którego etykieta ma mniejszą wartość, tak długo aż zostanie otrzymane drzewo częściowo uporządkowan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934320" y="2362320"/>
            <a:ext cx="1752120" cy="2971080"/>
            <a:chOff x="6934320" y="2362320"/>
            <a:chExt cx="1752120" cy="2971080"/>
          </a:xfrm>
        </p:grpSpPr>
        <p:sp>
          <p:nvSpPr>
            <p:cNvPr id="242" name=""/>
            <p:cNvSpPr/>
            <p:nvPr/>
          </p:nvSpPr>
          <p:spPr>
            <a:xfrm>
              <a:off x="6934320" y="2362320"/>
              <a:ext cx="1649520" cy="283032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62040" y="4484520"/>
              <a:ext cx="824400" cy="8488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696080" y="50292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72400" y="2438280"/>
            <a:ext cx="939960" cy="2679840"/>
          </a:xfrm>
          <a:custGeom>
            <a:avLst/>
            <a:gdLst/>
            <a:ahLst/>
            <a:rect l="l" t="t" r="r" b="b"/>
            <a:pathLst>
              <a:path w="592" h="1688">
                <a:moveTo>
                  <a:pt x="96" y="1680"/>
                </a:moveTo>
                <a:cubicBezTo>
                  <a:pt x="224" y="1684"/>
                  <a:pt x="352" y="1688"/>
                  <a:pt x="432" y="1584"/>
                </a:cubicBezTo>
                <a:cubicBezTo>
                  <a:pt x="512" y="1480"/>
                  <a:pt x="560" y="1232"/>
                  <a:pt x="576" y="1056"/>
                </a:cubicBezTo>
                <a:cubicBezTo>
                  <a:pt x="592" y="880"/>
                  <a:pt x="568" y="688"/>
                  <a:pt x="528" y="528"/>
                </a:cubicBezTo>
                <a:cubicBezTo>
                  <a:pt x="488" y="368"/>
                  <a:pt x="424" y="184"/>
                  <a:pt x="336" y="96"/>
                </a:cubicBezTo>
                <a:cubicBezTo>
                  <a:pt x="248" y="8"/>
                  <a:pt x="56" y="16"/>
                  <a:pt x="0" y="0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12160" y="2519280"/>
            <a:ext cx="736560" cy="2773440"/>
          </a:xfrm>
          <a:custGeom>
            <a:avLst/>
            <a:gdLst/>
            <a:ahLst/>
            <a:rect l="l" t="t" r="r" b="b"/>
            <a:pathLst>
              <a:path w="440" h="1747">
                <a:moveTo>
                  <a:pt x="400" y="0"/>
                </a:moveTo>
                <a:cubicBezTo>
                  <a:pt x="407" y="113"/>
                  <a:pt x="440" y="234"/>
                  <a:pt x="373" y="333"/>
                </a:cubicBezTo>
                <a:cubicBezTo>
                  <a:pt x="385" y="409"/>
                  <a:pt x="401" y="484"/>
                  <a:pt x="413" y="560"/>
                </a:cubicBezTo>
                <a:cubicBezTo>
                  <a:pt x="393" y="640"/>
                  <a:pt x="377" y="623"/>
                  <a:pt x="320" y="680"/>
                </a:cubicBezTo>
                <a:cubicBezTo>
                  <a:pt x="324" y="707"/>
                  <a:pt x="324" y="734"/>
                  <a:pt x="333" y="760"/>
                </a:cubicBezTo>
                <a:cubicBezTo>
                  <a:pt x="366" y="859"/>
                  <a:pt x="414" y="722"/>
                  <a:pt x="347" y="933"/>
                </a:cubicBezTo>
                <a:cubicBezTo>
                  <a:pt x="329" y="989"/>
                  <a:pt x="274" y="1034"/>
                  <a:pt x="253" y="1093"/>
                </a:cubicBezTo>
                <a:cubicBezTo>
                  <a:pt x="268" y="1116"/>
                  <a:pt x="301" y="1154"/>
                  <a:pt x="293" y="1186"/>
                </a:cubicBezTo>
                <a:cubicBezTo>
                  <a:pt x="286" y="1213"/>
                  <a:pt x="209" y="1298"/>
                  <a:pt x="187" y="1320"/>
                </a:cubicBezTo>
                <a:cubicBezTo>
                  <a:pt x="191" y="1342"/>
                  <a:pt x="202" y="1364"/>
                  <a:pt x="200" y="1386"/>
                </a:cubicBezTo>
                <a:cubicBezTo>
                  <a:pt x="190" y="1478"/>
                  <a:pt x="94" y="1515"/>
                  <a:pt x="27" y="1560"/>
                </a:cubicBezTo>
                <a:cubicBezTo>
                  <a:pt x="3" y="1629"/>
                  <a:pt x="0" y="1627"/>
                  <a:pt x="0" y="1733"/>
                </a:cubicBezTo>
                <a:cubicBezTo>
                  <a:pt x="0" y="1747"/>
                  <a:pt x="13" y="1693"/>
                  <a:pt x="13" y="1693"/>
                </a:cubicBezTo>
              </a:path>
            </a:pathLst>
          </a:custGeom>
          <a:noFill/>
          <a:ln w="25560">
            <a:solidFill>
              <a:srgbClr val="402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  ASD_9     Kopie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7CD5-880A-4318-9792-64AFC079A4F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 - usuwanie minimum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371600" y="1905120"/>
            <a:ext cx="4266720" cy="3123720"/>
            <a:chOff x="1371600" y="1905120"/>
            <a:chExt cx="4266720" cy="3123720"/>
          </a:xfrm>
        </p:grpSpPr>
        <p:sp>
          <p:nvSpPr>
            <p:cNvPr id="249" name=""/>
            <p:cNvSpPr/>
            <p:nvPr/>
          </p:nvSpPr>
          <p:spPr>
            <a:xfrm>
              <a:off x="3785760" y="1905120"/>
              <a:ext cx="291600" cy="246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62360" y="2644920"/>
              <a:ext cx="293400" cy="246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07720" y="2727000"/>
              <a:ext cx="293400" cy="246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25160" y="3631320"/>
              <a:ext cx="293040" cy="246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92720" y="3631320"/>
              <a:ext cx="293040" cy="246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43840" y="3631320"/>
              <a:ext cx="293400" cy="246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45280" y="3631320"/>
              <a:ext cx="293040" cy="246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71600" y="4700160"/>
              <a:ext cx="291240" cy="246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81120" y="4782240"/>
              <a:ext cx="293040" cy="246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103200" y="2069280"/>
              <a:ext cx="682560" cy="6573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77720" y="2069280"/>
              <a:ext cx="682560" cy="575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420280" y="2973600"/>
              <a:ext cx="585000" cy="657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03200" y="2973600"/>
              <a:ext cx="486720" cy="739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614120" y="2891520"/>
              <a:ext cx="255960" cy="739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55760" y="2891520"/>
              <a:ext cx="511920" cy="821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541520" y="3795840"/>
              <a:ext cx="682920" cy="903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95440" y="3878280"/>
              <a:ext cx="255960" cy="903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78000" y="4782240"/>
              <a:ext cx="293400" cy="246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248640" y="3878280"/>
              <a:ext cx="340920" cy="903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75600" y="3878280"/>
              <a:ext cx="255960" cy="903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46240" y="4782240"/>
              <a:ext cx="293400" cy="246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357800" y="3878280"/>
              <a:ext cx="255960" cy="903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73200" y="4782240"/>
              <a:ext cx="293040" cy="246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267080" y="4114800"/>
            <a:ext cx="838440" cy="1066680"/>
            <a:chOff x="4267080" y="4114800"/>
            <a:chExt cx="838440" cy="1066680"/>
          </a:xfrm>
        </p:grpSpPr>
        <p:sp>
          <p:nvSpPr>
            <p:cNvPr id="273" name=""/>
            <p:cNvSpPr/>
            <p:nvPr/>
          </p:nvSpPr>
          <p:spPr>
            <a:xfrm>
              <a:off x="4267080" y="4114800"/>
              <a:ext cx="68580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267080" y="4191120"/>
              <a:ext cx="8384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733920" y="1828800"/>
            <a:ext cx="38088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8760" y="1752480"/>
            <a:ext cx="965160" cy="990720"/>
          </a:xfrm>
          <a:custGeom>
            <a:avLst/>
            <a:gdLst/>
            <a:ahLst/>
            <a:rect l="l" t="t" r="r" b="b"/>
            <a:pathLst>
              <a:path w="608" h="624">
                <a:moveTo>
                  <a:pt x="608" y="48"/>
                </a:moveTo>
                <a:cubicBezTo>
                  <a:pt x="384" y="24"/>
                  <a:pt x="160" y="0"/>
                  <a:pt x="80" y="96"/>
                </a:cubicBezTo>
                <a:cubicBezTo>
                  <a:pt x="0" y="192"/>
                  <a:pt x="120" y="536"/>
                  <a:pt x="128" y="6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2666880"/>
            <a:ext cx="38124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1828800"/>
            <a:ext cx="38088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2819520"/>
            <a:ext cx="635040" cy="838080"/>
          </a:xfrm>
          <a:custGeom>
            <a:avLst/>
            <a:gdLst/>
            <a:ahLst/>
            <a:rect l="l" t="t" r="r" b="b"/>
            <a:pathLst>
              <a:path w="400" h="528">
                <a:moveTo>
                  <a:pt x="0" y="0"/>
                </a:moveTo>
                <a:cubicBezTo>
                  <a:pt x="136" y="28"/>
                  <a:pt x="272" y="56"/>
                  <a:pt x="336" y="96"/>
                </a:cubicBezTo>
                <a:cubicBezTo>
                  <a:pt x="400" y="136"/>
                  <a:pt x="392" y="168"/>
                  <a:pt x="384" y="240"/>
                </a:cubicBezTo>
                <a:cubicBezTo>
                  <a:pt x="376" y="312"/>
                  <a:pt x="304" y="480"/>
                  <a:pt x="288" y="528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819520" y="3962520"/>
            <a:ext cx="635040" cy="838080"/>
          </a:xfrm>
          <a:custGeom>
            <a:avLst/>
            <a:gdLst/>
            <a:ahLst/>
            <a:rect l="l" t="t" r="r" b="b"/>
            <a:pathLst>
              <a:path w="400" h="528">
                <a:moveTo>
                  <a:pt x="0" y="0"/>
                </a:moveTo>
                <a:cubicBezTo>
                  <a:pt x="136" y="28"/>
                  <a:pt x="272" y="56"/>
                  <a:pt x="336" y="96"/>
                </a:cubicBezTo>
                <a:cubicBezTo>
                  <a:pt x="400" y="136"/>
                  <a:pt x="392" y="168"/>
                  <a:pt x="384" y="240"/>
                </a:cubicBezTo>
                <a:cubicBezTo>
                  <a:pt x="376" y="312"/>
                  <a:pt x="304" y="480"/>
                  <a:pt x="288" y="528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3657600"/>
            <a:ext cx="38088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2666880"/>
            <a:ext cx="38124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8120" y="472428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3657600"/>
            <a:ext cx="38088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67080" y="3886200"/>
            <a:ext cx="1067040" cy="15238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19920" y="1600200"/>
            <a:ext cx="236196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Usuwamy najmniejszy element zbioru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nextslide"/>
          </p:cNvPr>
          <p:cNvSpPr/>
          <p:nvPr/>
        </p:nvSpPr>
        <p:spPr>
          <a:xfrm>
            <a:off x="6477120" y="4191120"/>
            <a:ext cx="1752480" cy="1066680"/>
          </a:xfrm>
          <a:custGeom>
            <a:avLst/>
            <a:gdLst>
              <a:gd name="textAreaLeft" fmla="*/ 266760 w 1752480"/>
              <a:gd name="textAreaRight" fmla="*/ 1486080 w 17524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0083" y="5400"/>
                </a:lnTo>
                <a:lnTo>
                  <a:pt x="5400" y="5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0083" y="16200"/>
                </a:lnTo>
                <a:lnTo>
                  <a:pt x="30083" y="5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0083" y="16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5483" h="21600">
                <a:moveTo>
                  <a:pt x="17741" y="6775"/>
                </a:moveTo>
                <a:arcTo wR="4025" hR="4025" stAng="16200000" swAng="-5400000"/>
                <a:arcTo wR="4025" hR="4025" stAng="10800000" swAng="-5400000"/>
                <a:arcTo wR="4025" hR="4025" stAng="5400000" swAng="-5400000"/>
                <a:arcTo wR="4025" hR="4025" stAng="0" swAng="-5400000"/>
                <a:close/>
              </a:path>
              <a:path fill="lighten" w="35483" h="21600">
                <a:moveTo>
                  <a:pt x="17741" y="6990"/>
                </a:moveTo>
                <a:arcTo wR="1030" hR="1030" stAng="16200000" swAng="-5400000"/>
                <a:arcTo wR="1030" hR="1030" stAng="10800000" swAng="-5400000"/>
                <a:arcTo wR="1030" hR="1030" stAng="5400000" swAng="-5400000"/>
                <a:arcTo wR="1030" hR="1030" stAng="0" swAng="-5400000"/>
                <a:close/>
              </a:path>
              <a:path fill="lighten" w="35483" h="21600">
                <a:moveTo>
                  <a:pt x="16261" y="9320"/>
                </a:moveTo>
                <a:lnTo>
                  <a:pt x="18481" y="9320"/>
                </a:lnTo>
                <a:lnTo>
                  <a:pt x="18481" y="13340"/>
                </a:lnTo>
                <a:lnTo>
                  <a:pt x="19221" y="13340"/>
                </a:lnTo>
                <a:lnTo>
                  <a:pt x="19221" y="13870"/>
                </a:lnTo>
                <a:lnTo>
                  <a:pt x="16261" y="13870"/>
                </a:lnTo>
                <a:lnTo>
                  <a:pt x="16261" y="13340"/>
                </a:lnTo>
                <a:lnTo>
                  <a:pt x="17001" y="13340"/>
                </a:lnTo>
                <a:lnTo>
                  <a:pt x="17001" y="9840"/>
                </a:lnTo>
                <a:lnTo>
                  <a:pt x="16261" y="984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okaz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okaz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  ASD_9     Kopie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1A2-992A-4402-BA51-AB45FDA404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914400" y="1523880"/>
            <a:ext cx="4267080" cy="1981080"/>
            <a:chOff x="914400" y="1523880"/>
            <a:chExt cx="4267080" cy="1981080"/>
          </a:xfrm>
        </p:grpSpPr>
        <p:grpSp>
          <p:nvGrpSpPr>
            <p:cNvPr id="290" name=""/>
            <p:cNvGrpSpPr/>
            <p:nvPr/>
          </p:nvGrpSpPr>
          <p:grpSpPr>
            <a:xfrm>
              <a:off x="1295280" y="1523880"/>
              <a:ext cx="2133000" cy="1981080"/>
              <a:chOff x="1295280" y="1523880"/>
              <a:chExt cx="2133000" cy="1981080"/>
            </a:xfrm>
          </p:grpSpPr>
          <p:sp>
            <p:nvSpPr>
              <p:cNvPr id="291" name=""/>
              <p:cNvSpPr/>
              <p:nvPr/>
            </p:nvSpPr>
            <p:spPr>
              <a:xfrm>
                <a:off x="1295280" y="1523880"/>
                <a:ext cx="2008080" cy="1887120"/>
              </a:xfrm>
              <a:prstGeom prst="triangle">
                <a:avLst>
                  <a:gd name="adj" fmla="val 50000"/>
                </a:avLst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424600" y="2939040"/>
                <a:ext cx="1003680" cy="565920"/>
              </a:xfrm>
              <a:prstGeom prst="rect">
                <a:avLst/>
              </a:prstGeom>
              <a:solidFill>
                <a:srgbClr val="fbfa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1143000" y="2895480"/>
              <a:ext cx="28195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76720" y="25146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h-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14400" y="3429000"/>
              <a:ext cx="32004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004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6880" y="160020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n - wierzchołków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066680" y="38862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tąd    2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 h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-1 &lt; n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h+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-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4419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Czyli    2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 h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&lt; n +1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h+1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5943600" y="1981080"/>
                <a:ext cx="2131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≤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334120" y="16002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am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4952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lg(n+1)-1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h &lt; lg (n+1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720" y="54864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statecznie h=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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lg(n+1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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3657600"/>
            <a:ext cx="3886200" cy="2022480"/>
          </a:xfrm>
          <a:prstGeom prst="rect">
            <a:avLst/>
          </a:prstGeom>
          <a:solidFill>
            <a:srgbClr val="a08366"/>
          </a:solidFill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Wniose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Koszt operacji insert i </a:t>
            </a:r>
            <a:br>
              <a:rPr sz="2800"/>
            </a:b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  delmin  wynosi </a:t>
            </a:r>
            <a:br>
              <a:rPr sz="2800"/>
            </a:b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              O</a:t>
            </a:r>
            <a:r>
              <a:rPr b="0" lang="pl-PL" sz="2800" spc="-1" strike="noStrike">
                <a:solidFill>
                  <a:srgbClr val="ff6600"/>
                </a:solidFill>
                <a:latin typeface="Times New Roman"/>
              </a:rPr>
              <a:t>(</a:t>
            </a:r>
            <a:r>
              <a:rPr b="0" lang="pl-PL" sz="2800" spc="-1" strike="noStrike">
                <a:solidFill>
                  <a:srgbClr val="ff6600"/>
                </a:solidFill>
                <a:latin typeface="Symbol"/>
                <a:ea typeface="Symbol"/>
              </a:rPr>
              <a:t></a:t>
            </a:r>
            <a:r>
              <a:rPr b="0" lang="pl-PL" sz="2800" spc="-1" strike="noStrike">
                <a:solidFill>
                  <a:srgbClr val="ff6600"/>
                </a:solidFill>
                <a:latin typeface="Times New Roman"/>
              </a:rPr>
              <a:t> lg(n+1) </a:t>
            </a:r>
            <a:r>
              <a:rPr b="0" lang="pl-PL" sz="2800" spc="-1" strike="noStrike">
                <a:solidFill>
                  <a:srgbClr val="ff6600"/>
                </a:solidFill>
                <a:latin typeface="Symbol"/>
                <a:ea typeface="Symbol"/>
              </a:rPr>
              <a:t></a:t>
            </a:r>
            <a:r>
              <a:rPr b="0" lang="pl-PL" sz="2800" spc="-1" strike="noStrike">
                <a:solidFill>
                  <a:srgbClr val="ff66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  ASD_9     Kopie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421-DEBF-4BB4-AD22-873F7B02A5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21:01:37Z</dcterms:created>
  <dc:creator>grażyna</dc:creator>
  <dc:description/>
  <dc:language>en-US</dc:language>
  <cp:lastModifiedBy>mirkowska</cp:lastModifiedBy>
  <cp:lastPrinted>2002-04-28T19:50:06Z</cp:lastPrinted>
  <dcterms:modified xsi:type="dcterms:W3CDTF">2003-05-19T14:53:24Z</dcterms:modified>
  <cp:revision>70</cp:revision>
  <dc:subject>Kopiec</dc:subject>
  <dc:title>ALGORYTMY I STRUKTURY  DANYCH</dc:title>
</cp:coreProperties>
</file>