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240-653B-407A-A16F-6A124BB0396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że wspomnieć tez o notacji algorytmiczn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owiedz trochę o idei związanej z funkcjami rekurencyjnymi algorytmami Markova it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ED1-8617-49AF-91CC-5F9118C2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5D3-7EB2-4905-A901-4E9C0CA1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E51-0C89-4123-B335-305B3671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948-B77C-4B3E-A9A2-9DC53B6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8002-602C-4379-A38F-C183F7A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926-D9C3-4A9E-BE5E-22C40D79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0480-92FB-442F-9D04-B802F09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5A26-797B-4442-B505-F42F8CAE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0B5E-234F-4DE9-8441-F184A33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24D2-975F-41F8-8574-CEB950A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8C5-BE90-4E97-9CDE-AA08AAF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E92-7F4D-44E8-B502-4ACF05D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A125-8539-4290-AA31-C92C0EE6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894-0ACA-4D57-A078-A41545E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C78-C982-4CDF-808A-6C15D50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C1A3-8671-4226-92B6-8BA77CF7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218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6867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1597-98FA-4F1A-BBC1-B901CF84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3D5-6992-44E3-B9D0-B8096518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D38-A55F-41D5-95C2-F24DF77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AE4-ACD7-4CEF-8850-912F2B1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696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A37-A582-43DC-8425-EFC3CC3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F0B-1832-4E3C-AD46-934D325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6867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A87-EE9E-4CAB-8DA5-402DA7F1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218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6867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6BD-38E8-4864-9B2E-D27D1E9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1C7-5227-47F2-8184-CF575CE22D43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5DFF-19CB-4F05-9888-97E20978965F}" type="slidenum"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index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6633"/>
                </a:solidFill>
                <a:latin typeface="Times New Roman"/>
              </a:rPr>
              <a:t>ALGORYTMY I STRUKTURY  DANYCH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WYKŁAD 01 Wprowadzenie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Grażyna Mirkowsk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08366"/>
                </a:solidFill>
                <a:latin typeface="Times New Roman"/>
              </a:rPr>
              <a:t>PJWSTK, 2003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1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676520"/>
            <a:ext cx="335268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(x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y) {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if x &gt;y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then   x := x – y  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 else    y := y – x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fi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eturn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75248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śli rozważymy ten algorytm w strukturze liczb całkowitych podając jako początkowe wartości x=a i y=b, to algorytm zwróci jako wynik nwd(a,b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śli rozważymy ten algorytm w strukturze, której uniwersum składa się z odcinków na prostej, relacja &gt; pozwala porównać  długości odcinków, natomiast operacja – daje w wyniku różnicę odcinków, to algorytm zwraca  jako wynik najdłuższy odcinek, który mieści się całkowitą ilość razy w danych początkowo odcinkach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38680" y="3581280"/>
            <a:ext cx="129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Uwag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3809880"/>
            <a:ext cx="1524240" cy="762120"/>
          </a:xfrm>
          <a:prstGeom prst="wedgeRoundRectCallout">
            <a:avLst>
              <a:gd name="adj1" fmla="val -83439"/>
              <a:gd name="adj2" fmla="val 51666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Czasami daje wynik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581280"/>
            <a:ext cx="1523880" cy="762120"/>
          </a:xfrm>
          <a:prstGeom prst="wedgeRoundRectCallout">
            <a:avLst>
              <a:gd name="adj1" fmla="val 80000"/>
              <a:gd name="adj2" fmla="val -82708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Zawsze daje daje wynik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78F-E9E8-4FC9-BE06-E58AAC2DA9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prawność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14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tuicyjnie, poprawność = zgodność z  zamierzeniam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4120" y="205740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ecyfikacj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0574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pecyfikacją algorytmu nazywać będziemy parę warunków (własności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200400"/>
            <a:ext cx="2819160" cy="685800"/>
          </a:xfrm>
          <a:prstGeom prst="wedgeEllipseCallout">
            <a:avLst>
              <a:gd name="adj1" fmla="val 91777"/>
              <a:gd name="adj2" fmla="val -4004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arunek początkow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733920"/>
            <a:ext cx="2590920" cy="533160"/>
          </a:xfrm>
          <a:prstGeom prst="wedgeEllipseCallout">
            <a:avLst>
              <a:gd name="adj1" fmla="val -18013"/>
              <a:gd name="adj2" fmla="val -138393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arunek końcow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743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c735a"/>
                </a:solidFill>
                <a:latin typeface="Times New Roman"/>
              </a:rPr>
              <a:t>&lt; wp , wk &gt;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287400">
            <a:off x="6780600" y="1371240"/>
            <a:ext cx="762120" cy="7621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4080 h 762120"/>
              <a:gd name="textAreaBottom" fmla="*/ 5320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710"/>
                </a:lnTo>
                <a:arcTo wR="21600" hR="8730" stAng="10800000" swAng="-2929290"/>
                <a:lnTo>
                  <a:pt x="14400" y="21101"/>
                </a:lnTo>
                <a:lnTo>
                  <a:pt x="21600" y="18450"/>
                </a:lnTo>
                <a:lnTo>
                  <a:pt x="14400" y="14801"/>
                </a:lnTo>
                <a:lnTo>
                  <a:pt x="14400" y="16961"/>
                </a:lnTo>
                <a:arcTo wR="21600" hR="8730" stAng="7870710" swAng="2770816"/>
                <a:lnTo>
                  <a:pt x="139" y="9720"/>
                </a:lnTo>
                <a:arcTo wR="21600" hR="8730" stAng="-10641526" swAng="5241526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58474"/>
                <a:lnTo>
                  <a:pt x="139" y="9720"/>
                </a:lnTo>
                <a:arcTo wR="21600" hR="8730" stAng="-10641526" swAng="5241526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746748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Algorytm Alg działający w strukturze danych S jest </a:t>
            </a:r>
            <a:r>
              <a:rPr b="1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częściowo poprawny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e względu na specyfikację &lt;wp, wk&gt; wttw dla wszystkich danych spełniających warunek początkowy, jeżeli algorytm zatrzyma się, to uzyskane wyniki spełniają warunek końcow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3962520"/>
            <a:ext cx="31244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402000"/>
                </a:solidFill>
                <a:latin typeface="Times New Roman"/>
              </a:rPr>
              <a:t>{wp}  Alg  {wk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666-B541-4E4E-9A14-C07A308C91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ałkowita poprawność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0512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1752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8c735a"/>
                </a:solidFill>
                <a:latin typeface="Times New Roman"/>
              </a:rPr>
              <a:t>wp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8c735a"/>
                </a:solidFill>
                <a:latin typeface="Times New Roman"/>
              </a:rPr>
              <a:t>wk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8c735a"/>
                </a:solidFill>
                <a:latin typeface="Times New Roman"/>
              </a:rPr>
              <a:t>Alg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2666880"/>
            <a:ext cx="647712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wiemy, że algorytm Alg działający w strukturze danych S jest </a:t>
            </a:r>
            <a:r>
              <a:rPr b="1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całkowicie poprawny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ze względu na specyfikację &lt;wp,wk&gt; wttw dla wszystkich danych w strukturze S spełniających warunek początkowy wp, algorytm zatrzymuje się i daje wyniki spełniające warunek końcowy wk.</a:t>
            </a:r>
            <a:br>
              <a:rPr sz="2400"/>
            </a:b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5410080"/>
            <a:ext cx="35053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02000"/>
                </a:solidFill>
                <a:latin typeface="Times New Roman"/>
              </a:rPr>
              <a:t>S |=</a:t>
            </a: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402000"/>
                </a:solidFill>
                <a:latin typeface="Times New Roman"/>
              </a:rPr>
              <a:t>{wp} </a:t>
            </a:r>
            <a:r>
              <a:rPr b="1" lang="pl-PL" sz="28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402000"/>
                </a:solidFill>
                <a:latin typeface="Times New Roman"/>
              </a:rPr>
              <a:t> Alg{wk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0B8-239E-4020-842E-05F8447098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2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133720"/>
            <a:ext cx="2743200" cy="321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 i:= 1; k := 1; x:=0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(i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){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x := x + k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k := k + 2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i := i + 1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eturn x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676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oblem: Obliczyć kwadrat liczby naturalnej n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36232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pecyfikacj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warunek początkowy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: 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, n&gt;0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402000"/>
                </a:solidFill>
                <a:uFillTx/>
                <a:latin typeface="Times New Roman"/>
              </a:rPr>
              <a:t>warunek końcowy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:  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 jest kwadratem liczby  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5410080"/>
            <a:ext cx="2248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wierdzen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029200"/>
            <a:ext cx="4800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 jest całkowicie poprawny w strukturze liczb naturalny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955-859C-422C-A727-B5EB1FE8F9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iezmiennik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76520"/>
            <a:ext cx="2743200" cy="394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{i := 1; k := 1; x :=0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(i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){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x := x + k;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k := k + 2;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i := i + 1;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}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eturn x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2286000"/>
            <a:ext cx="2895480" cy="440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=2i-1, x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i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2j-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41680" y="3505320"/>
            <a:ext cx="2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657600"/>
            <a:ext cx="1143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= 2i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5638680"/>
            <a:ext cx="4876560" cy="510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+1, k = 2i-1, x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j=1..i-1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(2j-1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971800"/>
            <a:ext cx="1981440" cy="440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2j-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4343400"/>
            <a:ext cx="3657600" cy="745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x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j=1..i-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2j-1), k=2i-1, i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+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1676520"/>
            <a:ext cx="1981080" cy="4057920"/>
          </a:xfrm>
          <a:prstGeom prst="rect">
            <a:avLst/>
          </a:prstGeom>
          <a:noFill/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zmiennikiem pętli nazywać będziemy własność (formułę), która  jeśli jest prawdziwa na początku wykonania pętli, to jest również prawdziwa po wykonaniu treści pętl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6200" y="51055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iezmienni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150-F93E-4BA1-A99D-0B466703EA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 3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828800"/>
            <a:ext cx="335268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: while abs(b-a)&gt;eps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x := (a+b)/2;</a:t>
            </a:r>
            <a:br>
              <a:rPr sz="2000"/>
            </a:b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(a)*f(x) </a:t>
            </a:r>
            <a:r>
              <a:rPr b="0" lang="en-GB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0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 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then   b := x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else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 := x </a:t>
            </a:r>
            <a:br>
              <a:rPr sz="2000"/>
            </a:b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i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4648320"/>
            <a:ext cx="2668680" cy="1243080"/>
            <a:chOff x="1371600" y="4648320"/>
            <a:chExt cx="2668680" cy="1243080"/>
          </a:xfrm>
        </p:grpSpPr>
        <p:sp>
          <p:nvSpPr>
            <p:cNvPr id="186" name=""/>
            <p:cNvSpPr/>
            <p:nvPr/>
          </p:nvSpPr>
          <p:spPr>
            <a:xfrm>
              <a:off x="1371600" y="5578560"/>
              <a:ext cx="2548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371600" y="4648320"/>
              <a:ext cx="0" cy="9302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4720" y="5523120"/>
              <a:ext cx="0" cy="109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13080" y="5523120"/>
              <a:ext cx="0" cy="109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92200" y="4757760"/>
              <a:ext cx="2548080" cy="1093680"/>
            </a:xfrm>
            <a:custGeom>
              <a:avLst/>
              <a:gdLst/>
              <a:ahLst/>
              <a:rect l="l" t="t" r="r" b="b"/>
              <a:pathLst>
                <a:path w="1488" h="944">
                  <a:moveTo>
                    <a:pt x="0" y="864"/>
                  </a:moveTo>
                  <a:cubicBezTo>
                    <a:pt x="120" y="432"/>
                    <a:pt x="240" y="0"/>
                    <a:pt x="336" y="0"/>
                  </a:cubicBezTo>
                  <a:cubicBezTo>
                    <a:pt x="432" y="0"/>
                    <a:pt x="496" y="784"/>
                    <a:pt x="576" y="864"/>
                  </a:cubicBezTo>
                  <a:cubicBezTo>
                    <a:pt x="656" y="944"/>
                    <a:pt x="752" y="480"/>
                    <a:pt x="816" y="480"/>
                  </a:cubicBezTo>
                  <a:cubicBezTo>
                    <a:pt x="880" y="480"/>
                    <a:pt x="848" y="800"/>
                    <a:pt x="960" y="864"/>
                  </a:cubicBezTo>
                  <a:cubicBezTo>
                    <a:pt x="1072" y="928"/>
                    <a:pt x="1400" y="864"/>
                    <a:pt x="1488" y="864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23960" y="5523120"/>
              <a:ext cx="0" cy="109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98800" y="5523120"/>
              <a:ext cx="0" cy="109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48040" y="5523120"/>
              <a:ext cx="0" cy="1094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50880" y="5523120"/>
              <a:ext cx="3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240" y="5523120"/>
              <a:ext cx="3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1920" y="5141880"/>
              <a:ext cx="4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248520" y="2805120"/>
            <a:ext cx="144756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x := (a+b)/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4898880"/>
            <a:ext cx="114300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 := 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4759200"/>
            <a:ext cx="106668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 := 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1689120"/>
            <a:ext cx="1981080" cy="417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bs(b-a)&gt;ep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782880"/>
            <a:ext cx="1981080" cy="417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(a)*f(x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2106720"/>
            <a:ext cx="0" cy="698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3154320"/>
            <a:ext cx="0" cy="628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791320" y="4200480"/>
            <a:ext cx="761760" cy="55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200480"/>
            <a:ext cx="761760" cy="698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1200240"/>
            <a:ext cx="0" cy="488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1060560"/>
            <a:ext cx="609480" cy="3492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2874960"/>
            <a:ext cx="533160" cy="3492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TOP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08400"/>
            <a:ext cx="0" cy="489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495680" y="1966680"/>
            <a:ext cx="0" cy="3630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5248440"/>
            <a:ext cx="0" cy="349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715000" y="559764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2036880"/>
            <a:ext cx="9144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495320" y="5597640"/>
            <a:ext cx="12956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1967040"/>
            <a:ext cx="1447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990720"/>
            <a:ext cx="1371600" cy="58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a)*f(b)&lt; 0,     eps&gt;0 , a&lt;b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036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196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316240"/>
            <a:ext cx="259092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iezmiennik :f(a)*f(b)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3294000"/>
            <a:ext cx="2057400" cy="58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a)*f(b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, b-x = x-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270320"/>
            <a:ext cx="1371600" cy="337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a)*f(x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4340160"/>
            <a:ext cx="137160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x)*f(b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5667480"/>
            <a:ext cx="1371600" cy="337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a)*f(b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1619280"/>
            <a:ext cx="1447920" cy="337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(a)*f(b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41324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4060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C88-8EC5-4A10-A2BF-02200D23BF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algorytm P zatrzymuje się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1447920"/>
            <a:ext cx="3200400" cy="283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P: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{ i:= 0;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 while abs(b-a)&gt;eps  </a:t>
            </a: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x := (a+b)/2;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if f(a)*f(x) </a:t>
            </a:r>
            <a:r>
              <a:rPr b="0" lang="en-GB" sz="18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 0 then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    b := x else a := x 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fi;</a:t>
            </a:r>
            <a:br>
              <a:rPr sz="1800"/>
            </a:b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        i := i+1</a:t>
            </a:r>
            <a:br>
              <a:rPr sz="1800"/>
            </a:b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}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84880" y="2814480"/>
            <a:ext cx="134136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x := (a+b)/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6240" y="4830840"/>
            <a:ext cx="77796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 := 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78560" y="4697280"/>
            <a:ext cx="776160" cy="36828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 := 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02280" y="1738440"/>
            <a:ext cx="1836720" cy="404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bs(b-a)&gt;ep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72120" y="3755880"/>
            <a:ext cx="1836720" cy="4032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(a)*f(x)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19920" y="2143080"/>
            <a:ext cx="0" cy="671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9920" y="3151080"/>
            <a:ext cx="0" cy="604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861160" y="4159080"/>
            <a:ext cx="706320" cy="538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43640" y="4159080"/>
            <a:ext cx="706680" cy="6717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0080" y="1268280"/>
            <a:ext cx="0" cy="470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990720"/>
            <a:ext cx="990720" cy="5331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TART</a:t>
            </a:r>
            <a:br>
              <a:rPr sz="1600"/>
            </a:br>
            <a:r>
              <a:rPr b="0" lang="pl-PL" sz="1600" spc="-1" strike="noStrike">
                <a:solidFill>
                  <a:srgbClr val="402000"/>
                </a:solidFill>
                <a:latin typeface="Times New Roman"/>
              </a:rPr>
              <a:t>i:=0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8840" y="2679840"/>
            <a:ext cx="565200" cy="4032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TOP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1160" y="5032440"/>
            <a:ext cx="0" cy="471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2007720"/>
            <a:ext cx="0" cy="349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08840" y="5167440"/>
            <a:ext cx="0" cy="336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9160" y="5504040"/>
            <a:ext cx="2119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0" y="2075040"/>
            <a:ext cx="493920" cy="6728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800600" y="5504040"/>
            <a:ext cx="10605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008080"/>
            <a:ext cx="12016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96200" y="207504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6240" y="207504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5800" y="2344680"/>
            <a:ext cx="155412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b-a= w/2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&gt; ep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3284640"/>
            <a:ext cx="173844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b-x = x-a = w/2 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4294080"/>
            <a:ext cx="148428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x - a = w/2 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32680" y="4294080"/>
            <a:ext cx="1554120" cy="337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b- x = w/2 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1000" y="5570640"/>
            <a:ext cx="155412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b - a = w/2 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671480"/>
            <a:ext cx="988920" cy="337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b-a= w/2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9248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A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15280" y="402444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I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2819520"/>
            <a:ext cx="762120" cy="337320"/>
          </a:xfrm>
          <a:prstGeom prst="rect">
            <a:avLst/>
          </a:prstGeom>
          <a:solidFill>
            <a:srgbClr val="ce9964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:= i+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5730840"/>
            <a:ext cx="26906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219320" y="4489560"/>
            <a:ext cx="0" cy="1241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39720" y="5657760"/>
            <a:ext cx="0" cy="146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0240" y="5657760"/>
            <a:ext cx="0" cy="146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4635360"/>
            <a:ext cx="2690640" cy="1460520"/>
          </a:xfrm>
          <a:custGeom>
            <a:avLst/>
            <a:gdLst/>
            <a:ahLst/>
            <a:rect l="l" t="t" r="r" b="b"/>
            <a:pathLst>
              <a:path w="1488" h="944">
                <a:moveTo>
                  <a:pt x="0" y="864"/>
                </a:moveTo>
                <a:cubicBezTo>
                  <a:pt x="120" y="432"/>
                  <a:pt x="240" y="0"/>
                  <a:pt x="336" y="0"/>
                </a:cubicBezTo>
                <a:cubicBezTo>
                  <a:pt x="432" y="0"/>
                  <a:pt x="496" y="784"/>
                  <a:pt x="576" y="864"/>
                </a:cubicBezTo>
                <a:cubicBezTo>
                  <a:pt x="656" y="944"/>
                  <a:pt x="752" y="480"/>
                  <a:pt x="816" y="480"/>
                </a:cubicBezTo>
                <a:cubicBezTo>
                  <a:pt x="880" y="480"/>
                  <a:pt x="848" y="800"/>
                  <a:pt x="960" y="864"/>
                </a:cubicBezTo>
                <a:cubicBezTo>
                  <a:pt x="1072" y="928"/>
                  <a:pt x="1400" y="864"/>
                  <a:pt x="1488" y="86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6840" y="5657760"/>
            <a:ext cx="0" cy="146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7560" y="5657760"/>
            <a:ext cx="0" cy="146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4320" y="5657760"/>
            <a:ext cx="0" cy="146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1200" y="5657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41720" y="5657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08320" y="514656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4419720"/>
            <a:ext cx="1625760" cy="824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la i = lg (w/eps)  mamy b-a </a:t>
            </a:r>
            <a:r>
              <a:rPr b="0" lang="en-US" sz="16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eps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39720" y="5730840"/>
            <a:ext cx="1730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39720" y="5657760"/>
            <a:ext cx="897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7560" y="5584680"/>
            <a:ext cx="449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79800" y="5511960"/>
            <a:ext cx="25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79800" y="5438880"/>
            <a:ext cx="128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9EA-0DA9-44E8-BF4E-C8D453BE98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Koszt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iary kosztu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124080" y="1752480"/>
            <a:ext cx="41911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amięć     i      cza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2590920"/>
            <a:ext cx="3124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czba instrukcj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czba operacji arytmetyczny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czba wywołań procedu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01000" y="1981080"/>
            <a:ext cx="762120" cy="1524240"/>
          </a:xfrm>
          <a:custGeom>
            <a:avLst/>
            <a:gdLst>
              <a:gd name="textAreaLeft" fmla="*/ 101880 w 762120"/>
              <a:gd name="textAreaRight" fmla="*/ 660240 w 762120"/>
              <a:gd name="textAreaTop" fmla="*/ 278280 h 1524240"/>
              <a:gd name="textAreaBottom" fmla="*/ 1047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86" stAng="-5400000" swAng="5400000"/>
                <a:lnTo>
                  <a:pt x="21600" y="10902"/>
                </a:lnTo>
                <a:arcTo wR="21600" hR="7886" stAng="0" swAng="2458581"/>
                <a:lnTo>
                  <a:pt x="8370" y="20984"/>
                </a:lnTo>
                <a:lnTo>
                  <a:pt x="0" y="17280"/>
                </a:lnTo>
                <a:lnTo>
                  <a:pt x="8370" y="12344"/>
                </a:lnTo>
                <a:lnTo>
                  <a:pt x="8370" y="15156"/>
                </a:lnTo>
                <a:arcTo wR="21600" hR="7886" stAng="2458581" swAng="-2214474"/>
                <a:lnTo>
                  <a:pt x="21201" y="9394"/>
                </a:lnTo>
                <a:arcTo wR="21600" hR="7886" stAng="-244107" swAng="-5155893"/>
                <a:close/>
              </a:path>
              <a:path fill="darkenLess" w="21600" h="21600">
                <a:moveTo>
                  <a:pt x="0" y="0"/>
                </a:moveTo>
                <a:arcTo wR="21600" hR="7886" stAng="-5400000" swAng="5400000"/>
                <a:lnTo>
                  <a:pt x="21600" y="10902"/>
                </a:lnTo>
                <a:arcTo wR="21600" hR="7886" stAng="0" swAng="-244107"/>
                <a:lnTo>
                  <a:pt x="21201" y="9394"/>
                </a:lnTo>
                <a:arcTo wR="21600" hR="7886" stAng="-244107" swAng="-515589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2286000"/>
            <a:ext cx="1066680" cy="1447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80800 h 1447920"/>
              <a:gd name="textAreaBottom" fmla="*/ 10231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6" stAng="-5400000" swAng="-5400000"/>
                <a:lnTo>
                  <a:pt x="0" y="11072"/>
                </a:lnTo>
                <a:arcTo wR="21600" hR="8376" stAng="10800000" swAng="-2680168"/>
                <a:lnTo>
                  <a:pt x="13712" y="21022"/>
                </a:lnTo>
                <a:lnTo>
                  <a:pt x="21600" y="18100"/>
                </a:lnTo>
                <a:lnTo>
                  <a:pt x="13712" y="14022"/>
                </a:lnTo>
                <a:lnTo>
                  <a:pt x="13712" y="16174"/>
                </a:lnTo>
                <a:arcTo wR="21600" hR="8376" stAng="8119832" swAng="2463083"/>
                <a:lnTo>
                  <a:pt x="282" y="9724"/>
                </a:lnTo>
                <a:arcTo wR="21600" hR="8376" stAng="-10582915" swAng="5182915"/>
                <a:close/>
              </a:path>
              <a:path fill="darkenLess" w="21600" h="21600">
                <a:moveTo>
                  <a:pt x="21600" y="0"/>
                </a:moveTo>
                <a:arcTo wR="21600" hR="8376" stAng="-5400000" swAng="-5400000"/>
                <a:lnTo>
                  <a:pt x="0" y="8376"/>
                </a:lnTo>
                <a:arcTo wR="21600" hR="8376" stAng="10800000" swAng="-217085"/>
                <a:lnTo>
                  <a:pt x="282" y="9724"/>
                </a:lnTo>
                <a:arcTo wR="21600" hR="8376" stAng="-10582915" swAng="518291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266688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iczba zmienny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lość miejsca potrzebna dla dany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029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gólnie: wybór miary zależy od typu problemu, rodzaju rozwiązania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F9A-E3D4-439D-BE84-28E1664115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rzykłady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828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nożenie macierz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yszukiwanie elementu w tablic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ortowani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3809880"/>
            <a:ext cx="74678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Mając dany algorytm, konkretne środowisko i konkretne dane możemy policzyć liczbę operacji dominujących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419720" y="1143000"/>
            <a:ext cx="3886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peracja dominując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1828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peracje + , 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równywan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25146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16200" y="12471"/>
                  <a:pt x="21600" y="12471"/>
                </a:cubicBezTo>
                <a:cubicBezTo>
                  <a:pt x="162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371600" y="1143000"/>
            <a:ext cx="1676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blem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szt algorytmu dla danych 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81480" y="4724280"/>
            <a:ext cx="143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 (Alg, d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5486400"/>
            <a:ext cx="3047760" cy="457200"/>
          </a:xfrm>
          <a:prstGeom prst="wedgeEllipseCallout">
            <a:avLst>
              <a:gd name="adj1" fmla="val 64273"/>
              <a:gd name="adj2" fmla="val -11250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562720"/>
            <a:ext cx="2819520" cy="457200"/>
          </a:xfrm>
          <a:prstGeom prst="wedgeEllipseCallout">
            <a:avLst>
              <a:gd name="adj1" fmla="val -31476"/>
              <a:gd name="adj2" fmla="val -143750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a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172-647B-485F-B07A-5A2A233649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Złożoność czasowa algorytm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1752480"/>
            <a:ext cx="5410440" cy="137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Złożoność czasowa to liczba operacji dominujących (podstawowych) wykonanych przez algorytm w czasie jego realizacji, wyrażona jako funkcja rozmiaru danych.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0" y="213372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(Alg,n)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124080"/>
            <a:ext cx="7391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D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będzie zbiorem danych rozmiaru n dla pewnego problemu P oraz A algorytmem rozwiązującym problem P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066680" y="4038480"/>
            <a:ext cx="4800600" cy="967320"/>
            <a:chOff x="1066680" y="4038480"/>
            <a:chExt cx="4800600" cy="967320"/>
          </a:xfrm>
        </p:grpSpPr>
        <p:sp>
          <p:nvSpPr>
            <p:cNvPr id="303" name=""/>
            <p:cNvSpPr/>
            <p:nvPr/>
          </p:nvSpPr>
          <p:spPr>
            <a:xfrm>
              <a:off x="1066680" y="4495680"/>
              <a:ext cx="4800600" cy="51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W(Alg,n) = sup {t(Alg,d) : d </a:t>
              </a:r>
              <a:r>
                <a:rPr b="0" lang="pl-PL" sz="2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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r>
                <a:rPr b="0" lang="pl-PL" sz="2400" spc="-1" strike="noStrike" baseline="-25000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295280" y="4038480"/>
              <a:ext cx="434340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złożoność pesymistyczna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5029200"/>
            <a:ext cx="5181480" cy="891000"/>
            <a:chOff x="914400" y="5029200"/>
            <a:chExt cx="5181480" cy="891000"/>
          </a:xfrm>
        </p:grpSpPr>
        <p:sp>
          <p:nvSpPr>
            <p:cNvPr id="306" name=""/>
            <p:cNvSpPr/>
            <p:nvPr/>
          </p:nvSpPr>
          <p:spPr>
            <a:xfrm>
              <a:off x="914400" y="5410080"/>
              <a:ext cx="5181480" cy="510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(Alg,n) =  </a:t>
              </a:r>
              <a:r>
                <a:rPr b="0" lang="pl-PL" sz="2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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{ p(d) * t(Alg,d) : d </a:t>
              </a:r>
              <a:r>
                <a:rPr b="0" lang="pl-PL" sz="2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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r>
                <a:rPr b="0" lang="pl-PL" sz="2400" spc="-1" strike="noStrike" baseline="-25000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295280" y="5029200"/>
              <a:ext cx="358164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złożoność średnia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715000" y="36576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Faktyczny czas wykonania algorytmu jest proporcjonalny do złożoności czasowe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49528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Uwaga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zas wykonania algorytmu jest bardziej interesujący dla dużych n niż dla małych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D0B-BA5D-40ED-9EDA-452B051118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lan wykładu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Organizacja wykładu  i ćwiczeń z AS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el wykładu.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poznanie studentów z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dstawowym zestawem algorytmów realizujących zadania typu wyszukiwanie, sortowanie, oraz z najczęściej wykorzystywanymi strukturami danych: stosami, kolejkami, słownikami, kolejkami priorytetowymi i drzewami. Przedstawione zostaną również zasadnicze problemy algorytmiki związane z analizą poprawności i kosztu algorytmów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>
            <a:hlinkClick r:id="rId1"/>
          </p:cNvPr>
          <p:cNvSpPr/>
          <p:nvPr/>
        </p:nvSpPr>
        <p:spPr>
          <a:xfrm>
            <a:off x="7543800" y="1676520"/>
            <a:ext cx="838080" cy="685800"/>
          </a:xfrm>
          <a:custGeom>
            <a:avLst/>
            <a:gdLst>
              <a:gd name="textAreaLeft" fmla="*/ 142920 w 838080"/>
              <a:gd name="textAreaRight" fmla="*/ 695160 w 83808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1894" y="4500"/>
                </a:lnTo>
                <a:lnTo>
                  <a:pt x="4500" y="45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1894" y="17100"/>
                </a:lnTo>
                <a:lnTo>
                  <a:pt x="21894" y="45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4500" y="17100"/>
                </a:lnTo>
                <a:lnTo>
                  <a:pt x="21894" y="171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4500" y="4500"/>
                </a:lnTo>
                <a:lnTo>
                  <a:pt x="4500" y="17100"/>
                </a:lnTo>
                <a:close/>
              </a:path>
              <a:path fill="darken" w="26394" h="21600">
                <a:moveTo>
                  <a:pt x="13197" y="6104"/>
                </a:moveTo>
                <a:arcTo wR="4696" hR="4696" stAng="16200000" swAng="-5400000"/>
                <a:arcTo wR="4696" hR="4696" stAng="10800000" swAng="-5400000"/>
                <a:arcTo wR="4696" hR="4696" stAng="5400000" swAng="-5400000"/>
                <a:arcTo wR="4696" hR="4696" stAng="0" swAng="-5400000"/>
                <a:close/>
              </a:path>
              <a:path fill="lighten" w="26394" h="21600">
                <a:moveTo>
                  <a:pt x="13197" y="6355"/>
                </a:moveTo>
                <a:arcTo wR="1202" hR="1202" stAng="16200000" swAng="-5400000"/>
                <a:arcTo wR="1202" hR="1202" stAng="10800000" swAng="-5400000"/>
                <a:arcTo wR="1202" hR="1202" stAng="5400000" swAng="-5400000"/>
                <a:arcTo wR="1202" hR="1202" stAng="0" swAng="-5400000"/>
                <a:close/>
              </a:path>
              <a:path fill="lighten" w="26394" h="21600">
                <a:moveTo>
                  <a:pt x="11470" y="9073"/>
                </a:moveTo>
                <a:lnTo>
                  <a:pt x="14060" y="9073"/>
                </a:lnTo>
                <a:lnTo>
                  <a:pt x="14060" y="13763"/>
                </a:lnTo>
                <a:lnTo>
                  <a:pt x="14924" y="13763"/>
                </a:lnTo>
                <a:lnTo>
                  <a:pt x="14924" y="14382"/>
                </a:lnTo>
                <a:lnTo>
                  <a:pt x="11470" y="14382"/>
                </a:lnTo>
                <a:lnTo>
                  <a:pt x="11470" y="13763"/>
                </a:lnTo>
                <a:lnTo>
                  <a:pt x="12334" y="13763"/>
                </a:lnTo>
                <a:lnTo>
                  <a:pt x="12334" y="9680"/>
                </a:lnTo>
                <a:lnTo>
                  <a:pt x="11470" y="968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AE5-D31A-42FE-B24F-8135CBB75C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Notacja asymptotyczn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676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iech f , g : N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R+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2362320"/>
            <a:ext cx="56386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wiemy, że g jest co najwyżej rzędu f wttw 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&gt;0)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o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)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&gt;no) g(n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c f(n)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429000"/>
            <a:ext cx="556236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wiemy, że g jest co najmniej rzędu f wttw 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&gt;0)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o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)(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n&gt;no) c</a:t>
            </a:r>
            <a:r>
              <a:rPr b="0" lang="pl-PL" sz="2400" spc="-1" strike="noStrike" baseline="-8000">
                <a:solidFill>
                  <a:srgbClr val="402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(n)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g(n)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c735a"/>
                </a:solidFill>
                <a:latin typeface="Times New Roman"/>
              </a:rPr>
              <a:t>g = </a:t>
            </a:r>
            <a:r>
              <a:rPr b="1" lang="pl-PL" sz="3200" spc="-1" strike="noStrike">
                <a:solidFill>
                  <a:srgbClr val="8c735a"/>
                </a:solidFill>
                <a:latin typeface="Symbol"/>
                <a:ea typeface="Symbol"/>
              </a:rPr>
              <a:t></a:t>
            </a:r>
            <a:r>
              <a:rPr b="1" lang="pl-PL" sz="3200" spc="-1" strike="noStrike">
                <a:solidFill>
                  <a:srgbClr val="8c735a"/>
                </a:solidFill>
                <a:latin typeface="Times New Roman"/>
              </a:rPr>
              <a:t> (f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10280" y="2362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c735a"/>
                </a:solidFill>
                <a:latin typeface="Times New Roman"/>
              </a:rPr>
              <a:t>g = O (f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c735a"/>
                </a:solidFill>
                <a:latin typeface="Times New Roman"/>
              </a:rPr>
              <a:t>g = </a:t>
            </a:r>
            <a:r>
              <a:rPr b="1" lang="pl-PL" sz="3200" spc="-1" strike="noStrike">
                <a:solidFill>
                  <a:srgbClr val="8c735a"/>
                </a:solidFill>
                <a:latin typeface="Symbol"/>
                <a:ea typeface="Symbol"/>
              </a:rPr>
              <a:t></a:t>
            </a:r>
            <a:r>
              <a:rPr b="1" lang="pl-PL" sz="3200" spc="-1" strike="noStrike">
                <a:solidFill>
                  <a:srgbClr val="8c735a"/>
                </a:solidFill>
                <a:latin typeface="Times New Roman"/>
              </a:rPr>
              <a:t> (f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4800600"/>
            <a:ext cx="47242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wiemy, że rzędy funkcji f i g są takie same,  wttw g= O(f) i f = O(g)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38D-B345-4152-9AF0-899BFEFFC7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równywanie rzędów funkcj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17524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Przykład 1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Niech f(n)=100n,  g(n)= 2n+100,   h(n) = 0.1 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213372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my    f = O(n)   f =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n)      g= O(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  g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 = O(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= O(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)     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O(n)     h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n)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3048120"/>
            <a:ext cx="4800600" cy="290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Lemat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O porównywaniu rzędów funkcji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    lim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Symbol"/>
                <a:ea typeface="Symbol"/>
              </a:rPr>
              <a:t>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(n)/g(n) = c. Wted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1. Jeżeli c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0 to f i g są tego samego rzędu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2. Jeżeli c= 0, to f = O(g) oraz f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g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3. Jeżeli c = +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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, to f ma rząd większy niż g, g = O(f) i g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(f).</a:t>
            </a:r>
            <a:br>
              <a:rPr sz="2000"/>
            </a:b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2971800"/>
            <a:ext cx="2743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Przykład 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(n) = 0.3 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+ 10n + 100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g(n)= n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h(n) = log 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im 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Symbol"/>
                <a:ea typeface="Symbol"/>
              </a:rPr>
              <a:t>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f(n)/g(n)= 0.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Czyli f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g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im f(n)/h(n) = +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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Czyli h = O(f), h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f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265-24E4-4411-ACE7-0780C88349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Porównanie szybkości wzrostu funkcji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1447920"/>
            <a:ext cx="6019920" cy="217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wiemy, że algorytm Alg ma złożoność czasową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ielomianową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Alg,n)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  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kładniczą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Alg,n) 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a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   a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R+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iniową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Alg,n)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)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wadratową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Alg,n)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n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logarytmiczną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ttw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(Alg,n)= </a:t>
            </a:r>
            <a:r>
              <a:rPr b="0" lang="pl-PL" sz="2000" spc="-1" strike="noStrike">
                <a:solidFill>
                  <a:srgbClr val="402000"/>
                </a:solidFill>
                <a:latin typeface="Symbol"/>
                <a:ea typeface="Symbol"/>
              </a:rPr>
              <a:t>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lg n)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464832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lg n! =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</a:t>
            </a:r>
            <a:r>
              <a:rPr b="0" lang="pl-PL" sz="2400" spc="-1" strike="noStrike" baseline="-25000">
                <a:solidFill>
                  <a:srgbClr val="402000"/>
                </a:solidFill>
                <a:latin typeface="Times New Roman"/>
              </a:rPr>
              <a:t>i=1..n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lg i </a:t>
            </a:r>
            <a:r>
              <a:rPr b="0" lang="pl-PL" sz="24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n lg 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867280" y="4038480"/>
            <a:ext cx="2819520" cy="1219320"/>
            <a:chOff x="5867280" y="4038480"/>
            <a:chExt cx="2819520" cy="1219320"/>
          </a:xfrm>
        </p:grpSpPr>
        <p:sp>
          <p:nvSpPr>
            <p:cNvPr id="327" name=""/>
            <p:cNvSpPr/>
            <p:nvPr/>
          </p:nvSpPr>
          <p:spPr>
            <a:xfrm>
              <a:off x="5867280" y="4038480"/>
              <a:ext cx="2819520" cy="12193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194880" y="4098960"/>
              <a:ext cx="0" cy="1158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7280" y="5074920"/>
              <a:ext cx="28195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88360" y="4892040"/>
              <a:ext cx="327960" cy="1828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16320" y="4770000"/>
              <a:ext cx="327600" cy="30492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43920" y="4647960"/>
              <a:ext cx="393120" cy="4266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37400" y="4526280"/>
              <a:ext cx="459000" cy="54864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30880" y="4465080"/>
              <a:ext cx="459000" cy="60948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88360" y="4444560"/>
              <a:ext cx="2098080" cy="630000"/>
            </a:xfrm>
            <a:custGeom>
              <a:avLst/>
              <a:gdLst/>
              <a:ahLst/>
              <a:rect l="l" t="t" r="r" b="b"/>
              <a:pathLst>
                <a:path w="1536" h="496">
                  <a:moveTo>
                    <a:pt x="0" y="496"/>
                  </a:moveTo>
                  <a:cubicBezTo>
                    <a:pt x="76" y="444"/>
                    <a:pt x="152" y="392"/>
                    <a:pt x="240" y="352"/>
                  </a:cubicBezTo>
                  <a:cubicBezTo>
                    <a:pt x="328" y="312"/>
                    <a:pt x="416" y="296"/>
                    <a:pt x="528" y="256"/>
                  </a:cubicBezTo>
                  <a:cubicBezTo>
                    <a:pt x="640" y="216"/>
                    <a:pt x="768" y="152"/>
                    <a:pt x="912" y="112"/>
                  </a:cubicBezTo>
                  <a:cubicBezTo>
                    <a:pt x="1056" y="72"/>
                    <a:pt x="1288" y="32"/>
                    <a:pt x="1392" y="16"/>
                  </a:cubicBezTo>
                  <a:cubicBezTo>
                    <a:pt x="1496" y="0"/>
                    <a:pt x="1512" y="16"/>
                    <a:pt x="1536" y="1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53880" y="4343400"/>
              <a:ext cx="7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lg 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19320" y="5257800"/>
                <a:ext cx="6172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&gt;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cn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 txBox="1"/>
          <p:nvPr/>
        </p:nvSpPr>
        <p:spPr>
          <a:xfrm>
            <a:off x="1371600" y="3886200"/>
            <a:ext cx="43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 co to za funkcja lg n!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8001000" y="2362320"/>
            <a:ext cx="609480" cy="761760"/>
          </a:xfrm>
          <a:custGeom>
            <a:avLst/>
            <a:gdLst>
              <a:gd name="textAreaLeft" fmla="*/ 87120 w 609480"/>
              <a:gd name="textAreaRight" fmla="*/ 522360 w 609480"/>
              <a:gd name="textAreaTop" fmla="*/ 87120 h 761760"/>
              <a:gd name="textAreaBottom" fmla="*/ 674640 h 76176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18514" y="3086"/>
                </a:lnTo>
                <a:lnTo>
                  <a:pt x="3086" y="3086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18514" y="23908"/>
                </a:lnTo>
                <a:lnTo>
                  <a:pt x="18514" y="3086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3086" y="23908"/>
                </a:lnTo>
                <a:lnTo>
                  <a:pt x="18514" y="23908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3086" y="3086"/>
                </a:lnTo>
                <a:lnTo>
                  <a:pt x="3086" y="23908"/>
                </a:lnTo>
                <a:close/>
              </a:path>
              <a:path fill="darken" w="21600" h="26994">
                <a:moveTo>
                  <a:pt x="5050" y="7747"/>
                </a:moveTo>
                <a:lnTo>
                  <a:pt x="16550" y="13497"/>
                </a:lnTo>
                <a:lnTo>
                  <a:pt x="5050" y="19247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6D8-DC4D-4705-AF32-0E238DF08B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 flipV="1">
            <a:off x="2057400" y="761760"/>
            <a:ext cx="0" cy="434340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4724280"/>
            <a:ext cx="6553440" cy="0"/>
          </a:xfrm>
          <a:prstGeom prst="line">
            <a:avLst/>
          </a:prstGeom>
          <a:ln w="381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51460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97180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42900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8620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34340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87692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42670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3526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8954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4382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057400" y="1600200"/>
            <a:ext cx="3124080" cy="3124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3352680"/>
            <a:ext cx="3886200" cy="1828800"/>
          </a:xfrm>
          <a:custGeom>
            <a:avLst/>
            <a:gdLst/>
            <a:ahLst/>
            <a:rect l="l" t="t" r="r" b="b"/>
            <a:pathLst>
              <a:path w="2448" h="1152">
                <a:moveTo>
                  <a:pt x="0" y="1152"/>
                </a:moveTo>
                <a:cubicBezTo>
                  <a:pt x="56" y="1060"/>
                  <a:pt x="112" y="968"/>
                  <a:pt x="192" y="864"/>
                </a:cubicBezTo>
                <a:cubicBezTo>
                  <a:pt x="272" y="760"/>
                  <a:pt x="336" y="624"/>
                  <a:pt x="480" y="528"/>
                </a:cubicBezTo>
                <a:cubicBezTo>
                  <a:pt x="624" y="432"/>
                  <a:pt x="728" y="376"/>
                  <a:pt x="1056" y="288"/>
                </a:cubicBezTo>
                <a:cubicBezTo>
                  <a:pt x="1384" y="200"/>
                  <a:pt x="2216" y="48"/>
                  <a:pt x="2448" y="0"/>
                </a:cubicBezTo>
              </a:path>
            </a:pathLst>
          </a:custGeom>
          <a:noFill/>
          <a:ln w="507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143000"/>
            <a:ext cx="1371600" cy="3124080"/>
          </a:xfrm>
          <a:custGeom>
            <a:avLst/>
            <a:gdLst/>
            <a:ahLst/>
            <a:rect l="l" t="t" r="r" b="b"/>
            <a:pathLst>
              <a:path w="864" h="1968">
                <a:moveTo>
                  <a:pt x="0" y="1968"/>
                </a:moveTo>
                <a:cubicBezTo>
                  <a:pt x="96" y="1900"/>
                  <a:pt x="192" y="1832"/>
                  <a:pt x="288" y="1680"/>
                </a:cubicBezTo>
                <a:cubicBezTo>
                  <a:pt x="384" y="1528"/>
                  <a:pt x="480" y="1336"/>
                  <a:pt x="576" y="1056"/>
                </a:cubicBezTo>
                <a:cubicBezTo>
                  <a:pt x="672" y="776"/>
                  <a:pt x="816" y="176"/>
                  <a:pt x="864" y="0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33412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324480" y="837720"/>
            <a:ext cx="0" cy="3886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198108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1143000"/>
            <a:ext cx="4952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3581280"/>
            <a:ext cx="1524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(n)= log 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1981080"/>
            <a:ext cx="106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(n)=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12193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(n) = 2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838080"/>
            <a:ext cx="2743200" cy="3886200"/>
          </a:xfrm>
          <a:custGeom>
            <a:avLst/>
            <a:gdLst/>
            <a:ahLst/>
            <a:rect l="l" t="t" r="r" b="b"/>
            <a:pathLst>
              <a:path w="1728" h="2448">
                <a:moveTo>
                  <a:pt x="0" y="2448"/>
                </a:moveTo>
                <a:cubicBezTo>
                  <a:pt x="96" y="2424"/>
                  <a:pt x="192" y="2400"/>
                  <a:pt x="288" y="2352"/>
                </a:cubicBezTo>
                <a:cubicBezTo>
                  <a:pt x="384" y="2304"/>
                  <a:pt x="480" y="2240"/>
                  <a:pt x="576" y="2160"/>
                </a:cubicBezTo>
                <a:cubicBezTo>
                  <a:pt x="672" y="2080"/>
                  <a:pt x="768" y="2016"/>
                  <a:pt x="864" y="1872"/>
                </a:cubicBezTo>
                <a:cubicBezTo>
                  <a:pt x="960" y="1728"/>
                  <a:pt x="1056" y="1488"/>
                  <a:pt x="1152" y="1296"/>
                </a:cubicBezTo>
                <a:cubicBezTo>
                  <a:pt x="1248" y="1104"/>
                  <a:pt x="1344" y="936"/>
                  <a:pt x="1440" y="720"/>
                </a:cubicBezTo>
                <a:cubicBezTo>
                  <a:pt x="1536" y="504"/>
                  <a:pt x="1680" y="120"/>
                  <a:pt x="1728" y="0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685800"/>
            <a:ext cx="190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f(n) =0.25 n</a:t>
            </a:r>
            <a:r>
              <a:rPr b="0" lang="pl-PL" sz="24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02000"/>
                </a:solidFill>
                <a:latin typeface="Times New Roman"/>
              </a:rPr>
              <a:t>Porównanie szybkości wzrostu funkcj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>
            <a:off x="7848720" y="2438280"/>
            <a:ext cx="761760" cy="762120"/>
          </a:xfrm>
          <a:custGeom>
            <a:avLst/>
            <a:gdLst>
              <a:gd name="textAreaLeft" fmla="*/ 118800 w 761760"/>
              <a:gd name="textAreaRight" fmla="*/ 642960 w 761760"/>
              <a:gd name="textAreaTop" fmla="*/ 118800 h 762120"/>
              <a:gd name="textAreaBottom" fmla="*/ 64332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18225" y="3375"/>
                </a:lnTo>
                <a:lnTo>
                  <a:pt x="3375" y="3375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18225" y="18235"/>
                </a:lnTo>
                <a:lnTo>
                  <a:pt x="18225" y="3375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3375" y="18235"/>
                </a:lnTo>
                <a:lnTo>
                  <a:pt x="18225" y="18235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35"/>
                </a:lnTo>
                <a:close/>
              </a:path>
              <a:path fill="darken" w="21600" h="21610">
                <a:moveTo>
                  <a:pt x="5266" y="10805"/>
                </a:moveTo>
                <a:lnTo>
                  <a:pt x="16334" y="5271"/>
                </a:lnTo>
                <a:lnTo>
                  <a:pt x="16334" y="16339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265-3603-4B9A-9764-3F241114452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Złożoność a rozmiar i cza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3886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aki jest maksymalny rozmiar problemu, który  można rozwiązać w ustalonym czasie,  znając złożoność algorytmu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1600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le czasu potrzeba na rozwiązanie zadania o ustalonym rozmiarze i złożoności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66680" y="4648320"/>
            <a:ext cx="7467840" cy="1371600"/>
            <a:chOff x="1066680" y="4648320"/>
            <a:chExt cx="7467840" cy="1371600"/>
          </a:xfrm>
        </p:grpSpPr>
        <p:sp>
          <p:nvSpPr>
            <p:cNvPr id="372" name=""/>
            <p:cNvSpPr/>
            <p:nvPr/>
          </p:nvSpPr>
          <p:spPr>
            <a:xfrm>
              <a:off x="1066680" y="4648320"/>
              <a:ext cx="152424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66680" y="5105520"/>
              <a:ext cx="152424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6680" y="5562720"/>
              <a:ext cx="152424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H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4648320"/>
              <a:ext cx="9907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0920" y="4648320"/>
              <a:ext cx="99036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g 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4648320"/>
              <a:ext cx="9907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4648320"/>
              <a:ext cx="9907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 lg 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62720" y="4648320"/>
              <a:ext cx="99036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43800" y="4648320"/>
              <a:ext cx="990720" cy="457200"/>
            </a:xfrm>
            <a:prstGeom prst="rect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080" y="5105520"/>
              <a:ext cx="9907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5562720"/>
              <a:ext cx="99072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5* 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0920" y="5105520"/>
              <a:ext cx="99036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 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100000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5562720"/>
              <a:ext cx="99036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5105520"/>
              <a:ext cx="990720" cy="45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3*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1280" y="5105520"/>
              <a:ext cx="990720" cy="45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2720" y="5105520"/>
              <a:ext cx="990360" cy="457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43800" y="5105520"/>
              <a:ext cx="99072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9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1280" y="5562720"/>
              <a:ext cx="99072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6*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5562720"/>
              <a:ext cx="990720" cy="457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3* 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5562720"/>
              <a:ext cx="99036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0* 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3800" y="5562720"/>
              <a:ext cx="99072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66680" y="4648320"/>
              <a:ext cx="152424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8800" y="46483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T(A,n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9320" y="47242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czas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66680" y="2438280"/>
            <a:ext cx="7467840" cy="1371600"/>
            <a:chOff x="1066680" y="2438280"/>
            <a:chExt cx="7467840" cy="1371600"/>
          </a:xfrm>
        </p:grpSpPr>
        <p:sp>
          <p:nvSpPr>
            <p:cNvPr id="397" name=""/>
            <p:cNvSpPr/>
            <p:nvPr/>
          </p:nvSpPr>
          <p:spPr>
            <a:xfrm>
              <a:off x="1066680" y="2438280"/>
              <a:ext cx="1524240" cy="457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680" y="2895480"/>
              <a:ext cx="1524240" cy="457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=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6680" y="3352680"/>
              <a:ext cx="1524240" cy="457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= 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53080" y="2438280"/>
              <a:ext cx="990720" cy="4572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2438280"/>
              <a:ext cx="990360" cy="457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g 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1280" y="2438280"/>
              <a:ext cx="990720" cy="4572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0" y="2438280"/>
              <a:ext cx="990720" cy="4572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 lg 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2720" y="2438280"/>
              <a:ext cx="990360" cy="4572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3800" y="2438280"/>
              <a:ext cx="990720" cy="4572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080" y="2895480"/>
              <a:ext cx="990720" cy="4572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53080" y="3352680"/>
              <a:ext cx="990720" cy="4572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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dni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90920" y="2895480"/>
              <a:ext cx="990360" cy="4572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6.6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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0920" y="3352680"/>
              <a:ext cx="990360" cy="4572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3.3 </a:t>
              </a:r>
              <a:r>
                <a:rPr b="0" lang="pl-PL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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0" y="2895480"/>
              <a:ext cx="990720" cy="4572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0.6m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81280" y="2895480"/>
              <a:ext cx="990720" cy="4572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0.1m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2895480"/>
              <a:ext cx="990360" cy="4572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m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43800" y="2895480"/>
              <a:ext cx="990720" cy="4572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6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lat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1280" y="3352680"/>
              <a:ext cx="990720" cy="4572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m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0" y="3352680"/>
              <a:ext cx="990720" cy="4572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0.1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2720" y="3352680"/>
              <a:ext cx="990360" cy="4572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0s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3352680"/>
              <a:ext cx="990720" cy="4572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10</a:t>
              </a:r>
              <a:r>
                <a:rPr b="0" lang="pl-PL" sz="2000" spc="-1" strike="noStrike" baseline="30000">
                  <a:solidFill>
                    <a:srgbClr val="402000"/>
                  </a:solidFill>
                  <a:latin typeface="Times New Roman"/>
                </a:rPr>
                <a:t>100</a:t>
              </a:r>
              <a:r>
                <a:rPr b="0" lang="pl-PL" sz="2000" spc="-1" strike="noStrike">
                  <a:solidFill>
                    <a:srgbClr val="402000"/>
                  </a:solidFill>
                  <a:latin typeface="Times New Roman"/>
                </a:rPr>
                <a:t> l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438280"/>
              <a:ext cx="152424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24382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T(A,n)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25909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402000"/>
                  </a:solidFill>
                  <a:latin typeface="Times New Roman"/>
                </a:rPr>
                <a:t>wymiar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70D-8FAE-49C5-A810-C2D550E3A2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14400" y="3276720"/>
            <a:ext cx="7467120" cy="1371600"/>
            <a:chOff x="914400" y="3276720"/>
            <a:chExt cx="7467120" cy="1371600"/>
          </a:xfrm>
        </p:grpSpPr>
        <p:sp>
          <p:nvSpPr>
            <p:cNvPr id="422" name=""/>
            <p:cNvSpPr/>
            <p:nvPr/>
          </p:nvSpPr>
          <p:spPr>
            <a:xfrm>
              <a:off x="914400" y="3276720"/>
              <a:ext cx="152388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14400" y="3733920"/>
              <a:ext cx="152388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Komputer 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4191120"/>
              <a:ext cx="152388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Komputer 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03720" y="3276720"/>
              <a:ext cx="118872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400" spc="-1" strike="noStrike" baseline="30000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8280" y="3276720"/>
              <a:ext cx="1188720" cy="45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lg 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27360" y="3276720"/>
              <a:ext cx="1188360" cy="45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6080" y="3276720"/>
              <a:ext cx="1187280" cy="457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r>
                <a:rPr b="0" lang="pl-PL" sz="2400" spc="-1" strike="noStrike" baseline="30000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92800" y="3276720"/>
              <a:ext cx="118872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0" lang="pl-PL" sz="2400" spc="-1" strike="noStrike" baseline="30000">
                  <a:solidFill>
                    <a:srgbClr val="402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03720" y="3733920"/>
              <a:ext cx="118872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3720" y="4191120"/>
              <a:ext cx="1188720" cy="457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2*s4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3733920"/>
              <a:ext cx="118872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191120"/>
              <a:ext cx="118872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1 </a:t>
              </a:r>
              <a:r>
                <a:rPr b="0" lang="pl-PL" sz="2400" spc="-1" strike="noStrike" baseline="30000">
                  <a:solidFill>
                    <a:srgbClr val="402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27360" y="3733920"/>
              <a:ext cx="1188360" cy="457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16080" y="3733920"/>
              <a:ext cx="1187280" cy="457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92800" y="3733920"/>
              <a:ext cx="1188720" cy="457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s5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27360" y="4191120"/>
              <a:ext cx="1188360" cy="4572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*s2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16080" y="4191120"/>
              <a:ext cx="1187280" cy="457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</a:t>
              </a: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10*s3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2800" y="4191120"/>
              <a:ext cx="1188720" cy="4572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zy szybkość może pokonać złożoność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1600200"/>
            <a:ext cx="7772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my 5 algorytmów  A1, A2, A3, A4, A5 rozwiązujących ten sam problem. Niech s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oznacza maksymalny rozmiar problemu, który można rozwiązać na komputerze 1 przy pomocy algorytmu A</a:t>
            </a:r>
            <a:r>
              <a:rPr b="0" lang="pl-PL" sz="2000" spc="-1" strike="noStrike" baseline="-25000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w ustalonym czasie t. Jaki jest maksymalny rozmiar problemu, który można rozwiązać w tym samym czasie t na komputerze 10 razy szybszym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19320" y="4724280"/>
            <a:ext cx="72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Przykład A5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.  Dla komputera 1:   T(A5,s5)=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s5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t .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       Dla komputera 2 : T(A5,s5)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s5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t /10.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Szukamy takiego x, że T(A5,x)= t.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Mamy  więc  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10*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s5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= 2 </a:t>
            </a:r>
            <a:r>
              <a:rPr b="0" lang="pl-PL" sz="2000" spc="-1" strike="noStrike" baseline="30000">
                <a:solidFill>
                  <a:srgbClr val="402000"/>
                </a:solidFill>
                <a:latin typeface="Times New Roman"/>
              </a:rPr>
              <a:t>s5+lg10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.     Czyli x = 3.2 +s5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75E-CBC3-4B2A-BD0F-0622A296DE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 czym będzie mowa w tym wykładzie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ak formułować (specyfikować) zadania i algorytmy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ak porównywać algorytmy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o to jest struktura  danych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Jak weryfikować algorytm (program)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y zawsze można znaleźć lepsze rozwiązanie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y zawsze istnieje algorytm rozwiązujący dany problem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BAD-634B-40D8-B52C-E5E740C73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Od problemu do jego rozwiąz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76520" y="1905120"/>
            <a:ext cx="412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ecyfikacja problemu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666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formułowanie zadan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276720"/>
            <a:ext cx="1600200" cy="22096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12560 h 2209680"/>
              <a:gd name="textAreaBottom" fmla="*/ 1471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71" stAng="-5400000" swAng="5400000"/>
                <a:lnTo>
                  <a:pt x="21600" y="10349"/>
                </a:lnTo>
                <a:arcTo wR="21600" hR="8071" stAng="0" swAng="2794907"/>
                <a:lnTo>
                  <a:pt x="7200" y="21138"/>
                </a:lnTo>
                <a:lnTo>
                  <a:pt x="0" y="17280"/>
                </a:lnTo>
                <a:lnTo>
                  <a:pt x="7200" y="12498"/>
                </a:lnTo>
                <a:lnTo>
                  <a:pt x="7200" y="15679"/>
                </a:lnTo>
                <a:arcTo wR="21600" hR="8071" stAng="2794907" swAng="-2611970"/>
                <a:lnTo>
                  <a:pt x="21384" y="9210"/>
                </a:lnTo>
                <a:arcTo wR="21600" hR="8071" stAng="-182937" swAng="-5217063"/>
                <a:close/>
              </a:path>
              <a:path fill="darkenLess" w="21600" h="21600">
                <a:moveTo>
                  <a:pt x="0" y="0"/>
                </a:moveTo>
                <a:arcTo wR="21600" hR="8071" stAng="-5400000" swAng="5400000"/>
                <a:lnTo>
                  <a:pt x="21600" y="10349"/>
                </a:lnTo>
                <a:arcTo wR="21600" hR="8071" stAng="0" swAng="-182937"/>
                <a:lnTo>
                  <a:pt x="21384" y="9210"/>
                </a:lnTo>
                <a:arcTo wR="21600" hR="8071" stAng="-182937" swAng="-5217063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5334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Rozwiązanie problemu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4671720" y="3557520"/>
            <a:ext cx="2886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ALGORYTM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657600"/>
            <a:ext cx="26672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zykład: Dany jest ciąg liczb. Znaleźć największą z nic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133720"/>
            <a:ext cx="2133720" cy="375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iech max  ma wartość równą pierwszemu elementowi ciągu. Porównaj max z kolejnymi elementami ciągu i jeśli spotkasz wartość większą, przyjmij ją jako nową wartość max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5E8-9808-4E34-AA85-E3662BB914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o to jest algorytm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828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 to metoda postępowania, która prowadzi do rozwiązania jakiegoś problemu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0384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, to skończony ciąg etapów, które  pozwalają przekształcić dane informacje wejściowe w informacje wyjściowe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219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-Khowârizmî (Persja, 8-9w.n.e.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581280"/>
            <a:ext cx="297180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łącz gaz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gotuj wodę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yp do szklanki kawę rozpuszczalną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Zalej kawę wrzącą wodą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syp cukru, jeśli lubisz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oczekaj kilka minu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752480"/>
            <a:ext cx="4496040" cy="222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Euklides)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Dopóki  x różne od y wykonuj: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Jeżeli x&gt;y,  to  odejmij y od x i wynik podstaw na x; W przeciwnym przypadku od y odejmij x i wynik podstaw na y;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koniec dopóki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nikiem jest 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2B6-B113-4C83-A11F-15AFF7C8D9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Algorytm - metoda postępowan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752480"/>
            <a:ext cx="327672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Funkcje rekurencyjne,    Algorytmy Markova,   Maszyny Turinga,  Automaty, 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yrażenia regular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3429000"/>
            <a:ext cx="7086600" cy="914400"/>
            <a:chOff x="1371600" y="3429000"/>
            <a:chExt cx="7086600" cy="914400"/>
          </a:xfrm>
        </p:grpSpPr>
        <p:sp>
          <p:nvSpPr>
            <p:cNvPr id="120" name=""/>
            <p:cNvSpPr/>
            <p:nvPr/>
          </p:nvSpPr>
          <p:spPr>
            <a:xfrm>
              <a:off x="1371600" y="3429000"/>
              <a:ext cx="1600200" cy="914400"/>
            </a:xfrm>
            <a:prstGeom prst="flowChartAlternateProcess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Dan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3672360"/>
              <a:ext cx="2438280" cy="670680"/>
            </a:xfrm>
            <a:prstGeom prst="rightArrow">
              <a:avLst>
                <a:gd name="adj1" fmla="val 50000"/>
                <a:gd name="adj2" fmla="val 90888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Algorytm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3429000"/>
              <a:ext cx="1981080" cy="914400"/>
            </a:xfrm>
            <a:prstGeom prst="flowChartAlternateProcess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402000"/>
                  </a:solidFill>
                  <a:latin typeface="Times New Roman"/>
                </a:rPr>
                <a:t>Wyniki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400800" y="4648320"/>
            <a:ext cx="2286000" cy="1533240"/>
          </a:xfrm>
          <a:prstGeom prst="rect">
            <a:avLst/>
          </a:prstGeom>
          <a:solidFill>
            <a:srgbClr val="eca07a"/>
          </a:solid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Teza Church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Wszystkie pojęcia algorytmu są sobie równoważn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02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la algorytmu Euklidesa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 Dane  x =21, y =12.</a:t>
            </a:r>
            <a:br>
              <a:rPr sz="2000"/>
            </a:b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(x,y)  (21,12)  (9,12)  (9,3)  (6,3)  (3,3) Wynik  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362320"/>
            <a:ext cx="1523880" cy="1218960"/>
          </a:xfrm>
          <a:prstGeom prst="wedgeRoundRectCallout">
            <a:avLst>
              <a:gd name="adj1" fmla="val -2500"/>
              <a:gd name="adj2" fmla="val 6627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tan pamięci przed wykonaniem algorytm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2286000"/>
            <a:ext cx="1524240" cy="1219320"/>
          </a:xfrm>
          <a:prstGeom prst="wedgeRoundRectCallout">
            <a:avLst>
              <a:gd name="adj1" fmla="val -2500"/>
              <a:gd name="adj2" fmla="val 66277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2000"/>
                </a:solidFill>
                <a:latin typeface="Times New Roman"/>
              </a:rPr>
              <a:t>stan pamięci po wykonaniu algorytm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AB8-F8B9-4429-96A3-ADBD083C95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zapisywać algorytmy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7524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Najczęściej formułujemy zadania i problemy w języku naturalnym, ale język naturalny nie jest dostatecznie precyzyjny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666880"/>
            <a:ext cx="7239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Konstrukcje programotwórcze: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if  test then {Instrukcje} else{Instrukcje} f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while test do{Instrukcje}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begin 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       {Instrukcja1}; ...{Instrukcja n-ta;}</a:t>
            </a:r>
            <a:br>
              <a:rPr sz="2400"/>
            </a:b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x := wyrażenie algebraiczne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819520"/>
            <a:ext cx="16002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trukcja warunkow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657600"/>
            <a:ext cx="18288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trukcja pętli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343400"/>
            <a:ext cx="16765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trukcja złożon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5410080"/>
            <a:ext cx="28195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Instrukcja przypisani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6FF-0F93-4452-B2B3-8BAB1A45A1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Jak porównywać algorytmy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362320"/>
            <a:ext cx="3124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rosto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ytelnoś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długość kodu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poprawnoś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czas realizacj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zajętość pamięc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981080"/>
            <a:ext cx="3429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Idealny algorytm to taki, który ma prosty kod, jest napisany w ogólnie dostępnym języku programowania, łatwo go zrozumieć, liczy szybko, nie wymaga dużo miejsca w pamięci i zawsze daje  poprawne wyniki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95280" y="16765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ryteri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BE9-C3ED-4284-A942-D625CC4CB6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96633"/>
                </a:solidFill>
                <a:latin typeface="Times New Roman"/>
              </a:rPr>
              <a:t>Co to jest struktura danych?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6002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formułowanie problemu algorytmicznego wymaga zwykle określenia środowiska, którego problem dotyczy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43828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2000"/>
                </a:solidFill>
                <a:latin typeface="Times New Roman"/>
              </a:rPr>
              <a:t>Problem „ Znaleźć największy element w danym ciągu” wymaga określenia czym są elementy (np.. Liczbami,  zbiorami, dokumentami) i jak się je porównuj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733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Algorytm, który ma realizować pewną metodę rozwiązania problemu musi znać to środowisko i móc się nim posługiwać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648320"/>
            <a:ext cx="76201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2000"/>
                </a:solidFill>
                <a:latin typeface="Times New Roman"/>
              </a:rPr>
              <a:t>Strukturą danych będziemy nazywali system relacyjny,  którego uniwersum określa wartości zmiennych i a operacje i relacje dostarczają narzędzi do realizacji algorytmu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. Mirkowska, ASD_01  Wprowadzen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2A1-F9CA-47F9-9500-EC477B3D5A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 marzec  2003</a:t>
            </a: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1:01:37Z</dcterms:created>
  <dc:creator>grażyna</dc:creator>
  <dc:description/>
  <cp:keywords>algorytm złożoność poprawność koszt</cp:keywords>
  <dc:language>en-US</dc:language>
  <cp:lastModifiedBy>mirkowska</cp:lastModifiedBy>
  <dcterms:modified xsi:type="dcterms:W3CDTF">2003-03-10T16:02:49Z</dcterms:modified>
  <cp:revision>49</cp:revision>
  <dc:subject>Wprowadzenie</dc:subject>
  <dc:title>ALGORYTMY I STRUKTURY  DANYCH</dc:title>
</cp:coreProperties>
</file>