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BE0A-CFB6-4E5E-8A1B-9D3F77926FB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pl(D*) = epl(D) -2h +(h-1) -k +2(k+1)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zyli epl(D*) &lt; epl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fit(lg f) = podloga(lg f) +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 nie może być większe od sufit(lg f) bo w przypadku drzewa które ma liscie tylko na 2 poziomach m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dyby h= sufit(lg f) +1 wtedy f= 2^(h-1) –y(nie-liście na poziomie h-1) + 2y  &gt; 2^(h-1) + 2^sufil(lg f) &gt;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laczego w ostatniej pętli for zaczynamy od elementu z pozycji ntej? Chodzi o to (czasami jest to ważna), aby kolejność elementów o jednakowej wartości (lub jednakowej wartości atrybutu ze względu na który dokonujemy porównań , była taka jak  w danym na początku wektorze- własność taka nazywa się stabilnością).  Ponieważ wstawiając elementy do ciągu wynikowego B, zaczynamy od pozycji o większych indeksach(potem zmniejszamy licznik), zatem  elementy które są w oryginalnym ciągu dalej , będą znów na dalszych pozycja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 typ sortowania jest stosowany przy sortowaniu kart bibliotecznych, poczty, a dawniej do sortowania kart perforow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y algorytm dawał zawsze poprawny wynik trzeba zwrócić uwagę na implementację kubełk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jmijmy, że A(i) &lt;= cilg i = c lg e i ln 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dowodnimy, że A(n) &lt;= cn lg 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dowodzie sume zastępujemy całką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CC2-A789-417E-9C6D-27EAF5B6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928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50D-A2E0-407D-80A1-31A7B74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367-0568-479F-83B7-8FE9EDCB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20574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20574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928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3928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3928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F05-68F4-4F5E-9239-E2702C57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AC8C-6BD4-4DAA-9D90-D2BF61C9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B63F-A23D-4DA4-B34A-0A795AA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BEE8-8B07-431C-B669-55EF0E8C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1EE9-A6BB-4A4D-8D78-0A9A839A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B1A5-0E69-417E-8B4F-6A354970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961F-1ECB-4B07-BB36-8CA5F13A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43AA-3AE9-4492-8D18-6F74260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790-317E-41BE-A39D-F512DCF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340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0FB1-F3C6-44B6-B3B6-12304F9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28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A29A-1729-4A63-B8E6-689C140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928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1ADF-7BC9-4312-A107-249B42C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340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ABFA-5003-41BD-813A-A4EAEEF6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18720" y="20574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46360" y="20574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928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18720" y="3928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46360" y="3928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6407-D02D-4CA3-818F-C4DB5DBD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734-A612-4BC7-82E1-9F18E694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46D-B337-4972-8795-C5395C1C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D92-F662-4EBD-80FF-6CE2933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24A-643A-45A9-8F64-2ADFC9F5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7D9-8516-432E-9C4B-FA82C71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3928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4EF-5FD9-4DE9-BBBF-7A8CCB74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20574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928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2F2-CD08-49A0-B256-BB910D1B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9080"/>
            <a:chOff x="0" y="0"/>
            <a:chExt cx="8872560" cy="685908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252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44FC-9D21-4FA8-A965-38A4D9036BB4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295280"/>
            <a:ext cx="761976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B2FA-D2B0-49BB-AEB0-8F6E4AB57FDB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jpeg"/><Relationship Id="rId12" Type="http://schemas.openxmlformats.org/officeDocument/2006/relationships/hyperlink" Target="file:///asd03.ppt" TargetMode="External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file:///asd03.ppt" TargetMode="Externa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WYKŁAD 06  c.d. Sortowanie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PJWSTK, semestr letni 2003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3716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o decyzyjne dla algorytmu Insertion_sort  zastosowanego do 3 elementowego ciągu e1,e2, e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29280" y="228600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1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11320" y="312408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2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12408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3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9880" y="403848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1,e2, e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1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03848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2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03848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2, e1,e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334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1,e3,e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5410080"/>
            <a:ext cx="13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3,e1,e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42160" y="5029200"/>
            <a:ext cx="109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715920" y="2666880"/>
            <a:ext cx="87804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739760" y="2666880"/>
            <a:ext cx="80676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98320" y="3505320"/>
            <a:ext cx="801720" cy="533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352680" y="3504960"/>
            <a:ext cx="46512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10080" y="3581280"/>
            <a:ext cx="43344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095880" y="3504960"/>
            <a:ext cx="76680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124080" y="4495680"/>
            <a:ext cx="609840" cy="8384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809520" y="4419360"/>
            <a:ext cx="381240" cy="9903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43200" y="259092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6960" y="266688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541008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2,e3,e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410080"/>
            <a:ext cx="13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3,e2,e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257800" y="4419720"/>
            <a:ext cx="53352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790960" y="4419720"/>
            <a:ext cx="60948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1CA-1286-4B7F-93C9-0E2DCB50B2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łasności drzew decyzyj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1447920"/>
            <a:ext cx="5105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żeli f jest liczbą liści w drzewie binarnym, a h jego wysokością, 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i)   f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ii)  h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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g f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 rot="5400000">
            <a:off x="551880" y="203832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680" y="3733920"/>
            <a:ext cx="1438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owód 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37339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i) Indukcja po 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638680" y="1905120"/>
            <a:ext cx="2992320" cy="1831320"/>
            <a:chOff x="5638680" y="1905120"/>
            <a:chExt cx="2992320" cy="1831320"/>
          </a:xfrm>
        </p:grpSpPr>
        <p:sp>
          <p:nvSpPr>
            <p:cNvPr id="239" name=""/>
            <p:cNvSpPr/>
            <p:nvPr/>
          </p:nvSpPr>
          <p:spPr>
            <a:xfrm flipH="1">
              <a:off x="6400440" y="1981080"/>
              <a:ext cx="1143000" cy="1676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43800" y="1981080"/>
              <a:ext cx="990360" cy="10670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67280" y="3200400"/>
              <a:ext cx="1905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2922480"/>
              <a:ext cx="863640" cy="273240"/>
            </a:xfrm>
            <a:custGeom>
              <a:avLst/>
              <a:gdLst/>
              <a:ahLst/>
              <a:rect l="l" t="t" r="r" b="b"/>
              <a:pathLst>
                <a:path w="544" h="172">
                  <a:moveTo>
                    <a:pt x="0" y="172"/>
                  </a:moveTo>
                  <a:cubicBezTo>
                    <a:pt x="5" y="159"/>
                    <a:pt x="5" y="143"/>
                    <a:pt x="14" y="132"/>
                  </a:cubicBezTo>
                  <a:cubicBezTo>
                    <a:pt x="58" y="78"/>
                    <a:pt x="57" y="115"/>
                    <a:pt x="94" y="146"/>
                  </a:cubicBezTo>
                  <a:cubicBezTo>
                    <a:pt x="106" y="156"/>
                    <a:pt x="121" y="163"/>
                    <a:pt x="134" y="172"/>
                  </a:cubicBezTo>
                  <a:cubicBezTo>
                    <a:pt x="161" y="168"/>
                    <a:pt x="191" y="172"/>
                    <a:pt x="214" y="159"/>
                  </a:cubicBezTo>
                  <a:cubicBezTo>
                    <a:pt x="226" y="152"/>
                    <a:pt x="217" y="129"/>
                    <a:pt x="227" y="119"/>
                  </a:cubicBezTo>
                  <a:cubicBezTo>
                    <a:pt x="237" y="109"/>
                    <a:pt x="254" y="110"/>
                    <a:pt x="267" y="106"/>
                  </a:cubicBezTo>
                  <a:cubicBezTo>
                    <a:pt x="364" y="138"/>
                    <a:pt x="320" y="125"/>
                    <a:pt x="400" y="146"/>
                  </a:cubicBezTo>
                  <a:cubicBezTo>
                    <a:pt x="461" y="125"/>
                    <a:pt x="467" y="138"/>
                    <a:pt x="520" y="172"/>
                  </a:cubicBezTo>
                  <a:cubicBezTo>
                    <a:pt x="544" y="102"/>
                    <a:pt x="538" y="158"/>
                    <a:pt x="494" y="92"/>
                  </a:cubicBezTo>
                  <a:cubicBezTo>
                    <a:pt x="432" y="0"/>
                    <a:pt x="510" y="82"/>
                    <a:pt x="467" y="39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96080" y="3200400"/>
              <a:ext cx="15228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8680" y="3657600"/>
              <a:ext cx="2286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00800" y="19051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67480" y="1905120"/>
              <a:ext cx="15228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5000" y="3276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h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106400">
              <a:off x="7124400" y="293328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066680" y="5410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ii) Z (i) przez logarytmowani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4724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rok indukcyjny:  f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2y + 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- y) = y+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4038480"/>
            <a:ext cx="3657600" cy="457200"/>
          </a:xfrm>
          <a:prstGeom prst="wedgeRoundRectCallout">
            <a:avLst>
              <a:gd name="adj1" fmla="val -78212"/>
              <a:gd name="adj2" fmla="val 117708"/>
              <a:gd name="adj3" fmla="val 16667"/>
            </a:avLst>
          </a:prstGeom>
          <a:solidFill>
            <a:srgbClr val="dbc25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y=Nie- liście na poziomie 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3A9-10D5-4927-8B34-67456C1E23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szacowanie w najgorszym przypadk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152388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ażde drzewo decyzyjne dla algorytmu sortującego ciąg n-elementowy przez porównywanie elementów, ma co najmniej wysokość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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og n!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 rot="5400000">
            <a:off x="742680" y="2000160"/>
            <a:ext cx="17524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114800"/>
            <a:ext cx="601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ażdy algorytm sortujący ciąg n elementowy przez porównywanie elementów musi wykonać co najmniej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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og n!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porównań w najgorszym wypadk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 rot="5400000">
            <a:off x="7143120" y="4667040"/>
            <a:ext cx="1905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514600"/>
            <a:ext cx="4876920" cy="1295280"/>
          </a:xfrm>
          <a:prstGeom prst="cloudCallout">
            <a:avLst>
              <a:gd name="adj1" fmla="val -74055"/>
              <a:gd name="adj2" fmla="val -33944"/>
            </a:avLst>
          </a:prstGeom>
          <a:solidFill>
            <a:srgbClr val="dbc257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o decyzyjne ma co najmniej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! liści.  Stąd i z lematu 1 - tez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5334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W(n)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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n lg n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81C-0652-4E0D-AB40-DE4B050E9B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Oszacowanie sumy długości ścieżek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137160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D będzie drzewem binarnym, a p(x) - długość ścieżki od korzenia do liścia x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1828800"/>
            <a:ext cx="3048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pl(D) = </a:t>
            </a:r>
            <a:r>
              <a:rPr b="1" lang="pl-PL" sz="28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 D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p(x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2438280"/>
            <a:ext cx="7010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śród drzew lokalnie pełnych o f liściach 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wartość epl(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jest najmniejsza, gdy liście znajdują się jedynie na dwóch ostatnich poziomac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3962520"/>
            <a:ext cx="114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owód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 rot="5400000">
            <a:off x="311760" y="2278440"/>
            <a:ext cx="21574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43000" y="3657600"/>
            <a:ext cx="3708360" cy="2426760"/>
            <a:chOff x="1143000" y="3657600"/>
            <a:chExt cx="3708360" cy="2426760"/>
          </a:xfrm>
        </p:grpSpPr>
        <p:sp>
          <p:nvSpPr>
            <p:cNvPr id="268" name=""/>
            <p:cNvSpPr/>
            <p:nvPr/>
          </p:nvSpPr>
          <p:spPr>
            <a:xfrm flipH="1">
              <a:off x="3277800" y="3736800"/>
              <a:ext cx="398520" cy="47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76680" y="3736800"/>
              <a:ext cx="531720" cy="47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10080" y="3657600"/>
              <a:ext cx="133200" cy="79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743200" y="4522680"/>
              <a:ext cx="401760" cy="430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11560" y="4522680"/>
              <a:ext cx="369720" cy="506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44960" y="4444920"/>
              <a:ext cx="133200" cy="777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038120" y="4444920"/>
              <a:ext cx="303480" cy="507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1960" y="4444920"/>
              <a:ext cx="230040" cy="507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75000" y="4365720"/>
              <a:ext cx="133560" cy="79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215800" y="5230800"/>
              <a:ext cx="398520" cy="550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14680" y="5230800"/>
              <a:ext cx="331560" cy="550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48080" y="5153040"/>
              <a:ext cx="133200" cy="777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6240" y="5781600"/>
              <a:ext cx="66960" cy="795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95680" y="4876920"/>
              <a:ext cx="66960" cy="7920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49560" y="5703840"/>
              <a:ext cx="66600" cy="777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8080" y="3894120"/>
              <a:ext cx="465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r>
                <a:rPr b="0" lang="pl-PL" sz="2000" spc="-1" strike="noStrike" baseline="-25000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79800" y="3971880"/>
              <a:ext cx="66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75200" y="397188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4520" y="47592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0" y="4648320"/>
              <a:ext cx="27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51040" y="55450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79800" y="562464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9640" y="4994280"/>
              <a:ext cx="2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85920" y="5153040"/>
              <a:ext cx="9968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43000" y="4836960"/>
              <a:ext cx="13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Poziom h -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91320" y="3581280"/>
            <a:ext cx="3079800" cy="2288520"/>
            <a:chOff x="5791320" y="3581280"/>
            <a:chExt cx="3079800" cy="2288520"/>
          </a:xfrm>
        </p:grpSpPr>
        <p:sp>
          <p:nvSpPr>
            <p:cNvPr id="294" name=""/>
            <p:cNvSpPr/>
            <p:nvPr/>
          </p:nvSpPr>
          <p:spPr>
            <a:xfrm flipH="1">
              <a:off x="6757560" y="3657600"/>
              <a:ext cx="4222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80200" y="3657600"/>
              <a:ext cx="5637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10360" y="3581280"/>
              <a:ext cx="13968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171840" y="4419720"/>
              <a:ext cx="4446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4419720"/>
              <a:ext cx="39996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16800" y="4343400"/>
              <a:ext cx="14112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543800" y="4343400"/>
              <a:ext cx="34128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24680" y="4343400"/>
              <a:ext cx="26856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5240" y="4267080"/>
              <a:ext cx="13968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924680" y="4876920"/>
              <a:ext cx="27144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29600" y="4876920"/>
              <a:ext cx="38088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43600" y="5105520"/>
              <a:ext cx="14112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34520" y="5334120"/>
              <a:ext cx="6984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67680" y="4800600"/>
              <a:ext cx="69840" cy="7632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8720" y="5334120"/>
              <a:ext cx="75960" cy="75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91320" y="3809880"/>
              <a:ext cx="68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*</a:t>
              </a:r>
              <a:r>
                <a:rPr b="0" lang="pl-PL" sz="2000" spc="-1" strike="noStrike" baseline="-25000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45160" y="388620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02480" y="3886200"/>
              <a:ext cx="7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40280" y="464832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37520" y="4648320"/>
              <a:ext cx="2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2012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05920" y="5410080"/>
              <a:ext cx="56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2200" y="4952880"/>
              <a:ext cx="2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H="1">
            <a:off x="4648320" y="3352680"/>
            <a:ext cx="3808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3276720"/>
            <a:ext cx="19051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ziom k, k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h-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54864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Epl(D*</a:t>
            </a:r>
            <a:r>
              <a:rPr b="1" lang="pl-PL" sz="24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 &lt; Epl(D</a:t>
            </a:r>
            <a:r>
              <a:rPr b="1" lang="pl-PL" sz="24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63F-CB28-4162-8CA0-5A7C85CD17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inimalne epl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 rot="5400000">
            <a:off x="704520" y="2114280"/>
            <a:ext cx="18288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2" name=""/>
          <p:cNvSpPr/>
          <p:nvPr/>
        </p:nvSpPr>
        <p:spPr>
          <a:xfrm>
            <a:off x="2209680" y="18288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in {epl(D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: D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}= f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g f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+ 2( f-2 </a:t>
            </a:r>
            <a:r>
              <a:rPr b="0" lang="pl-PL" sz="24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lg f </a:t>
            </a:r>
            <a:r>
              <a:rPr b="0" lang="pl-PL" sz="24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590920" y="2743200"/>
            <a:ext cx="143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owód 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2743200"/>
            <a:ext cx="396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ędzie drzewem, dla którego epl osiąga minimu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padek 1    f = 2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50292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epl(D</a:t>
            </a:r>
            <a:r>
              <a:rPr b="1" lang="pl-PL" sz="24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= f</a:t>
            </a:r>
            <a:r>
              <a:rPr b="1" lang="pl-PL" sz="2400" spc="-1" strike="noStrike" baseline="-4000">
                <a:solidFill>
                  <a:srgbClr val="402000"/>
                </a:solidFill>
                <a:latin typeface="Times New Roman"/>
              </a:rPr>
              <a:t> *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lg 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057040" y="4495680"/>
            <a:ext cx="3124440" cy="1161000"/>
            <a:chOff x="2057040" y="4495680"/>
            <a:chExt cx="3124440" cy="1161000"/>
          </a:xfrm>
        </p:grpSpPr>
        <p:sp>
          <p:nvSpPr>
            <p:cNvPr id="328" name=""/>
            <p:cNvSpPr/>
            <p:nvPr/>
          </p:nvSpPr>
          <p:spPr>
            <a:xfrm flipH="1">
              <a:off x="2057040" y="4495680"/>
              <a:ext cx="685800" cy="1143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4495680"/>
              <a:ext cx="685800" cy="1143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5638680"/>
              <a:ext cx="31240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5320" y="5257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oziom p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4600" y="49528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r>
                <a:rPr b="0" lang="pl-PL" sz="2400" spc="-1" strike="noStrike" baseline="-25000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14800" y="3733920"/>
            <a:ext cx="2209680" cy="761760"/>
          </a:xfrm>
          <a:prstGeom prst="wedgeRoundRectCallout">
            <a:avLst>
              <a:gd name="adj1" fmla="val -50791"/>
              <a:gd name="adj2" fmla="val 152708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szystkie liśc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ą na poziome 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7B6-2F97-4CC4-B91B-51A1FDCCF3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inimalne epl c.d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95280" y="1447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padek 2     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&lt; f &lt;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2057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 lematu 1  h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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g f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274320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 lematu 3 wszystkie liście są na poziomach h i h-1. Czyli  h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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g f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90360" y="2209680"/>
            <a:ext cx="3048120" cy="2679480"/>
            <a:chOff x="990360" y="2209680"/>
            <a:chExt cx="3048120" cy="2679480"/>
          </a:xfrm>
        </p:grpSpPr>
        <p:sp>
          <p:nvSpPr>
            <p:cNvPr id="341" name=""/>
            <p:cNvSpPr/>
            <p:nvPr/>
          </p:nvSpPr>
          <p:spPr>
            <a:xfrm flipH="1">
              <a:off x="990360" y="2209680"/>
              <a:ext cx="1447560" cy="2210040"/>
            </a:xfrm>
            <a:prstGeom prst="line">
              <a:avLst/>
            </a:prstGeom>
            <a:ln w="38160">
              <a:solidFill>
                <a:srgbClr val="5abd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280" y="2209680"/>
              <a:ext cx="1219320" cy="1752840"/>
            </a:xfrm>
            <a:prstGeom prst="line">
              <a:avLst/>
            </a:prstGeom>
            <a:ln w="38160">
              <a:solidFill>
                <a:srgbClr val="5abd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0720" y="4419720"/>
              <a:ext cx="1447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14600" y="3962520"/>
              <a:ext cx="1143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09880" y="2286000"/>
              <a:ext cx="228600" cy="2286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74400">
              <a:off x="1523880" y="4114440"/>
              <a:ext cx="381240" cy="114300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74400">
              <a:off x="2895480" y="3581280"/>
              <a:ext cx="380880" cy="11430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954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09680" y="30481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r>
                <a:rPr b="0" lang="pl-PL" sz="2400" spc="-1" strike="noStrike" baseline="-25000">
                  <a:solidFill>
                    <a:srgbClr val="402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 flipV="1">
            <a:off x="1295280" y="5105160"/>
            <a:ext cx="304920" cy="533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Liście na poziomie h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3200400" y="4495320"/>
            <a:ext cx="1295280" cy="381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Liście na poziomie h-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5105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= f - z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5715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 =2(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h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- x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39625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Epl(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f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= x (h-1) + z h =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4572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=(2 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-f)(h-1) + (2f -2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 h = hf + f - 2 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934320" y="5562720"/>
            <a:ext cx="942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bd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19F-7146-475D-B093-35B09066D3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średni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 rot="5400000">
            <a:off x="971280" y="2000160"/>
            <a:ext cx="17524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14479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Średnia liczba porównań wykonywanych przez dowolny algorytm sortujący ciąg n-elementowy przez porównywanie elementów jest  nie mniejsza niż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g n!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295280" y="3581280"/>
            <a:ext cx="1438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owód 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3352680"/>
            <a:ext cx="3962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Średnia wysokość drzewa decyzyjnego h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epl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i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D)/n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43434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h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n!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g n!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2( n!-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lg n!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)/n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4876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zyli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( n!-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lg n!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/n!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4038480"/>
            <a:ext cx="2438640" cy="1067040"/>
          </a:xfrm>
          <a:prstGeom prst="wedgeRoundRectCallout">
            <a:avLst>
              <a:gd name="adj1" fmla="val -94986"/>
              <a:gd name="adj2" fmla="val 6101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e dla dowolnego x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x/2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lgx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h 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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g n!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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429000" y="548640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stateczni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DB4-866B-49E7-AFFB-8A7357367A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Wniosek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16765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olnym ograniczeniem na liczbę porównań wykonanych przez algorytm sortujący przez porównywanie elementów jest w przypadku średnim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n lg n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41148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 QuickSort jest optymalnym algorytmem ze względu na średnią złożoność czasową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 rot="5400000">
            <a:off x="7143480" y="413388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Wniosek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 rot="5400000">
            <a:off x="513720" y="222876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Wniosek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F9A-56A9-4EA3-ABEC-7E1F68F500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z kosztem liniowy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52388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łóżmy, że dane wejściowe a[1],...,a[n] są generowane losowo z rozkładem jednorodnym oraz że a[i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0,..., k-1} dla pewnej ustalonej (niezbyt dużej)  liczby k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371600" y="2743200"/>
            <a:ext cx="4038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rtowanie koszykow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32767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rok 1. Utworzyć k pustych koszyków o numerach od 0 do k-1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37339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rok2 i-ty element ciągu  wkładamy do koszyka  o numerze a[i]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41148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rok 3. Wyjmujemy elementy z kolejnych koszyków od 0 do k-1, otrzymując posortowany ciąg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523880" y="5181480"/>
            <a:ext cx="1181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 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k) Czasu na tworzenie koszykó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5410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n) Czasu na rozrzucanie elementó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CE2-4786-4444-BF6B-048AEF9817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przez zlicz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 rot="5400000">
            <a:off x="1047240" y="200016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2362320" y="14479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łożenie: dany n elementowy ciąg o elementach z przedziału [1,k], k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13372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toda polega na znalezieniu dla każdego x liczby elementów mniejszych równych niż x. Pozwoli to ustalić właściwą pozycję x w tablicy wyjściowej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 rot="5400000">
            <a:off x="6953040" y="4171680"/>
            <a:ext cx="21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3657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6  7  3  2  9  1  8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600200" y="4114440"/>
            <a:ext cx="304920" cy="7621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724280"/>
            <a:ext cx="289584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winna trafić na pozycje 4, bo są 3 liczby mniejsz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343400" y="4572000"/>
            <a:ext cx="2743200" cy="533520"/>
            <a:chOff x="4343400" y="4572000"/>
            <a:chExt cx="2743200" cy="533520"/>
          </a:xfrm>
        </p:grpSpPr>
        <p:sp>
          <p:nvSpPr>
            <p:cNvPr id="392" name=""/>
            <p:cNvSpPr/>
            <p:nvPr/>
          </p:nvSpPr>
          <p:spPr>
            <a:xfrm>
              <a:off x="4343400" y="5105520"/>
              <a:ext cx="2590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5680" y="45720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 2  3  4  5  6   7 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410080" y="5105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38280" y="3352680"/>
            <a:ext cx="99072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3124080"/>
            <a:ext cx="38098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7 ma trafić na pozycję 5, bo są 4 elementy od niej mniejsz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6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743200" y="4038120"/>
            <a:ext cx="380880" cy="1600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5486400"/>
            <a:ext cx="35816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3 powinna trafić na pozycje trzecią, bo są 2 elementy mniejsze od niej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00800" y="5410080"/>
            <a:ext cx="59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d.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892-2BD8-417B-B896-63B52C9B93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zybkie sortowan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a decyzyj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lne oszacowanie złożoności problemu sortowania przez porównywanie elementó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ortowanie z kosztem liniowy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12880" indent="-36936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ortowanie koszykow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12880" indent="-36936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ortowanie przez zliczanie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04A-AD37-4A9C-8B1D-216433526C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przez zlicz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1371600"/>
            <a:ext cx="693396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  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// a- tablica danych, B tablica wyników, C tablica pomocnicza.</a:t>
            </a:r>
            <a:br>
              <a:rPr sz="18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i := 1 to k do C[i] := 0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for j := 1 to n do C[a[j]] := C[a[j]] +1 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i := 2 to k d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[i] := C[i] + C[i-1]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j := n downto 1 d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[C[a[j]]] := a[j]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C[a[j]] := C[a[j]] –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2286000"/>
            <a:ext cx="24382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C[i] = liczba elementów równych 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3429000"/>
            <a:ext cx="50292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C[i] = liczba elementów mniejszych równych 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4038480"/>
            <a:ext cx="41148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a lewo od pozycji C[a[j]] leżą elementy 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od a[j], a na prawo &gt; a[j]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4800600"/>
            <a:ext cx="44197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C[a[j]] wskazuje liczbę jeszcze nie wpisanych elementów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a[j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666880" y="5562720"/>
            <a:ext cx="1181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 :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/>
          <p:nvPr/>
        </p:nvSpPr>
        <p:spPr>
          <a:xfrm>
            <a:off x="4191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(k+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5715000"/>
            <a:ext cx="236232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abilność algorytm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ECB-3327-4D67-B273-08D0767DC0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0920" y="144792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Dana Tablica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A:      1   2   3   4   5   6   7   8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-----------------------------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=6  n= 8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3   6   4   1   3   4   1   4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990720" y="2590920"/>
            <a:ext cx="2743200" cy="581400"/>
            <a:chOff x="990720" y="2590920"/>
            <a:chExt cx="2743200" cy="581400"/>
          </a:xfrm>
        </p:grpSpPr>
        <p:sp>
          <p:nvSpPr>
            <p:cNvPr id="414" name=""/>
            <p:cNvSpPr/>
            <p:nvPr/>
          </p:nvSpPr>
          <p:spPr>
            <a:xfrm>
              <a:off x="990720" y="25909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6600"/>
                  </a:solidFill>
                  <a:latin typeface="Times New Roman"/>
                </a:rPr>
                <a:t>C: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2666880"/>
              <a:ext cx="1905120" cy="45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 2  3  4  5  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038480" y="2590920"/>
            <a:ext cx="3505320" cy="581400"/>
            <a:chOff x="4038480" y="2590920"/>
            <a:chExt cx="3505320" cy="581400"/>
          </a:xfrm>
        </p:grpSpPr>
        <p:sp>
          <p:nvSpPr>
            <p:cNvPr id="417" name=""/>
            <p:cNvSpPr/>
            <p:nvPr/>
          </p:nvSpPr>
          <p:spPr>
            <a:xfrm>
              <a:off x="4038480" y="2590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ff6600"/>
                  </a:solidFill>
                  <a:latin typeface="Times New Roman"/>
                </a:rPr>
                <a:t>B: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76920" y="2666880"/>
              <a:ext cx="266688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 2  3  4  5  6  7  8 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8288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0  0  0  0 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 pierwszej pętli „for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  0  2  3  0 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12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 drugiej pętli „for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276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 trzeciej pętli „for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  2  4  7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0  0  0  0  0  4 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3581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1  0  0  0  0  4 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  2  4  6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288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2  3  4  7 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2880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2  4  6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5410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1  3  3  4  4  4  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1  0  0  0  4  4 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2  4  5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1  0  3  0  4  4 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2  3  5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1  0  3  0  4  4 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288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2  3  5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1  0  3  4  4  4 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2  3  4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1  0  3  4  4  4  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 rot="5400000">
            <a:off x="6190560" y="3333600"/>
            <a:ext cx="4267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Uwaga -Stabilność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0  2  2  4  7 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2057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2057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2057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2057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20574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2057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0574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2057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104-E970-4088-A86F-A2BB2276D2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pozycyjn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12952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y jest ciąg n-elementów do posortowania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66680" y="1905120"/>
            <a:ext cx="847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e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160020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lementy tego ciągu nie są po prostu liczbami naturalnymi, lecz same mają wewnętrzną strukturę, np.. są to skończone  ciągi pewnych obiektów (np.. Liczb, cyfr, znaków itd..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2819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etoda naiwnego  rozrzucan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3429000"/>
            <a:ext cx="43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rzucić elementy danego ciągu do „koszyków” ze względu na kolejne pozycje w ciągach składowych, tzn. tworzymy pewną liczbę „koszyków” , tak, że i-ty koszyk odpowiada i-tej pozycji w ciągach składowych. Następnie sortujemy każdy z koszyków osobno tą samą metodą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10080" y="2590920"/>
            <a:ext cx="3429000" cy="1676160"/>
          </a:xfrm>
          <a:prstGeom prst="wedgeRoundRectCallout">
            <a:avLst>
              <a:gd name="adj1" fmla="val -66944"/>
              <a:gd name="adj2" fmla="val 0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ie postępowanie jest kosztowne: Dla elementów, które są ciągami liczb o d cyfrach, trzeba utworzyć 10 </a:t>
            </a:r>
            <a:r>
              <a:rPr b="0" lang="pl-PL" sz="1800" spc="-1" strike="noStrike" baseline="30000">
                <a:solidFill>
                  <a:srgbClr val="402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koszyków!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4800600"/>
            <a:ext cx="2971800" cy="1219320"/>
          </a:xfrm>
          <a:prstGeom prst="wedgeRoundRectCallout">
            <a:avLst>
              <a:gd name="adj1" fmla="val -74574"/>
              <a:gd name="adj2" fmla="val -47527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ie postępowanie nie zawsze daje poprawny wynik np. gdy ciągi nie są równej długości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D75-F202-4AFF-ACBC-373FBE6E83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Radix-Sor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14479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 : tablica  n-liczb całkowitych o   d cyfrac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2514600"/>
            <a:ext cx="6095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k := 1 to d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// rozrzuć wszystkie liczby do ‘kubełków’ o numerach 0, //1, 2,...9 ze względu na k-tą od końca cyfrę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//połącz kubełki w jeden ciąg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295280" y="1981080"/>
            <a:ext cx="1695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goryt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295280" y="4876920"/>
            <a:ext cx="1181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 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"/>
          <p:cNvSpPr/>
          <p:nvPr/>
        </p:nvSpPr>
        <p:spPr>
          <a:xfrm>
            <a:off x="2819520" y="4800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(n) = O(d* 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3733920"/>
            <a:ext cx="3276720" cy="131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szystkie elementy, obcięte do k-1 ostatnich pozycji, tworzą ciąg uporządkowany niemalejąc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019920" y="2133720"/>
            <a:ext cx="2295360" cy="1600200"/>
            <a:chOff x="6019920" y="2133720"/>
            <a:chExt cx="2295360" cy="1600200"/>
          </a:xfrm>
        </p:grpSpPr>
        <p:sp>
          <p:nvSpPr>
            <p:cNvPr id="466" name=""/>
            <p:cNvSpPr/>
            <p:nvPr/>
          </p:nvSpPr>
          <p:spPr>
            <a:xfrm flipH="1">
              <a:off x="7009920" y="2362320"/>
              <a:ext cx="228600" cy="1371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6019920" y="2133720"/>
              <a:ext cx="2295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Niezmiennik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2A2-A5BE-4E51-82EE-B963994F4B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Radix-sor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295280" y="1447920"/>
            <a:ext cx="6734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Uwaga na implementację kubełków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 rot="5400000">
            <a:off x="6486120" y="3495600"/>
            <a:ext cx="358128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Kubełek= st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any ciąg 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85  83  63  64  84  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os 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3581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 połączeniu :  63  83  84  64  15  8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5410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 połączeniu :  15  64  63  85  84  8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911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os 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41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os 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1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os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os 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7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os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533520" cy="7038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3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2514600"/>
            <a:ext cx="533160" cy="7038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86400" y="2514600"/>
            <a:ext cx="533520" cy="7038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5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4495680"/>
            <a:ext cx="533520" cy="3988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4191120"/>
            <a:ext cx="533520" cy="7038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3962520"/>
            <a:ext cx="533520" cy="10087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5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4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438280" y="2209680"/>
            <a:ext cx="4210200" cy="29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08366"/>
                  </a:solidFill>
                  <a:miter/>
                </a:ln>
                <a:solidFill>
                  <a:srgbClr val="ce9964"/>
                </a:solidFill>
                <a:latin typeface="Arial Black"/>
              </a:rPr>
              <a:t>To nie jest dobre</a:t>
            </a:r>
            <a:endParaRPr b="0" lang="en-US" sz="2400" spc="1" strike="noStrike">
              <a:ln w="9360">
                <a:solidFill>
                  <a:srgbClr val="a08366"/>
                </a:solidFill>
                <a:miter/>
              </a:ln>
              <a:solidFill>
                <a:srgbClr val="ce9964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08366"/>
                  </a:solidFill>
                  <a:miter/>
                </a:ln>
                <a:solidFill>
                  <a:srgbClr val="ce9964"/>
                </a:solidFill>
                <a:latin typeface="Arial Black"/>
              </a:rPr>
              <a:t>rozwiązanie</a:t>
            </a:r>
            <a:endParaRPr b="0" lang="en-US" sz="2400" spc="1" strike="noStrike">
              <a:ln w="9360">
                <a:solidFill>
                  <a:srgbClr val="a08366"/>
                </a:solidFill>
                <a:miter/>
              </a:ln>
              <a:solidFill>
                <a:srgbClr val="ce9964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B7A-4F4E-469B-891E-98A3BCB37C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.d. Radix Sor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19320" y="1676520"/>
            <a:ext cx="4724280" cy="20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For k := 1 to d do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// rozrzuć wszystkie liczby do ‘kubełków’ o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//numerach 0, //1, 2,...9 ze względu na k-tą 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//od końca cyfrę 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//połącz kubełki w jeden ciąg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o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48520" y="1752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Times New Roman"/>
              </a:rPr>
              <a:t>Użyjmy kolejek jako ‘kubełków’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3886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any ciąg : 85  83  63  64  84  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44197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3:    83  6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4:    64  8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502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5:    85  1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55627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83  63  64  84  85  1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54864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9920" y="4343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1:    1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46483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6:    63  6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19920" y="49528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8:   83  84  8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19920" y="54100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19920" y="5486400"/>
            <a:ext cx="274320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5  63  64  83  84  8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 rot="5400000">
            <a:off x="618480" y="4790880"/>
            <a:ext cx="182880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3" name=""/>
          <p:cNvSpPr/>
          <p:nvPr/>
        </p:nvSpPr>
        <p:spPr>
          <a:xfrm>
            <a:off x="2362320" y="1600200"/>
            <a:ext cx="4724280" cy="202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For k := 1 to d do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// posortuj elementy ze względu na ktą od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końca pozycję, stosując np.algorytm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CountingSort //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o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809-DE17-47B9-A953-940E0F453E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prawność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1371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Algorytm RadixSort zaimplementowany z kolejkami ma własność stabilności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323640" y="2190600"/>
            <a:ext cx="213372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wierdze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7" name=""/>
          <p:cNvSpPr/>
          <p:nvPr/>
        </p:nvSpPr>
        <p:spPr>
          <a:xfrm>
            <a:off x="1752480" y="19810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Jeżeli elementy x, y są uporządkowane ze względu na k-1 ostatnich cyfr i wpadają do tego samego ‘kubełka’ to po k-tym  przebiegu nadal są w tym samym porządku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2895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Jeżeli wpadają do różnych kubełków, to po k-tym przebiegu są uporządkowane ze względu na k ostatnich cyfr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66680" y="388620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= x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+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0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+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0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x’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441972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y = y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+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0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+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0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y’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3880" y="5105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’ &lt; y’, x’,y’&lt; 10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 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3733920"/>
            <a:ext cx="36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Albo x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=y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i wtedy x i y trafiają do tej samej kolejki oraz x poprzedza 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4343400"/>
            <a:ext cx="4496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Albo x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&lt;y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ale wtedy x trafi do kolejki o mniejszym numerze niż y i w takiej kolejności ukażą się po połączeni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0400" y="5257800"/>
            <a:ext cx="5562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Albo x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&gt;y</a:t>
            </a:r>
            <a:r>
              <a:rPr b="0" lang="pl-PL" sz="1800" spc="-1" strike="noStrike" baseline="-25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ale wtedy x trafi do kolejki o numerze większym niż y i po połączeniu y ukaże się przed 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DF1-8C67-4212-87F7-1A449D20764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zybkie sortow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514600"/>
            <a:ext cx="7391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Krok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1.  Rozdzielić elementy danego ciągu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... ,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na dwie części względem pewnego ustalonego elementu, tzw.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mediany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 tak by a lewo od niego znajdowały się elementy mniejsze, a na prawo elementy większe.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800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Krok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3. Posortować elementy znajdujące się na prawo od median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Krok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2. Posortować  elementy na lewo od median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etoda 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429000" y="1752480"/>
            <a:ext cx="325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ziel   i   zwyciężaj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374-5940-45CC-95BE-4EEF8971B6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wykon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1676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0  5  7  8  14  12  3  4 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1676520"/>
            <a:ext cx="60948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4382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dzielanie ze względu na wybraną median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7432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  7  8  1  4  3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2743200"/>
            <a:ext cx="1143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2  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657600"/>
            <a:ext cx="19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osujemy rekurencyjnie tę samą zasadę do obu częśc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7432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  4 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581280"/>
            <a:ext cx="8924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8  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58128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648320"/>
            <a:ext cx="5331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4648320"/>
            <a:ext cx="5331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58128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4648320"/>
            <a:ext cx="45720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2743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581280"/>
            <a:ext cx="5335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5638680"/>
            <a:ext cx="1828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statecznie :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5562720"/>
            <a:ext cx="419112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 3    4    5    7   8   10  12   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>
            <a:hlinkClick r:id="rId12"/>
          </p:cNvPr>
          <p:cNvSpPr/>
          <p:nvPr/>
        </p:nvSpPr>
        <p:spPr>
          <a:xfrm>
            <a:off x="7467480" y="990720"/>
            <a:ext cx="990720" cy="990360"/>
          </a:xfrm>
          <a:custGeom>
            <a:avLst/>
            <a:gdLst>
              <a:gd name="textAreaLeft" fmla="*/ 174600 w 990720"/>
              <a:gd name="textAreaRight" fmla="*/ 816120 w 990720"/>
              <a:gd name="textAreaTop" fmla="*/ 174600 h 990360"/>
              <a:gd name="textAreaBottom" fmla="*/ 815760 h 99036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17800" y="3808"/>
                </a:lnTo>
                <a:lnTo>
                  <a:pt x="3808" y="3808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17800" y="17792"/>
                </a:lnTo>
                <a:lnTo>
                  <a:pt x="17800" y="3808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3808" y="17792"/>
                </a:lnTo>
                <a:lnTo>
                  <a:pt x="17800" y="17792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3808" y="3808"/>
                </a:lnTo>
                <a:lnTo>
                  <a:pt x="3808" y="17792"/>
                </a:lnTo>
                <a:close/>
              </a:path>
              <a:path fill="darken" w="21608" h="21600">
                <a:moveTo>
                  <a:pt x="5592" y="5588"/>
                </a:moveTo>
                <a:lnTo>
                  <a:pt x="16016" y="10800"/>
                </a:lnTo>
                <a:lnTo>
                  <a:pt x="5592" y="16012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bfae2"/>
                </a:solidFill>
                <a:latin typeface="Times New Roman"/>
              </a:rPr>
              <a:t>spl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DB2-EF7F-486B-A69F-C80C869DF9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szybkie - algorytm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-133560" y="31813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Quick_sor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752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:  n&gt;0,  ciąg e[1],..., e[n]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209680"/>
            <a:ext cx="56386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cedure QS(lewy, prawy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if (prawy &gt; lewy) the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plit (lewy, prawy,j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QS(lewy,j-1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QS(j+1,prawy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3733920"/>
            <a:ext cx="53337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e[lewy],..., e[j-1]}&lt; e[j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e[j+1],...,e[prawy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495680"/>
            <a:ext cx="5181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lewy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j-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j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e[j+1],...,e[prawy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5257800"/>
            <a:ext cx="5562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lewy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j-1]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j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j+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prawy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209680"/>
            <a:ext cx="1752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ewy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praw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>
            <a:hlinkClick r:id="rId5"/>
          </p:cNvPr>
          <p:cNvSpPr/>
          <p:nvPr/>
        </p:nvSpPr>
        <p:spPr>
          <a:xfrm>
            <a:off x="7086600" y="1371600"/>
            <a:ext cx="1523880" cy="609480"/>
          </a:xfrm>
          <a:custGeom>
            <a:avLst/>
            <a:gdLst>
              <a:gd name="textAreaLeft" fmla="*/ 152280 w 1523880"/>
              <a:gd name="textAreaRight" fmla="*/ 1371600 w 15238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48587" y="5400"/>
                </a:lnTo>
                <a:lnTo>
                  <a:pt x="5400" y="5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48587" y="16200"/>
                </a:lnTo>
                <a:lnTo>
                  <a:pt x="48587" y="5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8587" y="16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3987" h="21600">
                <a:moveTo>
                  <a:pt x="22969" y="6775"/>
                </a:moveTo>
                <a:lnTo>
                  <a:pt x="31019" y="10800"/>
                </a:lnTo>
                <a:lnTo>
                  <a:pt x="22969" y="14825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. spl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8CB-F56C-4A0D-8279-51F54615ED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Najgorszy przypadek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88620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Operacji rozdzielania SPLIT  dla n elementowego ciągu wynosi n-1 porównań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1447920"/>
            <a:ext cx="609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pesymistyczny algorytmu Quicksort mierzony liczbą porównań wynosi :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(n) 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 rot="5400000">
            <a:off x="285120" y="2076480"/>
            <a:ext cx="19047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wierdze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33720" y="2438280"/>
            <a:ext cx="594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ak wygląda najgorszy przypadek 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2  3  4  5  6   7   8   9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581280"/>
            <a:ext cx="441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śli Split jako medianę wybiera zawsze pierwszy element, to w wyniku rozdzielenia, jedna część „młodsza” będzie pusta , a druga „starsza” będzie zawierała o jeden element mniej niż w poprzednim krok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5638680"/>
            <a:ext cx="50292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(n) = (n-1) +W(n-1)=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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=2...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i-1) =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19320" y="5562720"/>
            <a:ext cx="238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statecznie 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F16-B224-4DE5-9C28-0215237BA2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średn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323640" y="2114280"/>
            <a:ext cx="21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wierdze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447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szt średni algorytmu QuickSort, mierzony liczbą porównań, wynosi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(n) =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 lg n)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038480"/>
            <a:ext cx="66294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(n) = (n-1) + </a:t>
            </a:r>
            <a:r>
              <a:rPr b="0" lang="pl-PL" sz="28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=1...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1/n (A(j-1) + A(n-j)))          A(0) = 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480" y="3048120"/>
            <a:ext cx="5943600" cy="916920"/>
            <a:chOff x="1752480" y="3048120"/>
            <a:chExt cx="5943600" cy="916920"/>
          </a:xfrm>
        </p:grpSpPr>
        <p:sp>
          <p:nvSpPr>
            <p:cNvPr id="155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524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956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95680" y="3048120"/>
              <a:ext cx="152640" cy="15228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5791320" y="2209680"/>
              <a:ext cx="304560" cy="2438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3360 h 2438640"/>
                <a:gd name="textAreaBottom" fmla="*/ 2375280 h 243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124080" y="2209680"/>
              <a:ext cx="304560" cy="24382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180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38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-j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5880" y="1295280"/>
            <a:ext cx="2667240" cy="1676520"/>
          </a:xfrm>
          <a:prstGeom prst="wedgeRoundRectCallout">
            <a:avLst>
              <a:gd name="adj1" fmla="val -103569"/>
              <a:gd name="adj2" fmla="val 51703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Zakładamy, że wszystkie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ustawienia elementów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w ciągu i każdy podział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 wyniku Split są jednakowo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prawdopodobn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876920"/>
            <a:ext cx="373392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(0) = 0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(n) = (n-1) + </a:t>
            </a:r>
            <a:r>
              <a:rPr b="0" lang="pl-PL" sz="28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=1...n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A(j) 2/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67280" y="48006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statecznie :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53341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(n)=cn lg 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876920"/>
            <a:ext cx="381240" cy="914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AB7-5F1E-415A-8CB5-7F7063C211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zewo decyzyjn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5238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SORT oznacza dowolny algorytm  rozwiązujący problem sortowania przez porównywanie element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895480"/>
            <a:ext cx="655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em decyzyjnym dla algorytmu SORT nazywamy drzewo lokalnie pełne (tzn. każdy wierzchołek ma 0 albo 2 następniki) takie, że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-  etykietami wierzchołków są zdania opisujące relacje między elementami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-  etykietami liści są uporządkowane permutacje  wynikające z relacji między elementami na ścieżce prowadzącej do tego liści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 rot="5400000">
            <a:off x="120240" y="3689280"/>
            <a:ext cx="25401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0A5-0BB1-405A-9CBD-E112B06FD0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3716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rzewo decyzyjne dla algorytmu Selection_sort zastosowanego do ciągu 3 elementowego e1,e2, e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66680" y="2438280"/>
            <a:ext cx="7391160" cy="3370680"/>
            <a:chOff x="1066680" y="2438280"/>
            <a:chExt cx="7391160" cy="3370680"/>
          </a:xfrm>
        </p:grpSpPr>
        <p:sp>
          <p:nvSpPr>
            <p:cNvPr id="176" name=""/>
            <p:cNvSpPr/>
            <p:nvPr/>
          </p:nvSpPr>
          <p:spPr>
            <a:xfrm>
              <a:off x="3847320" y="243828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1 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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e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0080" y="327672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1 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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e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8800" y="327672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2 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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e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9360" y="419112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2 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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e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81560" y="419112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2 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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e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9200" y="4191120"/>
              <a:ext cx="65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. . 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35640" y="419112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2 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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e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6680" y="518148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1,e2,e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37400" y="525780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1,e3, e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08120" y="5410080"/>
              <a:ext cx="1317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96800" y="525780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3,e2,e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6120" y="5410080"/>
              <a:ext cx="13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3,e1,e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60200" y="5181480"/>
              <a:ext cx="109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335040" y="2819520"/>
              <a:ext cx="87804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4359600" y="2819160"/>
              <a:ext cx="80460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017800" y="3657600"/>
              <a:ext cx="87804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3115440" y="3657600"/>
              <a:ext cx="80460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45320" y="3733920"/>
              <a:ext cx="58536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5676840" y="3733560"/>
              <a:ext cx="80460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139760" y="4572000"/>
              <a:ext cx="7315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1944360" y="4571640"/>
              <a:ext cx="7318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116040" y="4572000"/>
              <a:ext cx="7318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920640" y="4571640"/>
              <a:ext cx="73188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846960" y="4572000"/>
              <a:ext cx="29268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4213440" y="4572000"/>
              <a:ext cx="51192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61960" y="2743200"/>
              <a:ext cx="8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Tak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25720" y="2819520"/>
              <a:ext cx="8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ie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657600" y="5029200"/>
            <a:ext cx="533520" cy="685800"/>
          </a:xfrm>
          <a:prstGeom prst="line">
            <a:avLst/>
          </a:prstGeom>
          <a:ln w="7632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505320" y="5257800"/>
            <a:ext cx="685800" cy="380880"/>
          </a:xfrm>
          <a:prstGeom prst="line">
            <a:avLst/>
          </a:prstGeom>
          <a:ln w="7632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7480" y="4724280"/>
            <a:ext cx="304920" cy="762120"/>
          </a:xfrm>
          <a:prstGeom prst="line">
            <a:avLst/>
          </a:prstGeom>
          <a:ln w="7632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238880" y="4952520"/>
            <a:ext cx="685800" cy="381240"/>
          </a:xfrm>
          <a:prstGeom prst="line">
            <a:avLst/>
          </a:prstGeom>
          <a:ln w="7632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6  Sortowanie c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A04-B9C5-47F5-993C-C58DE3AFC0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wiecień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dcterms:modified xsi:type="dcterms:W3CDTF">2003-04-14T14:50:59Z</dcterms:modified>
  <cp:revision>100</cp:revision>
  <dc:subject>Sortowanie  Quick-sort, dolne oszcowanie.  Inne metody</dc:subject>
  <dc:title>ALGORYTMY I STRUKTURY  DANYCH</dc:title>
</cp:coreProperties>
</file>