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4FE-4676-43BF-8907-72C20CAB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0CC-5DC1-4144-B6A6-CCED644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E6A-EC76-47BF-925C-6DDDC404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7DB-D178-455F-B01B-A643ABAE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78C4-763E-4E8A-B734-B594FFDB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BC42-C4E0-495F-8B4A-06D89EA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B29-94F0-4FD5-9AFF-2B5A4E7C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E51-E0DD-4F1D-B9D4-F91E8A30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2F8-2CB8-4D22-8BD9-BCFF6CC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F9FC-26EC-42B2-9AB7-5BDD96E8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90C9-5A34-441C-8BE3-754D5A79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FEF-8E70-4DC5-9D4C-E3ADF9E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5C80-C29D-4357-AEB8-88D64E5F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7FE8-8B06-47FA-B290-C12A1EE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047-8175-4A89-AD7E-46BEBE6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577-8882-4124-9D9E-4ED9462B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1363-4FE5-437E-B322-DFB02AD8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AD8-1BF6-4B40-AF16-A479F40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E50-BC74-4A45-BAA1-86EA081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AAE-F7F7-44A2-B154-656C79E0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3FD-73D3-43EC-8194-958CE770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8EF-1AFF-49E4-A7B8-35B2317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9D0-736B-4924-A07C-E8499EA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C2A-01C0-4D5C-B128-879141F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E9AA-F81D-4DB3-B6F9-E3A2193A3DA0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CC72-22A2-4E20-8D89-FAC849D48B49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47720" y="3580920"/>
            <a:ext cx="6400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12  </a:t>
            </a:r>
            <a:br>
              <a:rPr sz="2000"/>
            </a:b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Techniki konstruowania algorytmów – przykłady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2002/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nożenie  macierz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523880"/>
            <a:ext cx="6248520" cy="78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ciąg macierzy 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,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 Obliczyć  iloczyn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tak by koszt mnożenia był najmniejsz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438280"/>
            <a:ext cx="3353040" cy="1828800"/>
          </a:xfrm>
          <a:prstGeom prst="wedgeRoundRectCallout">
            <a:avLst>
              <a:gd name="adj1" fmla="val -70833"/>
              <a:gd name="adj2" fmla="val -60328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waga: Możemy pomnożyć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acierz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ez B wttw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dy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a tyle kolum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le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wierszy 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(A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) =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w *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k*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124080"/>
            <a:ext cx="4191120" cy="132624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bliczyć   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10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00) B(100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5) C(5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50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   =  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 B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72428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 prawej strony =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00 *5*5 0) + (10*100*50) = 75000 mnożeń skalarn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49528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lewej strony   =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0 *100*5 ) + (10*5*50)= 7500 mnożeń skalarn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419720"/>
            <a:ext cx="304560" cy="533160"/>
          </a:xfrm>
          <a:prstGeom prst="upArrow">
            <a:avLst>
              <a:gd name="adj1" fmla="val 50000"/>
              <a:gd name="adj2" fmla="val 43765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990800">
            <a:off x="3885840" y="4495680"/>
            <a:ext cx="735120" cy="320760"/>
          </a:xfrm>
          <a:prstGeom prst="leftArrow">
            <a:avLst>
              <a:gd name="adj1" fmla="val 50000"/>
              <a:gd name="adj2" fmla="val 57295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329-CD86-4D26-A029-0B4396FA73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osty Algorytm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1676520"/>
            <a:ext cx="53337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ważyć wszystkie możliwe ustawienia nawiasów w ciągu, a potem wykonać mnożenia zgodnie z ustawieniem nawias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 każdym razem wyliczyć koszt mnożenia przy danym ustawieniu nawiasów  i wybrać to ustawienie, które ma koszt najmniejsz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 rot="5400000">
            <a:off x="432000" y="2539080"/>
            <a:ext cx="20685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omysł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8862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A ile jest możliwych ustawień nawiasów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4572000"/>
            <a:ext cx="266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P(n) będzie liczbą ustawień nawiasów w ciągu n elementowy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95680"/>
            <a:ext cx="3124080" cy="49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...,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(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+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,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191120" y="4952880"/>
                <a:ext cx="33526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dy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∗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pp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58000" y="1600200"/>
            <a:ext cx="1905120" cy="1828800"/>
          </a:xfrm>
          <a:prstGeom prst="cloudCallout">
            <a:avLst>
              <a:gd name="adj1" fmla="val -16166"/>
              <a:gd name="adj2" fmla="val 13993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liczb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atalan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4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/n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3/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1828800"/>
            <a:ext cx="3048120" cy="198108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Za duży koszt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0C1-B816-4B10-A727-4544DB431C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aradygmat programowania dynamicznego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1523880"/>
            <a:ext cx="62485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Scharakteryzować  strukturę rozwiązania optymalnego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66688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wiązanie optymalne zawiera w sobie optymalne rozwiązania dla podproblem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5257800"/>
            <a:ext cx="708660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Zdefiniować rekurencyjnie wartość rozwiązania optymalnego, jako funkcję rozwiązań optymalnych dla podproblem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2286000"/>
            <a:ext cx="4114800" cy="2362320"/>
          </a:xfrm>
          <a:prstGeom prst="wedgeRoundRectCallout">
            <a:avLst>
              <a:gd name="adj1" fmla="val -85300"/>
              <a:gd name="adj2" fmla="val 6587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 naszym przykładzie: dla pewnego k, policzymy najpierw optymalne ustawienie nawiasów  dla iloczynu   (A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,..., A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) potem optymalne ustawienie nawiasów dla iloczynu (A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+1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,A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), a potem dodamy do tego koszt mnożenia 2 macierzy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131-A3F1-474C-8B63-C9BCF97BA7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Liczymy minimalny kosz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243080" y="2514600"/>
                <a:ext cx="7053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dy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limLow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lim>
                                  <m:r>
                                    <m:t xml:space="preserve">i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j</m:t>
                                  </m:r>
                                </m:lim>
                              </m:limLow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m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la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j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1066680" y="1523880"/>
            <a:ext cx="754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m[i,j] będzie minimalną liczbą mnożeń skalarnych potrzebnych do policzenia iloczynu (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,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, oraz macierz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a wymiar (p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38862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s[i,j] = k, gdzie k realizuje minimum dla m[i,j]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895480" y="3429000"/>
            <a:ext cx="60984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4800600"/>
            <a:ext cx="48765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ekurencyjny algorytm obliczania m[i,j]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nie jest możliwy do zastosowania, </a:t>
            </a:r>
            <a:br>
              <a:rPr sz="24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o jego koszt jest wykładniczy, ale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4120" y="3352680"/>
            <a:ext cx="3809880" cy="3200400"/>
          </a:xfrm>
          <a:prstGeom prst="irregularSeal2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ecież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ożna zapamiętywać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oliczone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cześniej wartości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[i,j]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46A-1D65-4DD2-8B90-98BFF12A19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MC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1752480"/>
            <a:ext cx="6019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i :=1 to n do  m[i,i] :=0;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x := 2 to n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for i := 1 to n-x+1 do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j := i+x-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m[i,j] := +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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for k := i to j-1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q := m[i,k]+m[k+1,j]  +  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if q &lt; m[i,j] then m[i,j] := q; s[i,j] :=k  fi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eturn m,s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 O(n</a:t>
            </a:r>
            <a:r>
              <a:rPr b="1" lang="pl-PL" sz="2800" spc="-1" strike="noStrike" baseline="30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447920"/>
            <a:ext cx="2514600" cy="990360"/>
          </a:xfrm>
          <a:prstGeom prst="wedgeRoundRectCallout">
            <a:avLst>
              <a:gd name="adj1" fmla="val -98106"/>
              <a:gd name="adj2" fmla="val -2722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Ustawienie początkowej wartości elementów tablicy m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2666880"/>
            <a:ext cx="4572000" cy="762120"/>
          </a:xfrm>
          <a:prstGeom prst="wedgeRoundRectCallout">
            <a:avLst>
              <a:gd name="adj1" fmla="val -63439"/>
              <a:gd name="adj2" fmla="val -9145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Dwie pętle odpowiedzialne za wypełnienie wszystkich elementów  m[i,j]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4343400"/>
            <a:ext cx="1752480" cy="609480"/>
          </a:xfrm>
          <a:prstGeom prst="wedgeRoundRectCallout">
            <a:avLst>
              <a:gd name="adj1" fmla="val -36412"/>
              <a:gd name="adj2" fmla="val -89583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yszukiwanie minimum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CE7-A509-472B-BE40-F2AFA69804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(n=6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143000" y="2209680"/>
            <a:ext cx="3809880" cy="2286000"/>
            <a:chOff x="1143000" y="2209680"/>
            <a:chExt cx="3809880" cy="2286000"/>
          </a:xfrm>
        </p:grpSpPr>
        <p:sp>
          <p:nvSpPr>
            <p:cNvPr id="314" name=""/>
            <p:cNvSpPr/>
            <p:nvPr/>
          </p:nvSpPr>
          <p:spPr>
            <a:xfrm>
              <a:off x="2743200" y="2361960"/>
              <a:ext cx="609480" cy="60984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1512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7760" y="266688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10500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52680" y="297180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537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57600" y="3276360"/>
              <a:ext cx="609480" cy="60984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50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160" y="358128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5000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67080" y="388620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38280" y="266688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1187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43200" y="297180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712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7760" y="3276360"/>
              <a:ext cx="609840" cy="60984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2500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58128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1000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57600" y="388620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360" y="297180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937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38280" y="3276360"/>
              <a:ext cx="609480" cy="60984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437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358128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750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7760" y="388620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8800" y="3276360"/>
              <a:ext cx="609480" cy="60984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7875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3360" y="358128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2625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38280" y="388620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23880" y="358128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15750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28800" y="388620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18960" y="388620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2209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9000" y="2514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33560" y="2819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38480" y="3124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34290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47960" y="37335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43000" y="37335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7560" y="3429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52480" y="3124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57400" y="28191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1960" y="2514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2209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143000" y="4495680"/>
            <a:ext cx="44197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3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4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5 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5257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blica 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88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blica 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952880" y="3886200"/>
            <a:ext cx="3505320" cy="1980720"/>
            <a:chOff x="4952880" y="3886200"/>
            <a:chExt cx="3505320" cy="1980720"/>
          </a:xfrm>
        </p:grpSpPr>
        <p:sp>
          <p:nvSpPr>
            <p:cNvPr id="351" name=""/>
            <p:cNvSpPr/>
            <p:nvPr/>
          </p:nvSpPr>
          <p:spPr>
            <a:xfrm>
              <a:off x="6248160" y="4038480"/>
              <a:ext cx="60984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53080" y="434304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0" y="4647960"/>
              <a:ext cx="60948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560" y="4952880"/>
              <a:ext cx="60984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67480" y="525744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3600" y="434304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160" y="4647960"/>
              <a:ext cx="60984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53080" y="4952880"/>
              <a:ext cx="60948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0" y="525744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647960"/>
              <a:ext cx="60948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952880"/>
              <a:ext cx="60948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160" y="5257440"/>
              <a:ext cx="60984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3760" y="4952880"/>
              <a:ext cx="609840" cy="60912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525744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29200" y="5257440"/>
              <a:ext cx="609480" cy="609480"/>
            </a:xfrm>
            <a:prstGeom prst="diamond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9400" y="3886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33960" y="4190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88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43800" y="4800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48360" y="5105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3280" y="5410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5105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57800" y="4800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2360" y="449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67280" y="4190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72200" y="3886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34120" y="2133720"/>
            <a:ext cx="350496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[2,5]=  min 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[2,2] + m[3,5] + 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[2,3] + m[4,5] + 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[2,4] + m[5,5] + 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5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133720" y="2971800"/>
            <a:ext cx="990360" cy="990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200400" y="3048120"/>
            <a:ext cx="838080" cy="838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144792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30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5)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35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5)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5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5)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5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0)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0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20)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6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0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25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BAF-ADCB-43AE-8671-582D9D0EAA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 jakiej kolejności mnożyć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676520"/>
            <a:ext cx="655344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sada 3 paradygmatu programowania dynamicznego: Skonstruować rozwiązanie problemu na bazie wyliczonych wielkośc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2971800"/>
            <a:ext cx="5257800" cy="3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nóż(A,s,i,j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If j&gt;i th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:= mnóż(A,s,i,s[i,j]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Y:= mnóż(A,s,s[i,j]+1, j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return wynik mnożenia macierzy (X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return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 rot="5400000">
            <a:off x="113760" y="40003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lgoryt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2895480"/>
            <a:ext cx="365760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naszym przykładzie :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nóż (A,s,1,6) daje 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(A</a:t>
            </a:r>
            <a:r>
              <a:rPr b="1" lang="pl-PL" sz="2400" spc="-1" strike="noStrike" baseline="-25000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(A</a:t>
            </a:r>
            <a:r>
              <a:rPr b="1" lang="pl-PL" sz="2400" spc="-1" strike="noStrike" baseline="-25000">
                <a:solidFill>
                  <a:srgbClr val="ff6600"/>
                </a:solidFill>
                <a:latin typeface="Times New Roman"/>
              </a:rPr>
              <a:t>2 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pl-PL" sz="24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))((A</a:t>
            </a:r>
            <a:r>
              <a:rPr b="1" lang="pl-PL" sz="2400" spc="-1" strike="noStrike" baseline="-25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pl-PL" sz="24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) A</a:t>
            </a:r>
            <a:r>
              <a:rPr b="1" lang="pl-PL" sz="2400" spc="-1" strike="noStrike" baseline="-25000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84B-E282-46C8-936C-90D9AE4FAB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ajdłuższy wspólny podciąg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1600200"/>
            <a:ext cx="67820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 są dwa ciągi znaków X i 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=(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…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Y = (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…,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taki ciąg Z=(z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…z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, że Z jest najdłuższym podciągiem zarówno ciągu X jak i Y, ozn. Z = nwp(X,Y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4648320"/>
            <a:ext cx="281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= aawbbsccpddólnvby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 = xxwsyyypózzlins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wp(X,Y) = wspól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 rot="5400000">
            <a:off x="418320" y="224784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038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3505320"/>
            <a:ext cx="4191120" cy="238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generować wszystkie podciągi ciągu X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każdego z tych ciągów sprawdzić czy występuje w Y, zapamiętując jednocześnie najdłuższy z takich ciągów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 rot="5400000">
            <a:off x="6421680" y="3597840"/>
            <a:ext cx="47959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lgorytm naiwn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3124080"/>
            <a:ext cx="3048120" cy="297180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Ale 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to zbyt dużo 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kosztuje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O(2</a:t>
            </a:r>
            <a:r>
              <a:rPr b="1" lang="pl-PL" sz="2000" spc="-1" strike="noStrike" baseline="30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649-F7E9-469D-BC05-C231727F85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naliza zad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1676520"/>
            <a:ext cx="624816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Niech X= (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…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) Y= (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…,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) oraz 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nwp(X,Y) = Z , gdzie Z= (z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…z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)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Jeżeli 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= 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 wtedy z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c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=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=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oraz  Z 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k-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= nwp(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-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 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)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Jeżeli 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 wtedy     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Z = nwp(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-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,Y),  gdy   z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x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m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oraz 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Z = nwp(X,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), gdy     z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y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48320" y="1066680"/>
            <a:ext cx="3733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znaczenie:   X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(x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,…x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 rot="5400000">
            <a:off x="-95040" y="2838240"/>
            <a:ext cx="29718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wierdze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4952880"/>
            <a:ext cx="1828800" cy="8254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brakadabrabaraku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 rot="5400000">
            <a:off x="7467480" y="457164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4952880"/>
            <a:ext cx="1828800" cy="8254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brakadabrbaraku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952880"/>
            <a:ext cx="1447920" cy="8254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brakad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araku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791320"/>
            <a:ext cx="4572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14800" y="5791320"/>
            <a:ext cx="4348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952880"/>
            <a:ext cx="1143000" cy="8254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brakabarak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5181480"/>
            <a:ext cx="5331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t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5791320"/>
            <a:ext cx="4348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58A-9F3E-4E6F-A460-7512C06A62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2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676520"/>
            <a:ext cx="5943600" cy="390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unction nwp(X,Y :string) : string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egi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if  x(m)=y(n) then Z := nwp(X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, Y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o x(m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1 := nwp(X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Y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2 := nwp(X,Y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 := dluższy z ciągów Z1 i Z2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i  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324480" y="1752480"/>
            <a:ext cx="106704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1520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nkatenac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487692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Koszt tego algorytmu będzie w najgorszym razie wykładnicz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A54-00D5-43ED-B924-228C77E4C6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dy Huffma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nożenie macierz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jdłuższy wspólny podciąg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FE1-DA32-4ED5-862F-FDCC809079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wyliczyć długość nwp(X,Y)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81080" y="137160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6633"/>
                </a:solidFill>
                <a:latin typeface="Times New Roman"/>
              </a:rPr>
              <a:t>długość najdłuższego wspólnego podciągu  ciągów X,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1905120"/>
            <a:ext cx="6629400" cy="134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(X,Y) = d( X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,Y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) +1,         gdy 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(X,Y) = max (d(X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,Y),d(X ,Y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),    gdy 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267080"/>
            <a:ext cx="3429000" cy="131364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obliczenia d(X,Y) wynos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card(X) * card(Y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równań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219320" y="3124080"/>
            <a:ext cx="3352680" cy="2905560"/>
            <a:chOff x="1219320" y="3124080"/>
            <a:chExt cx="3352680" cy="2905560"/>
          </a:xfrm>
        </p:grpSpPr>
        <p:sp>
          <p:nvSpPr>
            <p:cNvPr id="417" name=""/>
            <p:cNvSpPr/>
            <p:nvPr/>
          </p:nvSpPr>
          <p:spPr>
            <a:xfrm>
              <a:off x="1219320" y="3124080"/>
              <a:ext cx="3352680" cy="2905560"/>
            </a:xfrm>
            <a:prstGeom prst="rect">
              <a:avLst/>
            </a:prstGeom>
            <a:noFill/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ff6600"/>
                  </a:solidFill>
                  <a:latin typeface="Times New Roman"/>
                </a:rPr>
                <a:t>Przykła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  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  2   3  4   5   6 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   B  D  C  A  B  A 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A   0  0   0   1   1   2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 B   1   1   1   1   2   2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 C   1   1   2   2   2   2</a:t>
              </a:r>
              <a:br>
                <a:rPr sz="2400"/>
              </a:b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09680" y="3733920"/>
              <a:ext cx="0" cy="1828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90920" y="3733920"/>
              <a:ext cx="0" cy="1828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71800" y="3733920"/>
              <a:ext cx="0" cy="1828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2680" y="3733920"/>
              <a:ext cx="0" cy="1828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3920" y="3733920"/>
              <a:ext cx="0" cy="1828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28800" y="3733920"/>
              <a:ext cx="0" cy="1828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5280" y="4876920"/>
              <a:ext cx="2895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95280" y="5257800"/>
              <a:ext cx="2895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95280" y="4495680"/>
              <a:ext cx="2895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 flipH="1">
            <a:off x="1828440" y="1676520"/>
            <a:ext cx="22860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365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0" y="4572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952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4952880"/>
            <a:ext cx="304920" cy="228600"/>
          </a:xfrm>
          <a:prstGeom prst="ellipse">
            <a:avLst/>
          </a:prstGeom>
          <a:solidFill>
            <a:srgbClr val="69d45e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766-F7F3-4513-92FF-CD0E89205B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1295280"/>
            <a:ext cx="4190760" cy="463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for i :=1 to m do d(i,0):=0 od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for j :=0 to n do d(0,j) := 0 od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for i :=1 to m do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for j :=1 to n do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if x(i)=y(j) then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d(i,j) := d(i-1,j-1) +1; b(i,j) := „\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lse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if d(i-1,j)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d(i,j-1) then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d(i,j) := d(i-1,j); b(i,j) := „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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”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else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d(i,j) := d(i,j-1); b(i,j) := „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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f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f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d od en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1447920"/>
            <a:ext cx="29718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 przekątnej zadanie, które trzeba rozwiązać,żeby otrzymać optymalny wynik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2971800"/>
            <a:ext cx="312444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„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 górę” zadanie, które trzeba rozwiązać, żeby otrzymać optymalny wyni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4800600"/>
            <a:ext cx="29718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„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 lewo” zadanie, które trzeba rozwiązać, żeby otrzymać optymalny wyni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8259200">
            <a:off x="4008240" y="2424960"/>
            <a:ext cx="1714680" cy="158760"/>
          </a:xfrm>
          <a:prstGeom prst="leftArrow">
            <a:avLst>
              <a:gd name="adj1" fmla="val 50000"/>
              <a:gd name="adj2" fmla="val 27001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9468200">
            <a:off x="4289040" y="3814560"/>
            <a:ext cx="1235160" cy="136440"/>
          </a:xfrm>
          <a:prstGeom prst="leftArrow">
            <a:avLst>
              <a:gd name="adj1" fmla="val 50000"/>
              <a:gd name="adj2" fmla="val 22631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848400">
            <a:off x="4495320" y="5105520"/>
            <a:ext cx="1235160" cy="136440"/>
          </a:xfrm>
          <a:prstGeom prst="leftArrow">
            <a:avLst>
              <a:gd name="adj1" fmla="val 50000"/>
              <a:gd name="adj2" fmla="val 22631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F4B-2A41-4BE1-A1A9-B5B5C0DE79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ypisanie nwp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447920"/>
            <a:ext cx="3886200" cy="452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e Drukuj(b,i,j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egi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if i=0 or j=0 then return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if b(i,j) = „\”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all drukuj(b,i-1,j-1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rite(x(i)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b(i,j) = „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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”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all  drukuj(b,i-1,j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all drukuj (b,i,j-1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f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952880" y="1600200"/>
            <a:ext cx="3657600" cy="4343400"/>
            <a:chOff x="4952880" y="1600200"/>
            <a:chExt cx="3657600" cy="4343400"/>
          </a:xfrm>
        </p:grpSpPr>
        <p:sp>
          <p:nvSpPr>
            <p:cNvPr id="443" name=""/>
            <p:cNvSpPr/>
            <p:nvPr/>
          </p:nvSpPr>
          <p:spPr>
            <a:xfrm>
              <a:off x="4952880" y="1600200"/>
              <a:ext cx="3657600" cy="4307760"/>
            </a:xfrm>
            <a:prstGeom prst="rect">
              <a:avLst/>
            </a:prstGeom>
            <a:noFill/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rzykła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(i,j)    1   2   3  4   5   6 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        B  D  C  A  B  A 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        0   0   0   0   0   0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A   0  0   0   0   1   1   2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  B  0   1   1   1   1   2   2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  C  0   1   1   2   2   2   2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  B  0   1   1   2   2   3   3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  D  0   1   2   2   2   3   3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  A  0   2   2   3   3   4   4</a:t>
              </a:r>
              <a:br>
                <a:rPr sz="2400"/>
              </a:b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  B  0   1   2  2   3    4   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2880" y="3353040"/>
              <a:ext cx="3276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52880" y="3733920"/>
              <a:ext cx="3311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2971800"/>
              <a:ext cx="2286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560" y="2362320"/>
              <a:ext cx="0" cy="3505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48360" y="2362320"/>
              <a:ext cx="0" cy="3505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67480" y="2438640"/>
              <a:ext cx="0" cy="3504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86600" y="2438640"/>
              <a:ext cx="0" cy="3504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360" y="2438640"/>
              <a:ext cx="0" cy="3504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24480" y="2286000"/>
              <a:ext cx="0" cy="3505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2362320"/>
              <a:ext cx="0" cy="3505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38680" y="3353040"/>
              <a:ext cx="0" cy="2514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2880" y="4038840"/>
              <a:ext cx="3352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52880" y="4419720"/>
              <a:ext cx="3352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2880" y="4800600"/>
              <a:ext cx="3352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5181840"/>
              <a:ext cx="3352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2880" y="5562720"/>
              <a:ext cx="3352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924680" y="5562720"/>
            <a:ext cx="3049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24680" y="5181480"/>
            <a:ext cx="304920" cy="381240"/>
          </a:xfrm>
          <a:prstGeom prst="rect">
            <a:avLst/>
          </a:prstGeom>
          <a:solidFill>
            <a:srgbClr val="69d45e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4800600"/>
            <a:ext cx="3049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43800" y="4419720"/>
            <a:ext cx="304920" cy="380880"/>
          </a:xfrm>
          <a:prstGeom prst="rect">
            <a:avLst/>
          </a:prstGeom>
          <a:solidFill>
            <a:srgbClr val="69d45e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62920" y="4038480"/>
            <a:ext cx="30456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038480"/>
            <a:ext cx="304920" cy="381240"/>
          </a:xfrm>
          <a:prstGeom prst="rect">
            <a:avLst/>
          </a:prstGeom>
          <a:solidFill>
            <a:srgbClr val="69d45e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3657600"/>
            <a:ext cx="3049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43600" y="3657600"/>
            <a:ext cx="304920" cy="380880"/>
          </a:xfrm>
          <a:prstGeom prst="rect">
            <a:avLst/>
          </a:prstGeom>
          <a:solidFill>
            <a:srgbClr val="69d45e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38680" y="3352680"/>
            <a:ext cx="30492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CDD-4CCF-4303-AA00-8564D57DC0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oblem kodow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600200"/>
            <a:ext cx="731520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ciąg znaków. Chcemy tak zapisać ten ciąg w taki sposób,  by zajmował jak najmniej miejsca i by dało się go potem  łatwo odtworzyć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048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k = liczba 0-255, czyli 8 bitó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200400"/>
            <a:ext cx="1828800" cy="3808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00 000 znaków zajmuje 800 000 bit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343400"/>
            <a:ext cx="3962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śli w naszych danych występuje tylko 6 różnych znaków, to 3 bity wystarczą do ich zakodowania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p.: 000,001,010,011,100,10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572000"/>
            <a:ext cx="1828800" cy="38088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426708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00 000 znaków zajmuje 300 000 bit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8AA-7D3A-4E69-AF7A-53D0A4CF56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dy stałej i zmiennej długośc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676520"/>
            <a:ext cx="3048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dy o stałej długości -- wszystkie słowa kodowe mają tę samą długość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3200400" cy="161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dy o zmiennej długości  -- długość słowa kodowego zależy od częstości występowania danego znaku w ciągu danyc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8640" y="2362320"/>
            <a:ext cx="1676520" cy="7617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0481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ki występujące często powinny mieć kod możliwie krótk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267080"/>
            <a:ext cx="4876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będzie tekst 100000 znakowy, w którym występują tylko litery a,b,c,d,e,f 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-45tys razy, b-13tys., c-12tys.,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-16tys., e - 9tys., f-5tys. raz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9625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żywając kodu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= 0, b= 101, c= 100, d=111, e=1101, f=1100 nasz tekst można zakodować na 224000bitac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809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952880"/>
            <a:ext cx="1447920" cy="53352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0F4-9C9D-48A2-9B31-C8176765DE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dy prefiksow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362320"/>
            <a:ext cx="411480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Żadne słowo kodowe nie jest prefiksem żadnego innego słowa kodoweg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ZAS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523880"/>
            <a:ext cx="3124080" cy="1752840"/>
          </a:xfrm>
          <a:prstGeom prst="wedgeRoundRectCallout">
            <a:avLst>
              <a:gd name="adj1" fmla="val -82620"/>
              <a:gd name="adj2" fmla="val -779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zn. nie istnieją takie dwa słowa a i b, a=(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,  b=(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,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n&lt;m , że dla pewnego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,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962520"/>
            <a:ext cx="3124080" cy="1295280"/>
          </a:xfrm>
          <a:prstGeom prst="wedgeRoundRectCallout">
            <a:avLst>
              <a:gd name="adj1" fmla="val 18750"/>
              <a:gd name="adj2" fmla="val -107967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hodzi o to by można było jednoznacznie odczytać zakodowany tekst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809880"/>
            <a:ext cx="327636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Twierdzeni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Jeśli istnieje optymalne kodowanie, to zawsze można znaleźć kod prefiksowy, który go realizuj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089-A2EB-470E-932A-374EA3EC4B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o kodowe (1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8288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1148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:4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19320" y="1676520"/>
            <a:ext cx="4114800" cy="2819160"/>
            <a:chOff x="1219320" y="1676520"/>
            <a:chExt cx="4114800" cy="2819160"/>
          </a:xfrm>
        </p:grpSpPr>
        <p:sp>
          <p:nvSpPr>
            <p:cNvPr id="121" name=""/>
            <p:cNvSpPr/>
            <p:nvPr/>
          </p:nvSpPr>
          <p:spPr>
            <a:xfrm>
              <a:off x="3124080" y="167652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5120" y="236232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8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236232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2004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32004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480" y="320040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1148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:1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41148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: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411480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: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411480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: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5680" y="411480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: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514600" y="1981080"/>
              <a:ext cx="9144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1981080"/>
              <a:ext cx="9907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99840" y="2666880"/>
              <a:ext cx="60948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2666880"/>
              <a:ext cx="53352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19320" y="3505320"/>
              <a:ext cx="38088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3505320"/>
              <a:ext cx="30492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438280" y="3429000"/>
              <a:ext cx="45720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38124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886200" y="3505320"/>
              <a:ext cx="4572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3505320"/>
              <a:ext cx="4572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19720" y="2666880"/>
              <a:ext cx="30456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600200" y="5029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d stałej długośc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16765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ażda ścieżka odpowiada jednemu słowu kodowem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266688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lewo = 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prawo = 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1905120"/>
            <a:ext cx="990360" cy="457200"/>
          </a:xfrm>
          <a:prstGeom prst="line">
            <a:avLst/>
          </a:prstGeom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505320"/>
            <a:ext cx="457200" cy="685800"/>
          </a:xfrm>
          <a:prstGeom prst="line">
            <a:avLst/>
          </a:prstGeom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572000" y="2590560"/>
            <a:ext cx="304920" cy="685800"/>
          </a:xfrm>
          <a:prstGeom prst="line">
            <a:avLst/>
          </a:prstGeom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F ma kod 10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038120" y="4495680"/>
            <a:ext cx="685800" cy="10670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5257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k + częstość występowan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2EF-EB87-4162-A82D-FDBAFE1076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o kodowe(2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5638680"/>
            <a:ext cx="2971800" cy="398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d zmiennej długośc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23880" y="1600200"/>
            <a:ext cx="5029200" cy="3733560"/>
            <a:chOff x="1523880" y="1600200"/>
            <a:chExt cx="5029200" cy="3733560"/>
          </a:xfrm>
        </p:grpSpPr>
        <p:sp>
          <p:nvSpPr>
            <p:cNvPr id="155" name=""/>
            <p:cNvSpPr/>
            <p:nvPr/>
          </p:nvSpPr>
          <p:spPr>
            <a:xfrm>
              <a:off x="2742840" y="160020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2860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:4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289548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360" y="29718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1640" y="396216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2840" y="388620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: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560" y="38862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:1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4640" y="3962160"/>
              <a:ext cx="838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: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440" y="495288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: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8840" y="495288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: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3360" y="1904760"/>
              <a:ext cx="9144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76360" y="1904760"/>
              <a:ext cx="9907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7960" y="2590560"/>
              <a:ext cx="6858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733560" y="2590560"/>
              <a:ext cx="5335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560" y="3200400"/>
              <a:ext cx="30492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4080" y="3276360"/>
              <a:ext cx="38088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360" y="3276360"/>
              <a:ext cx="53352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19360" y="4343400"/>
              <a:ext cx="4572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4343400"/>
              <a:ext cx="4572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028480" y="3276360"/>
              <a:ext cx="38124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480" y="22860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638680" y="1523880"/>
            <a:ext cx="304812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ptymalny kod zawsze jest reprezentowany przez lokalnie pełne drzewo binarn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8862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iąg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0100110110101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12408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   0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   101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   100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  111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   1101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   1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dczytujemy jako:ACEBA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009-9979-443C-BD6B-9768CD9050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nstrukcja kodu Huffman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67652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Utworzyć kolejkę priorytetową PQ zawierającą wszystkie znaki alfabetu wraz z ich częstością występowan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315200" y="3200400"/>
            <a:ext cx="1295280" cy="533520"/>
            <a:chOff x="7315200" y="3200400"/>
            <a:chExt cx="1295280" cy="533520"/>
          </a:xfrm>
        </p:grpSpPr>
        <p:sp>
          <p:nvSpPr>
            <p:cNvPr id="183" name=""/>
            <p:cNvSpPr/>
            <p:nvPr/>
          </p:nvSpPr>
          <p:spPr>
            <a:xfrm>
              <a:off x="7315200" y="3200400"/>
              <a:ext cx="129528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5200" y="3505320"/>
              <a:ext cx="68544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lew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00640" y="3505320"/>
              <a:ext cx="60948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praw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858000" y="1981080"/>
            <a:ext cx="129528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k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743200"/>
            <a:ext cx="4800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  For i :=1 to n-1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a := min(PQ); PQ := delmin(P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b := min(PQ); PQ := delmin(PQ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 := New node (a,b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z.f  := a.f +  b.f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PQ := insert(PQ, z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return min (PQ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83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liś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29400" y="3580920"/>
            <a:ext cx="6094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162560" y="1447920"/>
            <a:ext cx="60948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3886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Wierzchołek wewnętrzn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5181480"/>
            <a:ext cx="2666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</a:t>
            </a:r>
            <a:r>
              <a:rPr b="1" i="1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O(n lg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Algorytm zachłann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7F1-20D5-4C93-9ED0-E6D2E2A641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5334120"/>
            <a:ext cx="5791320" cy="380880"/>
            <a:chOff x="1371600" y="5334120"/>
            <a:chExt cx="5791320" cy="380880"/>
          </a:xfrm>
        </p:grpSpPr>
        <p:sp>
          <p:nvSpPr>
            <p:cNvPr id="196" name=""/>
            <p:cNvSpPr/>
            <p:nvPr/>
          </p:nvSpPr>
          <p:spPr>
            <a:xfrm>
              <a:off x="6324480" y="5334120"/>
              <a:ext cx="83844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:4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76720" y="53341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: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43400" y="53341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:1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4120" y="53341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: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71600" y="53341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: 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53341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: 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28800" y="4267080"/>
            <a:ext cx="914400" cy="1143000"/>
            <a:chOff x="1828800" y="4267080"/>
            <a:chExt cx="914400" cy="1143000"/>
          </a:xfrm>
        </p:grpSpPr>
        <p:sp>
          <p:nvSpPr>
            <p:cNvPr id="203" name=""/>
            <p:cNvSpPr/>
            <p:nvPr/>
          </p:nvSpPr>
          <p:spPr>
            <a:xfrm>
              <a:off x="1905120" y="4267080"/>
              <a:ext cx="838080" cy="3812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28800" y="4648320"/>
              <a:ext cx="4572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4648320"/>
              <a:ext cx="4572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43000" y="3809880"/>
            <a:ext cx="6858000" cy="221004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00200" y="4191120"/>
            <a:ext cx="5943600" cy="1447200"/>
            <a:chOff x="1600200" y="4191120"/>
            <a:chExt cx="5943600" cy="1447200"/>
          </a:xfrm>
        </p:grpSpPr>
        <p:sp>
          <p:nvSpPr>
            <p:cNvPr id="208" name=""/>
            <p:cNvSpPr/>
            <p:nvPr/>
          </p:nvSpPr>
          <p:spPr>
            <a:xfrm>
              <a:off x="6705360" y="4191120"/>
              <a:ext cx="838440" cy="38052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:4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4191120"/>
              <a:ext cx="838080" cy="38052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: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9160" y="4191120"/>
              <a:ext cx="838440" cy="38052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:1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6400" y="4191120"/>
              <a:ext cx="838080" cy="38052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: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57600" y="525744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: 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7960" y="5257440"/>
              <a:ext cx="83844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: 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0760" y="4191120"/>
              <a:ext cx="838440" cy="38052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114800" y="4571640"/>
              <a:ext cx="4572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571640"/>
              <a:ext cx="457200" cy="685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828440" y="3124080"/>
            <a:ext cx="1371960" cy="1067040"/>
            <a:chOff x="1828440" y="3124080"/>
            <a:chExt cx="1371960" cy="1067040"/>
          </a:xfrm>
        </p:grpSpPr>
        <p:sp>
          <p:nvSpPr>
            <p:cNvPr id="218" name=""/>
            <p:cNvSpPr/>
            <p:nvPr/>
          </p:nvSpPr>
          <p:spPr>
            <a:xfrm>
              <a:off x="2133720" y="3124080"/>
              <a:ext cx="838080" cy="3812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828440" y="35053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4600" y="35053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990720" y="2438280"/>
            <a:ext cx="6933960" cy="35053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47920" y="4419720"/>
            <a:ext cx="5790960" cy="1447560"/>
            <a:chOff x="1447920" y="4419720"/>
            <a:chExt cx="5790960" cy="1447560"/>
          </a:xfrm>
        </p:grpSpPr>
        <p:sp>
          <p:nvSpPr>
            <p:cNvPr id="223" name=""/>
            <p:cNvSpPr/>
            <p:nvPr/>
          </p:nvSpPr>
          <p:spPr>
            <a:xfrm>
              <a:off x="6400800" y="44197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:4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5486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: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5486400"/>
              <a:ext cx="83844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:1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05320" y="44197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: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7920" y="5486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: 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38280" y="5486400"/>
              <a:ext cx="83844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: 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81080" y="4419720"/>
              <a:ext cx="83844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905120" y="4800600"/>
              <a:ext cx="4572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2320" y="4800600"/>
              <a:ext cx="4572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76920" y="44197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571640" y="480060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7800" y="480060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2362320" y="3505320"/>
            <a:ext cx="68580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048120" y="3505320"/>
            <a:ext cx="83808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3124080"/>
            <a:ext cx="838440" cy="3812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2286000"/>
            <a:ext cx="6781680" cy="3733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43000" y="3200400"/>
            <a:ext cx="6400800" cy="2666880"/>
            <a:chOff x="1143000" y="3200400"/>
            <a:chExt cx="6400800" cy="2666880"/>
          </a:xfrm>
        </p:grpSpPr>
        <p:sp>
          <p:nvSpPr>
            <p:cNvPr id="240" name=""/>
            <p:cNvSpPr/>
            <p:nvPr/>
          </p:nvSpPr>
          <p:spPr>
            <a:xfrm>
              <a:off x="6705720" y="3200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:4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3000" y="4343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: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62320" y="4343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:1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57800" y="44197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: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5486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: 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548640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: 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657600" y="4419720"/>
              <a:ext cx="914400" cy="1143000"/>
              <a:chOff x="3657600" y="4419720"/>
              <a:chExt cx="914400" cy="1143000"/>
            </a:xfrm>
          </p:grpSpPr>
          <p:sp>
            <p:nvSpPr>
              <p:cNvPr id="247" name=""/>
              <p:cNvSpPr/>
              <p:nvPr/>
            </p:nvSpPr>
            <p:spPr>
              <a:xfrm>
                <a:off x="3733560" y="4419720"/>
                <a:ext cx="838440" cy="380880"/>
              </a:xfrm>
              <a:prstGeom prst="rect">
                <a:avLst/>
              </a:prstGeom>
              <a:solidFill>
                <a:srgbClr val="ce99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657600" y="4800600"/>
                <a:ext cx="457200" cy="762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14800" y="4800600"/>
                <a:ext cx="457200" cy="6858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32767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523520" y="365760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365760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267080" y="3657240"/>
              <a:ext cx="60984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52880" y="3657600"/>
              <a:ext cx="60984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3276720"/>
              <a:ext cx="838080" cy="38088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62320" y="2437920"/>
            <a:ext cx="1143000" cy="8384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438280"/>
            <a:ext cx="1295280" cy="8384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2057400"/>
            <a:ext cx="838080" cy="3808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3200400"/>
            <a:ext cx="838080" cy="3808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057400"/>
            <a:ext cx="838080" cy="3808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:4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523880" y="1600200"/>
            <a:ext cx="99072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590560" y="1600200"/>
            <a:ext cx="106668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1295280"/>
            <a:ext cx="838440" cy="3812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 rot="5400000">
            <a:off x="5867280" y="2971800"/>
            <a:ext cx="380988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Konstrukcja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kodu Huffma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1523880"/>
            <a:ext cx="3886200" cy="3736440"/>
            <a:chOff x="1676520" y="1523880"/>
            <a:chExt cx="3886200" cy="3736440"/>
          </a:xfrm>
        </p:grpSpPr>
        <p:sp>
          <p:nvSpPr>
            <p:cNvPr id="266" name=""/>
            <p:cNvSpPr/>
            <p:nvPr/>
          </p:nvSpPr>
          <p:spPr>
            <a:xfrm>
              <a:off x="167652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7672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972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55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320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34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5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864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76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9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2  Progamowanie dynamicz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A5E-E1ED-433E-8EF3-A8F006D985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zerwiec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20:28:58Z</dcterms:created>
  <dc:creator>andrzej</dc:creator>
  <dc:description/>
  <dc:language>en-US</dc:language>
  <cp:lastModifiedBy>mirkowska</cp:lastModifiedBy>
  <cp:lastPrinted>2002-04-28T19:50:06Z</cp:lastPrinted>
  <dcterms:modified xsi:type="dcterms:W3CDTF">2003-06-02T12:02:36Z</dcterms:modified>
  <cp:revision>38</cp:revision>
  <dc:subject>Drzewa</dc:subject>
  <dc:title>ALGORYTMY I STRUKTURY  DANYCH</dc:title>
</cp:coreProperties>
</file>