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B8E3-0565-40CA-A807-691613AE0D6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spomnij o różnych wersjach tego algorytm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p.. bez pomocniczych tablic ale z zamianami , z innym ustawieniem par, np.:pierwszy-ostatni i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u również znajduje zastosowanie zasada podziału zadania na podzadania: metoda „dziel i zwyciężaj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ak już się przekonaliśmy metoda ta często pozwala wykonać zadanie szybciej, z mniejszym kosztem, niż inne metody. W podanym rozwiązaniu, dany ciąg e jest informacja zewnętrzną. Funkcja, którą opiszemy zwraca w wyniku dwie wartości przechowywane w obiekcie obiekt. Oczywiście klasa obiekt musi być zdefiniowana w programie, który będzie wykorzystywał funkcję min-max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79F-FADA-4AD5-BF80-33571142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98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F1D-27E6-43DC-936F-838EB6C6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124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709-72DF-4C04-BCFC-CB70C182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428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193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428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193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79E-1954-46FD-AF1A-5EFE45F6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8A37-EA17-4BF2-A29A-5C974ACD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D1EB-7ADF-45F3-9180-664D293E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D921-B7C0-4C0B-A163-2FF32595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0AFD-238E-4198-A8A3-1233A079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2590-8A8F-4F87-9605-08979C11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5874-C466-4243-9197-F22C8930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9170-1ECE-4D7C-9634-4507DA5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198-20A9-437F-91AF-DF2BB5BD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B135-87C4-493E-80A3-4B9043FF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D18A-3CEF-4F69-AF31-47CEC25F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7998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BFE8-33C5-4550-949E-2523A32B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8936-587A-4A36-858B-467BAE55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64A9-8948-456D-BED2-559BF624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8CC-6BB0-4ADB-BAAF-C28D463D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474-18E9-430B-A339-A8A9D0B3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FBA-CA42-454D-B95D-864719CA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D0E-5E01-478C-AF49-F830DCB1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6DC-B00A-4046-952B-749A711F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1240" y="37998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E0A-6C9C-4737-9095-72BB34C7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371600"/>
            <a:ext cx="3718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9800"/>
            <a:ext cx="7620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EA1-6BD9-435B-AF69-9B82B57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AC9C-8856-40AD-925D-7AA42CD2C80D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90720" y="1219320"/>
            <a:ext cx="761976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8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404D-7809-4B70-892A-57A3F04DD85E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WYKŁAD 03  Minimum i maksimum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08366"/>
                </a:solidFill>
                <a:latin typeface="Times New Roman"/>
              </a:rPr>
              <a:t>PJWSTK, II rok semestr letni 2003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prawność min-max 4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447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wp = {(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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m) n = 2 </a:t>
            </a:r>
            <a:r>
              <a:rPr b="1" lang="pl-PL" sz="2400" spc="-1" strike="noStrike" baseline="30000">
                <a:solidFill>
                  <a:srgbClr val="402000"/>
                </a:solidFill>
                <a:latin typeface="Times New Roman"/>
              </a:rPr>
              <a:t>m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, e[i]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&lt;E,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&gt; dla i=1,...n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wk = {(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i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n) e[min]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e[i] , (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i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n) e[i]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e[max]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666880"/>
            <a:ext cx="5867280" cy="3035160"/>
          </a:xfrm>
          <a:prstGeom prst="rect">
            <a:avLst/>
          </a:prstGeom>
          <a:noFill/>
          <a:ln w="12708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Jeżeli spełniony jest warunek początkowy wp , to po wykonaniu następujących instrukcji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{wynik := min_max4(1,n);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            min := wynik.min;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            max := wynik.max;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spełniony będzie warunek końcowy wk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 rot="5400000">
            <a:off x="-248040" y="3753000"/>
            <a:ext cx="3429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wierdzen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599-0810-4842-9B36-0AAD7EA680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zy algorytm min-max4 zatrzymuje się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1447920"/>
            <a:ext cx="586728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 każdym wywołaniu funkcji min_max4(i,j) parametry aktualne i, j spełniają warunek  j-i+1 =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la pewnego k, 1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k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26668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la pierwszego wywołania  własność jest oczywiście spełnion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7800" y="2514600"/>
            <a:ext cx="1600200" cy="457200"/>
          </a:xfrm>
          <a:prstGeom prst="wedgeRoundRectCallout">
            <a:avLst>
              <a:gd name="adj1" fmla="val -110217"/>
              <a:gd name="adj2" fmla="val 80208"/>
              <a:gd name="adj3" fmla="val 16667"/>
            </a:avLst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j = n,   i =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733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żeli w ciągu są tylko 2 elementy, tzn. k=1. Wtedy nie wywołujemy powtórnie funkcji min-max4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2920" y="2895480"/>
            <a:ext cx="1295280" cy="381240"/>
          </a:xfrm>
          <a:prstGeom prst="wedgeRoundRectCallout">
            <a:avLst>
              <a:gd name="adj1" fmla="val -81740"/>
              <a:gd name="adj2" fmla="val 197916"/>
              <a:gd name="adj3" fmla="val 16667"/>
            </a:avLst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bo i+1=j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44197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żeli k&gt;1 oraz j-i+1 =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to funkcja zostanie wywołana dla nowych argumentów: i, x  oraz  x+1, j,  ale wted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51055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-i+1 = (i+j-1)/2 – i +1 = (j-i+1)/2 =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k-1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548640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-(x+1)+1 = j – ((i+j-1)/2 +1) +1 =(j-i+1)/2 =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k-1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 rot="5400000">
            <a:off x="666360" y="1771560"/>
            <a:ext cx="14479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ema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8001000" y="5257800"/>
            <a:ext cx="609480" cy="685800"/>
          </a:xfrm>
          <a:custGeom>
            <a:avLst/>
            <a:gdLst>
              <a:gd name="textAreaLeft" fmla="*/ 52200 w 609480"/>
              <a:gd name="textAreaRight" fmla="*/ 557280 w 609480"/>
              <a:gd name="textAreaTop" fmla="*/ 52200 h 685800"/>
              <a:gd name="textAreaBottom" fmla="*/ 63360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19744" y="1856"/>
                </a:lnTo>
                <a:lnTo>
                  <a:pt x="1856" y="1856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19744" y="22447"/>
                </a:lnTo>
                <a:lnTo>
                  <a:pt x="19744" y="1856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856" y="22447"/>
                </a:lnTo>
                <a:lnTo>
                  <a:pt x="19744" y="22447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856" y="1856"/>
                </a:lnTo>
                <a:lnTo>
                  <a:pt x="1856" y="22447"/>
                </a:lnTo>
                <a:close/>
              </a:path>
              <a:path fill="darken" w="21600" h="24303">
                <a:moveTo>
                  <a:pt x="4133" y="12152"/>
                </a:moveTo>
                <a:lnTo>
                  <a:pt x="17467" y="5485"/>
                </a:lnTo>
                <a:lnTo>
                  <a:pt x="17467" y="18818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Min-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max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6A6-DCEA-48E8-B647-9CEBB9D0DA2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.d. ‘stop’ dla min-max4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3716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Długość rozważanego przez funkcję min-max4 ciągu maleje w kolejnych wywołaniach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05720" y="1219320"/>
            <a:ext cx="2057400" cy="990360"/>
          </a:xfrm>
          <a:prstGeom prst="cloudCallout">
            <a:avLst>
              <a:gd name="adj1" fmla="val -71217"/>
              <a:gd name="adj2" fmla="val 74518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jest 2 razy mniejsz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297180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W konsekwencji proces musi się zakończyć dla k=1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44956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Jeśli spełniony jest warunek początkowy wp, to algorytm min_max4 zatrzymuje się dla dowolnych danych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 rot="5400000">
            <a:off x="180720" y="3476520"/>
            <a:ext cx="241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Wniosek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2AC-F296-405F-85C0-28B71AF4A7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prawność min-max4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13716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Dowód przez indukcję ze względu na liczbę wywołań rekurencyjnych funkcji min_max4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228600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la jednego tylko wywołania , tzn. gdy m=1 wynik algorytmu jest poprawn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304812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Załóżmy, że wynik algorytmu jest poprawny dla wewnętrznych wywołań, czyl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80988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e[k]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e[lewy.max]  dla i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k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x   oraz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e[k]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e[prawy.max] dla  x+1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k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j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4800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Po wykonaniu  instrukcji 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54864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Mamy :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e[k]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e[result.max]  dla i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k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j   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657600"/>
            <a:ext cx="2743200" cy="204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if    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  e[lewy.max]&lt;e[prawy.max] then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    result.max := prawy.max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else  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     result.max := lewy.max  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fi;</a:t>
            </a:r>
            <a:br>
              <a:rPr sz="1600"/>
            </a:b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14800" y="5029200"/>
            <a:ext cx="1676520" cy="0"/>
          </a:xfrm>
          <a:prstGeom prst="line">
            <a:avLst/>
          </a:prstGeom>
          <a:ln w="381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1600200"/>
            <a:ext cx="2362320" cy="1295280"/>
          </a:xfrm>
          <a:prstGeom prst="cloudCallout">
            <a:avLst>
              <a:gd name="adj1" fmla="val -54569"/>
              <a:gd name="adj2" fmla="val 108333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nalogicznie dla minimu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FF4-D4E9-472D-AC0D-FBF27E1655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min_max4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13716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Operacja dominująca -  porównywanie elementów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76520" y="251460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T(min_max4, 2) =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T(min_max4, 2 </a:t>
            </a:r>
            <a:r>
              <a:rPr b="1" lang="pl-PL" sz="2400" spc="-1" strike="noStrike" baseline="30000">
                <a:solidFill>
                  <a:srgbClr val="402000"/>
                </a:solidFill>
                <a:latin typeface="Times New Roman"/>
              </a:rPr>
              <a:t>k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)= 2* T(min_max4,2 </a:t>
            </a:r>
            <a:r>
              <a:rPr b="1" lang="pl-PL" sz="2400" spc="-1" strike="noStrike" baseline="30000">
                <a:solidFill>
                  <a:srgbClr val="402000"/>
                </a:solidFill>
                <a:latin typeface="Times New Roman"/>
              </a:rPr>
              <a:t>k-1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) +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1447920"/>
            <a:ext cx="2666880" cy="1295280"/>
          </a:xfrm>
          <a:prstGeom prst="wedgeRoundRectCallout">
            <a:avLst>
              <a:gd name="adj1" fmla="val -95296"/>
              <a:gd name="adj2" fmla="val 44240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Jeśli w ciągu są tylko 2 elementy, to wykonujemy 1 porówna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8077320" y="2895480"/>
            <a:ext cx="685800" cy="914400"/>
          </a:xfrm>
          <a:custGeom>
            <a:avLst/>
            <a:gdLst>
              <a:gd name="textAreaLeft" fmla="*/ 99720 w 685800"/>
              <a:gd name="textAreaRight" fmla="*/ 586080 w 685800"/>
              <a:gd name="textAreaTop" fmla="*/ 99720 h 914400"/>
              <a:gd name="textAreaBottom" fmla="*/ 81468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18450" y="3150"/>
                </a:lnTo>
                <a:lnTo>
                  <a:pt x="3150" y="315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18450" y="25646"/>
                </a:lnTo>
                <a:lnTo>
                  <a:pt x="18450" y="315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3150" y="25646"/>
                </a:lnTo>
                <a:lnTo>
                  <a:pt x="18450" y="2564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3150" y="3150"/>
                </a:lnTo>
                <a:lnTo>
                  <a:pt x="3150" y="25646"/>
                </a:lnTo>
                <a:close/>
              </a:path>
              <a:path fill="darken" w="21600" h="28796">
                <a:moveTo>
                  <a:pt x="5098" y="14398"/>
                </a:moveTo>
                <a:lnTo>
                  <a:pt x="16502" y="8696"/>
                </a:lnTo>
                <a:lnTo>
                  <a:pt x="16502" y="201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2000"/>
                </a:solidFill>
                <a:latin typeface="Times New Roman"/>
              </a:rPr>
              <a:t>Min-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2000"/>
                </a:solidFill>
                <a:latin typeface="Times New Roman"/>
              </a:rPr>
              <a:t>max4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3886200"/>
            <a:ext cx="2666880" cy="990720"/>
          </a:xfrm>
          <a:prstGeom prst="wedgeRoundRectCallout">
            <a:avLst>
              <a:gd name="adj1" fmla="val 65416"/>
              <a:gd name="adj2" fmla="val -94550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Dla k&gt;1 wykonujemy 2 wywołania rekurencyjni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5880" y="3962520"/>
            <a:ext cx="2590920" cy="1218960"/>
          </a:xfrm>
          <a:prstGeom prst="wedgeRoundRectCallout">
            <a:avLst>
              <a:gd name="adj1" fmla="val -5453"/>
              <a:gd name="adj2" fmla="val -94921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Dwa dodatkowe porównania  dla ustalenia ostatecznego wynik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3341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T(min_max4, n) = 3/2 n - 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95280" y="5257800"/>
            <a:ext cx="221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statecznie: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43434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T(2</a:t>
            </a:r>
            <a:r>
              <a:rPr b="1" lang="pl-PL" sz="2000" spc="-1" strike="noStrike" baseline="30000">
                <a:solidFill>
                  <a:srgbClr val="402000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) =  3*2 </a:t>
            </a:r>
            <a:r>
              <a:rPr b="1" lang="pl-PL" sz="2000" spc="-1" strike="noStrike" baseline="30000">
                <a:solidFill>
                  <a:srgbClr val="402000"/>
                </a:solidFill>
                <a:latin typeface="Times New Roman"/>
              </a:rPr>
              <a:t>k-1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- 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ADB-B397-4493-8A84-63A291515B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zy można zrobić lepiej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676520" y="2057400"/>
            <a:ext cx="224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wierdzen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29718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Każdy algorytm wyznaczający  minimum i maksimum dowolnego ciągu e[1],...e[n] elementów dowolnej liniowo uporządkowanej przestrzeni musi wykonać w przypadku pesymistycznym co najmniej [3/2 n] – 2 porównan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1371600"/>
            <a:ext cx="4038840" cy="1523880"/>
          </a:xfrm>
          <a:prstGeom prst="cloudCallout">
            <a:avLst>
              <a:gd name="adj1" fmla="val 12893"/>
              <a:gd name="adj2" fmla="val 93023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min_max4 jest optymalnym rozwiązaniem problemu min-ma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C44-583A-4B2D-8BD4-ABC2BC2BE9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Drugi największy elemen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144792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Problem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Dany jest ciąg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e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lementów e[1],...,e[n] pewnej przestrzeni liniowo uporządkowanej &lt; E,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&gt;. Znaleźć drugi co do wielkości element tego ciągu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2666880"/>
            <a:ext cx="69343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P = { e[i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j]  dla 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j , n&gt;0}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K = {1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wynik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,  e[j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wynik] &lt; e[max] dla j=1,2,...,n }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3886200"/>
            <a:ext cx="6400800" cy="762120"/>
          </a:xfrm>
          <a:prstGeom prst="wedgeRoundRectCallout">
            <a:avLst>
              <a:gd name="adj1" fmla="val -51662"/>
              <a:gd name="adj2" fmla="val -98125"/>
              <a:gd name="adj3" fmla="val 1666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wynik] = maximum({e[1]...,e[n]} - maximum{e[1],...,e[n]}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510552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 naiwny  : 1. Znaleźć element maksymalny.  2. Usunąć go z rozważań . 3. Znaleźć element maksymalny w pozostałym zbiorz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C39-8C44-4D62-A6EA-5DC1F76EFE8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naiwn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1371600"/>
            <a:ext cx="533412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i := 2; max :=1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while 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n 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if e[i] &gt; e[max] then max := i fi;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i := i+1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od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m := e[1]; e[1] := e[max]; e[max] := pom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:=3; wynik := 2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while i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n 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if e[i] &gt; e[wynik] then  wynik := i fi;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i := i+1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2743200"/>
            <a:ext cx="22860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wap(e[1], e[max]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553080" y="3124080"/>
            <a:ext cx="106704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238880" y="4038480"/>
            <a:ext cx="1143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sz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T(n) = 2n -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1600200"/>
            <a:ext cx="4114800" cy="16765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Max: = 1;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for ( i =2; i&lt;= n; i++){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if (e[i]&gt;e[max]){max:=i;}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886200"/>
            <a:ext cx="4191120" cy="160020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wynik := 2;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for ( i =3; i&lt;= n; i++){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if (e[i]&gt;e[wynik]){wynik:=i;}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1523880"/>
            <a:ext cx="4191120" cy="175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6633"/>
                </a:solidFill>
                <a:latin typeface="Times New Roman"/>
              </a:rPr>
              <a:t>Max := maximum(1,n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3886200"/>
            <a:ext cx="4191120" cy="1600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6633"/>
                </a:solidFill>
                <a:latin typeface="Times New Roman"/>
              </a:rPr>
              <a:t>Wynik := maximum(2,n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D45-3481-408B-ABEF-AFB85224F7D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zy to można zrobić lepiej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 rot="5400000">
            <a:off x="-83160" y="3130920"/>
            <a:ext cx="340524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toda - Turniej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1905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13716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Metoda polega na porównywaniu sąsiednich elementów ciągu. Elementy większe (wygrywające) przechodzą do następnej ‘rundy’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86000" y="2895480"/>
            <a:ext cx="5943600" cy="381240"/>
            <a:chOff x="2286000" y="2895480"/>
            <a:chExt cx="5943600" cy="381240"/>
          </a:xfrm>
        </p:grpSpPr>
        <p:sp>
          <p:nvSpPr>
            <p:cNvPr id="309" name=""/>
            <p:cNvSpPr/>
            <p:nvPr/>
          </p:nvSpPr>
          <p:spPr>
            <a:xfrm>
              <a:off x="3048120" y="2895480"/>
              <a:ext cx="53316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8620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9608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588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10080" y="2895480"/>
              <a:ext cx="53352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48320" y="2895480"/>
              <a:ext cx="533160" cy="3812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715000" y="3276720"/>
            <a:ext cx="685440" cy="609480"/>
            <a:chOff x="5715000" y="3276720"/>
            <a:chExt cx="685440" cy="609480"/>
          </a:xfrm>
        </p:grpSpPr>
        <p:sp>
          <p:nvSpPr>
            <p:cNvPr id="318" name=""/>
            <p:cNvSpPr/>
            <p:nvPr/>
          </p:nvSpPr>
          <p:spPr>
            <a:xfrm>
              <a:off x="5715000" y="3276720"/>
              <a:ext cx="3045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095520" y="3276720"/>
              <a:ext cx="3049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666880" y="3886200"/>
            <a:ext cx="533520" cy="3808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3886200"/>
            <a:ext cx="533520" cy="3808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1320" y="3886200"/>
            <a:ext cx="533160" cy="3808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3886200"/>
            <a:ext cx="533520" cy="3808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191120" y="3276720"/>
            <a:ext cx="685440" cy="609480"/>
            <a:chOff x="4191120" y="3276720"/>
            <a:chExt cx="685440" cy="609480"/>
          </a:xfrm>
        </p:grpSpPr>
        <p:sp>
          <p:nvSpPr>
            <p:cNvPr id="325" name=""/>
            <p:cNvSpPr/>
            <p:nvPr/>
          </p:nvSpPr>
          <p:spPr>
            <a:xfrm>
              <a:off x="4191120" y="3276720"/>
              <a:ext cx="3045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571640" y="3276720"/>
              <a:ext cx="3049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590920" y="3276720"/>
            <a:ext cx="685440" cy="609480"/>
            <a:chOff x="2590920" y="3276720"/>
            <a:chExt cx="685440" cy="609480"/>
          </a:xfrm>
        </p:grpSpPr>
        <p:sp>
          <p:nvSpPr>
            <p:cNvPr id="328" name=""/>
            <p:cNvSpPr/>
            <p:nvPr/>
          </p:nvSpPr>
          <p:spPr>
            <a:xfrm>
              <a:off x="2590920" y="3276720"/>
              <a:ext cx="3045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971440" y="3276720"/>
              <a:ext cx="3049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162920" y="3276720"/>
            <a:ext cx="685440" cy="609480"/>
            <a:chOff x="7162920" y="3276720"/>
            <a:chExt cx="685440" cy="609480"/>
          </a:xfrm>
        </p:grpSpPr>
        <p:sp>
          <p:nvSpPr>
            <p:cNvPr id="331" name=""/>
            <p:cNvSpPr/>
            <p:nvPr/>
          </p:nvSpPr>
          <p:spPr>
            <a:xfrm>
              <a:off x="7162920" y="3276720"/>
              <a:ext cx="3045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543440" y="3276720"/>
              <a:ext cx="30492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048120" y="4191120"/>
            <a:ext cx="1371240" cy="685800"/>
            <a:chOff x="3048120" y="4191120"/>
            <a:chExt cx="1371240" cy="685800"/>
          </a:xfrm>
        </p:grpSpPr>
        <p:sp>
          <p:nvSpPr>
            <p:cNvPr id="334" name=""/>
            <p:cNvSpPr/>
            <p:nvPr/>
          </p:nvSpPr>
          <p:spPr>
            <a:xfrm>
              <a:off x="3048120" y="419112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733560" y="419112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095880" y="4267080"/>
            <a:ext cx="1371240" cy="685800"/>
            <a:chOff x="6095880" y="4267080"/>
            <a:chExt cx="1371240" cy="685800"/>
          </a:xfrm>
        </p:grpSpPr>
        <p:sp>
          <p:nvSpPr>
            <p:cNvPr id="337" name=""/>
            <p:cNvSpPr/>
            <p:nvPr/>
          </p:nvSpPr>
          <p:spPr>
            <a:xfrm>
              <a:off x="6095880" y="426708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781320" y="4267080"/>
              <a:ext cx="685800" cy="6858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429000" y="4876920"/>
            <a:ext cx="533520" cy="3808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4952880"/>
            <a:ext cx="533520" cy="3812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5638680"/>
            <a:ext cx="533520" cy="3812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962520" y="5105520"/>
            <a:ext cx="2590200" cy="609480"/>
            <a:chOff x="3962520" y="5105520"/>
            <a:chExt cx="2590200" cy="609480"/>
          </a:xfrm>
        </p:grpSpPr>
        <p:sp>
          <p:nvSpPr>
            <p:cNvPr id="343" name=""/>
            <p:cNvSpPr/>
            <p:nvPr/>
          </p:nvSpPr>
          <p:spPr>
            <a:xfrm>
              <a:off x="3962520" y="5105520"/>
              <a:ext cx="990360" cy="6094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409720" y="5181480"/>
              <a:ext cx="1143000" cy="533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7848720" y="5029200"/>
            <a:ext cx="685800" cy="762120"/>
          </a:xfrm>
          <a:custGeom>
            <a:avLst/>
            <a:gdLst>
              <a:gd name="textAreaLeft" fmla="*/ 135000 w 685800"/>
              <a:gd name="textAreaRight" fmla="*/ 550800 w 685800"/>
              <a:gd name="textAreaTop" fmla="*/ 135000 h 762120"/>
              <a:gd name="textAreaBottom" fmla="*/ 62712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17350" y="4250"/>
                </a:lnTo>
                <a:lnTo>
                  <a:pt x="4250" y="425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17350" y="19753"/>
                </a:lnTo>
                <a:lnTo>
                  <a:pt x="17350" y="425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4250" y="19753"/>
                </a:lnTo>
                <a:lnTo>
                  <a:pt x="17350" y="1975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4250" y="4250"/>
                </a:lnTo>
                <a:lnTo>
                  <a:pt x="4250" y="19753"/>
                </a:lnTo>
                <a:close/>
              </a:path>
              <a:path fill="darken" w="21600" h="24003">
                <a:moveTo>
                  <a:pt x="5918" y="7119"/>
                </a:moveTo>
                <a:lnTo>
                  <a:pt x="15682" y="12001"/>
                </a:lnTo>
                <a:lnTo>
                  <a:pt x="5918" y="16883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B1E-FC3C-45F6-8B0C-51755B19436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naliza metod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15238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Każdy element, z wyjątkiem maksymalnego przegrał co najwyżej raz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Element drugi co do wielkości przegrał jedynie z elementem maksymalnym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4419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dfb311"/>
                </a:solidFill>
                <a:latin typeface="Times New Roman"/>
              </a:rPr>
              <a:t>Wśród elementów, </a:t>
            </a:r>
            <a:br>
              <a:rPr sz="2800"/>
            </a:br>
            <a:r>
              <a:rPr b="1" lang="pl-PL" sz="2800" spc="-1" strike="noStrike">
                <a:solidFill>
                  <a:srgbClr val="dfb311"/>
                </a:solidFill>
                <a:latin typeface="Times New Roman"/>
              </a:rPr>
              <a:t>które grały z największym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371600" y="3733920"/>
            <a:ext cx="655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Gdzie szukać elementu "drugiego" 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7467480" y="4648320"/>
            <a:ext cx="838440" cy="761760"/>
          </a:xfrm>
          <a:custGeom>
            <a:avLst/>
            <a:gdLst>
              <a:gd name="textAreaLeft" fmla="*/ 153720 w 838440"/>
              <a:gd name="textAreaRight" fmla="*/ 684720 w 838440"/>
              <a:gd name="textAreaTop" fmla="*/ 153720 h 761760"/>
              <a:gd name="textAreaBottom" fmla="*/ 6080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19408" y="4365"/>
                </a:lnTo>
                <a:lnTo>
                  <a:pt x="4365" y="4365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19408" y="17235"/>
                </a:lnTo>
                <a:lnTo>
                  <a:pt x="19408" y="4365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4365" y="17235"/>
                </a:lnTo>
                <a:lnTo>
                  <a:pt x="19408" y="17235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4365" y="4365"/>
                </a:lnTo>
                <a:lnTo>
                  <a:pt x="4365" y="17235"/>
                </a:lnTo>
                <a:close/>
              </a:path>
              <a:path fill="darken" w="23773" h="21600">
                <a:moveTo>
                  <a:pt x="7090" y="10800"/>
                </a:moveTo>
                <a:lnTo>
                  <a:pt x="16683" y="6004"/>
                </a:lnTo>
                <a:lnTo>
                  <a:pt x="16683" y="1559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15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Por. przykład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5486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O implementacji tego algorytmu będzie mowa na ćwiczeniach i na następnym wykładzie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1F1-11B4-4F88-977C-269B81B2795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0720" y="1523880"/>
            <a:ext cx="5791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Minimum i maksimu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 optymal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 rekurencyj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rugi co do wielkości elemen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 turniej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-ty co do wielkości element ciągu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 Hoar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B61-09BD-44B1-A0AD-5B9A734444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algorytmu „Turniej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95280" y="19810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Krok1.  Zbudowanie drzewa turnieju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1295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łóżmy, że n= 2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281952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Krok 2. Wybranie elementu drugiego największeg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38880" y="3124080"/>
            <a:ext cx="1295640" cy="838440"/>
          </a:xfrm>
          <a:prstGeom prst="wedgeRoundRectCallout">
            <a:avLst>
              <a:gd name="adj1" fmla="val -126101"/>
              <a:gd name="adj2" fmla="val -43939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lg n -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47920" y="396252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 ile elementów przegrał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z największym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14800" y="3886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yle, ile było ‘rund’!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048120" y="4191120"/>
            <a:ext cx="1066680" cy="30456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38880" y="1447920"/>
            <a:ext cx="1371600" cy="1143000"/>
          </a:xfrm>
          <a:prstGeom prst="wedgeRoundRectCallout">
            <a:avLst>
              <a:gd name="adj1" fmla="val -117361"/>
              <a:gd name="adj2" fmla="val 2277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n -1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porównań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733920" y="5029200"/>
            <a:ext cx="1400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azem 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563868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T(n)= n + lg n -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AED-3840-463E-A5A5-113DCCEB778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-ty największ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14479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Problem: Dany jest ciąg n-elementów pewnej przestrzeni liniowo uporządkowanej  &lt;E, 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&gt;. Znaleźć k-ty największy element tego ciągu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295280" y="2971800"/>
            <a:ext cx="1905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zykła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"/>
          <p:cNvSpPr/>
          <p:nvPr/>
        </p:nvSpPr>
        <p:spPr>
          <a:xfrm>
            <a:off x="3048120" y="3581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2, 4,  6, 12, 78, 45, 3,  33, 17, 2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419112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Element największy = 78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element drugi co do wielkości = 45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3-ci największy = 33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-ty największy = 2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8D9-ECEC-441B-9A2C-9E769C69E14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ierwsze rozwiązani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7920" y="1371600"/>
            <a:ext cx="7010280" cy="230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Krok1. Wyszukaj element e[max] największy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w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śród elementów e[i],...,e[n]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Krok 2. Zamień elementy na pozycjach i-tej i max 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Krok 3. Powtórz  postępowanie dla  następnego i. </a:t>
            </a:r>
            <a:br>
              <a:rPr sz="2400"/>
            </a:b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600200" y="4419720"/>
            <a:ext cx="118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szt :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44956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T(n) = (n-1) + (n-2) +... +(n-k) =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k*n   -  k*(k+1)/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F73-716A-404D-825C-5668493B2A2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naiwn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12952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kładam, że  elementy w ciągu e nie powtarzają się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1676520"/>
            <a:ext cx="6324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{    x := 1;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while x</a:t>
            </a:r>
            <a:r>
              <a:rPr b="1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k do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max := x;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for i := x+1 to n do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     if e[i] &gt; e[max] then max := i fi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od;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swap(e[x], e[max]);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x := x+1;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od;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wynik := e[k]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438280"/>
            <a:ext cx="34290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1]&gt;...&gt;e[x-1] &gt;{e[x],...,e[n] 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3962520"/>
            <a:ext cx="251460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max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e[x],...,e[n]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800600"/>
            <a:ext cx="34290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e[1]&gt;...&gt;e[x-1] &gt;{e[x],...,e[n] 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715000" y="190512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iezmiennik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A66-B901-463C-9D05-F4D6C2F8AA6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zy można zrobić to taniej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167652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Rozdziel wszystkie elementy na większe od pewnego elementu  M(część starsza) i na mniejsze od M (część młodsz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53080" y="990720"/>
            <a:ext cx="1600200" cy="761760"/>
          </a:xfrm>
          <a:prstGeom prst="cloudCallout">
            <a:avLst>
              <a:gd name="adj1" fmla="val -96231"/>
              <a:gd name="adj2" fmla="val 44999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M = median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28195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Umieść medianę tak by oddzielała cześć młodszą od starszej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81080" y="3886200"/>
            <a:ext cx="6096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342900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nikiem jest mediana, jeśli w części starszej jest tylko k-1 elementó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95280" y="4191120"/>
            <a:ext cx="70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 przeciwnym przypadku: jeśli elementów starszych jest &gt;k-1, to szukaj k-tego elementu w części starszej. Jeśli elementów starszych jest mniej niż k-1, to szukaj elementu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             k-(liczba elementów starszych+1)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śród elementów młodszych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0DE-F6B0-4CF1-AC19-362503F9EE0B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19810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10  5  7  9  11  4  3  2  12  8  6 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95280" y="1295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 podanym ciągu szukamy 7tego co do wielkości  element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14400" y="2666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dian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447920" y="2286000"/>
            <a:ext cx="76176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514600" y="2743200"/>
            <a:ext cx="2590920" cy="703800"/>
            <a:chOff x="2514600" y="2743200"/>
            <a:chExt cx="2590920" cy="703800"/>
          </a:xfrm>
        </p:grpSpPr>
        <p:sp>
          <p:nvSpPr>
            <p:cNvPr id="394" name=""/>
            <p:cNvSpPr/>
            <p:nvPr/>
          </p:nvSpPr>
          <p:spPr>
            <a:xfrm>
              <a:off x="2514600" y="304812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zęść młodsza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14600" y="2743200"/>
              <a:ext cx="2590920" cy="398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5  7  9  4  3  2  6  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943600" y="2743200"/>
            <a:ext cx="2286000" cy="703800"/>
            <a:chOff x="5943600" y="2743200"/>
            <a:chExt cx="2286000" cy="703800"/>
          </a:xfrm>
        </p:grpSpPr>
        <p:sp>
          <p:nvSpPr>
            <p:cNvPr id="397" name=""/>
            <p:cNvSpPr/>
            <p:nvPr/>
          </p:nvSpPr>
          <p:spPr>
            <a:xfrm>
              <a:off x="5943600" y="304812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zęść  starsza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43600" y="2743200"/>
              <a:ext cx="2133720" cy="398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11  1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362320" y="2362320"/>
            <a:ext cx="281916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43200" y="3657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5  7  9  4  3  2  6  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752480" y="3962520"/>
            <a:ext cx="99072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4267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edian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666880" y="4419720"/>
            <a:ext cx="1981440" cy="703440"/>
            <a:chOff x="2666880" y="4419720"/>
            <a:chExt cx="1981440" cy="703440"/>
          </a:xfrm>
        </p:grpSpPr>
        <p:sp>
          <p:nvSpPr>
            <p:cNvPr id="405" name=""/>
            <p:cNvSpPr/>
            <p:nvPr/>
          </p:nvSpPr>
          <p:spPr>
            <a:xfrm>
              <a:off x="2666880" y="472428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zęść młodsza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43200" y="4419720"/>
              <a:ext cx="1752480" cy="398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4  3  2  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334120" y="4419720"/>
            <a:ext cx="1828800" cy="703440"/>
            <a:chOff x="5334120" y="4419720"/>
            <a:chExt cx="1828800" cy="703440"/>
          </a:xfrm>
        </p:grpSpPr>
        <p:sp>
          <p:nvSpPr>
            <p:cNvPr id="408" name=""/>
            <p:cNvSpPr/>
            <p:nvPr/>
          </p:nvSpPr>
          <p:spPr>
            <a:xfrm>
              <a:off x="5334120" y="4724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Część  starsza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10080" y="4419720"/>
              <a:ext cx="1295640" cy="398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402000"/>
                  </a:solidFill>
                  <a:latin typeface="Times New Roman"/>
                </a:rPr>
                <a:t>7  9  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800600" y="4419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4038480"/>
            <a:ext cx="198144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86400" y="36576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ec220"/>
                </a:solidFill>
                <a:latin typeface="Times New Roman"/>
              </a:rPr>
              <a:t>Szukam 4-go największego</a:t>
            </a:r>
            <a:r>
              <a:rPr b="1" lang="pl-PL" sz="2000" spc="-1" strike="noStrike">
                <a:solidFill>
                  <a:srgbClr val="eec22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5334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imes New Roman"/>
              </a:rPr>
              <a:t>Wynikiem jest element 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90720" y="1676520"/>
            <a:ext cx="7619760" cy="1981080"/>
          </a:xfrm>
          <a:prstGeom prst="rect">
            <a:avLst/>
          </a:prstGeom>
          <a:noFill/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991-65D7-491C-89C7-D84DB590FB49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Hoa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1981080"/>
            <a:ext cx="624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function Hoare(l, p, k)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{     j := SPLIT(l, p);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if  ( p-j = k-1) then wynik := e[j]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else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 if p-j&gt;k-1 then  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     Hoare(j+1, p, k)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 else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      Hoare(l,j-1, k-(p-j+1))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     fi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     fi</a:t>
            </a:r>
            <a:br>
              <a:rPr sz="2400"/>
            </a:b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}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2286000"/>
            <a:ext cx="39625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e[1]...,e[j-1]}&lt; e[j]&lt;{e[j+1],...,e[n]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3048120"/>
            <a:ext cx="350496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-ty największy znajduje się wśród elementów  e[j+1],... e[p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4267080"/>
            <a:ext cx="350496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-ty największy znajduje się wśród elementów  e[l],... e[j-1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038480" y="3276720"/>
            <a:ext cx="106704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048120" y="4267080"/>
            <a:ext cx="220968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1295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Zakładam, że elementy w ciągu nie powtarzają się i, że algorytm zwraca jako wynik wartość k-tego największego elementu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2B2-078C-4CA3-9912-29A02A81819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rozdzielan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00200" y="1295280"/>
            <a:ext cx="6172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t function SPLIT(lewy,prawy){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mediana := e[lewy]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i := lewy+1; j := prawy;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bool := true;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while  (bool)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while (j&gt;lewy andif e[j]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mediana ) do j := j-1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while (i&lt;j andif e[i] &lt; mediana) do i := i+1 od;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if (i&lt;j) then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      swap(e[i], e[j]); i := i+1; j := j-1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else bool := false 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swap(e[lewy],e[j])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return j; 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05520" y="4648320"/>
            <a:ext cx="350496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, lewy&lt; k &lt;j) e[k] &lt; e[j]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(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, j &lt; k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prawy) e[j]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e[k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440-3A8C-4009-9305-F05252FAF2FC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Jak to działa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1523880"/>
            <a:ext cx="457200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0,   5,   9,   8,  14,  7,  12,  3,   1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62320" y="2057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2057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0968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627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19520" y="2362320"/>
            <a:ext cx="457200" cy="304560"/>
          </a:xfrm>
          <a:custGeom>
            <a:avLst/>
            <a:gdLst>
              <a:gd name="textAreaLeft" fmla="*/ 79920 w 457200"/>
              <a:gd name="textAreaRight" fmla="*/ 331560 w 4572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38280" y="2133720"/>
            <a:ext cx="457200" cy="304560"/>
          </a:xfrm>
          <a:custGeom>
            <a:avLst/>
            <a:gdLst>
              <a:gd name="textAreaLeft" fmla="*/ 79920 w 457200"/>
              <a:gd name="textAreaRight" fmla="*/ 331560 w 4572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2590920"/>
            <a:ext cx="457200" cy="304560"/>
          </a:xfrm>
          <a:custGeom>
            <a:avLst/>
            <a:gdLst>
              <a:gd name="textAreaLeft" fmla="*/ 79920 w 457200"/>
              <a:gd name="textAreaRight" fmla="*/ 331560 w 4572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0501800">
            <a:off x="5181120" y="2209320"/>
            <a:ext cx="457200" cy="381240"/>
          </a:xfrm>
          <a:custGeom>
            <a:avLst/>
            <a:gdLst>
              <a:gd name="textAreaLeft" fmla="*/ 79920 w 457200"/>
              <a:gd name="textAreaRight" fmla="*/ 331560 w 4572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2209680"/>
            <a:ext cx="91440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82"/>
                </a:moveTo>
                <a:lnTo>
                  <a:pt x="15511" y="21682"/>
                </a:lnTo>
                <a:lnTo>
                  <a:pt x="15511" y="5794"/>
                </a:lnTo>
                <a:lnTo>
                  <a:pt x="9340" y="5794"/>
                </a:lnTo>
                <a:lnTo>
                  <a:pt x="15470" y="0"/>
                </a:lnTo>
                <a:lnTo>
                  <a:pt x="21600" y="5794"/>
                </a:lnTo>
                <a:lnTo>
                  <a:pt x="15429" y="5794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median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76920" y="1447920"/>
            <a:ext cx="5331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1280" y="1447920"/>
            <a:ext cx="3812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447920" y="3200400"/>
            <a:ext cx="4876200" cy="1221840"/>
            <a:chOff x="1447920" y="3200400"/>
            <a:chExt cx="4876200" cy="1221840"/>
          </a:xfrm>
        </p:grpSpPr>
        <p:sp>
          <p:nvSpPr>
            <p:cNvPr id="441" name=""/>
            <p:cNvSpPr/>
            <p:nvPr/>
          </p:nvSpPr>
          <p:spPr>
            <a:xfrm>
              <a:off x="1752480" y="3200400"/>
              <a:ext cx="4571640" cy="609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0,   5,   9,   8,  3,  7,  12,  14,   1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43040" y="3733920"/>
              <a:ext cx="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76560" y="3733920"/>
              <a:ext cx="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14440" y="396252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47960" y="3886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47920" y="3886200"/>
              <a:ext cx="91404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82"/>
                  </a:moveTo>
                  <a:lnTo>
                    <a:pt x="15511" y="21682"/>
                  </a:lnTo>
                  <a:lnTo>
                    <a:pt x="15511" y="5794"/>
                  </a:lnTo>
                  <a:lnTo>
                    <a:pt x="9340" y="5794"/>
                  </a:lnTo>
                  <a:lnTo>
                    <a:pt x="15470" y="0"/>
                  </a:lnTo>
                  <a:lnTo>
                    <a:pt x="21600" y="5794"/>
                  </a:lnTo>
                  <a:lnTo>
                    <a:pt x="15429" y="5794"/>
                  </a:lnTo>
                  <a:lnTo>
                    <a:pt x="1542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mediana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828800" y="4724280"/>
            <a:ext cx="4572000" cy="1374120"/>
            <a:chOff x="1828800" y="4724280"/>
            <a:chExt cx="4572000" cy="1374120"/>
          </a:xfrm>
        </p:grpSpPr>
        <p:sp>
          <p:nvSpPr>
            <p:cNvPr id="448" name=""/>
            <p:cNvSpPr/>
            <p:nvPr/>
          </p:nvSpPr>
          <p:spPr>
            <a:xfrm>
              <a:off x="1828800" y="4724280"/>
              <a:ext cx="4572000" cy="609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0,   5,   9,   8,  3,  7,   12,  14,   1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5257800"/>
              <a:ext cx="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52880" y="5257800"/>
              <a:ext cx="0" cy="3808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7692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6708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752480" y="4572000"/>
            <a:ext cx="5335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91120" y="4572000"/>
            <a:ext cx="60948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400800" y="2285640"/>
            <a:ext cx="2209320" cy="536400"/>
            <a:chOff x="6400800" y="2285640"/>
            <a:chExt cx="2209320" cy="536400"/>
          </a:xfrm>
        </p:grpSpPr>
        <p:sp>
          <p:nvSpPr>
            <p:cNvPr id="456" name=""/>
            <p:cNvSpPr/>
            <p:nvPr/>
          </p:nvSpPr>
          <p:spPr>
            <a:xfrm>
              <a:off x="7086240" y="2362320"/>
              <a:ext cx="1523880" cy="459720"/>
            </a:xfrm>
            <a:prstGeom prst="rect">
              <a:avLst/>
            </a:prstGeom>
            <a:noFill/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    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i &lt; j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6400800" y="2285640"/>
              <a:ext cx="68544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 flipH="1">
            <a:off x="6553080" y="2895480"/>
            <a:ext cx="60984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705720" y="4648320"/>
            <a:ext cx="1981080" cy="459720"/>
            <a:chOff x="6705720" y="4648320"/>
            <a:chExt cx="1981080" cy="459720"/>
          </a:xfrm>
        </p:grpSpPr>
        <p:sp>
          <p:nvSpPr>
            <p:cNvPr id="460" name=""/>
            <p:cNvSpPr/>
            <p:nvPr/>
          </p:nvSpPr>
          <p:spPr>
            <a:xfrm>
              <a:off x="7162920" y="4648320"/>
              <a:ext cx="1523880" cy="459720"/>
            </a:xfrm>
            <a:prstGeom prst="rect">
              <a:avLst/>
            </a:prstGeom>
            <a:noFill/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     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i &gt; j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705720" y="4952880"/>
              <a:ext cx="4572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7467480" y="685800"/>
            <a:ext cx="1143000" cy="838080"/>
          </a:xfrm>
          <a:custGeom>
            <a:avLst/>
            <a:gdLst>
              <a:gd name="textAreaLeft" fmla="*/ 123840 w 1143000"/>
              <a:gd name="textAreaRight" fmla="*/ 1019160 w 1143000"/>
              <a:gd name="textAreaTop" fmla="*/ 123840 h 838080"/>
              <a:gd name="textAreaBottom" fmla="*/ 71424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6264" y="3191"/>
                </a:lnTo>
                <a:lnTo>
                  <a:pt x="3191" y="3191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6264" y="18409"/>
                </a:lnTo>
                <a:lnTo>
                  <a:pt x="26264" y="3191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3191" y="18409"/>
                </a:lnTo>
                <a:lnTo>
                  <a:pt x="26264" y="18409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3191" y="3191"/>
                </a:lnTo>
                <a:lnTo>
                  <a:pt x="3191" y="18409"/>
                </a:lnTo>
                <a:close/>
              </a:path>
              <a:path fill="darken" w="29455" h="21600">
                <a:moveTo>
                  <a:pt x="9056" y="8123"/>
                </a:moveTo>
                <a:lnTo>
                  <a:pt x="11895" y="8123"/>
                </a:lnTo>
                <a:lnTo>
                  <a:pt x="11895" y="12442"/>
                </a:lnTo>
                <a:cubicBezTo>
                  <a:pt x="11895" y="13188"/>
                  <a:pt x="12544" y="13780"/>
                  <a:pt x="13382" y="13780"/>
                </a:cubicBezTo>
                <a:lnTo>
                  <a:pt x="14728" y="13780"/>
                </a:lnTo>
                <a:cubicBezTo>
                  <a:pt x="15566" y="13780"/>
                  <a:pt x="16214" y="13188"/>
                  <a:pt x="16214" y="12442"/>
                </a:cubicBezTo>
                <a:lnTo>
                  <a:pt x="16214" y="8123"/>
                </a:lnTo>
                <a:lnTo>
                  <a:pt x="14728" y="8123"/>
                </a:lnTo>
                <a:lnTo>
                  <a:pt x="17567" y="5283"/>
                </a:lnTo>
                <a:lnTo>
                  <a:pt x="20540" y="8123"/>
                </a:lnTo>
                <a:lnTo>
                  <a:pt x="19054" y="8123"/>
                </a:lnTo>
                <a:lnTo>
                  <a:pt x="19054" y="12442"/>
                </a:lnTo>
                <a:cubicBezTo>
                  <a:pt x="19054" y="14682"/>
                  <a:pt x="16968" y="16753"/>
                  <a:pt x="14728" y="16753"/>
                </a:cubicBezTo>
                <a:lnTo>
                  <a:pt x="13382" y="16753"/>
                </a:lnTo>
                <a:cubicBezTo>
                  <a:pt x="11142" y="16753"/>
                  <a:pt x="9056" y="14682"/>
                  <a:pt x="9056" y="12442"/>
                </a:cubicBezTo>
                <a:close/>
              </a:path>
            </a:pathLst>
          </a:cu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ec220"/>
                </a:solidFill>
                <a:latin typeface="Times New Roman"/>
              </a:rPr>
              <a:t>powró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A7C-D01B-4FB1-8564-960E72602CA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algorytmu Hoa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1523880"/>
            <a:ext cx="42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ażdy element jest co najwyżej raz porównywany  z medianą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43000" y="1600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Koszt algorytmu SPLI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09680" y="2514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3300"/>
                </a:solidFill>
                <a:latin typeface="Times New Roman"/>
              </a:rPr>
              <a:t>Czyli T(SPLIT, n ) = n-1 = </a:t>
            </a:r>
            <a:r>
              <a:rPr b="1" lang="pl-PL" sz="2400" spc="-1" strike="noStrike">
                <a:solidFill>
                  <a:srgbClr val="cc3300"/>
                </a:solidFill>
                <a:latin typeface="Symbol"/>
                <a:ea typeface="Symbol"/>
              </a:rPr>
              <a:t></a:t>
            </a:r>
            <a:r>
              <a:rPr b="1" lang="pl-PL" sz="2400" spc="-1" strike="noStrike">
                <a:solidFill>
                  <a:srgbClr val="cc3300"/>
                </a:solidFill>
                <a:latin typeface="Times New Roman"/>
              </a:rPr>
              <a:t>(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2004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( n,k) = n-1 +W( n-1,k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81480" y="3124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zyli W(n,k)= k*n – k(k+1)/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3962520"/>
            <a:ext cx="76197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A(n,k) = (n-1) + 1/n[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000" spc="-1" strike="noStrike" baseline="-30000">
                <a:solidFill>
                  <a:srgbClr val="402000"/>
                </a:solidFill>
                <a:latin typeface="Times New Roman"/>
              </a:rPr>
              <a:t>j=1...n-k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A(n-j, k) +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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000" spc="-1" strike="noStrike" baseline="-30000">
                <a:solidFill>
                  <a:srgbClr val="402000"/>
                </a:solidFill>
                <a:latin typeface="Times New Roman"/>
              </a:rPr>
              <a:t>j=n-k+2... n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A(j-1,k – (n-j+1)]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343400"/>
            <a:ext cx="16765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19320" y="47242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zukanie w części starszej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6705360" y="4343400"/>
            <a:ext cx="1066680" cy="45720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867280" y="4724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zukanie w części młodszej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53341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Times New Roman"/>
              </a:rPr>
              <a:t>A(n,k) = O(n)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8F1-F3A4-4D86-B3FB-38235DBFE2F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 min-max 3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1371600"/>
            <a:ext cx="342900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dfb311"/>
                </a:solidFill>
                <a:latin typeface="Times New Roman"/>
              </a:rPr>
              <a:t>Idea algorytmu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Porównaj parami elementy danego ciągu. Mniejszy z każdej pary wstaw do ciągu M, a większy z każdej pary do ciągu W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029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Dany ciąg:  4,  5,   1,  8,   34,  11,   44,  4,   7,  2,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971800"/>
            <a:ext cx="2057400" cy="101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Mniejsz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2971800"/>
            <a:ext cx="2057400" cy="101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Większ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800600"/>
            <a:ext cx="838440" cy="10159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800600"/>
            <a:ext cx="838080" cy="10159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800600"/>
            <a:ext cx="838440" cy="10159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800600"/>
            <a:ext cx="838080" cy="10159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876920"/>
            <a:ext cx="1066680" cy="10159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629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876920"/>
            <a:ext cx="1066680" cy="10159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4876920"/>
            <a:ext cx="1143000" cy="10159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800600"/>
            <a:ext cx="1219320" cy="10159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4724280"/>
            <a:ext cx="838080" cy="10159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505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532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4724280"/>
            <a:ext cx="1219320" cy="10159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495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Wybierz minimum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Wybierz maksimum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40384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8280 h 533520"/>
              <a:gd name="textAreaBottom" fmla="*/ 362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59" stAng="-5400000" swAng="5400000"/>
                <a:lnTo>
                  <a:pt x="21600" y="10685"/>
                </a:lnTo>
                <a:arcTo wR="21600" hR="7959" stAng="0" swAng="2770914"/>
                <a:lnTo>
                  <a:pt x="7200" y="21145"/>
                </a:lnTo>
                <a:lnTo>
                  <a:pt x="0" y="17280"/>
                </a:lnTo>
                <a:lnTo>
                  <a:pt x="7200" y="12505"/>
                </a:lnTo>
                <a:lnTo>
                  <a:pt x="7200" y="15462"/>
                </a:lnTo>
                <a:arcTo wR="21600" hR="7959" stAng="2770914" swAng="-2551033"/>
                <a:lnTo>
                  <a:pt x="21281" y="9322"/>
                </a:lnTo>
                <a:arcTo wR="21600" hR="7959" stAng="-219881" swAng="-5180119"/>
                <a:close/>
              </a:path>
              <a:path fill="darkenLess" w="21600" h="21600">
                <a:moveTo>
                  <a:pt x="0" y="0"/>
                </a:moveTo>
                <a:arcTo wR="21600" hR="7959" stAng="-5400000" swAng="5400000"/>
                <a:lnTo>
                  <a:pt x="21600" y="10685"/>
                </a:lnTo>
                <a:arcTo wR="21600" hR="7959" stAng="0" swAng="-219881"/>
                <a:lnTo>
                  <a:pt x="21281" y="9322"/>
                </a:lnTo>
                <a:arcTo wR="21600" hR="7959" stAng="-219881" swAng="-5180119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40384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8280 h 533520"/>
              <a:gd name="textAreaBottom" fmla="*/ 362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59" stAng="-5400000" swAng="5400000"/>
                <a:lnTo>
                  <a:pt x="21600" y="10685"/>
                </a:lnTo>
                <a:arcTo wR="21600" hR="7959" stAng="0" swAng="2770914"/>
                <a:lnTo>
                  <a:pt x="7200" y="21145"/>
                </a:lnTo>
                <a:lnTo>
                  <a:pt x="0" y="17280"/>
                </a:lnTo>
                <a:lnTo>
                  <a:pt x="7200" y="12505"/>
                </a:lnTo>
                <a:lnTo>
                  <a:pt x="7200" y="15462"/>
                </a:lnTo>
                <a:arcTo wR="21600" hR="7959" stAng="2770914" swAng="-2551033"/>
                <a:lnTo>
                  <a:pt x="21281" y="9322"/>
                </a:lnTo>
                <a:arcTo wR="21600" hR="7959" stAng="-219881" swAng="-5180119"/>
                <a:close/>
              </a:path>
              <a:path fill="darkenLess" w="21600" h="21600">
                <a:moveTo>
                  <a:pt x="0" y="0"/>
                </a:moveTo>
                <a:arcTo wR="21600" hR="7959" stAng="-5400000" swAng="5400000"/>
                <a:lnTo>
                  <a:pt x="21600" y="10685"/>
                </a:lnTo>
                <a:arcTo wR="21600" hR="7959" stAng="0" swAng="-219881"/>
                <a:lnTo>
                  <a:pt x="21281" y="9322"/>
                </a:lnTo>
                <a:arcTo wR="21600" hR="7959" stAng="-219881" swAng="-5180119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5334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,  5,   1,  8,   34,  11,   44,  4,   7,  2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8001000" y="53341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57200"/>
            <a:ext cx="2362320" cy="19234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bfae2"/>
                </a:solidFill>
                <a:latin typeface="Times New Roman"/>
              </a:rPr>
              <a:t>Uwaga. Nie musimy przenosić samych elementów do tablic M i W. Wystarczy zapamiętać pozycje tych elementów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49C-0EDE-45E6-A2C5-1F276FA7DE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naliza koszt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4572000" cy="448308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{ // min-max 3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i:=1; k:=1;   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while  i&lt; n  do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       if   e[i] &gt;e[i+1] then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              w[k] :=i; m[k] :=i+1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       else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              w[k] :=i+1; m[k] :=i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       fi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       i := i+2; k := k+1;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od;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min := m[1]; max :=w[1];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for  i := 2 to k-1 do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   if  e[m[i]] &lt; e[min] then  min := m[i] fi;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    if e[w[i]]&gt; e[max] then   max := w[i] fi;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   od;</a:t>
            </a:r>
            <a:br>
              <a:rPr sz="1800"/>
            </a:br>
            <a:r>
              <a:rPr b="1" lang="pl-PL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3716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Operacja dominująca : porównywani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2004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szy krok =  n/2 porównań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84680" y="2514600"/>
            <a:ext cx="287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łóżmy, że n jest liczbą parzystą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branie minimum = n/2  - 1 porównań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44956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branie maksimum = n/2  - 1 porównań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486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Razem = 3n/2  -2 porównań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EFE-1EA4-4BCD-8A30-27EFE0A621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naliza poprawnośc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676520"/>
            <a:ext cx="3733920" cy="344808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 //rozdzielani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i:=1; k:=1;  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while  i&lt; n 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if e[i] &gt;e[i+1] the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w[k] :=i; m[k] :=i+1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else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  w[k] :=i+1; m[k] :=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fi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i := i+2; k := k+1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od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057400"/>
            <a:ext cx="327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Dla  każdego j=1...k-1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istnieje takie u&lt;k, że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e[m[j]]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e[w[u]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429000"/>
            <a:ext cx="3276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Dla  każdego j=1...k-1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istnieje takie u&lt;k, że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e[w[j]]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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e[m[u]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53341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Żaden indeks w tablicy w[i] nie może wskazywać minimum ciągu  e. Żaden indeks w tablicy m[i] nie może wskazywać maksimum ciągu  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638680" y="1371600"/>
            <a:ext cx="2295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iezmiennik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52320" y="1676520"/>
            <a:ext cx="221004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7848720" y="45720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10800"/>
                </a:moveTo>
                <a:lnTo>
                  <a:pt x="22424" y="3794"/>
                </a:lnTo>
                <a:lnTo>
                  <a:pt x="22424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543-A6C1-4C0D-ADDD-8B0C4D20A9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naliza poprawności c.d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200400"/>
            <a:ext cx="5334120" cy="1618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 := m[1]; max :=w[1]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for i := 2 to k-1 do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if  e[m[i]] &lt;e[min] then  min := m[i] fi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if e[w[i]]&gt; e[max] then max := w[i] fi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d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1371600"/>
            <a:ext cx="6934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Wśród indeksów m[1], ...m[k] istnieje taki indeks min, że e[min]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e[i]   dla wszystkich i =1,...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Wśród indeksów m[1], ...m[k] istnieje taki indeks  max, że   e[i]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e[max]   dla wszystkich i =1,...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5105520"/>
            <a:ext cx="5181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e[min]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e[i]   dla wszystkich i =1,...n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 e[i] </a:t>
            </a:r>
            <a:r>
              <a:rPr b="1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e[max]   dla wszystkich i =1,...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7696080" y="4724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F1D-A369-4E27-AD80-C5CCD85F20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Min-max 4   -- przykład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990720"/>
            <a:ext cx="1371600" cy="703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bfae2"/>
                </a:solidFill>
                <a:latin typeface="Times New Roman"/>
              </a:rPr>
              <a:t>Założenie:   n = 2 </a:t>
            </a:r>
            <a:r>
              <a:rPr b="0" lang="pl-PL" sz="2000" spc="-1" strike="noStrike" baseline="30000">
                <a:solidFill>
                  <a:srgbClr val="fbfae2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5160" y="19051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, 5, 1, 8, 33, 11, 44, 10, 7, 2, 13, 22, 3, 55, 9, 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514600"/>
            <a:ext cx="327636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, 5, 1, 8, 33, 11, 44, 10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min= 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max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2514600"/>
            <a:ext cx="3200400" cy="76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7, 2, 13, 22, 3, 55, 9, 6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min=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max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1371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Dany ciąg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114800"/>
            <a:ext cx="16765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4, 5, 1, 8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=    max=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4114800"/>
            <a:ext cx="19810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3, 11, 44, 10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=   max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4038480"/>
            <a:ext cx="16765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7, 2, 13, 22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=   max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4038480"/>
            <a:ext cx="16002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, 55, 9, 6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=  max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332000">
            <a:off x="1725120" y="3179520"/>
            <a:ext cx="304920" cy="914400"/>
          </a:xfrm>
          <a:prstGeom prst="downArrow">
            <a:avLst>
              <a:gd name="adj1" fmla="val 39167"/>
              <a:gd name="adj2" fmla="val 7497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972800">
            <a:off x="5790960" y="3124080"/>
            <a:ext cx="304560" cy="914400"/>
          </a:xfrm>
          <a:prstGeom prst="downArrow">
            <a:avLst>
              <a:gd name="adj1" fmla="val 39167"/>
              <a:gd name="adj2" fmla="val 75059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9972200">
            <a:off x="3127320" y="3139560"/>
            <a:ext cx="228600" cy="914400"/>
          </a:xfrm>
          <a:prstGeom prst="downArrow">
            <a:avLst>
              <a:gd name="adj1" fmla="val 39167"/>
              <a:gd name="adj2" fmla="val 100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9986000">
            <a:off x="7318440" y="3129120"/>
            <a:ext cx="222120" cy="914400"/>
          </a:xfrm>
          <a:prstGeom prst="downArrow">
            <a:avLst>
              <a:gd name="adj1" fmla="val 50000"/>
              <a:gd name="adj2" fmla="val 10291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5562720"/>
            <a:ext cx="685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,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5638680"/>
            <a:ext cx="685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1,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562720"/>
            <a:ext cx="990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33,1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5562720"/>
            <a:ext cx="9144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4,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5562720"/>
            <a:ext cx="685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7,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5562720"/>
            <a:ext cx="9144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13,2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5638680"/>
            <a:ext cx="9144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3,5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05920" y="5638680"/>
            <a:ext cx="6094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9,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9600">
            <a:off x="1447560" y="4876920"/>
            <a:ext cx="190440" cy="799920"/>
          </a:xfrm>
          <a:prstGeom prst="downArrow">
            <a:avLst>
              <a:gd name="adj1" fmla="val 50000"/>
              <a:gd name="adj2" fmla="val 105009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9600">
            <a:off x="5562360" y="4800600"/>
            <a:ext cx="190440" cy="800280"/>
          </a:xfrm>
          <a:prstGeom prst="downArrow">
            <a:avLst>
              <a:gd name="adj1" fmla="val 50000"/>
              <a:gd name="adj2" fmla="val 10505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9600">
            <a:off x="3200040" y="4876920"/>
            <a:ext cx="190440" cy="799920"/>
          </a:xfrm>
          <a:prstGeom prst="downArrow">
            <a:avLst>
              <a:gd name="adj1" fmla="val 50000"/>
              <a:gd name="adj2" fmla="val 105009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0124000">
            <a:off x="2209680" y="4952520"/>
            <a:ext cx="169920" cy="800280"/>
          </a:xfrm>
          <a:prstGeom prst="downArrow">
            <a:avLst>
              <a:gd name="adj1" fmla="val 50000"/>
              <a:gd name="adj2" fmla="val 117744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0124000">
            <a:off x="4038480" y="4876560"/>
            <a:ext cx="169920" cy="799920"/>
          </a:xfrm>
          <a:prstGeom prst="downArrow">
            <a:avLst>
              <a:gd name="adj1" fmla="val 50000"/>
              <a:gd name="adj2" fmla="val 11769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0124000">
            <a:off x="6324480" y="4876560"/>
            <a:ext cx="169920" cy="799920"/>
          </a:xfrm>
          <a:prstGeom prst="downArrow">
            <a:avLst>
              <a:gd name="adj1" fmla="val 50000"/>
              <a:gd name="adj2" fmla="val 11769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0124000">
            <a:off x="8229600" y="4952520"/>
            <a:ext cx="169920" cy="800280"/>
          </a:xfrm>
          <a:prstGeom prst="downArrow">
            <a:avLst>
              <a:gd name="adj1" fmla="val 50000"/>
              <a:gd name="adj2" fmla="val 117744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9600">
            <a:off x="7467120" y="4952880"/>
            <a:ext cx="190800" cy="800280"/>
          </a:xfrm>
          <a:prstGeom prst="downArrow">
            <a:avLst>
              <a:gd name="adj1" fmla="val 50000"/>
              <a:gd name="adj2" fmla="val 104858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19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44197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4419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419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2819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470-4854-4F28-8253-C19AEC0D43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9072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Min-max 4 -- przykł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91520" y="990720"/>
            <a:ext cx="1371600" cy="703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bfae2"/>
                </a:solidFill>
                <a:latin typeface="Times New Roman"/>
              </a:rPr>
              <a:t>Założenie:   n = 2 </a:t>
            </a:r>
            <a:r>
              <a:rPr b="0" lang="pl-PL" sz="2000" spc="-1" strike="noStrike" baseline="30000">
                <a:solidFill>
                  <a:srgbClr val="fbfae2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5160" y="19051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, 5, 1, 8, 33, 11, 44, 10, 7, 2, 13, 22, 3, 55, 9, 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514600"/>
            <a:ext cx="327636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, 5, 1, 8, 33, 11, 44, 10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min= 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max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2514600"/>
            <a:ext cx="3200400" cy="764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7, 2, 13, 22, 3, 55, 9, 6</a:t>
            </a:r>
            <a:br>
              <a:rPr sz="2000"/>
            </a:b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min=2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max=5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1371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Dany ciąg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4114800"/>
            <a:ext cx="16765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4, 5, 1, 8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=    max=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4114800"/>
            <a:ext cx="19810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3, 11, 44, 10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=    max=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4038480"/>
            <a:ext cx="18288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7, 2, 13, 22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=2  max=2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6600" y="4038480"/>
            <a:ext cx="18288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, 55, 9, 6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in=3  max=5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332000">
            <a:off x="1725120" y="3179520"/>
            <a:ext cx="304920" cy="914400"/>
          </a:xfrm>
          <a:prstGeom prst="downArrow">
            <a:avLst>
              <a:gd name="adj1" fmla="val 39167"/>
              <a:gd name="adj2" fmla="val 7497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72800">
            <a:off x="5790960" y="3124080"/>
            <a:ext cx="304560" cy="914400"/>
          </a:xfrm>
          <a:prstGeom prst="downArrow">
            <a:avLst>
              <a:gd name="adj1" fmla="val 39167"/>
              <a:gd name="adj2" fmla="val 75059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9972200">
            <a:off x="3127320" y="3139560"/>
            <a:ext cx="228600" cy="914400"/>
          </a:xfrm>
          <a:prstGeom prst="downArrow">
            <a:avLst>
              <a:gd name="adj1" fmla="val 39167"/>
              <a:gd name="adj2" fmla="val 100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9986000">
            <a:off x="7318440" y="3129120"/>
            <a:ext cx="222120" cy="914400"/>
          </a:xfrm>
          <a:prstGeom prst="downArrow">
            <a:avLst>
              <a:gd name="adj1" fmla="val 50000"/>
              <a:gd name="adj2" fmla="val 10291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5562720"/>
            <a:ext cx="685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,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5638680"/>
            <a:ext cx="685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1,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5562720"/>
            <a:ext cx="990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33,1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5562720"/>
            <a:ext cx="9144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44,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5562720"/>
            <a:ext cx="685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7,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5562720"/>
            <a:ext cx="9144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13,2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5638680"/>
            <a:ext cx="9144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3,5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05920" y="5638680"/>
            <a:ext cx="6094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9,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9600">
            <a:off x="1447560" y="4876920"/>
            <a:ext cx="190440" cy="799920"/>
          </a:xfrm>
          <a:prstGeom prst="downArrow">
            <a:avLst>
              <a:gd name="adj1" fmla="val 50000"/>
              <a:gd name="adj2" fmla="val 105009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9600">
            <a:off x="5562360" y="4800600"/>
            <a:ext cx="190440" cy="800280"/>
          </a:xfrm>
          <a:prstGeom prst="downArrow">
            <a:avLst>
              <a:gd name="adj1" fmla="val 50000"/>
              <a:gd name="adj2" fmla="val 10505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9600">
            <a:off x="3200040" y="4876920"/>
            <a:ext cx="190440" cy="799920"/>
          </a:xfrm>
          <a:prstGeom prst="downArrow">
            <a:avLst>
              <a:gd name="adj1" fmla="val 50000"/>
              <a:gd name="adj2" fmla="val 105009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124000">
            <a:off x="2209680" y="4952520"/>
            <a:ext cx="169920" cy="800280"/>
          </a:xfrm>
          <a:prstGeom prst="downArrow">
            <a:avLst>
              <a:gd name="adj1" fmla="val 50000"/>
              <a:gd name="adj2" fmla="val 117744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20124000">
            <a:off x="4038480" y="4876560"/>
            <a:ext cx="169920" cy="799920"/>
          </a:xfrm>
          <a:prstGeom prst="downArrow">
            <a:avLst>
              <a:gd name="adj1" fmla="val 50000"/>
              <a:gd name="adj2" fmla="val 11769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20124000">
            <a:off x="6324480" y="4876560"/>
            <a:ext cx="169920" cy="799920"/>
          </a:xfrm>
          <a:prstGeom prst="downArrow">
            <a:avLst>
              <a:gd name="adj1" fmla="val 50000"/>
              <a:gd name="adj2" fmla="val 11769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20124000">
            <a:off x="8229600" y="4952520"/>
            <a:ext cx="169920" cy="800280"/>
          </a:xfrm>
          <a:prstGeom prst="downArrow">
            <a:avLst>
              <a:gd name="adj1" fmla="val 50000"/>
              <a:gd name="adj2" fmla="val 117744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9600">
            <a:off x="7467120" y="4952880"/>
            <a:ext cx="190800" cy="800280"/>
          </a:xfrm>
          <a:prstGeom prst="downArrow">
            <a:avLst>
              <a:gd name="adj1" fmla="val 50000"/>
              <a:gd name="adj2" fmla="val 104858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4419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4600" y="44197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4419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4419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2819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min = 1     max = 5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C24-288B-46F5-BF50-F5A146B9849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min-max 4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1219320"/>
            <a:ext cx="70102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obiekt function  min_max4 (int i, j)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//deklaracja i tworzenie obietktów result, lewy, prawy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{  if  ( i+1=j ) then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if e[j] &gt; e[i] then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  result.max := j; result.min := i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else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result.min := j; result.max :=i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fi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else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x:= (i+j-1) div 2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lewy := min_max4( i, x)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prawy := min_max4( x+1, j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if  e[prawy.min]&lt;e[lewy.min] then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     result.min := prawy.min else   result.min := lewy.min   fi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if  e[lewy.max]&lt; e[prawy.max] then 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               result.max := prawy.max else   result.max := lewy.max  fi;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   fi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}         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162920" y="1371600"/>
            <a:ext cx="1143000" cy="1434960"/>
            <a:chOff x="7162920" y="1371600"/>
            <a:chExt cx="1143000" cy="1434960"/>
          </a:xfrm>
        </p:grpSpPr>
        <p:sp>
          <p:nvSpPr>
            <p:cNvPr id="230" name=""/>
            <p:cNvSpPr/>
            <p:nvPr/>
          </p:nvSpPr>
          <p:spPr>
            <a:xfrm>
              <a:off x="7315200" y="1981080"/>
              <a:ext cx="990720" cy="825480"/>
            </a:xfrm>
            <a:prstGeom prst="rect">
              <a:avLst/>
            </a:prstGeom>
            <a:noFill/>
            <a:ln w="7632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min</a:t>
              </a:r>
              <a:br>
                <a:rPr sz="2400"/>
              </a:b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7162920" y="1371600"/>
              <a:ext cx="10951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obiekt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562720" y="3124080"/>
            <a:ext cx="3276360" cy="916920"/>
            <a:chOff x="5562720" y="3124080"/>
            <a:chExt cx="3276360" cy="916920"/>
          </a:xfrm>
        </p:grpSpPr>
        <p:sp>
          <p:nvSpPr>
            <p:cNvPr id="233" name=""/>
            <p:cNvSpPr/>
            <p:nvPr/>
          </p:nvSpPr>
          <p:spPr>
            <a:xfrm>
              <a:off x="5715000" y="3505320"/>
              <a:ext cx="28954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62720" y="3581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0280" y="3124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38880" y="350532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5000" y="3429000"/>
              <a:ext cx="0" cy="152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10480" y="3429000"/>
              <a:ext cx="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45820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402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4343400" y="3581280"/>
            <a:ext cx="220968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76920" y="3581280"/>
            <a:ext cx="3047760" cy="838440"/>
          </a:xfrm>
          <a:prstGeom prst="line">
            <a:avLst/>
          </a:prstGeom>
          <a:ln w="9360">
            <a:solidFill>
              <a:srgbClr val="402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8001000" y="4648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3   Minimum i maksim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D51-47EC-4139-9C0C-7A93A38069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zec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01:37Z</dcterms:created>
  <dc:creator>grażyna</dc:creator>
  <dc:description/>
  <cp:keywords>minimum maksimum algorytm złożoność poprawność koszt</cp:keywords>
  <dc:language>en-US</dc:language>
  <cp:lastModifiedBy>mirkowska</cp:lastModifiedBy>
  <dcterms:modified xsi:type="dcterms:W3CDTF">2003-04-07T13:46:08Z</dcterms:modified>
  <cp:revision>110</cp:revision>
  <dc:subject>W03, minimum i maksimum</dc:subject>
  <dc:title>ALGORYTMY I STRUKTURY  DANYCH</dc:title>
</cp:coreProperties>
</file>