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56BF8-94AE-4099-908F-BE23C182DCF3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a tym przykładzie chciałabym pokazać, jak stosuje się postulaty KolejekPriorytetowych do dowodzenia poprawności programó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zypuśćmy, że zastosowanie wymaga zbioru dynamicznego, w którym wykonywac bedziemy operacje słownikowe : insert, delete, memeber. Przypuśćmy ponadto, że każdy element zbioru jest scharakteryzowany przez klucz, który należy do zbioru U={0,1,2...,n-1}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ash-table jest strukturą uogólniającą pojecie tablicy. Każdy element zamiast być bezpośrednio zapisany w tablicy pod adresem wskazanym przez klucz k, jest zapisywany pod adresem h(k), gdzie h jest pewną funkcją mieszającą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iele zastosowań wymaga tworzenia i przechowywania dynamicznego na którym wykonuje się operacje typowe dla slowników: insert, search, de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ablice hash jest efektywną stukturą danych do implementacji słownika:przy rozsądnych założeniach operacje wykonuje sie z kosztem stały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7F70-407F-48F4-B66A-F0AE27317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90720" y="38685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314F-62B4-4AEB-984A-0EC15F103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734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9072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7340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02DC-6611-413E-AB1D-0DD3779DB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1872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24636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9072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61872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24636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EF15-96AF-4416-B643-33C5BBB1C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2756A-76CF-476B-8AF4-014C7F2E5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9907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E7FF4-3D21-4E00-B8A0-4BE8DEA97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399D4-500B-43ED-B1A2-D8D1F9E87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340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2F93C-9B2F-42A5-A2B9-FFEB9E31E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9C0F2-FA08-4688-8682-F9026122E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6960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39316-02CC-45B9-B103-E0BF1663D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340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072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1FEA4-7627-4ACA-A457-DEE6A3670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907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FB78-240F-48AE-84FB-7667A51B3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34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340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08F63-1CC2-417E-B1F9-EE8EB50F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34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38685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3EEFD-1A18-4481-8382-F4D4FC4F7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990720" y="38685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51DAE-B584-450F-B7F0-FCC0B6E59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34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9072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340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7381C-E71B-444C-BE15-05D05CCB6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1872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4636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99072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1872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4636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1BEFF-7F5A-4702-858C-FA5E65F86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F2A2-5153-4905-9799-22768E092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340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8461-F639-4AE6-8F5A-1CEEF853A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A2A8-708A-42D5-9F36-4F6568C7D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6960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23DD-9DA0-4B21-A6A5-592FD77A5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7340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72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E267-EA6B-43B8-9782-FCDFE864C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734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7340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6F72-614C-4825-A825-CE689752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734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90720" y="38685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06AD-6650-4816-A22A-F47CDA6E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819160" y="6095880"/>
            <a:ext cx="4800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619760" y="609588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57128-F0A0-419D-84F8-30ABC4521FDD}" type="slidenum"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066680" y="1447920"/>
            <a:ext cx="762012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7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8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2920A-5D69-4A99-A0D6-CB4F1B82C65F}" type="slidenum"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400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5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" Target="slide20.xml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996633"/>
                </a:solidFill>
                <a:latin typeface="Times New Roman"/>
              </a:rPr>
              <a:t>ALGORYTMY I STRUKTURY  DANYCH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a08366"/>
                </a:solidFill>
                <a:latin typeface="Times New Roman"/>
              </a:rPr>
              <a:t>WYKŁAD  10  Kolejki priorytetowe i słowniki</a:t>
            </a:r>
            <a:endParaRPr b="0" lang="en-US" sz="20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a08366"/>
                </a:solidFill>
                <a:latin typeface="Times New Roman"/>
              </a:rPr>
              <a:t>Grażyna Mirkowska</a:t>
            </a:r>
            <a:endParaRPr b="0" lang="en-US" sz="20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a08366"/>
                </a:solidFill>
                <a:latin typeface="Times New Roman"/>
              </a:rPr>
              <a:t>PJWSTK,    semestr letni 2003</a:t>
            </a:r>
            <a:endParaRPr b="0" lang="en-US" sz="20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Przykład 2 : podział  zbioru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23880" y="1600200"/>
            <a:ext cx="6477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Dane są zbiory A, B  i C w pewnej przestrzeni liniowo uporządkowanej  &lt;E,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&gt;  takie, że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card(A) = n,   card(B) = m,   A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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B= C,    A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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B =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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295280" y="2895480"/>
            <a:ext cx="731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Znaleźć podział zbioru C na  podzbiory A’ i B’ takie, że card(A’) = n card(B’) = m      i       (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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a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A’)(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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b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B’) a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b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 rot="5400000">
            <a:off x="190440" y="2476440"/>
            <a:ext cx="20574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Zadani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8" name=""/>
          <p:cNvSpPr/>
          <p:nvPr/>
        </p:nvSpPr>
        <p:spPr>
          <a:xfrm>
            <a:off x="914400" y="4343400"/>
            <a:ext cx="403848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A:  3, 15,  1,  9,  10,  23,  8,  17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257800" y="4343400"/>
            <a:ext cx="304812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B:  24,  5,   18,  12,   4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657600" y="4724280"/>
            <a:ext cx="4191120" cy="673200"/>
          </a:xfrm>
          <a:custGeom>
            <a:avLst/>
            <a:gdLst/>
            <a:ahLst/>
            <a:rect l="l" t="t" r="r" b="b"/>
            <a:pathLst>
              <a:path w="2448" h="376">
                <a:moveTo>
                  <a:pt x="0" y="0"/>
                </a:moveTo>
                <a:cubicBezTo>
                  <a:pt x="380" y="116"/>
                  <a:pt x="760" y="232"/>
                  <a:pt x="1056" y="288"/>
                </a:cubicBezTo>
                <a:cubicBezTo>
                  <a:pt x="1352" y="344"/>
                  <a:pt x="1544" y="376"/>
                  <a:pt x="1776" y="336"/>
                </a:cubicBezTo>
                <a:cubicBezTo>
                  <a:pt x="2008" y="296"/>
                  <a:pt x="2336" y="96"/>
                  <a:pt x="2448" y="48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429000" y="4343400"/>
            <a:ext cx="53352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4,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772400" y="4343400"/>
            <a:ext cx="762120" cy="459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23,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172200" y="4343400"/>
            <a:ext cx="609480" cy="459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17,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419720" y="4343400"/>
            <a:ext cx="533160" cy="459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5,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371600" y="38098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9900"/>
                </a:solidFill>
                <a:latin typeface="Times New Roman"/>
              </a:rPr>
              <a:t>Przykład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 rot="5400000">
            <a:off x="7601040" y="4591080"/>
            <a:ext cx="1905120" cy="495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metoda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0" y="4724280"/>
            <a:ext cx="1828800" cy="774720"/>
          </a:xfrm>
          <a:custGeom>
            <a:avLst/>
            <a:gdLst/>
            <a:ahLst/>
            <a:rect l="l" t="t" r="r" b="b"/>
            <a:pathLst>
              <a:path w="1152" h="488">
                <a:moveTo>
                  <a:pt x="0" y="48"/>
                </a:moveTo>
                <a:cubicBezTo>
                  <a:pt x="192" y="268"/>
                  <a:pt x="384" y="488"/>
                  <a:pt x="576" y="480"/>
                </a:cubicBezTo>
                <a:cubicBezTo>
                  <a:pt x="768" y="472"/>
                  <a:pt x="1056" y="80"/>
                  <a:pt x="1152" y="0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124080" y="556272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max(A)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min(B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10 Kolejki priorytetowe i słownik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73BF-1472-42C4-9842-23925F78595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j 2003</a:t>
            </a:r>
          </a:p>
        </p:txBody>
      </p:sp>
    </p:spTree>
  </p:cSld>
  <p:transition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Algorytm- podział zbioru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19320" y="2895480"/>
            <a:ext cx="441936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while (not min(A) </a:t>
            </a:r>
            <a:r>
              <a:rPr b="0" lang="pl-PL" sz="24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min(B)) d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a := min(A);</a:t>
            </a:r>
            <a:br>
              <a:rPr sz="2400"/>
            </a:b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     b := min(B)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A := insert(b,delmin(A));</a:t>
            </a:r>
            <a:br>
              <a:rPr sz="2400"/>
            </a:b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     B := insert(a, delmin(B))</a:t>
            </a:r>
            <a:br>
              <a:rPr sz="2400"/>
            </a:br>
            <a:br>
              <a:rPr sz="2400"/>
            </a:b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od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19320" y="1600200"/>
            <a:ext cx="304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A kolejka priorytetowa z porządkiem  </a:t>
            </a:r>
            <a:r>
              <a:rPr b="0" lang="pl-PL" sz="24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2400" spc="-1" strike="noStrike" baseline="30000">
                <a:solidFill>
                  <a:srgbClr val="402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10080" y="152388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B - kolejka priorytetowa z porządkiem </a:t>
            </a:r>
            <a:r>
              <a:rPr b="0" lang="pl-PL" sz="24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562720" y="3505320"/>
            <a:ext cx="289548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Card(A)=n    card(B)=m, 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A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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B= C,    A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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B =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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3809520" y="3352680"/>
            <a:ext cx="1752840" cy="5335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2514240" y="4114800"/>
            <a:ext cx="3048120" cy="10666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38680" y="4343400"/>
            <a:ext cx="2667240" cy="581400"/>
          </a:xfrm>
          <a:prstGeom prst="rect">
            <a:avLst/>
          </a:prstGeom>
          <a:solidFill>
            <a:srgbClr val="a08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9900"/>
                </a:solidFill>
                <a:latin typeface="Times New Roman"/>
              </a:rPr>
              <a:t>Niezmiennik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038480" y="5562720"/>
            <a:ext cx="327672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   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min(A) </a:t>
            </a:r>
            <a:r>
              <a:rPr b="0" lang="pl-PL" sz="24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min(B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447560" y="5867280"/>
            <a:ext cx="2514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10 Kolejki priorytetowe i słownik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D001-532E-481A-B943-75B4C3856FC4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j 2003</a:t>
            </a:r>
          </a:p>
        </p:txBody>
      </p:sp>
    </p:spTree>
  </p:cSld>
  <p:transition>
    <p:strips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Słowniki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5400000">
            <a:off x="-171720" y="2990880"/>
            <a:ext cx="297180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Definicja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1" name=""/>
          <p:cNvSpPr/>
          <p:nvPr/>
        </p:nvSpPr>
        <p:spPr>
          <a:xfrm>
            <a:off x="1828800" y="1600200"/>
            <a:ext cx="6629400" cy="32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Strukturę danych nazywamy słownikiem wttw jej uniwersum składa się z dwóch rozłącznych zbiorów Et i S oraz określone są następujące relacje i operacje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insert : Et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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S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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S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delete : Et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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S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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S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member : Et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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S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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B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amb : S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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Et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empty : S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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B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spełniające następujące postulaty 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600200" y="4876920"/>
            <a:ext cx="411480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. empty(s)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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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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e) member(e,s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00400" y="5410080"/>
            <a:ext cx="426708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2.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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empty(s)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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member(amb(s),s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10 Kolejki priorytetowe i słownik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1719-1454-42AB-996C-0F324C062A1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j 2003</a:t>
            </a:r>
          </a:p>
        </p:txBody>
      </p:sp>
    </p:spTree>
  </p:cSld>
  <p:transition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Specyfikacja słowników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166760" y="1600200"/>
            <a:ext cx="5194800" cy="862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3.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member(e, insert(e,s)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e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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e’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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member(e’, s)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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member(e’,insert(e,s)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530160" y="2590920"/>
            <a:ext cx="5214600" cy="862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4.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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member(e, delete(e,s)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e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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e’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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member(e, s)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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member(e, delete(e’,s)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90720" y="3657600"/>
            <a:ext cx="6476760" cy="398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5.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while (not empty(s)) do s := delete(amb(s),s) od empty(s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95280" y="4191120"/>
            <a:ext cx="7010640" cy="17773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6.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member(e,s)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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P bool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P : {bool := false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while(not empty(s) and not bool ) do  e’ := amb(s)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      bool := (e’=e); s:=delete(e’, s) 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od  }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5880" y="990720"/>
            <a:ext cx="2438640" cy="1447560"/>
          </a:xfrm>
          <a:prstGeom prst="cloudCallout">
            <a:avLst>
              <a:gd name="adj1" fmla="val 11912"/>
              <a:gd name="adj2" fmla="val -61842"/>
            </a:avLst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2000"/>
                </a:solidFill>
                <a:latin typeface="Times New Roman"/>
              </a:rPr>
              <a:t>Jeśli e włożymy  do słownika s, to member stwierdzi należenie tego elementu do s.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66680" y="2514600"/>
            <a:ext cx="2362320" cy="1066680"/>
          </a:xfrm>
          <a:prstGeom prst="cloudCallout">
            <a:avLst>
              <a:gd name="adj1" fmla="val -44958"/>
              <a:gd name="adj2" fmla="val 31398"/>
            </a:avLst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402000"/>
                </a:solidFill>
                <a:latin typeface="Times New Roman"/>
              </a:rPr>
              <a:t>Delete usuwa tylko wskazany element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10280" y="3581280"/>
            <a:ext cx="1752840" cy="1219320"/>
          </a:xfrm>
          <a:prstGeom prst="cloudCallout">
            <a:avLst>
              <a:gd name="adj1" fmla="val 34240"/>
              <a:gd name="adj2" fmla="val 13800"/>
            </a:avLst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402000"/>
                </a:solidFill>
                <a:latin typeface="Times New Roman"/>
              </a:rPr>
              <a:t>Każdy słownik jest skończony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10 Kolejki priorytetowe i słownik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B040-5210-4178-9504-CE468E19FF3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j 2003</a:t>
            </a:r>
          </a:p>
        </p:txBody>
      </p:sp>
    </p:spTree>
  </p:cSld>
  <p:transition>
    <p:strips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Model standardowy 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371600" y="16765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SŁ(E) = </a:t>
            </a:r>
            <a:r>
              <a:rPr b="1" lang="pl-PL" sz="2400" spc="-1" strike="noStrike">
                <a:solidFill>
                  <a:srgbClr val="402000"/>
                </a:solidFill>
                <a:latin typeface="Symbol"/>
                <a:ea typeface="Symbol"/>
              </a:rPr>
              <a:t>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E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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Fin(E), insert, delete, amb, member, empty  </a:t>
            </a:r>
            <a:r>
              <a:rPr b="1" lang="pl-PL" sz="2400" spc="-1" strike="noStrike">
                <a:solidFill>
                  <a:srgbClr val="402000"/>
                </a:solidFill>
                <a:latin typeface="Symbol"/>
                <a:ea typeface="Symbol"/>
              </a:rPr>
              <a:t>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066680" y="25909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gdzie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362320" y="2438280"/>
            <a:ext cx="4267080" cy="1936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insert(e, s) =</a:t>
            </a:r>
            <a:r>
              <a:rPr b="0" lang="pl-PL" sz="2000" spc="-1" strike="noStrike" baseline="30000">
                <a:solidFill>
                  <a:srgbClr val="402000"/>
                </a:solidFill>
                <a:latin typeface="Times New Roman"/>
              </a:rPr>
              <a:t>df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s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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{e}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delete (e, s) =</a:t>
            </a:r>
            <a:r>
              <a:rPr b="0" lang="pl-PL" sz="2000" spc="-1" strike="noStrike" baseline="30000">
                <a:solidFill>
                  <a:srgbClr val="402000"/>
                </a:solidFill>
                <a:latin typeface="Times New Roman"/>
              </a:rPr>
              <a:t>df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s  \  {e}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amb(s) dowolna funkcja określona na elementach    s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member(e,s)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</a:t>
            </a:r>
            <a:r>
              <a:rPr b="0" lang="pl-PL" sz="2000" spc="-1" strike="noStrike" baseline="30000">
                <a:solidFill>
                  <a:srgbClr val="402000"/>
                </a:solidFill>
                <a:latin typeface="Times New Roman"/>
              </a:rPr>
              <a:t>df 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e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s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143000" y="47242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9900"/>
                </a:solidFill>
                <a:latin typeface="Times New Roman"/>
              </a:rPr>
              <a:t>Możliwe modele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876920" y="4724280"/>
            <a:ext cx="22287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BST    AVL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143000" y="55627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A jakie są koszty operacji słownikowych w tych modelach?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10 Kolejki priorytetowe i słownik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49D7-FBF3-4E85-A170-449E7E60F3E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j 2003</a:t>
            </a:r>
          </a:p>
        </p:txBody>
      </p:sp>
    </p:spTree>
  </p:cSld>
  <p:transition>
    <p:strips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Najprostszy model - adresowanie bezpośrednie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828800" y="1828800"/>
            <a:ext cx="2438280" cy="205740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803680" y="2602080"/>
            <a:ext cx="1303200" cy="966600"/>
          </a:xfrm>
          <a:custGeom>
            <a:avLst/>
            <a:gdLst/>
            <a:ahLst/>
            <a:rect l="l" t="t" r="r" b="b"/>
            <a:pathLst>
              <a:path w="821" h="609">
                <a:moveTo>
                  <a:pt x="421" y="201"/>
                </a:moveTo>
                <a:cubicBezTo>
                  <a:pt x="385" y="183"/>
                  <a:pt x="353" y="157"/>
                  <a:pt x="314" y="148"/>
                </a:cubicBezTo>
                <a:cubicBezTo>
                  <a:pt x="263" y="136"/>
                  <a:pt x="196" y="193"/>
                  <a:pt x="154" y="214"/>
                </a:cubicBezTo>
                <a:cubicBezTo>
                  <a:pt x="145" y="227"/>
                  <a:pt x="137" y="242"/>
                  <a:pt x="127" y="254"/>
                </a:cubicBezTo>
                <a:cubicBezTo>
                  <a:pt x="115" y="268"/>
                  <a:pt x="98" y="279"/>
                  <a:pt x="87" y="294"/>
                </a:cubicBezTo>
                <a:cubicBezTo>
                  <a:pt x="0" y="418"/>
                  <a:pt x="125" y="284"/>
                  <a:pt x="21" y="388"/>
                </a:cubicBezTo>
                <a:cubicBezTo>
                  <a:pt x="30" y="401"/>
                  <a:pt x="34" y="420"/>
                  <a:pt x="47" y="428"/>
                </a:cubicBezTo>
                <a:cubicBezTo>
                  <a:pt x="71" y="443"/>
                  <a:pt x="127" y="454"/>
                  <a:pt x="127" y="454"/>
                </a:cubicBezTo>
                <a:cubicBezTo>
                  <a:pt x="154" y="472"/>
                  <a:pt x="180" y="490"/>
                  <a:pt x="207" y="508"/>
                </a:cubicBezTo>
                <a:cubicBezTo>
                  <a:pt x="238" y="529"/>
                  <a:pt x="287" y="588"/>
                  <a:pt x="287" y="588"/>
                </a:cubicBezTo>
                <a:cubicBezTo>
                  <a:pt x="409" y="579"/>
                  <a:pt x="453" y="609"/>
                  <a:pt x="527" y="548"/>
                </a:cubicBezTo>
                <a:cubicBezTo>
                  <a:pt x="656" y="441"/>
                  <a:pt x="438" y="593"/>
                  <a:pt x="647" y="454"/>
                </a:cubicBezTo>
                <a:cubicBezTo>
                  <a:pt x="660" y="445"/>
                  <a:pt x="687" y="428"/>
                  <a:pt x="687" y="428"/>
                </a:cubicBezTo>
                <a:cubicBezTo>
                  <a:pt x="718" y="340"/>
                  <a:pt x="790" y="276"/>
                  <a:pt x="821" y="188"/>
                </a:cubicBezTo>
                <a:cubicBezTo>
                  <a:pt x="806" y="131"/>
                  <a:pt x="790" y="92"/>
                  <a:pt x="741" y="54"/>
                </a:cubicBezTo>
                <a:cubicBezTo>
                  <a:pt x="716" y="34"/>
                  <a:pt x="661" y="1"/>
                  <a:pt x="661" y="1"/>
                </a:cubicBezTo>
                <a:cubicBezTo>
                  <a:pt x="634" y="5"/>
                  <a:pt x="604" y="0"/>
                  <a:pt x="581" y="14"/>
                </a:cubicBezTo>
                <a:cubicBezTo>
                  <a:pt x="542" y="38"/>
                  <a:pt x="544" y="179"/>
                  <a:pt x="541" y="188"/>
                </a:cubicBezTo>
                <a:cubicBezTo>
                  <a:pt x="535" y="206"/>
                  <a:pt x="476" y="223"/>
                  <a:pt x="461" y="228"/>
                </a:cubicBezTo>
                <a:cubicBezTo>
                  <a:pt x="401" y="212"/>
                  <a:pt x="393" y="227"/>
                  <a:pt x="421" y="201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2362320" y="3200040"/>
            <a:ext cx="838080" cy="12193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14400" y="403848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Zbiór aktualnie używanych kluczy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124080" y="2743200"/>
            <a:ext cx="106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2    5  7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371600"/>
            <a:ext cx="2666880" cy="4724280"/>
            <a:chOff x="5029200" y="1371600"/>
            <a:chExt cx="2666880" cy="4724280"/>
          </a:xfrm>
        </p:grpSpPr>
        <p:sp>
          <p:nvSpPr>
            <p:cNvPr id="206" name=""/>
            <p:cNvSpPr/>
            <p:nvPr/>
          </p:nvSpPr>
          <p:spPr>
            <a:xfrm>
              <a:off x="5638680" y="1828800"/>
              <a:ext cx="533520" cy="53352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638680" y="2362320"/>
              <a:ext cx="533520" cy="53316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638680" y="2895480"/>
              <a:ext cx="533520" cy="53352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638680" y="3429000"/>
              <a:ext cx="533520" cy="53352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867280" y="2590920"/>
              <a:ext cx="76212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781680" y="2362320"/>
              <a:ext cx="304920" cy="45720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086600" y="2362320"/>
              <a:ext cx="609480" cy="45720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e1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410080" y="137160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tablica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38680" y="3962520"/>
              <a:ext cx="533520" cy="53316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638680" y="4495680"/>
              <a:ext cx="533520" cy="53352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638680" y="5029200"/>
              <a:ext cx="533520" cy="53352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943600" y="4343400"/>
              <a:ext cx="76212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781680" y="4114800"/>
              <a:ext cx="304920" cy="45720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86600" y="4114800"/>
              <a:ext cx="609480" cy="45720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e2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943600" y="5181480"/>
              <a:ext cx="76212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781680" y="4952880"/>
              <a:ext cx="304920" cy="45720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086600" y="4952880"/>
              <a:ext cx="609480" cy="45720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e3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334120" y="1981080"/>
              <a:ext cx="3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029200" y="51055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n-1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638680" y="5562720"/>
              <a:ext cx="533520" cy="53316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 txBox="1"/>
          <p:nvPr/>
        </p:nvSpPr>
        <p:spPr>
          <a:xfrm>
            <a:off x="3124080" y="4572000"/>
            <a:ext cx="1362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Uwaga!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7" name=""/>
          <p:cNvSpPr/>
          <p:nvPr/>
        </p:nvSpPr>
        <p:spPr>
          <a:xfrm>
            <a:off x="1676520" y="5105520"/>
            <a:ext cx="33526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. Dobry koszt czasowy ale...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2. Zbyt wiele „dziur”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352680" y="1981080"/>
            <a:ext cx="2286000" cy="800280"/>
          </a:xfrm>
          <a:custGeom>
            <a:avLst/>
            <a:gdLst/>
            <a:ahLst/>
            <a:rect l="l" t="t" r="r" b="b"/>
            <a:pathLst>
              <a:path w="1440" h="504">
                <a:moveTo>
                  <a:pt x="0" y="504"/>
                </a:moveTo>
                <a:cubicBezTo>
                  <a:pt x="288" y="276"/>
                  <a:pt x="576" y="48"/>
                  <a:pt x="816" y="24"/>
                </a:cubicBezTo>
                <a:cubicBezTo>
                  <a:pt x="1056" y="0"/>
                  <a:pt x="1336" y="304"/>
                  <a:pt x="1440" y="360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2844720"/>
            <a:ext cx="1904760" cy="1422360"/>
          </a:xfrm>
          <a:custGeom>
            <a:avLst/>
            <a:gdLst/>
            <a:ahLst/>
            <a:rect l="l" t="t" r="r" b="b"/>
            <a:pathLst>
              <a:path w="1200" h="896">
                <a:moveTo>
                  <a:pt x="0" y="80"/>
                </a:moveTo>
                <a:cubicBezTo>
                  <a:pt x="292" y="40"/>
                  <a:pt x="584" y="0"/>
                  <a:pt x="720" y="80"/>
                </a:cubicBezTo>
                <a:cubicBezTo>
                  <a:pt x="856" y="160"/>
                  <a:pt x="784" y="448"/>
                  <a:pt x="816" y="560"/>
                </a:cubicBezTo>
                <a:cubicBezTo>
                  <a:pt x="848" y="672"/>
                  <a:pt x="848" y="696"/>
                  <a:pt x="912" y="752"/>
                </a:cubicBezTo>
                <a:cubicBezTo>
                  <a:pt x="976" y="808"/>
                  <a:pt x="1152" y="872"/>
                  <a:pt x="1200" y="896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276720" y="3429000"/>
            <a:ext cx="2438280" cy="1828800"/>
          </a:xfrm>
          <a:custGeom>
            <a:avLst/>
            <a:gdLst/>
            <a:ahLst/>
            <a:rect l="l" t="t" r="r" b="b"/>
            <a:pathLst>
              <a:path w="1536" h="1152">
                <a:moveTo>
                  <a:pt x="0" y="0"/>
                </a:moveTo>
                <a:cubicBezTo>
                  <a:pt x="176" y="60"/>
                  <a:pt x="352" y="120"/>
                  <a:pt x="528" y="192"/>
                </a:cubicBezTo>
                <a:cubicBezTo>
                  <a:pt x="704" y="264"/>
                  <a:pt x="968" y="304"/>
                  <a:pt x="1056" y="432"/>
                </a:cubicBezTo>
                <a:cubicBezTo>
                  <a:pt x="1144" y="560"/>
                  <a:pt x="976" y="840"/>
                  <a:pt x="1056" y="960"/>
                </a:cubicBezTo>
                <a:cubicBezTo>
                  <a:pt x="1136" y="1080"/>
                  <a:pt x="1456" y="1120"/>
                  <a:pt x="1536" y="1152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43000" y="15238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Card (U) = n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10 Kolejki priorytetowe i słownik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C61A-77B3-4B4C-8027-D11C7BA9672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j 2003</a:t>
            </a:r>
          </a:p>
        </p:txBody>
      </p:sp>
    </p:spTree>
  </p:cSld>
  <p:transition>
    <p:strips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Tablice mieszające  (hash-table)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1676520"/>
            <a:ext cx="3504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h : U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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{0,1,..., m-1}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przy czym card(U) &gt; m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876920" y="1447920"/>
            <a:ext cx="2209680" cy="914400"/>
          </a:xfrm>
          <a:prstGeom prst="cloudCallout">
            <a:avLst>
              <a:gd name="adj1" fmla="val -81680"/>
              <a:gd name="adj2" fmla="val 11805"/>
            </a:avLst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Funkcja mieszająca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1262160" y="3124080"/>
            <a:ext cx="3081240" cy="2675160"/>
            <a:chOff x="1262160" y="3124080"/>
            <a:chExt cx="3081240" cy="2675160"/>
          </a:xfrm>
        </p:grpSpPr>
        <p:sp>
          <p:nvSpPr>
            <p:cNvPr id="236" name=""/>
            <p:cNvSpPr/>
            <p:nvPr/>
          </p:nvSpPr>
          <p:spPr>
            <a:xfrm>
              <a:off x="1262160" y="3124080"/>
              <a:ext cx="3081240" cy="2675160"/>
            </a:xfrm>
            <a:custGeom>
              <a:avLst/>
              <a:gdLst/>
              <a:ahLst/>
              <a:rect l="l" t="t" r="r" b="b"/>
              <a:pathLst>
                <a:path w="1968" h="1700">
                  <a:moveTo>
                    <a:pt x="870" y="99"/>
                  </a:moveTo>
                  <a:cubicBezTo>
                    <a:pt x="789" y="103"/>
                    <a:pt x="700" y="81"/>
                    <a:pt x="627" y="117"/>
                  </a:cubicBezTo>
                  <a:cubicBezTo>
                    <a:pt x="614" y="124"/>
                    <a:pt x="604" y="136"/>
                    <a:pt x="591" y="144"/>
                  </a:cubicBezTo>
                  <a:cubicBezTo>
                    <a:pt x="543" y="174"/>
                    <a:pt x="485" y="194"/>
                    <a:pt x="438" y="225"/>
                  </a:cubicBezTo>
                  <a:cubicBezTo>
                    <a:pt x="371" y="270"/>
                    <a:pt x="315" y="321"/>
                    <a:pt x="258" y="378"/>
                  </a:cubicBezTo>
                  <a:cubicBezTo>
                    <a:pt x="208" y="428"/>
                    <a:pt x="149" y="467"/>
                    <a:pt x="105" y="522"/>
                  </a:cubicBezTo>
                  <a:cubicBezTo>
                    <a:pt x="90" y="568"/>
                    <a:pt x="58" y="606"/>
                    <a:pt x="33" y="648"/>
                  </a:cubicBezTo>
                  <a:cubicBezTo>
                    <a:pt x="11" y="758"/>
                    <a:pt x="0" y="879"/>
                    <a:pt x="51" y="981"/>
                  </a:cubicBezTo>
                  <a:cubicBezTo>
                    <a:pt x="60" y="1033"/>
                    <a:pt x="73" y="1129"/>
                    <a:pt x="96" y="1179"/>
                  </a:cubicBezTo>
                  <a:cubicBezTo>
                    <a:pt x="121" y="1235"/>
                    <a:pt x="166" y="1281"/>
                    <a:pt x="186" y="1341"/>
                  </a:cubicBezTo>
                  <a:cubicBezTo>
                    <a:pt x="194" y="1364"/>
                    <a:pt x="193" y="1391"/>
                    <a:pt x="204" y="1413"/>
                  </a:cubicBezTo>
                  <a:cubicBezTo>
                    <a:pt x="210" y="1424"/>
                    <a:pt x="224" y="1430"/>
                    <a:pt x="231" y="1440"/>
                  </a:cubicBezTo>
                  <a:cubicBezTo>
                    <a:pt x="264" y="1487"/>
                    <a:pt x="288" y="1550"/>
                    <a:pt x="339" y="1584"/>
                  </a:cubicBezTo>
                  <a:cubicBezTo>
                    <a:pt x="453" y="1660"/>
                    <a:pt x="623" y="1665"/>
                    <a:pt x="753" y="1674"/>
                  </a:cubicBezTo>
                  <a:cubicBezTo>
                    <a:pt x="881" y="1700"/>
                    <a:pt x="1004" y="1650"/>
                    <a:pt x="1122" y="1611"/>
                  </a:cubicBezTo>
                  <a:cubicBezTo>
                    <a:pt x="1208" y="1547"/>
                    <a:pt x="1100" y="1624"/>
                    <a:pt x="1212" y="1557"/>
                  </a:cubicBezTo>
                  <a:cubicBezTo>
                    <a:pt x="1309" y="1499"/>
                    <a:pt x="1198" y="1556"/>
                    <a:pt x="1275" y="1512"/>
                  </a:cubicBezTo>
                  <a:cubicBezTo>
                    <a:pt x="1291" y="1503"/>
                    <a:pt x="1323" y="1491"/>
                    <a:pt x="1338" y="1476"/>
                  </a:cubicBezTo>
                  <a:cubicBezTo>
                    <a:pt x="1341" y="1473"/>
                    <a:pt x="1379" y="1422"/>
                    <a:pt x="1383" y="1413"/>
                  </a:cubicBezTo>
                  <a:cubicBezTo>
                    <a:pt x="1391" y="1396"/>
                    <a:pt x="1401" y="1359"/>
                    <a:pt x="1401" y="1359"/>
                  </a:cubicBezTo>
                  <a:cubicBezTo>
                    <a:pt x="1404" y="1311"/>
                    <a:pt x="1410" y="1263"/>
                    <a:pt x="1410" y="1215"/>
                  </a:cubicBezTo>
                  <a:cubicBezTo>
                    <a:pt x="1410" y="1147"/>
                    <a:pt x="1368" y="1037"/>
                    <a:pt x="1446" y="990"/>
                  </a:cubicBezTo>
                  <a:cubicBezTo>
                    <a:pt x="1467" y="977"/>
                    <a:pt x="1511" y="971"/>
                    <a:pt x="1536" y="963"/>
                  </a:cubicBezTo>
                  <a:cubicBezTo>
                    <a:pt x="1579" y="950"/>
                    <a:pt x="1619" y="931"/>
                    <a:pt x="1662" y="918"/>
                  </a:cubicBezTo>
                  <a:cubicBezTo>
                    <a:pt x="1686" y="911"/>
                    <a:pt x="1710" y="906"/>
                    <a:pt x="1734" y="900"/>
                  </a:cubicBezTo>
                  <a:cubicBezTo>
                    <a:pt x="1746" y="897"/>
                    <a:pt x="1770" y="891"/>
                    <a:pt x="1770" y="891"/>
                  </a:cubicBezTo>
                  <a:cubicBezTo>
                    <a:pt x="1867" y="826"/>
                    <a:pt x="1885" y="766"/>
                    <a:pt x="1923" y="666"/>
                  </a:cubicBezTo>
                  <a:cubicBezTo>
                    <a:pt x="1948" y="600"/>
                    <a:pt x="1935" y="658"/>
                    <a:pt x="1950" y="603"/>
                  </a:cubicBezTo>
                  <a:cubicBezTo>
                    <a:pt x="1957" y="579"/>
                    <a:pt x="1968" y="531"/>
                    <a:pt x="1968" y="531"/>
                  </a:cubicBezTo>
                  <a:cubicBezTo>
                    <a:pt x="1965" y="498"/>
                    <a:pt x="1967" y="464"/>
                    <a:pt x="1959" y="432"/>
                  </a:cubicBezTo>
                  <a:cubicBezTo>
                    <a:pt x="1935" y="332"/>
                    <a:pt x="1877" y="273"/>
                    <a:pt x="1815" y="198"/>
                  </a:cubicBezTo>
                  <a:cubicBezTo>
                    <a:pt x="1801" y="181"/>
                    <a:pt x="1793" y="160"/>
                    <a:pt x="1779" y="144"/>
                  </a:cubicBezTo>
                  <a:cubicBezTo>
                    <a:pt x="1759" y="121"/>
                    <a:pt x="1749" y="129"/>
                    <a:pt x="1725" y="117"/>
                  </a:cubicBezTo>
                  <a:cubicBezTo>
                    <a:pt x="1649" y="79"/>
                    <a:pt x="1567" y="50"/>
                    <a:pt x="1482" y="36"/>
                  </a:cubicBezTo>
                  <a:cubicBezTo>
                    <a:pt x="1429" y="0"/>
                    <a:pt x="1293" y="0"/>
                    <a:pt x="1293" y="0"/>
                  </a:cubicBezTo>
                  <a:cubicBezTo>
                    <a:pt x="1185" y="3"/>
                    <a:pt x="1077" y="1"/>
                    <a:pt x="969" y="9"/>
                  </a:cubicBezTo>
                  <a:cubicBezTo>
                    <a:pt x="950" y="10"/>
                    <a:pt x="915" y="27"/>
                    <a:pt x="915" y="27"/>
                  </a:cubicBezTo>
                  <a:cubicBezTo>
                    <a:pt x="875" y="87"/>
                    <a:pt x="889" y="62"/>
                    <a:pt x="870" y="99"/>
                  </a:cubicBezTo>
                  <a:close/>
                </a:path>
              </a:pathLst>
            </a:custGeom>
            <a:solidFill>
              <a:srgbClr val="ce9964"/>
            </a:solidFill>
            <a:ln w="936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133720" y="3962520"/>
              <a:ext cx="1501560" cy="1179360"/>
            </a:xfrm>
            <a:custGeom>
              <a:avLst/>
              <a:gdLst/>
              <a:ahLst/>
              <a:rect l="l" t="t" r="r" b="b"/>
              <a:pathLst>
                <a:path w="946" h="743">
                  <a:moveTo>
                    <a:pt x="550" y="41"/>
                  </a:moveTo>
                  <a:cubicBezTo>
                    <a:pt x="467" y="0"/>
                    <a:pt x="467" y="15"/>
                    <a:pt x="343" y="23"/>
                  </a:cubicBezTo>
                  <a:cubicBezTo>
                    <a:pt x="239" y="49"/>
                    <a:pt x="159" y="94"/>
                    <a:pt x="91" y="176"/>
                  </a:cubicBezTo>
                  <a:cubicBezTo>
                    <a:pt x="21" y="261"/>
                    <a:pt x="119" y="121"/>
                    <a:pt x="28" y="257"/>
                  </a:cubicBezTo>
                  <a:cubicBezTo>
                    <a:pt x="17" y="273"/>
                    <a:pt x="10" y="311"/>
                    <a:pt x="10" y="311"/>
                  </a:cubicBezTo>
                  <a:cubicBezTo>
                    <a:pt x="15" y="385"/>
                    <a:pt x="0" y="473"/>
                    <a:pt x="82" y="500"/>
                  </a:cubicBezTo>
                  <a:cubicBezTo>
                    <a:pt x="112" y="523"/>
                    <a:pt x="136" y="542"/>
                    <a:pt x="172" y="554"/>
                  </a:cubicBezTo>
                  <a:cubicBezTo>
                    <a:pt x="199" y="536"/>
                    <a:pt x="226" y="518"/>
                    <a:pt x="253" y="500"/>
                  </a:cubicBezTo>
                  <a:cubicBezTo>
                    <a:pt x="262" y="494"/>
                    <a:pt x="280" y="482"/>
                    <a:pt x="280" y="482"/>
                  </a:cubicBezTo>
                  <a:cubicBezTo>
                    <a:pt x="299" y="539"/>
                    <a:pt x="298" y="658"/>
                    <a:pt x="361" y="698"/>
                  </a:cubicBezTo>
                  <a:cubicBezTo>
                    <a:pt x="374" y="706"/>
                    <a:pt x="391" y="704"/>
                    <a:pt x="406" y="707"/>
                  </a:cubicBezTo>
                  <a:cubicBezTo>
                    <a:pt x="435" y="727"/>
                    <a:pt x="463" y="732"/>
                    <a:pt x="496" y="743"/>
                  </a:cubicBezTo>
                  <a:cubicBezTo>
                    <a:pt x="523" y="716"/>
                    <a:pt x="546" y="710"/>
                    <a:pt x="577" y="689"/>
                  </a:cubicBezTo>
                  <a:cubicBezTo>
                    <a:pt x="590" y="670"/>
                    <a:pt x="609" y="654"/>
                    <a:pt x="622" y="635"/>
                  </a:cubicBezTo>
                  <a:cubicBezTo>
                    <a:pt x="652" y="590"/>
                    <a:pt x="638" y="517"/>
                    <a:pt x="667" y="473"/>
                  </a:cubicBezTo>
                  <a:cubicBezTo>
                    <a:pt x="679" y="455"/>
                    <a:pt x="691" y="437"/>
                    <a:pt x="703" y="419"/>
                  </a:cubicBezTo>
                  <a:cubicBezTo>
                    <a:pt x="712" y="405"/>
                    <a:pt x="754" y="371"/>
                    <a:pt x="766" y="365"/>
                  </a:cubicBezTo>
                  <a:cubicBezTo>
                    <a:pt x="783" y="357"/>
                    <a:pt x="820" y="347"/>
                    <a:pt x="820" y="347"/>
                  </a:cubicBezTo>
                  <a:cubicBezTo>
                    <a:pt x="865" y="280"/>
                    <a:pt x="917" y="272"/>
                    <a:pt x="946" y="185"/>
                  </a:cubicBezTo>
                  <a:cubicBezTo>
                    <a:pt x="944" y="165"/>
                    <a:pt x="946" y="64"/>
                    <a:pt x="910" y="41"/>
                  </a:cubicBezTo>
                  <a:cubicBezTo>
                    <a:pt x="894" y="31"/>
                    <a:pt x="874" y="28"/>
                    <a:pt x="856" y="23"/>
                  </a:cubicBezTo>
                  <a:cubicBezTo>
                    <a:pt x="832" y="17"/>
                    <a:pt x="784" y="5"/>
                    <a:pt x="784" y="5"/>
                  </a:cubicBezTo>
                  <a:cubicBezTo>
                    <a:pt x="736" y="8"/>
                    <a:pt x="688" y="9"/>
                    <a:pt x="640" y="14"/>
                  </a:cubicBezTo>
                  <a:cubicBezTo>
                    <a:pt x="609" y="17"/>
                    <a:pt x="550" y="41"/>
                    <a:pt x="550" y="41"/>
                  </a:cubicBez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09680" y="4343400"/>
              <a:ext cx="60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k1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048120" y="396252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k2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666880" y="4572000"/>
              <a:ext cx="60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k3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133720" y="32767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402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4343400" y="2971800"/>
            <a:ext cx="1143000" cy="2133720"/>
            <a:chOff x="4343400" y="2971800"/>
            <a:chExt cx="1143000" cy="2133720"/>
          </a:xfrm>
        </p:grpSpPr>
        <p:sp>
          <p:nvSpPr>
            <p:cNvPr id="243" name=""/>
            <p:cNvSpPr/>
            <p:nvPr/>
          </p:nvSpPr>
          <p:spPr>
            <a:xfrm>
              <a:off x="5029200" y="2971800"/>
              <a:ext cx="457200" cy="30492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029200" y="3276720"/>
              <a:ext cx="457200" cy="30456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029200" y="3581280"/>
              <a:ext cx="457200" cy="30492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029200" y="3886200"/>
              <a:ext cx="457200" cy="30492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029200" y="4191120"/>
              <a:ext cx="457200" cy="30456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029200" y="4495680"/>
              <a:ext cx="457200" cy="30492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029200" y="4800600"/>
              <a:ext cx="457200" cy="30492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4648320" y="3048120"/>
              <a:ext cx="380880" cy="198108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51480 h 1981080"/>
                <a:gd name="textAreaBottom" fmla="*/ 1929600 h 19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343400" y="388620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m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5486040" y="2971800"/>
            <a:ext cx="1371960" cy="228600"/>
            <a:chOff x="5486040" y="2971800"/>
            <a:chExt cx="1371960" cy="228600"/>
          </a:xfrm>
        </p:grpSpPr>
        <p:sp>
          <p:nvSpPr>
            <p:cNvPr id="253" name=""/>
            <p:cNvSpPr/>
            <p:nvPr/>
          </p:nvSpPr>
          <p:spPr>
            <a:xfrm>
              <a:off x="5715000" y="2971800"/>
              <a:ext cx="1143000" cy="22860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Element k1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5486040" y="3124080"/>
              <a:ext cx="22860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5334120" y="3581280"/>
            <a:ext cx="1523880" cy="228600"/>
            <a:chOff x="5334120" y="3581280"/>
            <a:chExt cx="1523880" cy="228600"/>
          </a:xfrm>
        </p:grpSpPr>
        <p:sp>
          <p:nvSpPr>
            <p:cNvPr id="256" name=""/>
            <p:cNvSpPr/>
            <p:nvPr/>
          </p:nvSpPr>
          <p:spPr>
            <a:xfrm>
              <a:off x="5715000" y="3581280"/>
              <a:ext cx="1143000" cy="22860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Element k2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5334120" y="3733920"/>
              <a:ext cx="38088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5334120" y="4572000"/>
            <a:ext cx="1523880" cy="228600"/>
            <a:chOff x="5334120" y="4572000"/>
            <a:chExt cx="1523880" cy="228600"/>
          </a:xfrm>
        </p:grpSpPr>
        <p:sp>
          <p:nvSpPr>
            <p:cNvPr id="259" name=""/>
            <p:cNvSpPr/>
            <p:nvPr/>
          </p:nvSpPr>
          <p:spPr>
            <a:xfrm>
              <a:off x="5715000" y="4572000"/>
              <a:ext cx="1143000" cy="22860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Element k3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5334120" y="4648320"/>
              <a:ext cx="38088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7086600" y="2819520"/>
            <a:ext cx="1600200" cy="2594160"/>
          </a:xfrm>
          <a:prstGeom prst="rect">
            <a:avLst/>
          </a:prstGeom>
          <a:noFill/>
          <a:ln w="7632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9900"/>
                </a:solidFill>
                <a:latin typeface="Times New Roman"/>
              </a:rPr>
              <a:t>Zaleta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: zamiast używać tablicy o rozmiarze U, używamy tablicy o rozmiarze m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495680" y="5257800"/>
            <a:ext cx="2438640" cy="764640"/>
          </a:xfrm>
          <a:prstGeom prst="rect">
            <a:avLst/>
          </a:prstGeom>
          <a:noFill/>
          <a:ln w="7632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9900"/>
                </a:solidFill>
                <a:latin typeface="Times New Roman"/>
              </a:rPr>
              <a:t>Wada 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: 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kolizje 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np.:   h(k1) = h(k2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2514600" y="2666880"/>
            <a:ext cx="2514600" cy="1752840"/>
            <a:chOff x="2514600" y="2666880"/>
            <a:chExt cx="2514600" cy="1752840"/>
          </a:xfrm>
        </p:grpSpPr>
        <p:sp>
          <p:nvSpPr>
            <p:cNvPr id="264" name=""/>
            <p:cNvSpPr/>
            <p:nvPr/>
          </p:nvSpPr>
          <p:spPr>
            <a:xfrm>
              <a:off x="2514600" y="2832120"/>
              <a:ext cx="2514600" cy="1587600"/>
            </a:xfrm>
            <a:custGeom>
              <a:avLst/>
              <a:gdLst/>
              <a:ahLst/>
              <a:rect l="l" t="t" r="r" b="b"/>
              <a:pathLst>
                <a:path w="1584" h="1000">
                  <a:moveTo>
                    <a:pt x="0" y="1000"/>
                  </a:moveTo>
                  <a:cubicBezTo>
                    <a:pt x="252" y="636"/>
                    <a:pt x="504" y="272"/>
                    <a:pt x="768" y="136"/>
                  </a:cubicBezTo>
                  <a:cubicBezTo>
                    <a:pt x="1032" y="0"/>
                    <a:pt x="1448" y="176"/>
                    <a:pt x="1584" y="184"/>
                  </a:cubicBezTo>
                </a:path>
              </a:pathLst>
            </a:custGeom>
            <a:noFill/>
            <a:ln w="936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657600" y="26668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h(k1)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3352680" y="3124080"/>
            <a:ext cx="1828800" cy="990720"/>
            <a:chOff x="3352680" y="3124080"/>
            <a:chExt cx="1828800" cy="990720"/>
          </a:xfrm>
        </p:grpSpPr>
        <p:sp>
          <p:nvSpPr>
            <p:cNvPr id="267" name=""/>
            <p:cNvSpPr/>
            <p:nvPr/>
          </p:nvSpPr>
          <p:spPr>
            <a:xfrm>
              <a:off x="3352680" y="3289320"/>
              <a:ext cx="1828800" cy="825480"/>
            </a:xfrm>
            <a:custGeom>
              <a:avLst/>
              <a:gdLst/>
              <a:ahLst/>
              <a:rect l="l" t="t" r="r" b="b"/>
              <a:pathLst>
                <a:path w="1152" h="520">
                  <a:moveTo>
                    <a:pt x="0" y="520"/>
                  </a:moveTo>
                  <a:cubicBezTo>
                    <a:pt x="96" y="300"/>
                    <a:pt x="192" y="80"/>
                    <a:pt x="384" y="40"/>
                  </a:cubicBezTo>
                  <a:cubicBezTo>
                    <a:pt x="576" y="0"/>
                    <a:pt x="1024" y="240"/>
                    <a:pt x="1152" y="280"/>
                  </a:cubicBezTo>
                </a:path>
              </a:pathLst>
            </a:custGeom>
            <a:noFill/>
            <a:ln w="936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114800" y="312408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h(k2)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71800" y="4648320"/>
            <a:ext cx="2133720" cy="482400"/>
            <a:chOff x="2971800" y="4648320"/>
            <a:chExt cx="2133720" cy="482400"/>
          </a:xfrm>
        </p:grpSpPr>
        <p:sp>
          <p:nvSpPr>
            <p:cNvPr id="270" name=""/>
            <p:cNvSpPr/>
            <p:nvPr/>
          </p:nvSpPr>
          <p:spPr>
            <a:xfrm>
              <a:off x="2971800" y="4648320"/>
              <a:ext cx="2133720" cy="482400"/>
            </a:xfrm>
            <a:custGeom>
              <a:avLst/>
              <a:gdLst/>
              <a:ahLst/>
              <a:rect l="l" t="t" r="r" b="b"/>
              <a:pathLst>
                <a:path w="1344" h="304">
                  <a:moveTo>
                    <a:pt x="0" y="96"/>
                  </a:moveTo>
                  <a:cubicBezTo>
                    <a:pt x="320" y="200"/>
                    <a:pt x="640" y="304"/>
                    <a:pt x="864" y="288"/>
                  </a:cubicBezTo>
                  <a:cubicBezTo>
                    <a:pt x="1088" y="272"/>
                    <a:pt x="1264" y="48"/>
                    <a:pt x="1344" y="0"/>
                  </a:cubicBezTo>
                </a:path>
              </a:pathLst>
            </a:custGeom>
            <a:noFill/>
            <a:ln w="936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886200" y="472428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h(k3)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10 Kolejki priorytetowe i słownik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17EA-05AE-45F4-B0D9-06D09A2FE76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j 2003</a:t>
            </a:r>
          </a:p>
        </p:txBody>
      </p:sp>
    </p:spTree>
  </p:cSld>
  <p:transition>
    <p:strips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Rozwiązywanie kolizji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1523880" y="1600200"/>
            <a:ext cx="3081240" cy="2674800"/>
            <a:chOff x="1523880" y="1600200"/>
            <a:chExt cx="3081240" cy="2674800"/>
          </a:xfrm>
        </p:grpSpPr>
        <p:sp>
          <p:nvSpPr>
            <p:cNvPr id="274" name=""/>
            <p:cNvSpPr/>
            <p:nvPr/>
          </p:nvSpPr>
          <p:spPr>
            <a:xfrm>
              <a:off x="1523880" y="1600200"/>
              <a:ext cx="3081240" cy="2674800"/>
            </a:xfrm>
            <a:custGeom>
              <a:avLst/>
              <a:gdLst/>
              <a:ahLst/>
              <a:rect l="l" t="t" r="r" b="b"/>
              <a:pathLst>
                <a:path w="1968" h="1700">
                  <a:moveTo>
                    <a:pt x="870" y="99"/>
                  </a:moveTo>
                  <a:cubicBezTo>
                    <a:pt x="789" y="103"/>
                    <a:pt x="700" y="81"/>
                    <a:pt x="627" y="117"/>
                  </a:cubicBezTo>
                  <a:cubicBezTo>
                    <a:pt x="614" y="124"/>
                    <a:pt x="604" y="136"/>
                    <a:pt x="591" y="144"/>
                  </a:cubicBezTo>
                  <a:cubicBezTo>
                    <a:pt x="543" y="174"/>
                    <a:pt x="485" y="194"/>
                    <a:pt x="438" y="225"/>
                  </a:cubicBezTo>
                  <a:cubicBezTo>
                    <a:pt x="371" y="270"/>
                    <a:pt x="315" y="321"/>
                    <a:pt x="258" y="378"/>
                  </a:cubicBezTo>
                  <a:cubicBezTo>
                    <a:pt x="208" y="428"/>
                    <a:pt x="149" y="467"/>
                    <a:pt x="105" y="522"/>
                  </a:cubicBezTo>
                  <a:cubicBezTo>
                    <a:pt x="90" y="568"/>
                    <a:pt x="58" y="606"/>
                    <a:pt x="33" y="648"/>
                  </a:cubicBezTo>
                  <a:cubicBezTo>
                    <a:pt x="11" y="758"/>
                    <a:pt x="0" y="879"/>
                    <a:pt x="51" y="981"/>
                  </a:cubicBezTo>
                  <a:cubicBezTo>
                    <a:pt x="60" y="1033"/>
                    <a:pt x="73" y="1129"/>
                    <a:pt x="96" y="1179"/>
                  </a:cubicBezTo>
                  <a:cubicBezTo>
                    <a:pt x="121" y="1235"/>
                    <a:pt x="166" y="1281"/>
                    <a:pt x="186" y="1341"/>
                  </a:cubicBezTo>
                  <a:cubicBezTo>
                    <a:pt x="194" y="1364"/>
                    <a:pt x="193" y="1391"/>
                    <a:pt x="204" y="1413"/>
                  </a:cubicBezTo>
                  <a:cubicBezTo>
                    <a:pt x="210" y="1424"/>
                    <a:pt x="224" y="1430"/>
                    <a:pt x="231" y="1440"/>
                  </a:cubicBezTo>
                  <a:cubicBezTo>
                    <a:pt x="264" y="1487"/>
                    <a:pt x="288" y="1550"/>
                    <a:pt x="339" y="1584"/>
                  </a:cubicBezTo>
                  <a:cubicBezTo>
                    <a:pt x="453" y="1660"/>
                    <a:pt x="623" y="1665"/>
                    <a:pt x="753" y="1674"/>
                  </a:cubicBezTo>
                  <a:cubicBezTo>
                    <a:pt x="881" y="1700"/>
                    <a:pt x="1004" y="1650"/>
                    <a:pt x="1122" y="1611"/>
                  </a:cubicBezTo>
                  <a:cubicBezTo>
                    <a:pt x="1208" y="1547"/>
                    <a:pt x="1100" y="1624"/>
                    <a:pt x="1212" y="1557"/>
                  </a:cubicBezTo>
                  <a:cubicBezTo>
                    <a:pt x="1309" y="1499"/>
                    <a:pt x="1198" y="1556"/>
                    <a:pt x="1275" y="1512"/>
                  </a:cubicBezTo>
                  <a:cubicBezTo>
                    <a:pt x="1291" y="1503"/>
                    <a:pt x="1323" y="1491"/>
                    <a:pt x="1338" y="1476"/>
                  </a:cubicBezTo>
                  <a:cubicBezTo>
                    <a:pt x="1341" y="1473"/>
                    <a:pt x="1379" y="1422"/>
                    <a:pt x="1383" y="1413"/>
                  </a:cubicBezTo>
                  <a:cubicBezTo>
                    <a:pt x="1391" y="1396"/>
                    <a:pt x="1401" y="1359"/>
                    <a:pt x="1401" y="1359"/>
                  </a:cubicBezTo>
                  <a:cubicBezTo>
                    <a:pt x="1404" y="1311"/>
                    <a:pt x="1410" y="1263"/>
                    <a:pt x="1410" y="1215"/>
                  </a:cubicBezTo>
                  <a:cubicBezTo>
                    <a:pt x="1410" y="1147"/>
                    <a:pt x="1368" y="1037"/>
                    <a:pt x="1446" y="990"/>
                  </a:cubicBezTo>
                  <a:cubicBezTo>
                    <a:pt x="1467" y="977"/>
                    <a:pt x="1511" y="971"/>
                    <a:pt x="1536" y="963"/>
                  </a:cubicBezTo>
                  <a:cubicBezTo>
                    <a:pt x="1579" y="950"/>
                    <a:pt x="1619" y="931"/>
                    <a:pt x="1662" y="918"/>
                  </a:cubicBezTo>
                  <a:cubicBezTo>
                    <a:pt x="1686" y="911"/>
                    <a:pt x="1710" y="906"/>
                    <a:pt x="1734" y="900"/>
                  </a:cubicBezTo>
                  <a:cubicBezTo>
                    <a:pt x="1746" y="897"/>
                    <a:pt x="1770" y="891"/>
                    <a:pt x="1770" y="891"/>
                  </a:cubicBezTo>
                  <a:cubicBezTo>
                    <a:pt x="1867" y="826"/>
                    <a:pt x="1885" y="766"/>
                    <a:pt x="1923" y="666"/>
                  </a:cubicBezTo>
                  <a:cubicBezTo>
                    <a:pt x="1948" y="600"/>
                    <a:pt x="1935" y="658"/>
                    <a:pt x="1950" y="603"/>
                  </a:cubicBezTo>
                  <a:cubicBezTo>
                    <a:pt x="1957" y="579"/>
                    <a:pt x="1968" y="531"/>
                    <a:pt x="1968" y="531"/>
                  </a:cubicBezTo>
                  <a:cubicBezTo>
                    <a:pt x="1965" y="498"/>
                    <a:pt x="1967" y="464"/>
                    <a:pt x="1959" y="432"/>
                  </a:cubicBezTo>
                  <a:cubicBezTo>
                    <a:pt x="1935" y="332"/>
                    <a:pt x="1877" y="273"/>
                    <a:pt x="1815" y="198"/>
                  </a:cubicBezTo>
                  <a:cubicBezTo>
                    <a:pt x="1801" y="181"/>
                    <a:pt x="1793" y="160"/>
                    <a:pt x="1779" y="144"/>
                  </a:cubicBezTo>
                  <a:cubicBezTo>
                    <a:pt x="1759" y="121"/>
                    <a:pt x="1749" y="129"/>
                    <a:pt x="1725" y="117"/>
                  </a:cubicBezTo>
                  <a:cubicBezTo>
                    <a:pt x="1649" y="79"/>
                    <a:pt x="1567" y="50"/>
                    <a:pt x="1482" y="36"/>
                  </a:cubicBezTo>
                  <a:cubicBezTo>
                    <a:pt x="1429" y="0"/>
                    <a:pt x="1293" y="0"/>
                    <a:pt x="1293" y="0"/>
                  </a:cubicBezTo>
                  <a:cubicBezTo>
                    <a:pt x="1185" y="3"/>
                    <a:pt x="1077" y="1"/>
                    <a:pt x="969" y="9"/>
                  </a:cubicBezTo>
                  <a:cubicBezTo>
                    <a:pt x="950" y="10"/>
                    <a:pt x="915" y="27"/>
                    <a:pt x="915" y="27"/>
                  </a:cubicBezTo>
                  <a:cubicBezTo>
                    <a:pt x="875" y="87"/>
                    <a:pt x="889" y="62"/>
                    <a:pt x="870" y="99"/>
                  </a:cubicBezTo>
                  <a:close/>
                </a:path>
              </a:pathLst>
            </a:custGeom>
            <a:solidFill>
              <a:srgbClr val="ce9964"/>
            </a:solidFill>
            <a:ln w="936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395440" y="2438280"/>
              <a:ext cx="1501560" cy="1179000"/>
            </a:xfrm>
            <a:custGeom>
              <a:avLst/>
              <a:gdLst/>
              <a:ahLst/>
              <a:rect l="l" t="t" r="r" b="b"/>
              <a:pathLst>
                <a:path w="946" h="743">
                  <a:moveTo>
                    <a:pt x="550" y="41"/>
                  </a:moveTo>
                  <a:cubicBezTo>
                    <a:pt x="467" y="0"/>
                    <a:pt x="467" y="15"/>
                    <a:pt x="343" y="23"/>
                  </a:cubicBezTo>
                  <a:cubicBezTo>
                    <a:pt x="239" y="49"/>
                    <a:pt x="159" y="94"/>
                    <a:pt x="91" y="176"/>
                  </a:cubicBezTo>
                  <a:cubicBezTo>
                    <a:pt x="21" y="261"/>
                    <a:pt x="119" y="121"/>
                    <a:pt x="28" y="257"/>
                  </a:cubicBezTo>
                  <a:cubicBezTo>
                    <a:pt x="17" y="273"/>
                    <a:pt x="10" y="311"/>
                    <a:pt x="10" y="311"/>
                  </a:cubicBezTo>
                  <a:cubicBezTo>
                    <a:pt x="15" y="385"/>
                    <a:pt x="0" y="473"/>
                    <a:pt x="82" y="500"/>
                  </a:cubicBezTo>
                  <a:cubicBezTo>
                    <a:pt x="112" y="523"/>
                    <a:pt x="136" y="542"/>
                    <a:pt x="172" y="554"/>
                  </a:cubicBezTo>
                  <a:cubicBezTo>
                    <a:pt x="199" y="536"/>
                    <a:pt x="226" y="518"/>
                    <a:pt x="253" y="500"/>
                  </a:cubicBezTo>
                  <a:cubicBezTo>
                    <a:pt x="262" y="494"/>
                    <a:pt x="280" y="482"/>
                    <a:pt x="280" y="482"/>
                  </a:cubicBezTo>
                  <a:cubicBezTo>
                    <a:pt x="299" y="539"/>
                    <a:pt x="298" y="658"/>
                    <a:pt x="361" y="698"/>
                  </a:cubicBezTo>
                  <a:cubicBezTo>
                    <a:pt x="374" y="706"/>
                    <a:pt x="391" y="704"/>
                    <a:pt x="406" y="707"/>
                  </a:cubicBezTo>
                  <a:cubicBezTo>
                    <a:pt x="435" y="727"/>
                    <a:pt x="463" y="732"/>
                    <a:pt x="496" y="743"/>
                  </a:cubicBezTo>
                  <a:cubicBezTo>
                    <a:pt x="523" y="716"/>
                    <a:pt x="546" y="710"/>
                    <a:pt x="577" y="689"/>
                  </a:cubicBezTo>
                  <a:cubicBezTo>
                    <a:pt x="590" y="670"/>
                    <a:pt x="609" y="654"/>
                    <a:pt x="622" y="635"/>
                  </a:cubicBezTo>
                  <a:cubicBezTo>
                    <a:pt x="652" y="590"/>
                    <a:pt x="638" y="517"/>
                    <a:pt x="667" y="473"/>
                  </a:cubicBezTo>
                  <a:cubicBezTo>
                    <a:pt x="679" y="455"/>
                    <a:pt x="691" y="437"/>
                    <a:pt x="703" y="419"/>
                  </a:cubicBezTo>
                  <a:cubicBezTo>
                    <a:pt x="712" y="405"/>
                    <a:pt x="754" y="371"/>
                    <a:pt x="766" y="365"/>
                  </a:cubicBezTo>
                  <a:cubicBezTo>
                    <a:pt x="783" y="357"/>
                    <a:pt x="820" y="347"/>
                    <a:pt x="820" y="347"/>
                  </a:cubicBezTo>
                  <a:cubicBezTo>
                    <a:pt x="865" y="280"/>
                    <a:pt x="917" y="272"/>
                    <a:pt x="946" y="185"/>
                  </a:cubicBezTo>
                  <a:cubicBezTo>
                    <a:pt x="944" y="165"/>
                    <a:pt x="946" y="64"/>
                    <a:pt x="910" y="41"/>
                  </a:cubicBezTo>
                  <a:cubicBezTo>
                    <a:pt x="894" y="31"/>
                    <a:pt x="874" y="28"/>
                    <a:pt x="856" y="23"/>
                  </a:cubicBezTo>
                  <a:cubicBezTo>
                    <a:pt x="832" y="17"/>
                    <a:pt x="784" y="5"/>
                    <a:pt x="784" y="5"/>
                  </a:cubicBezTo>
                  <a:cubicBezTo>
                    <a:pt x="736" y="8"/>
                    <a:pt x="688" y="9"/>
                    <a:pt x="640" y="14"/>
                  </a:cubicBezTo>
                  <a:cubicBezTo>
                    <a:pt x="609" y="17"/>
                    <a:pt x="550" y="41"/>
                    <a:pt x="550" y="41"/>
                  </a:cubicBez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471400" y="2819160"/>
              <a:ext cx="60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k1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309840" y="243828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k2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928600" y="3047760"/>
              <a:ext cx="60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k3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395440" y="17524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402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5867280" y="15238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Tablica kolejek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5029200" y="2209680"/>
            <a:ext cx="914400" cy="2133720"/>
            <a:chOff x="5029200" y="2209680"/>
            <a:chExt cx="914400" cy="2133720"/>
          </a:xfrm>
        </p:grpSpPr>
        <p:sp>
          <p:nvSpPr>
            <p:cNvPr id="282" name=""/>
            <p:cNvSpPr/>
            <p:nvPr/>
          </p:nvSpPr>
          <p:spPr>
            <a:xfrm>
              <a:off x="5486400" y="2209680"/>
              <a:ext cx="457200" cy="30492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486400" y="2514600"/>
              <a:ext cx="457200" cy="30492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486400" y="2819520"/>
              <a:ext cx="457200" cy="30456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486400" y="3124080"/>
              <a:ext cx="457200" cy="30492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486400" y="3429000"/>
              <a:ext cx="457200" cy="30492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486400" y="3733920"/>
              <a:ext cx="457200" cy="30456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486400" y="4038480"/>
              <a:ext cx="457200" cy="30492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029200" y="396252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 </a:t>
              </a: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m-1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181480" y="22096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6705720" y="243828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h(k1) = h(k2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657600" y="2666880"/>
            <a:ext cx="1905120" cy="304920"/>
          </a:xfrm>
          <a:custGeom>
            <a:avLst/>
            <a:gdLst/>
            <a:ahLst/>
            <a:rect l="l" t="t" r="r" b="b"/>
            <a:pathLst>
              <a:path w="1200" h="96">
                <a:moveTo>
                  <a:pt x="0" y="0"/>
                </a:moveTo>
                <a:cubicBezTo>
                  <a:pt x="496" y="40"/>
                  <a:pt x="992" y="80"/>
                  <a:pt x="1200" y="96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895480" y="2895480"/>
            <a:ext cx="2819520" cy="152640"/>
          </a:xfrm>
          <a:custGeom>
            <a:avLst/>
            <a:gdLst/>
            <a:ahLst/>
            <a:rect l="l" t="t" r="r" b="b"/>
            <a:pathLst>
              <a:path w="1776" h="96">
                <a:moveTo>
                  <a:pt x="0" y="96"/>
                </a:moveTo>
                <a:cubicBezTo>
                  <a:pt x="740" y="56"/>
                  <a:pt x="1480" y="16"/>
                  <a:pt x="1776" y="0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200400" y="3352680"/>
            <a:ext cx="2438280" cy="838440"/>
          </a:xfrm>
          <a:custGeom>
            <a:avLst/>
            <a:gdLst/>
            <a:ahLst/>
            <a:rect l="l" t="t" r="r" b="b"/>
            <a:pathLst>
              <a:path w="1536" h="432">
                <a:moveTo>
                  <a:pt x="0" y="0"/>
                </a:moveTo>
                <a:cubicBezTo>
                  <a:pt x="640" y="180"/>
                  <a:pt x="1280" y="360"/>
                  <a:pt x="1536" y="432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914400" y="426708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9900"/>
                </a:solidFill>
                <a:latin typeface="Times New Roman"/>
              </a:rPr>
              <a:t>Algorytmy dla operacji słownikowych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143000" y="487692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insert(x,s) :  Włóż x do kolejki Tab(h(k(x))              T(insert,s)=O(1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143000" y="52578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delete(x,s) :  usuń  x z kolejki Tab(h(k(x))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           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T(delete,s)=O(</a:t>
            </a:r>
            <a:r>
              <a:rPr b="0" lang="pl-PL" sz="1600" spc="-1" strike="noStrike">
                <a:solidFill>
                  <a:srgbClr val="402000"/>
                </a:solidFill>
                <a:latin typeface="Times New Roman"/>
              </a:rPr>
              <a:t>dłKol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143000" y="563868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member(x,s) :  przeszukaj kolejkę Tab(h(k(x))      T(member,s)=O(</a:t>
            </a:r>
            <a:r>
              <a:rPr b="0" lang="pl-PL" sz="1600" spc="-1" strike="noStrike">
                <a:solidFill>
                  <a:srgbClr val="402000"/>
                </a:solidFill>
                <a:latin typeface="Times New Roman"/>
              </a:rPr>
              <a:t>dłKol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5715000" y="2819520"/>
            <a:ext cx="1600200" cy="228600"/>
            <a:chOff x="5715000" y="2819520"/>
            <a:chExt cx="1600200" cy="228600"/>
          </a:xfrm>
        </p:grpSpPr>
        <p:sp>
          <p:nvSpPr>
            <p:cNvPr id="300" name=""/>
            <p:cNvSpPr/>
            <p:nvPr/>
          </p:nvSpPr>
          <p:spPr>
            <a:xfrm>
              <a:off x="6172200" y="2819520"/>
              <a:ext cx="1143000" cy="22860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Element k1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715000" y="2971800"/>
              <a:ext cx="45720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791320" y="4038480"/>
            <a:ext cx="1523880" cy="228600"/>
            <a:chOff x="5791320" y="4038480"/>
            <a:chExt cx="1523880" cy="228600"/>
          </a:xfrm>
        </p:grpSpPr>
        <p:sp>
          <p:nvSpPr>
            <p:cNvPr id="303" name=""/>
            <p:cNvSpPr/>
            <p:nvPr/>
          </p:nvSpPr>
          <p:spPr>
            <a:xfrm>
              <a:off x="6172200" y="4038480"/>
              <a:ext cx="1143000" cy="22860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Element k3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791320" y="4191120"/>
              <a:ext cx="38088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7315200" y="2819520"/>
            <a:ext cx="1447920" cy="228600"/>
            <a:chOff x="7315200" y="2819520"/>
            <a:chExt cx="1447920" cy="228600"/>
          </a:xfrm>
        </p:grpSpPr>
        <p:sp>
          <p:nvSpPr>
            <p:cNvPr id="306" name=""/>
            <p:cNvSpPr/>
            <p:nvPr/>
          </p:nvSpPr>
          <p:spPr>
            <a:xfrm>
              <a:off x="7620120" y="2819520"/>
              <a:ext cx="1143000" cy="22860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Element k2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315200" y="2895480"/>
              <a:ext cx="30492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10 Kolejki priorytetowe i słownik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7CEF-8279-45EF-80C9-93E2CFDE66B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j 2003</a:t>
            </a:r>
          </a:p>
        </p:txBody>
      </p:sp>
    </p:spTree>
  </p:cSld>
  <p:transition>
    <p:strips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Szacowanie kosztów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066680" y="160020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Jaka jest długość kolejki?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114800" y="1523880"/>
            <a:ext cx="4114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W najgorszym razie n , czyli card (U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Średnio n/m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172200" y="2133720"/>
            <a:ext cx="2438280" cy="1447560"/>
          </a:xfrm>
          <a:prstGeom prst="wedgeRoundRectCallout">
            <a:avLst>
              <a:gd name="adj1" fmla="val -74611"/>
              <a:gd name="adj2" fmla="val -46601"/>
              <a:gd name="adj3" fmla="val 16667"/>
            </a:avLst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402000"/>
                </a:solidFill>
                <a:latin typeface="Symbol"/>
                <a:ea typeface="Symbol"/>
              </a:rPr>
              <a:t>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= 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n/m  współczynnik charakterystyczny funkcji mieszającej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066680" y="2514600"/>
            <a:ext cx="3353040" cy="2752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6600"/>
                </a:solidFill>
                <a:latin typeface="Times New Roman"/>
              </a:rPr>
              <a:t>Twierdzeni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W tablicy hash w przypadku, gdy kolizje zostały rozwiązane przez kolejki, koszt nieudanego poszukiwania wynosi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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(1+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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), o ile koszt obliczenia funkcji mieszającej jest stały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952880" y="3733920"/>
            <a:ext cx="3429000" cy="137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6600"/>
                </a:solidFill>
                <a:latin typeface="Times New Roman"/>
              </a:rPr>
              <a:t>Twierdzenie</a:t>
            </a:r>
            <a:br>
              <a:rPr sz="24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Koszt skutecznego poszukiwania w tablicy hash wynosi średnio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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(1+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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).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4" name="">
            <a:hlinkClick r:id="rId3" action="ppaction://hlinksldjump"/>
          </p:cNvPr>
          <p:cNvSpPr/>
          <p:nvPr/>
        </p:nvSpPr>
        <p:spPr>
          <a:xfrm>
            <a:off x="6095880" y="5257800"/>
            <a:ext cx="2210040" cy="609480"/>
          </a:xfrm>
          <a:custGeom>
            <a:avLst/>
            <a:gdLst>
              <a:gd name="textAreaLeft" fmla="*/ 152280 w 2210040"/>
              <a:gd name="textAreaRight" fmla="*/ 2057760 w 221004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78290" h="21600">
                <a:moveTo>
                  <a:pt x="0" y="0"/>
                </a:moveTo>
                <a:lnTo>
                  <a:pt x="78290" y="0"/>
                </a:lnTo>
                <a:lnTo>
                  <a:pt x="78290" y="21600"/>
                </a:lnTo>
                <a:lnTo>
                  <a:pt x="0" y="21600"/>
                </a:lnTo>
                <a:close/>
              </a:path>
              <a:path fill="lightenLess" w="78290" h="21600">
                <a:moveTo>
                  <a:pt x="0" y="0"/>
                </a:moveTo>
                <a:lnTo>
                  <a:pt x="78290" y="0"/>
                </a:lnTo>
                <a:lnTo>
                  <a:pt x="72890" y="5400"/>
                </a:lnTo>
                <a:lnTo>
                  <a:pt x="5400" y="5400"/>
                </a:lnTo>
                <a:close/>
              </a:path>
              <a:path fill="darken" w="78290" h="21600">
                <a:moveTo>
                  <a:pt x="78290" y="0"/>
                </a:moveTo>
                <a:lnTo>
                  <a:pt x="78290" y="21600"/>
                </a:lnTo>
                <a:lnTo>
                  <a:pt x="72890" y="16200"/>
                </a:lnTo>
                <a:lnTo>
                  <a:pt x="72890" y="5400"/>
                </a:lnTo>
                <a:close/>
              </a:path>
              <a:path fill="darkenLess" w="78290" h="21600">
                <a:moveTo>
                  <a:pt x="7829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72890" y="16200"/>
                </a:lnTo>
                <a:close/>
              </a:path>
              <a:path fill="lighten" w="7829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78290" h="21600">
                <a:moveTo>
                  <a:pt x="35120" y="6775"/>
                </a:moveTo>
                <a:lnTo>
                  <a:pt x="43170" y="10800"/>
                </a:lnTo>
                <a:lnTo>
                  <a:pt x="35120" y="14825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uzasadnieni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10 Kolejki priorytetowe i słownik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ED19-6595-4BB2-99B0-BBB9C3CE29D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j 2003</a:t>
            </a:r>
          </a:p>
        </p:txBody>
      </p:sp>
    </p:spTree>
  </p:cSld>
  <p:transition>
    <p:strips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Przykłady funkcji mieszających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143000" y="1523880"/>
            <a:ext cx="3048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Przykład 1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Uniwersum kluczy składa się z liczb naturalnych.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h(k) = k mod m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495680" y="1600200"/>
            <a:ext cx="4038840" cy="2545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Przy takiej funkcji mieszającej trzeba unikać pewnych wartości m!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Np. gdyby m = 2 </a:t>
            </a:r>
            <a:r>
              <a:rPr b="0" lang="pl-PL" sz="2000" spc="-1" strike="noStrike" baseline="30000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, to  wartość h(k) zależałaby tylko od p ostatnich bitów rozwinięcia dwójkowego liczby k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Dobra liczba m, to liczba pierwsza niezbyt bliska potędze 2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00600" y="4419720"/>
            <a:ext cx="32767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Przykład 2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h(k) =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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m </a:t>
            </a:r>
            <a:r>
              <a:rPr b="0" lang="pl-PL" sz="2000" spc="-1" strike="noStrike" baseline="-10000">
                <a:solidFill>
                  <a:srgbClr val="402000"/>
                </a:solidFill>
                <a:latin typeface="Times New Roman"/>
              </a:rPr>
              <a:t>*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(k </a:t>
            </a:r>
            <a:r>
              <a:rPr b="0" lang="pl-PL" sz="2000" spc="-1" strike="noStrike" baseline="-10000">
                <a:solidFill>
                  <a:srgbClr val="402000"/>
                </a:solidFill>
                <a:latin typeface="Times New Roman"/>
              </a:rPr>
              <a:t>*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a –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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k </a:t>
            </a:r>
            <a:r>
              <a:rPr b="0" lang="pl-PL" sz="2000" spc="-1" strike="noStrike" baseline="-10000">
                <a:solidFill>
                  <a:srgbClr val="402000"/>
                </a:solidFill>
                <a:latin typeface="Times New Roman"/>
              </a:rPr>
              <a:t>*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a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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)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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, gdzie a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(0,1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124080" y="1980720"/>
            <a:ext cx="1524240" cy="68580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143000" y="3505320"/>
            <a:ext cx="2819520" cy="1313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Typowo jako m wybiera się potęgi 2, bo wtedy łatwiejsza jest implementacja funkcji h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 flipV="1">
            <a:off x="3657240" y="3885840"/>
            <a:ext cx="1143000" cy="68580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10 Kolejki priorytetowe i słownik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80BC-D790-409C-80EF-319FE1D7588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j 2003</a:t>
            </a:r>
          </a:p>
        </p:txBody>
      </p:sp>
    </p:spTree>
  </p:cSld>
  <p:transition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Plan wykładu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69343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Kolejki priorytetowe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838080" indent="-380880">
              <a:spcBef>
                <a:spcPts val="45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Specyfikacj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1" marL="838080" indent="-380880">
              <a:spcBef>
                <a:spcPts val="45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Zastosowani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Słowniki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838080" indent="-380880">
              <a:spcBef>
                <a:spcPts val="45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Specyfikacj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1" marL="838080" indent="-380880">
              <a:spcBef>
                <a:spcPts val="45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Implementacja - Tablice hash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10 Kolejki priorytetowe i słownik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1313-C186-4277-9E25-AC46C1D445C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j 2003</a:t>
            </a:r>
          </a:p>
        </p:txBody>
      </p:sp>
    </p:spTree>
  </p:cSld>
  <p:transition>
    <p:strips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Uzasadnienie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447920" y="1828800"/>
            <a:ext cx="7315200" cy="19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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k=1...n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(1/n ( średni koszt znalezienia klucza k) =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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k=1..n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(1/n ( 1+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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i=1..m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(1/m (koszt znalezienia klucza k w itej kolejce) =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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k=1..n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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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i=1...m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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m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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j=1.. 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Symbol"/>
                <a:ea typeface="Symbol"/>
              </a:rPr>
              <a:t>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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j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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(1+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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).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1447920" y="3429000"/>
            <a:ext cx="1295280" cy="12952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914400" y="472428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Jeden z n kluczy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200400" y="3352680"/>
            <a:ext cx="304920" cy="106704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4419720"/>
            <a:ext cx="1371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Koszt wyliczenia funkcji hash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343400" y="4648320"/>
            <a:ext cx="2666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Prawdopodobieństwo, że klucz k trafi do itej kolejki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 flipV="1">
            <a:off x="4114440" y="3352320"/>
            <a:ext cx="1219320" cy="12193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010280" y="3505320"/>
            <a:ext cx="15242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Prawdopodobieństwo, że klucz k znajdzie się w itej kolejce na j-tej pozycji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6019560" y="3428640"/>
            <a:ext cx="1066680" cy="68580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10 Kolejki priorytetowe i słownik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A783-DEBA-4A45-B8E3-225A6A326DC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j 2003</a:t>
            </a:r>
          </a:p>
        </p:txBody>
      </p:sp>
    </p:spTree>
  </p:cSld>
  <p:transition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Kolejki priorytetowe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76520" y="1600200"/>
            <a:ext cx="6858000" cy="35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Strukturę danych nazywamy kolejką priorytetową wttw jej uniwersum składa się z dwóch rozłącznych zbiorów Et i Q oraz określone są następujące relacje i operacje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insert : Et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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Q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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Q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delmin : Q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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Q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min : Q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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Et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member : E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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Q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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B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empty : Q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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B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: Et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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Et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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B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spełniające następujące postulaty 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 rot="5400000">
            <a:off x="75600" y="2895480"/>
            <a:ext cx="2743200" cy="609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Definicja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105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1. &lt; Et,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&gt; jest zbiorem liniowo uporządkowanym.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429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Sygnatura struktur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05520" y="2666880"/>
            <a:ext cx="380880" cy="1981440"/>
          </a:xfrm>
          <a:custGeom>
            <a:avLst/>
            <a:gdLst>
              <a:gd name="textAreaLeft" fmla="*/ 0 w 380880"/>
              <a:gd name="textAreaRight" fmla="*/ 137520 w 38088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10 Kolejki priorytetowe i słownik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EDB9-8D4E-4ED4-BD5E-61D74D02611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j 2003</a:t>
            </a:r>
          </a:p>
        </p:txBody>
      </p:sp>
    </p:spTree>
  </p:cSld>
  <p:transition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Specyfikacja kolejek priorytetowych 1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23880" y="1676520"/>
            <a:ext cx="563904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2. 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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empty(q)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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((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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e) member(e,q)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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min(q)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e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14120" y="2286000"/>
            <a:ext cx="5252400" cy="1631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3.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member(e, insert(e,q)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e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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e’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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member(e’, q)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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member(e’,insert(e,q)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352680" y="4191120"/>
            <a:ext cx="5499360" cy="2241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4.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member(min(q),q)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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member(min(q), delmin(q)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e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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min(q)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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member(e, q)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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member(e, delmin(q))</a:t>
            </a:r>
            <a:br>
              <a:rPr sz="2000"/>
            </a:b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95880" y="1905120"/>
            <a:ext cx="3048120" cy="2209680"/>
          </a:xfrm>
          <a:custGeom>
            <a:avLst/>
            <a:gdLst>
              <a:gd name="textAreaLeft" fmla="*/ 695880 w 3048120"/>
              <a:gd name="textAreaRight" fmla="*/ 2352240 w 3048120"/>
              <a:gd name="textAreaTop" fmla="*/ 504360 h 2209680"/>
              <a:gd name="textAreaBottom" fmla="*/ 170532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bfae2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fbfae2"/>
                </a:solidFill>
                <a:latin typeface="Times New Roman"/>
              </a:rPr>
              <a:t>insert(e,q)</a:t>
            </a:r>
            <a:br>
              <a:rPr sz="1800"/>
            </a:br>
            <a:r>
              <a:rPr b="0" lang="pl-PL" sz="1800" spc="-1" strike="noStrike">
                <a:solidFill>
                  <a:srgbClr val="fbfae2"/>
                </a:solidFill>
                <a:latin typeface="Times New Roman"/>
              </a:rPr>
              <a:t> powoduje umieszczenie</a:t>
            </a:r>
            <a:br>
              <a:rPr sz="1800"/>
            </a:br>
            <a:r>
              <a:rPr b="0" lang="pl-PL" sz="1800" spc="-1" strike="noStrike">
                <a:solidFill>
                  <a:srgbClr val="fbfae2"/>
                </a:solidFill>
                <a:latin typeface="Times New Roman"/>
              </a:rPr>
              <a:t>elementu e w kolejce q</a:t>
            </a:r>
            <a:br>
              <a:rPr sz="1800"/>
            </a:br>
            <a:r>
              <a:rPr b="0" lang="pl-PL" sz="1800" spc="-1" strike="noStrike">
                <a:solidFill>
                  <a:srgbClr val="fbfae2"/>
                </a:solidFill>
                <a:latin typeface="Times New Roman"/>
              </a:rPr>
              <a:t>o ile go tam </a:t>
            </a:r>
            <a:br>
              <a:rPr sz="1800"/>
            </a:br>
            <a:r>
              <a:rPr b="0" lang="pl-PL" sz="1800" spc="-1" strike="noStrike">
                <a:solidFill>
                  <a:srgbClr val="fbfae2"/>
                </a:solidFill>
                <a:latin typeface="Times New Roman"/>
              </a:rPr>
              <a:t>nie było</a:t>
            </a: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120" y="3657600"/>
            <a:ext cx="2590560" cy="2209680"/>
          </a:xfrm>
          <a:custGeom>
            <a:avLst/>
            <a:gdLst>
              <a:gd name="textAreaLeft" fmla="*/ 591120 w 2590560"/>
              <a:gd name="textAreaRight" fmla="*/ 1999440 w 2590560"/>
              <a:gd name="textAreaTop" fmla="*/ 504360 h 2209680"/>
              <a:gd name="textAreaBottom" fmla="*/ 170532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bfae2"/>
                </a:solidFill>
                <a:latin typeface="Times New Roman"/>
              </a:rPr>
              <a:t>insert(e,q)</a:t>
            </a:r>
            <a:br>
              <a:rPr sz="1800"/>
            </a:br>
            <a:r>
              <a:rPr b="0" lang="pl-PL" sz="1800" spc="-1" strike="noStrike">
                <a:solidFill>
                  <a:srgbClr val="fbfae2"/>
                </a:solidFill>
                <a:latin typeface="Times New Roman"/>
              </a:rPr>
              <a:t> powoduje </a:t>
            </a:r>
            <a:br>
              <a:rPr sz="1800"/>
            </a:br>
            <a:r>
              <a:rPr b="0" lang="pl-PL" sz="1800" spc="-1" strike="noStrike">
                <a:solidFill>
                  <a:srgbClr val="fbfae2"/>
                </a:solidFill>
                <a:latin typeface="Times New Roman"/>
              </a:rPr>
              <a:t>usunięcie </a:t>
            </a:r>
            <a:br>
              <a:rPr sz="1800"/>
            </a:br>
            <a:r>
              <a:rPr b="0" lang="pl-PL" sz="1800" spc="-1" strike="noStrike">
                <a:solidFill>
                  <a:srgbClr val="fbfae2"/>
                </a:solidFill>
                <a:latin typeface="Times New Roman"/>
              </a:rPr>
              <a:t>tylko elementu</a:t>
            </a:r>
            <a:br>
              <a:rPr sz="1800"/>
            </a:br>
            <a:r>
              <a:rPr b="0" lang="pl-PL" sz="1800" spc="-1" strike="noStrike">
                <a:solidFill>
                  <a:srgbClr val="fbfae2"/>
                </a:solidFill>
                <a:latin typeface="Times New Roman"/>
              </a:rPr>
              <a:t>minimalnego</a:t>
            </a: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">
            <a:hlinkClick r:id="" action="ppaction://hlinkshowjump?jump=previousslide"/>
          </p:cNvPr>
          <p:cNvSpPr/>
          <p:nvPr/>
        </p:nvSpPr>
        <p:spPr>
          <a:xfrm>
            <a:off x="7924680" y="990720"/>
            <a:ext cx="838440" cy="609480"/>
          </a:xfrm>
          <a:custGeom>
            <a:avLst/>
            <a:gdLst>
              <a:gd name="textAreaLeft" fmla="*/ 105120 w 838440"/>
              <a:gd name="textAreaRight" fmla="*/ 733320 w 838440"/>
              <a:gd name="textAreaTop" fmla="*/ 105120 h 609480"/>
              <a:gd name="textAreaBottom" fmla="*/ 504360 h 6094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5981" y="3729"/>
                </a:lnTo>
                <a:lnTo>
                  <a:pt x="3729" y="3729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5981" y="17871"/>
                </a:lnTo>
                <a:lnTo>
                  <a:pt x="25981" y="3729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3729" y="17871"/>
                </a:lnTo>
                <a:lnTo>
                  <a:pt x="25981" y="17871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3729" y="3729"/>
                </a:lnTo>
                <a:lnTo>
                  <a:pt x="3729" y="17871"/>
                </a:lnTo>
                <a:close/>
              </a:path>
              <a:path fill="darken" w="29710" h="21600">
                <a:moveTo>
                  <a:pt x="9584" y="8312"/>
                </a:moveTo>
                <a:lnTo>
                  <a:pt x="12223" y="8312"/>
                </a:lnTo>
                <a:lnTo>
                  <a:pt x="12223" y="12326"/>
                </a:lnTo>
                <a:cubicBezTo>
                  <a:pt x="12223" y="13020"/>
                  <a:pt x="12825" y="13569"/>
                  <a:pt x="13604" y="13569"/>
                </a:cubicBezTo>
                <a:lnTo>
                  <a:pt x="14855" y="13569"/>
                </a:lnTo>
                <a:cubicBezTo>
                  <a:pt x="15634" y="13569"/>
                  <a:pt x="16236" y="13020"/>
                  <a:pt x="16236" y="12326"/>
                </a:cubicBezTo>
                <a:lnTo>
                  <a:pt x="16236" y="8312"/>
                </a:lnTo>
                <a:lnTo>
                  <a:pt x="14855" y="8312"/>
                </a:lnTo>
                <a:lnTo>
                  <a:pt x="17493" y="5674"/>
                </a:lnTo>
                <a:lnTo>
                  <a:pt x="20256" y="8312"/>
                </a:lnTo>
                <a:lnTo>
                  <a:pt x="18875" y="8312"/>
                </a:lnTo>
                <a:lnTo>
                  <a:pt x="18875" y="12326"/>
                </a:lnTo>
                <a:cubicBezTo>
                  <a:pt x="18875" y="14408"/>
                  <a:pt x="16937" y="16332"/>
                  <a:pt x="14855" y="16332"/>
                </a:cubicBezTo>
                <a:lnTo>
                  <a:pt x="13604" y="16332"/>
                </a:lnTo>
                <a:cubicBezTo>
                  <a:pt x="11522" y="16332"/>
                  <a:pt x="9584" y="14408"/>
                  <a:pt x="9584" y="12326"/>
                </a:cubicBez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10 Kolejki priorytetowe i słownik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5D6A-A0E8-4E8F-B21F-2C360E2F8EF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j 2003</a:t>
            </a:r>
          </a:p>
        </p:txBody>
      </p:sp>
    </p:spTree>
  </p:cSld>
  <p:transition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Specyfikacja kolejek priorytetowych 2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95280" y="3276720"/>
            <a:ext cx="6096240" cy="2545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6.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member(e,q)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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P bool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P : {bool := false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while(not empty(q) and not bool ) do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bool := (min(q)=e); q:=delmin(q) od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90720" y="1981080"/>
            <a:ext cx="6019560" cy="762120"/>
          </a:xfrm>
          <a:custGeom>
            <a:avLst/>
            <a:gdLst>
              <a:gd name="textAreaLeft" fmla="*/ 1562760 w 6019560"/>
              <a:gd name="textAreaRight" fmla="*/ 4456800 w 6019560"/>
              <a:gd name="textAreaTop" fmla="*/ 197640 h 762120"/>
              <a:gd name="textAreaBottom" fmla="*/ 564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593" y="12201"/>
                </a:lnTo>
                <a:lnTo>
                  <a:pt x="786" y="14846"/>
                </a:lnTo>
                <a:lnTo>
                  <a:pt x="4642" y="14799"/>
                </a:lnTo>
                <a:lnTo>
                  <a:pt x="3163" y="18437"/>
                </a:lnTo>
                <a:lnTo>
                  <a:pt x="6694" y="16887"/>
                </a:lnTo>
                <a:lnTo>
                  <a:pt x="6580" y="20741"/>
                </a:lnTo>
                <a:lnTo>
                  <a:pt x="9274" y="17982"/>
                </a:lnTo>
                <a:lnTo>
                  <a:pt x="10800" y="21600"/>
                </a:lnTo>
                <a:lnTo>
                  <a:pt x="12201" y="18007"/>
                </a:lnTo>
                <a:lnTo>
                  <a:pt x="14846" y="20814"/>
                </a:lnTo>
                <a:lnTo>
                  <a:pt x="14799" y="16958"/>
                </a:lnTo>
                <a:lnTo>
                  <a:pt x="18437" y="18437"/>
                </a:lnTo>
                <a:lnTo>
                  <a:pt x="16887" y="14906"/>
                </a:lnTo>
                <a:lnTo>
                  <a:pt x="20741" y="15020"/>
                </a:lnTo>
                <a:lnTo>
                  <a:pt x="17982" y="12326"/>
                </a:lnTo>
                <a:lnTo>
                  <a:pt x="21600" y="10800"/>
                </a:lnTo>
                <a:lnTo>
                  <a:pt x="18007" y="9399"/>
                </a:lnTo>
                <a:lnTo>
                  <a:pt x="20814" y="6754"/>
                </a:lnTo>
                <a:lnTo>
                  <a:pt x="16958" y="6801"/>
                </a:lnTo>
                <a:lnTo>
                  <a:pt x="18437" y="3163"/>
                </a:lnTo>
                <a:lnTo>
                  <a:pt x="14906" y="4713"/>
                </a:lnTo>
                <a:lnTo>
                  <a:pt x="15020" y="859"/>
                </a:lnTo>
                <a:lnTo>
                  <a:pt x="12326" y="3618"/>
                </a:lnTo>
                <a:lnTo>
                  <a:pt x="10800" y="0"/>
                </a:lnTo>
                <a:lnTo>
                  <a:pt x="9399" y="3593"/>
                </a:lnTo>
                <a:lnTo>
                  <a:pt x="6754" y="786"/>
                </a:lnTo>
                <a:lnTo>
                  <a:pt x="6801" y="4642"/>
                </a:lnTo>
                <a:lnTo>
                  <a:pt x="3163" y="3163"/>
                </a:lnTo>
                <a:lnTo>
                  <a:pt x="4713" y="6694"/>
                </a:lnTo>
                <a:lnTo>
                  <a:pt x="859" y="6580"/>
                </a:lnTo>
                <a:lnTo>
                  <a:pt x="3618" y="9274"/>
                </a:lnTo>
                <a:lnTo>
                  <a:pt x="0" y="10800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bfae2"/>
                </a:solidFill>
                <a:latin typeface="Times New Roman"/>
              </a:rPr>
              <a:t>Każda kolejka jest skończon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28800" y="1523880"/>
            <a:ext cx="5486400" cy="398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5.  while (not empty(q)) do q := delmin(q) od true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2819520"/>
            <a:ext cx="4191120" cy="2209680"/>
          </a:xfrm>
          <a:custGeom>
            <a:avLst/>
            <a:gdLst>
              <a:gd name="textAreaLeft" fmla="*/ 957240 w 4191120"/>
              <a:gd name="textAreaRight" fmla="*/ 3233880 w 4191120"/>
              <a:gd name="textAreaTop" fmla="*/ 504720 h 2209680"/>
              <a:gd name="textAreaBottom" fmla="*/ 170496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6" y="12383"/>
                </a:lnTo>
                <a:lnTo>
                  <a:pt x="786" y="14846"/>
                </a:lnTo>
                <a:lnTo>
                  <a:pt x="3842" y="15318"/>
                </a:lnTo>
                <a:lnTo>
                  <a:pt x="3163" y="18437"/>
                </a:lnTo>
                <a:lnTo>
                  <a:pt x="6161" y="17678"/>
                </a:lnTo>
                <a:lnTo>
                  <a:pt x="6580" y="20741"/>
                </a:lnTo>
                <a:lnTo>
                  <a:pt x="9075" y="18915"/>
                </a:lnTo>
                <a:lnTo>
                  <a:pt x="10800" y="21600"/>
                </a:lnTo>
                <a:lnTo>
                  <a:pt x="12383" y="18944"/>
                </a:lnTo>
                <a:lnTo>
                  <a:pt x="14846" y="20814"/>
                </a:lnTo>
                <a:lnTo>
                  <a:pt x="15318" y="17758"/>
                </a:lnTo>
                <a:lnTo>
                  <a:pt x="18437" y="18437"/>
                </a:lnTo>
                <a:lnTo>
                  <a:pt x="17678" y="15439"/>
                </a:lnTo>
                <a:lnTo>
                  <a:pt x="20741" y="15020"/>
                </a:lnTo>
                <a:lnTo>
                  <a:pt x="18915" y="12525"/>
                </a:lnTo>
                <a:lnTo>
                  <a:pt x="21600" y="10800"/>
                </a:lnTo>
                <a:lnTo>
                  <a:pt x="18944" y="9217"/>
                </a:lnTo>
                <a:lnTo>
                  <a:pt x="20814" y="6754"/>
                </a:lnTo>
                <a:lnTo>
                  <a:pt x="17758" y="6282"/>
                </a:lnTo>
                <a:lnTo>
                  <a:pt x="18437" y="3163"/>
                </a:lnTo>
                <a:lnTo>
                  <a:pt x="15439" y="3922"/>
                </a:lnTo>
                <a:lnTo>
                  <a:pt x="15020" y="859"/>
                </a:lnTo>
                <a:lnTo>
                  <a:pt x="12525" y="2685"/>
                </a:lnTo>
                <a:lnTo>
                  <a:pt x="10800" y="0"/>
                </a:lnTo>
                <a:lnTo>
                  <a:pt x="9217" y="2656"/>
                </a:lnTo>
                <a:lnTo>
                  <a:pt x="6754" y="786"/>
                </a:lnTo>
                <a:lnTo>
                  <a:pt x="6282" y="3842"/>
                </a:lnTo>
                <a:lnTo>
                  <a:pt x="3163" y="3163"/>
                </a:lnTo>
                <a:lnTo>
                  <a:pt x="3922" y="6161"/>
                </a:lnTo>
                <a:lnTo>
                  <a:pt x="859" y="6580"/>
                </a:lnTo>
                <a:lnTo>
                  <a:pt x="2685" y="9075"/>
                </a:lnTo>
                <a:lnTo>
                  <a:pt x="0" y="10800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bfae2"/>
                </a:solidFill>
                <a:latin typeface="Times New Roman"/>
              </a:rPr>
              <a:t>Jeśli element e </a:t>
            </a:r>
            <a:br>
              <a:rPr sz="1800"/>
            </a:br>
            <a:r>
              <a:rPr b="0" lang="pl-PL" sz="1800" spc="-1" strike="noStrike">
                <a:solidFill>
                  <a:srgbClr val="fbfae2"/>
                </a:solidFill>
                <a:latin typeface="Times New Roman"/>
              </a:rPr>
              <a:t>należy do kolejki q, to</a:t>
            </a:r>
            <a:br>
              <a:rPr sz="1800"/>
            </a:br>
            <a:r>
              <a:rPr b="0" lang="pl-PL" sz="1800" spc="-1" strike="noStrike">
                <a:solidFill>
                  <a:srgbClr val="fbfae2"/>
                </a:solidFill>
                <a:latin typeface="Times New Roman"/>
              </a:rPr>
              <a:t>po skończonej liczbie usunięć </a:t>
            </a:r>
            <a:br>
              <a:rPr sz="1800"/>
            </a:br>
            <a:r>
              <a:rPr b="0" lang="pl-PL" sz="1800" spc="-1" strike="noStrike">
                <a:solidFill>
                  <a:srgbClr val="fbfae2"/>
                </a:solidFill>
                <a:latin typeface="Times New Roman"/>
              </a:rPr>
              <a:t>kolejnych elementów minimalnych</a:t>
            </a:r>
            <a:br>
              <a:rPr sz="1800"/>
            </a:br>
            <a:r>
              <a:rPr b="0" lang="pl-PL" sz="1800" spc="-1" strike="noStrike">
                <a:solidFill>
                  <a:srgbClr val="fbfae2"/>
                </a:solidFill>
                <a:latin typeface="Times New Roman"/>
              </a:rPr>
              <a:t>dotrę do tego  elementu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" name="">
            <a:hlinkClick r:id="" action="ppaction://hlinkshowjump?jump=previousslide"/>
          </p:cNvPr>
          <p:cNvSpPr/>
          <p:nvPr/>
        </p:nvSpPr>
        <p:spPr>
          <a:xfrm>
            <a:off x="7848720" y="5181480"/>
            <a:ext cx="761760" cy="533520"/>
          </a:xfrm>
          <a:custGeom>
            <a:avLst/>
            <a:gdLst>
              <a:gd name="textAreaLeft" fmla="*/ 58320 w 761760"/>
              <a:gd name="textAreaRight" fmla="*/ 703440 w 761760"/>
              <a:gd name="textAreaTop" fmla="*/ 58320 h 533520"/>
              <a:gd name="textAreaBottom" fmla="*/ 475200 h 533520"/>
            </a:gdLst>
            <a:ahLst/>
            <a:rect l="textAreaLeft" t="textAreaTop" r="textAreaRight" b="textAreaBottom"/>
            <a:pathLst>
              <a:path w="30834" h="21600">
                <a:moveTo>
                  <a:pt x="0" y="0"/>
                </a:moveTo>
                <a:lnTo>
                  <a:pt x="30834" y="0"/>
                </a:lnTo>
                <a:lnTo>
                  <a:pt x="30834" y="21600"/>
                </a:lnTo>
                <a:lnTo>
                  <a:pt x="0" y="21600"/>
                </a:lnTo>
                <a:close/>
              </a:path>
              <a:path fill="lightenLess" w="30834" h="21600">
                <a:moveTo>
                  <a:pt x="0" y="0"/>
                </a:moveTo>
                <a:lnTo>
                  <a:pt x="30834" y="0"/>
                </a:lnTo>
                <a:lnTo>
                  <a:pt x="28471" y="2363"/>
                </a:lnTo>
                <a:lnTo>
                  <a:pt x="2363" y="2363"/>
                </a:lnTo>
                <a:close/>
              </a:path>
              <a:path fill="darken" w="30834" h="21600">
                <a:moveTo>
                  <a:pt x="30834" y="0"/>
                </a:moveTo>
                <a:lnTo>
                  <a:pt x="30834" y="21600"/>
                </a:lnTo>
                <a:lnTo>
                  <a:pt x="28471" y="19237"/>
                </a:lnTo>
                <a:lnTo>
                  <a:pt x="28471" y="2363"/>
                </a:lnTo>
                <a:close/>
              </a:path>
              <a:path fill="darkenLess" w="30834" h="21600">
                <a:moveTo>
                  <a:pt x="30834" y="21600"/>
                </a:moveTo>
                <a:lnTo>
                  <a:pt x="0" y="21600"/>
                </a:lnTo>
                <a:lnTo>
                  <a:pt x="2363" y="19237"/>
                </a:lnTo>
                <a:lnTo>
                  <a:pt x="28471" y="19237"/>
                </a:lnTo>
                <a:close/>
              </a:path>
              <a:path fill="lighten" w="30834" h="21600">
                <a:moveTo>
                  <a:pt x="0" y="21600"/>
                </a:moveTo>
                <a:lnTo>
                  <a:pt x="0" y="0"/>
                </a:lnTo>
                <a:lnTo>
                  <a:pt x="2363" y="2363"/>
                </a:lnTo>
                <a:lnTo>
                  <a:pt x="2363" y="19237"/>
                </a:lnTo>
                <a:close/>
              </a:path>
              <a:path fill="darken" w="30834" h="21600">
                <a:moveTo>
                  <a:pt x="9128" y="7831"/>
                </a:moveTo>
                <a:lnTo>
                  <a:pt x="12277" y="7831"/>
                </a:lnTo>
                <a:lnTo>
                  <a:pt x="12277" y="12620"/>
                </a:lnTo>
                <a:cubicBezTo>
                  <a:pt x="12277" y="13448"/>
                  <a:pt x="12995" y="14104"/>
                  <a:pt x="13925" y="14104"/>
                </a:cubicBezTo>
                <a:lnTo>
                  <a:pt x="15417" y="14104"/>
                </a:lnTo>
                <a:cubicBezTo>
                  <a:pt x="16347" y="14104"/>
                  <a:pt x="17065" y="13448"/>
                  <a:pt x="17065" y="12620"/>
                </a:cubicBezTo>
                <a:lnTo>
                  <a:pt x="17065" y="7831"/>
                </a:lnTo>
                <a:lnTo>
                  <a:pt x="15417" y="7831"/>
                </a:lnTo>
                <a:lnTo>
                  <a:pt x="18565" y="4683"/>
                </a:lnTo>
                <a:lnTo>
                  <a:pt x="21862" y="7831"/>
                </a:lnTo>
                <a:lnTo>
                  <a:pt x="20214" y="7831"/>
                </a:lnTo>
                <a:lnTo>
                  <a:pt x="20214" y="12620"/>
                </a:lnTo>
                <a:cubicBezTo>
                  <a:pt x="20214" y="15104"/>
                  <a:pt x="17901" y="17401"/>
                  <a:pt x="15417" y="17401"/>
                </a:cubicBezTo>
                <a:lnTo>
                  <a:pt x="13925" y="17401"/>
                </a:lnTo>
                <a:cubicBezTo>
                  <a:pt x="11441" y="17401"/>
                  <a:pt x="9128" y="15104"/>
                  <a:pt x="9128" y="12620"/>
                </a:cubicBez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10 Kolejki priorytetowe i słownik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8D60-6476-4E42-83A0-DE0418BABBB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j 2003</a:t>
            </a:r>
          </a:p>
        </p:txBody>
      </p:sp>
    </p:spTree>
  </p:cSld>
  <p:transition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Model standardowy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71600" y="16765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PQ(E) = </a:t>
            </a:r>
            <a:r>
              <a:rPr b="1" lang="pl-PL" sz="2400" spc="-1" strike="noStrike">
                <a:solidFill>
                  <a:srgbClr val="402000"/>
                </a:solidFill>
                <a:latin typeface="Symbol"/>
                <a:ea typeface="Symbol"/>
              </a:rPr>
              <a:t>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E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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Fin(E), insert, delmin, min, member, empty,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402000"/>
                </a:solidFill>
                <a:latin typeface="Symbol"/>
                <a:ea typeface="Symbol"/>
              </a:rPr>
              <a:t>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25909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gdzie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3880" y="3276720"/>
            <a:ext cx="4496040" cy="2399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insert(e, q) =</a:t>
            </a:r>
            <a:r>
              <a:rPr b="0" lang="pl-PL" sz="2000" spc="-1" strike="noStrike" baseline="30000">
                <a:solidFill>
                  <a:srgbClr val="402000"/>
                </a:solidFill>
                <a:latin typeface="Times New Roman"/>
              </a:rPr>
              <a:t>df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q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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{e}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delmin (q) =</a:t>
            </a:r>
            <a:r>
              <a:rPr b="0" lang="pl-PL" sz="2000" spc="-1" strike="noStrike" baseline="30000">
                <a:solidFill>
                  <a:srgbClr val="402000"/>
                </a:solidFill>
                <a:latin typeface="Times New Roman"/>
              </a:rPr>
              <a:t>df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q \ {min(q)}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min(q) = </a:t>
            </a:r>
            <a:r>
              <a:rPr b="0" lang="pl-PL" sz="2000" spc="-1" strike="noStrike" baseline="30000">
                <a:solidFill>
                  <a:srgbClr val="402000"/>
                </a:solidFill>
                <a:latin typeface="Times New Roman"/>
              </a:rPr>
              <a:t>df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minimum{e: e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q}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member(e,q)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</a:t>
            </a:r>
            <a:r>
              <a:rPr b="0" lang="pl-PL" sz="2000" spc="-1" strike="noStrike" baseline="30000">
                <a:solidFill>
                  <a:srgbClr val="402000"/>
                </a:solidFill>
                <a:latin typeface="Times New Roman"/>
              </a:rPr>
              <a:t>df 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e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q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jest relacją liniowego porządku w zbiorze etykiet E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457200"/>
            <a:ext cx="2438640" cy="1066680"/>
          </a:xfrm>
          <a:prstGeom prst="cloudCallout">
            <a:avLst>
              <a:gd name="adj1" fmla="val 30532"/>
              <a:gd name="adj2" fmla="val 76189"/>
            </a:avLst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Zbiór</a:t>
            </a:r>
            <a:br>
              <a:rPr sz="1800"/>
            </a:b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 możliwych elementów  </a:t>
            </a:r>
            <a:br>
              <a:rPr sz="1800"/>
            </a:b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kolejek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0" y="2133720"/>
            <a:ext cx="3657600" cy="1143000"/>
          </a:xfrm>
          <a:prstGeom prst="cloudCallout">
            <a:avLst>
              <a:gd name="adj1" fmla="val -83074"/>
              <a:gd name="adj2" fmla="val -49861"/>
            </a:avLst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    </a:t>
            </a: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Zbiór możliwych  zawartości </a:t>
            </a:r>
            <a:br>
              <a:rPr sz="1800"/>
            </a:b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kolejek, tzn. zbiór skończonych </a:t>
            </a:r>
            <a:br>
              <a:rPr sz="1800"/>
            </a:b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podzbiorów zbioru E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6" name="">
            <a:hlinkClick r:id="rId2" action="ppaction://hlinksldjump"/>
          </p:cNvPr>
          <p:cNvSpPr/>
          <p:nvPr/>
        </p:nvSpPr>
        <p:spPr>
          <a:xfrm>
            <a:off x="7467480" y="4419720"/>
            <a:ext cx="990720" cy="914400"/>
          </a:xfrm>
          <a:custGeom>
            <a:avLst/>
            <a:gdLst>
              <a:gd name="textAreaLeft" fmla="*/ 163440 w 990720"/>
              <a:gd name="textAreaRight" fmla="*/ 827280 w 990720"/>
              <a:gd name="textAreaTop" fmla="*/ 163440 h 914400"/>
              <a:gd name="textAreaBottom" fmla="*/ 7509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19539" y="3863"/>
                </a:lnTo>
                <a:lnTo>
                  <a:pt x="3863" y="3863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19539" y="17737"/>
                </a:lnTo>
                <a:lnTo>
                  <a:pt x="19539" y="3863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3863" y="17737"/>
                </a:lnTo>
                <a:lnTo>
                  <a:pt x="19539" y="17737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3863" y="3863"/>
                </a:lnTo>
                <a:lnTo>
                  <a:pt x="3863" y="17737"/>
                </a:lnTo>
                <a:close/>
              </a:path>
              <a:path fill="darken" w="23402" h="21600">
                <a:moveTo>
                  <a:pt x="6530" y="5629"/>
                </a:moveTo>
                <a:lnTo>
                  <a:pt x="16872" y="10800"/>
                </a:lnTo>
                <a:lnTo>
                  <a:pt x="6530" y="15971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bfae2"/>
                </a:solidFill>
                <a:latin typeface="Times New Roman"/>
              </a:rPr>
              <a:t>ax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10 Kolejki priorytetowe i słownik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53AD-65A6-40D3-9446-A4E5EF446FB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j 2003</a:t>
            </a:r>
          </a:p>
        </p:txBody>
      </p:sp>
    </p:spTree>
  </p:cSld>
  <p:transition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Twierdzenie o reprezentacji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1752480"/>
            <a:ext cx="6248520" cy="1373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9900"/>
                </a:solidFill>
                <a:latin typeface="Times New Roman"/>
              </a:rPr>
              <a:t>Każdy model specyfikacji Kolejek Priorytetowych jest izomorficzny </a:t>
            </a:r>
            <a:br>
              <a:rPr sz="2800"/>
            </a:br>
            <a:r>
              <a:rPr b="1" lang="pl-PL" sz="2800" spc="-1" strike="noStrike">
                <a:solidFill>
                  <a:srgbClr val="ff9900"/>
                </a:solidFill>
                <a:latin typeface="Times New Roman"/>
              </a:rPr>
              <a:t>z pewnym modelem standardowym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90720" y="3352680"/>
            <a:ext cx="2819160" cy="2743200"/>
          </a:xfrm>
          <a:prstGeom prst="irregularSeal1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Zbiór modeli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dla specyfikacji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kolejek prio-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rytetowych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24480" y="3505320"/>
            <a:ext cx="2362320" cy="1981080"/>
          </a:xfrm>
          <a:custGeom>
            <a:avLst/>
            <a:gdLst>
              <a:gd name="textAreaLeft" fmla="*/ 628920 w 2362320"/>
              <a:gd name="textAreaRight" fmla="*/ 1733400 w 2362320"/>
              <a:gd name="textAreaTop" fmla="*/ 527400 h 1981080"/>
              <a:gd name="textAreaBottom" fmla="*/ 145368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711" y="11670"/>
                </a:lnTo>
                <a:lnTo>
                  <a:pt x="368" y="13595"/>
                </a:lnTo>
                <a:lnTo>
                  <a:pt x="4178" y="13475"/>
                </a:lnTo>
                <a:lnTo>
                  <a:pt x="1447" y="16200"/>
                </a:lnTo>
                <a:lnTo>
                  <a:pt x="5096" y="15098"/>
                </a:lnTo>
                <a:lnTo>
                  <a:pt x="3163" y="18437"/>
                </a:lnTo>
                <a:lnTo>
                  <a:pt x="6403" y="16428"/>
                </a:lnTo>
                <a:lnTo>
                  <a:pt x="5400" y="20153"/>
                </a:lnTo>
                <a:lnTo>
                  <a:pt x="8009" y="17374"/>
                </a:lnTo>
                <a:lnTo>
                  <a:pt x="8005" y="21232"/>
                </a:lnTo>
                <a:lnTo>
                  <a:pt x="9806" y="17872"/>
                </a:lnTo>
                <a:lnTo>
                  <a:pt x="10800" y="21600"/>
                </a:lnTo>
                <a:lnTo>
                  <a:pt x="11670" y="17889"/>
                </a:lnTo>
                <a:lnTo>
                  <a:pt x="13595" y="21232"/>
                </a:lnTo>
                <a:lnTo>
                  <a:pt x="13475" y="17422"/>
                </a:lnTo>
                <a:lnTo>
                  <a:pt x="16200" y="20153"/>
                </a:lnTo>
                <a:lnTo>
                  <a:pt x="15098" y="16504"/>
                </a:lnTo>
                <a:lnTo>
                  <a:pt x="18437" y="18437"/>
                </a:lnTo>
                <a:lnTo>
                  <a:pt x="16428" y="15197"/>
                </a:lnTo>
                <a:lnTo>
                  <a:pt x="20153" y="16200"/>
                </a:lnTo>
                <a:lnTo>
                  <a:pt x="17374" y="13591"/>
                </a:lnTo>
                <a:lnTo>
                  <a:pt x="21232" y="13595"/>
                </a:lnTo>
                <a:lnTo>
                  <a:pt x="17872" y="11794"/>
                </a:lnTo>
                <a:lnTo>
                  <a:pt x="21600" y="10800"/>
                </a:lnTo>
                <a:lnTo>
                  <a:pt x="17889" y="9930"/>
                </a:lnTo>
                <a:lnTo>
                  <a:pt x="21232" y="8005"/>
                </a:lnTo>
                <a:lnTo>
                  <a:pt x="17422" y="8125"/>
                </a:lnTo>
                <a:lnTo>
                  <a:pt x="20153" y="5400"/>
                </a:lnTo>
                <a:lnTo>
                  <a:pt x="16504" y="6502"/>
                </a:lnTo>
                <a:lnTo>
                  <a:pt x="18437" y="3163"/>
                </a:lnTo>
                <a:lnTo>
                  <a:pt x="15197" y="5172"/>
                </a:lnTo>
                <a:lnTo>
                  <a:pt x="16200" y="1447"/>
                </a:lnTo>
                <a:lnTo>
                  <a:pt x="13591" y="4226"/>
                </a:lnTo>
                <a:lnTo>
                  <a:pt x="13595" y="368"/>
                </a:lnTo>
                <a:lnTo>
                  <a:pt x="11794" y="3728"/>
                </a:lnTo>
                <a:lnTo>
                  <a:pt x="10800" y="0"/>
                </a:lnTo>
                <a:lnTo>
                  <a:pt x="9930" y="3711"/>
                </a:lnTo>
                <a:lnTo>
                  <a:pt x="8005" y="368"/>
                </a:lnTo>
                <a:lnTo>
                  <a:pt x="8125" y="4178"/>
                </a:lnTo>
                <a:lnTo>
                  <a:pt x="5400" y="1447"/>
                </a:lnTo>
                <a:lnTo>
                  <a:pt x="6502" y="5096"/>
                </a:lnTo>
                <a:lnTo>
                  <a:pt x="3163" y="3163"/>
                </a:lnTo>
                <a:lnTo>
                  <a:pt x="5172" y="6403"/>
                </a:lnTo>
                <a:lnTo>
                  <a:pt x="1447" y="5400"/>
                </a:lnTo>
                <a:lnTo>
                  <a:pt x="4226" y="8009"/>
                </a:lnTo>
                <a:lnTo>
                  <a:pt x="368" y="8005"/>
                </a:lnTo>
                <a:lnTo>
                  <a:pt x="3728" y="9806"/>
                </a:lnTo>
                <a:lnTo>
                  <a:pt x="0" y="10800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Modele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standardowe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14600" y="3809880"/>
            <a:ext cx="380880" cy="304920"/>
          </a:xfrm>
          <a:prstGeom prst="ellipse">
            <a:avLst/>
          </a:prstGeom>
          <a:solidFill>
            <a:srgbClr val="cd3333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bfae2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391520" y="3733920"/>
            <a:ext cx="380880" cy="304560"/>
          </a:xfrm>
          <a:prstGeom prst="ellipse">
            <a:avLst/>
          </a:prstGeom>
          <a:solidFill>
            <a:srgbClr val="140a00"/>
          </a:solidFill>
          <a:ln w="9360">
            <a:solidFill>
              <a:srgbClr val="fbfa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bfae2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581280" y="4267080"/>
            <a:ext cx="2819520" cy="609840"/>
          </a:xfrm>
          <a:custGeom>
            <a:avLst/>
            <a:gdLst>
              <a:gd name="textAreaLeft" fmla="*/ 440280 w 2819520"/>
              <a:gd name="textAreaRight" fmla="*/ 2646000 w 2819520"/>
              <a:gd name="textAreaTop" fmla="*/ 176040 h 609840"/>
              <a:gd name="textAreaBottom" fmla="*/ 433800 h 609840"/>
            </a:gdLst>
            <a:ahLst/>
            <a:rect l="textAreaLeft" t="textAreaTop" r="textAreaRight" b="textAreaBottom"/>
            <a:pathLst>
              <a:path w="21600" h="21600">
                <a:moveTo>
                  <a:pt x="3375" y="6236"/>
                </a:moveTo>
                <a:lnTo>
                  <a:pt x="18450" y="6236"/>
                </a:lnTo>
                <a:lnTo>
                  <a:pt x="18450" y="0"/>
                </a:lnTo>
                <a:lnTo>
                  <a:pt x="21600" y="10800"/>
                </a:lnTo>
                <a:lnTo>
                  <a:pt x="18450" y="21600"/>
                </a:lnTo>
                <a:lnTo>
                  <a:pt x="18450" y="15364"/>
                </a:lnTo>
                <a:lnTo>
                  <a:pt x="3375" y="15364"/>
                </a:lnTo>
                <a:close/>
              </a:path>
              <a:path w="21600" h="21600">
                <a:moveTo>
                  <a:pt x="0" y="6236"/>
                </a:moveTo>
                <a:lnTo>
                  <a:pt x="675" y="6236"/>
                </a:lnTo>
                <a:lnTo>
                  <a:pt x="675" y="15364"/>
                </a:lnTo>
                <a:lnTo>
                  <a:pt x="0" y="15364"/>
                </a:lnTo>
                <a:close/>
              </a:path>
              <a:path w="21600" h="21600">
                <a:moveTo>
                  <a:pt x="1350" y="6236"/>
                </a:moveTo>
                <a:lnTo>
                  <a:pt x="2700" y="6236"/>
                </a:lnTo>
                <a:lnTo>
                  <a:pt x="2700" y="15364"/>
                </a:lnTo>
                <a:lnTo>
                  <a:pt x="1350" y="15364"/>
                </a:lnTo>
                <a:close/>
              </a:path>
            </a:pathLst>
          </a:custGeom>
          <a:solidFill>
            <a:srgbClr val="140a00"/>
          </a:solidFill>
          <a:ln w="9360">
            <a:solidFill>
              <a:srgbClr val="fbfa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bfae2"/>
                </a:solidFill>
                <a:latin typeface="Times New Roman"/>
              </a:rPr>
              <a:t>izomorfizm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10 Kolejki priorytetowe i słownik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0300-9D64-44B1-8D08-A6F8FB80F6A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j 2003</a:t>
            </a:r>
          </a:p>
        </p:txBody>
      </p:sp>
    </p:spTree>
  </p:cSld>
  <p:transition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Przykład 1: sortowanie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76520" y="1981080"/>
            <a:ext cx="7010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Dany jest zbiór X, podzbiór pewnej liniowo uporządkowanej przestrzeni E, &lt;E,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&gt;. Uporządkować elementy zbioru X rosnąco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19320" y="4038480"/>
            <a:ext cx="2590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1. Utworzyć kolejkę priorytetową pq, której elementami są elementy zbioru X i 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2. wykonać algorytm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267080" y="3581280"/>
            <a:ext cx="3353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{i:=1;</a:t>
            </a:r>
            <a:br>
              <a:rPr sz="2400"/>
            </a:b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  While not empty(pq) do</a:t>
            </a:r>
            <a:br>
              <a:rPr sz="2400"/>
            </a:b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     e[i] := min(pq); </a:t>
            </a:r>
            <a:br>
              <a:rPr sz="2400"/>
            </a:b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     pq := delmin(pq);</a:t>
            </a:r>
            <a:br>
              <a:rPr sz="2400"/>
            </a:b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     i := i+1;</a:t>
            </a:r>
            <a:br>
              <a:rPr sz="2400"/>
            </a:b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 od;}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581280" y="4038480"/>
            <a:ext cx="914400" cy="152424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429000" y="2895480"/>
            <a:ext cx="2666880" cy="581400"/>
          </a:xfrm>
          <a:prstGeom prst="rect">
            <a:avLst/>
          </a:prstGeom>
          <a:solidFill>
            <a:srgbClr val="a08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9900"/>
                </a:solidFill>
                <a:latin typeface="Times New Roman"/>
              </a:rPr>
              <a:t>Rozwiązani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 rot="5400000">
            <a:off x="628200" y="2190600"/>
            <a:ext cx="167616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Zadani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10 Kolejki priorytetowe i słownik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4ADA-7E3F-4044-81AF-540A290B0E5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j 2003</a:t>
            </a:r>
          </a:p>
        </p:txBody>
      </p:sp>
    </p:spTree>
  </p:cSld>
  <p:transition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Poprawność  algorytmu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66680" y="2057400"/>
            <a:ext cx="41148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{i:=1;</a:t>
            </a:r>
            <a:br>
              <a:rPr sz="2400"/>
            </a:b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  While (not empty(pq) ) d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e[i] := min(pq);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pq := delmin(pq)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i := i+1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od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05520" y="2438280"/>
            <a:ext cx="297180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e[1]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e[2]...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e[i-1]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038480" y="3276720"/>
            <a:ext cx="4572000" cy="100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Min(pq) jest najmniejszym elementem w pq, czyli  min(pq) jest najmniejszym elementem w X-{e[1],...,e[i-1]}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724280" y="4419720"/>
            <a:ext cx="3353040" cy="862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e[j]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e[i] dla j=1,2,...i-1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e[1]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e[2]...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e[i-1]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e[i]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2590560" y="3352680"/>
            <a:ext cx="1447560" cy="15264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3504960" y="2666880"/>
            <a:ext cx="1523880" cy="3049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2437920" y="4038480"/>
            <a:ext cx="2210040" cy="91440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95480" y="5562720"/>
            <a:ext cx="2971800" cy="398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e[1]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e[2]...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e[i-1]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1599840" y="4647960"/>
            <a:ext cx="1523880" cy="99036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1" name="">
            <a:hlinkClick r:id="rId5" action="ppaction://hlinksldjump"/>
          </p:cNvPr>
          <p:cNvSpPr/>
          <p:nvPr/>
        </p:nvSpPr>
        <p:spPr>
          <a:xfrm>
            <a:off x="6705720" y="5562720"/>
            <a:ext cx="761760" cy="457200"/>
          </a:xfrm>
          <a:custGeom>
            <a:avLst/>
            <a:gdLst>
              <a:gd name="textAreaLeft" fmla="*/ 114120 w 761760"/>
              <a:gd name="textAreaRight" fmla="*/ 647640 w 76176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35977" h="21600">
                <a:moveTo>
                  <a:pt x="0" y="0"/>
                </a:moveTo>
                <a:lnTo>
                  <a:pt x="35977" y="0"/>
                </a:lnTo>
                <a:lnTo>
                  <a:pt x="35977" y="21600"/>
                </a:lnTo>
                <a:lnTo>
                  <a:pt x="0" y="21600"/>
                </a:lnTo>
                <a:close/>
              </a:path>
              <a:path fill="lightenLess" w="35977" h="21600">
                <a:moveTo>
                  <a:pt x="0" y="0"/>
                </a:moveTo>
                <a:lnTo>
                  <a:pt x="35977" y="0"/>
                </a:lnTo>
                <a:lnTo>
                  <a:pt x="30577" y="5400"/>
                </a:lnTo>
                <a:lnTo>
                  <a:pt x="5400" y="5400"/>
                </a:lnTo>
                <a:close/>
              </a:path>
              <a:path fill="darken" w="35977" h="21600">
                <a:moveTo>
                  <a:pt x="35977" y="0"/>
                </a:moveTo>
                <a:lnTo>
                  <a:pt x="35977" y="21600"/>
                </a:lnTo>
                <a:lnTo>
                  <a:pt x="30577" y="16200"/>
                </a:lnTo>
                <a:lnTo>
                  <a:pt x="30577" y="5400"/>
                </a:lnTo>
                <a:close/>
              </a:path>
              <a:path fill="darkenLess" w="35977" h="21600">
                <a:moveTo>
                  <a:pt x="3597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77" y="16200"/>
                </a:lnTo>
                <a:close/>
              </a:path>
              <a:path fill="lighten" w="3597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77" h="21600">
                <a:moveTo>
                  <a:pt x="13964" y="10800"/>
                </a:moveTo>
                <a:lnTo>
                  <a:pt x="22014" y="6775"/>
                </a:lnTo>
                <a:lnTo>
                  <a:pt x="22014" y="14825"/>
                </a:lnTo>
                <a:close/>
              </a:path>
            </a:pathLst>
          </a:custGeom>
          <a:solidFill>
            <a:srgbClr val="402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bfae2"/>
                </a:solidFill>
                <a:latin typeface="Times New Roman"/>
              </a:rPr>
              <a:t>ax1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2" name="">
            <a:hlinkClick r:id="rId6" action="ppaction://hlinksldjump"/>
          </p:cNvPr>
          <p:cNvSpPr/>
          <p:nvPr/>
        </p:nvSpPr>
        <p:spPr>
          <a:xfrm>
            <a:off x="7848720" y="5562720"/>
            <a:ext cx="761760" cy="457200"/>
          </a:xfrm>
          <a:custGeom>
            <a:avLst/>
            <a:gdLst>
              <a:gd name="textAreaLeft" fmla="*/ 114120 w 761760"/>
              <a:gd name="textAreaRight" fmla="*/ 647640 w 76176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35977" h="21600">
                <a:moveTo>
                  <a:pt x="0" y="0"/>
                </a:moveTo>
                <a:lnTo>
                  <a:pt x="35977" y="0"/>
                </a:lnTo>
                <a:lnTo>
                  <a:pt x="35977" y="21600"/>
                </a:lnTo>
                <a:lnTo>
                  <a:pt x="0" y="21600"/>
                </a:lnTo>
                <a:close/>
              </a:path>
              <a:path fill="lightenLess" w="35977" h="21600">
                <a:moveTo>
                  <a:pt x="0" y="0"/>
                </a:moveTo>
                <a:lnTo>
                  <a:pt x="35977" y="0"/>
                </a:lnTo>
                <a:lnTo>
                  <a:pt x="30577" y="5400"/>
                </a:lnTo>
                <a:lnTo>
                  <a:pt x="5400" y="5400"/>
                </a:lnTo>
                <a:close/>
              </a:path>
              <a:path fill="darken" w="35977" h="21600">
                <a:moveTo>
                  <a:pt x="35977" y="0"/>
                </a:moveTo>
                <a:lnTo>
                  <a:pt x="35977" y="21600"/>
                </a:lnTo>
                <a:lnTo>
                  <a:pt x="30577" y="16200"/>
                </a:lnTo>
                <a:lnTo>
                  <a:pt x="30577" y="5400"/>
                </a:lnTo>
                <a:close/>
              </a:path>
              <a:path fill="darkenLess" w="35977" h="21600">
                <a:moveTo>
                  <a:pt x="3597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577" y="16200"/>
                </a:lnTo>
                <a:close/>
              </a:path>
              <a:path fill="lighten" w="3597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977" h="21600">
                <a:moveTo>
                  <a:pt x="13964" y="10800"/>
                </a:moveTo>
                <a:lnTo>
                  <a:pt x="22014" y="6775"/>
                </a:lnTo>
                <a:lnTo>
                  <a:pt x="22014" y="14825"/>
                </a:lnTo>
                <a:close/>
              </a:path>
            </a:pathLst>
          </a:custGeom>
          <a:solidFill>
            <a:srgbClr val="402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bfae2"/>
                </a:solidFill>
                <a:latin typeface="Times New Roman"/>
              </a:rPr>
              <a:t>ax2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57800" y="1828800"/>
            <a:ext cx="2666880" cy="581400"/>
          </a:xfrm>
          <a:prstGeom prst="rect">
            <a:avLst/>
          </a:prstGeom>
          <a:solidFill>
            <a:srgbClr val="a08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9900"/>
                </a:solidFill>
                <a:latin typeface="Times New Roman"/>
              </a:rPr>
              <a:t>Niezmiennik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10 Kolejki priorytetowe i słownik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1102-5D15-472A-A54B-0C463D627AE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j 2003</a:t>
            </a:r>
          </a:p>
        </p:txBody>
      </p:sp>
    </p:spTree>
  </p:cSld>
  <p:transition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1T21:01:37Z</dcterms:created>
  <dc:creator>grażyna</dc:creator>
  <dc:description/>
  <dc:language>en-US</dc:language>
  <cp:lastModifiedBy>mirkowska</cp:lastModifiedBy>
  <cp:lastPrinted>2002-04-28T19:50:06Z</cp:lastPrinted>
  <dcterms:modified xsi:type="dcterms:W3CDTF">2003-05-19T14:56:41Z</dcterms:modified>
  <cp:revision>80</cp:revision>
  <dc:subject>Tablice mieszające</dc:subject>
  <dc:title>ALGORYTMY I STRUKTURY  DANYCH</dc:title>
</cp:coreProperties>
</file>