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C76-5925-4BA3-8BE0-50ACD9C02D3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brew pozorom nie jest to problem błachy. Warianty tego problemu pojawiają się w związku z projektowaniem układów scalonych, w sieciach różnego typu, np. telefonicznej, w planowaniu linii montażowych, w roboty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orytm naiwny polega na przeszukaniu wszystkich możliwych cykli. Zatrzyma się, gdy znajdzie cykl o koszcie &lt;=k.Koszy takiego algorytmu wynosi dla grafu o n wierzchołkach O(n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 P=NP? postawiony w 1971 roku jest do dziś otwarty. Większość informatyków uważa, że odpowiedź jest negatywna. O klasie P wiadomo, że jest zamknięta na składanie uzupełnianaie, nic jednak nie wiadomo o klasie NP poza dużą liczbą przykładów do niej należ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totnym argumentem na rzecz tezy P&lt;&gt;NP jest istnienie problemów NPC- zupeł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orytm wzięty z R. Sedgewicka ALGO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żna przypuszczać, że duży koszt wiąże się z długim rozwiązaniem przedstawionych problem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1D6-A6F0-4291-ABC4-83238B6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DC9-FA0F-47F2-9406-FF9F8F6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6E5-09B7-4AA6-ABF2-E7104A65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55B-4815-4C1D-807D-E6A3B4D8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9132-8013-465B-8EF1-4FD8F8A8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EE0-FF05-4C0E-9D1D-B7F8ED3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EFC2-7888-4EF3-B00C-955B703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8FA-140E-465C-9C26-BB29FBC8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3526-629A-4FF7-8C05-5F1D77B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2758-E68D-4969-A2A1-C9964077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2E97-73EC-4D89-BA12-C55A42E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7FB-2D99-4CFE-9A40-A95A4A8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A886-4FB2-43FC-8724-90B6149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D395-6282-45E7-96C3-1931142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3AF5-89D5-461C-8D10-CE334FF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AE36-1EC1-49D8-93EA-258E0F4A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A68-BA3A-4BF9-A832-7B4573C9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15E-0B45-4B2B-BBD8-52E8736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BE7-6AF4-41AE-A326-F8A840E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18D-4BB8-4558-82E3-80F1922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32D-C329-449F-B3F3-15EEA09A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A31-7778-4322-90E7-AF4DB2E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7AA-9B3D-49E5-BA7A-1F89953E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00D-FD50-46A0-8C86-7FAFA36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B29-2D31-46EB-B08C-B418F0791534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B3A-EC5D-46D8-967D-4359D02168A3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13  Problemy trudne informatyki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 ,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blem komiwojażer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60020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danie komiwojażera polega na odwiedzeniu wszystkich miast z danego zbioru i powrót do punktu wyjścia, tak by pokonana droga była najkrótsz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4648320"/>
            <a:ext cx="685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W wersji decyzyjne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zy dla danego k istnieje cykl przechodzący przez wszystkie wierzchołki danego grafu taki, że suma kosztów jego krawędzi nie przekracza 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52120" y="2590920"/>
            <a:ext cx="3353040" cy="2057400"/>
            <a:chOff x="1752120" y="2590920"/>
            <a:chExt cx="3353040" cy="2057400"/>
          </a:xfrm>
        </p:grpSpPr>
        <p:sp>
          <p:nvSpPr>
            <p:cNvPr id="279" name=""/>
            <p:cNvSpPr/>
            <p:nvPr/>
          </p:nvSpPr>
          <p:spPr>
            <a:xfrm>
              <a:off x="3428640" y="2972160"/>
              <a:ext cx="15264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6880" y="2972160"/>
              <a:ext cx="15228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3581640"/>
              <a:ext cx="15228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733920"/>
              <a:ext cx="15264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440" y="4496040"/>
              <a:ext cx="15264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71440" y="3657960"/>
              <a:ext cx="15264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2840" y="3048120"/>
              <a:ext cx="30492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28440" y="3657960"/>
              <a:ext cx="1219320" cy="7596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047760" y="3733560"/>
              <a:ext cx="1219320" cy="8384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3657960"/>
              <a:ext cx="1219320" cy="9144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3048120"/>
              <a:ext cx="685800" cy="8384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047760" y="297216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47760" y="3657960"/>
              <a:ext cx="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3047400" y="3733920"/>
              <a:ext cx="114300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2840" y="2972160"/>
              <a:ext cx="8384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752120" y="2972160"/>
              <a:ext cx="9903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548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9880" y="3124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2680" y="3962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4080" y="3124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19160" y="3200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1080" y="3048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61960" y="3429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6360" y="3429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666880" y="3960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040" y="403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24080" y="2806920"/>
              <a:ext cx="1676160" cy="1841400"/>
            </a:xfrm>
            <a:custGeom>
              <a:avLst/>
              <a:gdLst/>
              <a:ahLst/>
              <a:rect l="l" t="t" r="r" b="b"/>
              <a:pathLst>
                <a:path w="1056" h="1160">
                  <a:moveTo>
                    <a:pt x="0" y="1112"/>
                  </a:moveTo>
                  <a:cubicBezTo>
                    <a:pt x="88" y="1136"/>
                    <a:pt x="176" y="1160"/>
                    <a:pt x="336" y="1112"/>
                  </a:cubicBezTo>
                  <a:cubicBezTo>
                    <a:pt x="496" y="1064"/>
                    <a:pt x="864" y="968"/>
                    <a:pt x="960" y="824"/>
                  </a:cubicBezTo>
                  <a:cubicBezTo>
                    <a:pt x="1056" y="680"/>
                    <a:pt x="936" y="368"/>
                    <a:pt x="912" y="248"/>
                  </a:cubicBezTo>
                  <a:cubicBezTo>
                    <a:pt x="888" y="128"/>
                    <a:pt x="888" y="144"/>
                    <a:pt x="816" y="104"/>
                  </a:cubicBezTo>
                  <a:cubicBezTo>
                    <a:pt x="744" y="64"/>
                    <a:pt x="576" y="0"/>
                    <a:pt x="480" y="8"/>
                  </a:cubicBezTo>
                  <a:cubicBezTo>
                    <a:pt x="384" y="16"/>
                    <a:pt x="280" y="128"/>
                    <a:pt x="240" y="152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2971800"/>
            <a:ext cx="68580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047760" y="3733560"/>
            <a:ext cx="11430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3733920"/>
            <a:ext cx="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3657600"/>
            <a:ext cx="121932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905120" y="2971800"/>
            <a:ext cx="7617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191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=2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819520"/>
            <a:ext cx="274320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naiwny :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generować wszystkie możliwe cykle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 rot="5400000">
            <a:off x="7029360" y="3409560"/>
            <a:ext cx="28954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 N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809880"/>
            <a:ext cx="27432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!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C6E-9B4F-4AFE-86C9-4C6AB3F411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blem spełnialnośc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5181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Rozwiązanie</a:t>
            </a:r>
            <a:br>
              <a:rPr sz="28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toda zero-jedynkow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robl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38862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y dla danej formuły istnieje wartościowanie, które spełnia tę formułę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1676520"/>
            <a:ext cx="1981440" cy="1295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ęzy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1676520"/>
            <a:ext cx="1981080" cy="1371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emantyk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1600200"/>
            <a:ext cx="1981080" cy="1371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pełnialnoś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20574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22096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3124080"/>
            <a:ext cx="1524240" cy="381240"/>
          </a:xfrm>
          <a:prstGeom prst="wedgeRoundRectCallout">
            <a:avLst>
              <a:gd name="adj1" fmla="val 43750"/>
              <a:gd name="adj2" fmla="val -20791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((p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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q)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19720" y="2971800"/>
            <a:ext cx="1675800" cy="762120"/>
            <a:chOff x="4419720" y="2971800"/>
            <a:chExt cx="1675800" cy="762120"/>
          </a:xfrm>
        </p:grpSpPr>
        <p:sp>
          <p:nvSpPr>
            <p:cNvPr id="328" name=""/>
            <p:cNvSpPr/>
            <p:nvPr/>
          </p:nvSpPr>
          <p:spPr>
            <a:xfrm>
              <a:off x="4419720" y="2971800"/>
              <a:ext cx="1600200" cy="762120"/>
            </a:xfrm>
            <a:prstGeom prst="wedgeRoundRectCallout">
              <a:avLst>
                <a:gd name="adj1" fmla="val -73513"/>
                <a:gd name="adj2" fmla="val -105833"/>
                <a:gd name="adj3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419720" y="3048120"/>
              <a:ext cx="1675800" cy="642600"/>
              <a:chOff x="4419720" y="3048120"/>
              <a:chExt cx="1675800" cy="64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4684320" y="304812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    </a:t>
                </a: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p  q    r </a:t>
                </a:r>
                <a:br>
                  <a:rPr sz="1800"/>
                </a:b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    1   0   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00240" y="3352680"/>
                <a:ext cx="104760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19720" y="3124080"/>
                <a:ext cx="42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v: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81480" y="3124080"/>
                <a:ext cx="0" cy="532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86040" y="3124080"/>
                <a:ext cx="0" cy="532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6553080" y="3276720"/>
            <a:ext cx="2210040" cy="533160"/>
          </a:xfrm>
          <a:prstGeom prst="wedgeRoundRectCallout">
            <a:avLst>
              <a:gd name="adj1" fmla="val 18101"/>
              <a:gd name="adj2" fmla="val -18512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((p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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q)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r) (v) = 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10080" y="5105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:  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formuły o długości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38480" y="51814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e  ...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EA8-E322-4822-AB9A-04ED1350A6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Ścieżki Hamilton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160020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 w danym niezorientowanym grafie istnieje ścieżka przechodząca przez każdy wierzchołek dokładnie raz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4572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 ma ścieżki Hamilto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4572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stnieje ścieżka Hamilto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752480" y="2819520"/>
            <a:ext cx="1828800" cy="1371600"/>
            <a:chOff x="1752480" y="2819520"/>
            <a:chExt cx="1828800" cy="1371600"/>
          </a:xfrm>
        </p:grpSpPr>
        <p:sp>
          <p:nvSpPr>
            <p:cNvPr id="343" name=""/>
            <p:cNvSpPr/>
            <p:nvPr/>
          </p:nvSpPr>
          <p:spPr>
            <a:xfrm>
              <a:off x="2438280" y="2819520"/>
              <a:ext cx="763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2819520"/>
              <a:ext cx="763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66880" y="3048120"/>
              <a:ext cx="763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05320" y="3276720"/>
              <a:ext cx="7596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05320" y="36576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0040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8280" y="41148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480" y="41148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6880" y="38862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52480" y="3733920"/>
              <a:ext cx="763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3276720"/>
              <a:ext cx="763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34290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8280" y="281952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38280" y="28195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4191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335268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81280" y="3352680"/>
              <a:ext cx="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666520" y="2819520"/>
              <a:ext cx="30492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28800" y="3276720"/>
              <a:ext cx="38088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752480" y="3505320"/>
              <a:ext cx="38124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200400" y="3276360"/>
              <a:ext cx="38088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720" y="3505320"/>
              <a:ext cx="3045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437920" y="3886200"/>
              <a:ext cx="2286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66880" y="388620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133360" y="3048120"/>
              <a:ext cx="6094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3200" y="3124080"/>
              <a:ext cx="4572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3720" y="3505320"/>
              <a:ext cx="6094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66880" y="3429000"/>
              <a:ext cx="60984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5880" y="2819520"/>
            <a:ext cx="533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3124080"/>
            <a:ext cx="45720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858000" y="3276360"/>
            <a:ext cx="38088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410080" y="2819520"/>
            <a:ext cx="1828800" cy="1371600"/>
            <a:chOff x="5410080" y="2819520"/>
            <a:chExt cx="1828800" cy="1371600"/>
          </a:xfrm>
        </p:grpSpPr>
        <p:sp>
          <p:nvSpPr>
            <p:cNvPr id="376" name=""/>
            <p:cNvSpPr/>
            <p:nvPr/>
          </p:nvSpPr>
          <p:spPr>
            <a:xfrm>
              <a:off x="6095880" y="281952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281952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304812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2920" y="327672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576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0" y="34290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41148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1148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24480" y="388620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373392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3276720"/>
              <a:ext cx="763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91320" y="3429000"/>
              <a:ext cx="7596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281952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5880" y="28195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5880" y="4191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10080" y="335304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8880" y="3353040"/>
              <a:ext cx="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324120" y="2819520"/>
              <a:ext cx="30492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86400" y="3276720"/>
              <a:ext cx="38088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410080" y="3504960"/>
              <a:ext cx="38124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58000" y="3276360"/>
              <a:ext cx="38088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34320" y="3505320"/>
              <a:ext cx="3045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095520" y="3886200"/>
              <a:ext cx="2286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24480" y="388620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790960" y="3048120"/>
              <a:ext cx="6094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00800" y="3124440"/>
              <a:ext cx="45720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1320" y="3505320"/>
              <a:ext cx="6094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324480" y="3429000"/>
              <a:ext cx="60984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629040" y="3657600"/>
              <a:ext cx="6094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 flipH="1">
            <a:off x="6629040" y="3657600"/>
            <a:ext cx="609480" cy="5335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4191120"/>
            <a:ext cx="5335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095520" y="3886200"/>
            <a:ext cx="22860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91320" y="3505320"/>
            <a:ext cx="60948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410080" y="3505320"/>
            <a:ext cx="381240" cy="304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352680"/>
            <a:ext cx="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32767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5257800"/>
            <a:ext cx="3429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naiwny :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rawdzić wszystkie ścieżk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sz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n!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762120" cy="7621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762120"/>
              <a:gd name="textAreaBottom" fmla="*/ 6717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035" y="2565"/>
                </a:lnTo>
                <a:lnTo>
                  <a:pt x="2565" y="256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035" y="19035"/>
                </a:lnTo>
                <a:lnTo>
                  <a:pt x="19035" y="256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565" y="19035"/>
                </a:lnTo>
                <a:lnTo>
                  <a:pt x="19035" y="1903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565" y="2565"/>
                </a:lnTo>
                <a:lnTo>
                  <a:pt x="2565" y="19035"/>
                </a:lnTo>
                <a:close/>
              </a:path>
              <a:path fill="darken" w="21600" h="21600">
                <a:moveTo>
                  <a:pt x="10800" y="4662"/>
                </a:moveTo>
                <a:arcTo wR="6138" hR="6138" stAng="16200000" swAng="-5400000"/>
                <a:arcTo wR="6138" hR="6138" stAng="10800000" swAng="-5400000"/>
                <a:arcTo wR="6138" hR="6138" stAng="5400000" swAng="-5400000"/>
                <a:arcTo wR="6138" hR="6138" stAng="0" swAng="-5400000"/>
                <a:close/>
              </a:path>
              <a:path fill="lighten" w="21600" h="21600">
                <a:moveTo>
                  <a:pt x="10800" y="4990"/>
                </a:moveTo>
                <a:arcTo wR="1571" hR="1571" stAng="16200000" swAng="-5400000"/>
                <a:arcTo wR="1571" hR="1571" stAng="10800000" swAng="-5400000"/>
                <a:arcTo wR="1571" hR="1571" stAng="5400000" swAng="-5400000"/>
                <a:arcTo wR="1571" hR="1571" stAng="0" swAng="-5400000"/>
                <a:close/>
              </a:path>
              <a:path fill="lighten" w="21600" h="21600">
                <a:moveTo>
                  <a:pt x="8543" y="8543"/>
                </a:moveTo>
                <a:lnTo>
                  <a:pt x="11929" y="8543"/>
                </a:lnTo>
                <a:lnTo>
                  <a:pt x="11929" y="14674"/>
                </a:lnTo>
                <a:lnTo>
                  <a:pt x="13057" y="14674"/>
                </a:lnTo>
                <a:lnTo>
                  <a:pt x="13057" y="15482"/>
                </a:lnTo>
                <a:lnTo>
                  <a:pt x="8543" y="15482"/>
                </a:lnTo>
                <a:lnTo>
                  <a:pt x="8543" y="14674"/>
                </a:lnTo>
                <a:lnTo>
                  <a:pt x="9672" y="14674"/>
                </a:lnTo>
                <a:lnTo>
                  <a:pt x="9672" y="9336"/>
                </a:lnTo>
                <a:lnTo>
                  <a:pt x="8543" y="933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bfae2"/>
                </a:solidFill>
                <a:latin typeface="Times New Roman"/>
              </a:rPr>
              <a:t>Eul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2EF-1B25-4D37-93DE-DF5DCD5965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lorowanie grafów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1676520"/>
            <a:ext cx="72388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danie Pokolorować wierzchołki niezorientowanego grafu G , tak by wierzchołki sąsiednie miały różne kolory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28954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mniejszą liczbę kolorów jakich trzeba użyć do pokolorowania grafu G nazywamy liczbą chromatyczną grafu , ozn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G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4952880"/>
            <a:ext cx="533376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decyzyjny: Dany jest graf G. Ustalić,  czy k kolorów wystarczy do pokolorowania tego graf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90920" y="2438280"/>
            <a:ext cx="58672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 jest zna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żaden algorytm wielomianowy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najdowania liczby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hromatycznej grafu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367-6014-4DF3-9139-94A7355C7F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Inne problem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2057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oblem plecakow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oblem pakowani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oblem planowania prac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1523880"/>
            <a:ext cx="4572000" cy="1743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ciąg obiektów 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) oraz pojemność plecaka C. Problem polega na znalezieniu podzbioru 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1,2,...,n} ab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la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 przyjmowała wartość największą oraz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2438280"/>
            <a:ext cx="4724280" cy="166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a jest nieograniczona liczba kontenerów o pojemności 1 oraz n obiektów rozmiaru 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,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dzie 0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. Jaka jest najmniejsza liczba kontenerów, potrzebna do zapakowania wszystkich obiektów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4114800"/>
            <a:ext cx="5410080" cy="196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J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,J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ędą zadaniami do wykonania, t1,...,tn - czasem koniecznym do wykonania zadania, ad1,...,dn terminami wykonania zadań, p1,...,pn karą za przekroczenie terminu.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taką kolejność wykonywania zadań, by zminimalizować kar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486-AAF0-4D96-A3D6-637C731008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 = NP 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16002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lasa NPC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problemy NP-zupeł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266688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p jest NP-zupełny, jeśli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należy do klasy NP i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każdy inny problem z tej klasy jest wielomianowo redukowalny do 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4648320"/>
            <a:ext cx="3962520" cy="1295280"/>
          </a:xfrm>
          <a:prstGeom prst="wedgeRoundRectCallout">
            <a:avLst>
              <a:gd name="adj1" fmla="val 5370"/>
              <a:gd name="adj2" fmla="val -113726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Gdyby istniało wielomianowe  rozwiązanie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dla jakiegokolwiek problemu z klasy NPC,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to istniałby wielomianowy algorytm dla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wszystkich innych problemów tej klasy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1066680"/>
            <a:ext cx="3429000" cy="1752840"/>
          </a:xfrm>
          <a:prstGeom prst="wedgeRoundRectCallout">
            <a:avLst>
              <a:gd name="adj1" fmla="val -61250"/>
              <a:gd name="adj2" fmla="val 74638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Gdyby udowodniono wykładnicze dolne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ograniczenie dla jakiegoś problemu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klasy NPC, to  żądnego z problemów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NPC  nie możnaby  rozwiązać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wielomianowo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D1F-F15C-49D3-A8BA-2F14B31ABD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szystko albo nic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5029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Twierdzenie.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Gdyby jakiś NP-zupełny problem należał do klasy P, to P = N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1676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1676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p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rot="16200000">
            <a:off x="4227840" y="876240"/>
            <a:ext cx="457200" cy="1904760"/>
          </a:xfrm>
          <a:custGeom>
            <a:avLst/>
            <a:gdLst>
              <a:gd name="textAreaLeft" fmla="*/ 61200 w 457200"/>
              <a:gd name="textAreaRight" fmla="*/ 396000 w 457200"/>
              <a:gd name="textAreaTop" fmla="*/ 313920 h 1904760"/>
              <a:gd name="textAreaBottom" fmla="*/ 136692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27" stAng="-5400000" swAng="-5400000"/>
                <a:lnTo>
                  <a:pt x="0" y="11938"/>
                </a:lnTo>
                <a:arcTo wR="21600" hR="7127" stAng="10800000" swAng="-1704176"/>
                <a:lnTo>
                  <a:pt x="10350" y="20557"/>
                </a:lnTo>
                <a:lnTo>
                  <a:pt x="21600" y="16659"/>
                </a:lnTo>
                <a:lnTo>
                  <a:pt x="10350" y="10674"/>
                </a:lnTo>
                <a:lnTo>
                  <a:pt x="10350" y="13210"/>
                </a:lnTo>
                <a:arcTo wR="21600" hR="7127" stAng="9095824" swAng="1299340"/>
                <a:lnTo>
                  <a:pt x="1268" y="9532"/>
                </a:lnTo>
                <a:arcTo wR="21600" hR="7127" stAng="-10395164" swAng="4995164"/>
                <a:close/>
              </a:path>
              <a:path fill="darkenLess" w="21600" h="21600">
                <a:moveTo>
                  <a:pt x="21600" y="0"/>
                </a:moveTo>
                <a:arcTo wR="21600" hR="7127" stAng="-5400000" swAng="-5400000"/>
                <a:lnTo>
                  <a:pt x="0" y="7127"/>
                </a:lnTo>
                <a:arcTo wR="21600" hR="7127" stAng="10800000" swAng="-404836"/>
                <a:lnTo>
                  <a:pt x="1268" y="9532"/>
                </a:lnTo>
                <a:arcTo wR="21600" hR="7127" stAng="-10395164" swAng="4995164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edukc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581280" y="2438280"/>
            <a:ext cx="1752840" cy="749520"/>
            <a:chOff x="3581280" y="2438280"/>
            <a:chExt cx="1752840" cy="749520"/>
          </a:xfrm>
        </p:grpSpPr>
        <p:sp>
          <p:nvSpPr>
            <p:cNvPr id="438" name=""/>
            <p:cNvSpPr/>
            <p:nvPr/>
          </p:nvSpPr>
          <p:spPr>
            <a:xfrm>
              <a:off x="3809880" y="2819520"/>
              <a:ext cx="1219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280" y="281952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wielomianowo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2438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676520" y="34290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powiedzią dla danych x jest TA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3505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4120" y="34290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powiedzią dla danych f(x) jest TA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438280"/>
            <a:ext cx="2057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roblemu 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2438280"/>
            <a:ext cx="2057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roblemu p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66680" y="4343400"/>
            <a:ext cx="7543800" cy="39888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ścieżek  Hamiltona redukuje się do problemu komiwojażer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E6E-278D-4F04-AEA5-ECA886CAFF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ozstrzygalność i nierozstrzygalność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44792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wiemy, że problem jest rozstrzygalny, jeśli istnieje algorytm, który dla dowolnych danych x po skończonej liczbie kroków daje rozwiązanie problem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133720"/>
            <a:ext cx="4572000" cy="2133360"/>
          </a:xfrm>
          <a:prstGeom prst="irregularSeal2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przeciwnym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padku probl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st nierozstrzygal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3124080"/>
            <a:ext cx="2286000" cy="1740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Twierdzenie</a:t>
            </a:r>
            <a:br>
              <a:rPr sz="28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stopu jest   nierozstrzygalny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halting problem).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274320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dowolny algorytm i dane do tego algorytmu. Pytamy, czy ten algorytm kończy obliczenia dla tych danych czy  nie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 rot="5400000">
            <a:off x="475560" y="3333960"/>
            <a:ext cx="160020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3" name=""/>
          <p:cNvSpPr/>
          <p:nvPr/>
        </p:nvSpPr>
        <p:spPr>
          <a:xfrm>
            <a:off x="1066680" y="4800600"/>
            <a:ext cx="746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 istnieje algorytm Q, który dla dowolnego algorytmu A napisanego w pewnym ustalonym języku programowania i dla  ustalonych danych x, po skończonej liczbie kroków odpowiada na pytanie, czy A zapętla się dla danych x, czy ni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B37-E1A0-4B6F-938E-DBA49C613B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ierozstrzygalność problemu „Stopu”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62320" y="1981080"/>
            <a:ext cx="3203280" cy="3662640"/>
          </a:xfrm>
          <a:custGeom>
            <a:avLst/>
            <a:gdLst/>
            <a:ahLst/>
            <a:rect l="l" t="t" r="r" b="b"/>
            <a:pathLst>
              <a:path w="1942" h="2102">
                <a:moveTo>
                  <a:pt x="314" y="180"/>
                </a:moveTo>
                <a:cubicBezTo>
                  <a:pt x="361" y="161"/>
                  <a:pt x="375" y="146"/>
                  <a:pt x="413" y="117"/>
                </a:cubicBezTo>
                <a:cubicBezTo>
                  <a:pt x="430" y="104"/>
                  <a:pt x="452" y="96"/>
                  <a:pt x="467" y="81"/>
                </a:cubicBezTo>
                <a:cubicBezTo>
                  <a:pt x="479" y="69"/>
                  <a:pt x="488" y="53"/>
                  <a:pt x="503" y="45"/>
                </a:cubicBezTo>
                <a:cubicBezTo>
                  <a:pt x="516" y="38"/>
                  <a:pt x="533" y="40"/>
                  <a:pt x="548" y="36"/>
                </a:cubicBezTo>
                <a:cubicBezTo>
                  <a:pt x="604" y="21"/>
                  <a:pt x="634" y="8"/>
                  <a:pt x="692" y="0"/>
                </a:cubicBezTo>
                <a:cubicBezTo>
                  <a:pt x="713" y="3"/>
                  <a:pt x="735" y="3"/>
                  <a:pt x="755" y="9"/>
                </a:cubicBezTo>
                <a:cubicBezTo>
                  <a:pt x="791" y="20"/>
                  <a:pt x="813" y="56"/>
                  <a:pt x="836" y="81"/>
                </a:cubicBezTo>
                <a:cubicBezTo>
                  <a:pt x="897" y="148"/>
                  <a:pt x="886" y="138"/>
                  <a:pt x="935" y="171"/>
                </a:cubicBezTo>
                <a:cubicBezTo>
                  <a:pt x="994" y="163"/>
                  <a:pt x="1058" y="154"/>
                  <a:pt x="1115" y="135"/>
                </a:cubicBezTo>
                <a:cubicBezTo>
                  <a:pt x="1298" y="74"/>
                  <a:pt x="1143" y="115"/>
                  <a:pt x="1241" y="90"/>
                </a:cubicBezTo>
                <a:cubicBezTo>
                  <a:pt x="1317" y="39"/>
                  <a:pt x="1402" y="67"/>
                  <a:pt x="1493" y="72"/>
                </a:cubicBezTo>
                <a:cubicBezTo>
                  <a:pt x="1575" y="99"/>
                  <a:pt x="1506" y="212"/>
                  <a:pt x="1547" y="270"/>
                </a:cubicBezTo>
                <a:cubicBezTo>
                  <a:pt x="1559" y="288"/>
                  <a:pt x="1583" y="294"/>
                  <a:pt x="1601" y="306"/>
                </a:cubicBezTo>
                <a:cubicBezTo>
                  <a:pt x="1644" y="335"/>
                  <a:pt x="1684" y="367"/>
                  <a:pt x="1727" y="396"/>
                </a:cubicBezTo>
                <a:cubicBezTo>
                  <a:pt x="1758" y="442"/>
                  <a:pt x="1801" y="477"/>
                  <a:pt x="1835" y="522"/>
                </a:cubicBezTo>
                <a:cubicBezTo>
                  <a:pt x="1857" y="611"/>
                  <a:pt x="1861" y="611"/>
                  <a:pt x="1844" y="738"/>
                </a:cubicBezTo>
                <a:cubicBezTo>
                  <a:pt x="1842" y="757"/>
                  <a:pt x="1826" y="792"/>
                  <a:pt x="1826" y="792"/>
                </a:cubicBezTo>
                <a:cubicBezTo>
                  <a:pt x="1863" y="829"/>
                  <a:pt x="1880" y="864"/>
                  <a:pt x="1907" y="909"/>
                </a:cubicBezTo>
                <a:cubicBezTo>
                  <a:pt x="1934" y="1042"/>
                  <a:pt x="1942" y="1067"/>
                  <a:pt x="1907" y="1278"/>
                </a:cubicBezTo>
                <a:cubicBezTo>
                  <a:pt x="1903" y="1303"/>
                  <a:pt x="1871" y="1314"/>
                  <a:pt x="1853" y="1332"/>
                </a:cubicBezTo>
                <a:cubicBezTo>
                  <a:pt x="1828" y="1357"/>
                  <a:pt x="1811" y="1384"/>
                  <a:pt x="1781" y="1404"/>
                </a:cubicBezTo>
                <a:cubicBezTo>
                  <a:pt x="1805" y="1499"/>
                  <a:pt x="1772" y="1387"/>
                  <a:pt x="1808" y="1467"/>
                </a:cubicBezTo>
                <a:cubicBezTo>
                  <a:pt x="1825" y="1505"/>
                  <a:pt x="1825" y="1520"/>
                  <a:pt x="1835" y="1557"/>
                </a:cubicBezTo>
                <a:cubicBezTo>
                  <a:pt x="1844" y="1590"/>
                  <a:pt x="1862" y="1656"/>
                  <a:pt x="1862" y="1656"/>
                </a:cubicBezTo>
                <a:cubicBezTo>
                  <a:pt x="1854" y="1728"/>
                  <a:pt x="1840" y="1786"/>
                  <a:pt x="1817" y="1854"/>
                </a:cubicBezTo>
                <a:cubicBezTo>
                  <a:pt x="1808" y="1880"/>
                  <a:pt x="1817" y="1914"/>
                  <a:pt x="1799" y="1935"/>
                </a:cubicBezTo>
                <a:cubicBezTo>
                  <a:pt x="1785" y="1951"/>
                  <a:pt x="1762" y="1958"/>
                  <a:pt x="1745" y="1971"/>
                </a:cubicBezTo>
                <a:cubicBezTo>
                  <a:pt x="1703" y="2002"/>
                  <a:pt x="1647" y="2033"/>
                  <a:pt x="1610" y="2070"/>
                </a:cubicBezTo>
                <a:cubicBezTo>
                  <a:pt x="1518" y="2052"/>
                  <a:pt x="1486" y="2041"/>
                  <a:pt x="1412" y="2016"/>
                </a:cubicBezTo>
                <a:cubicBezTo>
                  <a:pt x="1321" y="2077"/>
                  <a:pt x="1202" y="2071"/>
                  <a:pt x="1097" y="2097"/>
                </a:cubicBezTo>
                <a:cubicBezTo>
                  <a:pt x="923" y="2094"/>
                  <a:pt x="748" y="2102"/>
                  <a:pt x="575" y="2088"/>
                </a:cubicBezTo>
                <a:cubicBezTo>
                  <a:pt x="553" y="2086"/>
                  <a:pt x="542" y="2058"/>
                  <a:pt x="521" y="2052"/>
                </a:cubicBezTo>
                <a:cubicBezTo>
                  <a:pt x="480" y="2040"/>
                  <a:pt x="437" y="2040"/>
                  <a:pt x="395" y="2034"/>
                </a:cubicBezTo>
                <a:cubicBezTo>
                  <a:pt x="320" y="1978"/>
                  <a:pt x="332" y="1984"/>
                  <a:pt x="323" y="1872"/>
                </a:cubicBezTo>
                <a:cubicBezTo>
                  <a:pt x="217" y="1907"/>
                  <a:pt x="185" y="1866"/>
                  <a:pt x="107" y="1827"/>
                </a:cubicBezTo>
                <a:cubicBezTo>
                  <a:pt x="48" y="1729"/>
                  <a:pt x="22" y="1633"/>
                  <a:pt x="8" y="1521"/>
                </a:cubicBezTo>
                <a:cubicBezTo>
                  <a:pt x="13" y="1425"/>
                  <a:pt x="0" y="1326"/>
                  <a:pt x="26" y="1233"/>
                </a:cubicBezTo>
                <a:cubicBezTo>
                  <a:pt x="32" y="1212"/>
                  <a:pt x="50" y="1197"/>
                  <a:pt x="62" y="1179"/>
                </a:cubicBezTo>
                <a:cubicBezTo>
                  <a:pt x="68" y="1170"/>
                  <a:pt x="80" y="1152"/>
                  <a:pt x="80" y="1152"/>
                </a:cubicBezTo>
                <a:cubicBezTo>
                  <a:pt x="72" y="1079"/>
                  <a:pt x="53" y="1016"/>
                  <a:pt x="35" y="945"/>
                </a:cubicBezTo>
                <a:cubicBezTo>
                  <a:pt x="38" y="900"/>
                  <a:pt x="39" y="855"/>
                  <a:pt x="44" y="810"/>
                </a:cubicBezTo>
                <a:cubicBezTo>
                  <a:pt x="54" y="715"/>
                  <a:pt x="133" y="700"/>
                  <a:pt x="197" y="657"/>
                </a:cubicBezTo>
                <a:cubicBezTo>
                  <a:pt x="188" y="588"/>
                  <a:pt x="187" y="518"/>
                  <a:pt x="170" y="450"/>
                </a:cubicBezTo>
                <a:cubicBezTo>
                  <a:pt x="176" y="345"/>
                  <a:pt x="165" y="180"/>
                  <a:pt x="314" y="180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1371600"/>
            <a:ext cx="91440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19720" y="1676520"/>
            <a:ext cx="1218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15000" y="1447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ogram wejściow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solidFill>
            <a:srgbClr val="82dd5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107600">
            <a:off x="3733920" y="2131920"/>
            <a:ext cx="304560" cy="106704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19051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1640" y="3286080"/>
            <a:ext cx="1647720" cy="1114560"/>
          </a:xfrm>
          <a:custGeom>
            <a:avLst/>
            <a:gdLst/>
            <a:ahLst/>
            <a:rect l="l" t="t" r="r" b="b"/>
            <a:pathLst>
              <a:path w="1038" h="702">
                <a:moveTo>
                  <a:pt x="469" y="180"/>
                </a:moveTo>
                <a:cubicBezTo>
                  <a:pt x="454" y="134"/>
                  <a:pt x="472" y="166"/>
                  <a:pt x="433" y="144"/>
                </a:cubicBezTo>
                <a:cubicBezTo>
                  <a:pt x="414" y="133"/>
                  <a:pt x="379" y="108"/>
                  <a:pt x="379" y="108"/>
                </a:cubicBezTo>
                <a:cubicBezTo>
                  <a:pt x="299" y="115"/>
                  <a:pt x="276" y="103"/>
                  <a:pt x="226" y="153"/>
                </a:cubicBezTo>
                <a:cubicBezTo>
                  <a:pt x="202" y="224"/>
                  <a:pt x="205" y="188"/>
                  <a:pt x="217" y="261"/>
                </a:cubicBezTo>
                <a:cubicBezTo>
                  <a:pt x="131" y="282"/>
                  <a:pt x="49" y="314"/>
                  <a:pt x="19" y="405"/>
                </a:cubicBezTo>
                <a:cubicBezTo>
                  <a:pt x="27" y="532"/>
                  <a:pt x="0" y="541"/>
                  <a:pt x="73" y="603"/>
                </a:cubicBezTo>
                <a:cubicBezTo>
                  <a:pt x="116" y="640"/>
                  <a:pt x="81" y="624"/>
                  <a:pt x="127" y="639"/>
                </a:cubicBezTo>
                <a:cubicBezTo>
                  <a:pt x="190" y="633"/>
                  <a:pt x="245" y="647"/>
                  <a:pt x="280" y="594"/>
                </a:cubicBezTo>
                <a:cubicBezTo>
                  <a:pt x="312" y="616"/>
                  <a:pt x="336" y="647"/>
                  <a:pt x="370" y="666"/>
                </a:cubicBezTo>
                <a:cubicBezTo>
                  <a:pt x="406" y="687"/>
                  <a:pt x="464" y="692"/>
                  <a:pt x="505" y="702"/>
                </a:cubicBezTo>
                <a:cubicBezTo>
                  <a:pt x="529" y="699"/>
                  <a:pt x="553" y="698"/>
                  <a:pt x="577" y="693"/>
                </a:cubicBezTo>
                <a:cubicBezTo>
                  <a:pt x="596" y="689"/>
                  <a:pt x="631" y="675"/>
                  <a:pt x="631" y="675"/>
                </a:cubicBezTo>
                <a:cubicBezTo>
                  <a:pt x="651" y="646"/>
                  <a:pt x="674" y="628"/>
                  <a:pt x="685" y="594"/>
                </a:cubicBezTo>
                <a:cubicBezTo>
                  <a:pt x="688" y="570"/>
                  <a:pt x="685" y="544"/>
                  <a:pt x="694" y="522"/>
                </a:cubicBezTo>
                <a:cubicBezTo>
                  <a:pt x="698" y="513"/>
                  <a:pt x="699" y="541"/>
                  <a:pt x="703" y="549"/>
                </a:cubicBezTo>
                <a:cubicBezTo>
                  <a:pt x="708" y="559"/>
                  <a:pt x="713" y="568"/>
                  <a:pt x="721" y="576"/>
                </a:cubicBezTo>
                <a:cubicBezTo>
                  <a:pt x="754" y="609"/>
                  <a:pt x="814" y="607"/>
                  <a:pt x="856" y="621"/>
                </a:cubicBezTo>
                <a:cubicBezTo>
                  <a:pt x="877" y="618"/>
                  <a:pt x="899" y="620"/>
                  <a:pt x="919" y="612"/>
                </a:cubicBezTo>
                <a:cubicBezTo>
                  <a:pt x="927" y="609"/>
                  <a:pt x="993" y="548"/>
                  <a:pt x="1000" y="540"/>
                </a:cubicBezTo>
                <a:cubicBezTo>
                  <a:pt x="1019" y="517"/>
                  <a:pt x="1036" y="459"/>
                  <a:pt x="1036" y="459"/>
                </a:cubicBezTo>
                <a:cubicBezTo>
                  <a:pt x="1033" y="408"/>
                  <a:pt x="1038" y="356"/>
                  <a:pt x="1027" y="306"/>
                </a:cubicBezTo>
                <a:cubicBezTo>
                  <a:pt x="1025" y="295"/>
                  <a:pt x="1007" y="296"/>
                  <a:pt x="1000" y="288"/>
                </a:cubicBezTo>
                <a:cubicBezTo>
                  <a:pt x="994" y="281"/>
                  <a:pt x="994" y="270"/>
                  <a:pt x="991" y="261"/>
                </a:cubicBezTo>
                <a:cubicBezTo>
                  <a:pt x="1030" y="143"/>
                  <a:pt x="982" y="108"/>
                  <a:pt x="910" y="36"/>
                </a:cubicBezTo>
                <a:cubicBezTo>
                  <a:pt x="910" y="36"/>
                  <a:pt x="843" y="14"/>
                  <a:pt x="829" y="9"/>
                </a:cubicBezTo>
                <a:cubicBezTo>
                  <a:pt x="820" y="6"/>
                  <a:pt x="802" y="0"/>
                  <a:pt x="802" y="0"/>
                </a:cubicBezTo>
                <a:cubicBezTo>
                  <a:pt x="748" y="3"/>
                  <a:pt x="694" y="2"/>
                  <a:pt x="640" y="9"/>
                </a:cubicBezTo>
                <a:cubicBezTo>
                  <a:pt x="621" y="11"/>
                  <a:pt x="602" y="16"/>
                  <a:pt x="586" y="27"/>
                </a:cubicBezTo>
                <a:cubicBezTo>
                  <a:pt x="568" y="39"/>
                  <a:pt x="532" y="63"/>
                  <a:pt x="532" y="63"/>
                </a:cubicBezTo>
                <a:cubicBezTo>
                  <a:pt x="500" y="111"/>
                  <a:pt x="469" y="118"/>
                  <a:pt x="469" y="18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339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352680" y="3124080"/>
            <a:ext cx="22860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90760" y="3124080"/>
            <a:ext cx="1522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04960" y="4191120"/>
            <a:ext cx="15228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3962520"/>
            <a:ext cx="30456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4648320"/>
            <a:ext cx="685800" cy="6858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K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stop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4648320"/>
            <a:ext cx="685800" cy="60948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pętl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647960" y="3429000"/>
            <a:ext cx="1904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2743200"/>
            <a:ext cx="2361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Hipotetyczny program Q dla problemu stop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dpowiada Tak, gdy program dany zatrzymuje się i Nie jeśli program ma nieskończoną pętl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5257800"/>
            <a:ext cx="68580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54864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jśc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90720" y="1600200"/>
            <a:ext cx="15238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gram 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68520" y="4486320"/>
            <a:ext cx="1103400" cy="987480"/>
          </a:xfrm>
          <a:custGeom>
            <a:avLst/>
            <a:gdLst/>
            <a:ahLst/>
            <a:rect l="l" t="t" r="r" b="b"/>
            <a:pathLst>
              <a:path w="695" h="622">
                <a:moveTo>
                  <a:pt x="695" y="549"/>
                </a:moveTo>
                <a:cubicBezTo>
                  <a:pt x="646" y="622"/>
                  <a:pt x="621" y="592"/>
                  <a:pt x="515" y="585"/>
                </a:cubicBezTo>
                <a:cubicBezTo>
                  <a:pt x="503" y="582"/>
                  <a:pt x="489" y="583"/>
                  <a:pt x="479" y="576"/>
                </a:cubicBezTo>
                <a:cubicBezTo>
                  <a:pt x="470" y="570"/>
                  <a:pt x="468" y="557"/>
                  <a:pt x="461" y="549"/>
                </a:cubicBezTo>
                <a:cubicBezTo>
                  <a:pt x="414" y="493"/>
                  <a:pt x="380" y="441"/>
                  <a:pt x="362" y="369"/>
                </a:cubicBezTo>
                <a:cubicBezTo>
                  <a:pt x="369" y="317"/>
                  <a:pt x="357" y="278"/>
                  <a:pt x="407" y="261"/>
                </a:cubicBezTo>
                <a:cubicBezTo>
                  <a:pt x="416" y="264"/>
                  <a:pt x="428" y="263"/>
                  <a:pt x="434" y="270"/>
                </a:cubicBezTo>
                <a:cubicBezTo>
                  <a:pt x="454" y="295"/>
                  <a:pt x="436" y="408"/>
                  <a:pt x="434" y="414"/>
                </a:cubicBezTo>
                <a:cubicBezTo>
                  <a:pt x="431" y="423"/>
                  <a:pt x="416" y="420"/>
                  <a:pt x="407" y="423"/>
                </a:cubicBezTo>
                <a:cubicBezTo>
                  <a:pt x="374" y="420"/>
                  <a:pt x="338" y="428"/>
                  <a:pt x="308" y="414"/>
                </a:cubicBezTo>
                <a:cubicBezTo>
                  <a:pt x="288" y="405"/>
                  <a:pt x="284" y="378"/>
                  <a:pt x="272" y="360"/>
                </a:cubicBezTo>
                <a:cubicBezTo>
                  <a:pt x="266" y="351"/>
                  <a:pt x="254" y="333"/>
                  <a:pt x="254" y="333"/>
                </a:cubicBezTo>
                <a:cubicBezTo>
                  <a:pt x="243" y="257"/>
                  <a:pt x="240" y="273"/>
                  <a:pt x="254" y="189"/>
                </a:cubicBezTo>
                <a:cubicBezTo>
                  <a:pt x="256" y="180"/>
                  <a:pt x="255" y="168"/>
                  <a:pt x="263" y="162"/>
                </a:cubicBezTo>
                <a:cubicBezTo>
                  <a:pt x="278" y="151"/>
                  <a:pt x="317" y="144"/>
                  <a:pt x="317" y="144"/>
                </a:cubicBezTo>
                <a:cubicBezTo>
                  <a:pt x="346" y="230"/>
                  <a:pt x="316" y="288"/>
                  <a:pt x="236" y="315"/>
                </a:cubicBezTo>
                <a:cubicBezTo>
                  <a:pt x="194" y="309"/>
                  <a:pt x="152" y="304"/>
                  <a:pt x="110" y="297"/>
                </a:cubicBezTo>
                <a:cubicBezTo>
                  <a:pt x="98" y="295"/>
                  <a:pt x="84" y="296"/>
                  <a:pt x="74" y="288"/>
                </a:cubicBezTo>
                <a:cubicBezTo>
                  <a:pt x="67" y="282"/>
                  <a:pt x="69" y="269"/>
                  <a:pt x="65" y="261"/>
                </a:cubicBezTo>
                <a:cubicBezTo>
                  <a:pt x="51" y="234"/>
                  <a:pt x="37" y="205"/>
                  <a:pt x="20" y="180"/>
                </a:cubicBezTo>
                <a:cubicBezTo>
                  <a:pt x="0" y="99"/>
                  <a:pt x="5" y="22"/>
                  <a:pt x="92" y="0"/>
                </a:cubicBezTo>
                <a:cubicBezTo>
                  <a:pt x="110" y="4"/>
                  <a:pt x="151" y="6"/>
                  <a:pt x="164" y="27"/>
                </a:cubicBezTo>
                <a:cubicBezTo>
                  <a:pt x="174" y="43"/>
                  <a:pt x="182" y="81"/>
                  <a:pt x="182" y="81"/>
                </a:cubicBezTo>
                <a:cubicBezTo>
                  <a:pt x="179" y="114"/>
                  <a:pt x="189" y="151"/>
                  <a:pt x="173" y="180"/>
                </a:cubicBezTo>
                <a:cubicBezTo>
                  <a:pt x="164" y="197"/>
                  <a:pt x="119" y="198"/>
                  <a:pt x="119" y="198"/>
                </a:cubicBezTo>
                <a:cubicBezTo>
                  <a:pt x="110" y="192"/>
                  <a:pt x="98" y="189"/>
                  <a:pt x="92" y="180"/>
                </a:cubicBezTo>
                <a:cubicBezTo>
                  <a:pt x="82" y="164"/>
                  <a:pt x="74" y="126"/>
                  <a:pt x="74" y="126"/>
                </a:cubicBezTo>
                <a:cubicBezTo>
                  <a:pt x="77" y="117"/>
                  <a:pt x="76" y="106"/>
                  <a:pt x="83" y="99"/>
                </a:cubicBezTo>
                <a:cubicBezTo>
                  <a:pt x="115" y="67"/>
                  <a:pt x="128" y="112"/>
                  <a:pt x="128" y="135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2666880"/>
            <a:ext cx="45720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2666880"/>
            <a:ext cx="45720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rzeczność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4343400"/>
            <a:ext cx="1371600" cy="152280"/>
          </a:xfrm>
          <a:prstGeom prst="line">
            <a:avLst/>
          </a:prstGeom>
          <a:ln w="28440">
            <a:solidFill>
              <a:srgbClr val="fdfd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33720" y="4343400"/>
            <a:ext cx="457200" cy="609480"/>
          </a:xfrm>
          <a:prstGeom prst="line">
            <a:avLst/>
          </a:prstGeom>
          <a:ln w="28440">
            <a:solidFill>
              <a:srgbClr val="fdfd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876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rzeczność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4572000" y="4343040"/>
            <a:ext cx="1295280" cy="609480"/>
          </a:xfrm>
          <a:prstGeom prst="line">
            <a:avLst/>
          </a:prstGeom>
          <a:ln w="28440">
            <a:solidFill>
              <a:srgbClr val="fdfd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562360" y="5181480"/>
            <a:ext cx="228600" cy="304920"/>
          </a:xfrm>
          <a:prstGeom prst="line">
            <a:avLst/>
          </a:prstGeom>
          <a:ln w="38160">
            <a:solidFill>
              <a:srgbClr val="fdfd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F16-4755-4F20-A990-BD40058048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Ścieżki Euler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144792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danego grafu niezorientowanego zbadać czy istnieje ścieżka Eulera, tzn.  Droga lub cykl w grafie przechodzący przez każdą krawędź i to tylko raz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4419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 istnieje ścieżka Euler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95280" y="2590920"/>
            <a:ext cx="2057400" cy="1600200"/>
            <a:chOff x="1295280" y="2590920"/>
            <a:chExt cx="2057400" cy="1600200"/>
          </a:xfrm>
        </p:grpSpPr>
        <p:sp>
          <p:nvSpPr>
            <p:cNvPr id="490" name=""/>
            <p:cNvSpPr/>
            <p:nvPr/>
          </p:nvSpPr>
          <p:spPr>
            <a:xfrm>
              <a:off x="1295280" y="266724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523880" y="2667240"/>
              <a:ext cx="76176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85640" y="2667240"/>
              <a:ext cx="99072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3880" y="3581640"/>
              <a:ext cx="8380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361960" y="3581640"/>
              <a:ext cx="9144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85640" y="2667240"/>
              <a:ext cx="76320" cy="1447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09680" y="2590920"/>
              <a:ext cx="15228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0040" y="3505320"/>
              <a:ext cx="15264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85640" y="4038840"/>
              <a:ext cx="15264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7560" y="3505320"/>
              <a:ext cx="15228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9840" y="3581640"/>
              <a:ext cx="16002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>
            <a:off x="5410080" y="2819520"/>
            <a:ext cx="152640" cy="838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4419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stnieje ścieżka Euler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3200400"/>
            <a:ext cx="38088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0080" y="3657600"/>
            <a:ext cx="38124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943600" y="3809520"/>
            <a:ext cx="533520" cy="3812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553080" y="3428640"/>
            <a:ext cx="38124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29400" y="3048120"/>
            <a:ext cx="30492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2438280"/>
            <a:ext cx="38124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638680" y="2437920"/>
            <a:ext cx="457200" cy="304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05520" y="2819520"/>
            <a:ext cx="45720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52880" y="2362320"/>
            <a:ext cx="2057400" cy="1904400"/>
            <a:chOff x="4952880" y="2362320"/>
            <a:chExt cx="2057400" cy="1904400"/>
          </a:xfrm>
        </p:grpSpPr>
        <p:sp>
          <p:nvSpPr>
            <p:cNvPr id="512" name=""/>
            <p:cNvSpPr/>
            <p:nvPr/>
          </p:nvSpPr>
          <p:spPr>
            <a:xfrm flipH="1">
              <a:off x="5028840" y="2438280"/>
              <a:ext cx="1066680" cy="761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3200040"/>
              <a:ext cx="838080" cy="990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5880" y="2438280"/>
              <a:ext cx="838440" cy="99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867280" y="3428640"/>
              <a:ext cx="106704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62720" y="2819160"/>
              <a:ext cx="990360" cy="151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10080" y="3657240"/>
              <a:ext cx="99072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476760" y="2971440"/>
              <a:ext cx="7596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866920" y="2438280"/>
              <a:ext cx="228600" cy="175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409720" y="2438280"/>
              <a:ext cx="685800" cy="121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866920" y="2971440"/>
              <a:ext cx="685800" cy="1295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19920" y="2362320"/>
              <a:ext cx="152280" cy="151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7120" y="2895480"/>
              <a:ext cx="152280" cy="151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58000" y="3352680"/>
              <a:ext cx="152280" cy="151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00800" y="365724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91320" y="411444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4120" y="3581280"/>
              <a:ext cx="152280" cy="151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52880" y="3124080"/>
              <a:ext cx="152640" cy="151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86400" y="274284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410080" y="2895480"/>
              <a:ext cx="152640" cy="761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638680" y="2819520"/>
            <a:ext cx="91440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76760" y="2971800"/>
            <a:ext cx="75960" cy="8380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3657600"/>
            <a:ext cx="91440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410080" y="2590920"/>
            <a:ext cx="609840" cy="1066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514600"/>
            <a:ext cx="228600" cy="16765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943240" y="3048120"/>
            <a:ext cx="609480" cy="10666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95288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Zbadać czy graf jest spójny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Zbadać, czy graf wszystkie, z wyjątkiem co najwyżej dwóch wierzchołków, mają rząd parzyst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 rot="5400000">
            <a:off x="380880" y="4724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5653"/>
                <a:gd name="adj2" fmla="val -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7543800" y="3505320"/>
            <a:ext cx="1143000" cy="21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</a:t>
            </a:r>
            <a:br>
              <a:rPr sz="2800"/>
            </a:b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O(m)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gdzie m jest liczbą krawędzi graf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previousslide"/>
          </p:cNvPr>
          <p:cNvSpPr/>
          <p:nvPr/>
        </p:nvSpPr>
        <p:spPr>
          <a:xfrm>
            <a:off x="8001000" y="1905120"/>
            <a:ext cx="533520" cy="533160"/>
          </a:xfrm>
          <a:custGeom>
            <a:avLst/>
            <a:gdLst>
              <a:gd name="textAreaLeft" fmla="*/ 133200 w 533520"/>
              <a:gd name="textAreaRight" fmla="*/ 4003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6215" y="5400"/>
                </a:lnTo>
                <a:lnTo>
                  <a:pt x="5400" y="5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6215" y="16200"/>
                </a:lnTo>
                <a:lnTo>
                  <a:pt x="16215" y="5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5" y="16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5" h="21600">
                <a:moveTo>
                  <a:pt x="6782" y="10800"/>
                </a:moveTo>
                <a:lnTo>
                  <a:pt x="14832" y="6775"/>
                </a:lnTo>
                <a:lnTo>
                  <a:pt x="14832" y="14825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D80-08F2-4F80-8B7E-65D796490A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670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ieże Hano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Generowanie permut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oblem komiwojażer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cieżki Hamiltona (ścieżki Eulera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oblem kolorowania graf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oblem P= NP?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oblemy NP -zupełn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Rozstrzygalność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rozstrzygalność Problemu stop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5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B50-B52D-4067-9125-1E214F4856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pomnie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7652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wiemy, że problem jest wielomianowy, tzn. jest rozwiązywalny w czasie wielomianowym, jeżeli istnieje algorytm rozwiązujący ten problem dla danych rozmiaru n w czasie O(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 dla pewnego ustalonego 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276720"/>
            <a:ext cx="4343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szukiwa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w tablicy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z użyciem struktur drzewiast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mpresja danych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dłuższy wspólny podcią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krótsze ścieżk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246960" y="409572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124080"/>
            <a:ext cx="2438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wiemy, że problem jest wykładniczy, jeśli każdy algorytm rozwiązujący ten problem dla danych rozmiaru n, ma koszt  rzędu k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 dla pewnej stałej 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156-1797-4894-8443-0B0023782E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ieże Hano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6002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ch jest n krążków, umieszczonych w porządku rosnących średnic, na drążku A. Zadanie polega na przeniesieniu wszystkich krążków na drążek B z wykorzystaniem pomocniczego drążka C (oba drążki B i C są początkowo puste), ale mniejszy krążek musi zawsze leżeć na większ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551880" y="2114640"/>
            <a:ext cx="15238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3962520"/>
            <a:ext cx="7391520" cy="1907280"/>
            <a:chOff x="1143000" y="3962520"/>
            <a:chExt cx="7391520" cy="1907280"/>
          </a:xfrm>
        </p:grpSpPr>
        <p:sp>
          <p:nvSpPr>
            <p:cNvPr id="110" name=""/>
            <p:cNvSpPr/>
            <p:nvPr/>
          </p:nvSpPr>
          <p:spPr>
            <a:xfrm>
              <a:off x="1295280" y="4952880"/>
              <a:ext cx="20574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4724280"/>
              <a:ext cx="16002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495680"/>
              <a:ext cx="1066680" cy="228600"/>
            </a:xfrm>
            <a:prstGeom prst="rect">
              <a:avLst/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7400" y="4267080"/>
              <a:ext cx="609480" cy="228600"/>
            </a:xfrm>
            <a:prstGeom prst="rect">
              <a:avLst/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5257800"/>
              <a:ext cx="2286000" cy="76320"/>
            </a:xfrm>
            <a:prstGeom prst="rect">
              <a:avLst/>
            </a:prstGeom>
            <a:solidFill>
              <a:srgbClr val="140a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5257800"/>
              <a:ext cx="2286000" cy="76320"/>
            </a:xfrm>
            <a:prstGeom prst="rect">
              <a:avLst/>
            </a:prstGeom>
            <a:solidFill>
              <a:srgbClr val="140a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257800"/>
              <a:ext cx="2286000" cy="76320"/>
            </a:xfrm>
            <a:prstGeom prst="rect">
              <a:avLst/>
            </a:prstGeom>
            <a:solidFill>
              <a:srgbClr val="140a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3962520"/>
              <a:ext cx="0" cy="1295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6920" y="3962520"/>
              <a:ext cx="0" cy="1295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1520" y="3962520"/>
              <a:ext cx="0" cy="1295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629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086600" y="502920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26708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495680"/>
            <a:ext cx="10666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029200"/>
            <a:ext cx="1067040" cy="228600"/>
          </a:xfrm>
          <a:prstGeom prst="rect">
            <a:avLst/>
          </a:prstGeom>
          <a:solidFill>
            <a:srgbClr val="6b7ac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02920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80060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160020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029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80060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72428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029200"/>
            <a:ext cx="106704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4800600"/>
            <a:ext cx="1066680" cy="228600"/>
          </a:xfrm>
          <a:prstGeom prst="rect">
            <a:avLst/>
          </a:prstGeom>
          <a:solidFill>
            <a:srgbClr val="6b7ac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472428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57200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57400" cy="30492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4952880"/>
            <a:ext cx="205740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457200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029200"/>
            <a:ext cx="1066680" cy="228600"/>
          </a:xfrm>
          <a:prstGeom prst="rect">
            <a:avLst/>
          </a:prstGeom>
          <a:solidFill>
            <a:srgbClr val="6b7ac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800600"/>
            <a:ext cx="10666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72428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480060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029200"/>
            <a:ext cx="160020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472428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800600"/>
            <a:ext cx="6094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029200"/>
            <a:ext cx="60984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029200"/>
            <a:ext cx="106668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4495680"/>
            <a:ext cx="1066680" cy="228600"/>
          </a:xfrm>
          <a:prstGeom prst="rect">
            <a:avLst/>
          </a:prstGeom>
          <a:solidFill>
            <a:srgbClr val="6b7ac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5029200"/>
            <a:ext cx="609840" cy="2286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4267080"/>
            <a:ext cx="609480" cy="228600"/>
          </a:xfrm>
          <a:prstGeom prst="rect">
            <a:avLst/>
          </a:prstGeom>
          <a:solidFill>
            <a:srgbClr val="fdfd35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BB0-F934-4570-A61B-7A7D4526D4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600200"/>
            <a:ext cx="70102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przenies(n, A,B, C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przenieś n krążków z A na B wykorzystując C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if  (n&lt;&gt;0) th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enies(n-1, A,C,B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przeloz (A,B); {przełóż jeden krążek z A na B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przenieś(n-1, C, B, A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f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3720" y="388620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</a:t>
            </a:r>
            <a:br>
              <a:rPr sz="28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1) = 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n) = T(n-1) +1 +T(n-1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952880"/>
            <a:ext cx="2819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Rozwiązanie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: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T(n) = 2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 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-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5410080"/>
            <a:ext cx="3200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64) = 0.5 miliona l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4648320"/>
            <a:ext cx="1828800" cy="76176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2096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 wykładnicz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F90-E6B8-4EC1-A2B9-C3FB13E325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ermutacj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67652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danej liczby naturalnej n wygenerować wszystkie permutacje liczb {1,2,...,n}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 rot="5400000">
            <a:off x="514080" y="2228760"/>
            <a:ext cx="17524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514600"/>
            <a:ext cx="533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generuj(k : integer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var t : integer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now := now +1; tab[k] := now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if now =n then wypisz(tab);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t:= 1 to n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f   tab[t] = 0 then generuj(t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now := now-1; tab[k] := 0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2362320"/>
            <a:ext cx="259056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wołanie:generuj(0) z now =-1 i tab[i]=0 dla i=1..n  daj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581280"/>
            <a:ext cx="990720" cy="192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23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24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32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42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34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43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733920"/>
            <a:ext cx="990720" cy="192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13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14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12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12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14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13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4038480"/>
            <a:ext cx="990720" cy="192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31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41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21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21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41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31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4343400"/>
            <a:ext cx="990720" cy="1923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34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43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24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23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42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32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5562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  rzędu n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89D-0420-4028-A14F-1A6C09DB1A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blemy decyzyjn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1600200"/>
            <a:ext cx="6324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, którego rozwiązanie ma dawać odpowiedź binarną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ta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lub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nie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azywać będziemy problemem decyzyjnym.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27432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ch jest n kart, na których wydrukowane są kolorowe obrazki. Czy można z nich ułożyć kwadrat tak, by wszystkie obrazki pasowały do siebie kształtem i kolorem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777360" y="2433960"/>
            <a:ext cx="1532160" cy="1492920"/>
            <a:chOff x="6777360" y="2433960"/>
            <a:chExt cx="1532160" cy="1492920"/>
          </a:xfrm>
        </p:grpSpPr>
        <p:sp>
          <p:nvSpPr>
            <p:cNvPr id="174" name=""/>
            <p:cNvSpPr/>
            <p:nvPr/>
          </p:nvSpPr>
          <p:spPr>
            <a:xfrm rot="16219800">
              <a:off x="6818760" y="2400840"/>
              <a:ext cx="1449360" cy="1523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382600">
              <a:off x="6739200" y="2985120"/>
              <a:ext cx="506880" cy="423000"/>
            </a:xfrm>
            <a:prstGeom prst="smileyFace">
              <a:avLst>
                <a:gd name="adj" fmla="val 9282"/>
              </a:avLst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129600">
              <a:off x="7286400" y="3525840"/>
              <a:ext cx="592560" cy="362160"/>
            </a:xfrm>
            <a:prstGeom prst="smileyFace">
              <a:avLst>
                <a:gd name="adj" fmla="val 9282"/>
              </a:avLst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796880" y="323712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796520" y="3237120"/>
              <a:ext cx="720" cy="145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19800">
              <a:off x="7365240" y="2450160"/>
              <a:ext cx="362160" cy="338400"/>
            </a:xfrm>
            <a:prstGeom prst="ellipse">
              <a:avLst/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459560" y="280116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29120" y="280188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374960" y="301716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9120" y="301860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7797600" y="309204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797960" y="3019680"/>
              <a:ext cx="36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19800">
              <a:off x="7918560" y="2997360"/>
              <a:ext cx="434520" cy="338760"/>
            </a:xfrm>
            <a:prstGeom prst="ellipse">
              <a:avLst/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134560" y="3384360"/>
              <a:ext cx="360" cy="7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137440" y="2876760"/>
              <a:ext cx="72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7207560" y="258156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16240" y="258444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 rot="5400000">
            <a:off x="164160" y="3797640"/>
            <a:ext cx="24526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648320"/>
            <a:ext cx="617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naiwny:  przeglądamy wszystkie możliwe ułożenia. Odpowiadamy TAK, jeśli jakieś ułożenie jest poprawne, odpowiadamy NIE gdy żadne ułożenie nie było poprawn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77360" y="3881880"/>
            <a:ext cx="1532160" cy="1492920"/>
            <a:chOff x="6777360" y="3881880"/>
            <a:chExt cx="1532160" cy="1492920"/>
          </a:xfrm>
        </p:grpSpPr>
        <p:sp>
          <p:nvSpPr>
            <p:cNvPr id="194" name=""/>
            <p:cNvSpPr/>
            <p:nvPr/>
          </p:nvSpPr>
          <p:spPr>
            <a:xfrm rot="16219800">
              <a:off x="6818760" y="3848760"/>
              <a:ext cx="1449360" cy="1523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382600">
              <a:off x="6739200" y="4433040"/>
              <a:ext cx="506880" cy="423000"/>
            </a:xfrm>
            <a:prstGeom prst="smileyFace">
              <a:avLst>
                <a:gd name="adj" fmla="val 9282"/>
              </a:avLst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129600">
              <a:off x="7286400" y="4973760"/>
              <a:ext cx="592560" cy="362160"/>
            </a:xfrm>
            <a:prstGeom prst="smileyFace">
              <a:avLst>
                <a:gd name="adj" fmla="val 9282"/>
              </a:avLst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7796880" y="468504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796520" y="4685040"/>
              <a:ext cx="720" cy="145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19800">
              <a:off x="7365240" y="3898080"/>
              <a:ext cx="362160" cy="338400"/>
            </a:xfrm>
            <a:prstGeom prst="ellipse">
              <a:avLst/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459560" y="424908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29120" y="424980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7374960" y="446508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9120" y="446652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7797600" y="453996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797960" y="4467600"/>
              <a:ext cx="36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19800">
              <a:off x="7918560" y="4445280"/>
              <a:ext cx="434520" cy="338760"/>
            </a:xfrm>
            <a:prstGeom prst="ellipse">
              <a:avLst/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134560" y="4832280"/>
              <a:ext cx="360" cy="7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137440" y="4324680"/>
              <a:ext cx="72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207560" y="402948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6240" y="403236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53480" y="2433960"/>
            <a:ext cx="1531800" cy="1492920"/>
            <a:chOff x="5253480" y="2433960"/>
            <a:chExt cx="1531800" cy="1492920"/>
          </a:xfrm>
        </p:grpSpPr>
        <p:sp>
          <p:nvSpPr>
            <p:cNvPr id="212" name=""/>
            <p:cNvSpPr/>
            <p:nvPr/>
          </p:nvSpPr>
          <p:spPr>
            <a:xfrm rot="16219800">
              <a:off x="5294520" y="2401200"/>
              <a:ext cx="1449360" cy="152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382600">
              <a:off x="5215320" y="2985120"/>
              <a:ext cx="506880" cy="423000"/>
            </a:xfrm>
            <a:prstGeom prst="smileyFace">
              <a:avLst>
                <a:gd name="adj" fmla="val 9282"/>
              </a:avLst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1129600">
              <a:off x="5762160" y="3525840"/>
              <a:ext cx="592560" cy="362160"/>
            </a:xfrm>
            <a:prstGeom prst="smileyFace">
              <a:avLst>
                <a:gd name="adj" fmla="val 9282"/>
              </a:avLst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272640" y="323712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272280" y="3237120"/>
              <a:ext cx="720" cy="145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19800">
              <a:off x="5841360" y="2450520"/>
              <a:ext cx="362160" cy="338040"/>
            </a:xfrm>
            <a:prstGeom prst="ellipse">
              <a:avLst/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935320" y="280116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104880" y="280188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851080" y="301716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04880" y="301860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273360" y="309204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273720" y="3019680"/>
              <a:ext cx="36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19800">
              <a:off x="6394320" y="2997360"/>
              <a:ext cx="434520" cy="338760"/>
            </a:xfrm>
            <a:prstGeom prst="ellipse">
              <a:avLst/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0320" y="3384360"/>
              <a:ext cx="360" cy="7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613200" y="2876760"/>
              <a:ext cx="72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5683680" y="258156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92000" y="258444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53480" y="3881880"/>
            <a:ext cx="1531800" cy="1492920"/>
            <a:chOff x="5253480" y="3881880"/>
            <a:chExt cx="1531800" cy="1492920"/>
          </a:xfrm>
        </p:grpSpPr>
        <p:sp>
          <p:nvSpPr>
            <p:cNvPr id="230" name=""/>
            <p:cNvSpPr/>
            <p:nvPr/>
          </p:nvSpPr>
          <p:spPr>
            <a:xfrm rot="16219800">
              <a:off x="5294520" y="3849120"/>
              <a:ext cx="1449360" cy="152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382600">
              <a:off x="5215320" y="4433040"/>
              <a:ext cx="506880" cy="423000"/>
            </a:xfrm>
            <a:prstGeom prst="smileyFace">
              <a:avLst>
                <a:gd name="adj" fmla="val 9282"/>
              </a:avLst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129600">
              <a:off x="5762160" y="4973760"/>
              <a:ext cx="592560" cy="362160"/>
            </a:xfrm>
            <a:prstGeom prst="smileyFace">
              <a:avLst>
                <a:gd name="adj" fmla="val 9282"/>
              </a:avLst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6272640" y="468504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272280" y="4685040"/>
              <a:ext cx="720" cy="145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19800">
              <a:off x="5841360" y="3898440"/>
              <a:ext cx="362160" cy="338040"/>
            </a:xfrm>
            <a:prstGeom prst="ellipse">
              <a:avLst/>
            </a:prstGeom>
            <a:solidFill>
              <a:srgbClr val="fdfd35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935320" y="424908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104880" y="4249800"/>
              <a:ext cx="1440" cy="21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5851080" y="446508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04880" y="4466520"/>
              <a:ext cx="8424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6273360" y="4539960"/>
              <a:ext cx="253800" cy="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273720" y="4467600"/>
              <a:ext cx="36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19800">
              <a:off x="6394320" y="4445280"/>
              <a:ext cx="434520" cy="338760"/>
            </a:xfrm>
            <a:prstGeom prst="ellipse">
              <a:avLst/>
            </a:prstGeom>
            <a:solidFill>
              <a:srgbClr val="6b7ac7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610320" y="4832280"/>
              <a:ext cx="360" cy="7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613200" y="4324680"/>
              <a:ext cx="720" cy="72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683680" y="402948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92000" y="4032360"/>
              <a:ext cx="169560" cy="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05120" y="3429000"/>
            <a:ext cx="2743200" cy="137376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dfd35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pl-PL" sz="2800" spc="-1" strike="noStrike">
                <a:solidFill>
                  <a:srgbClr val="fdfd35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fdfd35"/>
                </a:solidFill>
                <a:latin typeface="Times New Roman"/>
              </a:rPr>
              <a:t>Koszt  </a:t>
            </a:r>
            <a:r>
              <a:rPr b="1" lang="pl-PL" sz="2800" spc="-1" strike="noStrike">
                <a:solidFill>
                  <a:srgbClr val="fdfd35"/>
                </a:solidFill>
                <a:latin typeface="Symbol"/>
                <a:ea typeface="Symbol"/>
              </a:rPr>
              <a:t></a:t>
            </a:r>
            <a:r>
              <a:rPr b="1" lang="pl-PL" sz="2800" spc="-1" strike="noStrike">
                <a:solidFill>
                  <a:srgbClr val="fdfd35"/>
                </a:solidFill>
                <a:latin typeface="Times New Roman"/>
              </a:rPr>
              <a:t>(n!)</a:t>
            </a: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673-D926-46DB-AD9E-6A776200EF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ierwsza klasyfikacj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752480"/>
            <a:ext cx="2514600" cy="358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3657600"/>
            <a:ext cx="6477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962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y rozsąd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1828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y wymagające nierozsądnie dużo czas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4267080"/>
            <a:ext cx="15264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057040" y="4343400"/>
            <a:ext cx="152388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y sortowan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4724280"/>
            <a:ext cx="457200" cy="6098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52578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y wyszukiwan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724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429000" y="4876920"/>
            <a:ext cx="38088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410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mpresja dan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25146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2819520" y="2361960"/>
            <a:ext cx="91440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1337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łpia układanka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581280"/>
            <a:ext cx="2666880" cy="228600"/>
          </a:xfrm>
          <a:custGeom>
            <a:avLst/>
            <a:gdLst/>
            <a:ahLst/>
            <a:rect l="l" t="t" r="r" b="b"/>
            <a:pathLst>
              <a:path w="1680" h="280">
                <a:moveTo>
                  <a:pt x="0" y="152"/>
                </a:moveTo>
                <a:cubicBezTo>
                  <a:pt x="88" y="100"/>
                  <a:pt x="176" y="48"/>
                  <a:pt x="240" y="56"/>
                </a:cubicBezTo>
                <a:cubicBezTo>
                  <a:pt x="304" y="64"/>
                  <a:pt x="336" y="176"/>
                  <a:pt x="384" y="200"/>
                </a:cubicBezTo>
                <a:cubicBezTo>
                  <a:pt x="432" y="224"/>
                  <a:pt x="464" y="232"/>
                  <a:pt x="528" y="200"/>
                </a:cubicBezTo>
                <a:cubicBezTo>
                  <a:pt x="592" y="168"/>
                  <a:pt x="672" y="0"/>
                  <a:pt x="768" y="8"/>
                </a:cubicBezTo>
                <a:cubicBezTo>
                  <a:pt x="864" y="16"/>
                  <a:pt x="1024" y="216"/>
                  <a:pt x="1104" y="248"/>
                </a:cubicBezTo>
                <a:cubicBezTo>
                  <a:pt x="1184" y="280"/>
                  <a:pt x="1192" y="240"/>
                  <a:pt x="1248" y="200"/>
                </a:cubicBezTo>
                <a:cubicBezTo>
                  <a:pt x="1304" y="160"/>
                  <a:pt x="1368" y="0"/>
                  <a:pt x="1440" y="8"/>
                </a:cubicBezTo>
                <a:cubicBezTo>
                  <a:pt x="1512" y="16"/>
                  <a:pt x="1640" y="208"/>
                  <a:pt x="1680" y="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77120" y="2666880"/>
            <a:ext cx="1981080" cy="238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e 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tóry z dwóch algorytmów o koszci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10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dla małych n, jest lepszy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77C-B7B3-42B8-9F47-E1F0C75216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lasyfikacja problemów decyzyj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1676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lasa problemów decyzyjnych rozwiązywalnych w czasie wielomianowy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4952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N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klasa problemów decyzyjnych, dla których  dowód, że podane rozwiązanie (algorytm) jest poprawne można zweryfikować w czasie wielomianow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490360" y="2188440"/>
            <a:ext cx="3649680" cy="3852720"/>
            <a:chOff x="5490360" y="2188440"/>
            <a:chExt cx="3649680" cy="3852720"/>
          </a:xfrm>
        </p:grpSpPr>
        <p:sp>
          <p:nvSpPr>
            <p:cNvPr id="271" name=""/>
            <p:cNvSpPr/>
            <p:nvPr/>
          </p:nvSpPr>
          <p:spPr>
            <a:xfrm rot="2339400">
              <a:off x="6324120" y="2438280"/>
              <a:ext cx="1981440" cy="3353040"/>
            </a:xfrm>
            <a:prstGeom prst="ellipse">
              <a:avLst/>
            </a:prstGeom>
            <a:solidFill>
              <a:srgbClr val="ce9964">
                <a:alpha val="50000"/>
              </a:srgbClr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05720" y="3962520"/>
              <a:ext cx="914400" cy="8380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523880" y="48006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zn. rozwiązywalnych przez algorytm niedeterministyczny w czasie wielomianow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426708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3 Problemy trud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1A7-FA84-469A-9DFF-688A0428D5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6-16T16:30:13Z</dcterms:modified>
  <cp:revision>69</cp:revision>
  <dc:subject>Drzewa</dc:subject>
  <dc:title>ALGORYTMY I STRUKTURY  DANYCH</dc:title>
</cp:coreProperties>
</file>