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C22-C6DC-4021-BF76-BB51F681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39420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885-ADFD-4B95-BA24-2BB8F38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464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DB4-6214-4355-9A82-87B1666E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6956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052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6956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052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2EC-6395-4A97-BF32-C8797A88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1EB6-EE0E-410E-9883-DB8DE415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D487-28B7-43C7-8065-E42A890F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D9EB-CD41-40B5-970B-D2D13ACA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A55-8D01-4F9A-8146-1751728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7F4-C51E-485D-82C2-D976207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A398-78EF-4530-99FF-3BB89E6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F3F-7025-4CAA-8D49-C23FDF0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1B0-431E-4841-AAAE-6C04E5C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8464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F1F-D2A4-4261-AB28-BB412A0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3857-5C52-4419-BAD1-9FBBE65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8960" y="39420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610-8E88-46C1-B342-92E35E9E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8464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2801-2F19-4586-980C-60E5BEF0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6956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0520" y="175248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896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6956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0520" y="3942000"/>
            <a:ext cx="242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458-DA66-40B3-87C7-285F6BE0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549-36B0-44C7-97B9-85E637F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E54-F432-4865-8ED9-F81053DD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943-76BC-47A6-8B5B-873C5EAE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54C-5E4A-4833-8B66-C9B3B52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9A4-2716-4B47-A268-71690A6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4640" y="394200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212-267A-4B73-98E1-6083CC7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4640" y="1752480"/>
            <a:ext cx="3681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3942000"/>
            <a:ext cx="7543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3CD-1EA8-4744-BEAF-D821DA5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896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128-7E3D-470F-A8DD-7E6FD0D1A456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5244-BB82-4C94-A0A0-05B8F96692D1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2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2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0.jpeg"/><Relationship Id="rId22" Type="http://schemas.openxmlformats.org/officeDocument/2006/relationships/image" Target="../media/image2.jpeg"/><Relationship Id="rId2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WYKŁAD 05 Problem Sortowani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PJWSTK, II rok semestr letni 2003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 sortowania przez wstawi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447920"/>
            <a:ext cx="6705720" cy="1191240"/>
          </a:xfrm>
          <a:prstGeom prst="rect">
            <a:avLst/>
          </a:prstGeom>
          <a:noFill/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 sortowania przez wstawianie  poprawnie rozwiązuje problem sortowania w każdej liniowo uporządkowanej strukturze danyc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 rot="5400000">
            <a:off x="-285120" y="2875680"/>
            <a:ext cx="3503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Twierdzen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3200400"/>
            <a:ext cx="6400800" cy="192276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 sortowania przez wstawianie jest, w każdej liniowo uporządkowanej strukturze danych, całkowicie poprawny ze względu na warunek początkowy n&gt;0 i warunek końcowy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       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&lt;i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) e[i-1]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e[i] 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3DC-0694-4C3E-9B2B-60A621C06A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sortowania przez wstawi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905120"/>
            <a:ext cx="6934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(n) = 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koszt maksymalny pętli wewnętrznej) = 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i-1) = n(n-1)/2 = O(n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65760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(n) = 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koszt średni pętli wewnętrznej)=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2590920"/>
            <a:ext cx="3276720" cy="1143000"/>
          </a:xfrm>
          <a:prstGeom prst="wedgeRoundRectCallout">
            <a:avLst>
              <a:gd name="adj1" fmla="val -77856"/>
              <a:gd name="adj2" fmla="val 69583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lement pom z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prawdopodobieństwem 1/i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może zająć dowolną z pozycj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od 1 do i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1371600"/>
            <a:ext cx="685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3300"/>
                </a:solidFill>
                <a:latin typeface="Times New Roman"/>
              </a:rPr>
              <a:t>Operacja dominująca - porównywanie elementów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191120"/>
            <a:ext cx="6858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(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j=1...i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j*(1/i)) = </a:t>
            </a:r>
            <a:r>
              <a:rPr b="0" lang="pl-PL" sz="32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2.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1/i)(i (i+1))/2 = (n+1)(n+2)/4 - 1.5 = (1/4)n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+O(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09680" y="5334120"/>
            <a:ext cx="519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gorytm sortuje w miejscu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F62-0E10-4BFB-843E-058F5C3C1B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scal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438280"/>
            <a:ext cx="6019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1)  Dzielimy zadanie posortowania całego ciągu na dwa podzadania: posortowania jego lewej i prawej połowy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2)  Gdy obie części tworzą już ciągi uporządkowane, wtedy scalamy je otrzymując rozwiązani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09680" y="1600200"/>
            <a:ext cx="4095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dea :  dziel i zwyciężaj 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184-E580-4A60-B9A0-832B1E1432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1447920"/>
            <a:ext cx="6858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6  5  12   4  10   6   1  13  15   7   1  14  9  3  8  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981080"/>
            <a:ext cx="36576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6  5  12   4  10   6   1  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981080"/>
            <a:ext cx="33526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5   7   1  14  9  3  8  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514600"/>
            <a:ext cx="1905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6  5  12   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2514600"/>
            <a:ext cx="17524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  6  1  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3048120"/>
            <a:ext cx="99072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6 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048120"/>
            <a:ext cx="9144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2  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657600"/>
            <a:ext cx="990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  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3657600"/>
            <a:ext cx="91440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  1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267080"/>
            <a:ext cx="198144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  5  12  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048120"/>
            <a:ext cx="83808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 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657600"/>
            <a:ext cx="83808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  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4267080"/>
            <a:ext cx="1676520" cy="459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6  10  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3048120"/>
            <a:ext cx="838080" cy="459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3657600"/>
            <a:ext cx="838080" cy="45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800600"/>
            <a:ext cx="3657600" cy="459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 4   5  6  10  12  13  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514600"/>
            <a:ext cx="1752840" cy="459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5  7  1  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2514600"/>
            <a:ext cx="1752840" cy="459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9  3  8  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781680" y="3657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.t.d.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800600"/>
            <a:ext cx="3048120" cy="4597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3  7  8  9  11  14  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486400"/>
            <a:ext cx="5867280" cy="4597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3  4  5  6  7  8  9  10  11  12  13  14  15  16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65A-1FFD-476D-81BD-146F2A5323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eracja scal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371600"/>
            <a:ext cx="71629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ane są dwa ciągi X i Y, uporządkowane niemalejąco,  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 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Utworzyć ciąg  e=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e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+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łożony z elementów obu ciągów uporządkowany niemalejąc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5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p = {n&gt;0 m&gt;0, 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 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32004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 = { 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+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, 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+m)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j)( 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lub 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5486400"/>
            <a:ext cx="5335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47920" y="3962520"/>
            <a:ext cx="2514600" cy="535680"/>
            <a:chOff x="1447920" y="3962520"/>
            <a:chExt cx="2514600" cy="535680"/>
          </a:xfrm>
        </p:grpSpPr>
        <p:sp>
          <p:nvSpPr>
            <p:cNvPr id="267" name=""/>
            <p:cNvSpPr/>
            <p:nvPr/>
          </p:nvSpPr>
          <p:spPr>
            <a:xfrm>
              <a:off x="2133720" y="4038480"/>
              <a:ext cx="182880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  4  5  8  9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447920" y="3962520"/>
              <a:ext cx="609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X :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029200" y="3962520"/>
            <a:ext cx="2362320" cy="535680"/>
            <a:chOff x="5029200" y="3962520"/>
            <a:chExt cx="2362320" cy="535680"/>
          </a:xfrm>
        </p:grpSpPr>
        <p:sp>
          <p:nvSpPr>
            <p:cNvPr id="270" name=""/>
            <p:cNvSpPr/>
            <p:nvPr/>
          </p:nvSpPr>
          <p:spPr>
            <a:xfrm>
              <a:off x="5943600" y="4038480"/>
              <a:ext cx="1447920" cy="45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  3  6  7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5029200" y="3962520"/>
              <a:ext cx="7621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Y :</a:t>
              </a:r>
              <a:endPara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86000" y="4419720"/>
            <a:ext cx="3886200" cy="456840"/>
            <a:chOff x="2286000" y="4419720"/>
            <a:chExt cx="3886200" cy="456840"/>
          </a:xfrm>
        </p:grpSpPr>
        <p:sp>
          <p:nvSpPr>
            <p:cNvPr id="274" name=""/>
            <p:cNvSpPr/>
            <p:nvPr/>
          </p:nvSpPr>
          <p:spPr>
            <a:xfrm flipV="1">
              <a:off x="2286000" y="4495320"/>
              <a:ext cx="0" cy="38124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172200" y="441972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 rot="5400000">
            <a:off x="7105680" y="440028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37920" y="4648320"/>
            <a:ext cx="3581640" cy="76176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172200" y="4419720"/>
            <a:ext cx="304920" cy="380880"/>
            <a:chOff x="6172200" y="4419720"/>
            <a:chExt cx="304920" cy="380880"/>
          </a:xfrm>
        </p:grpSpPr>
        <p:sp>
          <p:nvSpPr>
            <p:cNvPr id="279" name=""/>
            <p:cNvSpPr/>
            <p:nvPr/>
          </p:nvSpPr>
          <p:spPr>
            <a:xfrm flipV="1">
              <a:off x="6477120" y="441972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172200" y="441972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62320" y="4572000"/>
            <a:ext cx="8380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5486400"/>
            <a:ext cx="5335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4495680"/>
            <a:ext cx="304920" cy="380880"/>
            <a:chOff x="2286000" y="4495680"/>
            <a:chExt cx="304920" cy="380880"/>
          </a:xfrm>
        </p:grpSpPr>
        <p:sp>
          <p:nvSpPr>
            <p:cNvPr id="284" name=""/>
            <p:cNvSpPr/>
            <p:nvPr/>
          </p:nvSpPr>
          <p:spPr>
            <a:xfrm flipV="1">
              <a:off x="2590920" y="449568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286000" y="449568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81280" y="5486400"/>
            <a:ext cx="53352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885840" y="4648320"/>
            <a:ext cx="2514600" cy="7617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7120" y="4419720"/>
            <a:ext cx="304560" cy="380880"/>
            <a:chOff x="6477120" y="4419720"/>
            <a:chExt cx="304560" cy="380880"/>
          </a:xfrm>
        </p:grpSpPr>
        <p:sp>
          <p:nvSpPr>
            <p:cNvPr id="290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477120" y="441972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743200" y="4495680"/>
            <a:ext cx="175248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90920" y="4495680"/>
            <a:ext cx="304560" cy="380880"/>
            <a:chOff x="2590920" y="4495680"/>
            <a:chExt cx="304560" cy="380880"/>
          </a:xfrm>
        </p:grpSpPr>
        <p:sp>
          <p:nvSpPr>
            <p:cNvPr id="294" name=""/>
            <p:cNvSpPr/>
            <p:nvPr/>
          </p:nvSpPr>
          <p:spPr>
            <a:xfrm flipV="1">
              <a:off x="2895480" y="449568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590920" y="449568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048120" y="4495680"/>
            <a:ext cx="21333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486400"/>
            <a:ext cx="53352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895480" y="4495680"/>
            <a:ext cx="304920" cy="380880"/>
            <a:chOff x="2895480" y="4495680"/>
            <a:chExt cx="304920" cy="380880"/>
          </a:xfrm>
        </p:grpSpPr>
        <p:sp>
          <p:nvSpPr>
            <p:cNvPr id="299" name=""/>
            <p:cNvSpPr/>
            <p:nvPr/>
          </p:nvSpPr>
          <p:spPr>
            <a:xfrm flipV="1">
              <a:off x="3200400" y="449568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895480" y="449568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H="1">
            <a:off x="5943240" y="4648320"/>
            <a:ext cx="76212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486400"/>
            <a:ext cx="5335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781680" y="4419720"/>
            <a:ext cx="304920" cy="380880"/>
            <a:chOff x="6781680" y="4419720"/>
            <a:chExt cx="304920" cy="380880"/>
          </a:xfrm>
        </p:grpSpPr>
        <p:sp>
          <p:nvSpPr>
            <p:cNvPr id="304" name=""/>
            <p:cNvSpPr/>
            <p:nvPr/>
          </p:nvSpPr>
          <p:spPr>
            <a:xfrm flipV="1">
              <a:off x="7086600" y="4419720"/>
              <a:ext cx="0" cy="3808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5724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6553080" y="4572000"/>
            <a:ext cx="4572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24480" y="5486400"/>
            <a:ext cx="533520" cy="459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086600" y="4419720"/>
            <a:ext cx="304920" cy="380880"/>
            <a:chOff x="7086600" y="4419720"/>
            <a:chExt cx="304920" cy="380880"/>
          </a:xfrm>
        </p:grpSpPr>
        <p:sp>
          <p:nvSpPr>
            <p:cNvPr id="309" name=""/>
            <p:cNvSpPr/>
            <p:nvPr/>
          </p:nvSpPr>
          <p:spPr>
            <a:xfrm flipV="1">
              <a:off x="7391520" y="4419720"/>
              <a:ext cx="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086600" y="4419720"/>
              <a:ext cx="0" cy="380880"/>
            </a:xfrm>
            <a:prstGeom prst="line">
              <a:avLst/>
            </a:prstGeom>
            <a:ln w="5400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352680" y="4495680"/>
            <a:ext cx="373392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10280" y="5486400"/>
            <a:ext cx="533520" cy="459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200400" y="4495680"/>
            <a:ext cx="304920" cy="380880"/>
            <a:chOff x="3200400" y="4495680"/>
            <a:chExt cx="304920" cy="380880"/>
          </a:xfrm>
        </p:grpSpPr>
        <p:sp>
          <p:nvSpPr>
            <p:cNvPr id="314" name=""/>
            <p:cNvSpPr/>
            <p:nvPr/>
          </p:nvSpPr>
          <p:spPr>
            <a:xfrm flipV="1">
              <a:off x="3505320" y="4495680"/>
              <a:ext cx="0" cy="3808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200400" y="4495680"/>
              <a:ext cx="0" cy="380880"/>
            </a:xfrm>
            <a:prstGeom prst="line">
              <a:avLst/>
            </a:prstGeom>
            <a:ln w="54000">
              <a:solidFill>
                <a:srgbClr val="fbfae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33920" y="4495680"/>
            <a:ext cx="388620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0120" y="5486400"/>
            <a:ext cx="533160" cy="45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529-48A4-47B1-9B01-EA3DE41A78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scal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1219320"/>
            <a:ext cx="38862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i:=1; j := 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k :=1,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hile (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 and j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) d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f x[i]&lt; y[j] the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e[k] := x[i]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i := i +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e[k] := y[j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j := j +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k := k+1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350532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f ( j &gt; m) the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for i := i to n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e[k] := x[i]; k := k+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for j := j to m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e[k] := y[j]; k := k+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od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1828800"/>
            <a:ext cx="441972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k= i+j-1, e[1]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k-1] i wszystkie elementy x[1],...,x[i-1] oraz y[1],...,y[j-1] zostały już umieszczone na pozycjach od 1 do k-1 w ciągu e .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876920" y="1371600"/>
            <a:ext cx="2276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aramond"/>
              </a:rPr>
              <a:t>Niezmiennik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33720" y="5486400"/>
            <a:ext cx="1181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(n+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FE8-10BB-49DA-86CF-502E3DF661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pecyfikacja  procedury scal(k,x,l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1295280"/>
            <a:ext cx="7315200" cy="297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ersja procedury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scal (lewy,x,prawy) użyta w algorytmie Sortowania przez scalanie  ma następującą specyfikacj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p = {lew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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raw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e[lewy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lewy+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…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x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x+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x+2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…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prawy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 = {e[lewy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lewy+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…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x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x+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…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prawy]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4343400"/>
            <a:ext cx="6858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3b409"/>
                </a:solidFill>
                <a:latin typeface="Times New Roman"/>
              </a:rPr>
              <a:t>Twierdzenie</a:t>
            </a:r>
            <a:r>
              <a:rPr b="1" lang="pl-PL" sz="2800" spc="-1" strike="noStrike">
                <a:solidFill>
                  <a:srgbClr val="f6cb2c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*)</a:t>
            </a:r>
            <a:br>
              <a:rPr sz="24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a scal(k, x,l) zastosowana do dowolnego ciągu e[1],...,e[n] jest całkowicie poprawna ze względu na podaną wyżej specyfikację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217-3C11-4F13-8841-FD82CCB492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scal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1523880"/>
            <a:ext cx="4191120" cy="42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cedure MS(lewy, prawy : integer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f   prawy&gt;lewy th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:= (lewy+ prawy) div 2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MS(lewy,x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S(x+1, prawy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cal (lewy, x, prawy)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nd MS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 rot="5400000">
            <a:off x="-71640" y="3271680"/>
            <a:ext cx="30765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rge-so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1295280"/>
            <a:ext cx="3276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Jeśli lewy = prawy,  to  jest tylko jeden element w naszym ciągu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22096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tym wywołaniu rozważamy lewą  „połowę” danego ciągu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3352680"/>
            <a:ext cx="4572000" cy="67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 założenia indukcyjnego : e[lewy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x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257800"/>
            <a:ext cx="3200400" cy="673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 tym wywołaniu rozważamy prawą „połowę” danego ciągu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733560" y="2590920"/>
            <a:ext cx="1981080" cy="9903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657600" y="4114440"/>
            <a:ext cx="2286000" cy="1523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962520"/>
            <a:ext cx="4800600" cy="673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 założenia indukcyjnego :e[x+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prawy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4648320"/>
            <a:ext cx="457200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 mocy Tw (*)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: e[lewy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prawy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093-E1D7-431C-BB4F-53D9A0F704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algorytmu Merge_Sor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1447920"/>
            <a:ext cx="327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óżmy, że n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wted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n) = T(n/2) + T(n/2) + c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1) = 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n)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n lg (n)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2362320"/>
            <a:ext cx="32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 podstawieniu mam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2 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+c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47920" y="5410080"/>
            <a:ext cx="24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statecznie :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0384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2 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+ c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2(2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+c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+ c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T(2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-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) + c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c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...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T(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) + cp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 lg 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F65-DE5D-4F5B-9ED8-ABBD584085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formułowanie problem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ortowanie przez porównywanie elementó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przez wstawia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przez selekcj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peracja scalania ciągów uporządkowany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przez scalan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660-5A09-4622-95E4-B2AD7A6E48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formułowanie proble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523880"/>
            <a:ext cx="693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any jest ciąg  e elementów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 ,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ależących do pewnej liniowo uporządkowanej przestrzeni &lt;E,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&gt;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743200"/>
            <a:ext cx="6095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naleźć taką permutację i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 i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 ,i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liczb 1,..., n aby   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1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2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809880"/>
            <a:ext cx="6019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naleźć taką funkcję różnowartościową i „na”         f : {1,2...,n} 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{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 ,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}, że dla każdego i&lt;n, f(i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f(i+1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486400"/>
            <a:ext cx="2209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5  3  1  6  7  2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5562720"/>
            <a:ext cx="2209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  2  3  5  6  7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3809880"/>
            <a:ext cx="8380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ub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657600" y="5257800"/>
            <a:ext cx="1981080" cy="870840"/>
            <a:chOff x="3657600" y="5257800"/>
            <a:chExt cx="1981080" cy="870840"/>
          </a:xfrm>
        </p:grpSpPr>
        <p:sp>
          <p:nvSpPr>
            <p:cNvPr id="102" name=""/>
            <p:cNvSpPr/>
            <p:nvPr/>
          </p:nvSpPr>
          <p:spPr>
            <a:xfrm>
              <a:off x="3657600" y="5257800"/>
              <a:ext cx="1981080" cy="228600"/>
            </a:xfrm>
            <a:custGeom>
              <a:avLst/>
              <a:gdLst>
                <a:gd name="textAreaLeft" fmla="*/ 392760 w 1981080"/>
                <a:gd name="textAreaRight" fmla="*/ 1390320 w 198108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64" hR="21600" stAng="10800000" swAng="5400000"/>
                  <a:lnTo>
                    <a:pt x="10876" y="0"/>
                  </a:lnTo>
                  <a:arcTo wR="8564" hR="21600" stAng="-5400000" swAng="2896544"/>
                  <a:lnTo>
                    <a:pt x="21110" y="14400"/>
                  </a:lnTo>
                  <a:lnTo>
                    <a:pt x="18284" y="21600"/>
                  </a:lnTo>
                  <a:lnTo>
                    <a:pt x="14478" y="14400"/>
                  </a:lnTo>
                  <a:lnTo>
                    <a:pt x="16638" y="14400"/>
                  </a:lnTo>
                  <a:arcTo wR="8564" hR="21600" stAng="-2503456" swAng="-2711042"/>
                  <a:lnTo>
                    <a:pt x="9720" y="198"/>
                  </a:lnTo>
                  <a:arcTo wR="8564" hR="21600" stAng="-5585502" swAng="-5214498"/>
                  <a:close/>
                </a:path>
                <a:path fill="darkenLess" w="21600" h="21600">
                  <a:moveTo>
                    <a:pt x="0" y="21600"/>
                  </a:moveTo>
                  <a:arcTo wR="8564" hR="21600" stAng="10800000" swAng="5400000"/>
                  <a:lnTo>
                    <a:pt x="8564" y="0"/>
                  </a:lnTo>
                  <a:arcTo wR="8564" hR="21600" stAng="-5400000" swAng="185502"/>
                  <a:lnTo>
                    <a:pt x="9720" y="198"/>
                  </a:lnTo>
                  <a:arcTo wR="8564" hR="21600" stAng="-5585502" swAng="-5214498"/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5791320"/>
              <a:ext cx="10666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579132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3 6 2 1 4 5 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86200" y="54864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1 2 3 4 5 6 7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BFF-7A01-423D-8EDE-217A5DCE8C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selekcję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776520" y="3214440"/>
            <a:ext cx="4486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election_so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5238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toda Sortowanie odbywa się w n-1 przebiegach. W i-tym przebiegu szukamy i-tego najmniejszego  element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514600"/>
            <a:ext cx="5638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   for i := 1 to n-1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min := i; j := i+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while j &lt; n+1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if  e[j] &lt; e[min] then min := j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swap(e[i],e[min]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62520" y="5181480"/>
            <a:ext cx="4190760" cy="456840"/>
            <a:chOff x="3962520" y="5181480"/>
            <a:chExt cx="4190760" cy="456840"/>
          </a:xfrm>
        </p:grpSpPr>
        <p:sp>
          <p:nvSpPr>
            <p:cNvPr id="112" name=""/>
            <p:cNvSpPr/>
            <p:nvPr/>
          </p:nvSpPr>
          <p:spPr>
            <a:xfrm>
              <a:off x="3962520" y="5334120"/>
              <a:ext cx="41907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5334120"/>
              <a:ext cx="2057400" cy="0"/>
            </a:xfrm>
            <a:prstGeom prst="line">
              <a:avLst/>
            </a:prstGeom>
            <a:ln w="93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518148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518148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914720" y="4685760"/>
              <a:ext cx="228600" cy="1676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5181480"/>
              <a:ext cx="2286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095880" y="5181480"/>
              <a:ext cx="1526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248520" y="4876920"/>
            <a:ext cx="990360" cy="304560"/>
          </a:xfrm>
          <a:custGeom>
            <a:avLst/>
            <a:gdLst>
              <a:gd name="textAreaLeft" fmla="*/ 173160 w 990360"/>
              <a:gd name="textAreaRight" fmla="*/ 718200 w 99036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0580400">
            <a:off x="6171840" y="540936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8520" y="4038480"/>
            <a:ext cx="1019520" cy="1219320"/>
            <a:chOff x="7238520" y="4038480"/>
            <a:chExt cx="1019520" cy="1219320"/>
          </a:xfrm>
        </p:grpSpPr>
        <p:sp>
          <p:nvSpPr>
            <p:cNvPr id="122" name=""/>
            <p:cNvSpPr/>
            <p:nvPr/>
          </p:nvSpPr>
          <p:spPr>
            <a:xfrm flipH="1">
              <a:off x="7238520" y="4419720"/>
              <a:ext cx="685800" cy="8380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543800" y="4038480"/>
              <a:ext cx="7142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in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62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Odcinek uporządkowan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91320" y="4572000"/>
            <a:ext cx="628560" cy="762120"/>
            <a:chOff x="5791320" y="4572000"/>
            <a:chExt cx="628560" cy="762120"/>
          </a:xfrm>
        </p:grpSpPr>
        <p:sp>
          <p:nvSpPr>
            <p:cNvPr id="126" name=""/>
            <p:cNvSpPr/>
            <p:nvPr/>
          </p:nvSpPr>
          <p:spPr>
            <a:xfrm>
              <a:off x="6172200" y="4800600"/>
              <a:ext cx="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791320" y="4572000"/>
              <a:ext cx="6285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e[i]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1FE-F92B-4AC1-9A2A-ED188008DC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iagram przepływ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371600"/>
            <a:ext cx="13716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: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133720"/>
            <a:ext cx="144756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&lt; 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4382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124080"/>
            <a:ext cx="297180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jdź  x takie, ż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minimum( e[i],..., e[n]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419720"/>
            <a:ext cx="205740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mień miejscami x i e[i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809880"/>
            <a:ext cx="12952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:= i+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286000"/>
            <a:ext cx="1447920" cy="1523880"/>
          </a:xfrm>
          <a:custGeom>
            <a:avLst/>
            <a:gdLst/>
            <a:ahLst/>
            <a:rect l="l" t="t" r="r" b="b"/>
            <a:pathLst>
              <a:path w="1064" h="976">
                <a:moveTo>
                  <a:pt x="152" y="976"/>
                </a:moveTo>
                <a:cubicBezTo>
                  <a:pt x="76" y="648"/>
                  <a:pt x="0" y="320"/>
                  <a:pt x="152" y="160"/>
                </a:cubicBezTo>
                <a:cubicBezTo>
                  <a:pt x="304" y="0"/>
                  <a:pt x="912" y="40"/>
                  <a:pt x="1064" y="16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43400"/>
            <a:ext cx="2413080" cy="1790640"/>
          </a:xfrm>
          <a:custGeom>
            <a:avLst/>
            <a:gdLst/>
            <a:ahLst/>
            <a:rect l="l" t="t" r="r" b="b"/>
            <a:pathLst>
              <a:path w="1520" h="1128">
                <a:moveTo>
                  <a:pt x="1488" y="528"/>
                </a:moveTo>
                <a:cubicBezTo>
                  <a:pt x="1504" y="680"/>
                  <a:pt x="1520" y="832"/>
                  <a:pt x="1488" y="912"/>
                </a:cubicBezTo>
                <a:cubicBezTo>
                  <a:pt x="1456" y="992"/>
                  <a:pt x="1464" y="1000"/>
                  <a:pt x="1296" y="1008"/>
                </a:cubicBezTo>
                <a:cubicBezTo>
                  <a:pt x="1128" y="1016"/>
                  <a:pt x="696" y="1128"/>
                  <a:pt x="480" y="960"/>
                </a:cubicBezTo>
                <a:cubicBezTo>
                  <a:pt x="264" y="792"/>
                  <a:pt x="80" y="160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362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86000"/>
            <a:ext cx="1143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2514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e[i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809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e[i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486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e[i+1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051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e[i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5880" y="2971800"/>
            <a:ext cx="20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zmieni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EA2-76B1-4D0F-95C6-D045413BDE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447920"/>
            <a:ext cx="6324840" cy="1618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Twierdzenie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Selection_sort jest poprawnym rozwiązaniem problemu sortowania. W dowolnej strukturze danych, której elementy są liniowo uporządkowane przez relację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 algorytm zatrzymuje się dla dowolnych danych i daje w wyniku ciąg uporządkowany  niemalejąc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18360" y="3867120"/>
            <a:ext cx="3048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Koszt  algorytm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. Jeśli operacją dominującą jest porównywanie elementów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114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n) = n-1  +  n-2 + ... +2 + 1 = n(n-1)/2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n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876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B. Jeśli operacją dominującą jest zamiana elementó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5257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(n) = 1*(n-1) = n-1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n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924-12DD-40C6-BFF6-BBA91E1E44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ortowanie przez wstawiani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295280"/>
            <a:ext cx="678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ortowanie odbywa się w n -1 przebiegach. W i-tym przebiegu elementy na pozycjach 1...(i-1) są już uporządkowane, a wstawiamy i-ty element przepychając go do przodu na właściwe miejsce, tak by stworzył wraz z innymi ciąg uporządkowany długości 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 rot="5400000">
            <a:off x="552240" y="18856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19520" y="5105520"/>
            <a:ext cx="457200" cy="228600"/>
          </a:xfrm>
          <a:custGeom>
            <a:avLst/>
            <a:gdLst>
              <a:gd name="textAreaLeft" fmla="*/ 80280 w 457200"/>
              <a:gd name="textAreaRight" fmla="*/ 33192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62320" y="5105520"/>
            <a:ext cx="457200" cy="228600"/>
          </a:xfrm>
          <a:custGeom>
            <a:avLst/>
            <a:gdLst>
              <a:gd name="textAreaLeft" fmla="*/ 80280 w 457200"/>
              <a:gd name="textAreaRight" fmla="*/ 33192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828800" y="5105520"/>
            <a:ext cx="457200" cy="228600"/>
          </a:xfrm>
          <a:custGeom>
            <a:avLst/>
            <a:gdLst>
              <a:gd name="textAreaLeft" fmla="*/ 80280 w 457200"/>
              <a:gd name="textAreaRight" fmla="*/ 33192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4648320"/>
            <a:ext cx="4191120" cy="1358640"/>
            <a:chOff x="1066680" y="4648320"/>
            <a:chExt cx="4191120" cy="1358640"/>
          </a:xfrm>
        </p:grpSpPr>
        <p:sp>
          <p:nvSpPr>
            <p:cNvPr id="164" name=""/>
            <p:cNvSpPr/>
            <p:nvPr/>
          </p:nvSpPr>
          <p:spPr>
            <a:xfrm>
              <a:off x="1143000" y="5410080"/>
              <a:ext cx="3733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184400">
              <a:off x="2095200" y="453312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6680" y="563868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Odcinek uporządkowan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5410080"/>
              <a:ext cx="2133720" cy="0"/>
            </a:xfrm>
            <a:prstGeom prst="line">
              <a:avLst/>
            </a:prstGeom>
            <a:ln w="9360">
              <a:solidFill>
                <a:srgbClr val="f709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5181480"/>
              <a:ext cx="0" cy="304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580920" y="4876920"/>
              <a:ext cx="68580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402000"/>
                  </a:solidFill>
                  <a:latin typeface="Times New Roman"/>
                </a:rPr>
                <a:t>i-ty elemen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1981080" y="3352680"/>
            <a:ext cx="193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276720"/>
            <a:ext cx="25146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   8   5   3   9   6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733920"/>
            <a:ext cx="25146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   5   8   3   9   6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276720"/>
            <a:ext cx="380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191120"/>
            <a:ext cx="25146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   5   </a:t>
            </a:r>
            <a:r>
              <a:rPr b="1" lang="pl-PL" sz="2000" spc="-1" strike="noStrike">
                <a:solidFill>
                  <a:srgbClr val="f70925"/>
                </a:solidFill>
                <a:latin typeface="Times New Roman"/>
              </a:rPr>
              <a:t>3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8   9   6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4648320"/>
            <a:ext cx="251460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   </a:t>
            </a:r>
            <a:r>
              <a:rPr b="1" lang="pl-PL" sz="2000" spc="-1" strike="noStrike">
                <a:solidFill>
                  <a:srgbClr val="f70925"/>
                </a:solidFill>
                <a:latin typeface="Times New Roman"/>
              </a:rPr>
              <a:t>3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5   8   9   6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5105520"/>
            <a:ext cx="251460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70925"/>
                </a:solidFill>
                <a:latin typeface="Times New Roman"/>
              </a:rPr>
              <a:t>3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4   5   8   9   6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733920"/>
            <a:ext cx="380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5105520"/>
            <a:ext cx="3812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486400"/>
            <a:ext cx="251460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3   4   5   8   9   6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5486400"/>
            <a:ext cx="380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t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3276720"/>
            <a:ext cx="380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276720"/>
            <a:ext cx="3812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B76-96B1-451E-A913-A3F11659F6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chemat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057400"/>
            <a:ext cx="1066680" cy="398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i := 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2895480"/>
            <a:ext cx="1523880" cy="5335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i &lt; n+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886200"/>
            <a:ext cx="632448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Umieść e[i] wśród elementów e[1],e[2],...e[i-1], </a:t>
            </a:r>
            <a:br>
              <a:rPr sz="2000"/>
            </a:b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przesuwając elementy większe o jedno miejsce w prawo, </a:t>
            </a:r>
            <a:br>
              <a:rPr sz="2000"/>
            </a:b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tak by ciąg i-pierwszych elementów był uporządkowa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1295280"/>
            <a:ext cx="762120" cy="3812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676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410080"/>
            <a:ext cx="1371600" cy="4572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i := i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200400"/>
            <a:ext cx="1371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971800"/>
            <a:ext cx="7621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bfae2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142640" y="54864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143000" y="3200400"/>
            <a:ext cx="0" cy="2286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200400"/>
            <a:ext cx="2743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057400"/>
            <a:ext cx="3124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-1] ,   i &lt; n+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3429000"/>
            <a:ext cx="38098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-1] , i&lt;n +1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952880"/>
            <a:ext cx="380988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 , i&lt;n +1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5181480"/>
            <a:ext cx="23623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-2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i-1],  i&lt;n +2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91320" y="1371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iezmiennik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EAC-77B8-40B0-A9A0-DD58C3B833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Insertion_sor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 rot="5400000">
            <a:off x="-933840" y="3219480"/>
            <a:ext cx="49532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Analiza pętli wewnętrznej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523880"/>
            <a:ext cx="4343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for i := 2 to n do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j := i; pom :=  e[i]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( j&gt;1 andif e[j-1]&gt; pom )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do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 e[j] := e[j-1]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 := j-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[j] := pom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d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1600200"/>
            <a:ext cx="16765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-1]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2209680"/>
            <a:ext cx="32004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j-1]   pom=e[i], j=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2895480"/>
            <a:ext cx="380988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m&lt; e[ j+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,    pom &lt;e[j-1]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3581280"/>
            <a:ext cx="297180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m &lt; e[ j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j+1]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114800"/>
            <a:ext cx="2438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pom&lt; e[ j+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572000"/>
            <a:ext cx="48769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j-1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pom&lt; e[ j+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5257800"/>
            <a:ext cx="487692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e[ 1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j-1]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j] &lt; e[ j+1]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... </a:t>
            </a:r>
            <a:r>
              <a:rPr b="0" lang="pl-PL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e[i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 05 Sortowa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E55-33A5-4BFE-9492-05E3F40B0C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dc:language>en-US</dc:language>
  <cp:lastModifiedBy>mirkowska</cp:lastModifiedBy>
  <cp:lastPrinted>2002-04-07T17:08:07Z</cp:lastPrinted>
  <dcterms:modified xsi:type="dcterms:W3CDTF">2003-04-07T13:57:58Z</dcterms:modified>
  <cp:revision>80</cp:revision>
  <dc:subject>Sortowanie</dc:subject>
  <dc:title>ALGORYTMY I STRUKTURY  DANYCH</dc:title>
</cp:coreProperties>
</file>