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680E-582E-4947-95DD-3CB7DF49463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jęci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lacja incydencji (sąsiedzt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erzcholki incydent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rawędzie incydent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oga zamknię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oga pro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ługość dro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k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f acyklicz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f spój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zewo z korze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jciec-syn przodek,poprzednik-następ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ząd wierzchoł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ś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ierdzenie o charakteryzacji  drz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zewo etykietow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zewa binar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we poddrzewo, prawe poddrze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edną z najczęściej wykonywanych operacji na drzewie jest przeglądanie wierzchołków drzewa. Można to wrobić na różne sposoby. Przedstawimy 2 metody : odwiedzanie drzewa "w głąb" i odwiedzanie drzewa "wszerz".  Te dwie metody stosuje się do dowolnych grafów i w szczególności do dowolnych drzew(tzn do drzew dowolnego rzą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przypadku drzew binarnych stosuje się 3 metody rekurencyjnego przegladania drzewa : postfix, infix, prefix, zależnie od tego czy korzeń jest odwiedzany przed synami czy po odwiedzeniu synów czy pomięd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046-44AF-41B1-BEBB-CFCBDC37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8006-3AF1-4F3C-BED1-7386589E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45D-8839-49D2-A3FB-7637A051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8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4636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8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4636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87B-64F8-4AE9-8BF4-3389122B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57FB-3595-4B26-B1B8-9BF8007D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1883-5FB1-445B-BC2D-AAAC79D2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8FBB-81CE-4216-91AE-5B7FDCB3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8E11-4717-48DC-A315-88ABBF32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6FC8-C572-480E-B1C6-0E1C457B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3892-369C-4D90-B415-8FBD5F8F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DC2F-F33B-447E-A24B-908EE459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8D1-041C-40D2-9C80-29660EC5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3298-7FA5-4577-91B6-3C4548E0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DFCC-2605-4CD2-B8FE-66DBE965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39C2-CB90-4840-866E-2A8E9266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111D-DEA4-4778-93D0-B06DA12F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1872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4636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90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1872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4636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B7D8-6A75-41D3-BD2D-1BB2A0B0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B6B-98F6-40A3-86D5-1FB001F7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1EC-3718-438B-B7E4-D3AFAB8D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F79-662D-4778-8180-12AF697F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173-AE4F-4FAE-8138-B781C527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38A-A185-4D24-B532-8ED30783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34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855-A641-4E05-975A-52B181E0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2AA-F602-4FC7-8030-913291F7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0958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4323-4117-49FC-83CA-ED2C2B671E85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66680" y="1447920"/>
            <a:ext cx="76201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8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E7E1-AC20-41FC-A552-B1B9D9D5E560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33"/>
                </a:solidFill>
                <a:latin typeface="Times New Roman"/>
              </a:rPr>
              <a:t>ALGORYTMY I STRUKTURY  DA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WYKŁAD 07  Drzewa binarnych poszukiwań 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Grażyna Mirkowska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PJWSTK, semestr letni 2003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Drzewo binarnych poszukiwań BS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 rot="5400000">
            <a:off x="304560" y="2590560"/>
            <a:ext cx="259092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Definicj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1981080" y="1600200"/>
            <a:ext cx="64008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 &lt;ET,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&gt; będzie niepustym, liniowo uporządkowanym zbiorem. Drzewem binarnych poszukiwań nazywamy etykietowane drzewo  binarne z wyróżnionym korzeniem D= &lt;V, E, et&gt; takie, że et :V-&gt;ET  jest funkcją różnowartościową oraz dla każdego wierzchołka v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V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1) jeśli  x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LD(v), to et(x)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t(v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2) jeśli x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PD(v), tp et(v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t(x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 rot="5400000">
            <a:off x="7212600" y="4140720"/>
            <a:ext cx="2452680" cy="571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zykła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600200" y="4191120"/>
            <a:ext cx="1828440" cy="1599840"/>
            <a:chOff x="1600200" y="4191120"/>
            <a:chExt cx="1828440" cy="1599840"/>
          </a:xfrm>
        </p:grpSpPr>
        <p:sp>
          <p:nvSpPr>
            <p:cNvPr id="319" name=""/>
            <p:cNvSpPr/>
            <p:nvPr/>
          </p:nvSpPr>
          <p:spPr>
            <a:xfrm>
              <a:off x="2636280" y="4191120"/>
              <a:ext cx="304920" cy="333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209680" y="4457880"/>
              <a:ext cx="487440" cy="199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24080" y="4657680"/>
              <a:ext cx="304560" cy="3330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41200" y="5457960"/>
              <a:ext cx="304560" cy="3330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65960" y="4591080"/>
              <a:ext cx="304560" cy="333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00200" y="5391000"/>
              <a:ext cx="304560" cy="333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09680" y="5391000"/>
              <a:ext cx="304560" cy="3333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80360" y="4457880"/>
              <a:ext cx="304560" cy="199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1721520" y="4924440"/>
              <a:ext cx="304920" cy="466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09680" y="4924440"/>
              <a:ext cx="121680" cy="466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080" y="4991040"/>
              <a:ext cx="121680" cy="466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105520" y="3352680"/>
            <a:ext cx="2971800" cy="2422800"/>
            <a:chOff x="5105520" y="3352680"/>
            <a:chExt cx="2971800" cy="2422800"/>
          </a:xfrm>
        </p:grpSpPr>
        <p:sp>
          <p:nvSpPr>
            <p:cNvPr id="331" name=""/>
            <p:cNvSpPr/>
            <p:nvPr/>
          </p:nvSpPr>
          <p:spPr>
            <a:xfrm>
              <a:off x="6675480" y="3352680"/>
              <a:ext cx="304920" cy="3654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248520" y="3645000"/>
              <a:ext cx="487440" cy="218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162920" y="3863880"/>
              <a:ext cx="304920" cy="3654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0400" y="4740120"/>
              <a:ext cx="304920" cy="3654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04080" y="3790800"/>
              <a:ext cx="304920" cy="3654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39040" y="4667400"/>
              <a:ext cx="304560" cy="3650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48520" y="4667400"/>
              <a:ext cx="304920" cy="3650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18480" y="3645000"/>
              <a:ext cx="304920" cy="218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5760720" y="4156200"/>
              <a:ext cx="304920" cy="511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48520" y="4156200"/>
              <a:ext cx="122400" cy="511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162920" y="4229280"/>
              <a:ext cx="122400" cy="510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5334120"/>
              <a:ext cx="304920" cy="3650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67640" y="5410080"/>
              <a:ext cx="304560" cy="3654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82040" y="5410080"/>
              <a:ext cx="304560" cy="3654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15200" y="5410080"/>
              <a:ext cx="304920" cy="3654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772400" y="4724280"/>
              <a:ext cx="304920" cy="3654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67640" y="5029200"/>
              <a:ext cx="22860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333760" y="4952880"/>
              <a:ext cx="304920" cy="3812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933960" y="5105520"/>
              <a:ext cx="152280" cy="3045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39240" y="5029200"/>
              <a:ext cx="15228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67840" y="4114800"/>
              <a:ext cx="45720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2193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d3333"/>
                </a:solidFill>
                <a:latin typeface="Times New Roman"/>
              </a:rPr>
              <a:t>To nie jest BS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7  Drzewa, drzewa B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71E-4A21-42C1-B776-411468A9D50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Operacja wyszukiwania w BS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 rot="5400000">
            <a:off x="456840" y="38862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Metod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5" name=""/>
          <p:cNvSpPr/>
          <p:nvPr/>
        </p:nvSpPr>
        <p:spPr>
          <a:xfrm>
            <a:off x="1752480" y="30481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Rozpoczynając od korzenia, porównujemy etykietę wierzchołka x z wyszukiwanym elementem e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144792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Zadanie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badać,  czy dany element e należy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zbioru etykiet w danym drzewie D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33720" y="2438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Member(D,e)  wttw (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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.V) et(x) = 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e&lt; x.e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296800">
            <a:off x="4003560" y="4530600"/>
            <a:ext cx="1137960" cy="458640"/>
          </a:xfrm>
          <a:custGeom>
            <a:avLst/>
            <a:gdLst>
              <a:gd name="textAreaLeft" fmla="*/ 199080 w 1137960"/>
              <a:gd name="textAreaRight" fmla="*/ 825120 w 1137960"/>
              <a:gd name="textAreaTop" fmla="*/ 61200 h 458640"/>
              <a:gd name="textAreaBottom" fmla="*/ 397440 h 458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9880" y="52578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zukaj e w prawym poddrzewie  wierzchołka x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81080" y="4114800"/>
            <a:ext cx="381240" cy="106668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0" y="525780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zukaj e w lewym poddrzewie x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x.et&lt; 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294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x.et= 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86600" y="41148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400800" y="472428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Znalezion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7" name=""/>
          <p:cNvSpPr/>
          <p:nvPr/>
        </p:nvSpPr>
        <p:spPr>
          <a:xfrm>
            <a:off x="6781680" y="1295280"/>
            <a:ext cx="1981440" cy="990720"/>
          </a:xfrm>
          <a:prstGeom prst="cloudCallout">
            <a:avLst>
              <a:gd name="adj1" fmla="val -39986"/>
              <a:gd name="adj2" fmla="val 7500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bfae2"/>
                </a:solidFill>
                <a:latin typeface="Times New Roman"/>
              </a:rPr>
              <a:t>Specyfikacj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7  Drzewa, drzewa B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A30-60DA-40AB-ADEA-89411D8C8E3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 Wyszukiwan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 rot="5400000">
            <a:off x="0" y="3200400"/>
            <a:ext cx="28195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Memb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1371600" y="1523880"/>
            <a:ext cx="4343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bool := false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while (not empty(x) and not bool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if  x.e = e then  bool := tru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els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 if x.e &lt; e then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       x := x.prawy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els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      x := x.lewy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fi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fi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od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return bool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72200" y="2895480"/>
            <a:ext cx="1133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ma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3505320"/>
            <a:ext cx="3657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eżeli wartością zmiennej x jest korzeń drzewa D, to algorytm member zatrzymuje się po skończonej liczbie kroków oraz końcowa wartość bool  jest równa true wttw, gdy e jest jedną z etykiet drzewa D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95680" y="1523880"/>
            <a:ext cx="426744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efb41f"/>
                </a:solidFill>
                <a:latin typeface="Times New Roman"/>
              </a:rPr>
              <a:t>member : BST</a:t>
            </a:r>
            <a:r>
              <a:rPr b="1" lang="pl-PL" sz="2800" spc="-1" strike="noStrike">
                <a:solidFill>
                  <a:srgbClr val="efb41f"/>
                </a:solidFill>
                <a:latin typeface="Symbol"/>
                <a:ea typeface="Symbol"/>
              </a:rPr>
              <a:t></a:t>
            </a:r>
            <a:r>
              <a:rPr b="1" lang="pl-PL" sz="2800" spc="-1" strike="noStrike">
                <a:solidFill>
                  <a:srgbClr val="efb41f"/>
                </a:solidFill>
                <a:latin typeface="Times New Roman"/>
              </a:rPr>
              <a:t> ET</a:t>
            </a:r>
            <a:r>
              <a:rPr b="1" lang="pl-PL" sz="2800" spc="-1" strike="noStrike">
                <a:solidFill>
                  <a:srgbClr val="efb41f"/>
                </a:solidFill>
                <a:latin typeface="Symbol"/>
                <a:ea typeface="Symbol"/>
              </a:rPr>
              <a:t></a:t>
            </a:r>
            <a:r>
              <a:rPr b="1" lang="pl-PL" sz="2800" spc="-1" strike="noStrike">
                <a:solidFill>
                  <a:srgbClr val="efb41f"/>
                </a:solidFill>
                <a:latin typeface="Times New Roman"/>
              </a:rPr>
              <a:t> B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7  Drzewa, drzewa B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B9F-7D01-4237-BFE8-BB5D277A75B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362320" y="1981080"/>
            <a:ext cx="3580920" cy="2590560"/>
            <a:chOff x="2362320" y="1981080"/>
            <a:chExt cx="3580920" cy="2590560"/>
          </a:xfrm>
        </p:grpSpPr>
        <p:sp>
          <p:nvSpPr>
            <p:cNvPr id="376" name=""/>
            <p:cNvSpPr/>
            <p:nvPr/>
          </p:nvSpPr>
          <p:spPr>
            <a:xfrm>
              <a:off x="4254120" y="1981080"/>
              <a:ext cx="367200" cy="390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9320" y="2293560"/>
              <a:ext cx="587160" cy="234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41280" y="2527560"/>
              <a:ext cx="367200" cy="390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21320" y="3464640"/>
              <a:ext cx="367200" cy="390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44840" y="2449440"/>
              <a:ext cx="367200" cy="390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04920" y="3386880"/>
              <a:ext cx="366840" cy="390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39680" y="3386880"/>
              <a:ext cx="367200" cy="390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46800" y="2293560"/>
              <a:ext cx="367200" cy="234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3152160" y="2840040"/>
              <a:ext cx="367200" cy="546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39680" y="2840040"/>
              <a:ext cx="147240" cy="546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4840920" y="2918160"/>
              <a:ext cx="147240" cy="546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62320" y="4099680"/>
              <a:ext cx="367200" cy="390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0680" y="4181040"/>
              <a:ext cx="366840" cy="390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82280" y="4181040"/>
              <a:ext cx="366840" cy="390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24880" y="4181040"/>
              <a:ext cx="367200" cy="390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6040" y="3447720"/>
              <a:ext cx="367200" cy="390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80680" y="3773880"/>
              <a:ext cx="275400" cy="488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2637720" y="3692160"/>
              <a:ext cx="367200" cy="407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4565520" y="3855240"/>
              <a:ext cx="183240" cy="325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33440" y="3773880"/>
              <a:ext cx="183240" cy="407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08840" y="2795760"/>
              <a:ext cx="550800" cy="651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219320" y="1752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efb41f"/>
                </a:solidFill>
                <a:latin typeface="Times New Roman"/>
              </a:rPr>
              <a:t>Szukam 3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67280" y="1752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efb41f"/>
                </a:solidFill>
                <a:latin typeface="Times New Roman"/>
              </a:rPr>
              <a:t>Szukam 8.5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6705720" y="4267080"/>
            <a:ext cx="1752480" cy="1143000"/>
          </a:xfrm>
          <a:custGeom>
            <a:avLst/>
            <a:gdLst>
              <a:gd name="textAreaLeft" fmla="*/ 285840 w 1752480"/>
              <a:gd name="textAreaRight" fmla="*/ 1467000 w 17524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33114" h="21600">
                <a:moveTo>
                  <a:pt x="0" y="0"/>
                </a:moveTo>
                <a:lnTo>
                  <a:pt x="33114" y="0"/>
                </a:lnTo>
                <a:lnTo>
                  <a:pt x="33114" y="21600"/>
                </a:lnTo>
                <a:lnTo>
                  <a:pt x="0" y="21600"/>
                </a:lnTo>
                <a:close/>
              </a:path>
              <a:path fill="lightenLess" w="33114" h="21600">
                <a:moveTo>
                  <a:pt x="0" y="0"/>
                </a:moveTo>
                <a:lnTo>
                  <a:pt x="33114" y="0"/>
                </a:lnTo>
                <a:lnTo>
                  <a:pt x="27714" y="5400"/>
                </a:lnTo>
                <a:lnTo>
                  <a:pt x="5400" y="5400"/>
                </a:lnTo>
                <a:close/>
              </a:path>
              <a:path fill="darken" w="33114" h="21600">
                <a:moveTo>
                  <a:pt x="33114" y="0"/>
                </a:moveTo>
                <a:lnTo>
                  <a:pt x="33114" y="21600"/>
                </a:lnTo>
                <a:lnTo>
                  <a:pt x="27714" y="16200"/>
                </a:lnTo>
                <a:lnTo>
                  <a:pt x="27714" y="5400"/>
                </a:lnTo>
                <a:close/>
              </a:path>
              <a:path fill="darkenLess" w="33114" h="21600">
                <a:moveTo>
                  <a:pt x="3311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7714" y="16200"/>
                </a:lnTo>
                <a:close/>
              </a:path>
              <a:path fill="lighten" w="3311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3114" h="21600">
                <a:moveTo>
                  <a:pt x="12532" y="6775"/>
                </a:moveTo>
                <a:lnTo>
                  <a:pt x="20582" y="10800"/>
                </a:lnTo>
                <a:lnTo>
                  <a:pt x="12532" y="14825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kaz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7  Drzewa, drzewa B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4D9-5B21-4C3B-94D6-347A369114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szt operacji member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43000" y="1600200"/>
            <a:ext cx="7315200" cy="45972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bfae2"/>
                </a:solidFill>
                <a:latin typeface="Times New Roman"/>
              </a:rPr>
              <a:t>Operacja dominująca  = porównywanie elementów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95280" y="2666880"/>
            <a:ext cx="723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n = card(D.V). Ponumerujmy etykiety drzewa liczbami naturalnymi 1,2,...,n i załóżmy, że prawdopodobieństwo tego, że w korzeniu jest i-ta etykieta (lub po prostu liczba i) wynosi 1/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388620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(n) średnia  liczba porównań dla znalezienia elementu 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19320" y="5105520"/>
            <a:ext cx="7315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(n) = </a:t>
            </a:r>
            <a:r>
              <a:rPr b="0" lang="pl-PL" sz="28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0" lang="pl-PL" sz="2400" spc="-1" strike="noStrike" baseline="46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400" spc="-1" strike="noStrike" baseline="-30000">
                <a:solidFill>
                  <a:srgbClr val="402000"/>
                </a:solidFill>
                <a:latin typeface="Times New Roman"/>
              </a:rPr>
              <a:t>i=1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/n (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średnia długość ścieżki od korzenia do e, o ile etykietą korzenia jest i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7652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(n) = O(n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8320" y="3809880"/>
            <a:ext cx="3733560" cy="914400"/>
          </a:xfrm>
          <a:prstGeom prst="wedgeRoundRectCallout">
            <a:avLst>
              <a:gd name="adj1" fmla="val -90689"/>
              <a:gd name="adj2" fmla="val 107291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awdopodobieństwo   tego, ż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rzeniem drzewa jest 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7  Drzewa, drzewa B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F67-2D57-44B4-A630-546A3B332C0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Cd. Koszt średni wyszukiwan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447920" y="1676520"/>
            <a:ext cx="2743200" cy="1676160"/>
            <a:chOff x="1447920" y="1676520"/>
            <a:chExt cx="2743200" cy="1676160"/>
          </a:xfrm>
        </p:grpSpPr>
        <p:sp>
          <p:nvSpPr>
            <p:cNvPr id="409" name=""/>
            <p:cNvSpPr/>
            <p:nvPr/>
          </p:nvSpPr>
          <p:spPr>
            <a:xfrm>
              <a:off x="2590920" y="1676520"/>
              <a:ext cx="304560" cy="3045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1980720" y="1981080"/>
              <a:ext cx="68580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19520" y="1981080"/>
              <a:ext cx="838080" cy="609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47920" y="2514600"/>
              <a:ext cx="1066680" cy="838080"/>
            </a:xfrm>
            <a:prstGeom prst="flowChartExtra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L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24080" y="2514600"/>
              <a:ext cx="1067040" cy="83808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P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447920" y="33526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-1 elem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3352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-i elem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962520" y="1981080"/>
                <a:ext cx="4572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17" name=""/>
          <p:cNvGrpSpPr/>
          <p:nvPr/>
        </p:nvGrpSpPr>
        <p:grpSpPr>
          <a:xfrm>
            <a:off x="4572000" y="2514240"/>
            <a:ext cx="2438280" cy="1694880"/>
            <a:chOff x="4572000" y="2514240"/>
            <a:chExt cx="2438280" cy="1694880"/>
          </a:xfrm>
        </p:grpSpPr>
        <p:sp>
          <p:nvSpPr>
            <p:cNvPr id="418" name=""/>
            <p:cNvSpPr/>
            <p:nvPr/>
          </p:nvSpPr>
          <p:spPr>
            <a:xfrm flipV="1">
              <a:off x="4876920" y="2514240"/>
              <a:ext cx="53316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0" y="3200400"/>
              <a:ext cx="2438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Prawdopodobieństwo tego, że e jest w lewym poddrzewie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7315200" y="2514600"/>
            <a:ext cx="1447920" cy="2733480"/>
            <a:chOff x="7315200" y="2514600"/>
            <a:chExt cx="1447920" cy="2733480"/>
          </a:xfrm>
        </p:grpSpPr>
        <p:sp>
          <p:nvSpPr>
            <p:cNvPr id="421" name=""/>
            <p:cNvSpPr/>
            <p:nvPr/>
          </p:nvSpPr>
          <p:spPr>
            <a:xfrm flipV="1">
              <a:off x="7677000" y="2514600"/>
              <a:ext cx="217080" cy="810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315200" y="3324600"/>
              <a:ext cx="1447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Prawdopodobieństwo tego, że e jest w prawym poddrzewie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581280" y="1523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Średnia długość ścieżki do e =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295280" y="4419720"/>
                <a:ext cx="54864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iA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5" name=""/>
          <p:cNvSpPr/>
          <p:nvPr/>
        </p:nvSpPr>
        <p:spPr>
          <a:xfrm>
            <a:off x="1219320" y="56386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ożna pokazać przez indukcję, ż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5450040" y="5562720"/>
                <a:ext cx="28558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tal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7  Drzewa, drzewa B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25E6-5D1A-4651-90E2-3448A187D8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Operacja minimum w BS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52480" y="15238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efb41f"/>
                </a:solidFill>
                <a:latin typeface="Times New Roman"/>
              </a:rPr>
              <a:t>Zadanie</a:t>
            </a:r>
            <a:r>
              <a:rPr b="1" lang="pl-PL" sz="2800" spc="-1" strike="noStrike">
                <a:solidFill>
                  <a:srgbClr val="efb41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naleźć etykietę o najmniejszej wartości, w zbiorze etykiet  danego drzewa D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 rot="5400000">
            <a:off x="685440" y="2971800"/>
            <a:ext cx="15242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Metod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0" name=""/>
          <p:cNvSpPr/>
          <p:nvPr/>
        </p:nvSpPr>
        <p:spPr>
          <a:xfrm>
            <a:off x="1752480" y="2438280"/>
            <a:ext cx="373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ejdź po ścieżce od korzenia do liścia, wybierając zawsze drogę w lewo, o ile to możliwe.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81080" y="3886200"/>
            <a:ext cx="3124440" cy="1923480"/>
          </a:xfrm>
          <a:prstGeom prst="rect">
            <a:avLst/>
          </a:prstGeom>
          <a:noFill/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ublic min (node x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while (not  x.lewy= null)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{    x := x.lewy}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return x.e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791320" y="3581280"/>
            <a:ext cx="1181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szt :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3" name=""/>
          <p:cNvSpPr/>
          <p:nvPr/>
        </p:nvSpPr>
        <p:spPr>
          <a:xfrm>
            <a:off x="6172200" y="4343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(n) = O(n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5880" y="4876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(n) = O(lg n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91320" y="2514600"/>
            <a:ext cx="2895480" cy="5205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efb41f"/>
                </a:solidFill>
                <a:latin typeface="Times New Roman"/>
              </a:rPr>
              <a:t>min: BST</a:t>
            </a:r>
            <a:r>
              <a:rPr b="1" lang="pl-PL" sz="2800" spc="-1" strike="noStrike">
                <a:solidFill>
                  <a:srgbClr val="efb41f"/>
                </a:solidFill>
                <a:latin typeface="Symbol"/>
                <a:ea typeface="Symbol"/>
              </a:rPr>
              <a:t></a:t>
            </a:r>
            <a:r>
              <a:rPr b="1" lang="pl-PL" sz="2800" spc="-1" strike="noStrike">
                <a:solidFill>
                  <a:srgbClr val="efb41f"/>
                </a:solidFill>
                <a:latin typeface="Times New Roman"/>
              </a:rPr>
              <a:t> E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7  Drzewa, drzewa B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9E9-9617-478E-A206-76F9740123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lan wykład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rzew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Podstawowe definicj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Implementacj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Odwiedzanie wierzchołków drzewa i grafu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Porządk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rzewa BS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Wyszukiwani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Koszt wyszukiwani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Operacja minimum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7  Drzewa, drzewa B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327-BE55-4312-8114-F33FAAD32B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Grafy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 rot="5400000">
            <a:off x="151560" y="2590920"/>
            <a:ext cx="25909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Definicj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676520"/>
            <a:ext cx="4419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ystem relacyjny postaci &lt; V, E&gt;, gdzie  V jest dowolnym niepustym zbiorem , a E relacją binarną w V, nazywamy grafem zorientowanym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886200"/>
            <a:ext cx="4419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rogą w grafie G = &lt;V,E&gt; nazywamy ciąg wierzchołków v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 v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...v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, taki, że (v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 v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+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 dla i&lt;k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1905120"/>
            <a:ext cx="12193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&lt;V, E &gt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791320" y="2286000"/>
            <a:ext cx="1828800" cy="1237320"/>
            <a:chOff x="5791320" y="2286000"/>
            <a:chExt cx="1828800" cy="1237320"/>
          </a:xfrm>
        </p:grpSpPr>
        <p:sp>
          <p:nvSpPr>
            <p:cNvPr id="107" name=""/>
            <p:cNvSpPr/>
            <p:nvPr/>
          </p:nvSpPr>
          <p:spPr>
            <a:xfrm flipH="1">
              <a:off x="6476760" y="2286000"/>
              <a:ext cx="60948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1320" y="281952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Zbiór </a:t>
              </a:r>
              <a:br>
                <a:rPr sz="2000"/>
              </a:b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wierzchołków 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619760" y="2362320"/>
            <a:ext cx="1524240" cy="1084680"/>
            <a:chOff x="7619760" y="2362320"/>
            <a:chExt cx="1524240" cy="1084680"/>
          </a:xfrm>
        </p:grpSpPr>
        <p:sp>
          <p:nvSpPr>
            <p:cNvPr id="110" name=""/>
            <p:cNvSpPr/>
            <p:nvPr/>
          </p:nvSpPr>
          <p:spPr>
            <a:xfrm flipH="1" flipV="1">
              <a:off x="7619760" y="2362320"/>
              <a:ext cx="53316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96080" y="274320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Zbiór krawędzi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295280" y="5486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Graf niezorientowan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54864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Graf spójn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5486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Graf acykliczn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05120" y="3276720"/>
            <a:ext cx="1828800" cy="1523880"/>
            <a:chOff x="1905120" y="3276720"/>
            <a:chExt cx="1828800" cy="1523880"/>
          </a:xfrm>
        </p:grpSpPr>
        <p:sp>
          <p:nvSpPr>
            <p:cNvPr id="116" name=""/>
            <p:cNvSpPr/>
            <p:nvPr/>
          </p:nvSpPr>
          <p:spPr>
            <a:xfrm>
              <a:off x="2438280" y="4038480"/>
              <a:ext cx="152640" cy="1526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52680" y="4038480"/>
              <a:ext cx="152640" cy="1526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1280" y="4648320"/>
              <a:ext cx="152640" cy="1522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90920" y="4114800"/>
              <a:ext cx="7617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14600" y="4191120"/>
              <a:ext cx="53352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057400" y="4191120"/>
              <a:ext cx="45720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05320" y="4114800"/>
              <a:ext cx="15228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4724280"/>
              <a:ext cx="1067040" cy="763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0400" y="3429000"/>
              <a:ext cx="152280" cy="1522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514600" y="3581280"/>
              <a:ext cx="68580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3429000"/>
              <a:ext cx="45720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981080" y="3428640"/>
              <a:ext cx="0" cy="1143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5120" y="3276720"/>
              <a:ext cx="152280" cy="1522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66680" y="4952880"/>
            <a:ext cx="2514600" cy="119124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Gdy relacja E jest symetryczna będziemy mówili o grafie niezorientowanym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4952880"/>
            <a:ext cx="2743200" cy="119124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Gdy dowolne dwa wierzchołki są połączone drogą, to mówimy, że graf jest spójny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4952880"/>
            <a:ext cx="2209680" cy="119124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Jeśli graf nie posiada cyklu, to mówimy, że jest acykliczny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7  Drzewa, drzewa B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6F1-9BC6-4E0B-898F-9E4F501CDB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Drzew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600200"/>
            <a:ext cx="7696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Graf niezorientowany nazywamy drzewem wttw jest spójny i acykliczny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 rot="5400000">
            <a:off x="75600" y="335268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Twierdzeni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057400"/>
            <a:ext cx="693432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G = &lt;V, E&gt; będzie niezorientowanym grafem. Wtedy następujące zdania są równoważne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1) G jest drzewem,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2) Między dowolnymi dwoma wierzchołkami istnieje dokładnie jedna prosta droga,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3) G jest spójny, ale po usunięciu dowolnej krawędzi otrzymujemy graf niespójny,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4) G jest spójny i ma card(V)-1 krawędzi,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5) G jest acykliczny i ma card(V) -1 krawędzi,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6) G jest acykliczny, ale dodanie dowolnej krawędzi prowadzi do grafu z  cyklem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7  Drzewa, drzewa B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345-3CAE-4C44-BAB9-91789ABBB03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Reprezentacja/implementacja drzew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819520"/>
            <a:ext cx="1371600" cy="1465920"/>
            <a:chOff x="1066680" y="2819520"/>
            <a:chExt cx="1371600" cy="1465920"/>
          </a:xfrm>
        </p:grpSpPr>
        <p:sp>
          <p:nvSpPr>
            <p:cNvPr id="140" name=""/>
            <p:cNvSpPr/>
            <p:nvPr/>
          </p:nvSpPr>
          <p:spPr>
            <a:xfrm flipH="1">
              <a:off x="1676520" y="2819520"/>
              <a:ext cx="38088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66680" y="3276720"/>
              <a:ext cx="1371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Referencja do lewego poddrzewa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048120" y="2819520"/>
            <a:ext cx="1600200" cy="1389600"/>
            <a:chOff x="3048120" y="2819520"/>
            <a:chExt cx="1600200" cy="1389600"/>
          </a:xfrm>
        </p:grpSpPr>
        <p:sp>
          <p:nvSpPr>
            <p:cNvPr id="143" name=""/>
            <p:cNvSpPr/>
            <p:nvPr/>
          </p:nvSpPr>
          <p:spPr>
            <a:xfrm>
              <a:off x="3048120" y="2819520"/>
              <a:ext cx="38088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8120" y="3200400"/>
              <a:ext cx="1600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Referencja do prawego poddrzewa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14400" y="1676520"/>
            <a:ext cx="2438280" cy="1143000"/>
            <a:chOff x="914400" y="1676520"/>
            <a:chExt cx="2438280" cy="1143000"/>
          </a:xfrm>
        </p:grpSpPr>
        <p:sp>
          <p:nvSpPr>
            <p:cNvPr id="146" name=""/>
            <p:cNvSpPr/>
            <p:nvPr/>
          </p:nvSpPr>
          <p:spPr>
            <a:xfrm>
              <a:off x="1752480" y="1828800"/>
              <a:ext cx="1600200" cy="4572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t(v)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52480" y="2286000"/>
              <a:ext cx="838440" cy="5335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lewy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2286000"/>
              <a:ext cx="761760" cy="5335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prawy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14400" y="1676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19320" y="1981080"/>
              <a:ext cx="5331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105520" y="1752480"/>
            <a:ext cx="3200400" cy="3765600"/>
          </a:xfrm>
          <a:prstGeom prst="rect">
            <a:avLst/>
          </a:prstGeom>
          <a:noFill/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ublic class nod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public etykieta e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public node lewy, prawy 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public node(etykieta e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this.e = e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lewy = null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prawy = null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572000"/>
            <a:ext cx="3124440" cy="13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l-PL" sz="2000" spc="-1" strike="noStrike" u="sng">
                <a:solidFill>
                  <a:srgbClr val="402000"/>
                </a:solidFill>
                <a:uFillTx/>
                <a:latin typeface="Times New Roman"/>
              </a:rPr>
              <a:t>W zastosowaniu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ode root = null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root = New node (a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7  Drzewa, drzewa B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044-63E8-4A3A-B2EF-ADCE1FAF6A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Implementacja c.d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90720" y="1981080"/>
            <a:ext cx="3124080" cy="1905120"/>
            <a:chOff x="990720" y="1981080"/>
            <a:chExt cx="3124080" cy="1905120"/>
          </a:xfrm>
        </p:grpSpPr>
        <p:sp>
          <p:nvSpPr>
            <p:cNvPr id="155" name=""/>
            <p:cNvSpPr/>
            <p:nvPr/>
          </p:nvSpPr>
          <p:spPr>
            <a:xfrm>
              <a:off x="1676520" y="1981080"/>
              <a:ext cx="2361960" cy="6098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E = et(v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9072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66680" y="243828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6520" y="2590920"/>
              <a:ext cx="838080" cy="5331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14600" y="2590920"/>
              <a:ext cx="838080" cy="5331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52680" y="2590920"/>
              <a:ext cx="685800" cy="5331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sk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447920" y="3124080"/>
              <a:ext cx="38088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71800" y="3124080"/>
              <a:ext cx="15228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33920" y="3048120"/>
              <a:ext cx="38088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066680" y="380988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ablica referencji do synów tego wierzchołk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1752480"/>
            <a:ext cx="3581280" cy="4070520"/>
          </a:xfrm>
          <a:prstGeom prst="rect">
            <a:avLst/>
          </a:prstGeom>
          <a:noFill/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ublic class nod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public etykieta e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public node s[ ] 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public node(etykieta e, int k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this.e = e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s = New node[k]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for (i=0; i&lt;k; i++)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s[i] = null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7  Drzewa, drzewa B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347-95FE-4771-9EDD-38A6178C7D7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Chodzenie po drzewie BF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1828800"/>
            <a:ext cx="3276720" cy="344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 // q = kolejka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q := in(a,q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while not empty(q)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v := first(q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q := out(q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if (not empty(v.lewy))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q := in(v.lewy);}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if (not empty(e.prawy))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q := in(v.prawy);}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//wypisz v.wartość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d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2840" y="1447920"/>
            <a:ext cx="35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Rozważmy następujący progra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15238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 a będzie korzeniem pewnego drzewa binarneg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105520" y="2590920"/>
            <a:ext cx="2438280" cy="761400"/>
            <a:chOff x="5105520" y="2590920"/>
            <a:chExt cx="2438280" cy="761400"/>
          </a:xfrm>
        </p:grpSpPr>
        <p:sp>
          <p:nvSpPr>
            <p:cNvPr id="171" name=""/>
            <p:cNvSpPr/>
            <p:nvPr/>
          </p:nvSpPr>
          <p:spPr>
            <a:xfrm>
              <a:off x="5105520" y="259092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19920" y="2590920"/>
              <a:ext cx="1523880" cy="4687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wartość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19920" y="3059640"/>
              <a:ext cx="761760" cy="2926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lewy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1680" y="3059640"/>
              <a:ext cx="762120" cy="2926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prawy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86400" y="276660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495680" y="3505320"/>
            <a:ext cx="2438280" cy="1981080"/>
            <a:chOff x="4495680" y="3505320"/>
            <a:chExt cx="2438280" cy="1981080"/>
          </a:xfrm>
        </p:grpSpPr>
        <p:sp>
          <p:nvSpPr>
            <p:cNvPr id="177" name=""/>
            <p:cNvSpPr/>
            <p:nvPr/>
          </p:nvSpPr>
          <p:spPr>
            <a:xfrm flipH="1">
              <a:off x="5028840" y="3657600"/>
              <a:ext cx="60948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15000" y="3657600"/>
              <a:ext cx="68580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360" y="350532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6560" y="396252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03848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95680" y="464832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29200" y="464832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19560" y="464832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05360" y="464832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572000" y="4191120"/>
              <a:ext cx="30456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4191120"/>
              <a:ext cx="15228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171840" y="4267080"/>
              <a:ext cx="228600" cy="3812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76760" y="4267080"/>
              <a:ext cx="304920" cy="3812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52578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00800" y="52578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866920" y="4876920"/>
              <a:ext cx="22860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72200" y="4876920"/>
              <a:ext cx="30456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 txBox="1"/>
          <p:nvPr/>
        </p:nvSpPr>
        <p:spPr>
          <a:xfrm>
            <a:off x="1066680" y="5486400"/>
            <a:ext cx="13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ynik :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5562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 2 3 4 5 6 7 8 9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72400" y="365760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396252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01000" y="396252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2400" y="419112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419112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29600" y="419112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72400" y="441972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01000" y="441972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29600" y="441972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458200" y="441972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72400" y="472428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29600" y="472428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772400" y="5029200"/>
            <a:ext cx="457200" cy="228600"/>
            <a:chOff x="7772400" y="5029200"/>
            <a:chExt cx="457200" cy="228600"/>
          </a:xfrm>
        </p:grpSpPr>
        <p:sp>
          <p:nvSpPr>
            <p:cNvPr id="210" name=""/>
            <p:cNvSpPr/>
            <p:nvPr/>
          </p:nvSpPr>
          <p:spPr>
            <a:xfrm>
              <a:off x="7772400" y="50292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01000" y="50292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772400" y="5257800"/>
            <a:ext cx="762120" cy="228600"/>
            <a:chOff x="7772400" y="5257800"/>
            <a:chExt cx="762120" cy="228600"/>
          </a:xfrm>
        </p:grpSpPr>
        <p:sp>
          <p:nvSpPr>
            <p:cNvPr id="213" name=""/>
            <p:cNvSpPr/>
            <p:nvPr/>
          </p:nvSpPr>
          <p:spPr>
            <a:xfrm>
              <a:off x="7772400" y="52578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01000" y="52578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05920" y="52578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772400" y="5562720"/>
            <a:ext cx="457200" cy="228600"/>
            <a:chOff x="7772400" y="5562720"/>
            <a:chExt cx="457200" cy="228600"/>
          </a:xfrm>
        </p:grpSpPr>
        <p:sp>
          <p:nvSpPr>
            <p:cNvPr id="217" name=""/>
            <p:cNvSpPr/>
            <p:nvPr/>
          </p:nvSpPr>
          <p:spPr>
            <a:xfrm>
              <a:off x="7772400" y="556272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01000" y="556272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772400" y="586728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553080" y="3581280"/>
            <a:ext cx="114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lejka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 rot="5400000">
            <a:off x="100440" y="3023280"/>
            <a:ext cx="1893600" cy="571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wszerz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7  Drzewa, drzewa B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F43-136B-42D1-BD00-66696515C0F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Chodzenie po drzewie  DF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1676520"/>
            <a:ext cx="3276720" cy="344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q := in(a,q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while not empty(q)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e := first(q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q := out(q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if (not empty(e.lewy)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q :=in(e.lewy);}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if (not empty(e.prawy)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q := in(e.prawy);}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//wypisz e.wartość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d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1600200"/>
            <a:ext cx="3276720" cy="344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// q = stos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q := in(a,q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while not empty(q)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v := top(q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q := pop(q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if (not empty(v.lewy))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q :=push(v.lewy);}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if (not empty(v.prawy))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q := push(v.prawy);}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//wypisz  v.wartość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d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486400" y="1600200"/>
            <a:ext cx="2438280" cy="1981080"/>
            <a:chOff x="5486400" y="1600200"/>
            <a:chExt cx="2438280" cy="1981080"/>
          </a:xfrm>
        </p:grpSpPr>
        <p:sp>
          <p:nvSpPr>
            <p:cNvPr id="226" name=""/>
            <p:cNvSpPr/>
            <p:nvPr/>
          </p:nvSpPr>
          <p:spPr>
            <a:xfrm flipH="1">
              <a:off x="6019560" y="1752480"/>
              <a:ext cx="60948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1752480"/>
              <a:ext cx="68580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53080" y="16002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20574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15200" y="213336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86400" y="27432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19920" y="27432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10280" y="27432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96080" y="27432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562720" y="2286000"/>
              <a:ext cx="30456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19920" y="2286000"/>
              <a:ext cx="15228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162560" y="2361960"/>
              <a:ext cx="228600" cy="3812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67480" y="2361960"/>
              <a:ext cx="304920" cy="3812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05720" y="335268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91520" y="335268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857640" y="2971800"/>
              <a:ext cx="22860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62920" y="2971800"/>
              <a:ext cx="30456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800600" y="1523880"/>
            <a:ext cx="1676520" cy="459720"/>
            <a:chOff x="4800600" y="1523880"/>
            <a:chExt cx="1676520" cy="459720"/>
          </a:xfrm>
        </p:grpSpPr>
        <p:sp>
          <p:nvSpPr>
            <p:cNvPr id="244" name=""/>
            <p:cNvSpPr/>
            <p:nvPr/>
          </p:nvSpPr>
          <p:spPr>
            <a:xfrm>
              <a:off x="480060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181480" y="1676160"/>
              <a:ext cx="1295640" cy="75960"/>
            </a:xfrm>
            <a:prstGeom prst="line">
              <a:avLst/>
            </a:prstGeom>
            <a:ln cap="rnd" w="3816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 txBox="1"/>
          <p:nvPr/>
        </p:nvSpPr>
        <p:spPr>
          <a:xfrm>
            <a:off x="4572000" y="358128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tos: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80060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4495680"/>
            <a:ext cx="228600" cy="533520"/>
            <a:chOff x="5105520" y="4495680"/>
            <a:chExt cx="228600" cy="533520"/>
          </a:xfrm>
        </p:grpSpPr>
        <p:sp>
          <p:nvSpPr>
            <p:cNvPr id="249" name=""/>
            <p:cNvSpPr/>
            <p:nvPr/>
          </p:nvSpPr>
          <p:spPr>
            <a:xfrm>
              <a:off x="5105520" y="480060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 txBox="1"/>
          <p:nvPr/>
        </p:nvSpPr>
        <p:spPr>
          <a:xfrm>
            <a:off x="2895480" y="5257800"/>
            <a:ext cx="1447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yniki :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/>
          <p:nvPr/>
        </p:nvSpPr>
        <p:spPr>
          <a:xfrm>
            <a:off x="4724280" y="5410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292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410080" y="4191120"/>
            <a:ext cx="304920" cy="838080"/>
            <a:chOff x="5410080" y="4191120"/>
            <a:chExt cx="304920" cy="838080"/>
          </a:xfrm>
        </p:grpSpPr>
        <p:sp>
          <p:nvSpPr>
            <p:cNvPr id="255" name=""/>
            <p:cNvSpPr/>
            <p:nvPr/>
          </p:nvSpPr>
          <p:spPr>
            <a:xfrm>
              <a:off x="5410080" y="4800600"/>
              <a:ext cx="30492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4495680"/>
              <a:ext cx="30492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10080" y="4191120"/>
              <a:ext cx="30492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10080" y="5410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791320" y="4495680"/>
            <a:ext cx="304560" cy="533520"/>
            <a:chOff x="5791320" y="4495680"/>
            <a:chExt cx="304560" cy="533520"/>
          </a:xfrm>
        </p:grpSpPr>
        <p:sp>
          <p:nvSpPr>
            <p:cNvPr id="260" name=""/>
            <p:cNvSpPr/>
            <p:nvPr/>
          </p:nvSpPr>
          <p:spPr>
            <a:xfrm>
              <a:off x="5791320" y="4800600"/>
              <a:ext cx="30456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91320" y="4495680"/>
              <a:ext cx="30456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791320" y="54100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4800600"/>
            <a:ext cx="30456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54100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315200" y="4495680"/>
            <a:ext cx="304920" cy="533520"/>
            <a:chOff x="7315200" y="4495680"/>
            <a:chExt cx="304920" cy="533520"/>
          </a:xfrm>
        </p:grpSpPr>
        <p:sp>
          <p:nvSpPr>
            <p:cNvPr id="266" name=""/>
            <p:cNvSpPr/>
            <p:nvPr/>
          </p:nvSpPr>
          <p:spPr>
            <a:xfrm>
              <a:off x="7315200" y="4800600"/>
              <a:ext cx="30492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15200" y="4495680"/>
              <a:ext cx="30492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172200" y="4191120"/>
            <a:ext cx="304920" cy="838080"/>
            <a:chOff x="6172200" y="4191120"/>
            <a:chExt cx="304920" cy="838080"/>
          </a:xfrm>
        </p:grpSpPr>
        <p:sp>
          <p:nvSpPr>
            <p:cNvPr id="269" name=""/>
            <p:cNvSpPr/>
            <p:nvPr/>
          </p:nvSpPr>
          <p:spPr>
            <a:xfrm>
              <a:off x="6172200" y="4800600"/>
              <a:ext cx="30492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72200" y="4495680"/>
              <a:ext cx="30492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72200" y="4191120"/>
              <a:ext cx="30492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1722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553080" y="4495680"/>
            <a:ext cx="304920" cy="533520"/>
            <a:chOff x="6553080" y="4495680"/>
            <a:chExt cx="304920" cy="533520"/>
          </a:xfrm>
        </p:grpSpPr>
        <p:sp>
          <p:nvSpPr>
            <p:cNvPr id="274" name=""/>
            <p:cNvSpPr/>
            <p:nvPr/>
          </p:nvSpPr>
          <p:spPr>
            <a:xfrm>
              <a:off x="6553080" y="4800600"/>
              <a:ext cx="30492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3080" y="4495680"/>
              <a:ext cx="30492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6553080" y="5410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48720" y="4800600"/>
            <a:ext cx="30456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77240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 rot="5400000">
            <a:off x="217440" y="3211200"/>
            <a:ext cx="19270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W głą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7  Drzewa, drzewa B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12B-E348-404A-88A9-0CB6DA2B441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orządki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3581280"/>
            <a:ext cx="4038480" cy="137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ddbb7"/>
                </a:solidFill>
                <a:latin typeface="Times New Roman"/>
              </a:rPr>
              <a:t>Preorder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. Odwiedź korzeń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. Odwiedź lewe poddrzew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. Odwiedź prawe poddrzew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371600" y="1676520"/>
            <a:ext cx="2514600" cy="1676160"/>
            <a:chOff x="1371600" y="1676520"/>
            <a:chExt cx="2514600" cy="1676160"/>
          </a:xfrm>
        </p:grpSpPr>
        <p:sp>
          <p:nvSpPr>
            <p:cNvPr id="284" name=""/>
            <p:cNvSpPr/>
            <p:nvPr/>
          </p:nvSpPr>
          <p:spPr>
            <a:xfrm>
              <a:off x="2286000" y="1676520"/>
              <a:ext cx="380880" cy="3808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05120" y="2057400"/>
              <a:ext cx="457200" cy="5335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14600" y="2057400"/>
              <a:ext cx="457200" cy="5335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43200" y="1752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korzeń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71600" y="2590920"/>
              <a:ext cx="990720" cy="76176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L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14600" y="2590920"/>
              <a:ext cx="990720" cy="761760"/>
            </a:xfrm>
            <a:prstGeom prst="triangle">
              <a:avLst>
                <a:gd name="adj" fmla="val 50000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PD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95680" y="2286000"/>
            <a:ext cx="3581640" cy="137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ddbb7"/>
                </a:solidFill>
                <a:latin typeface="Times New Roman"/>
              </a:rPr>
              <a:t>Inorder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. Odwiedź lewe poddrzewo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. Odwiedź korzeń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. Odwiedź prawe poddrzew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4648320"/>
            <a:ext cx="3581640" cy="1374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ddbb7"/>
                </a:solidFill>
                <a:latin typeface="Times New Roman"/>
              </a:rPr>
              <a:t>Postorder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. Odwiedź lewe poddrzewo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. Odwiedź prawe poddrzew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. Odwiedź korzeń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791320" y="380880"/>
            <a:ext cx="2438280" cy="1981080"/>
            <a:chOff x="5791320" y="380880"/>
            <a:chExt cx="2438280" cy="1981080"/>
          </a:xfrm>
        </p:grpSpPr>
        <p:sp>
          <p:nvSpPr>
            <p:cNvPr id="293" name=""/>
            <p:cNvSpPr/>
            <p:nvPr/>
          </p:nvSpPr>
          <p:spPr>
            <a:xfrm flipH="1">
              <a:off x="6324480" y="533160"/>
              <a:ext cx="60948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10640" y="533160"/>
              <a:ext cx="68580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58000" y="38088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72200" y="83808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20120" y="91404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1320" y="152388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24840" y="152388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15200" y="152388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01000" y="152388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867640" y="1066680"/>
              <a:ext cx="30456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24840" y="1066680"/>
              <a:ext cx="15228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467480" y="1142640"/>
              <a:ext cx="228600" cy="3812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72400" y="1142640"/>
              <a:ext cx="304920" cy="3812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10640" y="213336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96440" y="2133360"/>
              <a:ext cx="228600" cy="2286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162560" y="1752480"/>
              <a:ext cx="22860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67840" y="1752480"/>
              <a:ext cx="30456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066680" y="49528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1 2 4 5 3 6 8 9 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3657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4  2  5  1  8  6  9  3  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4114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((4)2(5))1(((8) 6( 9))3(7)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5638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4 5 2 8 9 6 7 3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7  Drzewa, drzewa B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347-7881-450B-A70A-A92B7179CE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21:01:37Z</dcterms:created>
  <dc:creator>grażyna</dc:creator>
  <dc:description/>
  <dc:language>en-US</dc:language>
  <cp:lastModifiedBy>mirkowska</cp:lastModifiedBy>
  <cp:lastPrinted>2002-04-28T19:50:06Z</cp:lastPrinted>
  <dcterms:modified xsi:type="dcterms:W3CDTF">2003-04-28T14:10:09Z</dcterms:modified>
  <cp:revision>69</cp:revision>
  <dc:subject>Drzewa, drzewa BST</dc:subject>
  <dc:title>ALGORYTMY I STRUKTURY  DANYCH</dc:title>
</cp:coreProperties>
</file>