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A19-EE69-44CB-846A-834CB092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89B-7B38-4551-8CDF-A74F6CA9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0D7-9E5C-4F0E-8E02-30F14DF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4BE-DCE1-48C7-849E-ED2E9E56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190F-1047-4A65-ADFA-343DA6A6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157-1316-4293-8477-BD1D8B4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5F71-E2D2-413A-87CB-A8F5A53E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A37-0711-4704-A027-2BC545F2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49B8-2041-49C6-8EA9-D58F60C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339-2BDD-4896-8BE5-861DAE6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4E9-6BE5-4B02-809C-70F4D9F0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576-A42E-434F-83C2-C692E59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5F34-93BA-4E22-BACE-6A6C7EE2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8BEF-CAC7-4DDF-A08F-288DD2F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53B4-8DBF-447C-95E1-414A21C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56B5-6CDB-4F1B-98F4-0E489338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D568-A652-4132-B3AF-0BAA8512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B06-7BF1-4064-95A8-7BC381D4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F82-188C-452A-A7FE-09A04259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D17-A36E-4DFB-886E-244A5DA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E08-0BA7-4D38-AE6F-D7F41248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9F4-EC97-4FE2-A1AF-2346A9C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63A-7671-4D26-8B57-D0D4307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5B-A579-4438-A8DB-DE67062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67A-1AAD-4234-9BD7-1B444EF374CF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4ABE-0E4D-4F8D-9617-6BA081BEE039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08  Drzewa BST  i AVL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semestr letni 2002/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Usuwanie - ilustracja 2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2. Przypadek : x  ma  jednego syna, tzn. rz(x) = 1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5029200"/>
            <a:ext cx="5334120" cy="5205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Usuwamy wierzchołek x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2666880"/>
            <a:ext cx="1066680" cy="3049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52480" y="2286000"/>
            <a:ext cx="2438280" cy="2133720"/>
            <a:chOff x="1752480" y="2286000"/>
            <a:chExt cx="2438280" cy="2133720"/>
          </a:xfrm>
        </p:grpSpPr>
        <p:sp>
          <p:nvSpPr>
            <p:cNvPr id="213" name=""/>
            <p:cNvSpPr/>
            <p:nvPr/>
          </p:nvSpPr>
          <p:spPr>
            <a:xfrm>
              <a:off x="3111120" y="228600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66880" y="2895480"/>
              <a:ext cx="253800" cy="241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1920" y="3011400"/>
              <a:ext cx="888840" cy="1027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819160" y="2438280"/>
              <a:ext cx="317520" cy="424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2680" y="2438280"/>
              <a:ext cx="380880" cy="5446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285280" y="3048120"/>
              <a:ext cx="38124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2480" y="3581280"/>
              <a:ext cx="1066680" cy="83844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D(x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943600" y="2286000"/>
            <a:ext cx="2184120" cy="1712880"/>
            <a:chOff x="5943600" y="2286000"/>
            <a:chExt cx="2184120" cy="1712880"/>
          </a:xfrm>
        </p:grpSpPr>
        <p:sp>
          <p:nvSpPr>
            <p:cNvPr id="221" name=""/>
            <p:cNvSpPr/>
            <p:nvPr/>
          </p:nvSpPr>
          <p:spPr>
            <a:xfrm>
              <a:off x="6933960" y="228600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2971800"/>
              <a:ext cx="1143000" cy="9903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D(x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6760" y="2514600"/>
              <a:ext cx="457200" cy="50472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560" y="2438280"/>
              <a:ext cx="533520" cy="5446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38880" y="2971800"/>
              <a:ext cx="888840" cy="1027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389320" y="2545200"/>
            <a:ext cx="723960" cy="1033920"/>
            <a:chOff x="2389320" y="2545200"/>
            <a:chExt cx="723960" cy="1033920"/>
          </a:xfrm>
        </p:grpSpPr>
        <p:sp>
          <p:nvSpPr>
            <p:cNvPr id="227" name=""/>
            <p:cNvSpPr/>
            <p:nvPr/>
          </p:nvSpPr>
          <p:spPr>
            <a:xfrm>
              <a:off x="2389320" y="2685960"/>
              <a:ext cx="723960" cy="50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601720" y="2545200"/>
              <a:ext cx="199080" cy="1033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066680" y="5638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stępowanie jest analogiczne, gdy x ma tylko prawego syn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267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y.lewy := x.lewy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7C2-1660-4B62-9C66-31B74914E6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Usuwanie - ilustracja 3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5105520"/>
            <a:ext cx="6553080" cy="9471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Zastępujemy wierzchołek x  jego bezpośrednim następnikiem w drzewie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666880"/>
            <a:ext cx="1066680" cy="3049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. Przypadek : x  ma  dwóch synów, tzn. rz(x) = 2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90720" y="2286000"/>
            <a:ext cx="3124080" cy="2057400"/>
            <a:chOff x="990720" y="2286000"/>
            <a:chExt cx="3124080" cy="2057400"/>
          </a:xfrm>
        </p:grpSpPr>
        <p:sp>
          <p:nvSpPr>
            <p:cNvPr id="236" name=""/>
            <p:cNvSpPr/>
            <p:nvPr/>
          </p:nvSpPr>
          <p:spPr>
            <a:xfrm>
              <a:off x="2882880" y="228600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2819160"/>
              <a:ext cx="254160" cy="241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3040" y="2971800"/>
              <a:ext cx="761760" cy="9903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438280"/>
              <a:ext cx="62244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440" y="2438280"/>
              <a:ext cx="60948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23880" y="2971800"/>
              <a:ext cx="6094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90720" y="3429000"/>
              <a:ext cx="1066680" cy="838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D(x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3504960"/>
              <a:ext cx="1143000" cy="83844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D(x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2971800"/>
              <a:ext cx="53352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40ec2e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81480" y="2209680"/>
            <a:ext cx="3124080" cy="2133720"/>
            <a:chOff x="5181480" y="2209680"/>
            <a:chExt cx="3124080" cy="2133720"/>
          </a:xfrm>
        </p:grpSpPr>
        <p:grpSp>
          <p:nvGrpSpPr>
            <p:cNvPr id="247" name=""/>
            <p:cNvGrpSpPr/>
            <p:nvPr/>
          </p:nvGrpSpPr>
          <p:grpSpPr>
            <a:xfrm>
              <a:off x="5181480" y="2209680"/>
              <a:ext cx="3124080" cy="2057400"/>
              <a:chOff x="5181480" y="2209680"/>
              <a:chExt cx="3124080" cy="2057400"/>
            </a:xfrm>
          </p:grpSpPr>
          <p:sp>
            <p:nvSpPr>
              <p:cNvPr id="248" name=""/>
              <p:cNvSpPr/>
              <p:nvPr/>
            </p:nvSpPr>
            <p:spPr>
              <a:xfrm>
                <a:off x="7073640" y="2209680"/>
                <a:ext cx="254160" cy="2412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24480" y="2742840"/>
                <a:ext cx="254160" cy="24156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43800" y="2895480"/>
                <a:ext cx="761760" cy="99036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PD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476400" y="2361960"/>
                <a:ext cx="622440" cy="380880"/>
              </a:xfrm>
              <a:prstGeom prst="line">
                <a:avLst/>
              </a:prstGeom>
              <a:ln w="381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5200" y="2361960"/>
                <a:ext cx="609480" cy="533520"/>
              </a:xfrm>
              <a:prstGeom prst="line">
                <a:avLst/>
              </a:prstGeom>
              <a:ln w="381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714640" y="2895480"/>
                <a:ext cx="609480" cy="457200"/>
              </a:xfrm>
              <a:prstGeom prst="line">
                <a:avLst/>
              </a:prstGeom>
              <a:ln w="381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81480" y="33526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LD(x)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53080" y="3428640"/>
                <a:ext cx="1143000" cy="83844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PD’(x)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53080" y="2895480"/>
                <a:ext cx="533520" cy="533160"/>
              </a:xfrm>
              <a:prstGeom prst="line">
                <a:avLst/>
              </a:prstGeom>
              <a:ln w="381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553080" y="4114800"/>
              <a:ext cx="228600" cy="228600"/>
            </a:xfrm>
            <a:prstGeom prst="ellipse">
              <a:avLst/>
            </a:prstGeom>
            <a:solidFill>
              <a:srgbClr val="fbfae2"/>
            </a:solidFill>
            <a:ln w="936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2578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t(x)=Et(z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495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z := min(PD(x)); Et(x) := et(z); x.prawy:= delete(PD(x), et(z)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C08-449D-475C-834B-61A7FB9D4D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Zastosowanie:  wyszukiwanie i sortow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1523880"/>
            <a:ext cx="5867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danie 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Dany jest zbiór n elementów należących do pewnego uporządkowanego zbioru. Zbadać, czy dany element należy, czy nie należy do tego zbior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666880"/>
            <a:ext cx="5867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Zadanie B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Dany jest zbiór n elementów należących do pewnego uporządkowanego zbioru. Uporządkować elementy tego zbioru w porządku niemalejąc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4038480"/>
            <a:ext cx="41148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w tablic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z użyciem listy dynamiczn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z użyciem drzewa B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644760" y="4612320"/>
            <a:ext cx="21002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Rozwiąza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886200"/>
            <a:ext cx="2895480" cy="2082240"/>
            <a:chOff x="5791320" y="3886200"/>
            <a:chExt cx="2895480" cy="2082240"/>
          </a:xfrm>
        </p:grpSpPr>
        <p:sp>
          <p:nvSpPr>
            <p:cNvPr id="266" name=""/>
            <p:cNvSpPr/>
            <p:nvPr/>
          </p:nvSpPr>
          <p:spPr>
            <a:xfrm>
              <a:off x="5791320" y="3886200"/>
              <a:ext cx="2438280" cy="2082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.Zbudować drzewo BST,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.Odczytać jego wierzchołki w porządku inorder (infixowym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5400000">
              <a:off x="7458120" y="4657680"/>
              <a:ext cx="2000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sortowanie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8C7-AC56-452C-B219-84149AD78A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o wyważone  AVL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 rot="5400000">
            <a:off x="456840" y="2438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16002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wiemy, że drzewo binarne jest wyważone, jeżeli dla wszystkich jego wierzchołków, wysokości lewego i prawego poddrzewa różnią się co najwyżej o 1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27432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ważone drzewo BST  nazywamy drzewem AVL (Adelson-Velskii-Landi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 rot="5400000">
            <a:off x="7143840" y="4133880"/>
            <a:ext cx="236232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91320" y="3657600"/>
            <a:ext cx="1980720" cy="1828440"/>
            <a:chOff x="5791320" y="3657600"/>
            <a:chExt cx="1980720" cy="1828440"/>
          </a:xfrm>
        </p:grpSpPr>
        <p:grpSp>
          <p:nvGrpSpPr>
            <p:cNvPr id="274" name=""/>
            <p:cNvGrpSpPr/>
            <p:nvPr/>
          </p:nvGrpSpPr>
          <p:grpSpPr>
            <a:xfrm>
              <a:off x="5791320" y="3657600"/>
              <a:ext cx="1452240" cy="1036080"/>
              <a:chOff x="5791320" y="3657600"/>
              <a:chExt cx="1452240" cy="1036080"/>
            </a:xfrm>
          </p:grpSpPr>
          <p:sp>
            <p:nvSpPr>
              <p:cNvPr id="275" name=""/>
              <p:cNvSpPr/>
              <p:nvPr/>
            </p:nvSpPr>
            <p:spPr>
              <a:xfrm>
                <a:off x="6451560" y="3657600"/>
                <a:ext cx="329760" cy="2437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1320" y="4389120"/>
                <a:ext cx="329760" cy="2437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054840" y="3901320"/>
                <a:ext cx="461880" cy="4874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13440" y="4450320"/>
                <a:ext cx="330120" cy="24336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5440" y="3840480"/>
                <a:ext cx="396000" cy="6098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442280" y="5120640"/>
              <a:ext cx="329760" cy="2437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78040" y="4694040"/>
              <a:ext cx="330120" cy="487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17800" y="5242680"/>
              <a:ext cx="329760" cy="243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81680" y="4694040"/>
              <a:ext cx="264240" cy="5486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209680" y="3657600"/>
            <a:ext cx="2590920" cy="2149560"/>
            <a:chOff x="2209680" y="3657600"/>
            <a:chExt cx="2590920" cy="2149560"/>
          </a:xfrm>
        </p:grpSpPr>
        <p:sp>
          <p:nvSpPr>
            <p:cNvPr id="285" name=""/>
            <p:cNvSpPr/>
            <p:nvPr/>
          </p:nvSpPr>
          <p:spPr>
            <a:xfrm>
              <a:off x="3479760" y="365760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19160" y="4389480"/>
              <a:ext cx="33048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082680" y="3902040"/>
              <a:ext cx="463680" cy="487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1640" y="444996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43280" y="3840120"/>
              <a:ext cx="39672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70120" y="5121360"/>
              <a:ext cx="330480" cy="243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06600" y="4694400"/>
              <a:ext cx="330480" cy="487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46360" y="524196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809880" y="4694400"/>
              <a:ext cx="263520" cy="547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361960" y="4648320"/>
              <a:ext cx="463680" cy="487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9680" y="502920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43200" y="556272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5181840"/>
              <a:ext cx="39672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9588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rzewo AV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57913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 to nie jest drzewo AV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687-ADFF-4FBC-9679-C6A4BAC9E8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bliczanie wag wierzchołków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5238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w będzie funkcją określoną na wierzchołkach drzewa BST  taką, że w( x) = h(LD) - h(PD), gdzie LD i PD są odpowiednio lewym i prawym poddrzewem drzewa o korzeniu w x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133720" y="2819520"/>
            <a:ext cx="2590200" cy="2148840"/>
            <a:chOff x="2133720" y="2819520"/>
            <a:chExt cx="2590200" cy="2148840"/>
          </a:xfrm>
        </p:grpSpPr>
        <p:sp>
          <p:nvSpPr>
            <p:cNvPr id="303" name=""/>
            <p:cNvSpPr/>
            <p:nvPr/>
          </p:nvSpPr>
          <p:spPr>
            <a:xfrm>
              <a:off x="3403440" y="2819520"/>
              <a:ext cx="32976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3551040"/>
              <a:ext cx="33012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006000" y="3063600"/>
              <a:ext cx="463320" cy="48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65320" y="3611520"/>
              <a:ext cx="32976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6960" y="3001680"/>
              <a:ext cx="3963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93800" y="4282920"/>
              <a:ext cx="330120" cy="24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0280" y="3855960"/>
              <a:ext cx="330120" cy="48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70040" y="4403520"/>
              <a:ext cx="32976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33200" y="3855960"/>
              <a:ext cx="263160" cy="54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285280" y="3809880"/>
              <a:ext cx="463320" cy="48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33720" y="4190760"/>
              <a:ext cx="32976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4724280"/>
              <a:ext cx="329760" cy="2440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8280" y="4343400"/>
              <a:ext cx="396360" cy="456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76520" y="2666880"/>
            <a:ext cx="3124080" cy="2745720"/>
            <a:chOff x="1676520" y="2666880"/>
            <a:chExt cx="3124080" cy="2745720"/>
          </a:xfrm>
        </p:grpSpPr>
        <p:sp>
          <p:nvSpPr>
            <p:cNvPr id="317" name=""/>
            <p:cNvSpPr/>
            <p:nvPr/>
          </p:nvSpPr>
          <p:spPr>
            <a:xfrm>
              <a:off x="27432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2680" y="4648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911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7652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57600" y="2666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410080" y="2971800"/>
            <a:ext cx="297180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Uwag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o binarnych poszukiwań D jest drzewem AVL wttw dla każdego x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.V 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(x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-1, 0, +1}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A0F-E36F-44C0-9804-5089598F39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e  na AVL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1523880"/>
            <a:ext cx="3276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mber : AVL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ert : AVL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VL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elete : AVL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V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1600200"/>
            <a:ext cx="381240" cy="838080"/>
          </a:xfrm>
          <a:custGeom>
            <a:avLst/>
            <a:gdLst>
              <a:gd name="textAreaLeft" fmla="*/ 0 w 381240"/>
              <a:gd name="textAreaRight" fmla="*/ 13752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1600200"/>
            <a:ext cx="350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konuje się tak jak na drzewach BST,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ale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502920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łączenie nowego elementu do drzewa BST może zwiększyć wysokość jakiegoś poddrzewa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25146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sunięcie jakiegoś elementu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drzewa BST może zmniejszyć wysokość jakiegoś poddrzewa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00200" y="2743200"/>
            <a:ext cx="2590920" cy="1828800"/>
            <a:chOff x="1600200" y="2743200"/>
            <a:chExt cx="2590920" cy="1828800"/>
          </a:xfrm>
        </p:grpSpPr>
        <p:sp>
          <p:nvSpPr>
            <p:cNvPr id="332" name=""/>
            <p:cNvSpPr/>
            <p:nvPr/>
          </p:nvSpPr>
          <p:spPr>
            <a:xfrm>
              <a:off x="2870280" y="274320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09680" y="3475080"/>
              <a:ext cx="33048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473200" y="2987640"/>
              <a:ext cx="463680" cy="487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2160" y="3535200"/>
              <a:ext cx="330120" cy="2448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33800" y="2925720"/>
              <a:ext cx="3967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60640" y="4206960"/>
              <a:ext cx="330480" cy="24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97120" y="3780000"/>
              <a:ext cx="330480" cy="48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6880" y="432756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200400" y="3780000"/>
              <a:ext cx="263520" cy="547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752480" y="3733920"/>
              <a:ext cx="463680" cy="487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00200" y="4114800"/>
              <a:ext cx="330120" cy="2444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905120" y="4343400"/>
            <a:ext cx="558720" cy="624960"/>
            <a:chOff x="1905120" y="4343400"/>
            <a:chExt cx="558720" cy="624960"/>
          </a:xfrm>
        </p:grpSpPr>
        <p:sp>
          <p:nvSpPr>
            <p:cNvPr id="344" name=""/>
            <p:cNvSpPr/>
            <p:nvPr/>
          </p:nvSpPr>
          <p:spPr>
            <a:xfrm>
              <a:off x="2133720" y="4724280"/>
              <a:ext cx="330120" cy="244080"/>
            </a:xfrm>
            <a:prstGeom prst="ellipse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05120" y="4343400"/>
              <a:ext cx="396720" cy="456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3000" y="2590920"/>
            <a:ext cx="2895480" cy="2059920"/>
            <a:chOff x="1143000" y="2590920"/>
            <a:chExt cx="2895480" cy="2059920"/>
          </a:xfrm>
        </p:grpSpPr>
        <p:sp>
          <p:nvSpPr>
            <p:cNvPr id="347" name=""/>
            <p:cNvSpPr/>
            <p:nvPr/>
          </p:nvSpPr>
          <p:spPr>
            <a:xfrm>
              <a:off x="251460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02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30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46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43000" y="2590920"/>
            <a:ext cx="2895480" cy="2059920"/>
            <a:chOff x="1143000" y="2590920"/>
            <a:chExt cx="2895480" cy="2059920"/>
          </a:xfrm>
        </p:grpSpPr>
        <p:sp>
          <p:nvSpPr>
            <p:cNvPr id="354" name=""/>
            <p:cNvSpPr/>
            <p:nvPr/>
          </p:nvSpPr>
          <p:spPr>
            <a:xfrm>
              <a:off x="2514600" y="25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002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30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532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46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9000" y="411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095880" y="3581280"/>
            <a:ext cx="1981440" cy="1981440"/>
            <a:chOff x="6095880" y="3581280"/>
            <a:chExt cx="1981440" cy="1981440"/>
          </a:xfrm>
        </p:grpSpPr>
        <p:grpSp>
          <p:nvGrpSpPr>
            <p:cNvPr id="361" name=""/>
            <p:cNvGrpSpPr/>
            <p:nvPr/>
          </p:nvGrpSpPr>
          <p:grpSpPr>
            <a:xfrm>
              <a:off x="6095880" y="3733920"/>
              <a:ext cx="1981440" cy="1828800"/>
              <a:chOff x="6095880" y="3733920"/>
              <a:chExt cx="1981440" cy="1828800"/>
            </a:xfrm>
          </p:grpSpPr>
          <p:sp>
            <p:nvSpPr>
              <p:cNvPr id="362" name=""/>
              <p:cNvSpPr/>
              <p:nvPr/>
            </p:nvSpPr>
            <p:spPr>
              <a:xfrm>
                <a:off x="6756480" y="3733920"/>
                <a:ext cx="330120" cy="2444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95880" y="4465800"/>
                <a:ext cx="330480" cy="2444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359400" y="3978360"/>
                <a:ext cx="463680" cy="4874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360" y="4525920"/>
                <a:ext cx="330120" cy="2444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20000" y="3916440"/>
                <a:ext cx="396720" cy="6094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46840" y="5197320"/>
                <a:ext cx="330480" cy="2430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83320" y="4770360"/>
                <a:ext cx="330480" cy="4874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823080" y="5318280"/>
                <a:ext cx="330120" cy="2444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086600" y="4770360"/>
                <a:ext cx="263520" cy="5479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010280" y="3581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674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95880" y="3962520"/>
            <a:ext cx="726480" cy="731880"/>
            <a:chOff x="6095880" y="3962520"/>
            <a:chExt cx="726480" cy="731880"/>
          </a:xfrm>
        </p:grpSpPr>
        <p:sp>
          <p:nvSpPr>
            <p:cNvPr id="374" name=""/>
            <p:cNvSpPr/>
            <p:nvPr/>
          </p:nvSpPr>
          <p:spPr>
            <a:xfrm>
              <a:off x="6095880" y="4449960"/>
              <a:ext cx="330120" cy="244440"/>
            </a:xfrm>
            <a:prstGeom prst="ellipse">
              <a:avLst/>
            </a:prstGeom>
            <a:solidFill>
              <a:srgbClr val="ce9964"/>
            </a:solidFill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d33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359040" y="3962520"/>
              <a:ext cx="463320" cy="487440"/>
            </a:xfrm>
            <a:prstGeom prst="line">
              <a:avLst/>
            </a:prstGeom>
            <a:ln w="2844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086600" y="3581280"/>
            <a:ext cx="53352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095880" y="3962520"/>
            <a:ext cx="726480" cy="731880"/>
            <a:chOff x="6095880" y="3962520"/>
            <a:chExt cx="726480" cy="731880"/>
          </a:xfrm>
        </p:grpSpPr>
        <p:sp>
          <p:nvSpPr>
            <p:cNvPr id="378" name=""/>
            <p:cNvSpPr/>
            <p:nvPr/>
          </p:nvSpPr>
          <p:spPr>
            <a:xfrm>
              <a:off x="6095880" y="4449960"/>
              <a:ext cx="330120" cy="244440"/>
            </a:xfrm>
            <a:prstGeom prst="ellipse">
              <a:avLst/>
            </a:prstGeom>
            <a:solidFill>
              <a:srgbClr val="fbfae2"/>
            </a:solidFill>
            <a:ln w="4140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bfae2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359040" y="3962520"/>
              <a:ext cx="463320" cy="487440"/>
            </a:xfrm>
            <a:prstGeom prst="line">
              <a:avLst/>
            </a:prstGeom>
            <a:ln w="4140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17E-3E66-4816-9729-E685CBC99E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otacja w praw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5181480"/>
            <a:ext cx="77724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4648320"/>
            <a:ext cx="701064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066680" y="1600200"/>
            <a:ext cx="2438640" cy="4114800"/>
            <a:chOff x="1066680" y="1600200"/>
            <a:chExt cx="2438640" cy="4114800"/>
          </a:xfrm>
        </p:grpSpPr>
        <p:sp>
          <p:nvSpPr>
            <p:cNvPr id="384" name=""/>
            <p:cNvSpPr/>
            <p:nvPr/>
          </p:nvSpPr>
          <p:spPr>
            <a:xfrm>
              <a:off x="1752480" y="25909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3828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057400" y="213372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9520" y="2133720"/>
              <a:ext cx="45720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666880"/>
              <a:ext cx="457200" cy="19814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66680" y="3352680"/>
              <a:ext cx="457200" cy="23623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1" lang="pl-PL" sz="28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371600" y="289548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3720" y="2819520"/>
              <a:ext cx="45720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20600" y="160020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6720" y="24382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67280" y="1600200"/>
            <a:ext cx="2667240" cy="3581280"/>
            <a:chOff x="5867280" y="1600200"/>
            <a:chExt cx="2667240" cy="3581280"/>
          </a:xfrm>
        </p:grpSpPr>
        <p:sp>
          <p:nvSpPr>
            <p:cNvPr id="396" name=""/>
            <p:cNvSpPr/>
            <p:nvPr/>
          </p:nvSpPr>
          <p:spPr>
            <a:xfrm>
              <a:off x="7696080" y="23623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172200" y="2057400"/>
              <a:ext cx="838080" cy="7621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01000" y="2743200"/>
              <a:ext cx="53352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77320" y="3276720"/>
              <a:ext cx="457200" cy="19047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19520"/>
              <a:ext cx="457200" cy="23619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1" lang="pl-PL" sz="28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1028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1520" y="2057400"/>
              <a:ext cx="380880" cy="30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692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5508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238880" y="2666880"/>
              <a:ext cx="533520" cy="6098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600200" y="1143000"/>
            <a:ext cx="2362320" cy="1066680"/>
          </a:xfrm>
          <a:custGeom>
            <a:avLst/>
            <a:gdLst>
              <a:gd name="textAreaLeft" fmla="*/ 470520 w 2362320"/>
              <a:gd name="textAreaRight" fmla="*/ 1655640 w 236232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7" hR="21600" stAng="10800000" swAng="5400000"/>
                <a:lnTo>
                  <a:pt x="10834" y="0"/>
                </a:lnTo>
                <a:arcTo wR="8607" hR="21600" stAng="-5400000" swAng="2904995"/>
                <a:lnTo>
                  <a:pt x="21108" y="14400"/>
                </a:lnTo>
                <a:lnTo>
                  <a:pt x="18327" y="21600"/>
                </a:lnTo>
                <a:lnTo>
                  <a:pt x="14561" y="14400"/>
                </a:lnTo>
                <a:lnTo>
                  <a:pt x="16721" y="14400"/>
                </a:lnTo>
                <a:arcTo wR="8607" hR="21600" stAng="-2495005" swAng="-2726435"/>
                <a:lnTo>
                  <a:pt x="9720" y="182"/>
                </a:lnTo>
                <a:arcTo wR="8607" hR="21600" stAng="-5578560" swAng="-5221440"/>
                <a:close/>
              </a:path>
              <a:path fill="darkenLess" w="21600" h="21600">
                <a:moveTo>
                  <a:pt x="0" y="21600"/>
                </a:moveTo>
                <a:arcTo wR="8607" hR="21600" stAng="10800000" swAng="5400000"/>
                <a:lnTo>
                  <a:pt x="8607" y="0"/>
                </a:lnTo>
                <a:arcTo wR="8607" hR="21600" stAng="-5400000" swAng="178560"/>
                <a:lnTo>
                  <a:pt x="9720" y="182"/>
                </a:lnTo>
                <a:arcTo wR="8607" hR="21600" stAng="-5578560" swAng="-522144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3352680"/>
            <a:ext cx="1218960" cy="381240"/>
          </a:xfrm>
          <a:prstGeom prst="rightArrow">
            <a:avLst>
              <a:gd name="adj1" fmla="val 50000"/>
              <a:gd name="adj2" fmla="val 79934"/>
            </a:avLst>
          </a:prstGeom>
          <a:solidFill>
            <a:srgbClr val="cd3333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Po rot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5181480"/>
            <a:ext cx="457200" cy="533520"/>
          </a:xfrm>
          <a:prstGeom prst="rect">
            <a:avLst/>
          </a:prstGeom>
          <a:solidFill>
            <a:srgbClr val="cd333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10D-3A11-4458-B4B1-683E344C81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otacja w lew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4648320"/>
            <a:ext cx="701064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35160" y="1676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d3333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866920" y="1600200"/>
            <a:ext cx="2667240" cy="3581280"/>
            <a:chOff x="5866920" y="1600200"/>
            <a:chExt cx="2667240" cy="3581280"/>
          </a:xfrm>
        </p:grpSpPr>
        <p:sp>
          <p:nvSpPr>
            <p:cNvPr id="414" name=""/>
            <p:cNvSpPr/>
            <p:nvPr/>
          </p:nvSpPr>
          <p:spPr>
            <a:xfrm flipH="1">
              <a:off x="6323760" y="23623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0956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160" y="2057400"/>
              <a:ext cx="838080" cy="7621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866920" y="2743200"/>
              <a:ext cx="53352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66920" y="3276720"/>
              <a:ext cx="457200" cy="19047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076960" y="2819520"/>
              <a:ext cx="457200" cy="23619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1" lang="pl-PL" sz="28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93396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629040" y="2057400"/>
              <a:ext cx="380880" cy="30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59880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9130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9040" y="2666880"/>
              <a:ext cx="533520" cy="6098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914400" y="1371600"/>
            <a:ext cx="2362320" cy="1066680"/>
          </a:xfrm>
          <a:custGeom>
            <a:avLst/>
            <a:gdLst>
              <a:gd name="textAreaLeft" fmla="*/ 470520 w 2362320"/>
              <a:gd name="textAreaRight" fmla="*/ 1655640 w 236232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7" hR="21600" stAng="10800000" swAng="5400000"/>
                <a:lnTo>
                  <a:pt x="10834" y="0"/>
                </a:lnTo>
                <a:arcTo wR="8607" hR="21600" stAng="-5400000" swAng="2904995"/>
                <a:lnTo>
                  <a:pt x="21108" y="14400"/>
                </a:lnTo>
                <a:lnTo>
                  <a:pt x="18327" y="21600"/>
                </a:lnTo>
                <a:lnTo>
                  <a:pt x="14561" y="14400"/>
                </a:lnTo>
                <a:lnTo>
                  <a:pt x="16721" y="14400"/>
                </a:lnTo>
                <a:arcTo wR="8607" hR="21600" stAng="-2495005" swAng="-2726435"/>
                <a:lnTo>
                  <a:pt x="9720" y="182"/>
                </a:lnTo>
                <a:arcTo wR="8607" hR="21600" stAng="-5578560" swAng="-5221440"/>
                <a:close/>
              </a:path>
              <a:path fill="darkenLess" w="21600" h="21600">
                <a:moveTo>
                  <a:pt x="0" y="21600"/>
                </a:moveTo>
                <a:arcTo wR="8607" hR="21600" stAng="10800000" swAng="5400000"/>
                <a:lnTo>
                  <a:pt x="8607" y="0"/>
                </a:lnTo>
                <a:arcTo wR="8607" hR="21600" stAng="-5400000" swAng="178560"/>
                <a:lnTo>
                  <a:pt x="9720" y="182"/>
                </a:lnTo>
                <a:arcTo wR="8607" hR="21600" stAng="-5578560" swAng="-522144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352680"/>
            <a:ext cx="1371600" cy="457200"/>
          </a:xfrm>
          <a:prstGeom prst="rightArrow">
            <a:avLst>
              <a:gd name="adj1" fmla="val 63194"/>
              <a:gd name="adj2" fmla="val 98264"/>
            </a:avLst>
          </a:prstGeom>
          <a:solidFill>
            <a:srgbClr val="cd3333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Po rot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066680" y="1828800"/>
            <a:ext cx="2438640" cy="3886200"/>
            <a:chOff x="1066680" y="1828800"/>
            <a:chExt cx="2438640" cy="3886200"/>
          </a:xfrm>
        </p:grpSpPr>
        <p:sp>
          <p:nvSpPr>
            <p:cNvPr id="428" name=""/>
            <p:cNvSpPr/>
            <p:nvPr/>
          </p:nvSpPr>
          <p:spPr>
            <a:xfrm flipH="1">
              <a:off x="2437920" y="25909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75212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3720" y="213372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295280" y="2133720"/>
              <a:ext cx="45720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066680" y="2666880"/>
              <a:ext cx="457200" cy="19814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048120" y="3352680"/>
              <a:ext cx="457200" cy="23623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r>
                <a:rPr b="1" lang="pl-PL" sz="28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190512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19520" y="289548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981080" y="2819520"/>
              <a:ext cx="45720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36620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048120" y="5181480"/>
              <a:ext cx="457200" cy="53352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14400" y="5181480"/>
            <a:ext cx="77724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9907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jedyncza  rotacja w lewo wzgl. B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925-0BC4-4C42-B3BA-9902144CE6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dwójna rotacja w praw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5181480"/>
            <a:ext cx="77724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4648320"/>
            <a:ext cx="701064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1447920"/>
            <a:ext cx="1676520" cy="685800"/>
          </a:xfrm>
          <a:custGeom>
            <a:avLst/>
            <a:gdLst>
              <a:gd name="textAreaLeft" fmla="*/ 325080 w 1676520"/>
              <a:gd name="textAreaRight" fmla="*/ 11563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1" hR="21600" stAng="10800000" swAng="5400000"/>
                <a:lnTo>
                  <a:pt x="10707" y="0"/>
                </a:lnTo>
                <a:arcTo wR="8381" hR="21600" stAng="-5400000" swAng="2620509"/>
                <a:lnTo>
                  <a:pt x="20983" y="13468"/>
                </a:lnTo>
                <a:lnTo>
                  <a:pt x="17925" y="21600"/>
                </a:lnTo>
                <a:lnTo>
                  <a:pt x="13633" y="13468"/>
                </a:lnTo>
                <a:lnTo>
                  <a:pt x="16145" y="13468"/>
                </a:lnTo>
                <a:arcTo wR="8381" hR="21600" stAng="-2779491" swAng="-2433787"/>
                <a:lnTo>
                  <a:pt x="9544" y="209"/>
                </a:lnTo>
                <a:arcTo wR="8381" hR="21600" stAng="-5586722" swAng="-5213278"/>
                <a:close/>
              </a:path>
              <a:path fill="darkenLess" w="21600" h="21600">
                <a:moveTo>
                  <a:pt x="0" y="21600"/>
                </a:moveTo>
                <a:arcTo wR="8381" hR="21600" stAng="10800000" swAng="5400000"/>
                <a:lnTo>
                  <a:pt x="8381" y="0"/>
                </a:lnTo>
                <a:arcTo wR="8381" hR="21600" stAng="-5400000" swAng="186722"/>
                <a:lnTo>
                  <a:pt x="9544" y="209"/>
                </a:lnTo>
                <a:arcTo wR="8381" hR="21600" stAng="-5586722" swAng="-5213278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32767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d3333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Po  rot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1600200"/>
            <a:ext cx="2743200" cy="4114800"/>
            <a:chOff x="990720" y="1600200"/>
            <a:chExt cx="2743200" cy="4114800"/>
          </a:xfrm>
        </p:grpSpPr>
        <p:sp>
          <p:nvSpPr>
            <p:cNvPr id="447" name=""/>
            <p:cNvSpPr/>
            <p:nvPr/>
          </p:nvSpPr>
          <p:spPr>
            <a:xfrm>
              <a:off x="1676520" y="25909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81440" y="213372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560" y="2133720"/>
              <a:ext cx="45720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6720" y="2666880"/>
              <a:ext cx="457200" cy="19814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388620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295640" y="289548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7760" y="2819520"/>
              <a:ext cx="30456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68680" y="160020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3720" y="32004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960" y="3886200"/>
              <a:ext cx="533160" cy="12952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904760" y="3505320"/>
              <a:ext cx="30492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38640" y="3505320"/>
              <a:ext cx="38088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14960" y="3200400"/>
              <a:ext cx="533160" cy="459720"/>
            </a:xfrm>
            <a:prstGeom prst="rect">
              <a:avLst/>
            </a:prstGeom>
            <a:noFill/>
            <a:ln w="936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676520" y="5181480"/>
            <a:ext cx="457200" cy="533520"/>
          </a:xfrm>
          <a:prstGeom prst="rect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1066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lewo względem A i w prawo wzgl. 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837360" y="2362320"/>
            <a:ext cx="1676520" cy="685800"/>
          </a:xfrm>
          <a:custGeom>
            <a:avLst/>
            <a:gdLst>
              <a:gd name="textAreaLeft" fmla="*/ 325080 w 1676520"/>
              <a:gd name="textAreaRight" fmla="*/ 11563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1" hR="21600" stAng="10800000" swAng="5400000"/>
                <a:lnTo>
                  <a:pt x="10707" y="0"/>
                </a:lnTo>
                <a:arcTo wR="8381" hR="21600" stAng="-5400000" swAng="2620509"/>
                <a:lnTo>
                  <a:pt x="20983" y="13468"/>
                </a:lnTo>
                <a:lnTo>
                  <a:pt x="17925" y="21600"/>
                </a:lnTo>
                <a:lnTo>
                  <a:pt x="13633" y="13468"/>
                </a:lnTo>
                <a:lnTo>
                  <a:pt x="16145" y="13468"/>
                </a:lnTo>
                <a:arcTo wR="8381" hR="21600" stAng="-2779491" swAng="-2433787"/>
                <a:lnTo>
                  <a:pt x="9544" y="209"/>
                </a:lnTo>
                <a:arcTo wR="8381" hR="21600" stAng="-5586722" swAng="-5213278"/>
                <a:close/>
              </a:path>
              <a:path fill="darkenLess" w="21600" h="21600">
                <a:moveTo>
                  <a:pt x="0" y="21600"/>
                </a:moveTo>
                <a:arcTo wR="8381" hR="21600" stAng="10800000" swAng="5400000"/>
                <a:lnTo>
                  <a:pt x="8381" y="0"/>
                </a:lnTo>
                <a:arcTo wR="8381" hR="21600" stAng="-5400000" swAng="186722"/>
                <a:lnTo>
                  <a:pt x="9544" y="209"/>
                </a:lnTo>
                <a:arcTo wR="8381" hR="21600" stAng="-5586722" swAng="-5213278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562720" y="1600200"/>
            <a:ext cx="3027240" cy="3581280"/>
            <a:chOff x="5562720" y="1600200"/>
            <a:chExt cx="3027240" cy="3581280"/>
          </a:xfrm>
        </p:grpSpPr>
        <p:sp>
          <p:nvSpPr>
            <p:cNvPr id="467" name=""/>
            <p:cNvSpPr/>
            <p:nvPr/>
          </p:nvSpPr>
          <p:spPr>
            <a:xfrm>
              <a:off x="7696080" y="23623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476760" y="2057400"/>
              <a:ext cx="53316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01000" y="2666880"/>
              <a:ext cx="380880" cy="6098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77320" y="3276720"/>
              <a:ext cx="457200" cy="19047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72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38880" y="3352680"/>
              <a:ext cx="457200" cy="12956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91520" y="2057400"/>
              <a:ext cx="457200" cy="30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1700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154720" y="2362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391520" y="2666880"/>
              <a:ext cx="380880" cy="6858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72200" y="2362320"/>
              <a:ext cx="38088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866920" y="2666880"/>
              <a:ext cx="381240" cy="6858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00800" y="2743200"/>
              <a:ext cx="304920" cy="6094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488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0BD-7880-408D-823D-A60530EB5B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14400" y="5181480"/>
            <a:ext cx="77724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4648320"/>
            <a:ext cx="701064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0" y="2286000"/>
            <a:ext cx="1676520" cy="685800"/>
          </a:xfrm>
          <a:custGeom>
            <a:avLst/>
            <a:gdLst>
              <a:gd name="textAreaLeft" fmla="*/ 325080 w 1676520"/>
              <a:gd name="textAreaRight" fmla="*/ 11563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1" hR="21600" stAng="10800000" swAng="5400000"/>
                <a:lnTo>
                  <a:pt x="10707" y="0"/>
                </a:lnTo>
                <a:arcTo wR="8381" hR="21600" stAng="-5400000" swAng="2620509"/>
                <a:lnTo>
                  <a:pt x="20983" y="13468"/>
                </a:lnTo>
                <a:lnTo>
                  <a:pt x="17925" y="21600"/>
                </a:lnTo>
                <a:lnTo>
                  <a:pt x="13633" y="13468"/>
                </a:lnTo>
                <a:lnTo>
                  <a:pt x="16145" y="13468"/>
                </a:lnTo>
                <a:arcTo wR="8381" hR="21600" stAng="-2779491" swAng="-2433787"/>
                <a:lnTo>
                  <a:pt x="9544" y="209"/>
                </a:lnTo>
                <a:arcTo wR="8381" hR="21600" stAng="-5586722" swAng="-5213278"/>
                <a:close/>
              </a:path>
              <a:path fill="darkenLess" w="21600" h="21600">
                <a:moveTo>
                  <a:pt x="0" y="21600"/>
                </a:moveTo>
                <a:arcTo wR="8381" hR="21600" stAng="10800000" swAng="5400000"/>
                <a:lnTo>
                  <a:pt x="8381" y="0"/>
                </a:lnTo>
                <a:arcTo wR="8381" hR="21600" stAng="-5400000" swAng="186722"/>
                <a:lnTo>
                  <a:pt x="9544" y="209"/>
                </a:lnTo>
                <a:arcTo wR="8381" hR="21600" stAng="-5586722" swAng="-5213278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1120" y="32767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d3333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bfae2"/>
                </a:solidFill>
                <a:latin typeface="Times New Roman"/>
              </a:rPr>
              <a:t>Po  rot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10666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prawo względem A i w lewo wzgl. 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370880" y="1447920"/>
            <a:ext cx="1676520" cy="685800"/>
          </a:xfrm>
          <a:custGeom>
            <a:avLst/>
            <a:gdLst>
              <a:gd name="textAreaLeft" fmla="*/ 325080 w 1676520"/>
              <a:gd name="textAreaRight" fmla="*/ 1156320 w 1676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1" hR="21600" stAng="10800000" swAng="5400000"/>
                <a:lnTo>
                  <a:pt x="10707" y="0"/>
                </a:lnTo>
                <a:arcTo wR="8381" hR="21600" stAng="-5400000" swAng="2620509"/>
                <a:lnTo>
                  <a:pt x="20983" y="13468"/>
                </a:lnTo>
                <a:lnTo>
                  <a:pt x="17925" y="21600"/>
                </a:lnTo>
                <a:lnTo>
                  <a:pt x="13633" y="13468"/>
                </a:lnTo>
                <a:lnTo>
                  <a:pt x="16145" y="13468"/>
                </a:lnTo>
                <a:arcTo wR="8381" hR="21600" stAng="-2779491" swAng="-2433787"/>
                <a:lnTo>
                  <a:pt x="9544" y="209"/>
                </a:lnTo>
                <a:arcTo wR="8381" hR="21600" stAng="-5586722" swAng="-5213278"/>
                <a:close/>
              </a:path>
              <a:path fill="darkenLess" w="21600" h="21600">
                <a:moveTo>
                  <a:pt x="0" y="21600"/>
                </a:moveTo>
                <a:arcTo wR="8381" hR="21600" stAng="10800000" swAng="5400000"/>
                <a:lnTo>
                  <a:pt x="8381" y="0"/>
                </a:lnTo>
                <a:arcTo wR="8381" hR="21600" stAng="-5400000" swAng="186722"/>
                <a:lnTo>
                  <a:pt x="9544" y="209"/>
                </a:lnTo>
                <a:arcTo wR="8381" hR="21600" stAng="-5586722" swAng="-5213278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638680" y="1600200"/>
            <a:ext cx="2971800" cy="3581280"/>
            <a:chOff x="5638680" y="1600200"/>
            <a:chExt cx="2971800" cy="3581280"/>
          </a:xfrm>
        </p:grpSpPr>
        <p:sp>
          <p:nvSpPr>
            <p:cNvPr id="490" name=""/>
            <p:cNvSpPr/>
            <p:nvPr/>
          </p:nvSpPr>
          <p:spPr>
            <a:xfrm flipH="1">
              <a:off x="6095160" y="23623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8096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2920" y="2057400"/>
              <a:ext cx="53316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791320" y="2666880"/>
              <a:ext cx="380880" cy="6098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638680" y="3276720"/>
              <a:ext cx="457200" cy="19047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815328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477120" y="3352680"/>
              <a:ext cx="457200" cy="12956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324480" y="2057400"/>
              <a:ext cx="457200" cy="30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5224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0800" y="2666880"/>
              <a:ext cx="380880" cy="6858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20120" y="2362320"/>
              <a:ext cx="38088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39152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924680" y="2666880"/>
              <a:ext cx="381240" cy="6858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467120" y="2743200"/>
              <a:ext cx="304920" cy="6094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2846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dwójna rotacja w lew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990720" y="1676520"/>
            <a:ext cx="2743200" cy="4038480"/>
            <a:chOff x="990720" y="1676520"/>
            <a:chExt cx="2743200" cy="4038480"/>
          </a:xfrm>
        </p:grpSpPr>
        <p:sp>
          <p:nvSpPr>
            <p:cNvPr id="507" name=""/>
            <p:cNvSpPr/>
            <p:nvPr/>
          </p:nvSpPr>
          <p:spPr>
            <a:xfrm flipH="1">
              <a:off x="2666160" y="259092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980360" y="18288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2133720"/>
              <a:ext cx="53316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371240" y="2133720"/>
              <a:ext cx="609480" cy="5331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990720" y="2666880"/>
              <a:ext cx="457200" cy="19814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276720" y="335268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590920" y="3886200"/>
              <a:ext cx="457200" cy="1828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48120" y="2895480"/>
              <a:ext cx="380880" cy="4572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437920" y="2895480"/>
              <a:ext cx="304920" cy="3812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363040" y="1676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208960" y="3200400"/>
              <a:ext cx="38124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675800" y="3886200"/>
              <a:ext cx="533160" cy="12952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14600" y="3505320"/>
              <a:ext cx="30492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905120" y="3505320"/>
              <a:ext cx="38088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828800" y="3124080"/>
              <a:ext cx="533520" cy="459720"/>
            </a:xfrm>
            <a:prstGeom prst="rect">
              <a:avLst/>
            </a:prstGeom>
            <a:noFill/>
            <a:ln w="9360">
              <a:solidFill>
                <a:srgbClr val="fbf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90920" y="5181480"/>
              <a:ext cx="457200" cy="533520"/>
            </a:xfrm>
            <a:prstGeom prst="rect">
              <a:avLst/>
            </a:prstGeom>
            <a:solidFill>
              <a:srgbClr val="cd3333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73240" y="24382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d3333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8F5-AE21-41C9-B215-AEC2C0F1ED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25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a B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stawia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szt utworzenia drzew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Usuwanie elementu z drzewa B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ortowanie z B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o AV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Rotacj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szty oper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9BD-B020-42EF-BD24-E42CD846BA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Ile rotacji trzeba wykonać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5280" y="1828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eśli wkładamy element do drzewa AVL, to musimy wykonać co najwyżej 1 rotację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3400" y="37339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eśli usuwamy element z AVL, to musimy wykonać co najwyżej tyle rotacji ile jest poziomów w drzewi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3809880"/>
            <a:ext cx="1295640" cy="1219320"/>
          </a:xfrm>
          <a:custGeom>
            <a:avLst/>
            <a:gdLst>
              <a:gd name="textAreaLeft" fmla="*/ 214200 w 1295640"/>
              <a:gd name="textAreaRight" fmla="*/ 1081440 w 1295640"/>
              <a:gd name="textAreaTop" fmla="*/ 214200 h 1219320"/>
              <a:gd name="textAreaBottom" fmla="*/ 1005120 h 1219320"/>
            </a:gdLst>
            <a:ahLst/>
            <a:rect l="textAreaLeft" t="textAreaTop" r="textAreaRight" b="textAreaBottom"/>
            <a:pathLst>
              <a:path w="22952" h="21600">
                <a:moveTo>
                  <a:pt x="0" y="0"/>
                </a:moveTo>
                <a:lnTo>
                  <a:pt x="22952" y="0"/>
                </a:lnTo>
                <a:lnTo>
                  <a:pt x="22952" y="21600"/>
                </a:lnTo>
                <a:lnTo>
                  <a:pt x="0" y="21600"/>
                </a:lnTo>
                <a:close/>
              </a:path>
              <a:path fill="lightenLess" w="22952" h="21600">
                <a:moveTo>
                  <a:pt x="0" y="0"/>
                </a:moveTo>
                <a:lnTo>
                  <a:pt x="22952" y="0"/>
                </a:lnTo>
                <a:lnTo>
                  <a:pt x="19155" y="3797"/>
                </a:lnTo>
                <a:lnTo>
                  <a:pt x="3797" y="3797"/>
                </a:lnTo>
                <a:close/>
              </a:path>
              <a:path fill="darken" w="22952" h="21600">
                <a:moveTo>
                  <a:pt x="22952" y="0"/>
                </a:moveTo>
                <a:lnTo>
                  <a:pt x="22952" y="21600"/>
                </a:lnTo>
                <a:lnTo>
                  <a:pt x="19155" y="17803"/>
                </a:lnTo>
                <a:lnTo>
                  <a:pt x="19155" y="3797"/>
                </a:lnTo>
                <a:close/>
              </a:path>
              <a:path fill="darkenLess" w="22952" h="21600">
                <a:moveTo>
                  <a:pt x="22952" y="21600"/>
                </a:moveTo>
                <a:lnTo>
                  <a:pt x="0" y="21600"/>
                </a:lnTo>
                <a:lnTo>
                  <a:pt x="3797" y="17803"/>
                </a:lnTo>
                <a:lnTo>
                  <a:pt x="19155" y="17803"/>
                </a:lnTo>
                <a:close/>
              </a:path>
              <a:path fill="lighten" w="22952" h="21600">
                <a:moveTo>
                  <a:pt x="0" y="21600"/>
                </a:moveTo>
                <a:lnTo>
                  <a:pt x="0" y="0"/>
                </a:lnTo>
                <a:lnTo>
                  <a:pt x="3797" y="3797"/>
                </a:lnTo>
                <a:lnTo>
                  <a:pt x="3797" y="17803"/>
                </a:lnTo>
                <a:close/>
              </a:path>
              <a:path fill="darken" w="22952" h="21600">
                <a:moveTo>
                  <a:pt x="6256" y="8193"/>
                </a:moveTo>
                <a:lnTo>
                  <a:pt x="6937" y="8193"/>
                </a:lnTo>
                <a:lnTo>
                  <a:pt x="7222" y="8466"/>
                </a:lnTo>
                <a:lnTo>
                  <a:pt x="14082" y="8466"/>
                </a:lnTo>
                <a:lnTo>
                  <a:pt x="14497" y="8881"/>
                </a:lnTo>
                <a:lnTo>
                  <a:pt x="14497" y="9289"/>
                </a:lnTo>
                <a:lnTo>
                  <a:pt x="15872" y="9289"/>
                </a:lnTo>
                <a:lnTo>
                  <a:pt x="16144" y="8881"/>
                </a:lnTo>
                <a:lnTo>
                  <a:pt x="16696" y="8881"/>
                </a:lnTo>
                <a:lnTo>
                  <a:pt x="16696" y="12719"/>
                </a:lnTo>
                <a:lnTo>
                  <a:pt x="16144" y="12719"/>
                </a:lnTo>
                <a:lnTo>
                  <a:pt x="15872" y="12311"/>
                </a:lnTo>
                <a:lnTo>
                  <a:pt x="14497" y="12311"/>
                </a:lnTo>
                <a:lnTo>
                  <a:pt x="14497" y="13264"/>
                </a:lnTo>
                <a:lnTo>
                  <a:pt x="7358" y="13264"/>
                </a:lnTo>
                <a:lnTo>
                  <a:pt x="7358" y="10113"/>
                </a:lnTo>
                <a:lnTo>
                  <a:pt x="7222" y="10113"/>
                </a:lnTo>
                <a:lnTo>
                  <a:pt x="6937" y="10385"/>
                </a:lnTo>
                <a:lnTo>
                  <a:pt x="6256" y="10385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ka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981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Koszt 1 rotacji jest stały!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1BE-F219-4A78-8A24-A15AE915E5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operacji w AVL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1523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aka jest minimalna liczba wierzchołków w drzewie AVL o wysokości h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257800" y="1981080"/>
            <a:ext cx="3276720" cy="2133720"/>
            <a:chOff x="5257800" y="1981080"/>
            <a:chExt cx="3276720" cy="2133720"/>
          </a:xfrm>
        </p:grpSpPr>
        <p:sp>
          <p:nvSpPr>
            <p:cNvPr id="532" name=""/>
            <p:cNvSpPr/>
            <p:nvPr/>
          </p:nvSpPr>
          <p:spPr>
            <a:xfrm>
              <a:off x="6781680" y="2133720"/>
              <a:ext cx="30492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171840" y="2362320"/>
              <a:ext cx="6094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23623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62720" y="2971800"/>
              <a:ext cx="1143000" cy="1143000"/>
            </a:xfrm>
            <a:prstGeom prst="flowChartExtra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38880" y="2971800"/>
              <a:ext cx="1067040" cy="838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7800" y="1981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h       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29400" y="2971800"/>
              <a:ext cx="304920" cy="11430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  </a:t>
              </a: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-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9600" y="2971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     </a:t>
              </a: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h-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219320" y="2666880"/>
            <a:ext cx="3047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1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 N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h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N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h-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209680" y="1905120"/>
            <a:ext cx="190512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4038480"/>
            <a:ext cx="3962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ożna udowodnić przez indukcję, że  N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2 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h/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52578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ąd h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2 lg N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952880" y="4419720"/>
            <a:ext cx="1638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niosek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50292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szty operacji  min, member, insert i delete są rzędu O(lg n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BE1-58E4-4601-B901-B78DDD0B8F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stawianie elementu do drzewa BS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5400000">
            <a:off x="347400" y="3767040"/>
            <a:ext cx="2124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514600"/>
            <a:ext cx="4190760" cy="5205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insert : BST</a:t>
            </a:r>
            <a:r>
              <a:rPr b="1" lang="pl-PL" sz="2800" spc="-1" strike="noStrike">
                <a:solidFill>
                  <a:srgbClr val="efb41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ET</a:t>
            </a:r>
            <a:r>
              <a:rPr b="1" lang="pl-PL" sz="2800" spc="-1" strike="noStrike">
                <a:solidFill>
                  <a:srgbClr val="efb41f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B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124080"/>
            <a:ext cx="6324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poczynając od korzenia drzewa D przeglądamy wierzchołki tak, jak w operacji wyszukiwania: Jeśli znajdziemy wierzchołek z etykietą e, to wynikiem operacji jest dane drzewo D. Jeśli e nie jest etykietą drzewa D, to tworzymy nowy wierzchołek z etykietą e i dowiązujemy go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jako lewego syna wierzchołka v takiego, że e&lt; et(v) i LP jest puste lub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jako prawego syna  v, gdy   et(v)&lt; e,  oraz PD jest puste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Zadanie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 zbioru reprezentowanego przez drzewo D dołączyć element  e, o ile nie należy on jeszcze do etykiet  drzewa 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44F-FD4C-4C6B-B266-813B670571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828800"/>
            <a:ext cx="380880" cy="3049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90920" y="1752480"/>
            <a:ext cx="1143000" cy="1219320"/>
            <a:chOff x="2590920" y="1752480"/>
            <a:chExt cx="1143000" cy="1219320"/>
          </a:xfrm>
        </p:grpSpPr>
        <p:sp>
          <p:nvSpPr>
            <p:cNvPr id="102" name=""/>
            <p:cNvSpPr/>
            <p:nvPr/>
          </p:nvSpPr>
          <p:spPr>
            <a:xfrm>
              <a:off x="3353040" y="1752480"/>
              <a:ext cx="38088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666880"/>
              <a:ext cx="38124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95840" y="2057400"/>
              <a:ext cx="5335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1600200"/>
            <a:ext cx="1143000" cy="60948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577388"/>
                <a:lnTo>
                  <a:pt x="20209" y="9113"/>
                </a:lnTo>
                <a:lnTo>
                  <a:pt x="17280" y="21600"/>
                </a:lnTo>
                <a:lnTo>
                  <a:pt x="11569" y="9113"/>
                </a:lnTo>
                <a:lnTo>
                  <a:pt x="13729" y="9113"/>
                </a:lnTo>
                <a:arcTo wR="7560" hR="21600" stAng="-3822612" swAng="-121995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1600200"/>
            <a:ext cx="1143000" cy="609480"/>
          </a:xfrm>
          <a:custGeom>
            <a:avLst/>
            <a:gdLst>
              <a:gd name="textAreaLeft" fmla="*/ 205200 w 1143000"/>
              <a:gd name="textAreaRight" fmla="*/ 802800 w 1143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55" hR="21600" stAng="10800000" swAng="5400000"/>
                <a:lnTo>
                  <a:pt x="11295" y="0"/>
                </a:lnTo>
                <a:arcTo wR="7755" hR="21600" stAng="-5400000" swAng="1262579"/>
                <a:lnTo>
                  <a:pt x="19515" y="6863"/>
                </a:lnTo>
                <a:lnTo>
                  <a:pt x="17280" y="21600"/>
                </a:lnTo>
                <a:lnTo>
                  <a:pt x="10875" y="6863"/>
                </a:lnTo>
                <a:lnTo>
                  <a:pt x="13425" y="6863"/>
                </a:lnTo>
                <a:arcTo wR="7755" hR="21600" stAng="-4137421" swAng="-973918"/>
                <a:lnTo>
                  <a:pt x="9525" y="570"/>
                </a:lnTo>
                <a:arcTo wR="7755" hR="21600" stAng="-5688661" swAng="-5111339"/>
                <a:close/>
              </a:path>
              <a:path fill="darkenLess" w="21600" h="21600">
                <a:moveTo>
                  <a:pt x="0" y="21600"/>
                </a:moveTo>
                <a:arcTo wR="7755" hR="21600" stAng="10800000" swAng="5400000"/>
                <a:lnTo>
                  <a:pt x="7755" y="0"/>
                </a:lnTo>
                <a:arcTo wR="7755" hR="21600" stAng="-5400000" swAng="288661"/>
                <a:lnTo>
                  <a:pt x="9525" y="570"/>
                </a:lnTo>
                <a:arcTo wR="7755" hR="21600" stAng="-5688661" swAng="-5111339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1523880"/>
            <a:ext cx="1143000" cy="609840"/>
          </a:xfrm>
          <a:custGeom>
            <a:avLst/>
            <a:gdLst>
              <a:gd name="textAreaLeft" fmla="*/ 205560 w 1143000"/>
              <a:gd name="textAreaRight" fmla="*/ 801000 w 11430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70" hR="21600" stAng="10800000" swAng="5400000"/>
                <a:lnTo>
                  <a:pt x="11250" y="0"/>
                </a:lnTo>
                <a:arcTo wR="7770" hR="21600" stAng="-5400000" swAng="1495918"/>
                <a:lnTo>
                  <a:pt x="19975" y="8381"/>
                </a:lnTo>
                <a:lnTo>
                  <a:pt x="17280" y="21600"/>
                </a:lnTo>
                <a:lnTo>
                  <a:pt x="11335" y="8381"/>
                </a:lnTo>
                <a:lnTo>
                  <a:pt x="13915" y="8381"/>
                </a:lnTo>
                <a:arcTo wR="7770" hR="21600" stAng="-3904082" swAng="-1212416"/>
                <a:lnTo>
                  <a:pt x="9510" y="549"/>
                </a:lnTo>
                <a:arcTo wR="7770" hR="21600" stAng="-5683502" swAng="-5116498"/>
                <a:close/>
              </a:path>
              <a:path fill="darkenLess" w="21600" h="21600">
                <a:moveTo>
                  <a:pt x="0" y="21600"/>
                </a:moveTo>
                <a:arcTo wR="7770" hR="21600" stAng="10800000" swAng="5400000"/>
                <a:lnTo>
                  <a:pt x="7770" y="0"/>
                </a:lnTo>
                <a:arcTo wR="7770" hR="21600" stAng="-5400000" swAng="283502"/>
                <a:lnTo>
                  <a:pt x="9510" y="549"/>
                </a:lnTo>
                <a:arcTo wR="7770" hR="21600" stAng="-5683502" swAng="-5116498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105520" y="1523880"/>
            <a:ext cx="1675800" cy="1295280"/>
            <a:chOff x="5105520" y="1523880"/>
            <a:chExt cx="1675800" cy="1295280"/>
          </a:xfrm>
        </p:grpSpPr>
        <p:sp>
          <p:nvSpPr>
            <p:cNvPr id="109" name=""/>
            <p:cNvSpPr/>
            <p:nvPr/>
          </p:nvSpPr>
          <p:spPr>
            <a:xfrm>
              <a:off x="5867280" y="1523880"/>
              <a:ext cx="38052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5520" y="2438280"/>
              <a:ext cx="38052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410080" y="1828800"/>
              <a:ext cx="53280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440" y="2514600"/>
              <a:ext cx="38088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1840" y="1752480"/>
              <a:ext cx="45684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47920" y="3809880"/>
            <a:ext cx="2286000" cy="2133720"/>
            <a:chOff x="1447920" y="3809880"/>
            <a:chExt cx="2286000" cy="2133720"/>
          </a:xfrm>
        </p:grpSpPr>
        <p:grpSp>
          <p:nvGrpSpPr>
            <p:cNvPr id="115" name=""/>
            <p:cNvGrpSpPr/>
            <p:nvPr/>
          </p:nvGrpSpPr>
          <p:grpSpPr>
            <a:xfrm>
              <a:off x="1447920" y="3809880"/>
              <a:ext cx="1675800" cy="1295280"/>
              <a:chOff x="1447920" y="3809880"/>
              <a:chExt cx="1675800" cy="129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2209680" y="3809880"/>
                <a:ext cx="380520" cy="3049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7920" y="4724280"/>
                <a:ext cx="380520" cy="3049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752480" y="4114800"/>
                <a:ext cx="532800" cy="6094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42840" y="4800600"/>
                <a:ext cx="380880" cy="30456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14240" y="4038480"/>
                <a:ext cx="45684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352680" y="5638680"/>
              <a:ext cx="38124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5105160"/>
              <a:ext cx="38088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038480" y="3962520"/>
            <a:ext cx="1143000" cy="609480"/>
          </a:xfrm>
          <a:custGeom>
            <a:avLst/>
            <a:gdLst>
              <a:gd name="textAreaLeft" fmla="*/ 212760 w 1143000"/>
              <a:gd name="textAreaRight" fmla="*/ 793800 w 1143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40" hR="21600" stAng="10800000" swAng="5400000"/>
                <a:lnTo>
                  <a:pt x="10980" y="0"/>
                </a:lnTo>
                <a:arcTo wR="8040" hR="21600" stAng="-5400000" swAng="1425045"/>
                <a:lnTo>
                  <a:pt x="19698" y="7650"/>
                </a:lnTo>
                <a:lnTo>
                  <a:pt x="17550" y="21600"/>
                </a:lnTo>
                <a:lnTo>
                  <a:pt x="11598" y="7650"/>
                </a:lnTo>
                <a:lnTo>
                  <a:pt x="14178" y="7650"/>
                </a:lnTo>
                <a:arcTo wR="8040" hR="21600" stAng="-3974955" swAng="-1187455"/>
                <a:lnTo>
                  <a:pt x="9510" y="364"/>
                </a:lnTo>
                <a:arcTo wR="8040" hR="21600" stAng="-5637590" swAng="-5162410"/>
                <a:close/>
              </a:path>
              <a:path fill="darkenLess" w="21600" h="21600">
                <a:moveTo>
                  <a:pt x="0" y="21600"/>
                </a:moveTo>
                <a:arcTo wR="8040" hR="21600" stAng="10800000" swAng="5400000"/>
                <a:lnTo>
                  <a:pt x="8040" y="0"/>
                </a:lnTo>
                <a:arcTo wR="8040" hR="21600" stAng="-5400000" swAng="237590"/>
                <a:lnTo>
                  <a:pt x="9510" y="364"/>
                </a:lnTo>
                <a:arcTo wR="8040" hR="21600" stAng="-5637590" swAng="-5162410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867280" y="3581280"/>
            <a:ext cx="2286000" cy="2286000"/>
            <a:chOff x="5867280" y="3581280"/>
            <a:chExt cx="2286000" cy="2286000"/>
          </a:xfrm>
        </p:grpSpPr>
        <p:grpSp>
          <p:nvGrpSpPr>
            <p:cNvPr id="125" name=""/>
            <p:cNvGrpSpPr/>
            <p:nvPr/>
          </p:nvGrpSpPr>
          <p:grpSpPr>
            <a:xfrm>
              <a:off x="5867280" y="3581280"/>
              <a:ext cx="1676520" cy="1295280"/>
              <a:chOff x="5867280" y="3581280"/>
              <a:chExt cx="1676520" cy="129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629400" y="3581280"/>
                <a:ext cx="380880" cy="3049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7280" y="4495680"/>
                <a:ext cx="380880" cy="30492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171840" y="3886200"/>
                <a:ext cx="533160" cy="6094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62560" y="4572000"/>
                <a:ext cx="381240" cy="30456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402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33960" y="3809880"/>
                <a:ext cx="457200" cy="762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772400" y="5410080"/>
              <a:ext cx="38088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7480" y="4876920"/>
              <a:ext cx="38124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5562720"/>
              <a:ext cx="38088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09920" y="4876920"/>
              <a:ext cx="30492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46F-2D17-456A-A7E6-B330088BBA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wstawi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447920"/>
            <a:ext cx="56386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ool := fals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x:= root 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while not bool 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if   x.et= e then bool := tru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if (e &lt; x.et)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if ( x.lewy &lt;&gt;null) then x := x.lewy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else  y := New node(e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    x.lewy := y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   bool := tru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else {//analogicznie dla prawego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//poddrzewa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fi    }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00800" y="160020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ma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 rot="5400000">
            <a:off x="94680" y="363852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nse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2286000"/>
            <a:ext cx="2438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insert zatrzymuje się dla wszystkich danych początkowych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trzymane w wyniku drzewo ma w zbiorze swoich etykiet 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5410080"/>
            <a:ext cx="1181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486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(n) = O(lg 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DFD-DDF8-4633-9B49-1F58078777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utworzenia drzewa BS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4479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Koszt utworzenia i struktura drzewa zależą od kolejności wkładanych elemen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(n) = O(n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4038480"/>
            <a:ext cx="41911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Średni koszt utworzenia drzewa BST o n wierzchołkach wynosi O(n lg n),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r. uzasadnienie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133720"/>
            <a:ext cx="3810240" cy="1371600"/>
          </a:xfrm>
          <a:prstGeom prst="cloudCallout">
            <a:avLst>
              <a:gd name="adj1" fmla="val -88500"/>
              <a:gd name="adj2" fmla="val 625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gorszy przypadek 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ładane elementy tworzą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iąg  uporządkowa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563040" y="4236840"/>
            <a:ext cx="1806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629400" y="3276720"/>
            <a:ext cx="1752480" cy="2133360"/>
            <a:chOff x="6629400" y="3276720"/>
            <a:chExt cx="1752480" cy="2133360"/>
          </a:xfrm>
        </p:grpSpPr>
        <p:sp>
          <p:nvSpPr>
            <p:cNvPr id="149" name=""/>
            <p:cNvSpPr/>
            <p:nvPr/>
          </p:nvSpPr>
          <p:spPr>
            <a:xfrm>
              <a:off x="8077320" y="3276720"/>
              <a:ext cx="30456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848720" y="3581280"/>
              <a:ext cx="30456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0120" y="3809880"/>
              <a:ext cx="30456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62920" y="4495680"/>
              <a:ext cx="304560" cy="3049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391520" y="4038480"/>
              <a:ext cx="30456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858000" y="4724280"/>
              <a:ext cx="3808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83D-3919-4E74-B527-F1176EAA8C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 utworzenia c.d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160020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wkładane do drzewa  elementy będą permutacją liczb  1...n  i niech prawdopodobieństwo tego, że i-tym elementem jest k będzie takie samo dla wszystkich k=1,2,...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91320" y="2666880"/>
            <a:ext cx="2743200" cy="1676160"/>
            <a:chOff x="5791320" y="2666880"/>
            <a:chExt cx="2743200" cy="1676160"/>
          </a:xfrm>
        </p:grpSpPr>
        <p:sp>
          <p:nvSpPr>
            <p:cNvPr id="159" name=""/>
            <p:cNvSpPr/>
            <p:nvPr/>
          </p:nvSpPr>
          <p:spPr>
            <a:xfrm>
              <a:off x="6934320" y="2666880"/>
              <a:ext cx="30456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324120" y="2971440"/>
              <a:ext cx="6858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62920" y="2971440"/>
              <a:ext cx="83808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3504960"/>
              <a:ext cx="1066680" cy="838080"/>
            </a:xfrm>
            <a:prstGeom prst="flowChartExtra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7480" y="3504960"/>
              <a:ext cx="1067040" cy="838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95280" y="2666880"/>
                <a:ext cx="48769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osz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tworzeni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ddrze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95280" y="441972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343400" y="4038480"/>
            <a:ext cx="137160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114800"/>
            <a:ext cx="76212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657600"/>
            <a:ext cx="358164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ażdy wkładany element jest porównywany z korzeni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105520"/>
                <a:ext cx="3048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019920" y="5181480"/>
            <a:ext cx="23619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Hipoteza :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(i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k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*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g i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815-13CC-4C78-B962-4BD10E4B2E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a usuwania element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1600200"/>
            <a:ext cx="223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402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ECHMath"/>
              </a:rPr>
              <a:t>delete(D, e)</a:t>
            </a:r>
            <a:endParaRPr b="1" lang="en-US" sz="2400" spc="1" strike="noStrike">
              <a:ln w="0">
                <a:noFill/>
              </a:ln>
              <a:solidFill>
                <a:srgbClr val="402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ECHMath"/>
              <a:ea typeface="TECHMath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523880"/>
            <a:ext cx="4190760" cy="5205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delete : BST</a:t>
            </a:r>
            <a:r>
              <a:rPr b="1" lang="pl-PL" sz="2800" spc="-1" strike="noStrike">
                <a:solidFill>
                  <a:srgbClr val="ff9900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Et </a:t>
            </a:r>
            <a:r>
              <a:rPr b="1" lang="pl-PL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B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5400000">
            <a:off x="556920" y="332892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362320"/>
            <a:ext cx="6400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Znajdujemy wierzchołek x o etykiecie e stosując algorytm member i zapamiętujemy jego ojca 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Dalsze postępowanie zależy od liczby następników x: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Usuwamy wierzchołek x, jeśli jest on liściem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Zastępujemy wierzchołek x jego następnikiem, jeśli x ma tylko jednego syna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Zastępujemy etykietę wierzchołka x, najmniejszą etykietą w jego prawym poddrzewie (lub największą w jego lewym poddrzewie), a wierzchołek o tej etykiecie usuwamy z drzewa, stosując zasadę (1) lub(2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E9A-336E-4AE9-AB31-559E7B0E94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Usuwanie -  ilustracja 1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 Przypadek : x nie ma synów, tzn. jest liściem (rz(x)=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181480"/>
            <a:ext cx="5333760" cy="5205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pl-PL" sz="2800" spc="-1" strike="noStrike">
                <a:solidFill>
                  <a:srgbClr val="ffcc00"/>
                </a:solidFill>
                <a:latin typeface="Times New Roman"/>
              </a:rPr>
              <a:t>Usuwamy wierzchołek x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568680" y="2819520"/>
            <a:ext cx="1079640" cy="1752480"/>
            <a:chOff x="3568680" y="2819520"/>
            <a:chExt cx="1079640" cy="1752480"/>
          </a:xfrm>
        </p:grpSpPr>
        <p:sp>
          <p:nvSpPr>
            <p:cNvPr id="180" name=""/>
            <p:cNvSpPr/>
            <p:nvPr/>
          </p:nvSpPr>
          <p:spPr>
            <a:xfrm>
              <a:off x="3568680" y="281952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9120" y="3544920"/>
              <a:ext cx="889200" cy="1027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2840" y="3000240"/>
              <a:ext cx="380880" cy="544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438280" y="274320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95280" y="2895480"/>
            <a:ext cx="1523880" cy="1752480"/>
            <a:chOff x="1295280" y="2895480"/>
            <a:chExt cx="1523880" cy="1752480"/>
          </a:xfrm>
        </p:grpSpPr>
        <p:sp>
          <p:nvSpPr>
            <p:cNvPr id="185" name=""/>
            <p:cNvSpPr/>
            <p:nvPr/>
          </p:nvSpPr>
          <p:spPr>
            <a:xfrm>
              <a:off x="1739880" y="2895480"/>
              <a:ext cx="253800" cy="241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3499920"/>
              <a:ext cx="253800" cy="241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0320" y="3620520"/>
              <a:ext cx="888840" cy="102744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22000" y="3076560"/>
              <a:ext cx="317160" cy="423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4040" y="3076560"/>
              <a:ext cx="380880" cy="543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952880" y="20574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29200" y="2819520"/>
            <a:ext cx="1473120" cy="1712880"/>
            <a:chOff x="5029200" y="2819520"/>
            <a:chExt cx="1473120" cy="1712880"/>
          </a:xfrm>
        </p:grpSpPr>
        <p:sp>
          <p:nvSpPr>
            <p:cNvPr id="192" name=""/>
            <p:cNvSpPr/>
            <p:nvPr/>
          </p:nvSpPr>
          <p:spPr>
            <a:xfrm>
              <a:off x="5778360" y="281952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8520" y="3505320"/>
              <a:ext cx="25380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3505320"/>
              <a:ext cx="888840" cy="1027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486040" y="3000240"/>
              <a:ext cx="291960" cy="581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32520" y="3000240"/>
              <a:ext cx="380880" cy="544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553080" y="28195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86600" y="2819520"/>
            <a:ext cx="1003320" cy="1712880"/>
            <a:chOff x="7086600" y="2819520"/>
            <a:chExt cx="1003320" cy="1712880"/>
          </a:xfrm>
        </p:grpSpPr>
        <p:sp>
          <p:nvSpPr>
            <p:cNvPr id="199" name=""/>
            <p:cNvSpPr/>
            <p:nvPr/>
          </p:nvSpPr>
          <p:spPr>
            <a:xfrm>
              <a:off x="7835760" y="2819520"/>
              <a:ext cx="254160" cy="241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3505320"/>
              <a:ext cx="888840" cy="1027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543440" y="3000240"/>
              <a:ext cx="291960" cy="581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94040" y="3002400"/>
            <a:ext cx="723600" cy="1033560"/>
            <a:chOff x="1094040" y="3002400"/>
            <a:chExt cx="723600" cy="1033560"/>
          </a:xfrm>
        </p:grpSpPr>
        <p:sp>
          <p:nvSpPr>
            <p:cNvPr id="203" name=""/>
            <p:cNvSpPr/>
            <p:nvPr/>
          </p:nvSpPr>
          <p:spPr>
            <a:xfrm>
              <a:off x="1094040" y="3142800"/>
              <a:ext cx="723600" cy="50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306800" y="3002400"/>
              <a:ext cx="19872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970960" y="3078360"/>
            <a:ext cx="723600" cy="1033560"/>
            <a:chOff x="5970960" y="3078360"/>
            <a:chExt cx="723600" cy="1033560"/>
          </a:xfrm>
        </p:grpSpPr>
        <p:sp>
          <p:nvSpPr>
            <p:cNvPr id="206" name=""/>
            <p:cNvSpPr/>
            <p:nvPr/>
          </p:nvSpPr>
          <p:spPr>
            <a:xfrm>
              <a:off x="5970960" y="3218760"/>
              <a:ext cx="723600" cy="50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183720" y="3078360"/>
              <a:ext cx="19872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8  Drzewa BST i AV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072-FC5A-4168-B0E5-177B656095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j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5-12T17:02:59Z</dcterms:modified>
  <cp:revision>80</cp:revision>
  <dc:subject>Drzewa BST  i  AVL</dc:subject>
  <dc:title>ALGORYTMY I STRUKTURY  DANYCH</dc:title>
</cp:coreProperties>
</file>