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2B4D-C794-4EEE-A3E6-A3A392009E5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wód przez sprowadzenie do sprzecznoś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puśćmy, że istnieje  takie drzewo do ktorego krawędz e nie nalezy i którego koszt jest minimalny. Ponieważ w tym drzewie musi istniec droga od v do w to nie przechodzi ona przez krawędz e. Zatem weżmy na tej drodze dwa wierzchołki sąsiednie jeden ze zbioru Vi a drugi nie należący do Vi. Wtedy krawędź (v', w') ,która nie należała do żadnego z drzew danych musi mieć koszt większy niz e. Zastępując krawędź (v',w') krawędzią e otrzymamy drzewo rozpinające o koszcie mniejszym niż wybrane. Sprzecz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C7A-F1C5-4DFD-A47C-F9D5E4E9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B30-A5A5-479C-AF98-24A6FB94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C50-D181-4F2F-A1A6-E4831E41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81B-40C0-4670-A294-855B01FE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E4B4-FF9A-467E-B470-931A5FD4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1739-EE7E-47C5-BDAE-11FEA83B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BC97-FCCD-4FE9-A392-DBE5CD25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34A7-5AA6-45C3-AB62-2A2E8476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1A7C-1181-4578-BE5B-8BECE2AD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5433-95EA-49BF-B846-4989A1E0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2A6F-492C-4D8D-9DE4-20B96F8E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331-470E-4F7A-9810-AAF1DC6D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4F08-5AAA-4D75-AE53-41EA9D25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2906-46C7-4380-BDE4-B21A09C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E591-82BE-43F8-83D6-62272C0B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A623-FEB8-41FA-B73A-C852C420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9EC7-E417-4441-9644-0E344049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003-5C4A-4E24-8594-E3D10096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9D9-2AA5-4437-AD01-8DB7AB12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CD5-1F4E-4E2F-B99B-32163737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C97-8E70-41E0-8A0C-A82FC4CF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686-332D-460D-8E41-80F02C5E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DB3-3EDE-4F36-8D0B-BF8F288C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E3E-3822-4B8B-9959-611AA87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02AF-CB7C-46AF-AD5C-E9E4AA710239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447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A352-EF36-4D55-8EF8-A06613991099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WYKŁAD 11  Algorytmy  na grafach - </a:t>
            </a:r>
            <a:br>
              <a:rPr sz="2000"/>
            </a:b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metoda zachłanna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PJWSTK,  semestr letni 2003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Kruskal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 rot="5400000">
            <a:off x="56520" y="3905280"/>
            <a:ext cx="28191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lgoryt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2867040"/>
            <a:ext cx="6553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tworzyć kolejkę priorytetową PQ z wszystkimi krawędziami grafu, uporządkowanymi ze względu na koszt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tworzyć początkowy podział  P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zbioru V jako rodzinę jednoelementowych zbiorów {x}, gdzie x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V (stanowiący las początkowy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eglądać kolejno elementy kolejki i jeżeli końce rozważanej  krawędzi należą do różnych zbiorów podziału, to krawędź dołączyć do tworzonego drzewa, a zbiory podziału połączyć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3880" y="1370520"/>
            <a:ext cx="70866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śli drzewo rozpinające ma mieć koszt  minimalny i ma zawierać dany las  drzew, to musi też zawierać krawędź e, której koszt jest najmniejszy wśród wszystkich krawędzi nie należących do żadnego z drze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46E-76E7-4AD0-B338-82CC175118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143000" y="1523880"/>
            <a:ext cx="3682800" cy="3367080"/>
            <a:chOff x="1143000" y="1523880"/>
            <a:chExt cx="3682800" cy="3367080"/>
          </a:xfrm>
        </p:grpSpPr>
        <p:sp>
          <p:nvSpPr>
            <p:cNvPr id="398" name=""/>
            <p:cNvSpPr/>
            <p:nvPr/>
          </p:nvSpPr>
          <p:spPr>
            <a:xfrm>
              <a:off x="2590560" y="16128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2680" y="214632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2680" y="313668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1960" y="36702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23880" y="45846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76160" y="25272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43000" y="3593880"/>
              <a:ext cx="30456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04760" y="1689120"/>
              <a:ext cx="762120" cy="838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280" y="3898800"/>
              <a:ext cx="22860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752480" y="3898440"/>
              <a:ext cx="68580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81280" y="2450880"/>
              <a:ext cx="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666880" y="3441600"/>
              <a:ext cx="8380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1371600" y="2755800"/>
              <a:ext cx="304560" cy="838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1828800" y="2755800"/>
              <a:ext cx="76176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1981080" y="2755800"/>
              <a:ext cx="13716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904760" y="2374920"/>
              <a:ext cx="144792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71800" y="1765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81280" y="2527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7760" y="3593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71600" y="40510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33560" y="389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04760" y="1993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43200" y="22986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19160" y="3060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0" y="32130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95280" y="29844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4203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5480" y="1828800"/>
              <a:ext cx="1409760" cy="1460520"/>
            </a:xfrm>
            <a:custGeom>
              <a:avLst/>
              <a:gdLst/>
              <a:ahLst/>
              <a:rect l="l" t="t" r="r" b="b"/>
              <a:pathLst>
                <a:path w="888" h="920">
                  <a:moveTo>
                    <a:pt x="0" y="8"/>
                  </a:moveTo>
                  <a:cubicBezTo>
                    <a:pt x="216" y="4"/>
                    <a:pt x="432" y="0"/>
                    <a:pt x="576" y="104"/>
                  </a:cubicBezTo>
                  <a:cubicBezTo>
                    <a:pt x="720" y="208"/>
                    <a:pt x="888" y="496"/>
                    <a:pt x="864" y="632"/>
                  </a:cubicBezTo>
                  <a:cubicBezTo>
                    <a:pt x="840" y="768"/>
                    <a:pt x="504" y="872"/>
                    <a:pt x="432" y="920"/>
                  </a:cubicBezTo>
                </a:path>
              </a:pathLst>
            </a:custGeom>
            <a:noFill/>
            <a:ln w="3168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90560" y="1523880"/>
              <a:ext cx="2235240" cy="2781360"/>
            </a:xfrm>
            <a:custGeom>
              <a:avLst/>
              <a:gdLst/>
              <a:ahLst/>
              <a:rect l="l" t="t" r="r" b="b"/>
              <a:pathLst>
                <a:path w="1408" h="1752">
                  <a:moveTo>
                    <a:pt x="192" y="104"/>
                  </a:moveTo>
                  <a:cubicBezTo>
                    <a:pt x="480" y="52"/>
                    <a:pt x="768" y="0"/>
                    <a:pt x="960" y="152"/>
                  </a:cubicBezTo>
                  <a:cubicBezTo>
                    <a:pt x="1152" y="304"/>
                    <a:pt x="1408" y="768"/>
                    <a:pt x="1344" y="1016"/>
                  </a:cubicBezTo>
                  <a:cubicBezTo>
                    <a:pt x="1280" y="1264"/>
                    <a:pt x="768" y="1528"/>
                    <a:pt x="576" y="1640"/>
                  </a:cubicBezTo>
                  <a:cubicBezTo>
                    <a:pt x="384" y="1752"/>
                    <a:pt x="288" y="1704"/>
                    <a:pt x="192" y="1688"/>
                  </a:cubicBezTo>
                  <a:cubicBezTo>
                    <a:pt x="96" y="1672"/>
                    <a:pt x="32" y="1568"/>
                    <a:pt x="0" y="1544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724280" y="1424160"/>
            <a:ext cx="1295640" cy="4559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(1,2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(1,4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.(2,3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. (1,3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5.(4,5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6. (3,5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7. (1,5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7. (6,7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8. (1,6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0. (7,4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5. (4,3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1522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| 2| 3| 4| 5| 6|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2056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, 2| 3| 4| 5| 6|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53080" y="2513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, 2, 4| 3| 5| 6|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2894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, 2, 3, 4| 5| 6|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53080" y="335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, 2, 3, 4, 5| 6|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29400" y="426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, 2, 3, 4, 5| 6,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479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, 2, 3, 4, 5, 6,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51271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Kolejka Priorytetow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505320" y="4495320"/>
            <a:ext cx="990360" cy="76212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24480" y="5493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Podzia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518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14468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67280" y="1904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67280" y="2361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867280" y="3199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67280" y="4266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4799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982880" y="2360160"/>
            <a:ext cx="1371600" cy="30492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05120" y="2819520"/>
            <a:ext cx="685800" cy="83808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81280" y="2438280"/>
            <a:ext cx="0" cy="68580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1600200"/>
            <a:ext cx="2158920" cy="2666880"/>
          </a:xfrm>
          <a:custGeom>
            <a:avLst/>
            <a:gdLst/>
            <a:ahLst/>
            <a:rect l="l" t="t" r="r" b="b"/>
            <a:pathLst>
              <a:path w="1360" h="1680">
                <a:moveTo>
                  <a:pt x="0" y="1488"/>
                </a:moveTo>
                <a:cubicBezTo>
                  <a:pt x="28" y="1548"/>
                  <a:pt x="56" y="1608"/>
                  <a:pt x="144" y="1632"/>
                </a:cubicBezTo>
                <a:cubicBezTo>
                  <a:pt x="232" y="1656"/>
                  <a:pt x="392" y="1680"/>
                  <a:pt x="528" y="1632"/>
                </a:cubicBezTo>
                <a:cubicBezTo>
                  <a:pt x="664" y="1584"/>
                  <a:pt x="832" y="1432"/>
                  <a:pt x="960" y="1344"/>
                </a:cubicBezTo>
                <a:cubicBezTo>
                  <a:pt x="1088" y="1256"/>
                  <a:pt x="1232" y="1168"/>
                  <a:pt x="1296" y="1104"/>
                </a:cubicBezTo>
                <a:cubicBezTo>
                  <a:pt x="1360" y="1040"/>
                  <a:pt x="1352" y="1056"/>
                  <a:pt x="1344" y="960"/>
                </a:cubicBezTo>
                <a:cubicBezTo>
                  <a:pt x="1336" y="864"/>
                  <a:pt x="1312" y="672"/>
                  <a:pt x="1248" y="528"/>
                </a:cubicBezTo>
                <a:cubicBezTo>
                  <a:pt x="1184" y="384"/>
                  <a:pt x="1056" y="176"/>
                  <a:pt x="960" y="96"/>
                </a:cubicBezTo>
                <a:cubicBezTo>
                  <a:pt x="864" y="16"/>
                  <a:pt x="744" y="64"/>
                  <a:pt x="672" y="48"/>
                </a:cubicBezTo>
                <a:cubicBezTo>
                  <a:pt x="600" y="32"/>
                  <a:pt x="608" y="0"/>
                  <a:pt x="528" y="0"/>
                </a:cubicBezTo>
                <a:cubicBezTo>
                  <a:pt x="448" y="0"/>
                  <a:pt x="248" y="40"/>
                  <a:pt x="192" y="48"/>
                </a:cubicBezTo>
              </a:path>
            </a:pathLst>
          </a:custGeom>
          <a:noFill/>
          <a:ln w="38160">
            <a:solidFill>
              <a:srgbClr val="ff19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3886200"/>
            <a:ext cx="228600" cy="76212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371240" y="2819520"/>
            <a:ext cx="304920" cy="83808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792-47B2-466A-98B3-517BE3AB416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1447920"/>
            <a:ext cx="716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kładam, że  1. pq jest kolejką priorytetową wszystkich krawędzi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ego grafu  G = &lt;V, E&gt;,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2. P jest początkowym podziałem zbioru V,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3. T pustym stosem (będą tam krawędzie drzew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2743200"/>
            <a:ext cx="5486400" cy="344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while (not empty (pq) and card(P)&gt;1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kr := min(p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pq := delmin(p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A := Find(P,kr.początek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B := Find(P,kr.koniec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if A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 then  P := Union(P,B,A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T := push(T,kr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d 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38680" y="3124080"/>
            <a:ext cx="2971800" cy="1065240"/>
          </a:xfrm>
          <a:prstGeom prst="wedgeRoundRectCallout">
            <a:avLst>
              <a:gd name="adj1" fmla="val -80287"/>
              <a:gd name="adj2" fmla="val 58194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ind (P,x) = ten zbiór podziału P do którego należy x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8680" y="4724280"/>
            <a:ext cx="3276720" cy="1219320"/>
          </a:xfrm>
          <a:prstGeom prst="wedgeRoundRectCallout">
            <a:avLst>
              <a:gd name="adj1" fmla="val -74856"/>
              <a:gd name="adj2" fmla="val -31768"/>
              <a:gd name="adj3" fmla="val 16667"/>
            </a:avLst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nion(P,B,A) = podział powstający z P przez połączenie zbiorów A i B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8E6-662B-4D9A-A0D0-EDE54FF48C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Jak to zaimplementować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 rot="5400000">
            <a:off x="7222680" y="4968720"/>
            <a:ext cx="1327320" cy="381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Kosz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8" name=""/>
          <p:cNvSpPr/>
          <p:nvPr/>
        </p:nvSpPr>
        <p:spPr>
          <a:xfrm>
            <a:off x="1600200" y="4191120"/>
            <a:ext cx="5715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utworzenia kolejki priorytetowej – O(m lg m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 2m operacji Find O(lg(n)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 m operacji Union  O(1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19320" y="5486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Razem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O(m lg 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19320" y="15238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a z balansowaniem i kompresją ścieże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9144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Struktura Find-Un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895120" y="1981080"/>
            <a:ext cx="838800" cy="914400"/>
            <a:chOff x="2895120" y="1981080"/>
            <a:chExt cx="838800" cy="914400"/>
          </a:xfrm>
        </p:grpSpPr>
        <p:sp>
          <p:nvSpPr>
            <p:cNvPr id="463" name=""/>
            <p:cNvSpPr/>
            <p:nvPr/>
          </p:nvSpPr>
          <p:spPr>
            <a:xfrm flipH="1">
              <a:off x="2895120" y="2286000"/>
              <a:ext cx="304920" cy="533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00400" y="2286000"/>
              <a:ext cx="380880" cy="609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004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733920" y="1905120"/>
            <a:ext cx="0" cy="2057400"/>
          </a:xfrm>
          <a:prstGeom prst="line">
            <a:avLst/>
          </a:prstGeom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371240" y="1905120"/>
            <a:ext cx="1295640" cy="2057400"/>
            <a:chOff x="1371240" y="1905120"/>
            <a:chExt cx="1295640" cy="2057400"/>
          </a:xfrm>
        </p:grpSpPr>
        <p:sp>
          <p:nvSpPr>
            <p:cNvPr id="468" name=""/>
            <p:cNvSpPr/>
            <p:nvPr/>
          </p:nvSpPr>
          <p:spPr>
            <a:xfrm>
              <a:off x="205740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1371240" y="2209680"/>
              <a:ext cx="609480" cy="53352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81080" y="2209680"/>
              <a:ext cx="381240" cy="6098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133360" y="2819520"/>
              <a:ext cx="228600" cy="6094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81080" y="2209680"/>
              <a:ext cx="685800" cy="4572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752120" y="3429000"/>
              <a:ext cx="381240" cy="4572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3429000"/>
              <a:ext cx="304560" cy="53352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885840" y="1905120"/>
            <a:ext cx="1905480" cy="2057400"/>
            <a:chOff x="3885840" y="1905120"/>
            <a:chExt cx="1905480" cy="2057400"/>
          </a:xfrm>
        </p:grpSpPr>
        <p:grpSp>
          <p:nvGrpSpPr>
            <p:cNvPr id="476" name=""/>
            <p:cNvGrpSpPr/>
            <p:nvPr/>
          </p:nvGrpSpPr>
          <p:grpSpPr>
            <a:xfrm>
              <a:off x="3885840" y="2209680"/>
              <a:ext cx="1295640" cy="1218960"/>
              <a:chOff x="3885840" y="2209680"/>
              <a:chExt cx="1295640" cy="1218960"/>
            </a:xfrm>
          </p:grpSpPr>
          <p:sp>
            <p:nvSpPr>
              <p:cNvPr id="477" name=""/>
              <p:cNvSpPr/>
              <p:nvPr/>
            </p:nvSpPr>
            <p:spPr>
              <a:xfrm flipH="1">
                <a:off x="3885840" y="2209680"/>
                <a:ext cx="609480" cy="533160"/>
              </a:xfrm>
              <a:prstGeom prst="line">
                <a:avLst/>
              </a:prstGeom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95680" y="2209680"/>
                <a:ext cx="381240" cy="609480"/>
              </a:xfrm>
              <a:prstGeom prst="line">
                <a:avLst/>
              </a:prstGeom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4647960" y="2819160"/>
                <a:ext cx="228600" cy="609480"/>
              </a:xfrm>
              <a:prstGeom prst="line">
                <a:avLst/>
              </a:prstGeom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95680" y="2209680"/>
                <a:ext cx="685800" cy="457200"/>
              </a:xfrm>
              <a:prstGeom prst="line">
                <a:avLst/>
              </a:prstGeom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457200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105520" y="2590920"/>
              <a:ext cx="304560" cy="533160"/>
            </a:xfrm>
            <a:prstGeom prst="line">
              <a:avLst/>
            </a:prstGeom>
            <a:ln w="12600">
              <a:solidFill>
                <a:srgbClr val="ff1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410080" y="2590920"/>
              <a:ext cx="381240" cy="609480"/>
            </a:xfrm>
            <a:prstGeom prst="line">
              <a:avLst/>
            </a:prstGeom>
            <a:ln w="12600">
              <a:solidFill>
                <a:srgbClr val="ff1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2209680"/>
              <a:ext cx="914400" cy="3812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4266720" y="3429000"/>
              <a:ext cx="381240" cy="4572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48320" y="3429000"/>
              <a:ext cx="304560" cy="53352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4648320" y="3352680"/>
            <a:ext cx="304560" cy="533520"/>
          </a:xfrm>
          <a:prstGeom prst="line">
            <a:avLst/>
          </a:prstGeom>
          <a:ln w="12600">
            <a:solidFill>
              <a:srgbClr val="32c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647960" y="2819520"/>
            <a:ext cx="228600" cy="609480"/>
          </a:xfrm>
          <a:prstGeom prst="line">
            <a:avLst/>
          </a:prstGeom>
          <a:ln w="12600">
            <a:solidFill>
              <a:srgbClr val="32c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95680" y="2209680"/>
            <a:ext cx="381240" cy="609840"/>
          </a:xfrm>
          <a:prstGeom prst="line">
            <a:avLst/>
          </a:prstGeom>
          <a:ln w="12600">
            <a:solidFill>
              <a:srgbClr val="32c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1828800"/>
            <a:ext cx="0" cy="2286000"/>
          </a:xfrm>
          <a:prstGeom prst="line">
            <a:avLst/>
          </a:prstGeom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df833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00600" y="2743200"/>
            <a:ext cx="152280" cy="152280"/>
          </a:xfrm>
          <a:prstGeom prst="ellipse">
            <a:avLst/>
          </a:prstGeom>
          <a:solidFill>
            <a:srgbClr val="32c8d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857640" y="1905120"/>
            <a:ext cx="1905480" cy="1600200"/>
            <a:chOff x="6857640" y="1905120"/>
            <a:chExt cx="1905480" cy="1600200"/>
          </a:xfrm>
        </p:grpSpPr>
        <p:sp>
          <p:nvSpPr>
            <p:cNvPr id="495" name=""/>
            <p:cNvSpPr/>
            <p:nvPr/>
          </p:nvSpPr>
          <p:spPr>
            <a:xfrm flipH="1">
              <a:off x="6857640" y="2362320"/>
              <a:ext cx="609480" cy="53316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67480" y="2362320"/>
              <a:ext cx="381240" cy="609480"/>
            </a:xfrm>
            <a:prstGeom prst="line">
              <a:avLst/>
            </a:prstGeom>
            <a:ln w="12600">
              <a:solidFill>
                <a:srgbClr val="32c8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38520" y="2438280"/>
              <a:ext cx="228600" cy="609840"/>
            </a:xfrm>
            <a:prstGeom prst="line">
              <a:avLst/>
            </a:prstGeom>
            <a:ln w="12600">
              <a:solidFill>
                <a:srgbClr val="32c8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67480" y="2362320"/>
              <a:ext cx="685800" cy="45720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58000" y="3048120"/>
              <a:ext cx="380880" cy="45720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67480" y="2362320"/>
              <a:ext cx="0" cy="685800"/>
            </a:xfrm>
            <a:prstGeom prst="line">
              <a:avLst/>
            </a:prstGeom>
            <a:ln w="12600">
              <a:solidFill>
                <a:srgbClr val="32c8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91520" y="3048120"/>
              <a:ext cx="152280" cy="15228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91520" y="1905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67480" y="2362320"/>
              <a:ext cx="914400" cy="3808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81880" y="2743200"/>
              <a:ext cx="381240" cy="609480"/>
            </a:xfrm>
            <a:prstGeom prst="line">
              <a:avLst/>
            </a:prstGeom>
            <a:ln w="12600">
              <a:solidFill>
                <a:srgbClr val="ff1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077320" y="2743200"/>
              <a:ext cx="304560" cy="533520"/>
            </a:xfrm>
            <a:prstGeom prst="line">
              <a:avLst/>
            </a:prstGeom>
            <a:ln w="12600">
              <a:solidFill>
                <a:srgbClr val="ff19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62920" y="2971800"/>
              <a:ext cx="152280" cy="152280"/>
            </a:xfrm>
            <a:prstGeom prst="ellipse">
              <a:avLst/>
            </a:prstGeom>
            <a:solidFill>
              <a:srgbClr val="fdf833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72400" y="2895480"/>
              <a:ext cx="152280" cy="152640"/>
            </a:xfrm>
            <a:prstGeom prst="ellipse">
              <a:avLst/>
            </a:prstGeom>
            <a:solidFill>
              <a:srgbClr val="32c8d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28B-A0E7-4309-A2B1-4946A3C05A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oblem ścieżek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 rot="5400000">
            <a:off x="571320" y="217152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0" name=""/>
          <p:cNvSpPr/>
          <p:nvPr/>
        </p:nvSpPr>
        <p:spPr>
          <a:xfrm>
            <a:off x="2057400" y="16765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y jest graf G = &lt;V, E&gt; i jego funkcja kosztu c : 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R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57400" y="243828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leźć najkrótsze drogi od ustalonego wierzchołka (źródła) do wszystkich innych wierzchołk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447920" y="3505320"/>
            <a:ext cx="2819160" cy="2743200"/>
            <a:chOff x="1447920" y="3505320"/>
            <a:chExt cx="2819160" cy="2743200"/>
          </a:xfrm>
        </p:grpSpPr>
        <p:sp>
          <p:nvSpPr>
            <p:cNvPr id="513" name=""/>
            <p:cNvSpPr/>
            <p:nvPr/>
          </p:nvSpPr>
          <p:spPr>
            <a:xfrm>
              <a:off x="2514600" y="350532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5320" y="3809880"/>
              <a:ext cx="30456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05320" y="4800600"/>
              <a:ext cx="30456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14600" y="533412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00200" y="495288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14600" y="441972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3962520"/>
              <a:ext cx="30456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1981080" y="3733920"/>
              <a:ext cx="53352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657600"/>
              <a:ext cx="6858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52480" y="4267080"/>
              <a:ext cx="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28800" y="5181480"/>
              <a:ext cx="68580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733920" y="4114800"/>
              <a:ext cx="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2819520" y="5105520"/>
              <a:ext cx="8380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81080" y="4191120"/>
              <a:ext cx="53352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66880" y="3809880"/>
              <a:ext cx="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904760" y="4648320"/>
              <a:ext cx="6858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66880" y="4724280"/>
              <a:ext cx="76320" cy="609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2819160" y="4647960"/>
              <a:ext cx="6858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2742840" y="4038480"/>
              <a:ext cx="76212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81080" y="36576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8120" y="35053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33920" y="41911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00400" y="5257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81080" y="53341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47920" y="44197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574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66880" y="39625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00400" y="4114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71800" y="4724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6880" y="5029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81080" y="4648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52480" y="5029200"/>
              <a:ext cx="2146320" cy="1219320"/>
            </a:xfrm>
            <a:custGeom>
              <a:avLst/>
              <a:gdLst/>
              <a:ahLst/>
              <a:rect l="l" t="t" r="r" b="b"/>
              <a:pathLst>
                <a:path w="1352" h="768">
                  <a:moveTo>
                    <a:pt x="0" y="96"/>
                  </a:moveTo>
                  <a:cubicBezTo>
                    <a:pt x="68" y="384"/>
                    <a:pt x="136" y="672"/>
                    <a:pt x="336" y="720"/>
                  </a:cubicBezTo>
                  <a:cubicBezTo>
                    <a:pt x="536" y="768"/>
                    <a:pt x="1048" y="504"/>
                    <a:pt x="1200" y="384"/>
                  </a:cubicBezTo>
                  <a:cubicBezTo>
                    <a:pt x="1352" y="264"/>
                    <a:pt x="1240" y="64"/>
                    <a:pt x="1248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86000" y="5867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5181480" y="3581280"/>
            <a:ext cx="3200400" cy="1219320"/>
          </a:xfrm>
          <a:prstGeom prst="wedgeRoundRectCallout">
            <a:avLst>
              <a:gd name="adj1" fmla="val -83629"/>
              <a:gd name="adj2" fmla="val -118620"/>
              <a:gd name="adj3" fmla="val 16667"/>
            </a:avLst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uma kosztów krawędzi leżących na tej drodze  jest najmniejsz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981080" y="3657600"/>
            <a:ext cx="609840" cy="380880"/>
          </a:xfrm>
          <a:prstGeom prst="line">
            <a:avLst/>
          </a:prstGeom>
          <a:ln w="12600">
            <a:solidFill>
              <a:srgbClr val="ff19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4267080"/>
            <a:ext cx="0" cy="685800"/>
          </a:xfrm>
          <a:prstGeom prst="line">
            <a:avLst/>
          </a:prstGeom>
          <a:ln w="12600">
            <a:solidFill>
              <a:srgbClr val="ff19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666880" y="3809880"/>
            <a:ext cx="0" cy="685800"/>
          </a:xfrm>
          <a:prstGeom prst="line">
            <a:avLst/>
          </a:prstGeom>
          <a:ln w="12600">
            <a:solidFill>
              <a:srgbClr val="32c8d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04760" y="4648320"/>
            <a:ext cx="685800" cy="457200"/>
          </a:xfrm>
          <a:prstGeom prst="line">
            <a:avLst/>
          </a:prstGeom>
          <a:ln w="12600">
            <a:solidFill>
              <a:srgbClr val="32c8d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1B9-A4EC-47D6-8B12-C80EDD99DC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Metoda Dijkstry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52480" y="2209680"/>
            <a:ext cx="63248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 kolejnych etapach algorytmu zbiór wierzchołków osiągalnych ze źródła jest powiększany o wierzchołki incydentne z ostatnio dołączonymi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Zawsze staramy się by dołączać te wierzchołki, których osiągnięcie wymaga najmniejszego kosztu (które znajdują się „najbliżej” zródł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741-31C0-4E66-B0BD-BDB68BA4013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truktura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167652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ablica d (1: n)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[i] = długość najkrótszej ścieżki miedzy źródłem s,  a wierzchołkiem i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2133720"/>
            <a:ext cx="42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a początku d[i] = c(s,i), jeśli  (s,i)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,  d[i] = +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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w p.p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95280" y="281952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ablica  P(1:n)   P[i] = ojciec wierzchołka i na najkrótszej ścieżce od s do i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3657600"/>
            <a:ext cx="4495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biór wierzchołków S1 osiągalnych z 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4114800"/>
            <a:ext cx="44956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biór S2 wierzchołków osiągalnych z S1, S2 = {y : istnieje x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1, że (x,y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}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19320" y="4876920"/>
            <a:ext cx="449568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biór wierzchołków S3, których jeszcze nie sklasyfikowano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a początku  S1 = {s}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19920" y="48006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a początku S3 = V-{s}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C89-CB73-4CBD-8269-C67B048A57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19320" y="1523880"/>
            <a:ext cx="3276360" cy="2851920"/>
            <a:chOff x="1219320" y="1523880"/>
            <a:chExt cx="3276360" cy="2851920"/>
          </a:xfrm>
        </p:grpSpPr>
        <p:sp>
          <p:nvSpPr>
            <p:cNvPr id="564" name=""/>
            <p:cNvSpPr/>
            <p:nvPr/>
          </p:nvSpPr>
          <p:spPr>
            <a:xfrm>
              <a:off x="2133720" y="169524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2680" y="1695240"/>
              <a:ext cx="30492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91120" y="2551320"/>
              <a:ext cx="304560" cy="34236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05320" y="375084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09680" y="3750840"/>
              <a:ext cx="30492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19320" y="272304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19520" y="2294640"/>
              <a:ext cx="304560" cy="34236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76720" y="298008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38280" y="2980080"/>
              <a:ext cx="30492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666520" y="2551320"/>
              <a:ext cx="22860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24080" y="2551320"/>
              <a:ext cx="30492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3200" y="3151080"/>
              <a:ext cx="5335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14600" y="25513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00400" y="24660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19520" y="30654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38280" y="1866240"/>
              <a:ext cx="91440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38280" y="1952280"/>
              <a:ext cx="457200" cy="4280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123720" y="2037600"/>
              <a:ext cx="381240" cy="34236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657600" y="1952280"/>
              <a:ext cx="609480" cy="5990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447560" y="1952280"/>
              <a:ext cx="685800" cy="77076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47920" y="3065400"/>
              <a:ext cx="761760" cy="8564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14600" y="4007520"/>
              <a:ext cx="9907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3809880" y="2894040"/>
              <a:ext cx="533520" cy="94176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362320" y="3322080"/>
              <a:ext cx="15228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3504960" y="3322080"/>
              <a:ext cx="15228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23880" y="2980080"/>
              <a:ext cx="990720" cy="1710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3581280" y="2808000"/>
              <a:ext cx="609840" cy="2566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66880" y="15238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62520" y="20376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38480" y="323676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19520" y="40075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05320" y="323676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33920" y="25513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24080" y="19522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90920" y="18662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23880" y="20376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23880" y="34081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27230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38280" y="33220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914400" y="4648320"/>
            <a:ext cx="4191120" cy="1084680"/>
            <a:chOff x="914400" y="4648320"/>
            <a:chExt cx="4191120" cy="1084680"/>
          </a:xfrm>
        </p:grpSpPr>
        <p:sp>
          <p:nvSpPr>
            <p:cNvPr id="604" name=""/>
            <p:cNvSpPr/>
            <p:nvPr/>
          </p:nvSpPr>
          <p:spPr>
            <a:xfrm>
              <a:off x="914400" y="5029200"/>
              <a:ext cx="39625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95280" y="4648320"/>
              <a:ext cx="381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A   B   C   D   E   F   G   H   I   J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765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5740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623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74320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240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8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911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956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52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5334120"/>
              <a:ext cx="39625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144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14400" y="53341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133720" y="1676520"/>
            <a:ext cx="304560" cy="304560"/>
          </a:xfrm>
          <a:prstGeom prst="ellipse">
            <a:avLst/>
          </a:prstGeom>
          <a:solidFill>
            <a:srgbClr val="ff1907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280120" y="1843200"/>
            <a:ext cx="1401840" cy="1296720"/>
          </a:xfrm>
          <a:custGeom>
            <a:avLst/>
            <a:gdLst/>
            <a:ahLst/>
            <a:rect l="l" t="t" r="r" b="b"/>
            <a:pathLst>
              <a:path w="883" h="817">
                <a:moveTo>
                  <a:pt x="445" y="45"/>
                </a:moveTo>
                <a:cubicBezTo>
                  <a:pt x="380" y="88"/>
                  <a:pt x="305" y="216"/>
                  <a:pt x="265" y="288"/>
                </a:cubicBezTo>
                <a:cubicBezTo>
                  <a:pt x="238" y="337"/>
                  <a:pt x="261" y="316"/>
                  <a:pt x="211" y="351"/>
                </a:cubicBezTo>
                <a:cubicBezTo>
                  <a:pt x="193" y="363"/>
                  <a:pt x="157" y="387"/>
                  <a:pt x="157" y="387"/>
                </a:cubicBezTo>
                <a:cubicBezTo>
                  <a:pt x="151" y="396"/>
                  <a:pt x="146" y="406"/>
                  <a:pt x="139" y="414"/>
                </a:cubicBezTo>
                <a:cubicBezTo>
                  <a:pt x="128" y="427"/>
                  <a:pt x="113" y="436"/>
                  <a:pt x="103" y="450"/>
                </a:cubicBezTo>
                <a:cubicBezTo>
                  <a:pt x="97" y="458"/>
                  <a:pt x="98" y="469"/>
                  <a:pt x="94" y="477"/>
                </a:cubicBezTo>
                <a:cubicBezTo>
                  <a:pt x="80" y="504"/>
                  <a:pt x="66" y="533"/>
                  <a:pt x="49" y="558"/>
                </a:cubicBezTo>
                <a:cubicBezTo>
                  <a:pt x="38" y="603"/>
                  <a:pt x="15" y="638"/>
                  <a:pt x="4" y="684"/>
                </a:cubicBezTo>
                <a:cubicBezTo>
                  <a:pt x="7" y="708"/>
                  <a:pt x="0" y="736"/>
                  <a:pt x="13" y="756"/>
                </a:cubicBezTo>
                <a:cubicBezTo>
                  <a:pt x="29" y="780"/>
                  <a:pt x="103" y="801"/>
                  <a:pt x="130" y="810"/>
                </a:cubicBezTo>
                <a:cubicBezTo>
                  <a:pt x="223" y="804"/>
                  <a:pt x="255" y="817"/>
                  <a:pt x="319" y="774"/>
                </a:cubicBezTo>
                <a:cubicBezTo>
                  <a:pt x="339" y="744"/>
                  <a:pt x="363" y="715"/>
                  <a:pt x="382" y="684"/>
                </a:cubicBezTo>
                <a:cubicBezTo>
                  <a:pt x="390" y="671"/>
                  <a:pt x="405" y="632"/>
                  <a:pt x="418" y="621"/>
                </a:cubicBezTo>
                <a:cubicBezTo>
                  <a:pt x="484" y="564"/>
                  <a:pt x="573" y="563"/>
                  <a:pt x="652" y="540"/>
                </a:cubicBezTo>
                <a:cubicBezTo>
                  <a:pt x="682" y="531"/>
                  <a:pt x="704" y="514"/>
                  <a:pt x="733" y="504"/>
                </a:cubicBezTo>
                <a:cubicBezTo>
                  <a:pt x="803" y="434"/>
                  <a:pt x="844" y="375"/>
                  <a:pt x="868" y="279"/>
                </a:cubicBezTo>
                <a:cubicBezTo>
                  <a:pt x="861" y="156"/>
                  <a:pt x="883" y="132"/>
                  <a:pt x="814" y="63"/>
                </a:cubicBezTo>
                <a:cubicBezTo>
                  <a:pt x="782" y="31"/>
                  <a:pt x="768" y="33"/>
                  <a:pt x="724" y="18"/>
                </a:cubicBezTo>
                <a:cubicBezTo>
                  <a:pt x="706" y="12"/>
                  <a:pt x="670" y="0"/>
                  <a:pt x="670" y="0"/>
                </a:cubicBezTo>
                <a:cubicBezTo>
                  <a:pt x="616" y="3"/>
                  <a:pt x="562" y="4"/>
                  <a:pt x="508" y="9"/>
                </a:cubicBezTo>
                <a:cubicBezTo>
                  <a:pt x="489" y="11"/>
                  <a:pt x="445" y="20"/>
                  <a:pt x="445" y="4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19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34120" y="1981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019920" y="1981080"/>
            <a:ext cx="609480" cy="398880"/>
            <a:chOff x="6019920" y="1981080"/>
            <a:chExt cx="609480" cy="398880"/>
          </a:xfrm>
        </p:grpSpPr>
        <p:sp>
          <p:nvSpPr>
            <p:cNvPr id="623" name=""/>
            <p:cNvSpPr/>
            <p:nvPr/>
          </p:nvSpPr>
          <p:spPr>
            <a:xfrm>
              <a:off x="6095880" y="2286000"/>
              <a:ext cx="76320" cy="76320"/>
            </a:xfrm>
            <a:prstGeom prst="ellipse">
              <a:avLst/>
            </a:prstGeom>
            <a:solidFill>
              <a:srgbClr val="4020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19920" y="19810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100480" y="1757520"/>
            <a:ext cx="2508480" cy="1942920"/>
          </a:xfrm>
          <a:custGeom>
            <a:avLst/>
            <a:gdLst/>
            <a:ahLst/>
            <a:rect l="l" t="t" r="r" b="b"/>
            <a:pathLst>
              <a:path w="1580" h="1224">
                <a:moveTo>
                  <a:pt x="1323" y="45"/>
                </a:moveTo>
                <a:cubicBezTo>
                  <a:pt x="1418" y="21"/>
                  <a:pt x="1306" y="54"/>
                  <a:pt x="1386" y="18"/>
                </a:cubicBezTo>
                <a:cubicBezTo>
                  <a:pt x="1403" y="10"/>
                  <a:pt x="1440" y="0"/>
                  <a:pt x="1440" y="0"/>
                </a:cubicBezTo>
                <a:cubicBezTo>
                  <a:pt x="1471" y="23"/>
                  <a:pt x="1506" y="33"/>
                  <a:pt x="1530" y="63"/>
                </a:cubicBezTo>
                <a:cubicBezTo>
                  <a:pt x="1543" y="80"/>
                  <a:pt x="1566" y="117"/>
                  <a:pt x="1566" y="117"/>
                </a:cubicBezTo>
                <a:cubicBezTo>
                  <a:pt x="1575" y="195"/>
                  <a:pt x="1580" y="277"/>
                  <a:pt x="1548" y="351"/>
                </a:cubicBezTo>
                <a:cubicBezTo>
                  <a:pt x="1530" y="393"/>
                  <a:pt x="1504" y="423"/>
                  <a:pt x="1476" y="459"/>
                </a:cubicBezTo>
                <a:cubicBezTo>
                  <a:pt x="1431" y="516"/>
                  <a:pt x="1394" y="581"/>
                  <a:pt x="1350" y="639"/>
                </a:cubicBezTo>
                <a:cubicBezTo>
                  <a:pt x="1322" y="723"/>
                  <a:pt x="1256" y="785"/>
                  <a:pt x="1206" y="855"/>
                </a:cubicBezTo>
                <a:cubicBezTo>
                  <a:pt x="1164" y="913"/>
                  <a:pt x="1214" y="874"/>
                  <a:pt x="1161" y="909"/>
                </a:cubicBezTo>
                <a:cubicBezTo>
                  <a:pt x="1131" y="954"/>
                  <a:pt x="1092" y="982"/>
                  <a:pt x="1053" y="1017"/>
                </a:cubicBezTo>
                <a:cubicBezTo>
                  <a:pt x="1012" y="1054"/>
                  <a:pt x="965" y="1115"/>
                  <a:pt x="909" y="1134"/>
                </a:cubicBezTo>
                <a:cubicBezTo>
                  <a:pt x="846" y="1155"/>
                  <a:pt x="784" y="1172"/>
                  <a:pt x="720" y="1188"/>
                </a:cubicBezTo>
                <a:cubicBezTo>
                  <a:pt x="687" y="1196"/>
                  <a:pt x="654" y="1202"/>
                  <a:pt x="621" y="1206"/>
                </a:cubicBezTo>
                <a:cubicBezTo>
                  <a:pt x="567" y="1213"/>
                  <a:pt x="459" y="1224"/>
                  <a:pt x="459" y="1224"/>
                </a:cubicBezTo>
                <a:cubicBezTo>
                  <a:pt x="325" y="1217"/>
                  <a:pt x="295" y="1220"/>
                  <a:pt x="171" y="1197"/>
                </a:cubicBezTo>
                <a:cubicBezTo>
                  <a:pt x="114" y="1187"/>
                  <a:pt x="0" y="1161"/>
                  <a:pt x="0" y="1161"/>
                </a:cubicBezTo>
                <a:cubicBezTo>
                  <a:pt x="5" y="1130"/>
                  <a:pt x="6" y="1062"/>
                  <a:pt x="27" y="1035"/>
                </a:cubicBezTo>
                <a:cubicBezTo>
                  <a:pt x="42" y="1016"/>
                  <a:pt x="78" y="1009"/>
                  <a:pt x="99" y="1008"/>
                </a:cubicBezTo>
                <a:cubicBezTo>
                  <a:pt x="258" y="1003"/>
                  <a:pt x="417" y="1002"/>
                  <a:pt x="576" y="999"/>
                </a:cubicBezTo>
                <a:cubicBezTo>
                  <a:pt x="611" y="975"/>
                  <a:pt x="660" y="954"/>
                  <a:pt x="693" y="927"/>
                </a:cubicBezTo>
                <a:cubicBezTo>
                  <a:pt x="744" y="884"/>
                  <a:pt x="792" y="842"/>
                  <a:pt x="846" y="801"/>
                </a:cubicBezTo>
                <a:cubicBezTo>
                  <a:pt x="858" y="792"/>
                  <a:pt x="871" y="785"/>
                  <a:pt x="882" y="774"/>
                </a:cubicBezTo>
                <a:cubicBezTo>
                  <a:pt x="894" y="762"/>
                  <a:pt x="905" y="749"/>
                  <a:pt x="918" y="738"/>
                </a:cubicBezTo>
                <a:cubicBezTo>
                  <a:pt x="935" y="724"/>
                  <a:pt x="972" y="702"/>
                  <a:pt x="972" y="702"/>
                </a:cubicBezTo>
                <a:cubicBezTo>
                  <a:pt x="978" y="693"/>
                  <a:pt x="982" y="682"/>
                  <a:pt x="990" y="675"/>
                </a:cubicBezTo>
                <a:cubicBezTo>
                  <a:pt x="1006" y="661"/>
                  <a:pt x="1044" y="639"/>
                  <a:pt x="1044" y="639"/>
                </a:cubicBezTo>
                <a:cubicBezTo>
                  <a:pt x="1085" y="578"/>
                  <a:pt x="1144" y="527"/>
                  <a:pt x="1188" y="468"/>
                </a:cubicBezTo>
                <a:cubicBezTo>
                  <a:pt x="1211" y="400"/>
                  <a:pt x="1180" y="484"/>
                  <a:pt x="1215" y="414"/>
                </a:cubicBezTo>
                <a:cubicBezTo>
                  <a:pt x="1232" y="380"/>
                  <a:pt x="1239" y="333"/>
                  <a:pt x="1251" y="297"/>
                </a:cubicBezTo>
                <a:cubicBezTo>
                  <a:pt x="1267" y="249"/>
                  <a:pt x="1289" y="210"/>
                  <a:pt x="1305" y="162"/>
                </a:cubicBezTo>
                <a:cubicBezTo>
                  <a:pt x="1314" y="134"/>
                  <a:pt x="1327" y="106"/>
                  <a:pt x="1341" y="81"/>
                </a:cubicBezTo>
                <a:cubicBezTo>
                  <a:pt x="1352" y="62"/>
                  <a:pt x="1377" y="27"/>
                  <a:pt x="1377" y="27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40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96080" y="1752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715000" y="3352680"/>
            <a:ext cx="685800" cy="398880"/>
            <a:chOff x="5715000" y="3352680"/>
            <a:chExt cx="685800" cy="398880"/>
          </a:xfrm>
        </p:grpSpPr>
        <p:sp>
          <p:nvSpPr>
            <p:cNvPr id="628" name=""/>
            <p:cNvSpPr/>
            <p:nvPr/>
          </p:nvSpPr>
          <p:spPr>
            <a:xfrm>
              <a:off x="5791320" y="3352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5000" y="3505320"/>
              <a:ext cx="76320" cy="75960"/>
            </a:xfrm>
            <a:prstGeom prst="ellipse">
              <a:avLst/>
            </a:prstGeom>
            <a:solidFill>
              <a:srgbClr val="4020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400800" y="2971800"/>
            <a:ext cx="609480" cy="398880"/>
            <a:chOff x="6400800" y="2971800"/>
            <a:chExt cx="609480" cy="398880"/>
          </a:xfrm>
        </p:grpSpPr>
        <p:sp>
          <p:nvSpPr>
            <p:cNvPr id="631" name=""/>
            <p:cNvSpPr/>
            <p:nvPr/>
          </p:nvSpPr>
          <p:spPr>
            <a:xfrm>
              <a:off x="6400800" y="29718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5720" y="3048120"/>
              <a:ext cx="75960" cy="75960"/>
            </a:xfrm>
            <a:prstGeom prst="ellipse">
              <a:avLst/>
            </a:prstGeom>
            <a:solidFill>
              <a:srgbClr val="4020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086600" y="2133720"/>
            <a:ext cx="609480" cy="398880"/>
            <a:chOff x="7086600" y="2133720"/>
            <a:chExt cx="609480" cy="398880"/>
          </a:xfrm>
        </p:grpSpPr>
        <p:sp>
          <p:nvSpPr>
            <p:cNvPr id="634" name=""/>
            <p:cNvSpPr/>
            <p:nvPr/>
          </p:nvSpPr>
          <p:spPr>
            <a:xfrm>
              <a:off x="7086600" y="2133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5200" y="2133720"/>
              <a:ext cx="76320" cy="75960"/>
            </a:xfrm>
            <a:prstGeom prst="ellipse">
              <a:avLst/>
            </a:prstGeom>
            <a:solidFill>
              <a:srgbClr val="4020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 flipH="1">
            <a:off x="5791320" y="2362320"/>
            <a:ext cx="304560" cy="1143000"/>
          </a:xfrm>
          <a:prstGeom prst="line">
            <a:avLst/>
          </a:prstGeom>
          <a:ln w="25560">
            <a:solidFill>
              <a:srgbClr val="140a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72200" y="2362320"/>
            <a:ext cx="533520" cy="685800"/>
          </a:xfrm>
          <a:prstGeom prst="line">
            <a:avLst/>
          </a:prstGeom>
          <a:ln w="25560">
            <a:solidFill>
              <a:srgbClr val="140a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248520" y="2209680"/>
            <a:ext cx="1066680" cy="76320"/>
          </a:xfrm>
          <a:prstGeom prst="line">
            <a:avLst/>
          </a:prstGeom>
          <a:ln w="25560">
            <a:solidFill>
              <a:srgbClr val="140a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76520" y="5029200"/>
            <a:ext cx="30456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76520" y="5334120"/>
            <a:ext cx="30456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5334120"/>
            <a:ext cx="30492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05320" y="5334120"/>
            <a:ext cx="30456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52480" y="57150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1907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867280" y="3581280"/>
            <a:ext cx="2584440" cy="2213640"/>
            <a:chOff x="5867280" y="3581280"/>
            <a:chExt cx="2584440" cy="2213640"/>
          </a:xfrm>
        </p:grpSpPr>
        <p:sp>
          <p:nvSpPr>
            <p:cNvPr id="648" name=""/>
            <p:cNvSpPr/>
            <p:nvPr/>
          </p:nvSpPr>
          <p:spPr>
            <a:xfrm>
              <a:off x="5867280" y="3581280"/>
              <a:ext cx="1828800" cy="1602000"/>
            </a:xfrm>
            <a:custGeom>
              <a:avLst/>
              <a:gdLst/>
              <a:ahLst/>
              <a:rect l="l" t="t" r="r" b="b"/>
              <a:pathLst>
                <a:path w="883" h="817">
                  <a:moveTo>
                    <a:pt x="445" y="45"/>
                  </a:moveTo>
                  <a:cubicBezTo>
                    <a:pt x="380" y="88"/>
                    <a:pt x="305" y="216"/>
                    <a:pt x="265" y="288"/>
                  </a:cubicBezTo>
                  <a:cubicBezTo>
                    <a:pt x="238" y="337"/>
                    <a:pt x="261" y="316"/>
                    <a:pt x="211" y="351"/>
                  </a:cubicBezTo>
                  <a:cubicBezTo>
                    <a:pt x="193" y="363"/>
                    <a:pt x="157" y="387"/>
                    <a:pt x="157" y="387"/>
                  </a:cubicBezTo>
                  <a:cubicBezTo>
                    <a:pt x="151" y="396"/>
                    <a:pt x="146" y="406"/>
                    <a:pt x="139" y="414"/>
                  </a:cubicBezTo>
                  <a:cubicBezTo>
                    <a:pt x="128" y="427"/>
                    <a:pt x="113" y="436"/>
                    <a:pt x="103" y="450"/>
                  </a:cubicBezTo>
                  <a:cubicBezTo>
                    <a:pt x="97" y="458"/>
                    <a:pt x="98" y="469"/>
                    <a:pt x="94" y="477"/>
                  </a:cubicBezTo>
                  <a:cubicBezTo>
                    <a:pt x="80" y="504"/>
                    <a:pt x="66" y="533"/>
                    <a:pt x="49" y="558"/>
                  </a:cubicBezTo>
                  <a:cubicBezTo>
                    <a:pt x="38" y="603"/>
                    <a:pt x="15" y="638"/>
                    <a:pt x="4" y="684"/>
                  </a:cubicBezTo>
                  <a:cubicBezTo>
                    <a:pt x="7" y="708"/>
                    <a:pt x="0" y="736"/>
                    <a:pt x="13" y="756"/>
                  </a:cubicBezTo>
                  <a:cubicBezTo>
                    <a:pt x="29" y="780"/>
                    <a:pt x="103" y="801"/>
                    <a:pt x="130" y="810"/>
                  </a:cubicBezTo>
                  <a:cubicBezTo>
                    <a:pt x="223" y="804"/>
                    <a:pt x="255" y="817"/>
                    <a:pt x="319" y="774"/>
                  </a:cubicBezTo>
                  <a:cubicBezTo>
                    <a:pt x="339" y="744"/>
                    <a:pt x="363" y="715"/>
                    <a:pt x="382" y="684"/>
                  </a:cubicBezTo>
                  <a:cubicBezTo>
                    <a:pt x="390" y="671"/>
                    <a:pt x="405" y="632"/>
                    <a:pt x="418" y="621"/>
                  </a:cubicBezTo>
                  <a:cubicBezTo>
                    <a:pt x="484" y="564"/>
                    <a:pt x="573" y="563"/>
                    <a:pt x="652" y="540"/>
                  </a:cubicBezTo>
                  <a:cubicBezTo>
                    <a:pt x="682" y="531"/>
                    <a:pt x="704" y="514"/>
                    <a:pt x="733" y="504"/>
                  </a:cubicBezTo>
                  <a:cubicBezTo>
                    <a:pt x="803" y="434"/>
                    <a:pt x="844" y="375"/>
                    <a:pt x="868" y="279"/>
                  </a:cubicBezTo>
                  <a:cubicBezTo>
                    <a:pt x="861" y="156"/>
                    <a:pt x="883" y="132"/>
                    <a:pt x="814" y="63"/>
                  </a:cubicBezTo>
                  <a:cubicBezTo>
                    <a:pt x="782" y="31"/>
                    <a:pt x="768" y="33"/>
                    <a:pt x="724" y="18"/>
                  </a:cubicBezTo>
                  <a:cubicBezTo>
                    <a:pt x="706" y="12"/>
                    <a:pt x="670" y="0"/>
                    <a:pt x="670" y="0"/>
                  </a:cubicBezTo>
                  <a:cubicBezTo>
                    <a:pt x="616" y="3"/>
                    <a:pt x="562" y="4"/>
                    <a:pt x="508" y="9"/>
                  </a:cubicBezTo>
                  <a:cubicBezTo>
                    <a:pt x="489" y="11"/>
                    <a:pt x="445" y="20"/>
                    <a:pt x="445" y="45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19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21280" y="4024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S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6607080" y="4024440"/>
              <a:ext cx="609480" cy="398880"/>
              <a:chOff x="6607080" y="4024440"/>
              <a:chExt cx="609480" cy="398880"/>
            </a:xfrm>
          </p:grpSpPr>
          <p:sp>
            <p:nvSpPr>
              <p:cNvPr id="651" name=""/>
              <p:cNvSpPr/>
              <p:nvPr/>
            </p:nvSpPr>
            <p:spPr>
              <a:xfrm>
                <a:off x="6683040" y="4329000"/>
                <a:ext cx="76320" cy="75960"/>
              </a:xfrm>
              <a:prstGeom prst="ellipse">
                <a:avLst/>
              </a:prstGeom>
              <a:solidFill>
                <a:srgbClr val="402000"/>
              </a:solidFill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607080" y="402444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943600" y="3809880"/>
              <a:ext cx="2508120" cy="1943280"/>
            </a:xfrm>
            <a:custGeom>
              <a:avLst/>
              <a:gdLst/>
              <a:ahLst/>
              <a:rect l="l" t="t" r="r" b="b"/>
              <a:pathLst>
                <a:path w="1580" h="1224">
                  <a:moveTo>
                    <a:pt x="1323" y="45"/>
                  </a:moveTo>
                  <a:cubicBezTo>
                    <a:pt x="1418" y="21"/>
                    <a:pt x="1306" y="54"/>
                    <a:pt x="1386" y="18"/>
                  </a:cubicBezTo>
                  <a:cubicBezTo>
                    <a:pt x="1403" y="10"/>
                    <a:pt x="1440" y="0"/>
                    <a:pt x="1440" y="0"/>
                  </a:cubicBezTo>
                  <a:cubicBezTo>
                    <a:pt x="1471" y="23"/>
                    <a:pt x="1506" y="33"/>
                    <a:pt x="1530" y="63"/>
                  </a:cubicBezTo>
                  <a:cubicBezTo>
                    <a:pt x="1543" y="80"/>
                    <a:pt x="1566" y="117"/>
                    <a:pt x="1566" y="117"/>
                  </a:cubicBezTo>
                  <a:cubicBezTo>
                    <a:pt x="1575" y="195"/>
                    <a:pt x="1580" y="277"/>
                    <a:pt x="1548" y="351"/>
                  </a:cubicBezTo>
                  <a:cubicBezTo>
                    <a:pt x="1530" y="393"/>
                    <a:pt x="1504" y="423"/>
                    <a:pt x="1476" y="459"/>
                  </a:cubicBezTo>
                  <a:cubicBezTo>
                    <a:pt x="1431" y="516"/>
                    <a:pt x="1394" y="581"/>
                    <a:pt x="1350" y="639"/>
                  </a:cubicBezTo>
                  <a:cubicBezTo>
                    <a:pt x="1322" y="723"/>
                    <a:pt x="1256" y="785"/>
                    <a:pt x="1206" y="855"/>
                  </a:cubicBezTo>
                  <a:cubicBezTo>
                    <a:pt x="1164" y="913"/>
                    <a:pt x="1214" y="874"/>
                    <a:pt x="1161" y="909"/>
                  </a:cubicBezTo>
                  <a:cubicBezTo>
                    <a:pt x="1131" y="954"/>
                    <a:pt x="1092" y="982"/>
                    <a:pt x="1053" y="1017"/>
                  </a:cubicBezTo>
                  <a:cubicBezTo>
                    <a:pt x="1012" y="1054"/>
                    <a:pt x="965" y="1115"/>
                    <a:pt x="909" y="1134"/>
                  </a:cubicBezTo>
                  <a:cubicBezTo>
                    <a:pt x="846" y="1155"/>
                    <a:pt x="784" y="1172"/>
                    <a:pt x="720" y="1188"/>
                  </a:cubicBezTo>
                  <a:cubicBezTo>
                    <a:pt x="687" y="1196"/>
                    <a:pt x="654" y="1202"/>
                    <a:pt x="621" y="1206"/>
                  </a:cubicBezTo>
                  <a:cubicBezTo>
                    <a:pt x="567" y="1213"/>
                    <a:pt x="459" y="1224"/>
                    <a:pt x="459" y="1224"/>
                  </a:cubicBezTo>
                  <a:cubicBezTo>
                    <a:pt x="325" y="1217"/>
                    <a:pt x="295" y="1220"/>
                    <a:pt x="171" y="1197"/>
                  </a:cubicBezTo>
                  <a:cubicBezTo>
                    <a:pt x="114" y="1187"/>
                    <a:pt x="0" y="1161"/>
                    <a:pt x="0" y="1161"/>
                  </a:cubicBezTo>
                  <a:cubicBezTo>
                    <a:pt x="5" y="1130"/>
                    <a:pt x="6" y="1062"/>
                    <a:pt x="27" y="1035"/>
                  </a:cubicBezTo>
                  <a:cubicBezTo>
                    <a:pt x="42" y="1016"/>
                    <a:pt x="78" y="1009"/>
                    <a:pt x="99" y="1008"/>
                  </a:cubicBezTo>
                  <a:cubicBezTo>
                    <a:pt x="258" y="1003"/>
                    <a:pt x="417" y="1002"/>
                    <a:pt x="576" y="999"/>
                  </a:cubicBezTo>
                  <a:cubicBezTo>
                    <a:pt x="611" y="975"/>
                    <a:pt x="660" y="954"/>
                    <a:pt x="693" y="927"/>
                  </a:cubicBezTo>
                  <a:cubicBezTo>
                    <a:pt x="744" y="884"/>
                    <a:pt x="792" y="842"/>
                    <a:pt x="846" y="801"/>
                  </a:cubicBezTo>
                  <a:cubicBezTo>
                    <a:pt x="858" y="792"/>
                    <a:pt x="871" y="785"/>
                    <a:pt x="882" y="774"/>
                  </a:cubicBezTo>
                  <a:cubicBezTo>
                    <a:pt x="894" y="762"/>
                    <a:pt x="905" y="749"/>
                    <a:pt x="918" y="738"/>
                  </a:cubicBezTo>
                  <a:cubicBezTo>
                    <a:pt x="935" y="724"/>
                    <a:pt x="972" y="702"/>
                    <a:pt x="972" y="702"/>
                  </a:cubicBezTo>
                  <a:cubicBezTo>
                    <a:pt x="978" y="693"/>
                    <a:pt x="982" y="682"/>
                    <a:pt x="990" y="675"/>
                  </a:cubicBezTo>
                  <a:cubicBezTo>
                    <a:pt x="1006" y="661"/>
                    <a:pt x="1044" y="639"/>
                    <a:pt x="1044" y="639"/>
                  </a:cubicBezTo>
                  <a:cubicBezTo>
                    <a:pt x="1085" y="578"/>
                    <a:pt x="1144" y="527"/>
                    <a:pt x="1188" y="468"/>
                  </a:cubicBezTo>
                  <a:cubicBezTo>
                    <a:pt x="1211" y="400"/>
                    <a:pt x="1180" y="484"/>
                    <a:pt x="1215" y="414"/>
                  </a:cubicBezTo>
                  <a:cubicBezTo>
                    <a:pt x="1232" y="380"/>
                    <a:pt x="1239" y="333"/>
                    <a:pt x="1251" y="297"/>
                  </a:cubicBezTo>
                  <a:cubicBezTo>
                    <a:pt x="1267" y="249"/>
                    <a:pt x="1289" y="210"/>
                    <a:pt x="1305" y="162"/>
                  </a:cubicBezTo>
                  <a:cubicBezTo>
                    <a:pt x="1314" y="134"/>
                    <a:pt x="1327" y="106"/>
                    <a:pt x="1341" y="81"/>
                  </a:cubicBezTo>
                  <a:cubicBezTo>
                    <a:pt x="1352" y="62"/>
                    <a:pt x="1377" y="27"/>
                    <a:pt x="1377" y="27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140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6302520" y="5396040"/>
              <a:ext cx="685800" cy="398880"/>
              <a:chOff x="6302520" y="5396040"/>
              <a:chExt cx="685800" cy="398880"/>
            </a:xfrm>
          </p:grpSpPr>
          <p:sp>
            <p:nvSpPr>
              <p:cNvPr id="655" name=""/>
              <p:cNvSpPr/>
              <p:nvPr/>
            </p:nvSpPr>
            <p:spPr>
              <a:xfrm>
                <a:off x="6378840" y="539604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302520" y="5548320"/>
                <a:ext cx="76320" cy="75600"/>
              </a:xfrm>
              <a:prstGeom prst="ellipse">
                <a:avLst/>
              </a:prstGeom>
              <a:solidFill>
                <a:srgbClr val="402000"/>
              </a:solidFill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988320" y="5014800"/>
              <a:ext cx="609480" cy="398880"/>
              <a:chOff x="6988320" y="5014800"/>
              <a:chExt cx="609480" cy="398880"/>
            </a:xfrm>
          </p:grpSpPr>
          <p:sp>
            <p:nvSpPr>
              <p:cNvPr id="658" name=""/>
              <p:cNvSpPr/>
              <p:nvPr/>
            </p:nvSpPr>
            <p:spPr>
              <a:xfrm>
                <a:off x="6988320" y="50148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93240" y="5091120"/>
                <a:ext cx="75960" cy="75960"/>
              </a:xfrm>
              <a:prstGeom prst="ellipse">
                <a:avLst/>
              </a:prstGeom>
              <a:solidFill>
                <a:srgbClr val="402000"/>
              </a:solidFill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934320" y="3733920"/>
              <a:ext cx="609480" cy="398880"/>
              <a:chOff x="6934320" y="3733920"/>
              <a:chExt cx="609480" cy="398880"/>
            </a:xfrm>
          </p:grpSpPr>
          <p:sp>
            <p:nvSpPr>
              <p:cNvPr id="661" name=""/>
              <p:cNvSpPr/>
              <p:nvPr/>
            </p:nvSpPr>
            <p:spPr>
              <a:xfrm>
                <a:off x="6934320" y="37339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162920" y="3733920"/>
                <a:ext cx="76320" cy="75960"/>
              </a:xfrm>
              <a:prstGeom prst="ellipse">
                <a:avLst/>
              </a:prstGeom>
              <a:solidFill>
                <a:srgbClr val="402000"/>
              </a:solidFill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 flipH="1">
              <a:off x="6378120" y="4405320"/>
              <a:ext cx="304920" cy="1143000"/>
            </a:xfrm>
            <a:prstGeom prst="line">
              <a:avLst/>
            </a:prstGeom>
            <a:ln w="25560">
              <a:solidFill>
                <a:srgbClr val="140a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59720" y="4405320"/>
              <a:ext cx="533160" cy="685800"/>
            </a:xfrm>
            <a:prstGeom prst="line">
              <a:avLst/>
            </a:prstGeom>
            <a:ln w="25560">
              <a:solidFill>
                <a:srgbClr val="140a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781320" y="3809880"/>
              <a:ext cx="381240" cy="533520"/>
            </a:xfrm>
            <a:prstGeom prst="line">
              <a:avLst/>
            </a:prstGeom>
            <a:ln w="316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7238880" y="3733920"/>
            <a:ext cx="990720" cy="457200"/>
          </a:xfrm>
          <a:prstGeom prst="line">
            <a:avLst/>
          </a:prstGeom>
          <a:ln cap="rnd" w="25560">
            <a:solidFill>
              <a:srgbClr val="140a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8153280" y="3809880"/>
            <a:ext cx="319320" cy="457200"/>
            <a:chOff x="8153280" y="3809880"/>
            <a:chExt cx="319320" cy="457200"/>
          </a:xfrm>
        </p:grpSpPr>
        <p:sp>
          <p:nvSpPr>
            <p:cNvPr id="668" name=""/>
            <p:cNvSpPr/>
            <p:nvPr/>
          </p:nvSpPr>
          <p:spPr>
            <a:xfrm>
              <a:off x="8229600" y="4191120"/>
              <a:ext cx="76320" cy="75960"/>
            </a:xfrm>
            <a:prstGeom prst="ellipse">
              <a:avLst/>
            </a:prstGeom>
            <a:solidFill>
              <a:srgbClr val="140a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53280" y="3809880"/>
              <a:ext cx="3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205740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5334120"/>
            <a:ext cx="30492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571500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1907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C79-1AA6-4FEC-8E42-FAC8B9FEEE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.d. prz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219320" y="1523880"/>
            <a:ext cx="3276360" cy="2851920"/>
            <a:chOff x="1219320" y="1523880"/>
            <a:chExt cx="3276360" cy="2851920"/>
          </a:xfrm>
        </p:grpSpPr>
        <p:sp>
          <p:nvSpPr>
            <p:cNvPr id="675" name=""/>
            <p:cNvSpPr/>
            <p:nvPr/>
          </p:nvSpPr>
          <p:spPr>
            <a:xfrm>
              <a:off x="2133720" y="169524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52680" y="1695240"/>
              <a:ext cx="30492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91120" y="2551320"/>
              <a:ext cx="304560" cy="34236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05320" y="375084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09680" y="3750840"/>
              <a:ext cx="30492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19320" y="272304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19520" y="2294640"/>
              <a:ext cx="304560" cy="34236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76720" y="298008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38280" y="2980080"/>
              <a:ext cx="30492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666520" y="2551320"/>
              <a:ext cx="22860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24080" y="2551320"/>
              <a:ext cx="30492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43200" y="3151080"/>
              <a:ext cx="5335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14600" y="25513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00400" y="24660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19520" y="30654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38280" y="1866240"/>
              <a:ext cx="91440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38280" y="1952280"/>
              <a:ext cx="457200" cy="4280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3123720" y="2037600"/>
              <a:ext cx="381240" cy="34236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657600" y="1952280"/>
              <a:ext cx="609480" cy="5990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447560" y="1952280"/>
              <a:ext cx="685800" cy="77076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3065400"/>
              <a:ext cx="761760" cy="8564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14600" y="4007520"/>
              <a:ext cx="9907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3809880" y="2894040"/>
              <a:ext cx="533520" cy="94176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362320" y="3322080"/>
              <a:ext cx="15228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504960" y="3322080"/>
              <a:ext cx="15228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23880" y="2980080"/>
              <a:ext cx="990720" cy="1710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581280" y="2808000"/>
              <a:ext cx="609840" cy="2566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66880" y="15238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962520" y="20376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038480" y="323676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19520" y="40075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05320" y="323676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33920" y="25513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24080" y="19522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590920" y="18662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23880" y="20376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3880" y="34081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28800" y="27230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38280" y="33220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5562720" y="1752480"/>
            <a:ext cx="1828800" cy="1602000"/>
          </a:xfrm>
          <a:custGeom>
            <a:avLst/>
            <a:gdLst/>
            <a:ahLst/>
            <a:rect l="l" t="t" r="r" b="b"/>
            <a:pathLst>
              <a:path w="883" h="817">
                <a:moveTo>
                  <a:pt x="445" y="45"/>
                </a:moveTo>
                <a:cubicBezTo>
                  <a:pt x="380" y="88"/>
                  <a:pt x="305" y="216"/>
                  <a:pt x="265" y="288"/>
                </a:cubicBezTo>
                <a:cubicBezTo>
                  <a:pt x="238" y="337"/>
                  <a:pt x="261" y="316"/>
                  <a:pt x="211" y="351"/>
                </a:cubicBezTo>
                <a:cubicBezTo>
                  <a:pt x="193" y="363"/>
                  <a:pt x="157" y="387"/>
                  <a:pt x="157" y="387"/>
                </a:cubicBezTo>
                <a:cubicBezTo>
                  <a:pt x="151" y="396"/>
                  <a:pt x="146" y="406"/>
                  <a:pt x="139" y="414"/>
                </a:cubicBezTo>
                <a:cubicBezTo>
                  <a:pt x="128" y="427"/>
                  <a:pt x="113" y="436"/>
                  <a:pt x="103" y="450"/>
                </a:cubicBezTo>
                <a:cubicBezTo>
                  <a:pt x="97" y="458"/>
                  <a:pt x="98" y="469"/>
                  <a:pt x="94" y="477"/>
                </a:cubicBezTo>
                <a:cubicBezTo>
                  <a:pt x="80" y="504"/>
                  <a:pt x="66" y="533"/>
                  <a:pt x="49" y="558"/>
                </a:cubicBezTo>
                <a:cubicBezTo>
                  <a:pt x="38" y="603"/>
                  <a:pt x="15" y="638"/>
                  <a:pt x="4" y="684"/>
                </a:cubicBezTo>
                <a:cubicBezTo>
                  <a:pt x="7" y="708"/>
                  <a:pt x="0" y="736"/>
                  <a:pt x="13" y="756"/>
                </a:cubicBezTo>
                <a:cubicBezTo>
                  <a:pt x="29" y="780"/>
                  <a:pt x="103" y="801"/>
                  <a:pt x="130" y="810"/>
                </a:cubicBezTo>
                <a:cubicBezTo>
                  <a:pt x="223" y="804"/>
                  <a:pt x="255" y="817"/>
                  <a:pt x="319" y="774"/>
                </a:cubicBezTo>
                <a:cubicBezTo>
                  <a:pt x="339" y="744"/>
                  <a:pt x="363" y="715"/>
                  <a:pt x="382" y="684"/>
                </a:cubicBezTo>
                <a:cubicBezTo>
                  <a:pt x="390" y="671"/>
                  <a:pt x="405" y="632"/>
                  <a:pt x="418" y="621"/>
                </a:cubicBezTo>
                <a:cubicBezTo>
                  <a:pt x="484" y="564"/>
                  <a:pt x="573" y="563"/>
                  <a:pt x="652" y="540"/>
                </a:cubicBezTo>
                <a:cubicBezTo>
                  <a:pt x="682" y="531"/>
                  <a:pt x="704" y="514"/>
                  <a:pt x="733" y="504"/>
                </a:cubicBezTo>
                <a:cubicBezTo>
                  <a:pt x="803" y="434"/>
                  <a:pt x="844" y="375"/>
                  <a:pt x="868" y="279"/>
                </a:cubicBezTo>
                <a:cubicBezTo>
                  <a:pt x="861" y="156"/>
                  <a:pt x="883" y="132"/>
                  <a:pt x="814" y="63"/>
                </a:cubicBezTo>
                <a:cubicBezTo>
                  <a:pt x="782" y="31"/>
                  <a:pt x="768" y="33"/>
                  <a:pt x="724" y="18"/>
                </a:cubicBezTo>
                <a:cubicBezTo>
                  <a:pt x="706" y="12"/>
                  <a:pt x="670" y="0"/>
                  <a:pt x="670" y="0"/>
                </a:cubicBezTo>
                <a:cubicBezTo>
                  <a:pt x="616" y="3"/>
                  <a:pt x="562" y="4"/>
                  <a:pt x="508" y="9"/>
                </a:cubicBezTo>
                <a:cubicBezTo>
                  <a:pt x="489" y="11"/>
                  <a:pt x="445" y="20"/>
                  <a:pt x="445" y="4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19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616720" y="2195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6302520" y="2195640"/>
            <a:ext cx="609480" cy="398880"/>
            <a:chOff x="6302520" y="2195640"/>
            <a:chExt cx="609480" cy="398880"/>
          </a:xfrm>
        </p:grpSpPr>
        <p:sp>
          <p:nvSpPr>
            <p:cNvPr id="717" name=""/>
            <p:cNvSpPr/>
            <p:nvPr/>
          </p:nvSpPr>
          <p:spPr>
            <a:xfrm>
              <a:off x="6378480" y="2500200"/>
              <a:ext cx="76320" cy="75960"/>
            </a:xfrm>
            <a:prstGeom prst="ellipse">
              <a:avLst/>
            </a:prstGeom>
            <a:solidFill>
              <a:srgbClr val="4020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02520" y="21956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5638680" y="1676520"/>
            <a:ext cx="2667240" cy="2209680"/>
          </a:xfrm>
          <a:custGeom>
            <a:avLst/>
            <a:gdLst/>
            <a:ahLst/>
            <a:rect l="l" t="t" r="r" b="b"/>
            <a:pathLst>
              <a:path w="1580" h="1224">
                <a:moveTo>
                  <a:pt x="1323" y="45"/>
                </a:moveTo>
                <a:cubicBezTo>
                  <a:pt x="1418" y="21"/>
                  <a:pt x="1306" y="54"/>
                  <a:pt x="1386" y="18"/>
                </a:cubicBezTo>
                <a:cubicBezTo>
                  <a:pt x="1403" y="10"/>
                  <a:pt x="1440" y="0"/>
                  <a:pt x="1440" y="0"/>
                </a:cubicBezTo>
                <a:cubicBezTo>
                  <a:pt x="1471" y="23"/>
                  <a:pt x="1506" y="33"/>
                  <a:pt x="1530" y="63"/>
                </a:cubicBezTo>
                <a:cubicBezTo>
                  <a:pt x="1543" y="80"/>
                  <a:pt x="1566" y="117"/>
                  <a:pt x="1566" y="117"/>
                </a:cubicBezTo>
                <a:cubicBezTo>
                  <a:pt x="1575" y="195"/>
                  <a:pt x="1580" y="277"/>
                  <a:pt x="1548" y="351"/>
                </a:cubicBezTo>
                <a:cubicBezTo>
                  <a:pt x="1530" y="393"/>
                  <a:pt x="1504" y="423"/>
                  <a:pt x="1476" y="459"/>
                </a:cubicBezTo>
                <a:cubicBezTo>
                  <a:pt x="1431" y="516"/>
                  <a:pt x="1394" y="581"/>
                  <a:pt x="1350" y="639"/>
                </a:cubicBezTo>
                <a:cubicBezTo>
                  <a:pt x="1322" y="723"/>
                  <a:pt x="1256" y="785"/>
                  <a:pt x="1206" y="855"/>
                </a:cubicBezTo>
                <a:cubicBezTo>
                  <a:pt x="1164" y="913"/>
                  <a:pt x="1214" y="874"/>
                  <a:pt x="1161" y="909"/>
                </a:cubicBezTo>
                <a:cubicBezTo>
                  <a:pt x="1131" y="954"/>
                  <a:pt x="1092" y="982"/>
                  <a:pt x="1053" y="1017"/>
                </a:cubicBezTo>
                <a:cubicBezTo>
                  <a:pt x="1012" y="1054"/>
                  <a:pt x="965" y="1115"/>
                  <a:pt x="909" y="1134"/>
                </a:cubicBezTo>
                <a:cubicBezTo>
                  <a:pt x="846" y="1155"/>
                  <a:pt x="784" y="1172"/>
                  <a:pt x="720" y="1188"/>
                </a:cubicBezTo>
                <a:cubicBezTo>
                  <a:pt x="687" y="1196"/>
                  <a:pt x="654" y="1202"/>
                  <a:pt x="621" y="1206"/>
                </a:cubicBezTo>
                <a:cubicBezTo>
                  <a:pt x="567" y="1213"/>
                  <a:pt x="459" y="1224"/>
                  <a:pt x="459" y="1224"/>
                </a:cubicBezTo>
                <a:cubicBezTo>
                  <a:pt x="325" y="1217"/>
                  <a:pt x="295" y="1220"/>
                  <a:pt x="171" y="1197"/>
                </a:cubicBezTo>
                <a:cubicBezTo>
                  <a:pt x="114" y="1187"/>
                  <a:pt x="0" y="1161"/>
                  <a:pt x="0" y="1161"/>
                </a:cubicBezTo>
                <a:cubicBezTo>
                  <a:pt x="5" y="1130"/>
                  <a:pt x="6" y="1062"/>
                  <a:pt x="27" y="1035"/>
                </a:cubicBezTo>
                <a:cubicBezTo>
                  <a:pt x="42" y="1016"/>
                  <a:pt x="78" y="1009"/>
                  <a:pt x="99" y="1008"/>
                </a:cubicBezTo>
                <a:cubicBezTo>
                  <a:pt x="258" y="1003"/>
                  <a:pt x="417" y="1002"/>
                  <a:pt x="576" y="999"/>
                </a:cubicBezTo>
                <a:cubicBezTo>
                  <a:pt x="611" y="975"/>
                  <a:pt x="660" y="954"/>
                  <a:pt x="693" y="927"/>
                </a:cubicBezTo>
                <a:cubicBezTo>
                  <a:pt x="744" y="884"/>
                  <a:pt x="792" y="842"/>
                  <a:pt x="846" y="801"/>
                </a:cubicBezTo>
                <a:cubicBezTo>
                  <a:pt x="858" y="792"/>
                  <a:pt x="871" y="785"/>
                  <a:pt x="882" y="774"/>
                </a:cubicBezTo>
                <a:cubicBezTo>
                  <a:pt x="894" y="762"/>
                  <a:pt x="905" y="749"/>
                  <a:pt x="918" y="738"/>
                </a:cubicBezTo>
                <a:cubicBezTo>
                  <a:pt x="935" y="724"/>
                  <a:pt x="972" y="702"/>
                  <a:pt x="972" y="702"/>
                </a:cubicBezTo>
                <a:cubicBezTo>
                  <a:pt x="978" y="693"/>
                  <a:pt x="982" y="682"/>
                  <a:pt x="990" y="675"/>
                </a:cubicBezTo>
                <a:cubicBezTo>
                  <a:pt x="1006" y="661"/>
                  <a:pt x="1044" y="639"/>
                  <a:pt x="1044" y="639"/>
                </a:cubicBezTo>
                <a:cubicBezTo>
                  <a:pt x="1085" y="578"/>
                  <a:pt x="1144" y="527"/>
                  <a:pt x="1188" y="468"/>
                </a:cubicBezTo>
                <a:cubicBezTo>
                  <a:pt x="1211" y="400"/>
                  <a:pt x="1180" y="484"/>
                  <a:pt x="1215" y="414"/>
                </a:cubicBezTo>
                <a:cubicBezTo>
                  <a:pt x="1232" y="380"/>
                  <a:pt x="1239" y="333"/>
                  <a:pt x="1251" y="297"/>
                </a:cubicBezTo>
                <a:cubicBezTo>
                  <a:pt x="1267" y="249"/>
                  <a:pt x="1289" y="210"/>
                  <a:pt x="1305" y="162"/>
                </a:cubicBezTo>
                <a:cubicBezTo>
                  <a:pt x="1314" y="134"/>
                  <a:pt x="1327" y="106"/>
                  <a:pt x="1341" y="81"/>
                </a:cubicBezTo>
                <a:cubicBezTo>
                  <a:pt x="1352" y="62"/>
                  <a:pt x="1377" y="27"/>
                  <a:pt x="1377" y="27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40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5997600" y="3567240"/>
            <a:ext cx="685800" cy="398880"/>
            <a:chOff x="5997600" y="3567240"/>
            <a:chExt cx="685800" cy="398880"/>
          </a:xfrm>
        </p:grpSpPr>
        <p:sp>
          <p:nvSpPr>
            <p:cNvPr id="721" name=""/>
            <p:cNvSpPr/>
            <p:nvPr/>
          </p:nvSpPr>
          <p:spPr>
            <a:xfrm>
              <a:off x="6073920" y="35672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997600" y="3719520"/>
              <a:ext cx="76320" cy="75600"/>
            </a:xfrm>
            <a:prstGeom prst="ellipse">
              <a:avLst/>
            </a:prstGeom>
            <a:solidFill>
              <a:srgbClr val="4020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553080" y="2514600"/>
            <a:ext cx="609480" cy="398880"/>
            <a:chOff x="6553080" y="2514600"/>
            <a:chExt cx="609480" cy="398880"/>
          </a:xfrm>
        </p:grpSpPr>
        <p:sp>
          <p:nvSpPr>
            <p:cNvPr id="724" name=""/>
            <p:cNvSpPr/>
            <p:nvPr/>
          </p:nvSpPr>
          <p:spPr>
            <a:xfrm>
              <a:off x="6553080" y="25146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58000" y="2590920"/>
              <a:ext cx="75960" cy="75960"/>
            </a:xfrm>
            <a:prstGeom prst="ellipse">
              <a:avLst/>
            </a:prstGeom>
            <a:solidFill>
              <a:srgbClr val="4020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629400" y="1905120"/>
            <a:ext cx="609480" cy="398880"/>
            <a:chOff x="6629400" y="1905120"/>
            <a:chExt cx="609480" cy="398880"/>
          </a:xfrm>
        </p:grpSpPr>
        <p:sp>
          <p:nvSpPr>
            <p:cNvPr id="727" name=""/>
            <p:cNvSpPr/>
            <p:nvPr/>
          </p:nvSpPr>
          <p:spPr>
            <a:xfrm>
              <a:off x="6629400" y="19051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58000" y="1905120"/>
              <a:ext cx="76320" cy="75960"/>
            </a:xfrm>
            <a:prstGeom prst="ellipse">
              <a:avLst/>
            </a:prstGeom>
            <a:solidFill>
              <a:srgbClr val="4020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flipH="1">
            <a:off x="6073920" y="2576520"/>
            <a:ext cx="304560" cy="1143000"/>
          </a:xfrm>
          <a:prstGeom prst="line">
            <a:avLst/>
          </a:prstGeom>
          <a:ln w="25560">
            <a:solidFill>
              <a:srgbClr val="140a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34320" y="1981080"/>
            <a:ext cx="990360" cy="381240"/>
          </a:xfrm>
          <a:prstGeom prst="line">
            <a:avLst/>
          </a:prstGeom>
          <a:ln w="25560">
            <a:solidFill>
              <a:srgbClr val="140a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477120" y="1981080"/>
            <a:ext cx="380880" cy="533520"/>
          </a:xfrm>
          <a:prstGeom prst="line">
            <a:avLst/>
          </a:prstGeom>
          <a:ln w="316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153280" y="1676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924680" y="2286000"/>
            <a:ext cx="76320" cy="76320"/>
          </a:xfrm>
          <a:prstGeom prst="ellipse">
            <a:avLst/>
          </a:prstGeom>
          <a:solidFill>
            <a:srgbClr val="140a00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001000" y="1981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2514600"/>
            <a:ext cx="533520" cy="152280"/>
          </a:xfrm>
          <a:prstGeom prst="line">
            <a:avLst/>
          </a:prstGeom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914400" y="4648320"/>
            <a:ext cx="4191120" cy="1084680"/>
            <a:chOff x="914400" y="4648320"/>
            <a:chExt cx="4191120" cy="1084680"/>
          </a:xfrm>
        </p:grpSpPr>
        <p:sp>
          <p:nvSpPr>
            <p:cNvPr id="737" name=""/>
            <p:cNvSpPr/>
            <p:nvPr/>
          </p:nvSpPr>
          <p:spPr>
            <a:xfrm>
              <a:off x="914400" y="5029200"/>
              <a:ext cx="39625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95280" y="4648320"/>
              <a:ext cx="381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A   B   C   D   E   F   G   H   I   J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765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5740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623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320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240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098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911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956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952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14400" y="5334120"/>
              <a:ext cx="39625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144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14400" y="53341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129528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76520" y="5029200"/>
            <a:ext cx="30456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2408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76520" y="5334120"/>
            <a:ext cx="30456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5334120"/>
            <a:ext cx="30492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05320" y="5334120"/>
            <a:ext cx="30456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5740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57400" y="5334120"/>
            <a:ext cx="30492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010280" y="3352680"/>
            <a:ext cx="381240" cy="398880"/>
            <a:chOff x="7010280" y="3352680"/>
            <a:chExt cx="381240" cy="398880"/>
          </a:xfrm>
        </p:grpSpPr>
        <p:sp>
          <p:nvSpPr>
            <p:cNvPr id="762" name=""/>
            <p:cNvSpPr/>
            <p:nvPr/>
          </p:nvSpPr>
          <p:spPr>
            <a:xfrm>
              <a:off x="7010280" y="3429000"/>
              <a:ext cx="76320" cy="76320"/>
            </a:xfrm>
            <a:prstGeom prst="ellipse">
              <a:avLst/>
            </a:prstGeom>
            <a:solidFill>
              <a:srgbClr val="140a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62920" y="33526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7543800" y="2895480"/>
            <a:ext cx="457200" cy="398880"/>
            <a:chOff x="7543800" y="2895480"/>
            <a:chExt cx="457200" cy="398880"/>
          </a:xfrm>
        </p:grpSpPr>
        <p:sp>
          <p:nvSpPr>
            <p:cNvPr id="765" name=""/>
            <p:cNvSpPr/>
            <p:nvPr/>
          </p:nvSpPr>
          <p:spPr>
            <a:xfrm>
              <a:off x="7543800" y="2971800"/>
              <a:ext cx="76320" cy="76320"/>
            </a:xfrm>
            <a:prstGeom prst="ellipse">
              <a:avLst/>
            </a:prstGeom>
            <a:solidFill>
              <a:srgbClr val="140a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96080" y="2895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934320" y="2666880"/>
            <a:ext cx="152280" cy="762120"/>
          </a:xfrm>
          <a:prstGeom prst="line">
            <a:avLst/>
          </a:prstGeom>
          <a:ln cap="rnd" w="25560">
            <a:solidFill>
              <a:srgbClr val="140a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34320" y="2590920"/>
            <a:ext cx="609480" cy="380880"/>
          </a:xfrm>
          <a:prstGeom prst="line">
            <a:avLst/>
          </a:prstGeom>
          <a:ln w="25560">
            <a:solidFill>
              <a:srgbClr val="140a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91120" y="5334120"/>
            <a:ext cx="30456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09880" y="5334120"/>
            <a:ext cx="30492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0988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91120" y="5029200"/>
            <a:ext cx="30456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571500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1907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867280" y="3581280"/>
            <a:ext cx="3047760" cy="2518200"/>
            <a:chOff x="5867280" y="3581280"/>
            <a:chExt cx="3047760" cy="2518200"/>
          </a:xfrm>
        </p:grpSpPr>
        <p:sp>
          <p:nvSpPr>
            <p:cNvPr id="775" name=""/>
            <p:cNvSpPr/>
            <p:nvPr/>
          </p:nvSpPr>
          <p:spPr>
            <a:xfrm>
              <a:off x="5867280" y="3885840"/>
              <a:ext cx="1828800" cy="1602000"/>
            </a:xfrm>
            <a:custGeom>
              <a:avLst/>
              <a:gdLst/>
              <a:ahLst/>
              <a:rect l="l" t="t" r="r" b="b"/>
              <a:pathLst>
                <a:path w="883" h="817">
                  <a:moveTo>
                    <a:pt x="445" y="45"/>
                  </a:moveTo>
                  <a:cubicBezTo>
                    <a:pt x="380" y="88"/>
                    <a:pt x="305" y="216"/>
                    <a:pt x="265" y="288"/>
                  </a:cubicBezTo>
                  <a:cubicBezTo>
                    <a:pt x="238" y="337"/>
                    <a:pt x="261" y="316"/>
                    <a:pt x="211" y="351"/>
                  </a:cubicBezTo>
                  <a:cubicBezTo>
                    <a:pt x="193" y="363"/>
                    <a:pt x="157" y="387"/>
                    <a:pt x="157" y="387"/>
                  </a:cubicBezTo>
                  <a:cubicBezTo>
                    <a:pt x="151" y="396"/>
                    <a:pt x="146" y="406"/>
                    <a:pt x="139" y="414"/>
                  </a:cubicBezTo>
                  <a:cubicBezTo>
                    <a:pt x="128" y="427"/>
                    <a:pt x="113" y="436"/>
                    <a:pt x="103" y="450"/>
                  </a:cubicBezTo>
                  <a:cubicBezTo>
                    <a:pt x="97" y="458"/>
                    <a:pt x="98" y="469"/>
                    <a:pt x="94" y="477"/>
                  </a:cubicBezTo>
                  <a:cubicBezTo>
                    <a:pt x="80" y="504"/>
                    <a:pt x="66" y="533"/>
                    <a:pt x="49" y="558"/>
                  </a:cubicBezTo>
                  <a:cubicBezTo>
                    <a:pt x="38" y="603"/>
                    <a:pt x="15" y="638"/>
                    <a:pt x="4" y="684"/>
                  </a:cubicBezTo>
                  <a:cubicBezTo>
                    <a:pt x="7" y="708"/>
                    <a:pt x="0" y="736"/>
                    <a:pt x="13" y="756"/>
                  </a:cubicBezTo>
                  <a:cubicBezTo>
                    <a:pt x="29" y="780"/>
                    <a:pt x="103" y="801"/>
                    <a:pt x="130" y="810"/>
                  </a:cubicBezTo>
                  <a:cubicBezTo>
                    <a:pt x="223" y="804"/>
                    <a:pt x="255" y="817"/>
                    <a:pt x="319" y="774"/>
                  </a:cubicBezTo>
                  <a:cubicBezTo>
                    <a:pt x="339" y="744"/>
                    <a:pt x="363" y="715"/>
                    <a:pt x="382" y="684"/>
                  </a:cubicBezTo>
                  <a:cubicBezTo>
                    <a:pt x="390" y="671"/>
                    <a:pt x="405" y="632"/>
                    <a:pt x="418" y="621"/>
                  </a:cubicBezTo>
                  <a:cubicBezTo>
                    <a:pt x="484" y="564"/>
                    <a:pt x="573" y="563"/>
                    <a:pt x="652" y="540"/>
                  </a:cubicBezTo>
                  <a:cubicBezTo>
                    <a:pt x="682" y="531"/>
                    <a:pt x="704" y="514"/>
                    <a:pt x="733" y="504"/>
                  </a:cubicBezTo>
                  <a:cubicBezTo>
                    <a:pt x="803" y="434"/>
                    <a:pt x="844" y="375"/>
                    <a:pt x="868" y="279"/>
                  </a:cubicBezTo>
                  <a:cubicBezTo>
                    <a:pt x="861" y="156"/>
                    <a:pt x="883" y="132"/>
                    <a:pt x="814" y="63"/>
                  </a:cubicBezTo>
                  <a:cubicBezTo>
                    <a:pt x="782" y="31"/>
                    <a:pt x="768" y="33"/>
                    <a:pt x="724" y="18"/>
                  </a:cubicBezTo>
                  <a:cubicBezTo>
                    <a:pt x="706" y="12"/>
                    <a:pt x="670" y="0"/>
                    <a:pt x="670" y="0"/>
                  </a:cubicBezTo>
                  <a:cubicBezTo>
                    <a:pt x="616" y="3"/>
                    <a:pt x="562" y="4"/>
                    <a:pt x="508" y="9"/>
                  </a:cubicBezTo>
                  <a:cubicBezTo>
                    <a:pt x="489" y="11"/>
                    <a:pt x="445" y="20"/>
                    <a:pt x="445" y="45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19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21280" y="4329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S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607080" y="4329000"/>
              <a:ext cx="609480" cy="398880"/>
              <a:chOff x="6607080" y="4329000"/>
              <a:chExt cx="609480" cy="398880"/>
            </a:xfrm>
          </p:grpSpPr>
          <p:sp>
            <p:nvSpPr>
              <p:cNvPr id="778" name=""/>
              <p:cNvSpPr/>
              <p:nvPr/>
            </p:nvSpPr>
            <p:spPr>
              <a:xfrm>
                <a:off x="6683040" y="4633560"/>
                <a:ext cx="76320" cy="75960"/>
              </a:xfrm>
              <a:prstGeom prst="ellipse">
                <a:avLst/>
              </a:prstGeom>
              <a:solidFill>
                <a:srgbClr val="402000"/>
              </a:solidFill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607080" y="43290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5943240" y="3809880"/>
              <a:ext cx="2667240" cy="2209680"/>
            </a:xfrm>
            <a:custGeom>
              <a:avLst/>
              <a:gdLst/>
              <a:ahLst/>
              <a:rect l="l" t="t" r="r" b="b"/>
              <a:pathLst>
                <a:path w="1580" h="1224">
                  <a:moveTo>
                    <a:pt x="1323" y="45"/>
                  </a:moveTo>
                  <a:cubicBezTo>
                    <a:pt x="1418" y="21"/>
                    <a:pt x="1306" y="54"/>
                    <a:pt x="1386" y="18"/>
                  </a:cubicBezTo>
                  <a:cubicBezTo>
                    <a:pt x="1403" y="10"/>
                    <a:pt x="1440" y="0"/>
                    <a:pt x="1440" y="0"/>
                  </a:cubicBezTo>
                  <a:cubicBezTo>
                    <a:pt x="1471" y="23"/>
                    <a:pt x="1506" y="33"/>
                    <a:pt x="1530" y="63"/>
                  </a:cubicBezTo>
                  <a:cubicBezTo>
                    <a:pt x="1543" y="80"/>
                    <a:pt x="1566" y="117"/>
                    <a:pt x="1566" y="117"/>
                  </a:cubicBezTo>
                  <a:cubicBezTo>
                    <a:pt x="1575" y="195"/>
                    <a:pt x="1580" y="277"/>
                    <a:pt x="1548" y="351"/>
                  </a:cubicBezTo>
                  <a:cubicBezTo>
                    <a:pt x="1530" y="393"/>
                    <a:pt x="1504" y="423"/>
                    <a:pt x="1476" y="459"/>
                  </a:cubicBezTo>
                  <a:cubicBezTo>
                    <a:pt x="1431" y="516"/>
                    <a:pt x="1394" y="581"/>
                    <a:pt x="1350" y="639"/>
                  </a:cubicBezTo>
                  <a:cubicBezTo>
                    <a:pt x="1322" y="723"/>
                    <a:pt x="1256" y="785"/>
                    <a:pt x="1206" y="855"/>
                  </a:cubicBezTo>
                  <a:cubicBezTo>
                    <a:pt x="1164" y="913"/>
                    <a:pt x="1214" y="874"/>
                    <a:pt x="1161" y="909"/>
                  </a:cubicBezTo>
                  <a:cubicBezTo>
                    <a:pt x="1131" y="954"/>
                    <a:pt x="1092" y="982"/>
                    <a:pt x="1053" y="1017"/>
                  </a:cubicBezTo>
                  <a:cubicBezTo>
                    <a:pt x="1012" y="1054"/>
                    <a:pt x="965" y="1115"/>
                    <a:pt x="909" y="1134"/>
                  </a:cubicBezTo>
                  <a:cubicBezTo>
                    <a:pt x="846" y="1155"/>
                    <a:pt x="784" y="1172"/>
                    <a:pt x="720" y="1188"/>
                  </a:cubicBezTo>
                  <a:cubicBezTo>
                    <a:pt x="687" y="1196"/>
                    <a:pt x="654" y="1202"/>
                    <a:pt x="621" y="1206"/>
                  </a:cubicBezTo>
                  <a:cubicBezTo>
                    <a:pt x="567" y="1213"/>
                    <a:pt x="459" y="1224"/>
                    <a:pt x="459" y="1224"/>
                  </a:cubicBezTo>
                  <a:cubicBezTo>
                    <a:pt x="325" y="1217"/>
                    <a:pt x="295" y="1220"/>
                    <a:pt x="171" y="1197"/>
                  </a:cubicBezTo>
                  <a:cubicBezTo>
                    <a:pt x="114" y="1187"/>
                    <a:pt x="0" y="1161"/>
                    <a:pt x="0" y="1161"/>
                  </a:cubicBezTo>
                  <a:cubicBezTo>
                    <a:pt x="5" y="1130"/>
                    <a:pt x="6" y="1062"/>
                    <a:pt x="27" y="1035"/>
                  </a:cubicBezTo>
                  <a:cubicBezTo>
                    <a:pt x="42" y="1016"/>
                    <a:pt x="78" y="1009"/>
                    <a:pt x="99" y="1008"/>
                  </a:cubicBezTo>
                  <a:cubicBezTo>
                    <a:pt x="258" y="1003"/>
                    <a:pt x="417" y="1002"/>
                    <a:pt x="576" y="999"/>
                  </a:cubicBezTo>
                  <a:cubicBezTo>
                    <a:pt x="611" y="975"/>
                    <a:pt x="660" y="954"/>
                    <a:pt x="693" y="927"/>
                  </a:cubicBezTo>
                  <a:cubicBezTo>
                    <a:pt x="744" y="884"/>
                    <a:pt x="792" y="842"/>
                    <a:pt x="846" y="801"/>
                  </a:cubicBezTo>
                  <a:cubicBezTo>
                    <a:pt x="858" y="792"/>
                    <a:pt x="871" y="785"/>
                    <a:pt x="882" y="774"/>
                  </a:cubicBezTo>
                  <a:cubicBezTo>
                    <a:pt x="894" y="762"/>
                    <a:pt x="905" y="749"/>
                    <a:pt x="918" y="738"/>
                  </a:cubicBezTo>
                  <a:cubicBezTo>
                    <a:pt x="935" y="724"/>
                    <a:pt x="972" y="702"/>
                    <a:pt x="972" y="702"/>
                  </a:cubicBezTo>
                  <a:cubicBezTo>
                    <a:pt x="978" y="693"/>
                    <a:pt x="982" y="682"/>
                    <a:pt x="990" y="675"/>
                  </a:cubicBezTo>
                  <a:cubicBezTo>
                    <a:pt x="1006" y="661"/>
                    <a:pt x="1044" y="639"/>
                    <a:pt x="1044" y="639"/>
                  </a:cubicBezTo>
                  <a:cubicBezTo>
                    <a:pt x="1085" y="578"/>
                    <a:pt x="1144" y="527"/>
                    <a:pt x="1188" y="468"/>
                  </a:cubicBezTo>
                  <a:cubicBezTo>
                    <a:pt x="1211" y="400"/>
                    <a:pt x="1180" y="484"/>
                    <a:pt x="1215" y="414"/>
                  </a:cubicBezTo>
                  <a:cubicBezTo>
                    <a:pt x="1232" y="380"/>
                    <a:pt x="1239" y="333"/>
                    <a:pt x="1251" y="297"/>
                  </a:cubicBezTo>
                  <a:cubicBezTo>
                    <a:pt x="1267" y="249"/>
                    <a:pt x="1289" y="210"/>
                    <a:pt x="1305" y="162"/>
                  </a:cubicBezTo>
                  <a:cubicBezTo>
                    <a:pt x="1314" y="134"/>
                    <a:pt x="1327" y="106"/>
                    <a:pt x="1341" y="81"/>
                  </a:cubicBezTo>
                  <a:cubicBezTo>
                    <a:pt x="1352" y="62"/>
                    <a:pt x="1377" y="27"/>
                    <a:pt x="1377" y="27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140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6302160" y="5700600"/>
              <a:ext cx="685800" cy="398880"/>
              <a:chOff x="6302160" y="5700600"/>
              <a:chExt cx="685800" cy="398880"/>
            </a:xfrm>
          </p:grpSpPr>
          <p:sp>
            <p:nvSpPr>
              <p:cNvPr id="782" name=""/>
              <p:cNvSpPr/>
              <p:nvPr/>
            </p:nvSpPr>
            <p:spPr>
              <a:xfrm>
                <a:off x="6378480" y="57006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302160" y="5852880"/>
                <a:ext cx="76320" cy="75600"/>
              </a:xfrm>
              <a:prstGeom prst="ellipse">
                <a:avLst/>
              </a:prstGeom>
              <a:solidFill>
                <a:srgbClr val="402000"/>
              </a:solidFill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857640" y="4647960"/>
              <a:ext cx="609480" cy="398880"/>
              <a:chOff x="6857640" y="4647960"/>
              <a:chExt cx="609480" cy="398880"/>
            </a:xfrm>
          </p:grpSpPr>
          <p:sp>
            <p:nvSpPr>
              <p:cNvPr id="785" name=""/>
              <p:cNvSpPr/>
              <p:nvPr/>
            </p:nvSpPr>
            <p:spPr>
              <a:xfrm>
                <a:off x="6857640" y="46479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162560" y="4724280"/>
                <a:ext cx="75960" cy="75960"/>
              </a:xfrm>
              <a:prstGeom prst="ellipse">
                <a:avLst/>
              </a:prstGeom>
              <a:solidFill>
                <a:srgbClr val="402000"/>
              </a:solidFill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6933960" y="4038480"/>
              <a:ext cx="609480" cy="398880"/>
              <a:chOff x="6933960" y="4038480"/>
              <a:chExt cx="609480" cy="398880"/>
            </a:xfrm>
          </p:grpSpPr>
          <p:sp>
            <p:nvSpPr>
              <p:cNvPr id="788" name=""/>
              <p:cNvSpPr/>
              <p:nvPr/>
            </p:nvSpPr>
            <p:spPr>
              <a:xfrm>
                <a:off x="6933960" y="40384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162560" y="4038480"/>
                <a:ext cx="76320" cy="75960"/>
              </a:xfrm>
              <a:prstGeom prst="ellipse">
                <a:avLst/>
              </a:prstGeom>
              <a:solidFill>
                <a:srgbClr val="402000"/>
              </a:solidFill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 flipH="1">
              <a:off x="6378480" y="4709880"/>
              <a:ext cx="304560" cy="1143000"/>
            </a:xfrm>
            <a:prstGeom prst="line">
              <a:avLst/>
            </a:prstGeom>
            <a:ln w="25560">
              <a:solidFill>
                <a:srgbClr val="140a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81680" y="4114440"/>
              <a:ext cx="380880" cy="533520"/>
            </a:xfrm>
            <a:prstGeom prst="line">
              <a:avLst/>
            </a:prstGeom>
            <a:ln w="3168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43440" y="4190760"/>
              <a:ext cx="76320" cy="76320"/>
            </a:xfrm>
            <a:prstGeom prst="ellipse">
              <a:avLst/>
            </a:prstGeom>
            <a:solidFill>
              <a:srgbClr val="140a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3440" y="39621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05360" y="4647960"/>
              <a:ext cx="533520" cy="1522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7314840" y="5486040"/>
              <a:ext cx="381240" cy="398880"/>
              <a:chOff x="7314840" y="5486040"/>
              <a:chExt cx="381240" cy="398880"/>
            </a:xfrm>
          </p:grpSpPr>
          <p:sp>
            <p:nvSpPr>
              <p:cNvPr id="796" name=""/>
              <p:cNvSpPr/>
              <p:nvPr/>
            </p:nvSpPr>
            <p:spPr>
              <a:xfrm>
                <a:off x="7314840" y="5562360"/>
                <a:ext cx="76320" cy="76320"/>
              </a:xfrm>
              <a:prstGeom prst="ellipse">
                <a:avLst/>
              </a:prstGeom>
              <a:solidFill>
                <a:srgbClr val="140a00"/>
              </a:solidFill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467480" y="5486040"/>
                <a:ext cx="22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7848360" y="5028840"/>
              <a:ext cx="457200" cy="398880"/>
              <a:chOff x="7848360" y="5028840"/>
              <a:chExt cx="457200" cy="398880"/>
            </a:xfrm>
          </p:grpSpPr>
          <p:sp>
            <p:nvSpPr>
              <p:cNvPr id="799" name=""/>
              <p:cNvSpPr/>
              <p:nvPr/>
            </p:nvSpPr>
            <p:spPr>
              <a:xfrm>
                <a:off x="7848360" y="5105160"/>
                <a:ext cx="76320" cy="76320"/>
              </a:xfrm>
              <a:prstGeom prst="ellipse">
                <a:avLst/>
              </a:prstGeom>
              <a:solidFill>
                <a:srgbClr val="140a00"/>
              </a:solidFill>
              <a:ln w="12600">
                <a:solidFill>
                  <a:srgbClr val="140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000640" y="50288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7238880" y="4800240"/>
              <a:ext cx="152280" cy="762120"/>
            </a:xfrm>
            <a:prstGeom prst="line">
              <a:avLst/>
            </a:prstGeom>
            <a:ln cap="rnd" w="25560">
              <a:solidFill>
                <a:srgbClr val="140a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38880" y="4724280"/>
              <a:ext cx="609480" cy="380880"/>
            </a:xfrm>
            <a:prstGeom prst="line">
              <a:avLst/>
            </a:prstGeom>
            <a:ln w="25560">
              <a:solidFill>
                <a:srgbClr val="140a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38880" y="4114440"/>
              <a:ext cx="304560" cy="7632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457840" y="3581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S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7620120" y="4267080"/>
            <a:ext cx="304560" cy="91440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8305920" y="4038480"/>
            <a:ext cx="609480" cy="398880"/>
            <a:chOff x="8305920" y="4038480"/>
            <a:chExt cx="609480" cy="398880"/>
          </a:xfrm>
        </p:grpSpPr>
        <p:sp>
          <p:nvSpPr>
            <p:cNvPr id="807" name=""/>
            <p:cNvSpPr/>
            <p:nvPr/>
          </p:nvSpPr>
          <p:spPr>
            <a:xfrm>
              <a:off x="8305920" y="4114800"/>
              <a:ext cx="75960" cy="76320"/>
            </a:xfrm>
            <a:prstGeom prst="ellipse">
              <a:avLst/>
            </a:prstGeom>
            <a:solidFill>
              <a:srgbClr val="140a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20120" y="4038480"/>
              <a:ext cx="3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7620120" y="4191120"/>
            <a:ext cx="685800" cy="0"/>
          </a:xfrm>
          <a:prstGeom prst="line">
            <a:avLst/>
          </a:prstGeom>
          <a:ln w="28440">
            <a:solidFill>
              <a:srgbClr val="140a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362320" y="5029200"/>
            <a:ext cx="30456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362320" y="5334120"/>
            <a:ext cx="30456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343400" y="57150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1907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2C9-75A5-428B-8745-2C5187EE4D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d. prz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914400" y="4648320"/>
            <a:ext cx="4191120" cy="1084680"/>
            <a:chOff x="914400" y="4648320"/>
            <a:chExt cx="4191120" cy="1084680"/>
          </a:xfrm>
        </p:grpSpPr>
        <p:sp>
          <p:nvSpPr>
            <p:cNvPr id="815" name=""/>
            <p:cNvSpPr/>
            <p:nvPr/>
          </p:nvSpPr>
          <p:spPr>
            <a:xfrm>
              <a:off x="914400" y="5029200"/>
              <a:ext cx="39625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5280" y="4648320"/>
              <a:ext cx="381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A   B   C   D   E   F   G   H   I   J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6765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5740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623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4320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240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098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9112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4956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295280" y="4800600"/>
              <a:ext cx="0" cy="8380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914400" y="5334120"/>
              <a:ext cx="39625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144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14400" y="53341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129528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676520" y="5029200"/>
            <a:ext cx="30456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12408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5334120"/>
            <a:ext cx="30456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24080" y="5334120"/>
            <a:ext cx="30492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505320" y="5334120"/>
            <a:ext cx="30456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057400" y="5334120"/>
            <a:ext cx="30492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91120" y="5334120"/>
            <a:ext cx="30456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09880" y="5334120"/>
            <a:ext cx="30492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09880" y="5029200"/>
            <a:ext cx="30492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91120" y="5029200"/>
            <a:ext cx="30456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257800" y="1295280"/>
            <a:ext cx="2133720" cy="2362320"/>
          </a:xfrm>
          <a:custGeom>
            <a:avLst/>
            <a:gdLst/>
            <a:ahLst/>
            <a:rect l="l" t="t" r="r" b="b"/>
            <a:pathLst>
              <a:path w="883" h="817">
                <a:moveTo>
                  <a:pt x="445" y="45"/>
                </a:moveTo>
                <a:cubicBezTo>
                  <a:pt x="380" y="88"/>
                  <a:pt x="305" y="216"/>
                  <a:pt x="265" y="288"/>
                </a:cubicBezTo>
                <a:cubicBezTo>
                  <a:pt x="238" y="337"/>
                  <a:pt x="261" y="316"/>
                  <a:pt x="211" y="351"/>
                </a:cubicBezTo>
                <a:cubicBezTo>
                  <a:pt x="193" y="363"/>
                  <a:pt x="157" y="387"/>
                  <a:pt x="157" y="387"/>
                </a:cubicBezTo>
                <a:cubicBezTo>
                  <a:pt x="151" y="396"/>
                  <a:pt x="146" y="406"/>
                  <a:pt x="139" y="414"/>
                </a:cubicBezTo>
                <a:cubicBezTo>
                  <a:pt x="128" y="427"/>
                  <a:pt x="113" y="436"/>
                  <a:pt x="103" y="450"/>
                </a:cubicBezTo>
                <a:cubicBezTo>
                  <a:pt x="97" y="458"/>
                  <a:pt x="98" y="469"/>
                  <a:pt x="94" y="477"/>
                </a:cubicBezTo>
                <a:cubicBezTo>
                  <a:pt x="80" y="504"/>
                  <a:pt x="66" y="533"/>
                  <a:pt x="49" y="558"/>
                </a:cubicBezTo>
                <a:cubicBezTo>
                  <a:pt x="38" y="603"/>
                  <a:pt x="15" y="638"/>
                  <a:pt x="4" y="684"/>
                </a:cubicBezTo>
                <a:cubicBezTo>
                  <a:pt x="7" y="708"/>
                  <a:pt x="0" y="736"/>
                  <a:pt x="13" y="756"/>
                </a:cubicBezTo>
                <a:cubicBezTo>
                  <a:pt x="29" y="780"/>
                  <a:pt x="103" y="801"/>
                  <a:pt x="130" y="810"/>
                </a:cubicBezTo>
                <a:cubicBezTo>
                  <a:pt x="223" y="804"/>
                  <a:pt x="255" y="817"/>
                  <a:pt x="319" y="774"/>
                </a:cubicBezTo>
                <a:cubicBezTo>
                  <a:pt x="339" y="744"/>
                  <a:pt x="363" y="715"/>
                  <a:pt x="382" y="684"/>
                </a:cubicBezTo>
                <a:cubicBezTo>
                  <a:pt x="390" y="671"/>
                  <a:pt x="405" y="632"/>
                  <a:pt x="418" y="621"/>
                </a:cubicBezTo>
                <a:cubicBezTo>
                  <a:pt x="484" y="564"/>
                  <a:pt x="573" y="563"/>
                  <a:pt x="652" y="540"/>
                </a:cubicBezTo>
                <a:cubicBezTo>
                  <a:pt x="682" y="531"/>
                  <a:pt x="704" y="514"/>
                  <a:pt x="733" y="504"/>
                </a:cubicBezTo>
                <a:cubicBezTo>
                  <a:pt x="803" y="434"/>
                  <a:pt x="844" y="375"/>
                  <a:pt x="868" y="279"/>
                </a:cubicBezTo>
                <a:cubicBezTo>
                  <a:pt x="861" y="156"/>
                  <a:pt x="883" y="132"/>
                  <a:pt x="814" y="63"/>
                </a:cubicBezTo>
                <a:cubicBezTo>
                  <a:pt x="782" y="31"/>
                  <a:pt x="768" y="33"/>
                  <a:pt x="724" y="18"/>
                </a:cubicBezTo>
                <a:cubicBezTo>
                  <a:pt x="706" y="12"/>
                  <a:pt x="670" y="0"/>
                  <a:pt x="670" y="0"/>
                </a:cubicBezTo>
                <a:cubicBezTo>
                  <a:pt x="616" y="3"/>
                  <a:pt x="562" y="4"/>
                  <a:pt x="508" y="9"/>
                </a:cubicBezTo>
                <a:cubicBezTo>
                  <a:pt x="489" y="11"/>
                  <a:pt x="445" y="20"/>
                  <a:pt x="445" y="4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19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159520" y="2195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921280" y="2500200"/>
            <a:ext cx="76320" cy="76320"/>
          </a:xfrm>
          <a:prstGeom prst="ellipse">
            <a:avLst/>
          </a:prstGeom>
          <a:solidFill>
            <a:srgbClr val="402000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45320" y="2195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638680" y="1828800"/>
            <a:ext cx="2514600" cy="2362320"/>
          </a:xfrm>
          <a:custGeom>
            <a:avLst/>
            <a:gdLst/>
            <a:ahLst/>
            <a:rect l="l" t="t" r="r" b="b"/>
            <a:pathLst>
              <a:path w="1580" h="1224">
                <a:moveTo>
                  <a:pt x="1323" y="45"/>
                </a:moveTo>
                <a:cubicBezTo>
                  <a:pt x="1418" y="21"/>
                  <a:pt x="1306" y="54"/>
                  <a:pt x="1386" y="18"/>
                </a:cubicBezTo>
                <a:cubicBezTo>
                  <a:pt x="1403" y="10"/>
                  <a:pt x="1440" y="0"/>
                  <a:pt x="1440" y="0"/>
                </a:cubicBezTo>
                <a:cubicBezTo>
                  <a:pt x="1471" y="23"/>
                  <a:pt x="1506" y="33"/>
                  <a:pt x="1530" y="63"/>
                </a:cubicBezTo>
                <a:cubicBezTo>
                  <a:pt x="1543" y="80"/>
                  <a:pt x="1566" y="117"/>
                  <a:pt x="1566" y="117"/>
                </a:cubicBezTo>
                <a:cubicBezTo>
                  <a:pt x="1575" y="195"/>
                  <a:pt x="1580" y="277"/>
                  <a:pt x="1548" y="351"/>
                </a:cubicBezTo>
                <a:cubicBezTo>
                  <a:pt x="1530" y="393"/>
                  <a:pt x="1504" y="423"/>
                  <a:pt x="1476" y="459"/>
                </a:cubicBezTo>
                <a:cubicBezTo>
                  <a:pt x="1431" y="516"/>
                  <a:pt x="1394" y="581"/>
                  <a:pt x="1350" y="639"/>
                </a:cubicBezTo>
                <a:cubicBezTo>
                  <a:pt x="1322" y="723"/>
                  <a:pt x="1256" y="785"/>
                  <a:pt x="1206" y="855"/>
                </a:cubicBezTo>
                <a:cubicBezTo>
                  <a:pt x="1164" y="913"/>
                  <a:pt x="1214" y="874"/>
                  <a:pt x="1161" y="909"/>
                </a:cubicBezTo>
                <a:cubicBezTo>
                  <a:pt x="1131" y="954"/>
                  <a:pt x="1092" y="982"/>
                  <a:pt x="1053" y="1017"/>
                </a:cubicBezTo>
                <a:cubicBezTo>
                  <a:pt x="1012" y="1054"/>
                  <a:pt x="965" y="1115"/>
                  <a:pt x="909" y="1134"/>
                </a:cubicBezTo>
                <a:cubicBezTo>
                  <a:pt x="846" y="1155"/>
                  <a:pt x="784" y="1172"/>
                  <a:pt x="720" y="1188"/>
                </a:cubicBezTo>
                <a:cubicBezTo>
                  <a:pt x="687" y="1196"/>
                  <a:pt x="654" y="1202"/>
                  <a:pt x="621" y="1206"/>
                </a:cubicBezTo>
                <a:cubicBezTo>
                  <a:pt x="567" y="1213"/>
                  <a:pt x="459" y="1224"/>
                  <a:pt x="459" y="1224"/>
                </a:cubicBezTo>
                <a:cubicBezTo>
                  <a:pt x="325" y="1217"/>
                  <a:pt x="295" y="1220"/>
                  <a:pt x="171" y="1197"/>
                </a:cubicBezTo>
                <a:cubicBezTo>
                  <a:pt x="114" y="1187"/>
                  <a:pt x="0" y="1161"/>
                  <a:pt x="0" y="1161"/>
                </a:cubicBezTo>
                <a:cubicBezTo>
                  <a:pt x="5" y="1130"/>
                  <a:pt x="6" y="1062"/>
                  <a:pt x="27" y="1035"/>
                </a:cubicBezTo>
                <a:cubicBezTo>
                  <a:pt x="42" y="1016"/>
                  <a:pt x="78" y="1009"/>
                  <a:pt x="99" y="1008"/>
                </a:cubicBezTo>
                <a:cubicBezTo>
                  <a:pt x="258" y="1003"/>
                  <a:pt x="417" y="1002"/>
                  <a:pt x="576" y="999"/>
                </a:cubicBezTo>
                <a:cubicBezTo>
                  <a:pt x="611" y="975"/>
                  <a:pt x="660" y="954"/>
                  <a:pt x="693" y="927"/>
                </a:cubicBezTo>
                <a:cubicBezTo>
                  <a:pt x="744" y="884"/>
                  <a:pt x="792" y="842"/>
                  <a:pt x="846" y="801"/>
                </a:cubicBezTo>
                <a:cubicBezTo>
                  <a:pt x="858" y="792"/>
                  <a:pt x="871" y="785"/>
                  <a:pt x="882" y="774"/>
                </a:cubicBezTo>
                <a:cubicBezTo>
                  <a:pt x="894" y="762"/>
                  <a:pt x="905" y="749"/>
                  <a:pt x="918" y="738"/>
                </a:cubicBezTo>
                <a:cubicBezTo>
                  <a:pt x="935" y="724"/>
                  <a:pt x="972" y="702"/>
                  <a:pt x="972" y="702"/>
                </a:cubicBezTo>
                <a:cubicBezTo>
                  <a:pt x="978" y="693"/>
                  <a:pt x="982" y="682"/>
                  <a:pt x="990" y="675"/>
                </a:cubicBezTo>
                <a:cubicBezTo>
                  <a:pt x="1006" y="661"/>
                  <a:pt x="1044" y="639"/>
                  <a:pt x="1044" y="639"/>
                </a:cubicBezTo>
                <a:cubicBezTo>
                  <a:pt x="1085" y="578"/>
                  <a:pt x="1144" y="527"/>
                  <a:pt x="1188" y="468"/>
                </a:cubicBezTo>
                <a:cubicBezTo>
                  <a:pt x="1211" y="400"/>
                  <a:pt x="1180" y="484"/>
                  <a:pt x="1215" y="414"/>
                </a:cubicBezTo>
                <a:cubicBezTo>
                  <a:pt x="1232" y="380"/>
                  <a:pt x="1239" y="333"/>
                  <a:pt x="1251" y="297"/>
                </a:cubicBezTo>
                <a:cubicBezTo>
                  <a:pt x="1267" y="249"/>
                  <a:pt x="1289" y="210"/>
                  <a:pt x="1305" y="162"/>
                </a:cubicBezTo>
                <a:cubicBezTo>
                  <a:pt x="1314" y="134"/>
                  <a:pt x="1327" y="106"/>
                  <a:pt x="1341" y="81"/>
                </a:cubicBezTo>
                <a:cubicBezTo>
                  <a:pt x="1352" y="62"/>
                  <a:pt x="1377" y="27"/>
                  <a:pt x="1377" y="27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40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672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402000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95880" y="2514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400800" y="2590920"/>
            <a:ext cx="76320" cy="75960"/>
          </a:xfrm>
          <a:prstGeom prst="ellipse">
            <a:avLst/>
          </a:prstGeom>
          <a:solidFill>
            <a:srgbClr val="402000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7220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400800" y="1905120"/>
            <a:ext cx="76320" cy="75960"/>
          </a:xfrm>
          <a:prstGeom prst="ellipse">
            <a:avLst/>
          </a:prstGeom>
          <a:solidFill>
            <a:srgbClr val="402000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5790960" y="2514600"/>
            <a:ext cx="152280" cy="1447920"/>
          </a:xfrm>
          <a:prstGeom prst="line">
            <a:avLst/>
          </a:prstGeom>
          <a:ln w="25560">
            <a:solidFill>
              <a:srgbClr val="140a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6019920" y="1981080"/>
            <a:ext cx="380880" cy="533520"/>
          </a:xfrm>
          <a:prstGeom prst="line">
            <a:avLst/>
          </a:prstGeom>
          <a:ln w="316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81680" y="2057400"/>
            <a:ext cx="76320" cy="76320"/>
          </a:xfrm>
          <a:prstGeom prst="ellipse">
            <a:avLst/>
          </a:prstGeom>
          <a:solidFill>
            <a:srgbClr val="140a00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781680" y="18288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943600" y="2514600"/>
            <a:ext cx="533520" cy="152280"/>
          </a:xfrm>
          <a:prstGeom prst="line">
            <a:avLst/>
          </a:prstGeom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019920" y="3200400"/>
            <a:ext cx="75960" cy="76320"/>
          </a:xfrm>
          <a:prstGeom prst="ellipse">
            <a:avLst/>
          </a:prstGeom>
          <a:solidFill>
            <a:srgbClr val="140a00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172200" y="31240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315200" y="3200400"/>
            <a:ext cx="76320" cy="76320"/>
          </a:xfrm>
          <a:prstGeom prst="ellipse">
            <a:avLst/>
          </a:prstGeom>
          <a:solidFill>
            <a:srgbClr val="140a00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67480" y="3124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095520" y="2666880"/>
            <a:ext cx="381240" cy="5335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77120" y="2666880"/>
            <a:ext cx="914400" cy="533520"/>
          </a:xfrm>
          <a:prstGeom prst="line">
            <a:avLst/>
          </a:prstGeom>
          <a:ln w="25560">
            <a:solidFill>
              <a:srgbClr val="140a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7120" y="1981080"/>
            <a:ext cx="304560" cy="76320"/>
          </a:xfrm>
          <a:prstGeom prst="line">
            <a:avLst/>
          </a:prstGeom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9608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924680" y="2057400"/>
            <a:ext cx="609480" cy="398880"/>
            <a:chOff x="7924680" y="2057400"/>
            <a:chExt cx="609480" cy="398880"/>
          </a:xfrm>
        </p:grpSpPr>
        <p:sp>
          <p:nvSpPr>
            <p:cNvPr id="868" name=""/>
            <p:cNvSpPr/>
            <p:nvPr/>
          </p:nvSpPr>
          <p:spPr>
            <a:xfrm>
              <a:off x="7924680" y="2133360"/>
              <a:ext cx="75960" cy="75960"/>
            </a:xfrm>
            <a:prstGeom prst="ellipse">
              <a:avLst/>
            </a:prstGeom>
            <a:solidFill>
              <a:srgbClr val="140a00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38880" y="2057400"/>
              <a:ext cx="3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2362320" y="5029200"/>
            <a:ext cx="304560" cy="30492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62320" y="5334120"/>
            <a:ext cx="304560" cy="304560"/>
          </a:xfrm>
          <a:prstGeom prst="rect">
            <a:avLst/>
          </a:prstGeom>
          <a:solidFill>
            <a:srgbClr val="ce9964"/>
          </a:solidFill>
          <a:ln w="12600">
            <a:solidFill>
              <a:srgbClr val="140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219320" y="1523880"/>
            <a:ext cx="3276360" cy="2851920"/>
            <a:chOff x="1219320" y="1523880"/>
            <a:chExt cx="3276360" cy="2851920"/>
          </a:xfrm>
        </p:grpSpPr>
        <p:sp>
          <p:nvSpPr>
            <p:cNvPr id="873" name=""/>
            <p:cNvSpPr/>
            <p:nvPr/>
          </p:nvSpPr>
          <p:spPr>
            <a:xfrm>
              <a:off x="2133720" y="169524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52680" y="1695240"/>
              <a:ext cx="30492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91120" y="2551320"/>
              <a:ext cx="304560" cy="34236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505320" y="375084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09680" y="3750840"/>
              <a:ext cx="30492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19320" y="272304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19520" y="2294640"/>
              <a:ext cx="304560" cy="34236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76720" y="2980080"/>
              <a:ext cx="30456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38280" y="2980080"/>
              <a:ext cx="304920" cy="342000"/>
            </a:xfrm>
            <a:prstGeom prst="ellipse">
              <a:avLst/>
            </a:prstGeom>
            <a:solidFill>
              <a:srgbClr val="ce9964"/>
            </a:solidFill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666520" y="2551320"/>
              <a:ext cx="22860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080" y="2551320"/>
              <a:ext cx="30492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43200" y="3151080"/>
              <a:ext cx="5335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14600" y="25513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00400" y="24660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819520" y="30654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438280" y="1866240"/>
              <a:ext cx="91440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438280" y="1952280"/>
              <a:ext cx="457200" cy="4280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123720" y="2037600"/>
              <a:ext cx="381240" cy="34236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57600" y="1952280"/>
              <a:ext cx="609480" cy="5990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1447560" y="1952280"/>
              <a:ext cx="685800" cy="77076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447920" y="3065400"/>
              <a:ext cx="761760" cy="85644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514600" y="4007520"/>
              <a:ext cx="990720" cy="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809880" y="2894040"/>
              <a:ext cx="533520" cy="94176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362320" y="3322080"/>
              <a:ext cx="15228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504960" y="3322080"/>
              <a:ext cx="152280" cy="4284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23880" y="2980080"/>
              <a:ext cx="990720" cy="17100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581280" y="2808000"/>
              <a:ext cx="609840" cy="256680"/>
            </a:xfrm>
            <a:prstGeom prst="line">
              <a:avLst/>
            </a:prstGeom>
            <a:ln w="12600">
              <a:solidFill>
                <a:srgbClr val="140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666880" y="15238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0376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38480" y="323676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40075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05320" y="323676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733920" y="25513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24080" y="19522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90920" y="18662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23880" y="203760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523880" y="34081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28800" y="27230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38280" y="332208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6858000" y="2057400"/>
            <a:ext cx="1143000" cy="152280"/>
          </a:xfrm>
          <a:prstGeom prst="line">
            <a:avLst/>
          </a:prstGeom>
          <a:ln w="25560">
            <a:solidFill>
              <a:srgbClr val="140a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17220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td........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09D-B5F3-482D-8ED7-21327584F3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dea algorytmów zachłanny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blem drzew rozpinający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Chodzenie po grafie ze stosem i kolejką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Algorytm Kruskal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blem najkrótszych  ścieże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Algorytm Dijksty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477-AEC7-4B0A-A7CD-5A4EF98DD9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371600" y="1219320"/>
            <a:ext cx="62485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{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 := s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while niepusty (S3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Dla wszystkich wierzchołków y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incydentnych z  x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do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case  y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2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if  d(x) +c(x,y) &lt;d(y) then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P(y) := x; d(y) := d(x) +c(x,y) fi 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case y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3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S3 := S3 –{y}; S2 := S2 +{y};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P(y) := x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d(y) := d(x) +c(x,y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Wybierz taki element w zb. S2, że d(z) jest minimaln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x := z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od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781680" y="29718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Koszt Algorytmu Dijkst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9343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O(card(V)</a:t>
            </a:r>
            <a:r>
              <a:rPr b="1" lang="pl-PL" sz="2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128-D418-4629-A7F8-AB28D8DF86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Na czym to polega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259092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 każdym kroku, w którym trzeba dokonać wyboru, wybierać zawsze rozwiązanie lokalnie optymalne, takie które w danym momencie działania algorytmu jest najlepsz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8288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0" lang="pl-PL" sz="3200" spc="-1" strike="noStrike">
                <a:solidFill>
                  <a:srgbClr val="ff6600"/>
                </a:solidFill>
                <a:latin typeface="Times New Roman"/>
              </a:rPr>
              <a:t>ZASA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5238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„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Greedy” algorithm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6471-F189-4240-A4B8-51552877AB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Drzewa rozpinają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5238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G będzie dowolnym grafem niezorientowanym  &lt;V, E&gt;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981080"/>
            <a:ext cx="5943600" cy="177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em rozpinającym grafu G = &lt;V, E&gt; nazywamy graf G* =&lt;V*, E*&gt; taki, ż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)  V* = V,      E*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2)   G* jest drzewem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tzn. grafem spójnym i acyklicznym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038480" y="3962520"/>
            <a:ext cx="1981080" cy="1600200"/>
            <a:chOff x="4038480" y="3962520"/>
            <a:chExt cx="1981080" cy="1600200"/>
          </a:xfrm>
        </p:grpSpPr>
        <p:sp>
          <p:nvSpPr>
            <p:cNvPr id="109" name=""/>
            <p:cNvSpPr/>
            <p:nvPr/>
          </p:nvSpPr>
          <p:spPr>
            <a:xfrm>
              <a:off x="5257800" y="403884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7280" y="4648320"/>
              <a:ext cx="15228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86400" y="5334120"/>
              <a:ext cx="15228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9360" y="541044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472464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360" y="3962520"/>
              <a:ext cx="15264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114800" y="4038480"/>
              <a:ext cx="304560" cy="685800"/>
            </a:xfrm>
            <a:prstGeom prst="line">
              <a:avLst/>
            </a:prstGeom>
            <a:ln w="3816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038840"/>
              <a:ext cx="685800" cy="76320"/>
            </a:xfrm>
            <a:prstGeom prst="line">
              <a:avLst/>
            </a:prstGeom>
            <a:ln w="3816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0760" y="4724640"/>
              <a:ext cx="167652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4115160"/>
              <a:ext cx="914400" cy="1218960"/>
            </a:xfrm>
            <a:prstGeom prst="line">
              <a:avLst/>
            </a:prstGeom>
            <a:ln w="4428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5680" y="4115160"/>
              <a:ext cx="0" cy="1371600"/>
            </a:xfrm>
            <a:prstGeom prst="line">
              <a:avLst/>
            </a:prstGeom>
            <a:ln w="3816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572000" y="4724280"/>
              <a:ext cx="137160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562360" y="4800600"/>
              <a:ext cx="38124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95680" y="5410080"/>
              <a:ext cx="99072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14800" y="4876920"/>
              <a:ext cx="30456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080" y="4191120"/>
              <a:ext cx="53352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5680" y="4038840"/>
              <a:ext cx="1447920" cy="685800"/>
            </a:xfrm>
            <a:prstGeom prst="line">
              <a:avLst/>
            </a:prstGeom>
            <a:ln w="3816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71600" y="3962520"/>
            <a:ext cx="1981080" cy="1600200"/>
            <a:chOff x="1371600" y="3962520"/>
            <a:chExt cx="1981080" cy="1600200"/>
          </a:xfrm>
        </p:grpSpPr>
        <p:sp>
          <p:nvSpPr>
            <p:cNvPr id="127" name=""/>
            <p:cNvSpPr/>
            <p:nvPr/>
          </p:nvSpPr>
          <p:spPr>
            <a:xfrm>
              <a:off x="2590560" y="403884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0400" y="4648320"/>
              <a:ext cx="15228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160" y="5334120"/>
              <a:ext cx="15264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2480" y="541044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1600" y="472464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52480" y="3962520"/>
              <a:ext cx="15228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447560" y="4038480"/>
              <a:ext cx="30492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4760" y="4038840"/>
              <a:ext cx="68580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523880" y="4724640"/>
              <a:ext cx="167652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04760" y="4115160"/>
              <a:ext cx="914400" cy="1218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28800" y="4115160"/>
              <a:ext cx="0" cy="1371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904760" y="4724280"/>
              <a:ext cx="137160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895480" y="4800600"/>
              <a:ext cx="38088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828800" y="5410080"/>
              <a:ext cx="99036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7560" y="4876920"/>
              <a:ext cx="30492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4191120"/>
              <a:ext cx="53316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8800" y="4038840"/>
              <a:ext cx="144756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05720" y="3962520"/>
            <a:ext cx="1980720" cy="1600200"/>
            <a:chOff x="6705720" y="3962520"/>
            <a:chExt cx="1980720" cy="1600200"/>
          </a:xfrm>
        </p:grpSpPr>
        <p:sp>
          <p:nvSpPr>
            <p:cNvPr id="145" name=""/>
            <p:cNvSpPr/>
            <p:nvPr/>
          </p:nvSpPr>
          <p:spPr>
            <a:xfrm>
              <a:off x="7924680" y="4038840"/>
              <a:ext cx="15192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160" y="464832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53280" y="5334120"/>
              <a:ext cx="15192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600" y="5410440"/>
              <a:ext cx="15192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05720" y="472464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86600" y="3962520"/>
              <a:ext cx="15192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781680" y="4038480"/>
              <a:ext cx="30456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8880" y="4038840"/>
              <a:ext cx="685440" cy="75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858000" y="4724280"/>
              <a:ext cx="1675800" cy="75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880" y="4114800"/>
              <a:ext cx="914040" cy="1219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560" y="4114800"/>
              <a:ext cx="0" cy="1371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238880" y="4724640"/>
              <a:ext cx="137124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229600" y="4800600"/>
              <a:ext cx="38052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162560" y="5410080"/>
              <a:ext cx="99036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81680" y="4876920"/>
              <a:ext cx="304560" cy="533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76960" y="4191120"/>
              <a:ext cx="533160" cy="533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62560" y="4038840"/>
              <a:ext cx="144756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 rot="5400000">
            <a:off x="266040" y="278136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6386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raf   i  jego drzewa rozpinając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AFB-B7B7-4502-B25A-86CE87A487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Jak znaleźć drzewo rozpinające grafu (1)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066680"/>
            <a:ext cx="411480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BFS</a:t>
            </a:r>
            <a:br>
              <a:rPr sz="28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łóż do kolejki wybrany wierzchołek grafu i zamarkuj g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póki kolejka nie jest pusta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Weź pierwszy  element z kolejki  i dopisz do kolejki wszystkie  wierzchołki z nim incydentne, o ile nie były zamarkowane i zamarkuj j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Wypisz krawędzie, po których przeszedłeś do nowych wierzchołk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. Usuń pierwszy element z kolejki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181480" y="1371600"/>
            <a:ext cx="2667240" cy="2136240"/>
            <a:chOff x="5181480" y="1371600"/>
            <a:chExt cx="2667240" cy="2136240"/>
          </a:xfrm>
        </p:grpSpPr>
        <p:sp>
          <p:nvSpPr>
            <p:cNvPr id="167" name=""/>
            <p:cNvSpPr/>
            <p:nvPr/>
          </p:nvSpPr>
          <p:spPr>
            <a:xfrm>
              <a:off x="670572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5200" y="236232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4320" y="304812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7280" y="31240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24382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67280" y="167652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562720" y="1752120"/>
              <a:ext cx="30456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19920" y="1752480"/>
              <a:ext cx="68580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38680" y="2438280"/>
              <a:ext cx="167652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943240" y="1828800"/>
              <a:ext cx="762120" cy="1371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019920" y="2437920"/>
              <a:ext cx="137160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010280" y="2514240"/>
              <a:ext cx="38124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943600" y="3124080"/>
              <a:ext cx="99072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2590920"/>
              <a:ext cx="30456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0" y="1905120"/>
              <a:ext cx="53352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7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1680" y="1447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2209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81480" y="2286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791320" y="3886200"/>
            <a:ext cx="1143000" cy="380880"/>
            <a:chOff x="5791320" y="3886200"/>
            <a:chExt cx="1143000" cy="380880"/>
          </a:xfrm>
        </p:grpSpPr>
        <p:sp>
          <p:nvSpPr>
            <p:cNvPr id="189" name=""/>
            <p:cNvSpPr/>
            <p:nvPr/>
          </p:nvSpPr>
          <p:spPr>
            <a:xfrm>
              <a:off x="5791320" y="3886200"/>
              <a:ext cx="38124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560" y="3886200"/>
              <a:ext cx="38088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440" y="3886200"/>
              <a:ext cx="38088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34320" y="4267080"/>
            <a:ext cx="380880" cy="3812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15200" y="4267080"/>
            <a:ext cx="380880" cy="3812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3505320"/>
            <a:ext cx="38088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5562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Wynik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5334120"/>
            <a:ext cx="3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5334120"/>
            <a:ext cx="3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b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172200" y="4267080"/>
            <a:ext cx="761760" cy="381240"/>
            <a:chOff x="6172200" y="4267080"/>
            <a:chExt cx="761760" cy="381240"/>
          </a:xfrm>
        </p:grpSpPr>
        <p:sp>
          <p:nvSpPr>
            <p:cNvPr id="199" name=""/>
            <p:cNvSpPr/>
            <p:nvPr/>
          </p:nvSpPr>
          <p:spPr>
            <a:xfrm>
              <a:off x="6553080" y="426708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2200" y="426708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553080" y="4648320"/>
            <a:ext cx="1143000" cy="380880"/>
            <a:chOff x="6553080" y="4648320"/>
            <a:chExt cx="1143000" cy="380880"/>
          </a:xfrm>
        </p:grpSpPr>
        <p:sp>
          <p:nvSpPr>
            <p:cNvPr id="202" name=""/>
            <p:cNvSpPr/>
            <p:nvPr/>
          </p:nvSpPr>
          <p:spPr>
            <a:xfrm>
              <a:off x="6933960" y="4648320"/>
              <a:ext cx="38124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200" y="4648320"/>
              <a:ext cx="38088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53080" y="4648320"/>
              <a:ext cx="38088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934320" y="5029200"/>
            <a:ext cx="761400" cy="380880"/>
            <a:chOff x="6934320" y="5029200"/>
            <a:chExt cx="761400" cy="380880"/>
          </a:xfrm>
        </p:grpSpPr>
        <p:sp>
          <p:nvSpPr>
            <p:cNvPr id="206" name=""/>
            <p:cNvSpPr/>
            <p:nvPr/>
          </p:nvSpPr>
          <p:spPr>
            <a:xfrm>
              <a:off x="6934320" y="5029200"/>
              <a:ext cx="38088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15200" y="5029200"/>
              <a:ext cx="38052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696080" y="5029200"/>
            <a:ext cx="38124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2362320"/>
            <a:ext cx="152280" cy="152280"/>
          </a:xfrm>
          <a:prstGeom prst="ellipse">
            <a:avLst/>
          </a:prstGeom>
          <a:solidFill>
            <a:srgbClr val="ff190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3124080"/>
            <a:ext cx="152640" cy="152640"/>
          </a:xfrm>
          <a:prstGeom prst="ellipse">
            <a:avLst/>
          </a:prstGeom>
          <a:solidFill>
            <a:srgbClr val="ff190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2438280"/>
            <a:ext cx="152280" cy="152640"/>
          </a:xfrm>
          <a:prstGeom prst="ellipse">
            <a:avLst/>
          </a:prstGeom>
          <a:solidFill>
            <a:srgbClr val="ff190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1752480"/>
            <a:ext cx="152280" cy="152640"/>
          </a:xfrm>
          <a:prstGeom prst="ellipse">
            <a:avLst/>
          </a:prstGeom>
          <a:solidFill>
            <a:srgbClr val="ff190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1676520"/>
            <a:ext cx="152640" cy="152280"/>
          </a:xfrm>
          <a:prstGeom prst="ellipse">
            <a:avLst/>
          </a:prstGeom>
          <a:solidFill>
            <a:srgbClr val="ff190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5334120"/>
            <a:ext cx="5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c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3048120"/>
            <a:ext cx="152280" cy="152280"/>
          </a:xfrm>
          <a:prstGeom prst="ellipse">
            <a:avLst/>
          </a:prstGeom>
          <a:solidFill>
            <a:srgbClr val="ff190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315200" y="5410080"/>
            <a:ext cx="761760" cy="381240"/>
            <a:chOff x="7315200" y="5410080"/>
            <a:chExt cx="761760" cy="381240"/>
          </a:xfrm>
        </p:grpSpPr>
        <p:sp>
          <p:nvSpPr>
            <p:cNvPr id="217" name=""/>
            <p:cNvSpPr/>
            <p:nvPr/>
          </p:nvSpPr>
          <p:spPr>
            <a:xfrm>
              <a:off x="7315200" y="541008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96080" y="541008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696080" y="5791320"/>
            <a:ext cx="38124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1905120"/>
            <a:ext cx="533520" cy="45720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943240" y="1752480"/>
            <a:ext cx="685800" cy="7632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562720" y="1752480"/>
            <a:ext cx="304560" cy="68580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943240" y="1828800"/>
            <a:ext cx="763560" cy="137160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009920" y="2514600"/>
            <a:ext cx="381240" cy="60948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5334120"/>
            <a:ext cx="3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a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5334120"/>
            <a:ext cx="3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A26-703C-4C99-9001-7A2149CBA8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Jak znaleźć drzewo rozpinające grafu(2)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990720"/>
            <a:ext cx="373392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DFS</a:t>
            </a:r>
            <a:br>
              <a:rPr sz="28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łóż na stos wybrany wierzchołek grafu  i zamarkuj g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póki stos nie jest pusty 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Weź  element ze szczytu stosu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 . Usuń ze stosu ten element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. Dopisz do stosu wszystkie  wierzchołki z nim incydentne, których jeszcze nie zamarkowano, a dopisane wierzchołki zamarkuj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. Wypisz krawędzie, po których przeszedłeś do wierzchołków zamarkowanych w p.3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181480" y="1371600"/>
            <a:ext cx="2667240" cy="2136240"/>
            <a:chOff x="5181480" y="1371600"/>
            <a:chExt cx="2667240" cy="2136240"/>
          </a:xfrm>
        </p:grpSpPr>
        <p:sp>
          <p:nvSpPr>
            <p:cNvPr id="230" name=""/>
            <p:cNvSpPr/>
            <p:nvPr/>
          </p:nvSpPr>
          <p:spPr>
            <a:xfrm>
              <a:off x="670572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5200" y="236232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34320" y="3048120"/>
              <a:ext cx="15228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67280" y="31240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6400" y="24382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67280" y="167652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562720" y="1752120"/>
              <a:ext cx="30456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19920" y="1752480"/>
              <a:ext cx="68580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638680" y="2438280"/>
              <a:ext cx="167652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943240" y="1828800"/>
              <a:ext cx="762120" cy="1371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019920" y="2437920"/>
              <a:ext cx="137160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010280" y="2514240"/>
              <a:ext cx="38124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943600" y="3124080"/>
              <a:ext cx="990720" cy="152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2720" y="2590920"/>
              <a:ext cx="30456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0" y="1905120"/>
              <a:ext cx="53352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81680" y="1447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67480" y="2209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8660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386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1480" y="2286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8320" y="5486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Wynik</a:t>
            </a:r>
            <a:r>
              <a:rPr b="0" lang="pl-PL" sz="2400" spc="-1" strike="noStrike">
                <a:solidFill>
                  <a:srgbClr val="ff66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48006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438280"/>
            <a:ext cx="152280" cy="152640"/>
          </a:xfrm>
          <a:prstGeom prst="ellipse">
            <a:avLst/>
          </a:prstGeom>
          <a:solidFill>
            <a:srgbClr val="ff1907"/>
          </a:solidFill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1676520"/>
            <a:ext cx="152640" cy="152280"/>
          </a:xfrm>
          <a:prstGeom prst="ellipse">
            <a:avLst/>
          </a:prstGeom>
          <a:solidFill>
            <a:srgbClr val="ff1907"/>
          </a:solidFill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3048120"/>
            <a:ext cx="152280" cy="152280"/>
          </a:xfrm>
          <a:prstGeom prst="ellipse">
            <a:avLst/>
          </a:prstGeom>
          <a:solidFill>
            <a:srgbClr val="ff1907"/>
          </a:solidFill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124080"/>
            <a:ext cx="152640" cy="152640"/>
          </a:xfrm>
          <a:prstGeom prst="ellipse">
            <a:avLst/>
          </a:prstGeom>
          <a:solidFill>
            <a:srgbClr val="ff1907"/>
          </a:solidFill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91520" y="2362320"/>
            <a:ext cx="152280" cy="152280"/>
          </a:xfrm>
          <a:prstGeom prst="ellipse">
            <a:avLst/>
          </a:prstGeom>
          <a:solidFill>
            <a:srgbClr val="ff1907"/>
          </a:solidFill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1752480"/>
            <a:ext cx="152280" cy="152640"/>
          </a:xfrm>
          <a:prstGeom prst="ellipse">
            <a:avLst/>
          </a:prstGeom>
          <a:solidFill>
            <a:srgbClr val="ff1907"/>
          </a:solidFill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53341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48006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441972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67480" y="48006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1752480"/>
            <a:ext cx="761760" cy="7632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562720" y="1752480"/>
            <a:ext cx="304560" cy="68580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48006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441972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4038480"/>
            <a:ext cx="533520" cy="3812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638680" y="2438280"/>
            <a:ext cx="1676520" cy="7632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2720" y="2514600"/>
            <a:ext cx="304560" cy="68580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533412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541008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f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400800" y="4419720"/>
            <a:ext cx="533520" cy="761760"/>
            <a:chOff x="6400800" y="4419720"/>
            <a:chExt cx="533520" cy="761760"/>
          </a:xfrm>
        </p:grpSpPr>
        <p:sp>
          <p:nvSpPr>
            <p:cNvPr id="273" name=""/>
            <p:cNvSpPr/>
            <p:nvPr/>
          </p:nvSpPr>
          <p:spPr>
            <a:xfrm>
              <a:off x="6400800" y="4800600"/>
              <a:ext cx="53352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00800" y="4419720"/>
              <a:ext cx="53352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6400800" y="4038480"/>
            <a:ext cx="533520" cy="3812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943600" y="3124080"/>
            <a:ext cx="990720" cy="15264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533412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934320" y="4419720"/>
            <a:ext cx="533160" cy="761760"/>
            <a:chOff x="6934320" y="4419720"/>
            <a:chExt cx="533160" cy="761760"/>
          </a:xfrm>
        </p:grpSpPr>
        <p:sp>
          <p:nvSpPr>
            <p:cNvPr id="279" name=""/>
            <p:cNvSpPr/>
            <p:nvPr/>
          </p:nvSpPr>
          <p:spPr>
            <a:xfrm>
              <a:off x="6934320" y="4800600"/>
              <a:ext cx="53316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34320" y="4419720"/>
              <a:ext cx="53316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8001000" y="5181480"/>
            <a:ext cx="457200" cy="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541008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47F-9F4F-4AC9-896B-86AD4E1FDC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Minimalne drzewo rozpinają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95280" y="1676520"/>
            <a:ext cx="723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będzie dany graf    G = &lt;V, E&gt;   spójny niezorientowany, skończony i niech c : 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R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ędzie funkcją kosztu określoną na krawędziach tego grafu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971800"/>
            <a:ext cx="6705360" cy="2224440"/>
          </a:xfrm>
          <a:prstGeom prst="rect">
            <a:avLst/>
          </a:prstGeom>
          <a:noFill/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Problem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la danego skończonego grafu G  oraz danej funkcji kosztu c, znaleźć minimalne drzewo rozpinające, tzn. takie drzewo &lt;V, T&gt; rozpinające grafu G, że suma kosztów jego krawędzi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c (e)  jest najmniejsza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9E1-E522-4E10-8808-922E329400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: sieć wodociągow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638680" y="1828800"/>
            <a:ext cx="2819520" cy="2743200"/>
            <a:chOff x="5638680" y="1828800"/>
            <a:chExt cx="2819520" cy="2743200"/>
          </a:xfrm>
        </p:grpSpPr>
        <p:sp>
          <p:nvSpPr>
            <p:cNvPr id="288" name=""/>
            <p:cNvSpPr/>
            <p:nvPr/>
          </p:nvSpPr>
          <p:spPr>
            <a:xfrm>
              <a:off x="6705360" y="18288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96080" y="213372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96080" y="312408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5360" y="36576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0960" y="327672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05360" y="27432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7280" y="22860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172200" y="2057040"/>
              <a:ext cx="53316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0280" y="1981080"/>
              <a:ext cx="6858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43600" y="2590920"/>
              <a:ext cx="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9560" y="3505320"/>
              <a:ext cx="68580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24680" y="2438280"/>
              <a:ext cx="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010280" y="3429000"/>
              <a:ext cx="8380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2514600"/>
              <a:ext cx="53316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0" y="2133720"/>
              <a:ext cx="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095880" y="2971800"/>
              <a:ext cx="6858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857640" y="3047760"/>
              <a:ext cx="759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009920" y="2971440"/>
              <a:ext cx="6858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933600" y="2362320"/>
              <a:ext cx="76212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2200" y="19810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3888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4680" y="25146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91160" y="3581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2200" y="36576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38680" y="2743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48160" y="2362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0" y="22860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160" y="2438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62560" y="30481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58000" y="33526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72200" y="29718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43600" y="3352680"/>
              <a:ext cx="2146320" cy="1219320"/>
            </a:xfrm>
            <a:custGeom>
              <a:avLst/>
              <a:gdLst/>
              <a:ahLst/>
              <a:rect l="l" t="t" r="r" b="b"/>
              <a:pathLst>
                <a:path w="1352" h="768">
                  <a:moveTo>
                    <a:pt x="0" y="96"/>
                  </a:moveTo>
                  <a:cubicBezTo>
                    <a:pt x="68" y="384"/>
                    <a:pt x="136" y="672"/>
                    <a:pt x="336" y="720"/>
                  </a:cubicBezTo>
                  <a:cubicBezTo>
                    <a:pt x="536" y="768"/>
                    <a:pt x="1048" y="504"/>
                    <a:pt x="1200" y="384"/>
                  </a:cubicBezTo>
                  <a:cubicBezTo>
                    <a:pt x="1352" y="264"/>
                    <a:pt x="1240" y="64"/>
                    <a:pt x="1248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76760" y="41911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600200" y="1828800"/>
            <a:ext cx="2819520" cy="2743200"/>
            <a:chOff x="1600200" y="1828800"/>
            <a:chExt cx="2819520" cy="2743200"/>
          </a:xfrm>
        </p:grpSpPr>
        <p:sp>
          <p:nvSpPr>
            <p:cNvPr id="322" name=""/>
            <p:cNvSpPr/>
            <p:nvPr/>
          </p:nvSpPr>
          <p:spPr>
            <a:xfrm>
              <a:off x="2666880" y="18288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57600" y="213372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57600" y="312408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66880" y="36576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52480" y="327672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66880" y="27432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2286000"/>
              <a:ext cx="304920" cy="30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133720" y="2057040"/>
              <a:ext cx="53316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71800" y="1981080"/>
              <a:ext cx="6858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05120" y="2590920"/>
              <a:ext cx="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1080" y="3505320"/>
              <a:ext cx="68580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86200" y="2438280"/>
              <a:ext cx="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971800" y="3429000"/>
              <a:ext cx="8380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33720" y="2514600"/>
              <a:ext cx="53316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19520" y="2133720"/>
              <a:ext cx="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057400" y="2971800"/>
              <a:ext cx="6858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2819160" y="3047760"/>
              <a:ext cx="759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2971440" y="2971440"/>
              <a:ext cx="6858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895120" y="2362320"/>
              <a:ext cx="76212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19810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0400" y="182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5146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52680" y="3581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36576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00200" y="2743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09680" y="2362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19520" y="22860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52680" y="2438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4080" y="30481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19520" y="33526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33720" y="29718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05120" y="3352680"/>
              <a:ext cx="2146320" cy="1219320"/>
            </a:xfrm>
            <a:custGeom>
              <a:avLst/>
              <a:gdLst/>
              <a:ahLst/>
              <a:rect l="l" t="t" r="r" b="b"/>
              <a:pathLst>
                <a:path w="1352" h="768">
                  <a:moveTo>
                    <a:pt x="0" y="96"/>
                  </a:moveTo>
                  <a:cubicBezTo>
                    <a:pt x="68" y="384"/>
                    <a:pt x="136" y="672"/>
                    <a:pt x="336" y="720"/>
                  </a:cubicBezTo>
                  <a:cubicBezTo>
                    <a:pt x="536" y="768"/>
                    <a:pt x="1048" y="504"/>
                    <a:pt x="1200" y="384"/>
                  </a:cubicBezTo>
                  <a:cubicBezTo>
                    <a:pt x="1352" y="264"/>
                    <a:pt x="1240" y="64"/>
                    <a:pt x="1248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38280" y="41911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828800" y="4800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akieś drzewo rozpinają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48769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inimalne drzewo rozpinają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7720" y="2133720"/>
            <a:ext cx="0" cy="68724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2438280"/>
            <a:ext cx="609480" cy="45720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895120" y="2362320"/>
            <a:ext cx="838440" cy="53316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057400" y="2971800"/>
            <a:ext cx="685800" cy="45720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2819160" y="3047760"/>
            <a:ext cx="75960" cy="60948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2895120" y="2971440"/>
            <a:ext cx="762120" cy="228600"/>
          </a:xfrm>
          <a:prstGeom prst="line">
            <a:avLst/>
          </a:prstGeom>
          <a:ln w="38160">
            <a:solidFill>
              <a:srgbClr val="ff1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6019560" y="3504960"/>
            <a:ext cx="687240" cy="306360"/>
          </a:xfrm>
          <a:prstGeom prst="line">
            <a:avLst/>
          </a:prstGeom>
          <a:ln w="38160">
            <a:solidFill>
              <a:srgbClr val="32c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095880" y="2971800"/>
            <a:ext cx="685800" cy="457200"/>
          </a:xfrm>
          <a:prstGeom prst="line">
            <a:avLst/>
          </a:prstGeom>
          <a:ln w="38160">
            <a:solidFill>
              <a:srgbClr val="32c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6172200" y="2514600"/>
            <a:ext cx="533520" cy="380880"/>
          </a:xfrm>
          <a:prstGeom prst="line">
            <a:avLst/>
          </a:prstGeom>
          <a:ln w="38160">
            <a:solidFill>
              <a:srgbClr val="32c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58000" y="2133360"/>
            <a:ext cx="0" cy="609480"/>
          </a:xfrm>
          <a:prstGeom prst="line">
            <a:avLst/>
          </a:prstGeom>
          <a:ln w="38160">
            <a:solidFill>
              <a:srgbClr val="32c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010280" y="2361960"/>
            <a:ext cx="762120" cy="533160"/>
          </a:xfrm>
          <a:prstGeom prst="line">
            <a:avLst/>
          </a:prstGeom>
          <a:ln w="38160">
            <a:solidFill>
              <a:srgbClr val="32c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4680" y="2438280"/>
            <a:ext cx="0" cy="685800"/>
          </a:xfrm>
          <a:prstGeom prst="line">
            <a:avLst/>
          </a:prstGeom>
          <a:ln w="38160">
            <a:solidFill>
              <a:srgbClr val="32c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DB8-4A32-4444-80AC-D72BCC9731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Le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15238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G = &lt;V, E&gt; będzie grafem spójnym, skończonym i niech c będzie jego funkcją koszt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228600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d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= &lt;V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T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&gt;, d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= &lt;V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T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&gt;,......, d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&lt;V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T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&gt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ędzie danym lasem rozpinającym 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609480"/>
            <a:ext cx="3048120" cy="1524240"/>
          </a:xfrm>
          <a:prstGeom prst="wedgeRoundRectCallout">
            <a:avLst>
              <a:gd name="adj1" fmla="val -57865"/>
              <a:gd name="adj2" fmla="val 86981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V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: 1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k}= V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  dla 1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k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V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V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dla 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- drzew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66680" y="3407040"/>
            <a:ext cx="4724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 e = (v,w) będzie krawędzią o minimalnym koszcie, która nie należy do żadnego z drzew d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4550040"/>
            <a:ext cx="5410080" cy="135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 istnieje drzewo rozpinające  &lt;V,T*&gt; grafu G, takie że 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* oraz &lt;V, T*&gt; ma najmniejszy koszt wśród drzew rozpinających zawierających wszystkie T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29520" y="2998800"/>
            <a:ext cx="2176200" cy="2171520"/>
          </a:xfrm>
          <a:custGeom>
            <a:avLst/>
            <a:gdLst/>
            <a:ahLst/>
            <a:rect l="l" t="t" r="r" b="b"/>
            <a:pathLst>
              <a:path w="1371" h="1368">
                <a:moveTo>
                  <a:pt x="720" y="151"/>
                </a:moveTo>
                <a:cubicBezTo>
                  <a:pt x="609" y="172"/>
                  <a:pt x="497" y="169"/>
                  <a:pt x="386" y="191"/>
                </a:cubicBezTo>
                <a:cubicBezTo>
                  <a:pt x="261" y="215"/>
                  <a:pt x="131" y="280"/>
                  <a:pt x="26" y="351"/>
                </a:cubicBezTo>
                <a:cubicBezTo>
                  <a:pt x="18" y="382"/>
                  <a:pt x="0" y="412"/>
                  <a:pt x="0" y="444"/>
                </a:cubicBezTo>
                <a:cubicBezTo>
                  <a:pt x="0" y="476"/>
                  <a:pt x="1" y="509"/>
                  <a:pt x="13" y="538"/>
                </a:cubicBezTo>
                <a:cubicBezTo>
                  <a:pt x="36" y="597"/>
                  <a:pt x="132" y="604"/>
                  <a:pt x="186" y="618"/>
                </a:cubicBezTo>
                <a:cubicBezTo>
                  <a:pt x="212" y="718"/>
                  <a:pt x="179" y="804"/>
                  <a:pt x="146" y="898"/>
                </a:cubicBezTo>
                <a:cubicBezTo>
                  <a:pt x="134" y="932"/>
                  <a:pt x="120" y="1004"/>
                  <a:pt x="120" y="1004"/>
                </a:cubicBezTo>
                <a:cubicBezTo>
                  <a:pt x="124" y="1080"/>
                  <a:pt x="73" y="1185"/>
                  <a:pt x="133" y="1231"/>
                </a:cubicBezTo>
                <a:cubicBezTo>
                  <a:pt x="312" y="1368"/>
                  <a:pt x="464" y="1167"/>
                  <a:pt x="560" y="1071"/>
                </a:cubicBezTo>
                <a:cubicBezTo>
                  <a:pt x="585" y="1046"/>
                  <a:pt x="615" y="1029"/>
                  <a:pt x="640" y="1004"/>
                </a:cubicBezTo>
                <a:cubicBezTo>
                  <a:pt x="644" y="933"/>
                  <a:pt x="620" y="854"/>
                  <a:pt x="653" y="791"/>
                </a:cubicBezTo>
                <a:cubicBezTo>
                  <a:pt x="670" y="759"/>
                  <a:pt x="726" y="790"/>
                  <a:pt x="760" y="778"/>
                </a:cubicBezTo>
                <a:cubicBezTo>
                  <a:pt x="823" y="755"/>
                  <a:pt x="774" y="724"/>
                  <a:pt x="840" y="711"/>
                </a:cubicBezTo>
                <a:cubicBezTo>
                  <a:pt x="892" y="701"/>
                  <a:pt x="947" y="702"/>
                  <a:pt x="1000" y="698"/>
                </a:cubicBezTo>
                <a:cubicBezTo>
                  <a:pt x="1116" y="639"/>
                  <a:pt x="978" y="704"/>
                  <a:pt x="1160" y="644"/>
                </a:cubicBezTo>
                <a:cubicBezTo>
                  <a:pt x="1192" y="633"/>
                  <a:pt x="1221" y="615"/>
                  <a:pt x="1253" y="604"/>
                </a:cubicBezTo>
                <a:cubicBezTo>
                  <a:pt x="1293" y="564"/>
                  <a:pt x="1316" y="537"/>
                  <a:pt x="1333" y="484"/>
                </a:cubicBezTo>
                <a:cubicBezTo>
                  <a:pt x="1346" y="392"/>
                  <a:pt x="1371" y="282"/>
                  <a:pt x="1306" y="204"/>
                </a:cubicBezTo>
                <a:cubicBezTo>
                  <a:pt x="1286" y="180"/>
                  <a:pt x="1255" y="151"/>
                  <a:pt x="1226" y="138"/>
                </a:cubicBezTo>
                <a:cubicBezTo>
                  <a:pt x="1200" y="127"/>
                  <a:pt x="1146" y="111"/>
                  <a:pt x="1146" y="111"/>
                </a:cubicBezTo>
                <a:cubicBezTo>
                  <a:pt x="723" y="124"/>
                  <a:pt x="793" y="0"/>
                  <a:pt x="720" y="151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00920" y="32504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3657600"/>
            <a:ext cx="152280" cy="152280"/>
          </a:xfrm>
          <a:prstGeom prst="ellipse">
            <a:avLst/>
          </a:prstGeom>
          <a:solidFill>
            <a:srgbClr val="ff190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43800" y="342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229600" y="4724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3809880"/>
            <a:ext cx="762120" cy="914400"/>
          </a:xfrm>
          <a:prstGeom prst="line">
            <a:avLst/>
          </a:prstGeom>
          <a:ln w="414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06280" y="457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7010280" y="5180400"/>
            <a:ext cx="578880" cy="459720"/>
            <a:chOff x="7010280" y="5180400"/>
            <a:chExt cx="578880" cy="459720"/>
          </a:xfrm>
        </p:grpSpPr>
        <p:sp>
          <p:nvSpPr>
            <p:cNvPr id="383" name=""/>
            <p:cNvSpPr/>
            <p:nvPr/>
          </p:nvSpPr>
          <p:spPr>
            <a:xfrm>
              <a:off x="7010280" y="5257440"/>
              <a:ext cx="152640" cy="152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86960" y="51804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w’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61280" y="4494600"/>
            <a:ext cx="473040" cy="459720"/>
            <a:chOff x="6461280" y="4494600"/>
            <a:chExt cx="473040" cy="459720"/>
          </a:xfrm>
        </p:grpSpPr>
        <p:sp>
          <p:nvSpPr>
            <p:cNvPr id="386" name=""/>
            <p:cNvSpPr/>
            <p:nvPr/>
          </p:nvSpPr>
          <p:spPr>
            <a:xfrm>
              <a:off x="6781680" y="4724280"/>
              <a:ext cx="152640" cy="152640"/>
            </a:xfrm>
            <a:prstGeom prst="ellipse">
              <a:avLst/>
            </a:prstGeom>
            <a:solidFill>
              <a:srgbClr val="32c8d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61280" y="449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v’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858000" y="3809880"/>
            <a:ext cx="1546200" cy="1959120"/>
          </a:xfrm>
          <a:custGeom>
            <a:avLst/>
            <a:gdLst/>
            <a:ahLst/>
            <a:rect l="l" t="t" r="r" b="b"/>
            <a:pathLst>
              <a:path w="974" h="1234">
                <a:moveTo>
                  <a:pt x="280" y="0"/>
                </a:moveTo>
                <a:cubicBezTo>
                  <a:pt x="253" y="4"/>
                  <a:pt x="224" y="0"/>
                  <a:pt x="200" y="13"/>
                </a:cubicBezTo>
                <a:cubicBezTo>
                  <a:pt x="190" y="18"/>
                  <a:pt x="144" y="92"/>
                  <a:pt x="134" y="107"/>
                </a:cubicBezTo>
                <a:cubicBezTo>
                  <a:pt x="170" y="162"/>
                  <a:pt x="193" y="152"/>
                  <a:pt x="214" y="213"/>
                </a:cubicBezTo>
                <a:cubicBezTo>
                  <a:pt x="188" y="336"/>
                  <a:pt x="201" y="317"/>
                  <a:pt x="67" y="333"/>
                </a:cubicBezTo>
                <a:cubicBezTo>
                  <a:pt x="24" y="397"/>
                  <a:pt x="38" y="349"/>
                  <a:pt x="67" y="413"/>
                </a:cubicBezTo>
                <a:cubicBezTo>
                  <a:pt x="79" y="439"/>
                  <a:pt x="94" y="493"/>
                  <a:pt x="94" y="493"/>
                </a:cubicBezTo>
                <a:cubicBezTo>
                  <a:pt x="81" y="502"/>
                  <a:pt x="64" y="507"/>
                  <a:pt x="54" y="520"/>
                </a:cubicBezTo>
                <a:cubicBezTo>
                  <a:pt x="41" y="536"/>
                  <a:pt x="29" y="619"/>
                  <a:pt x="27" y="627"/>
                </a:cubicBezTo>
                <a:cubicBezTo>
                  <a:pt x="24" y="641"/>
                  <a:pt x="17" y="653"/>
                  <a:pt x="14" y="667"/>
                </a:cubicBezTo>
                <a:cubicBezTo>
                  <a:pt x="8" y="689"/>
                  <a:pt x="5" y="711"/>
                  <a:pt x="0" y="733"/>
                </a:cubicBezTo>
                <a:cubicBezTo>
                  <a:pt x="27" y="751"/>
                  <a:pt x="53" y="769"/>
                  <a:pt x="80" y="787"/>
                </a:cubicBezTo>
                <a:cubicBezTo>
                  <a:pt x="93" y="796"/>
                  <a:pt x="120" y="813"/>
                  <a:pt x="120" y="813"/>
                </a:cubicBezTo>
                <a:cubicBezTo>
                  <a:pt x="130" y="828"/>
                  <a:pt x="164" y="870"/>
                  <a:pt x="160" y="893"/>
                </a:cubicBezTo>
                <a:cubicBezTo>
                  <a:pt x="157" y="909"/>
                  <a:pt x="141" y="919"/>
                  <a:pt x="134" y="933"/>
                </a:cubicBezTo>
                <a:cubicBezTo>
                  <a:pt x="128" y="946"/>
                  <a:pt x="125" y="960"/>
                  <a:pt x="120" y="973"/>
                </a:cubicBezTo>
                <a:cubicBezTo>
                  <a:pt x="125" y="1004"/>
                  <a:pt x="120" y="1039"/>
                  <a:pt x="134" y="1067"/>
                </a:cubicBezTo>
                <a:cubicBezTo>
                  <a:pt x="140" y="1080"/>
                  <a:pt x="161" y="1074"/>
                  <a:pt x="174" y="1080"/>
                </a:cubicBezTo>
                <a:cubicBezTo>
                  <a:pt x="188" y="1087"/>
                  <a:pt x="201" y="1098"/>
                  <a:pt x="214" y="1107"/>
                </a:cubicBezTo>
                <a:cubicBezTo>
                  <a:pt x="251" y="1163"/>
                  <a:pt x="236" y="1175"/>
                  <a:pt x="294" y="1213"/>
                </a:cubicBezTo>
                <a:cubicBezTo>
                  <a:pt x="391" y="1150"/>
                  <a:pt x="276" y="1234"/>
                  <a:pt x="360" y="1133"/>
                </a:cubicBezTo>
                <a:cubicBezTo>
                  <a:pt x="370" y="1121"/>
                  <a:pt x="388" y="1117"/>
                  <a:pt x="400" y="1107"/>
                </a:cubicBezTo>
                <a:cubicBezTo>
                  <a:pt x="511" y="1015"/>
                  <a:pt x="373" y="1112"/>
                  <a:pt x="480" y="1040"/>
                </a:cubicBezTo>
                <a:cubicBezTo>
                  <a:pt x="652" y="1064"/>
                  <a:pt x="635" y="1066"/>
                  <a:pt x="854" y="1053"/>
                </a:cubicBezTo>
                <a:cubicBezTo>
                  <a:pt x="839" y="911"/>
                  <a:pt x="805" y="917"/>
                  <a:pt x="920" y="880"/>
                </a:cubicBezTo>
                <a:cubicBezTo>
                  <a:pt x="929" y="867"/>
                  <a:pt x="940" y="855"/>
                  <a:pt x="947" y="840"/>
                </a:cubicBezTo>
                <a:cubicBezTo>
                  <a:pt x="959" y="814"/>
                  <a:pt x="974" y="760"/>
                  <a:pt x="974" y="760"/>
                </a:cubicBezTo>
                <a:cubicBezTo>
                  <a:pt x="965" y="747"/>
                  <a:pt x="958" y="731"/>
                  <a:pt x="947" y="720"/>
                </a:cubicBezTo>
                <a:cubicBezTo>
                  <a:pt x="936" y="709"/>
                  <a:pt x="907" y="693"/>
                  <a:pt x="907" y="693"/>
                </a:cubicBezTo>
              </a:path>
            </a:pathLst>
          </a:custGeom>
          <a:noFill/>
          <a:ln w="25560">
            <a:solidFill>
              <a:srgbClr val="ff19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0" y="4869000"/>
            <a:ext cx="210960" cy="358560"/>
          </a:xfrm>
          <a:custGeom>
            <a:avLst/>
            <a:gdLst/>
            <a:ahLst/>
            <a:rect l="l" t="t" r="r" b="b"/>
            <a:pathLst>
              <a:path w="133" h="226">
                <a:moveTo>
                  <a:pt x="0" y="0"/>
                </a:moveTo>
                <a:cubicBezTo>
                  <a:pt x="16" y="64"/>
                  <a:pt x="3" y="85"/>
                  <a:pt x="67" y="106"/>
                </a:cubicBezTo>
                <a:cubicBezTo>
                  <a:pt x="128" y="147"/>
                  <a:pt x="133" y="152"/>
                  <a:pt x="133" y="226"/>
                </a:cubicBezTo>
              </a:path>
            </a:pathLst>
          </a:custGeom>
          <a:noFill/>
          <a:ln w="414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00600" y="518148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5562720"/>
            <a:ext cx="259092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e    c(v’,w’) &gt; c(v,w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1  Algorytmy  na graf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D60-F9CE-4A39-B2E8-1FA2F23834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dc:language>en-US</dc:language>
  <cp:lastModifiedBy>mirkowska</cp:lastModifiedBy>
  <cp:lastPrinted>2002-04-28T19:50:06Z</cp:lastPrinted>
  <dcterms:modified xsi:type="dcterms:W3CDTF">2003-05-26T14:11:07Z</dcterms:modified>
  <cp:revision>85</cp:revision>
  <dc:subject>Algorytmy na grafach</dc:subject>
  <dc:title>ALGORYTMY I STRUKTURY  DANYCH</dc:title>
</cp:coreProperties>
</file>