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FF7-A9C3-4E77-8EAA-F284F20F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E65-D24E-426F-8B30-5D079D1E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3A6-AF87-41E5-9336-83AA1DB5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536-6AF4-4E09-B709-8D14502C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97A9-3D5A-49C6-94FA-3411D278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A48-E0FD-4250-A951-50AF090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C6E3-5299-4428-A236-C557EBC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75B7-3344-46F3-A63F-811B4BEC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EAF1-9586-40CA-BB52-8D8BF15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994-0E3C-41C3-A38D-4DB607D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6D0-FA8A-46B4-888A-EC168F4D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7AE-6A8C-43DD-B5BE-EF439824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576-B8EF-47EF-9E23-55FB3FB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A1A9-0563-47B4-BC1E-6EFCCDC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81C-A32B-4EF7-8947-04FDFE4A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570-8AA4-44EF-AAA8-8060CC94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52A-1376-4E48-8B18-57BBC76B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C3E-7A93-474C-AA71-C165EEAF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5E4-F542-405E-B7E1-37927E5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A78-DA0E-47BC-881B-A3FFA1CF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C45-7AA9-4881-A28D-6A8CB99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626-A0A4-4327-92B0-FB69089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C3E-4554-4541-A22E-915816D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8B-0EC6-4030-BF90-681B77C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E2A9-7AAD-4783-B93C-86E17B9F131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9496-C91C-4C0A-85B7-F1830C98633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Szacowanie złożoności oprogramowan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5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minik Strzelichow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2644 gr.5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Wady metody COCOMO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Liczba linii kodu znana jest dopiero gdy system jest już napisany – szacunki z dużym błęd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Liczba linii kodu zależna od języka programowani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Problemy z nowoczesnymi środkami programistycznym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PA – Function Point Analysis</a:t>
            </a: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Metoda Punktów Funkcyjnyc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oda punkt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funkcyjnych s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 do szacowania oprogramowania zar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no w przypadku nowych projekt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, jak i modernizacji oraz rozbudowy istniej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ych system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oda ta jest propagowana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rozwijana przez International Function Point Users Group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Zalety FP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PA jest używana bez względu na używany język programowan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PA jest stosowana do szacowania całych projektów informatycznych lub ich poszczególnych modułó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PA jest stosowana do szacowania nowego oprogramowania jak i w przypadku modernizacji już pracujące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ożliwość stosowania we wczesnych fazach projek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ożliwość szacowania na podstawie specyfikacj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Wady FP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warancję osiągnięcia poprawnych rezultatów dają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specjaliści FPA 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ł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ne o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dki certyfikacji znajduj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i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w USA, co dla polskich specjalistow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firm jest du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m ograniczeniem, przede wszystkim ze wzgl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u na du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 koszty podr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ż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, samych szkole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ń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eminari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organizowanych przez IFPU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prawne wyliczenie punktów funkcyjnych wymaga sporo czasu ,a co za tym idzie jest dość kosztow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Rezultaty obliczeń FPA w przypadku systemów o rozmiarze mniejszym niż 15 punktów funkcyjnych mogą być niereprezentatyw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Jak obliczyć punkty funkcyjne 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W rzeczywistości oblicza się ją na podstawie szczegółowej specyfikacji systemu przy użyciu następującego równania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P = UFC * TCF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P = UFC * TCF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FC to pierwotna liczba punktów funkcyjnych, a TCF to współczynnik złożoności technicznej, leżący między 0.65 a 1.35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FC uzyskuje się poprzez sumowanie ważonych ilości wejść, wyjść, logicznych plików głównych, plików interfejsowych i usług widocznych dla użytkownika systemu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Jak obliczyć punkty funkcyjne - wzó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Wagi stosowane do powyższych elementów zależą od typu elementów. Elementy dzieli się na</a:t>
            </a:r>
            <a:r>
              <a:rPr b="1" i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pl-PL" sz="2200" spc="-1" strike="noStrike">
                <a:solidFill>
                  <a:srgbClr val="ff9933"/>
                </a:solidFill>
                <a:latin typeface="Arial"/>
                <a:ea typeface="Times New Roman"/>
              </a:rPr>
              <a:t>proste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pl-PL" sz="2200" spc="-1" strike="noStrike">
                <a:solidFill>
                  <a:srgbClr val="ff9933"/>
                </a:solidFill>
                <a:latin typeface="Arial"/>
                <a:ea typeface="Times New Roman"/>
              </a:rPr>
              <a:t>przeciętne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lub </a:t>
            </a:r>
            <a:r>
              <a:rPr b="1" i="1" lang="pl-PL" sz="2200" spc="-1" strike="noStrike">
                <a:solidFill>
                  <a:srgbClr val="ff9933"/>
                </a:solidFill>
                <a:latin typeface="Arial"/>
                <a:ea typeface="Times New Roman"/>
              </a:rPr>
              <a:t>złożone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Są one oceniane pod względem złożoności zależnie od liczby pozycji danych i typów plików.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CF jest liczbą ustalaną poprzez uwzględnianie dodatkowego wpływu czternastu czynników i jest określane w odniesieniu do rozpatrywanego systemu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asady liczenia punktów funkcyjnych określane są przez organizacje IFPU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8560" y="574560"/>
            <a:ext cx="717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792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FPA - wag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FPA  Podsumowani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etoda punktów funkcyjnych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jak na razie jest najlepszą metodą pomiaru oprogramowania- jest ciągle rozwijana i dobrze opisana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ie jest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zazwyczaj,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stosowana w Polsce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,j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est natomiast metodą sprawdzoną w świecie, gdzie szacowanie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oprogramowania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jest zjawiskiem powszechny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ozwala na efektywne zarządzanie projektami informatycznymi oraz kosztami wynikającymi z ich realizacj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Metody szaco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Nauka o programach Halste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Liczba cyklomatyczna McCabe’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COCO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Metoda Punktów Funkcyjny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Nauka o programach Halsteada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ryka ta bazuje na wyróżnieniu w programie operatorów i operandów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Wzór na miarę złożoności oprogramowania wg Halsteada przedstawia się następując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  = n</a:t>
            </a:r>
            <a:r>
              <a:rPr b="1" lang="de-DE" sz="2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N</a:t>
            </a:r>
            <a:r>
              <a:rPr b="1" lang="de-DE" sz="2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Nlog n / 2 n</a:t>
            </a:r>
            <a:r>
              <a:rPr b="1" lang="de-DE" sz="2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Liczba cyklomatyczna McCabe'a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ryka McCabe’a odnosi się do schematu blokowego programu i jest równa liczbie niezależnych dróg w tym schemacie. W praktyce metryka ta jest zwykle równa jeden plus liczba decyzji w programie.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iczbę cyklomatyczną można wyliczać, analizując schemat blokowy oprogramowania poprzez branie pod uwagę krawędzi (e) tego schematu, jak również węzłów (n). Wyżej wymienione wartości należy odpowiednio podstawić do następującego wzoru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(P) = e - n + 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lgorytmiczna metoda szacowania kosztow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Arial"/>
              </a:rPr>
              <a:t>COCOM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COCOMO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COMO jest oparte na kilku formułach pozwalających oszacować całkowity koszt przedsięwzięcia na podstawie oszacowanej liczby linii kodu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czba ta staje się przewidywalna dopiero wtedy, gdy system jest napisa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iara ta jest zależna od stosowanego języka programowa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Klasyfikacja przedsięwzięć - COCOMO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zedsięwzięcia zaliczamy do jednej z klas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9933"/>
                </a:solidFill>
                <a:latin typeface="Arial"/>
              </a:rPr>
              <a:t>łatwych</a:t>
            </a:r>
            <a:r>
              <a:rPr b="1" i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(organicznych) – małe zespoły, zespół o podobnych wysokich kwalifikacjach, dziedzina i narzędzia dobrze zna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9933"/>
                </a:solidFill>
                <a:latin typeface="Arial"/>
              </a:rPr>
              <a:t>niełatwych</a:t>
            </a:r>
            <a:r>
              <a:rPr b="1" lang="pl-PL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(pół-oderwanych) – członkowie zespołu różnią się stopniem zaawansowania, dziedzina nie jest dobrze zn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9933"/>
                </a:solidFill>
                <a:latin typeface="Arial"/>
              </a:rPr>
              <a:t>trudnych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(osadzonych) – systemy o bardzo złożonych wymaganiach, dziedzina problemu, narzędzia mało znane, zespół wcześniej nie realizował podobnych zada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bcbcb"/>
                </a:solidFill>
                <a:latin typeface="Times New Roman"/>
              </a:rPr>
              <a:t>COCOMO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9933"/>
                </a:solidFill>
                <a:latin typeface="Monotype Corsiva"/>
                <a:ea typeface="Arial"/>
              </a:rPr>
              <a:t>n</a:t>
            </a:r>
            <a:r>
              <a:rPr b="1" lang="pl-PL" sz="2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– nakład pra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9933"/>
                </a:solidFill>
                <a:latin typeface="Monotype Corsiva"/>
              </a:rPr>
              <a:t>K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KDSI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długość ostatecznie dostarczonego kodu źródłowego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w tysiącach lini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9933"/>
                </a:solidFill>
                <a:latin typeface="Monotype Corsiva"/>
              </a:rPr>
              <a:t>A</a:t>
            </a:r>
            <a:r>
              <a:rPr b="1" i="1" lang="pl-PL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i="1" lang="pl-PL" sz="3000" spc="-1" strike="noStrike">
                <a:solidFill>
                  <a:srgbClr val="ff9933"/>
                </a:solidFill>
                <a:latin typeface="Monotype Corsiva"/>
                <a:ea typeface="Arial"/>
              </a:rPr>
              <a:t>b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 – współczynniki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zależą od klasy, do której zaliczono przedsięwzięcie: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48120" y="1981080"/>
                <a:ext cx="30477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cbcbcb"/>
                </a:solidFill>
                <a:latin typeface="Arial"/>
              </a:rPr>
              <a:t>COCOMO – CZAS REALIZACJI</a:t>
            </a: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336760"/>
          <a:ext cx="6096240" cy="2311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ięwzięci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s [miesiące]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atw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* Nakład </a:t>
                      </a:r>
                      <a:r>
                        <a:rPr b="1" lang="pl-PL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,3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łatw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* Nakład </a:t>
                      </a:r>
                      <a:r>
                        <a:rPr b="1" lang="pl-PL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,3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dn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* Nakład </a:t>
                      </a:r>
                      <a:r>
                        <a:rPr b="1" lang="pl-PL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,3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5:02:24Z</dcterms:created>
  <dc:creator>Dominik</dc:creator>
  <dc:description/>
  <dc:language>en-US</dc:language>
  <cp:lastModifiedBy>Dominik</cp:lastModifiedBy>
  <dcterms:modified xsi:type="dcterms:W3CDTF">2003-12-12T11:48:56Z</dcterms:modified>
  <cp:revision>8</cp:revision>
  <dc:subject/>
  <dc:title>Szacowanie złożoności oprogramowania</dc:title>
</cp:coreProperties>
</file>