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3E5-3DD1-4323-9765-66CE00EB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71A-D51E-47ED-BF5F-E6E8892E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FB6-3809-44B5-AE66-63FEECEB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5BD-9A47-4A90-AECC-5262B262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A769-7309-4622-8154-B46E1FBE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3380-215B-4DE6-BD80-E5EA2B30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FE66-310B-4981-9C0D-EFE1941B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68C0-0090-4DD4-8E9F-71805FD0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3A02-8564-47DB-AC9A-7C339E24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BB3E-B5B6-458B-828E-2193A48E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7FE0-9BFD-412C-913C-ECACC022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990-5D7F-43B1-8811-F464D172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EA8E-A8F4-47F5-B8A5-5AC74825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88F6-1661-474A-81DB-D77CB2F1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9A45-D9B9-4D82-9303-00867CFD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C748-6735-4C70-96A9-63B4C2D8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4E32-A66A-40FD-9E7C-4D9A6C23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7E4-A145-4D44-BB30-BEBD6079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E72-C149-4473-A83F-BA05E67C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A65-D0AF-48B0-8D7D-822FA3F8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870-CEE3-4B16-B004-5D0414C8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A87-CC03-47AA-A6B0-E1394A44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F32-7F9A-4AB3-BE94-0EC3B6BE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1D3-B23B-464E-9BEE-064FF88E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1343-7ED7-4C15-A311-0CC502E619B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A71A-A87C-4AED-B2D7-D9EF465CC7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JAKOŚĆ W PROJEKCIE INFORMATYCZNYM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1B79-9241-4DDF-BF4A-F3DF2649F0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ZAPEWNIENIE JAKOŚCI CD…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apewnienie jakości jest w projektach zwykle wykonywane przez zewnętrzn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zględem projektu, niezależny dział zapewnienia jakości, ale może także być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ykonywane przez wyróżniony zespół wewnątrz projektu lub przez klienta, dl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tórego projekt jest realizowany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espoły zapewniania jakości, które opracowują firmowe standardy, powinny j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przeć na standardach narodowych i międzynarodowych (obejmujących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rminologię inżynierii oprogramowania, języki programowania, notacje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cedury określania i zapisywania wymagań stawianych oprogramowaniu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cedury zapewniania jakości oraz procesy weryfikacji i zatwierdzani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programowania (IEEE, 1994)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espół zapewniania jakości powinien opracować „podręcznik” standardów, 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tórym zostaną zdefiniowane standardy odpowiednie dla przedsiębiorstw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8DF-95B4-491E-B7A4-512DE45AAD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JAKOŚĆ PROCESU I PRODUKTU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odstawowym założeniem zarządzania jakością jest to, że jakość procesu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tworzenia ma bezpośredni wpływ na jakość dostarczonych produktów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W systemach automatycznej produkcji masowej po osiągnięciu akceptowaneg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oziomu jakości procesu, jakość produktu jest naturalnie zagwarantowan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Jakość procesu ma istotny wpływ na jakoś oprogramowan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roces zarządzania jakością obejmuje 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Zdefiniowanie standardów procesów, takich jak sposób przeprowadzania przeglądów, czas ich wykonywania, itd.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Monitorowanie procesu tworzenia w celu zapewnienia przestrzegania standardów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rzekazywanie kierownictwu przedsięwzięcia i podmiotowi kupującemu oprogramowanie informacji o procesie budowania oprogramowan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odstawową techniką zapewnienia jakości są audity jakości, czyli systematyczn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rzeglądy innych czynności związanych z zarządzaniem jakością, mające na celu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wyszukanie ewentualnych niezgodności z przyjętymi standardami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C0D-1858-481F-A4FC-CAA4F8D4C3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KONTROLA JAKOŚCI: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duktami, półproduktami oraz wynikami prac zarządczych zajmuje się proc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kontroli jakości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odstawową techniką kontroli jakości jest inspekcja, czyli sprawdzanie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zeglądanie lub testowanie produktów w celu stwierdzenia czy obiekt spełni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tawiane przed nim wymagania. Inspekcje są podstawą do decyzji zarządczych 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westii akceptacji produktów pracy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zęste występowanie analogicznych problemów powinno być podstawą d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odyfikacji procesów pracy prowadzących do wystąpienia tych problemów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tandardy oprogramowania są ważne dla zapewnienia jakości, ponieważ stanowią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skazanie „najlepszych zwyczajów”. Proces kontroli jakości polega n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prawdzeniu, czy proces tworzenia oprogramowania i budowane oprogramowani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pełniają te standard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DC0-2CDF-4E98-A8FD-F5BCC35283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MIARY JAKOŚCI OPROGRAMOWANIA: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Jakość musi być mierzalna. Dla każdego projektu należy przygotować zesta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miar, które będą wyliczane w trakcie jego realizacji. Najprostszymi miarami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jakości produktu deweloperskiego projektu informatycznego jest liczba błędó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stwierdzonych w czasie eksploatacji systemu i czas pomiędzy wystąpieniem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błędów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rzykładami miar są także: wielkość kodu produktu w wierszach, indeks Foga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który jest miarą czytelności fragmentu pisanego tekstu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Miary jakości produktu są szczególnie przydatne do wykrywania anomalnych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komponentów, w których występują kłopoty z jakością. Te komponenty należ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óźniej szczegółowo zanalizować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Nie ma standardowych ani uniwersalnych miar oprogramowania. Firmy muszą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wybrać miary i analizować wyniki na podstawie lokalnej wiedzy i warunków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9FE-7FE7-4DC2-B2B0-D368CC48C6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OCENA JAKOŚCI :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zeglądy wyników procesu tworzenia oprogramowania są najczęściej stosowaną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etodą oceny jakośc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omiary oprogramowania mogą służyć do gromadzenia ilościowych danych 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programowaniu i procesie budowania oprogramowania. Zebrane wyniki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omiarów można wykorzystać do wyciągania wniosków o jakości produktu i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cesu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Jakość jest ważnym elementem projektu, ale zarządzanie jakością musi się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ieścić w budżecie projektu – a więc tyle jakości ile budżetu na jakość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 szczególności dla firmy realizującej projekt zasadnicze znaczenie mają cel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iznesowe; zarządzanie jakością może istotnie obciążyć budżet firm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E19-42E6-4052-96BF-11A0C45D9A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OPRAWA JAKOŚCI- ULEPSZANIE PROCESU: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odstawą ulepszania procesu jest założenie, że krytycznym czynnikiem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pływającym na jakość produktu jest jakość procesu tworzenia produktu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m, gdzie w grę wchodzi produkcja, związek między procesem i produktem jest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czywist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lepszanie procesu w celu uniknięcia defektów doprowadzi do tworzenia lepszych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duktów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dy produkt nie jest namacalny i do pewnego stopnia zależy od procesu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telektualnego, którego nie da się zautomatyzować, jakość tego produktu (np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programowania), zależy nie od procesu produkcji, ale od procesu projektowania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 którym istotne są indywidualne opinie ludz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soby biorące udział w budowie nowatorskiego programu użytkowego mogą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jednak być ważniejsze niż zastosowany proc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C31-B57F-4FF8-B38D-949BEF3517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ZYNNIKI WPŁYWAJĄCE NA JAKOŚĆ PRODUKTU PROGRAMOWEGO: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stnieje pięć czynników wpływających na jakość produktu programowego (lub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nego intelektualnego, jak książka, film, itd...)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ys.3 Główne czynniki wpływające na jakość produktów programowyc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3780000" y="4076640"/>
            <a:ext cx="2232000" cy="1152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kość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duk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63040" y="3284640"/>
            <a:ext cx="14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chnolo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worze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84720" y="4292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koś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sone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56000" y="4365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koś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5373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oszt, cz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harmon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167-F681-4CCD-9745-2E8CE6B6C7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PŁYW CZYNNIKÓW NA JAKOŚĆ PRODUKTU PROGRAMOWEGO: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pływ każdego z tych czynników zależy od wielkości i rodzaju przedsięwzięc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 wypadku wielkich systemów złożonych z oddzielnych podsystemów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budowanych przez różne zespoły, najważniejszym wyznacznikiem jakości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duktu jest proces budowania oprogramowan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łównymi problemami wielkich przedsięwzięć są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tegracj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arządzan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omunikacj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ces tworzenia trwa tu kilka lat, a zespół wytwarzający może się zmieniać 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kcie przedsięwzięcia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E6D-E4AD-4609-94CC-F40720CB33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D...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 wypadku małych przedsięwzięć, w który zespół składa się tylko z kilku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złonków, jakość zespołu wytwarzającego jest znacznie ważniejsza niż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astosowany proces tworzenia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Jeżeli poziom umiejętności i doświadczenia członków zespołu jest bardzo wysoki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o jakość produktu prawdopodobnie też będzie wysok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Jeżeli członkowie zespołu są nieumiejętni i niedoświadczeni, to dobry proc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oże ograniczyć szkody, ale sam nie doprowadzi do zbudowani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programowania wysokiej jakośc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Jeżeli zespół jest mały, to technologia tworzenia jest szczególnie ważn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espół nie może poświęcić wiele czasu na nudne procedury administracyjn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żynierowie spędzają wiele czasu na projektowaniu i programowaniu systemu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bre narzędzia mogą więc znacznie wpłynąć na ich produktywność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D52-2E0A-4035-8823-859330A3C4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D...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iezależnie od wielkości przedsięwzięcia zbyt mały budżet lub nierealistyczni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lanowana data dostarczenia mają wpływ na jakość produktu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bry proces wymaga zasobów na skuteczną realizację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Jeśli zasoby są niewystarczające, to proces nie będzie skutecznie działać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Jeśli zasoby są nieadekwatne, to tylko wybitni pracownicy mogą uratować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zedsięwzięcie, ale nawet z takimi pracownikami jakość produktu będzi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bniżon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4A9-CA1A-45AD-AD22-DDD4E63E38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EF. JAK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Ś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I: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akość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jest to zdolność zbioru nieodłącznych charakterystyk wyrobu, systemu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ub procesu do spełnienia wymagań klientów lub innych zainteresowanych str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ISO 9000:200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asadnicze zagadnienia związane z jakością to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adowolenie użytkownika jest zasadniczym kryterium jakości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apobieganie jest ważniejsze niż inspekcja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dpowiedzialność kierownictwa – jakość wymaga współpracy wszystkich członków projektu, ale pozostaje ona w zakresie odpowiedzialności kierownictwa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707-37E7-4B31-A660-9A57663CEB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D...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ardzo często prawdziwą przyczyną kłopotów z jakością oprogramowania nie są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łe zarządzanie, nieodpowiednie procesy i słabe jakościowo szkolen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wykle jest to konieczność konkurowania, aby przetrwać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iele przedsięwzięć informatycznych ma zbyt mały budżet, który ustalono, ab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dobyć kontrakt na produkowani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talenie ceny pod zwycięstwo, to nieuchronna konsekwencja systemu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onkurencji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ie dziwi więc fakt, że w takim systemie trudno jest panować nad jakością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duktu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ONIE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03D-449B-40FF-86BE-8476D75D0E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LITERATURA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Ian Sommerville</a:t>
            </a: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- „</a:t>
            </a:r>
            <a:r>
              <a:rPr b="0" lang="pl-PL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In</a:t>
            </a: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ż</a:t>
            </a:r>
            <a:r>
              <a:rPr b="0" lang="pl-PL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ynieria oprogramowania</a:t>
            </a: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” WNT 200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00D-A908-43DC-A456-E0DCB73C49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ZARZĄDZANIE JAKOŚCIĄ OPROGRAMOWANIA: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arządzanie jakością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oprogramowania można podzielić na trzy zasadnicz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zynności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 Zapewnienie jakośc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. Planowanie jakośc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3. Kontrola jakośc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apewnienie jakości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jest to zestaw czynności realizowanych przez cały cza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wania projektu, mających na celu zapewnienie, że projekt będzie spełniał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tawiane przed nim wymagania związane z jakością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Kontrola jakości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jest to sprawdzanie produktów projektu w celu stwierdzeni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zy są one zgodne ze standardami jakości oraz w celu wyeliminowania przyczy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terek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cesy te muszą być zaplanowane, w związku z czym ważnym procesem jest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owanie jakości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759-E2E2-4515-9D0D-4075D64B3A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LANOWANIE JAKOŚCI: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lanowanie jakości należy rozpocząć we wczesnej fazie procesu budowani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programowan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odstawą do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owania jakości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w projekcie jest ogólna polityka jakości firmy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zyli ogólne nastawienie firmy do problemów związanych z jakością wyrażon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zez najwyższe kierownictwo firmy. Polityka ta zawsze musi być przystosowan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 konkretnego projektu. Czynnikami, które wpływają na dostosowanie polityki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jakości do projektu są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akres projektu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pis produktu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tandardy i regulacje adekwatne do zakresu projektu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egulacj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są to „twarde” normy prawne organizacyjne itp.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andard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są to wytyczne dotyczące sposobu pracy oraz własności produktu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zy planowaniu jakości należy uwzględnić wyniki innych planowań, np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aopatrzenia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lementem planowania jakości mogą być eksperymenty z udziałem użytkownika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eryfikującego czy przyjęte rozwiązania mu odpowiadają. Dla projektó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formatycznych jest to prototypowani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087-3A5A-437F-BE2E-AA27A57569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STANDARDY ZWIĄZANE Z ZARZĄDZANIEM JAKOŚCIĄ :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Standardy związane z zapewnieniem jakości zostały opracowane przez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International Organisation for Standardisation (ISO). Normy te są znane jak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normy serii ISO 9000 i dotyczą zapewnienia jakości we wszelakich obszarach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działalności. W praktyce system zapewnienia jakości oparty na normach serii IS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9000 opiera się na zestawach procedur, opisujących procesy, w których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uczestniczą osoby o ściśle sprecyzowanych odpowiedzialnościach i uprawnieniach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Żeby wykazać się zgodnością ze standardami ISO należy przedstawić zesta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odpowiednich procedur regulujących działanie organizacji oraz wykazać, ż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rocedury te są rzeczywiście stosowane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rocedury zapewniania jakości dokumentuje się w firmowym podręczniku jakości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który jest definicją procesu jakości. W ramach konkretnego przedsiębiorstwa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należy zdefiniować i udokumentować zbiór odpowiednich procesów jakości 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ostaci firmowego podręcznika jakośc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429-62DD-4478-8A23-4E501B89B7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STANDARDY ZWIĄZANE Z ZARZĄDZANIEM JAKOŚCIĄ CD...: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SO 9001 to najbardziej ogólny ze standardów serii ISO 9000. Dotyczy on firm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ajmujących się procesem jakości w przedsiębiorstwach, które projektują, tworzą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 pielęgnują produkty. Pomocniczy dokument (ISO 9000-3) zawiera interpretację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SO 9000 dla tworzenia oprogramowani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ys.1 ISO 9000 i zarządzanie jakością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3789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3284640"/>
            <a:ext cx="1584360" cy="431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328464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odel jakości ISO 9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26520" y="3814920"/>
            <a:ext cx="138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jego egzemplarze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je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4365720"/>
            <a:ext cx="1584360" cy="503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36572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rmowy podręcznik jakoś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5445000"/>
            <a:ext cx="1584360" cy="505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54450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an jakości przedsięwzięcia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445000"/>
            <a:ext cx="1584360" cy="505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5445000"/>
            <a:ext cx="1584360" cy="505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4221000"/>
            <a:ext cx="1871640" cy="648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5373720"/>
            <a:ext cx="1871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54450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an jakości przedsięwzięcia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5445000"/>
            <a:ext cx="20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an jakości przedsięwzięcia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4292640"/>
            <a:ext cx="201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rmowy pro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jakoś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5445000"/>
            <a:ext cx="201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Zarządzanie jakości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zedsięwzięć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4941720"/>
            <a:ext cx="194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jest używany przy opracowywani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23520" y="4365720"/>
            <a:ext cx="97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okumentuj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0000" y="4941720"/>
            <a:ext cx="139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Jego egzemplarze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je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37162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4869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00720" y="4869000"/>
            <a:ext cx="1008000" cy="58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07640" y="4869000"/>
            <a:ext cx="1008360" cy="581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4581360"/>
            <a:ext cx="21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96360" y="486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616572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596360" y="6021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3F3-1603-4EE9-964C-C800EC5CE9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LAN ZARZĄDZANIA JAKOŚCIĄ: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ynikiem planowania jakości powinien być plan zarządzania jakością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 planie jakości należy ustalić pożądaną jakość produktu. Należy też ustalić, jak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ędzie się ją oceniać. W planie wskazuje się więc, co faktycznie oznacza „wysok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jakość” oprogramowan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 planie jakości przedsięwzięcia należy ustalić wybór standardów firmowych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tóre są odpowiednie dla konkretnego produktu i procesu tworzenia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isząc plany jakości należy starać się by były możliwie jak najkrótsze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Jeśli dokument będzie zbyt długi, to inżynierowie nie przeczytają go, co zniwecz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el opracowywania planu jakośc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 planie jakości należy zdefiniować najistotniejsze atrybuty jakościow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worzonego produktu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EB1-A3C1-4AA3-92B7-0A94ABEB39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LAN ZARZĄDZANIA JAKOŚCIĄ CD…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ys.2 Atrybuty jakościowe oprogramowania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że być tak, że efektywność jest najważniejsza, a z innych czynników można zrezygnować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by ją osiągnąć. W planie należy określić także proces oceny jakośc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2349360"/>
            <a:ext cx="7129800" cy="2735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249228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ezpieczeństw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84440" y="350028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dolność do adaptacj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7720" y="299736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abezpieczen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56360" y="249228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rozumiałość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31520" y="400536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odularność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6600" y="2997360"/>
            <a:ext cx="21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datność do testowan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56480" y="3500280"/>
            <a:ext cx="13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iezawodność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44960" y="400536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dporność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57920" y="450864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lidność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46640" y="450864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łożoność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4040" y="4508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Łatwość nauczenia si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93800" y="400536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fektywność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95600" y="350028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onowne użyc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14680" y="299736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ygoda użytkowan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80120" y="249228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zenośność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5B8-0D6E-4F59-8939-14403B786D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ZAPEWNIENIE JAKOŚCI: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roces </a:t>
            </a: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zapewnienia jakości</a:t>
            </a: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 są to czynności mające na celu osiągnięcie przez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rojekt wszystkich dotyczących go standardów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Istnieją dwa typy standardów, które można określić, jako część procesu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zapewniania jakości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Standardy produktowe:</a:t>
            </a: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 - dotyczą tworzonego produktu. Obejmują standardy dokumentów, które należy utworzyć, takie jak struktura dokumentacji wymagań, standardy dokumentowania, takie jak standardowy komentarz w nagłówku definicji klasy obiektów, i standardy kodowan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Standardy procesowe:</a:t>
            </a: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 - w których określa się procesy do przestrzegania w czasie tworzenia oprogramowania . Mogą to być definicje procesów specyfikowania, projektowania i zatwierdzania oraz opisy dokumentów, które powinny powstać w trakcie tych procesów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Między standardami procesowymi i produktowymi występuje ścisły związek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Standardy produktowe dotyczą wyników procesu tworzenia oprogramowan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W wielu wypadkach standardy procesowe zawierają specyficzne czynności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rocesu, których celem jest zapewnienie przestrzegania standardó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roduktowych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kub Gołaszewski s2511 gr 52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BD4-D6A1-489F-9479-C81D1A8F95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01:04:32Z</dcterms:created>
  <dc:creator>Jakub Gołaszewski s2511 gr 520</dc:creator>
  <dc:description>Prezentacja</dc:description>
  <dc:language>en-US</dc:language>
  <cp:lastModifiedBy>boxer</cp:lastModifiedBy>
  <dcterms:modified xsi:type="dcterms:W3CDTF">2004-01-04T09:40:52Z</dcterms:modified>
  <cp:revision>6</cp:revision>
  <dc:subject>Jakość w projekcie informatycznym</dc:subject>
  <dc:title>Jakość w projekcie informatycznym</dc:title>
</cp:coreProperties>
</file>