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26250" cy="9569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2FC-7667-4EE1-A26F-22525A15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5360-D22D-4E4C-83EE-C9D47EBD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14CF-232F-42C6-833A-E623EFDA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6E73-B608-434A-B114-8C3D2F74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F980-33AA-4639-BC7A-C13EDD12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0CC6-ADE4-4BDF-852F-A7F78147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4F0B-3FCC-47CE-AC52-8B2F8CEC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1894-F65B-4E38-9381-44A2A33D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4309-04BD-45B6-83E9-E7638F98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4F78-F4D5-4318-AFF2-06F81438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F10A-EAAA-4AAD-8405-0171AC3B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5A7-B950-444D-A3A8-969C2B6A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39BF-3F8C-4F1C-BD9D-B54EF7D1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FFE3-8E51-4454-82BF-CEF348D4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9A56-6B83-4150-93D7-0316A75E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4ABC-5B38-4B6F-AE2A-ACA290AD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ABCF-ED39-4E6C-A481-8E91B07B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4A5B-FD4E-4C5F-9A3B-A23B464A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62A4-C045-4267-9BFD-5647ECD8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34E-ACCA-4B7A-88EB-03683B03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0150-2E2A-40D2-9F9B-42995362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1204-59A5-485D-92D5-95B727FF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82C6-F784-4F9E-A976-060AFB73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26F5-2960-4EB1-BDF1-D4788851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1761-0801-4E1B-9410-377EF96EF899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3BDC-6207-4E31-AA23-1A5236A9930A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ahoma"/>
              </a:rPr>
              <a:t>Opracowanie harmonogramu przedsięwzięcia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Opracowanie struktury podziału prac (WBS – Work Breakdown Struc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Opracowanie listy zada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Opracowanie diagramu sieciowe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Wyznaczanie i analiza ścieżki krytyczne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Wykres Gant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ek Mlonka - s2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4627-5328-4B47-8CB0-8EACBFB855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Lista Zadań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bieranie informac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owanie spotka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zygotowanie spotka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zeprowadzanie wywiadó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iza wyników spotka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zygotowanie notat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zegląd wyników działa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ek Mlonka - s2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6875-BA30-4E30-8C77-2C0DC6C998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Lista kroków zadan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53768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zeprowadzenie wywiadó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zegląd celów fir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yfikacja funkcj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yfikacja możliwoś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yfikacja problemó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yfikacja potrze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yfikacja czynników sukces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zgodnienie spotka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ek Mlonka - s2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13EC-3EDC-4FC5-9622-88A91B4AEE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CP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46604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Czyli metoda zwana inaczej metodą ścieżki krytycznej (Critical Path Method) jedna z metod matematycznej analizy harmonogramu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Opiera się na deterministycznym, jednoznacznym wyznaczeniu najwcześniejszej i najpóźniejszej daty rozpoczęcia i zakończenia każdej czynności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19280" y="4221000"/>
            <a:ext cx="64436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ek Mlonka - s2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3335-C81F-469A-BDFD-7297D68B57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Skracanie ścieżki krytycznej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yeliminuj zadania będące na ścieżce krytycznej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zeplanuj ścieżki szeregowe na równoległ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adania w ciągu szeregowym spróbuj zamienić na nachodzące na sieb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większ intensywność pracy, wprowadź nadgodziny, pracę zmianow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kracaj zadania do których masz możliwość ściągnięcia dodatkowych zasobó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króć trwanie zadań na ścieżce krytycznej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kracaj najwcześniejsze, najdłuższe i najłatwiejsze zadan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kracaj zadania, w których koszt przyspieszenia jest najmniejsz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kracaj zadania kontrolowane bezpośrednio przez Ciebie lub twój zespó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ek Mlonka - s2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272-4237-494A-8D50-4B6D005DDD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8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8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8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8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8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8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8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Technika PER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em techniki jest zidentyfikowanie elementów procesu i wyznaczenie odcinków czasu, które mają największy wpływ na realizację projekt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ek Mlonka - s2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34FF-4B4C-4F9C-AC7A-5DDD30662B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Zasady konstruowania wykresów sieciowych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zdarzenia początkowe nie mają czynności poprzedzających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zdarzenia końcowe nie mają czynności następujących po nich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ykres sieciowy może mieć kilka początkowych i kilka końcowych zdarzeń i wówczas łączy się je czynnościami pozornymi w jedno zdarzenie początkowe i jedno zdarzenie końcowe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ane zdarzenie nie może nastąpić, dopóki nie zakończą się wszystkie czynności prowadzące do niego i warunkujące zajście tego zdarzenia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żadna kolejna czynność nie może się rozpocząć, dopóki nie zaistnieje zdarzenie kończące czynności poprzedzające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omiędzy dwoma zdarzeniami może być zawieszona tylko jedna czynność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ktory czynności powinny być skierowane z lewej strony do prawej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należy unikać skrzyżowań wektorów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ykres sieciowy rozgałęzia się w kierunku wykonywania czynności od strony lewej do prawej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ykres sieciowy nie powinien mieć obiegów zamkniętych, tj. pętli łączących dwukrotnie te same zdarzenia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każdy sporządzony wykres należy uzgodnić z odpowiedzialnymi wykonawcami, sprawdzić kolejność czynności, prawidłowość powiązań (następstwo, równoległość czynności), a następnie przeprowadzić obliczenie czasu trwania całego przedsięwzięcia, luzów czasu oraz zaznaczyć drogę krytyczną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ek Mlonka - s2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0142-371A-4549-830D-7F24E98CFE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Wykresy sieciow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porządza się według następującej procedur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dział projektu na zadania i czynnośc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talenie logicznego następstwa poszczególnych czynnośc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kreślenie czasu trwania czynnośc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ykreślenie siec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talenie najwcześniejszych możliwych i najpóźniejszych dopuszczalnych terminów wystąpienia zdarzeń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yliczenie rezerw czasu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ykreślenie drogi krytycznej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pretacja rezerw czasu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wentualne udoskonalenie sieci (skrócenie ścieżki krytycznej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ek Mlonka - s2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8E6-351C-45FD-A1B1-2622881246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Jeszcze o wykresie sieciowy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ykresy sieciowe zdobyły sobie dużą popularność dzięki swym zaletom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żliwość skrócenia czasu realizacji całego przedsięwzięcia bez dodatkowych nakładów i zmian organizacyjnych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żliwość racjonalnego wykorzystania rezerw czasowych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żliwość koncentracji uwagi na czynnościach limitujących całe przedsięwzięcie (ścieżka krytyczna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łatwienie podstawy do kontroli przebiegu prac w każdym momencie ich prowadzeni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ek Mlonka - s2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D9B-C0F4-49D7-85AF-4D0CDD1615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66ff"/>
                </a:solidFill>
                <a:latin typeface="Tahoma"/>
              </a:rPr>
              <a:t>Metoda Gann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3454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lega ona na tworzeniu wykresu słupkowego pokazującego poszczególne etapy projektu na przestrzeni czas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92360" y="3645000"/>
            <a:ext cx="6408720" cy="22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ek Mlonka - s2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B0A-7A9B-47EC-8D31-883FB6F827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Macierz Rozdziału Odpowiedzialności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4292640"/>
            <a:ext cx="7543800" cy="1297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16000" y="213372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Macierz Rozdziału Odpowiedzialności (Responsibility Assignment Matrix) czyli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rzypisanie odpowiedzialnoś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Cel: zapewnienie, że każde działanie ma „właściciela” (osobę odpowiedzialną za realizację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ek Mlonka - s258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660-2298-49D3-BD78-FA97027404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WB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truktura podziału pra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uje projekt jako pewną hierarchię elementów związanych z produktami wytwarzanymi w trakcie realizacji projek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ek Mlonka - s2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3CE2-2840-498F-889D-D926B367EB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Podział Prac WB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Podział ze względu n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azy cyklu ży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odzaje dyscyplin zawodowy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cesy wytwórcze lub ro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szary wymaga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dsystem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olejne edycje programów (systemów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dykowane do danej dziedziny aplikacj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ek Mlonka - s2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0991-1335-4D9C-9039-F5C5A23C71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WBS – wg faz cyklu życ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11440" y="1981080"/>
            <a:ext cx="62532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ek Mlonka - s258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BF7F-ACF2-4E0C-88C2-24D639435E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WBS – wg typów prac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19360" y="1981080"/>
            <a:ext cx="62373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ek Mlonka - s258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2F9-CDAE-4606-9DD9-2F1DE73D5A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WBS – wg obszarów wymagań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6280" y="1981080"/>
            <a:ext cx="63831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ek Mlonka - s258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68BC-931A-4F96-B73E-5DB9E78DFC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WBS – wg podsystemó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165480" y="1981080"/>
            <a:ext cx="33465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ek Mlonka - s258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EA3-32EB-4E92-92F7-79F73D3431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WBS – według kolejnych wydań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98480" y="1981080"/>
            <a:ext cx="62802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ek Mlonka - s258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9F6E-101F-48A6-81E0-E760869811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WSB – zadania typow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racja, testowanie jednost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żynieria systemow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arządzanie projekte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zkole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owanie syste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jalny sprzęt i oprogramowan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szechny sprzęt i oprogramowan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ktywacja instalacji i syste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ek Mlonka - s2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D8BF-3C10-4414-8B56-B5B5063ECA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9:19:43Z</dcterms:created>
  <dc:creator>Marek Mlonka</dc:creator>
  <dc:description/>
  <dc:language>en-US</dc:language>
  <cp:lastModifiedBy>Marek Mlonka</cp:lastModifiedBy>
  <dcterms:modified xsi:type="dcterms:W3CDTF">2003-10-24T08:40:56Z</dcterms:modified>
  <cp:revision>14</cp:revision>
  <dc:subject/>
  <dc:title>Slajd 1</dc:title>
</cp:coreProperties>
</file>