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C64B-345F-4805-A00D-998B7E32A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130B-EDA3-4129-AD49-8E860839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FE2B-8A9C-44DC-BC0A-DA7E84013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4752-554E-42CA-B932-C625E2C33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8B92-8EE4-4B09-9E70-E1405FE5E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D425-05C7-4C9A-A5A3-9C54C56A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DA33-B28B-4479-B63A-B0C2E530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F6DA-2F67-494D-917D-AACB097C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8C4E-8A15-431F-A2FA-C4F1AF15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5D32-02A0-4D34-810D-FF62EBA7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5533-5706-48B4-BF5B-77813C6E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BADC-4021-4CEE-9C78-42E1EB8A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EAA6-224F-45B5-9733-0665766D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D8AB6-FB73-419F-B8F1-372AA121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AE2C-0E61-4019-AC78-F156B387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3E28-0304-46A8-8670-76231734C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26A2-1721-425D-9FC5-DC70736D0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6024-D546-4335-BB53-8A684912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06BD-1C65-493E-8260-9B090F41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4304-3119-4431-BDA0-C19812A8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EA82-576A-4974-9BDE-7CAD31E5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7ECA-DF67-46C3-951A-A01644CA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DB6B-3610-409A-AC56-EE2ED061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BC3C-2DCE-47B9-85A7-3DDD52D3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B4D4-E945-4EB2-B466-A09D8CDC6BC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40A8-14E1-40DF-BC2A-3F738E43613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Zakupy i Zobowiązania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duł Zakupy i Zobowiązania umożliwia pełne zarządzanie zakupami, zobowiązaniami i zamówieniami. W tym miejscu system przechowuje dane o dostawcach i szczegółowe informacje o zapisach związanych z każdym zakupem. Podobnie jak Sprzedaż i Należności, Zakupy i Zobowiązania jest w pełni zintegrowany z Księgą Główną oraz podsystemem Zapasy. Umożliwia selekcję wszystkich zapisów ze względu na miejsce odniesienia danego zapisu - lokalizację, jednostkę organizacyjną - dział i przynależność do grupy zadań - projekt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ostawc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Każdy dostawca posiada w systemie Navision Attain osobną kartotekę. Zawiera ona szczegółowe dane o dostawcy, naszych zakupach dokonanych u niego i uzgodnionych terminach płatności. Ponadto z każdym dostawcą można związać informacje </a:t>
            </a:r>
            <a:br>
              <a:rPr sz="2800"/>
            </a:b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o terminach zapłaty, metodach dostaw, kodzie języka i kodzie kraju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Dostawcy  cd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 każdym dostawcą związane są dwa okna statystyk, dostarczających szybki wgląd w bieżącą sytuację dostawcy oraz jego historię. A także informacje o udzielonych rabatach, dodatkowych opłatach finansowych i wartości not kredytowych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1218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Zarządzanie zapotrzebowaniem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duł ten automatycznie przygotowuje sugestie zakupów na podstawie takich informacji jak normatywy minimalne i maksymalne, zamówienia od nabywców oraz zamówienia własne. Dzięki temu możliwe jest zarówno utrzymanie odpowiednich stanów zapasów w odpowiednim czasie, jak i płynności finansowej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łatności i Kwoty Zobowiązań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jestr płatności zawiera funkcję która wyświetla kwoty i kalkuluje rabat przyznawany w związku z dokonaniem płatności przed ustaloną datą zapłaty. System pozwala na księgowanie transakcji dokonywanych w obcych walutach w ten sam sposób jak księgowanie transakcji krajowych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19:48:03Z</dcterms:created>
  <dc:creator>Michal Ziach</dc:creator>
  <dc:description/>
  <dc:language>en-US</dc:language>
  <cp:lastModifiedBy>Michal Ziach</cp:lastModifiedBy>
  <dcterms:modified xsi:type="dcterms:W3CDTF">2004-01-15T20:00:40Z</dcterms:modified>
  <cp:revision>2</cp:revision>
  <dc:subject/>
  <dc:title>Zakupy i Zobowiązania </dc:title>
</cp:coreProperties>
</file>