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1D55B-5E02-4E26-A97F-BAF3EA947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56ACB-9052-460D-A57C-3BAC585C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33914-B9B7-4F40-A572-3CF6CB06F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5F194-9C66-4703-977C-8E29FCA9D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15213-D423-4EDC-8202-D1CC3A2CA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10CD3-F608-45F1-BF71-B55B25AB5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43118-4288-4B16-A500-14B47B1E8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B2DA1-5B44-40CC-97EC-FDFD8A2D5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0DAB9-E09D-4D05-9862-7CA3D3976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ED3E7-9CC1-4556-8555-297DDE4E8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3A8B6-153A-46FB-9A50-A77F9BF16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DC59-7472-4149-93C7-4AF2B0A73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2D651-03D7-47AE-A1D1-3B48671F7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B2712-7B22-44A1-BA05-5380AFBB3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3995D-5AAF-4B0D-807D-EEAA496C4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44978-1F0C-4F14-AB6D-6F3A079A6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210CF-A14E-4B14-9C1D-9616ADE3F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8C90-292E-4A97-9CAE-355B3494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EBFC5-35D6-4CDD-A28D-B87B559A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450B-9676-4276-8EE0-D60960963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27CBC-6C40-4068-96D9-847C9604F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615C1-F760-4171-8F4F-9A8F8FE5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942B3-179D-4E3C-9B96-CF4CA2812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4C2E-909E-42FE-BA80-6342008FB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393F-392D-4161-A45E-DCED40EC74C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AA04-FFA5-487E-A566-5D7E7893542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adry i płace</a:t>
            </a:r>
            <a:endParaRPr b="1" lang="en-US" sz="3600" spc="-1" strike="noStrike">
              <a:solidFill>
                <a:srgbClr val="006666"/>
              </a:solidFill>
              <a:latin typeface="Arial"/>
            </a:endParaRPr>
          </a:p>
        </p:txBody>
      </p:sp>
      <p:sp>
        <p:nvSpPr>
          <p:cNvPr id="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uł stanowi rozszerzenie funkcjonalności systemu NAVISION w zakresie zarządzania działem kadrowo-płacowym przedsiębiorstwa. Umożliwia wyliczanie wynagrodzeń, premii, zasiłków, i tworzenie licznych dokumentów kadrowych oraz ewidencję czasu pracy. Umożliwia prowadzenie kompletnej dokumentacji kadrowo-płacowej. </a:t>
            </a:r>
            <a:br>
              <a:rPr sz="2400"/>
            </a:br>
            <a:br>
              <a:rPr sz="2100"/>
            </a:br>
            <a:br>
              <a:rPr sz="2100"/>
            </a:br>
            <a:r>
              <a:rPr b="0" lang="en-US" sz="2100" spc="-1" strike="noStrike">
                <a:solidFill>
                  <a:srgbClr val="003366"/>
                </a:solidFill>
                <a:latin typeface="Arial"/>
              </a:rPr>
              <a:t> </a:t>
            </a: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3366"/>
                </a:solidFill>
                <a:latin typeface="Arial"/>
              </a:rPr>
              <a:t>Navision</a:t>
            </a:r>
            <a:endParaRPr b="1" lang="en-US" sz="3600" spc="-1" strike="noStrike">
              <a:solidFill>
                <a:srgbClr val="003366"/>
              </a:solidFill>
              <a:latin typeface="Arial"/>
            </a:endParaRPr>
          </a:p>
        </p:txBody>
      </p:sp>
      <p:sp>
        <p:nvSpPr>
          <p:cNvPr id="97"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Kadry i płace</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wnicy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ażdy pracownik w systemie posiada własną kartotekę. Zawiera ona szczegółowe informacje o zatrudnionym, uszeregowane tematycznie w zakładkach, oraz rozwijanych menu, co pozwala na szybki i łatwy dostęp. Oprócz standardowych informacji o zatrudnionym system pozwala na przechowywanie takich informacji jak: okres zatrudnienia, odbyte kursy, przyznane nagrody i kary oraz badania okresow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pisy księgi </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1000"/>
          </a:bodyPr>
          <a:p>
            <a:pPr marL="312120" indent="-31212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ozwalają na śledzenie zapisów związanych z poszczególnymi pracownikami i składnikami ich wynagrodzenia bezpośrednio z kartoteki. Powiązanie pomiędzy kontem Księgi Głównej, a księgą pomocniczą Kadry i Płace następuje poprzez grupę księgową. Dla wybranych składników określa się kod grupy księgowej, z kolei dla każdej grupy księgowej określa się konta Planu Kont, na które mają być księgowane wynagrodzenia. Księgowanie do Księgi Głównej odbywa się syntetycznie wg poziomu wybranego przez użytkownika, tzn. wg "Numer konta", "Kodu działu", "Kodu projektu" lub numeru listy. W księdze pomocniczej, księgowania odbywają się jednak indywidualnie dla każdego pracownika, co zapewnia możliwość budowania dowolnych statystyk. </a:t>
            </a:r>
            <a:br>
              <a:rPr sz="2200"/>
            </a:br>
            <a:r>
              <a:rPr b="0" lang="en-US" sz="2200" spc="-1" strike="noStrike">
                <a:solidFill>
                  <a:srgbClr val="003366"/>
                </a:solidFill>
                <a:latin typeface="Arial"/>
              </a:rPr>
              <a:t>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liczanie wynagrodzenia </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Moduł Kadry i Płace obsługuje różne metody naliczania wynagrodzenia dla pracowników. Mogą to być zarówno umowy o pracę, ale także umowy o dzieło, umowy zlecenia lub inne wykorzystywane w dziale kadr przedsiębiorstwa. Uwzględniają one różne składniki płacowe. O tym, które z nich zostaną wykorzystane decyduje sam użytkownik definiując własne wzorce płacowe dla poszczególnych grup pracowników. Stałe elementy będą wykorzystywane z miesiąca na miesiąc co znacznie skraca okres naliczania wynagrodzeń.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Naliczanie wynagrodzenia cd.</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ynagrodzenie za czas urlopu, choroby, oraz obliczanie podstawy zasiłku chorobowego i opiekuńczego odbywa się automatycznie. Przy obliczaniu składek ZUS istnieje możliwość definiowania innych składek niż standardowe np. dla rolników. System kontroluje przekroczenie limitu podstawy składek ZUS, oraz przekazuje automatycznie stosowne informacje do Programu Płatnika. </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zas pracy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zięki modułowi Kadry i Płace istnieje możliwość rejestracji czasu pracy. Ułatwione zostaje ewidencjonowanie dodatkowych zdarzeń. Należą do nich nieobecności wraz z podaniem ich przyczyny. Do przyczyn można zaliczyć choroby i urlopy oraz przypisać do każdej z nich kod związanego z nią świadczenia uwzględnianego w Programie Płatnika. Przyczyną nieobecności mogą również być szkolenia, okresowe badania lekarskie, spóźnienia i inne, niezwiązane z dodatkowymi świadczeniami. Istnieje możliwość zdefiniowania własnego kalendarza dni roboczych, wolnych i urlopowych.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spółpraca z innymi systemami </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uł Kadry i Płace współpracuje z Programem Płatnika, co pozwala na szybkie i proste rozliczenia z ZUS. System posiada również możliwość transmisji przelewów bankowych drogą elektroniczną (przez Internet) do banku, co usprawnia samo wypłacanie wynagrodzeń.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cje dodatkowe </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 opcji dodatkowych należą przede wszystkim Opcje Pracownicze. Pozwalają one na ograniczony dostęp zainteresowanych pracowników do modułu, uzyskanie informacji i tworzenie najczęściej występujących dokumentów pracowniczych. Pracownik może tutaj złożyć wniosek o urlop, pożyczkę, zasiłek. Ponadto uzyska informację o swoich zarobkach lub ilości urlopu do wykorzystania. </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5T20:23:03Z</dcterms:created>
  <dc:creator>Michal Ziach</dc:creator>
  <dc:description/>
  <dc:language>en-US</dc:language>
  <cp:lastModifiedBy>Michal Ziach</cp:lastModifiedBy>
  <dcterms:modified xsi:type="dcterms:W3CDTF">2004-01-15T20:35:53Z</dcterms:modified>
  <cp:revision>3</cp:revision>
  <dc:subject/>
  <dc:title>Kadry i płace</dc:title>
</cp:coreProperties>
</file>