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65C04-BA1F-4CEF-A488-6861974D4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260EA-80E6-41DB-87B5-F6702F1EB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00132-CAF9-4E72-8398-875D3FC31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98D75-8F56-409B-8E35-5833CE849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CDA00D-1FD3-4B55-BDDA-641B119122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40064-4280-49FA-9E26-574335693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BF5C9-D21E-497C-B23C-62C830A87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A78B8-4778-43B1-A911-6766C6096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45BEF-F3E9-4CA6-B52C-926755CB2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32993-E2D1-4BAA-9A73-1A9FB74AC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63D41-F129-443E-860E-2D317C895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BF263-A365-472D-91EC-1293BD049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12393-9EE8-427F-9948-DA4648793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B0F5F-E997-41DF-909C-2E028A2AC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3132A-0B7B-41EE-883A-DA84AA4BC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789F2A-0367-44EA-84B2-1EE0DC6883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7E93F-0C5F-4952-9CB9-EAA192320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1F286-D90E-4D96-B3A9-F2B82033E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DEABB-C6B7-4915-BB12-FEE3BDCF2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26140-4C0E-4496-BBD0-A2B3D258D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CAFF5-3901-4B1B-9403-4A46C4378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E7E40-2EF8-4A73-9C8D-433F4F3D9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C70DC-F3A3-4803-B82B-7373A8EF1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E1B8D-2819-4760-B4FF-AAD7CCC8E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l-PL"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5EF4-9E8B-49A6-B2AE-5EAEFB44A268}" type="slidenum">
              <a:rPr b="1" lang="pl-PL"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l-PL"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A00B4-F725-4317-AED1-A738C7C3D37B}" type="slidenum">
              <a:rPr b="1" lang="pl-PL"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3366"/>
                </a:solidFill>
                <a:latin typeface="Arial"/>
              </a:rPr>
              <a:t>Navision</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przedaż i Należności</a:t>
            </a:r>
            <a:r>
              <a:rPr b="0" lang="en-US" sz="2800" spc="-1" strike="noStrike">
                <a:solidFill>
                  <a:srgbClr val="006666"/>
                </a:solidFill>
                <a:latin typeface="Arial"/>
              </a:rPr>
              <a:t> </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zewoźnicy </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unkcja ta daje możliwość wprowadzania danych różnych firm dostawczych (UPS, DHL, przewoźnicy zewnętrzni lub przewóz własny) oraz połączenia ich usług (ekspres, nocny, standard) z czasem dostawy. Granula Przewoźnicy może być używana razem z Zamówieniami Sprzedaży i Transferowaniem Zamówień. Wymagania: Zarządzanie Zamówieniami Sprzedaż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akturowanie</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3366"/>
                </a:solidFill>
                <a:latin typeface="Arial"/>
              </a:rPr>
              <a:t>Zarzadzanie Ofertami i Zamowieniami Sprzedaz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3366"/>
                </a:solidFill>
                <a:latin typeface="Arial"/>
              </a:rPr>
              <a:t>Komunikaty o zapasa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3366"/>
                </a:solidFill>
                <a:latin typeface="Arial"/>
              </a:rPr>
              <a:t>Clo i podat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3366"/>
                </a:solidFill>
                <a:latin typeface="Arial"/>
              </a:rPr>
              <a:t>Ksiegowani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rządzanie Ofertami i Zamówieniami Sprzedaży</a:t>
            </a:r>
            <a:endParaRPr b="1" lang="en-US" sz="3600" spc="-1" strike="noStrike">
              <a:solidFill>
                <a:srgbClr val="006666"/>
              </a:solidFill>
              <a:latin typeface="Arial"/>
            </a:endParaRPr>
          </a:p>
        </p:txBody>
      </p:sp>
      <p:sp>
        <p:nvSpPr>
          <p:cNvPr id="11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ferty, zamówienia, faktury i faktury korygujące tworzą zintegrowane środowisko zarządzania sprzedażą. Podczas wypełniania dokumentów, poszczególne pola są automatycznie wypełniane danymi zawartymi w kartotece nabywców. Mogą one jednak być zawsze zmienione, w danym dokumencie, przez użytkownika. Wiersze pozycji dokumentów sprzedaży mogą być łatwo kopiowane pomiędzy różnymi dokumentami, np. pomiędzy fakturą sprzedaży, a fakturą korygującą. Cała transakcja sprzedaży może być przeprowadzona w walucie nabywcy. Również teksty znajdujące się w dokumencie mogą być drukowane w jego języku.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rządzanie Ofertami i Zamówieniami Sprzedaży c.d.</a:t>
            </a:r>
            <a:endParaRPr b="1" lang="en-US" sz="3600" spc="-1" strike="noStrike">
              <a:solidFill>
                <a:srgbClr val="006666"/>
              </a:solidFill>
              <a:latin typeface="Arial"/>
            </a:endParaRPr>
          </a:p>
        </p:txBody>
      </p:sp>
      <p:sp>
        <p:nvSpPr>
          <p:cNvPr id="11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kcja Zarządzanie Zamówieniami Sprzedaży jest używana do zarządzania ofertami sprzedaży, zbiorczymi zamówieniami sprzedaży i procesem zamówień sprzedaży. Różnice pomiędzy fakturowaniem bezpośrednim i składaniem zamówień sprzedaży to: </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lość dostępna jest aktualizowana bezpośrednio po     wprowadzeniu ilości zamówionej w wierszu zamówienia     sprzedaży. Ilość ta nie jest związana z fakturą, dopóki     faktura ta nie zostanie zaksięgowan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rządzanie Ofertami i Zamówieniami Sprzedaży c.d.</a:t>
            </a:r>
            <a:endParaRPr b="1" lang="en-US" sz="3600" spc="-1" strike="noStrike">
              <a:solidFill>
                <a:srgbClr val="006666"/>
              </a:solidFill>
              <a:latin typeface="Arial"/>
            </a:endParaRPr>
          </a:p>
        </p:txBody>
      </p:sp>
      <p:sp>
        <p:nvSpPr>
          <p:cNvPr id="12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3366"/>
                </a:solidFill>
                <a:latin typeface="Arial"/>
              </a:rPr>
              <a:t>można używać tej granuli do zarządzania dostawami     częściowymi;</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3366"/>
                </a:solidFill>
                <a:latin typeface="Arial"/>
              </a:rPr>
              <a:t>Przy pomocy tej funcji można dostarczać i fakturować     oddzielnie Jest także różnica odnośnie czasu sprzedaży.     Możliwy jest długi okres pomiędzy czasem zamówienia     towarów i czasem sprzedaży. Funkcja ta umożliwia     również     wykorzystanie ofert oraz zamówień zbiorczych     w fazie sprzedaży. Oferty i zamówienia zbiorcze nie     wpływają na ilość zapasów.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ietnice zamówień </a:t>
            </a:r>
            <a:endParaRPr b="1" lang="en-US" sz="3600" spc="-1" strike="noStrike">
              <a:solidFill>
                <a:srgbClr val="006666"/>
              </a:solidFill>
              <a:latin typeface="Arial"/>
            </a:endParaRPr>
          </a:p>
        </p:txBody>
      </p:sp>
      <p:sp>
        <p:nvSpPr>
          <p:cNvPr id="12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kcja jest używana do kalkulowania dostępnych dat oraz dat dostaw. Jeśli klient wymaga określonej daty dostawy można sprawdzić czy jest możliwe zrealizowanie dostawy zgodnie z tą datą. Można również obliczyć możliwą datę dostawy, w oparciu o formułę terminu dostawy lub czas produkcji, jeśli nie ma danego zapasu na stanie. Wymagania: Zapasy - moduł podstawowy i Zarządzanie Zamówieniami Sprzedaży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omunikaty o zapasach </a:t>
            </a:r>
            <a:endParaRPr b="1" lang="en-US" sz="3600" spc="-1" strike="noStrike">
              <a:solidFill>
                <a:srgbClr val="006666"/>
              </a:solidFill>
              <a:latin typeface="Arial"/>
            </a:endParaRPr>
          </a:p>
        </p:txBody>
      </p:sp>
      <p:sp>
        <p:nvSpPr>
          <p:cNvPr id="12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unkcja ta wykorzystuje informacje zawarte w module Zapasy. Efektem jej działania jest wyświetlenie komunikatu w sytuacji, kiedy ilość danego zapasu w magazynie jest mniejsza od wpisywanej na zamówieniu lub fakturze sprzedaży. W takiej sytuacji można skorzystać z raportu dostępności, który informuje min. czy i kiedy wymagana ilość będzie dostępna.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ło i podatek </a:t>
            </a:r>
            <a:endParaRPr b="1" lang="en-US" sz="3600" spc="-1" strike="noStrike">
              <a:solidFill>
                <a:srgbClr val="006666"/>
              </a:solidFill>
              <a:latin typeface="Arial"/>
            </a:endParaRPr>
          </a:p>
        </p:txBody>
      </p:sp>
      <p:sp>
        <p:nvSpPr>
          <p:cNvPr id="12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 systemie możliwe jest rejestrowanie wszystkich informacji związanych z podatkiem VAT i raportowaniem INTRASTAT. Nabywcy mogą być grupowani ze względu na podział terytorialny i grupy produktów. Grupa nabywców może być łączona z grupą produktów i stawką podatku VAT, możliwe jest uzyskanie wszystkich informacji wymaganych przez regulacje prawne danego kraju. Zapisy w księdze zapasów mogą być przetworzone w celu uzyskania raportu INTRASTAT, a uzyskane informacje mogą być drukowane w formie raportu lub pliku na dyskietc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sięgowanie </a:t>
            </a:r>
            <a:endParaRPr b="1" lang="en-US" sz="3600" spc="-1" strike="noStrike">
              <a:solidFill>
                <a:srgbClr val="006666"/>
              </a:solidFill>
              <a:latin typeface="Arial"/>
            </a:endParaRPr>
          </a:p>
        </p:txBody>
      </p:sp>
      <p:sp>
        <p:nvSpPr>
          <p:cNvPr id="12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4000"/>
          </a:bodyPr>
          <a:p>
            <a:pPr marL="322200" indent="-32220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Procedury księgowania, integracja z Księgą Główną i modułem Zapasy oraz różnorodność dokumentacji sprzedaży, dostarczają bardzo efektywne narzędzia do rejestracji wszelkich transakcji handlowych. Dekretacja zapisów księgowych może być definiowana na podstawie danych nabywcy lub towaru, co ułatwia późniejsze wyszukiwanie konkretnych zapisów księgowych oraz ich analizę. Seria dostaw dla jednego nabywcy może być połączona w całość i zaksięgowana jako jedna transakcja. Zapis w dokumencie sprzedaży i samo księgowanie mogą się odbywać niezależnie, co powoduje że księgowanie jest bardziej efektywne i może być przeprowadzone w bardziej dogodnym momencie. Podobnie jak w Księdze Głównej, dostępne są pewne dodatkowe możliwości rozliczania, kontroli bilansu i dokumentacji transakcji sprzedaży. </a:t>
            </a:r>
            <a:endParaRPr b="0" lang="en-US" sz="2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leżności </a:t>
            </a:r>
            <a:endParaRPr b="1" lang="en-US" sz="3600" spc="-1" strike="noStrike">
              <a:solidFill>
                <a:srgbClr val="006666"/>
              </a:solidFill>
              <a:latin typeface="Arial"/>
            </a:endParaRPr>
          </a:p>
        </p:txBody>
      </p:sp>
      <p:sp>
        <p:nvSpPr>
          <p:cNvPr id="13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3366"/>
                </a:solidFill>
                <a:latin typeface="Arial"/>
              </a:rPr>
              <a:t> </a:t>
            </a:r>
            <a:r>
              <a:rPr b="0" lang="pl-PL" sz="2800" spc="-1" strike="noStrike">
                <a:solidFill>
                  <a:srgbClr val="003366"/>
                </a:solidFill>
                <a:latin typeface="Arial"/>
              </a:rPr>
              <a:t>Rejestracja Platnos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3366"/>
                </a:solidFill>
                <a:latin typeface="Arial"/>
              </a:rPr>
              <a:t>Kontrola limitu kredytu oraz przeterminowanych naleznos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3366"/>
                </a:solidFill>
                <a:latin typeface="Arial"/>
              </a:rPr>
              <a:t>Wielowalutowos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zedaż i Należności </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duł Sprzedaż i Należności umożliwia pełne zarządzanie procesem sprzedaży ułatwiając kontakt z nabywcą poprzez łatwy dostęp do historii transakcji. Jest w pełni zintegrowany z Księgą Główną i Zapasami. Umożliwia selekcję wszystkich zapisów ze względu na miejsce związane z danym zapisem - lokalizację, jednostkę organizacyjną - dział i przynależność do grupy zadań - projek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jestracja Płatności </a:t>
            </a:r>
            <a:endParaRPr b="1" lang="en-US" sz="3600" spc="-1" strike="noStrike">
              <a:solidFill>
                <a:srgbClr val="006666"/>
              </a:solidFill>
              <a:latin typeface="Arial"/>
            </a:endParaRPr>
          </a:p>
        </p:txBody>
      </p:sp>
      <p:sp>
        <p:nvSpPr>
          <p:cNvPr id="13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ziennik wpłat zawiera funkcję, która wyświetla kwoty należności i kalkuluje rabat przyznawany w związku z dokonaniem płatności przed ustaloną datą zapłat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liczanie dokumentów </a:t>
            </a:r>
            <a:endParaRPr b="1" lang="en-US" sz="3600" spc="-1" strike="noStrike">
              <a:solidFill>
                <a:srgbClr val="006666"/>
              </a:solidFill>
              <a:latin typeface="Arial"/>
            </a:endParaRPr>
          </a:p>
        </p:txBody>
      </p:sp>
      <p:sp>
        <p:nvSpPr>
          <p:cNvPr id="13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ozliczanie dokumentów polega na łączeniu faktur, faktur korygujących i zapłat tak, by można w ten sposób zamknąć transakcje związane z danym nabywcą. Transakcje każdego nabywcy mogą być rozliczane automatycznie - od najstarszych, lub ręcznie. Rozliczenie faktury możliwe jest w momencie księgowania zapłaty lub jej części do wystawionej wcześniej faktury. Zaksięgowane dokumenty można rozliczać w dowolnym momencie. Podczas księgowania rozliczeń dokumentów, różnice kursowe wynikające z płynności kursu, są automatycznie obliczane i po zaksięgowaniu aktualizują stan kont w Księdze Głównej oraz bilan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ontrola limitu kredytu oraz przeterminowanych należności </a:t>
            </a:r>
            <a:endParaRPr b="1" lang="en-US" sz="3600" spc="-1" strike="noStrike">
              <a:solidFill>
                <a:srgbClr val="006666"/>
              </a:solidFill>
              <a:latin typeface="Arial"/>
            </a:endParaRPr>
          </a:p>
        </p:txBody>
      </p:sp>
      <p:sp>
        <p:nvSpPr>
          <p:cNvPr id="13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 chwili tworzenia dokumentu sprzedaży, system kontroluje limit kredytu udzielonego danemu nabywcy oraz przeterminowane należności. Przekroczenie limitu kredytu lub fakt istnienia przeterminowanych należności powoduje wyświetlenie odpowiedniego komunikatu. Oprócz tego istnieje możliwość tymczasowego zablokowania konta danego nabywc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aliza Należności </a:t>
            </a:r>
            <a:endParaRPr b="1" lang="en-US" sz="3600" spc="-1" strike="noStrike">
              <a:solidFill>
                <a:srgbClr val="006666"/>
              </a:solidFill>
              <a:latin typeface="Arial"/>
            </a:endParaRPr>
          </a:p>
        </p:txBody>
      </p:sp>
      <p:sp>
        <p:nvSpPr>
          <p:cNvPr id="13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3366"/>
                </a:solidFill>
                <a:latin typeface="Arial"/>
              </a:rPr>
              <a:t>Navision Attain oferuje wszystkie niezbędne funkcje potrzebne do analizy należności, wystawiania przelewów i śledzenia całego procesu sprzedaży. Jądrem tego systemu są automatyczne upomnienia oraz wyciągi z kont nabywców. Na podstawie faktur sprzedaży mogą być automatycznie generowane faktury korygujące. Aby umożliwić pełniejszą analizę sprzedaży, korekty mogą być księgowane na osobne konta. Oprócz wspomnianych dokumentów, można również naliczać dodatkowe opłaty dla nabywców (np. odsetki). Opłaty te mogą być naliczane w oparciu o dwie metody: metodę bilansu na dzień oraz metodę średniego bilansu dziennego.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6666"/>
                </a:solidFill>
                <a:latin typeface="Arial"/>
              </a:rPr>
              <a:t>Wielowalutowość </a:t>
            </a:r>
            <a:endParaRPr b="1" lang="en-US" sz="3600" spc="-1" strike="noStrike">
              <a:solidFill>
                <a:srgbClr val="006666"/>
              </a:solidFill>
              <a:latin typeface="Arial"/>
            </a:endParaRPr>
          </a:p>
        </p:txBody>
      </p:sp>
      <p:sp>
        <p:nvSpPr>
          <p:cNvPr id="14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3366"/>
                </a:solidFill>
                <a:latin typeface="Arial"/>
              </a:rPr>
              <a:t>Navision Attain posiada rozbudowany system wielowalutowości. Funkcja Wielowalutowość oferuje znaczącą elastyczność dla firm prowadzących interesy międzynarodowe. Możliwe jest zarządzanie wieloma walutami w całym systemie włączając Zobowiązania i Należności, raporty Księgi Głównej, Zasoby, Zapasy, Konta bankowe. Metoda wprowadzania kursów wymiany oraz konwersji walut w pełni stosuje się do europejskiego ustawodawstwa (włączając "triangulację") w państwach Europejskiej Unii Monetarnej. Triangulacja jest wymaganą metodą wymiany walut podczas przejściowego okresu wprowadzania euro.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6666"/>
                </a:solidFill>
                <a:latin typeface="Arial"/>
              </a:rPr>
              <a:t>Wielowalutowosc c.d.</a:t>
            </a:r>
            <a:endParaRPr b="1" lang="en-US" sz="3600" spc="-1" strike="noStrike">
              <a:solidFill>
                <a:srgbClr val="006666"/>
              </a:solidFill>
              <a:latin typeface="Arial"/>
            </a:endParaRPr>
          </a:p>
        </p:txBody>
      </p:sp>
      <p:sp>
        <p:nvSpPr>
          <p:cNvPr id="14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onwersja walut jest wykonywana zgodnie z kursami wymiany, które są przechowywane i zarządzane w tabeli kursów wymiany. Po wprowadzeniu waluty w tabeli kursów wymiany i określeniu jej formatu, kwoty będą zawsze pokazywane we właściwym formacie na wszystkich formatkach i raportach w całym systemie. W tabeli kursów wymiany można wprowadzić kurs wymiany dla konkretnej daty lub okresu. Dla każdej konwersji kwoty waluty obcej na walutę lokalną program użyje kursu wymiany związanego z datą transakcji. W tabeli kursów wymiany można również przechowywać historyczne kursy wymiany tak, aby śledzić wahania kursów w pewnym okresie czasu.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6666"/>
                </a:solidFill>
                <a:latin typeface="Arial"/>
              </a:rPr>
              <a:t>Wielowalutowosc c.d.</a:t>
            </a:r>
            <a:endParaRPr b="1" lang="en-US" sz="3600" spc="-1" strike="noStrike">
              <a:solidFill>
                <a:srgbClr val="006666"/>
              </a:solidFill>
              <a:latin typeface="Arial"/>
            </a:endParaRPr>
          </a:p>
        </p:txBody>
      </p:sp>
      <p:sp>
        <p:nvSpPr>
          <p:cNvPr id="14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rmy mogą prowadzić interesy w wielu walutach dla każdego klienta i dostawcy. Na przykład: firma może wystawić fakturę w jednej walucie i przyjąć płatność za nią w innej walucie. Automatyczna wymiana kursu walut zapewnia dynamiczne zarządzanie i sprawny proces wymiany kursów walutowych. Szczegóły transakcji dotyczących zobowiązań i należności są przechowywane w walucie lokalnej i zagranicznej, tak więc raporty należności i zobowiązań mogą być również drukowane w walucie lokalnej i zagranicznej. Opcja "Koryguj Kursy Wymiany" reguluje zobowiązania/należności i księguje niezrealizowane zyski/straty do Księgi Głównej.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6666"/>
                </a:solidFill>
                <a:latin typeface="Arial"/>
              </a:rPr>
              <a:t>Wielowalutowosc</a:t>
            </a:r>
            <a:endParaRPr b="1" lang="en-US" sz="3600" spc="-1" strike="noStrike">
              <a:solidFill>
                <a:srgbClr val="006666"/>
              </a:solidFill>
              <a:latin typeface="Arial"/>
            </a:endParaRPr>
          </a:p>
        </p:txBody>
      </p:sp>
      <p:sp>
        <p:nvSpPr>
          <p:cNvPr id="14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zy płatności, zyski/straty są realizowane i analogicznie księgowane w Księdze Głównej. Jeśli w Księdze Głównej używana jest waluta dodatkowa dla raportowania, opisywana opcja "Koryguj Kursy Wymiany" reguluje również Księgę Główną zgodnie z ustawieniami dla każdego konta K/G. Wymagania: Księga Główna - moduł podstawow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eny i rabaty</a:t>
            </a:r>
            <a:endParaRPr b="1" lang="en-US" sz="3600" spc="-1" strike="noStrike">
              <a:solidFill>
                <a:srgbClr val="006666"/>
              </a:solidFill>
              <a:latin typeface="Arial"/>
            </a:endParaRPr>
          </a:p>
        </p:txBody>
      </p:sp>
      <p:sp>
        <p:nvSpPr>
          <p:cNvPr id="14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duł Sprzedaż i Należności posiada cztery rodzaje rabatów, które mogą być używane w różnych kombinacjach. W chwili tworzenia dokumentu sprzedaży, na podstawie danych zawartych w podsystemie Zapasy, określany jest pierwszy z rabatów - rabat ilościowy. Z kolei na podstawie danych o nabywcy i zapasach, naliczany jest rabat Nabywca/Towar. Trzeci z rabatów - rabat fakturowy, obliczany jest w chwili tworzenia faktury. Ostatni - rabat płatności, określany jest na podstawie terminu płatności przydzielonego nabywcy i naliczany w chwili wprowadzenia zapłaty za fakturę. Cechą szczególną systemu jest to, że różne rabaty mogą być księgowane na różne konta.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bywcy </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3366"/>
                </a:solidFill>
                <a:latin typeface="Arial"/>
              </a:rPr>
              <a:t>Dla każdego nabywcy w systemie tworzona jest oddzielna kartoteka. Zawiera ona szczegółowe dane o nabywcy m.in informacje adresowe, NIP, ustawienia księgowania, metodę rozliczenia, warunki płatności, kod waluty i języka. Kartoteka składa się z kilku oddzielnych zakładek przygotowanych dla różnego typu informacji. Korzystając z modułu rozwoju aplikacji można do formy kartoteki nabywcy dodać nowe zakładki lub zmienić wygląd istniejących. Powiązanie Nabywcy z Księgą Główną zapewnia odpowiednio zdefiniowana grupa księgowa, która określa sposób</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bywcy c.d.</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sięgowania sprzedaży, kosztów zapasów, naliczonych rabatów itp. Ponadto, z każdym nabywcą można związać informacje o zasadach naliczania opłat dodatkowych, terminach zapłat, metodach dostaw, kodzie języka, kodzie kraju itd. Korzystając z kodu handlowca można wiązać nabywcę z konkretną osobą w twojej firmie co umożliwi tworzenie bardzo dokładnych statystyk z uwzględnieniem wydajności poszczególnych handlowców. Wszystkie powyższe specyfikacje tworzą kompletny zestaw informacji niezbędnych w procesie zarządzania sprzedażą i należnościami w obrocie krajowym i zagranicznym.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pisy w Księdze Nabywców </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 Księdze Nabywców gromadzone są zapisy zawierające wszystkie informacje związane z danym nabywcą. Są tam dane dotyczące sprzedaży i należności, takie jak: identyfikator użytkownika, kod źródła, informacje o określonych w dokumentach terminach płatności i kalkulacji możliwych rabatów.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kna statystyk</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0000"/>
          </a:bodyPr>
          <a:p>
            <a:pPr marL="308520" indent="-30852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Z każdym nabywcą związane są dwa okna statystyk, które dostarczają szybki wgląd w bieżącą sytuacje nabywcy oraz jego historię. Pierwsze okno zawiera dane o bilansie, wartości zamówień, wartości wysłanych, a jeszcze nie zafakturowanych dostaw i należnościach. Są tam także informacje o udzielonych rabatach, dodatkowych opłatach finansowych i wartości faktur korygujących. Drugie okno zawiera statystyki zapisów księgowych związanych z nabywcą oraz statystyki rabatów od płatności. Moduł Sprzedaży i Należności udostępnia dla każdego nabywcy okno Sprzedaż do Nabywcy, zawierające informacje o sprzedaży i należnościach. Użytkownik może decydować czy chce wyświetlać wartości za dzień, tydzień, miesiąc, kwartał, rok, czy inny zdefiniowany okres rozliczeniowy. Może również użyć filtru związanego z działem lub/i projektem.</a:t>
            </a:r>
            <a:endParaRPr b="0" lang="en-US" sz="2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wizje </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unkcja ta pozwala przypisać handlowców do konkretnych nabywców i kontrolować poziom sprzedaży dla tych nabywców. Ponadto można uzyskać zestawienia na temat wypracowanych przez handlowców prowizj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porty i Dokumentacja </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3366"/>
                </a:solidFill>
                <a:latin typeface="Arial"/>
              </a:rPr>
              <a:t>Navision Attain zawiera wiele raportów dostarczających listy i dokumentację następujących, zaksięgowanych transakcji: dokumentacja i statystyki sprzedaży, zamówione pozycje, statystyki nabywca/towar, przeterminowane należności oraz informacje o nabywcach i związanych z nimi transakcjach.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resy Wielokrotne i Alternatywne </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 obsługi jednej transakcji sprzedaży system może wykorzystywać trzy rodzaje adresów: </a:t>
            </a:r>
            <a:br>
              <a:rPr sz="2400"/>
            </a:br>
            <a:r>
              <a:rPr b="0" lang="en-US" sz="2400" spc="-1" strike="noStrike">
                <a:solidFill>
                  <a:srgbClr val="003366"/>
                </a:solidFill>
                <a:latin typeface="Arial"/>
              </a:rPr>
              <a:t>Faktura-dla: adres wysyłki faktury sprzedaży </a:t>
            </a:r>
            <a:br>
              <a:rPr sz="2400"/>
            </a:br>
            <a:r>
              <a:rPr b="0" lang="en-US" sz="2400" spc="-1" strike="noStrike">
                <a:solidFill>
                  <a:srgbClr val="003366"/>
                </a:solidFill>
                <a:latin typeface="Arial"/>
              </a:rPr>
              <a:t>Sprzedaż-dla: adres nabywcy składającego zamówienie </a:t>
            </a:r>
            <a:br>
              <a:rPr sz="2400"/>
            </a:br>
            <a:r>
              <a:rPr b="0" lang="en-US" sz="2400" spc="-1" strike="noStrike">
                <a:solidFill>
                  <a:srgbClr val="003366"/>
                </a:solidFill>
                <a:latin typeface="Arial"/>
              </a:rPr>
              <a:t>Dostawa-do: adres wysyłki sprzedanych towarów </a:t>
            </a:r>
            <a:br>
              <a:rPr sz="2400"/>
            </a:br>
            <a:r>
              <a:rPr b="0" lang="en-US" sz="2400" spc="-1" strike="noStrike">
                <a:solidFill>
                  <a:srgbClr val="003366"/>
                </a:solidFill>
                <a:latin typeface="Arial"/>
              </a:rPr>
              <a:t>Relacja pomiędzy adresami Faktura-dla i Sprzedaż-dla jest definiowana jako element danych podstawowych nabywcy. Dla danego nabywcy można określić alternatywne adresy dostaw. Funkcja ta jest wykorzystywana w sytuacji, kiedy istnieje potrzeba wysyłki towarów, zakupionych przez jednego nabywcę, w kilka miejsc. Wszystkie te adresy są, w zależności od kraju, odpowiednio formatowane.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5T18:07:26Z</dcterms:created>
  <dc:creator>Michal Ziach</dc:creator>
  <dc:description/>
  <dc:language>en-US</dc:language>
  <cp:lastModifiedBy>Michal Ziach</cp:lastModifiedBy>
  <dcterms:modified xsi:type="dcterms:W3CDTF">2004-01-16T12:07:36Z</dcterms:modified>
  <cp:revision>6</cp:revision>
  <dc:subject/>
  <dc:title>Navision</dc:title>
</cp:coreProperties>
</file>