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2D7-99C3-4D3D-8C1B-59555A7B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335-950A-4DA4-AD8C-658A892A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5A6-7A05-40B1-BD7E-A96BA691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C3F-15A4-4EFE-9EA8-D29D0384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A38D-9170-4E8B-B49F-417EBA7B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8DB0-00DE-4A56-BE85-DA0567D0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EE41-C6CE-491B-86FB-B579AC7A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71DA-123F-4ABB-B6C1-C5A74826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A511-6386-435B-A0D9-6BD72330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943F-FB15-430D-A285-73101971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594A-FA7B-4FDE-A423-5EABB268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8CB-7864-4A4F-AD6D-6C7C804E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908C-DD9B-4803-AF35-A9DE8C8A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CBC8-25FF-473A-A77F-C892E113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A7D5-1832-4CAA-9FF8-71B5D554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8DB5-CB6E-4C07-BEFE-85C15D55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ED20-0CD8-43CC-B5EC-8C34DDA4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429-1C26-4CA1-87E4-0288815E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277-9AE9-4AC5-AAFB-A5896D8F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EDAD-015C-49C0-BA34-EE17CBB2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B98-CB49-478D-AEFC-A96A5C06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491-3C8B-45B7-B14B-42F32F84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EC9-DAFA-4D25-B675-5190890C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A180-8B39-4E75-A3F2-3E61F82F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6A92-CB7C-4D9D-9F50-6687B2DA366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3810-BE37-4EF1-97CB-6297CC05209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o to jest Navision ERP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33cccc"/>
                </a:solidFill>
                <a:latin typeface="Tahoma"/>
              </a:rPr>
              <a:t>Navision ERP</a:t>
            </a:r>
            <a:r>
              <a:rPr b="0" lang="pl-PL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pl-PL" sz="2600" spc="-1" strike="noStrike">
                <a:solidFill>
                  <a:srgbClr val="003366"/>
                </a:solidFill>
                <a:latin typeface="Arial"/>
              </a:rPr>
              <a:t>jest to system służący do planowania i zarządzania zasobami firmy.</a:t>
            </a:r>
            <a:r>
              <a:rPr b="0" lang="pl-PL" sz="2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3366"/>
                </a:solidFill>
                <a:latin typeface="Arial"/>
              </a:rPr>
              <a:t>Ma on na celu ułatwienie i ujednolicenie standardów przepływu danych w przedsiębiorstwie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3366"/>
                </a:solidFill>
                <a:latin typeface="Arial"/>
              </a:rPr>
              <a:t>Ma pomóc znaleźć najlepszą oraz najbardziej wydajną drogę wyliczenia kosztów dla różnych  transakcji i zarządzania wieloma procesami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 oferują ERP system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zede wszystkim utrzymanie poprawnej struktury procesów zachodzących w danej firmie. Poniewa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P jest oprogramowaniem odzwierciedlającym występowanie głównych procesów biznesowych firmy, takich jak np.: zrealizowanie zamówienia klienta, czy dokonanie zakupu niezbędnych materiałów dla firm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6666"/>
                </a:solidFill>
                <a:latin typeface="Arial"/>
              </a:rPr>
              <a:t>Zalety Navision ERP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dukcja liczby procesów oraz ich czasu trwania, a co za tym idzie wzrost czasu produktywnośc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lepszenie procesu podejmowania decyzji wynikające z ułatwienia zarządzania zasobam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dukcja kosztów oprogramowania np.: nie używamy kilku lecz jedne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6666"/>
                </a:solidFill>
                <a:latin typeface="Arial"/>
              </a:rPr>
              <a:t>Zagrożenia w Navision ERP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myłka ludzka przy wprowadzaniu danych i wielokrotne powielenie jej w system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zeżenie informacji przez pracownika, bądź grupę pracownikó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dejmowanie decyzji, które nigdy nie były wymagane do podję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9:53:19Z</dcterms:created>
  <dc:creator>Michal Ziach</dc:creator>
  <dc:description/>
  <dc:language>en-US</dc:language>
  <cp:lastModifiedBy>Michal Ziach</cp:lastModifiedBy>
  <dcterms:modified xsi:type="dcterms:W3CDTF">2004-01-15T20:01:29Z</dcterms:modified>
  <cp:revision>1</cp:revision>
  <dc:subject/>
  <dc:title>Co to jest Navision ERP?</dc:title>
</cp:coreProperties>
</file>