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7EDD-15E1-4095-98E4-3096D60D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5AA3-9236-48F0-A6A8-48262A79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E81-6159-45E8-8B41-2850267A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2790-F465-4889-A332-F01467D6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78F4-85E7-4C43-81FB-AE3B2483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F03D-CE0F-44EB-ADAE-9DF9AC41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474C-24BE-47EF-851F-F3B0FEB2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2C6B-E9A6-4C97-8A25-13CC7016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77E3-4F85-4AB4-822E-642F65CE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A5D8-8A02-4BA9-8879-B39C8CD0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241F-A64B-47F6-A62A-DEE0B9C9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EC7-B575-4A59-B940-A0DF48C3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73EC-286F-4F6E-8C36-1FAA51A3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60FB-BF98-4AC9-BCE2-67B93C14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125B-716B-4E5F-BE2A-CFA78441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0D44-EA83-4EAC-B33E-60AE745A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0DE9-C005-4B0C-B622-8B694294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3433-9307-4B19-A3CD-F19A169E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2671-0A13-4380-99F6-1BF4898B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92A-AE27-4397-8E09-C191F121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5255-F61B-4F83-B01A-7967F071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9E1-490B-4162-BE53-2B12A30C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BEC-091E-4391-A26C-BC1EC843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262D-8D7E-4EE4-A5AE-D0348D40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C6BD-6C0E-4D81-9C3C-2D3B564D8D7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27B6-6378-4E2C-A200-3CBA9AFCE94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AVISION ATTAI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ZLECENI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Zlecen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228600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em wykorzystania modułu Zlecenia jest szczegółowa ewidencja księgowa kosztów oraz fakturowanie dla prowadzonych w przedsiębiorstwie projektów lub zleceń. Koszty ponoszone w określonej pracy są rejestrowane w Rejestrze Zleceń i księgowane w innych obszarach systemu jak np. konta należności nabywców. Można dzięki temu zafakturować wszystkie obliczalne koszty i uchronić się przed wystąpieniem kosztów za które nie zostały wystawione faktury. Moduł Zlecenia możesz wykorzystać zarówno w tradycyjnym zakresie, czyli pracach konstrukcyjno-budowlanych jaki i działalności zorientowanej na świadczenie usług. Moduł podstawowy Zleceń umożliwia ewidencje zapasów, zasobów i pozostałych kosztów związanych z długoterminowymi pracami na rzecz nabywców. Moduł ten zawiera rejestr oraz dziennik zleceń, gdzie księgowane są wszystkie transakcje związane z pracami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Budże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286000"/>
            <a:ext cx="8381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ł ten pozwala na przypisanie Budżetów Zleceń do poszczególnych zleceń. Funkcja ta jest niezbędna w sytuacji kiedy koszty i dochody związane z pracami są określane na podstawie procentowego wykonania danej pracy. Metody tej należy używać kiedy nie możemy sobie pozwolić na kalkulację kosztów i przychodów po zamknięciu danej pracy (projektu). Budżety mogą być tak tworzone aby zawierały pozycje zapasów, zasoby i inne wydatki. Możesz w nich ewidencjonować dowolne szczególne pozycje lub skopiować je z innych budżetów. Aktualne zużycie i sprzedaż mogą się odnosić do konkretnego wiersza budżetów co umożliwi porównanie z szacowanymi kosztami i cenami sprzedaży. Jeśli do konfiguracji systemu dodasz Moduł Podstawowy - Zapasy i Zarządzanie Wydajnością, to Budżety umożliwią szczegółowe zaplanowanie dostępnej wydajności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Dziennik zadań. Fazy/Zadania/Krok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2286000"/>
            <a:ext cx="838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nie tego modułu do systemu pozwala dzielić Budżety na fazy, fazy na zadania, a każde zadanie na poszczególne kroki. Jest również możliwość odniesienia zużycia i sprzedaży do poszczególnych faz, zadań i kroków budżetu. Można analizować fazy, zadania i kroki w funkcji różnych zleceń i pozyskiwać informacje na temat zysków długoterminowych z realizowanych zleceń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9:34:33Z</dcterms:created>
  <dc:creator>Beata Suwała</dc:creator>
  <dc:description/>
  <dc:language>en-US</dc:language>
  <cp:lastModifiedBy>Beata Suwała</cp:lastModifiedBy>
  <dcterms:modified xsi:type="dcterms:W3CDTF">2004-01-15T20:00:25Z</dcterms:modified>
  <cp:revision>2</cp:revision>
  <dc:subject/>
  <dc:title>NAVISION ATTAIN</dc:title>
</cp:coreProperties>
</file>