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F1DB4-AEBE-49A0-87D1-A41A3DE77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B5663-DE37-433D-9093-69C3E4983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99417-76E0-417C-B690-883F3E4AA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E3700-E4B3-45EC-924E-3988A6459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2FF02-40F2-460E-B922-1B13DE58E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63B1B-BDBE-4082-9053-530F8EAA8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4EFFE-FB73-478E-8694-8B9CAAD0C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DFE54-CABF-41A3-B724-38540F19B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675EC-273B-4FD4-96A5-D6A55F5E1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9951A-D734-423B-A6EB-F296E8ACB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438CB-45EE-42B1-8C91-B8E903311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F377-5ACE-4661-A18F-C59DB7811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4262E-F850-45B2-A442-146DB900E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B54C3-CFFB-4660-AAAE-7FCA7143F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20954-9E3C-410C-9E81-B492CD42E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C24E6-9AE0-46D1-BA8F-B6F2E46CE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13A9F-6C08-40E8-8D60-0C6AFE590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5182B-07F2-4407-A488-A2EB29028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DA0CC-FD40-4FB3-ABC2-89E825579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F11CA-0BD1-4E4B-A138-DE3AFDD5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47888-5A9E-405D-B38D-BBD93F2FF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F3A9-4E3F-49D6-8976-BB315D2EE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B36D-CD21-4B7B-93EE-31636FE58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26AB6-5ADE-4A2C-9E6A-4EDE69452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CDFB-2C40-49F7-928E-53AAAF08A87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3571-E94A-4993-A886-A7293BABFD3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3366"/>
                </a:solidFill>
                <a:latin typeface="Arial"/>
              </a:rPr>
              <a:t>Navis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Środki trwałe</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Środki trwał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oduł pozwala na zarządzanie i śledzenie środków trwałych takich jak: budynki, urządzenia i wyposażenie. Używa się go do księgowania transakcji dotyczących środków trwałych takich jak: koszt nabycia, amortyzacja, zwiększanie wartości środka trwałego, zmniejszanie wartości środka trwałego, likwidacja.</a:t>
            </a:r>
            <a:br>
              <a:rPr sz="2600"/>
            </a:br>
            <a:r>
              <a:rPr b="0" lang="en-US" sz="2600" spc="-1" strike="noStrike">
                <a:solidFill>
                  <a:srgbClr val="003366"/>
                </a:solidFill>
                <a:latin typeface="Arial"/>
              </a:rPr>
              <a:t> </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bezpieczenia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kcjonalność ta pozwala na śledzenie sprawozdań ubezpieczeniowych oraz rocznych opłat ubezpieczeniowych środków trwałych. Można łatwo określić, czy środki trwałe są ubezpieczone na za małą lub za dużą kwotę. Możliwe jest również przyłączenie jednego środka do kilku ubezpieczeń. Granula Ubezpieczenia pozwala także na katalogowanie kwot ubezpieczenia. </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ksploatacja </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zięki tej funkcjonalności można rejestrować eksploatację i wydatki serwisowe dla każdego środka trwałego. Dostarcza ona informacji potrzebnych do generowania szczegółowych analiz oraz do podejmowania decyzji związanych z odnawianiem i likwidacją środków trwałych. </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okacje </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	</a:t>
            </a:r>
            <a:r>
              <a:rPr b="0" lang="pl-PL" sz="2800" spc="-1" strike="noStrike">
                <a:solidFill>
                  <a:srgbClr val="003366"/>
                </a:solidFill>
                <a:latin typeface="Arial"/>
              </a:rPr>
              <a:t>Funkcjonalność ta pozwala na używanie kluczy alokacyjnych do alokowania różnych wielkości procentowych, pochodzących z transakcji środków trwałych, takich jak: koszty nabycia i amortyzacja do różnych działów i projektów. Cecha ta może być wykorzystana, jeśli kilka działów dzieli ten sam środek trwał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ział </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ożliwia przekwalifikowanie całości lub części środka trwałego, na przykład: z jednego działu do drugiego. Jeden środek trwały może być także podzielony na kilka środków, a kilka środków trwałych połączonych w jeden. Ta funkcjonalność jest konieczna jeśli istnieje potrzeba likwidacji części środka trwałego. Pozwala na podzielenie środka trwałego na dwie części i likwidacji jednej z nich.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5T18:53:14Z</dcterms:created>
  <dc:creator>Michal Ziach</dc:creator>
  <dc:description/>
  <dc:language>en-US</dc:language>
  <cp:lastModifiedBy>Michal Ziach</cp:lastModifiedBy>
  <dcterms:modified xsi:type="dcterms:W3CDTF">2004-01-15T20:35:43Z</dcterms:modified>
  <cp:revision>2</cp:revision>
  <dc:subject/>
  <dc:title>Navision</dc:title>
</cp:coreProperties>
</file>