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399EDC-9F88-40C3-A07A-935A38ABF4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1C5573-AF1E-4E58-8468-94C0C81EFC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80AA23-C763-4BCC-8885-7EFB22D7A6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07F198-FB26-4E68-BFF1-19C63DBCEF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922B46-8D65-4DB9-8F97-BA3D90F69B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952425-7AE3-463D-A392-6B271C9183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98B57D-396A-4B80-B07E-D04A2046AF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4F62F8-337F-44F6-B9DD-E49D324F01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6CF60A-D1CF-41CD-9723-ACCD1B4018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BD1BF4-5011-4752-B916-928DED066C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5DA149-4C7D-4EE6-8BC1-3D3C39B18E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5B4025-9A22-4A36-96B8-A86A1D0335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623608-11C7-4197-9A25-B56FD7DDFF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F16FF7-B8CE-457C-AE7D-D3B7B9FFA5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DA9BB2-76F1-4637-9ABE-A1DE3177C0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4AF1EA-0785-4079-A99F-61F14ED8DB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FD5436-8FC2-457C-8948-D52D0F0F58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04B780-F51F-4C55-8255-FAF152ED31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ED430E-F6EF-453E-8178-5A2DAA485E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3DA572-9FF4-4C4B-9E31-314E3E0966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AAE817-B83C-4846-BF25-6322E7B273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F7858-8C8B-4A0F-A63A-A981F49AA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31D91-57AA-411E-99F5-A09065A18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22350-34AC-4BF9-B1C1-A993000A75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B58B3-3EAC-45F2-9CD2-A27C34A05D77}"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370D9-0A8B-4FA5-A724-04AF5EE49A79}"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NAVISION ATTAIN</a:t>
            </a:r>
            <a:endParaRPr b="1" lang="en-US" sz="3600" spc="-1" strike="noStrike">
              <a:solidFill>
                <a:srgbClr val="003366"/>
              </a:solidFill>
              <a:latin typeface="Arial"/>
            </a:endParaRPr>
          </a:p>
        </p:txBody>
      </p:sp>
      <p:sp>
        <p:nvSpPr>
          <p:cNvPr id="95" name="PlaceHolder 2"/>
          <p:cNvSpPr>
            <a:spLocks noGrp="1"/>
          </p:cNvSpPr>
          <p:nvPr>
            <p:ph type="subTitle"/>
          </p:nvPr>
        </p:nvSpPr>
        <p:spPr>
          <a:xfrm>
            <a:off x="4673520" y="2927520"/>
            <a:ext cx="365760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KSIĘGA GŁÓWNA</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arządzanie Środkami Pieniężnymi i Kredytami c.d. - 2</a:t>
            </a:r>
            <a:endParaRPr b="1" lang="en-US" sz="3600" spc="-1" strike="noStrike">
              <a:solidFill>
                <a:srgbClr val="006666"/>
              </a:solidFill>
              <a:latin typeface="Arial"/>
            </a:endParaRPr>
          </a:p>
        </p:txBody>
      </p:sp>
      <p:sp>
        <p:nvSpPr>
          <p:cNvPr id="113" name=""/>
          <p:cNvSpPr/>
          <p:nvPr/>
        </p:nvSpPr>
        <p:spPr>
          <a:xfrm>
            <a:off x="762120" y="2286000"/>
            <a:ext cx="8381880" cy="41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Przelewy i Czeki</a:t>
            </a:r>
            <a:br>
              <a:rPr sz="2400"/>
            </a:br>
            <a:r>
              <a:rPr b="0" lang="pl-PL" sz="2000" spc="-1" strike="noStrike">
                <a:solidFill>
                  <a:srgbClr val="000000"/>
                </a:solidFill>
                <a:latin typeface="Arial"/>
              </a:rPr>
              <a:t>Regulowanie należności za pośrednictwem kont bankowych powinno odbywać się poprzez wydruk przelewu lub czeku. Czeki kontrolowane są przez śledzenie ich numerów oraz przez unieważnianie czeków przygotowanych nieprawidłowo. Funkcja ta pozwala na ręczny wydruk czeków (dane wprowadzane są ręcznie), lub automatyczny: na podstawie danych znajdujących się w systemie.</a:t>
            </a:r>
            <a:br>
              <a:rPr sz="2000"/>
            </a:br>
            <a:r>
              <a:rPr b="0" lang="pl-PL" sz="2000" spc="-1" strike="noStrike">
                <a:solidFill>
                  <a:srgbClr val="000000"/>
                </a:solidFill>
                <a:latin typeface="Arial"/>
              </a:rPr>
              <a:t> </a:t>
            </a:r>
            <a:r>
              <a:rPr b="0" lang="pl-PL" sz="2000" spc="-1" strike="noStrike">
                <a:solidFill>
                  <a:srgbClr val="003366"/>
                </a:solidFill>
                <a:latin typeface="Arial"/>
              </a:rPr>
              <a:t> </a:t>
            </a:r>
            <a:br>
              <a:rPr sz="2000"/>
            </a:br>
            <a:r>
              <a:rPr b="1" lang="pl-PL" sz="2400" spc="-1" strike="noStrike">
                <a:solidFill>
                  <a:srgbClr val="000000"/>
                </a:solidFill>
                <a:latin typeface="Arial"/>
              </a:rPr>
              <a:t>Uzgodnienia Bankowe</a:t>
            </a:r>
            <a:br>
              <a:rPr sz="2400"/>
            </a:br>
            <a:r>
              <a:rPr b="0" lang="pl-PL" sz="2000" spc="-1" strike="noStrike">
                <a:solidFill>
                  <a:srgbClr val="000000"/>
                </a:solidFill>
                <a:latin typeface="Arial"/>
              </a:rPr>
              <a:t>Sprawne zarządzanie kontami bankowymi wymaga ich uzgadniania z wyciągami otrzymanymi z banku. Navision Financials pomaga w sprawdzaniu obrotów i stanu kont bankowych z wyciągami bankowymi. Moduł wymaga instalacji Księgi Głównej.</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6666"/>
                </a:solidFill>
                <a:latin typeface="Arial"/>
              </a:rPr>
              <a:t>Wymiary – Moduł podstawowy</a:t>
            </a:r>
            <a:endParaRPr b="1" lang="en-US" sz="3600" spc="-1" strike="noStrike">
              <a:solidFill>
                <a:srgbClr val="006666"/>
              </a:solidFill>
              <a:latin typeface="Arial"/>
            </a:endParaRPr>
          </a:p>
        </p:txBody>
      </p:sp>
      <p:sp>
        <p:nvSpPr>
          <p:cNvPr id="115" name=""/>
          <p:cNvSpPr/>
          <p:nvPr/>
        </p:nvSpPr>
        <p:spPr>
          <a:xfrm>
            <a:off x="762120" y="2286000"/>
            <a:ext cx="838188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anula ta dodaje dwa dodatkowe wymiary do Księgi Głównej oraz do innych ksiąg Navision Solutions. Wymiarom tym można nadać nazwy w zależności od potrzeb firmy. Kody wymiarów można przypisywać do każdej transakcji, która dotyczy kont Księgi Głównej, klientów, dostawców, środków trwałych, zasobów, zleceń lub zapasów. Pozwala to na uzyskanie większej elastyczność, niż podczas pracy ze statystykami. Dodatkowo, jest również możliwe zdefiniowanie wymiarów domyślnych oraz warunków ich używania dla każdego typu konta (K/G, klienci, dostawcy, zapasy itd.). Funkcja ta pomoże w łatwym dodawaniu wymiarów do wszystkich transakcji. Granula ta może być używana w firmach, które np. mają kilka projektów, regionów, lub źródeł powstawania zysków. Firmy, które pracują nad projektami w kilku oddziałach oraz pod kątem różnych funkcji, mogą dokładnie analizować projekty za pomocą tej właśnie granuli. </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6666"/>
                </a:solidFill>
                <a:latin typeface="Arial"/>
              </a:rPr>
              <a:t>Wymiary – Moduł rozszerzony</a:t>
            </a:r>
            <a:endParaRPr b="1" lang="en-US" sz="3600" spc="-1" strike="noStrike">
              <a:solidFill>
                <a:srgbClr val="006666"/>
              </a:solidFill>
              <a:latin typeface="Arial"/>
            </a:endParaRPr>
          </a:p>
        </p:txBody>
      </p:sp>
      <p:sp>
        <p:nvSpPr>
          <p:cNvPr id="117" name=""/>
          <p:cNvSpPr/>
          <p:nvPr/>
        </p:nvSpPr>
        <p:spPr>
          <a:xfrm>
            <a:off x="762120" y="2286000"/>
            <a:ext cx="838188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kcja ta pozwala na korzystanie z nieokreślonej liczby wymiarów w transakcjach wszystkich dzienników. Oprócz nieokreślonej liczby wymiarów, granula dostarcza również ich rozszerzoną funkcjonalność. Z granulą tą można:</a:t>
            </a:r>
            <a:br>
              <a:rPr sz="2000"/>
            </a:br>
            <a:r>
              <a:rPr b="0" lang="en-US" sz="2000" spc="-1" strike="noStrike">
                <a:solidFill>
                  <a:srgbClr val="000000"/>
                </a:solidFill>
                <a:latin typeface="Arial"/>
              </a:rPr>
              <a:t>- Definiować zasady określające jak mają zostać połączone wymiary oraz ich wartości. Pozwoli to na kontrolowane użycie wymiarów oraz wiarygodne zestawienia generowane na ich podstawie.</a:t>
            </a:r>
            <a:br>
              <a:rPr sz="2000"/>
            </a:br>
            <a:r>
              <a:rPr b="0" lang="en-US" sz="2000" spc="-1" strike="noStrike">
                <a:solidFill>
                  <a:srgbClr val="000000"/>
                </a:solidFill>
                <a:latin typeface="Arial"/>
              </a:rPr>
              <a:t>-Definiować zasady priorytetów dla określonych wartości. Daje to możliwość określania zasad dla poszczególnych wymiarów, tak aby odpowiadały one specyfice prowadzonych interesów.</a:t>
            </a:r>
            <a:br>
              <a:rPr sz="2000"/>
            </a:br>
            <a:r>
              <a:rPr b="0" lang="en-US" sz="2000" spc="-1" strike="noStrike">
                <a:solidFill>
                  <a:srgbClr val="000000"/>
                </a:solidFill>
                <a:latin typeface="Arial"/>
              </a:rPr>
              <a:t>-Definiować oraz korzystać z przeglądu analiz. Za pomocą przeglądu analiz można analizować transakcje Księgi Głównej w podziale na poszczególne wymiary lub ich kombinacje. Można tu również uwzględnić informacje budżetowe. </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6666"/>
                </a:solidFill>
                <a:latin typeface="Arial"/>
              </a:rPr>
              <a:t>Budżety</a:t>
            </a:r>
            <a:endParaRPr b="1" lang="en-US" sz="3600" spc="-1" strike="noStrike">
              <a:solidFill>
                <a:srgbClr val="006666"/>
              </a:solidFill>
              <a:latin typeface="Arial"/>
            </a:endParaRPr>
          </a:p>
        </p:txBody>
      </p:sp>
      <p:sp>
        <p:nvSpPr>
          <p:cNvPr id="119" name=""/>
          <p:cNvSpPr/>
          <p:nvPr/>
        </p:nvSpPr>
        <p:spPr>
          <a:xfrm>
            <a:off x="762120" y="2286000"/>
            <a:ext cx="838188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 Navision Attain możliwe jest tworzenie budżetów w podziale na wszystkie konta zawarte w Księdze Głównej i podsumowania znajdujące się w planie kont. Po utworzeniu budżetu możliwe jest wydrukowanie porównania bilansu i budżetu. Budżety mogą być definiowane z dokładnością do dnia, tygodnia, miesiąca, kwartału, roku i okresu rozliczeniowego. Budżety można przygotowywać na wiele lat w przód, w podziale na działy, projekty i jednostki handlowe (gospodarcze). Liczba wprowadzonych budżetów dla danego okresu nie jest ograniczona. Ponadto istnieje możliwość porównania oryginalnego budżetu z dowolną liczbą budżetów skorygowanych. Zmiany wartości każdego z budżetów są zapisywane, a suma wszystkich zmian jest kompilowana. Możliwe jest kopiowanie budżetów w całości lub ich części do innego okresu, działu, projektu lub firmy.</a:t>
            </a:r>
            <a:r>
              <a:rPr b="0" lang="pl-PL" sz="2000" spc="-1" strike="noStrike">
                <a:solidFill>
                  <a:srgbClr val="003366"/>
                </a:solidFill>
                <a:latin typeface="Arial"/>
              </a:rPr>
              <a:t> </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6666"/>
                </a:solidFill>
                <a:latin typeface="Arial"/>
              </a:rPr>
              <a:t>Budżety – Realizacja budżetu</a:t>
            </a:r>
            <a:endParaRPr b="1" lang="en-US" sz="3600" spc="-1" strike="noStrike">
              <a:solidFill>
                <a:srgbClr val="006666"/>
              </a:solidFill>
              <a:latin typeface="Arial"/>
            </a:endParaRPr>
          </a:p>
        </p:txBody>
      </p:sp>
      <p:sp>
        <p:nvSpPr>
          <p:cNvPr id="121" name=""/>
          <p:cNvSpPr/>
          <p:nvPr/>
        </p:nvSpPr>
        <p:spPr>
          <a:xfrm>
            <a:off x="762120" y="2286000"/>
            <a:ext cx="83818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kazanie w jednym oknie aktualnego bilansu kont oraz zdefiniowanych dla nich budżetów pozwala uzyskać jasny obraz realizacji planowanych wyników. Budżety mogą być definiowane dla każdego konta w planie kont, z dokładnością do dnia, tygodnia, miesiąca, kwartału, roku lub okresu rozliczeniowego w powiązaniu z działami, projektami i jednostkami handlowymi (gospodarczymi). Jeśli zostanie zmieniony filtr, wszystkie wyświetlane wartości zostaną natychmiast odpowiednio skorygowane. W podobnie prosty sposób możliwe jest uzyskanie zapisów księgowych związanych z wyświetlanymi wartościami.</a:t>
            </a:r>
            <a:r>
              <a:rPr b="0" lang="en-US" sz="2000" spc="-1" strike="noStrike">
                <a:solidFill>
                  <a:srgbClr val="003366"/>
                </a:solidFill>
                <a:latin typeface="Arial"/>
              </a:rPr>
              <a:t> </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6666"/>
                </a:solidFill>
                <a:latin typeface="Arial"/>
              </a:rPr>
              <a:t>Arkusz kont</a:t>
            </a:r>
            <a:endParaRPr b="1" lang="en-US" sz="3600" spc="-1" strike="noStrike">
              <a:solidFill>
                <a:srgbClr val="006666"/>
              </a:solidFill>
              <a:latin typeface="Arial"/>
            </a:endParaRPr>
          </a:p>
        </p:txBody>
      </p:sp>
      <p:sp>
        <p:nvSpPr>
          <p:cNvPr id="123" name=""/>
          <p:cNvSpPr/>
          <p:nvPr/>
        </p:nvSpPr>
        <p:spPr>
          <a:xfrm>
            <a:off x="762120" y="2286000"/>
            <a:ext cx="83818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rkusz kont pozwala na samodzielne przygotowanie raportów opartych na danych wprowadzonych do Księgi Głównej. Arkusz kont może być użyty do tworzenie dogłębnych, wewnętrznych analiz lub specjalnych raportów, które są wykonywane w celu zaspokojenia specyficznych potrzeb danej firmy. W arkuszu kont możliwe jest łączenie kont i sum dostępnych w planie kont w celu tworzenia dokładnie takich raportów jakie są potrzebne. W Navision Attain możliwe jest tworzenie tylu arkuszy kont ile użytkownik w danej chwili potrzebuje. Arkusze te można zapamiętać w bazie danych. W momencie drukowania arkusza do jego kalkulacji użyta jest bieżąca wartość bilansu i obrotów wszystkich kont, grup kont i podsumowań. Możliwe jest stosowanie filtru dla zakresu dat, działów, projektów i jednostek handlowych (gospodarczych).</a:t>
            </a:r>
            <a:r>
              <a:rPr b="0" lang="pl-PL" sz="2000" spc="-1" strike="noStrike">
                <a:solidFill>
                  <a:srgbClr val="003366"/>
                </a:solidFill>
                <a:latin typeface="Arial"/>
              </a:rPr>
              <a:t> </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6666"/>
                </a:solidFill>
                <a:latin typeface="Arial"/>
              </a:rPr>
              <a:t>Centra odpowiedzialności</a:t>
            </a:r>
            <a:endParaRPr b="1" lang="en-US" sz="3600" spc="-1" strike="noStrike">
              <a:solidFill>
                <a:srgbClr val="006666"/>
              </a:solidFill>
              <a:latin typeface="Arial"/>
            </a:endParaRPr>
          </a:p>
        </p:txBody>
      </p:sp>
      <p:sp>
        <p:nvSpPr>
          <p:cNvPr id="125" name=""/>
          <p:cNvSpPr/>
          <p:nvPr/>
        </p:nvSpPr>
        <p:spPr>
          <a:xfrm>
            <a:off x="762120" y="2286000"/>
            <a:ext cx="838188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Navision Attain pozwala na założenie wielu centrów zysku i/lub centrów odpowiedzialności. Firma może sprzedawać towary, które posiadają specyficzną cenę i związane są z konkretnym centrum odpowiedzialności. Funkcja ta pozwala na powiązanie użytkownika z konkretnym centrum odpowiedzialności, w taki sposób, że wyświetlane mu są tylko te dokumenty sprzedaży i zakupu, które są z nim związane. Dodatkowo, użytkownicy mają dostępną pomoc przy wprowadzaniu dodatkowych danych, takich jak wymiary i kody lokalizacji. </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Konsolidacja</a:t>
            </a:r>
            <a:endParaRPr b="1" lang="en-US" sz="3600" spc="-1" strike="noStrike">
              <a:solidFill>
                <a:srgbClr val="006666"/>
              </a:solidFill>
              <a:latin typeface="Arial"/>
            </a:endParaRPr>
          </a:p>
        </p:txBody>
      </p:sp>
      <p:sp>
        <p:nvSpPr>
          <p:cNvPr id="127" name=""/>
          <p:cNvSpPr/>
          <p:nvPr/>
        </p:nvSpPr>
        <p:spPr>
          <a:xfrm>
            <a:off x="762120" y="2286000"/>
            <a:ext cx="838188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Funkcja ta pozwala na konsolidację danych w podziale na krajowe i zagraniczne firmy holdingu, lub wszystkie firmy holdingu razem. W Navision Attain istnieje możliwość konsolidowania podmiotów o różnych strukturach planu kont także nie korzystających z Navision Attain. Konsolidacje można przeprowadzać w oparciu o działy, projekty lub grupy (firm konsolidowanych). System Navision Attain wspomaga w procesie konsolidacji dla zagranicznych firm holdingu takie mechanizmy jak dostawy częściowe, różne lata obrachunkowe i różne kursy wymiany walut. Ponadto w celu konsolidacji dane mogą być eksportowane z firm holdingu w grupach dla poszczególnych sprawozdań finansowych. Możliwe jest również dokonanie eliminacji transakcji pomiędzy konsolidowanymi podmiotami. Specjalny raport umożliwia przeglądanie efektu dokonanych eliminacji, przed zaksięgowaniem zapisów.</a:t>
            </a:r>
            <a:r>
              <a:rPr b="0" lang="pl-PL" sz="2000" spc="-1" strike="noStrike">
                <a:solidFill>
                  <a:srgbClr val="003366"/>
                </a:solidFill>
                <a:latin typeface="Arial"/>
              </a:rPr>
              <a:t> </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Kompresja</a:t>
            </a:r>
            <a:endParaRPr b="1" lang="en-US" sz="3600" spc="-1" strike="noStrike">
              <a:solidFill>
                <a:srgbClr val="006666"/>
              </a:solidFill>
              <a:latin typeface="Arial"/>
            </a:endParaRPr>
          </a:p>
        </p:txBody>
      </p:sp>
      <p:sp>
        <p:nvSpPr>
          <p:cNvPr id="129" name=""/>
          <p:cNvSpPr/>
          <p:nvPr/>
        </p:nvSpPr>
        <p:spPr>
          <a:xfrm>
            <a:off x="762120" y="2286000"/>
            <a:ext cx="838188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ne z zamkniętych lat obrachunkowych przechowywane są w bazie danych i dzięki temu możliwe jest uzyskanie odpowiednich bilansów i statystyk z poprzednich okresów. Jeśli jednak potrzebne jest odzyskanie przestrzeni w bazie danych to należy przeprowadzić kompresję danych. Polega ona na zastąpieniu wielu zapisów występujących w księdze w danym okresie jednym będącym ich rezultatem. Możliwe jest na przykład zastąpienie wszystkich zapisów z danego miesiąca jednym. Użytkownik sam ustala zasady konsolidacji, decyduje czy utrzymuje zaksięgowane zapisy w podziale na działy, projekty lub jednostki handlowe (gospodarcze).</a:t>
            </a:r>
            <a:r>
              <a:rPr b="0" lang="en-US" sz="2000" spc="-1" strike="noStrike">
                <a:solidFill>
                  <a:srgbClr val="003366"/>
                </a:solidFill>
                <a:latin typeface="Arial"/>
              </a:rPr>
              <a:t> </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6666"/>
                </a:solidFill>
                <a:latin typeface="Arial"/>
              </a:rPr>
              <a:t>Raporty standardowe</a:t>
            </a:r>
            <a:endParaRPr b="1" lang="en-US" sz="3600" spc="-1" strike="noStrike">
              <a:solidFill>
                <a:srgbClr val="006666"/>
              </a:solidFill>
              <a:latin typeface="Arial"/>
            </a:endParaRPr>
          </a:p>
        </p:txBody>
      </p:sp>
      <p:sp>
        <p:nvSpPr>
          <p:cNvPr id="131" name=""/>
          <p:cNvSpPr/>
          <p:nvPr/>
        </p:nvSpPr>
        <p:spPr>
          <a:xfrm>
            <a:off x="762120" y="2286000"/>
            <a:ext cx="83818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sięga Główna zawiera wiele raportów, w różnych układach, wykorzystywanych w księgowości i zarządzaniu takich jak: porównanie bilansu z budżetem, bilans za poprzednie lata, budżet, dzienniki, rejestry, plan kont i szczegółowy bilans próbny, VAT, skonsolidowane sprawozdanie finansowe itp.</a:t>
            </a:r>
            <a:r>
              <a:rPr b="0" lang="en-US" sz="2000" spc="-1" strike="noStrike">
                <a:solidFill>
                  <a:srgbClr val="003366"/>
                </a:solidFill>
                <a:latin typeface="Arial"/>
              </a:rPr>
              <a:t> </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6666"/>
                </a:solidFill>
                <a:latin typeface="Arial"/>
              </a:rPr>
              <a:t>Księga Główna</a:t>
            </a:r>
            <a:endParaRPr b="1" lang="en-US" sz="3600" spc="-1" strike="noStrike">
              <a:solidFill>
                <a:srgbClr val="006666"/>
              </a:solidFill>
              <a:latin typeface="Arial"/>
            </a:endParaRPr>
          </a:p>
        </p:txBody>
      </p:sp>
      <p:sp>
        <p:nvSpPr>
          <p:cNvPr id="97" name=""/>
          <p:cNvSpPr/>
          <p:nvPr/>
        </p:nvSpPr>
        <p:spPr>
          <a:xfrm>
            <a:off x="762120" y="2468520"/>
            <a:ext cx="838188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sięga Główna jest centralnym podsystemem aplikacji Navision Attain, w pełni zintegrowanym z pozostałymi modułami. W tym miejscu zapisywane są wszystkie zdarzenia księgowe, podstawowe informacje o firmie, oraz rodzaje księgowań. Księga Główna wyposażona jest w szereg mechanizmów pozwalających na uzyskiwanie zarówno wewnętrznych jak i zewnętrznych analiz, służących do tworzenia różnego rodzaju raportów, min. rachunku wyników, bilansu, płynności finansowej itp. Dzięki udostępnionym w Navision Attain kodom działów i projektów możliwe jest raportowanie w zależności od miejsc powstawania kosztów. W Księdze Głównej ten dodatkowy wymiar, można wykorzystać do generowania na ekranie lub w postaci raportu, wydruku stanu kont w podziale na różne działy i projekty, lub w celu porównywania wyników poszczególnych miejsc powstawania kosztów.</a:t>
            </a:r>
            <a:r>
              <a:rPr b="0" lang="pl-PL" sz="2000" spc="-1" strike="noStrike">
                <a:solidFill>
                  <a:srgbClr val="003366"/>
                </a:solidFill>
                <a:latin typeface="Arial"/>
              </a:rPr>
              <a:t> </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6666"/>
                </a:solidFill>
                <a:latin typeface="Arial"/>
              </a:rPr>
              <a:t>Plan kont</a:t>
            </a:r>
            <a:endParaRPr b="1" lang="en-US" sz="3600" spc="-1" strike="noStrike">
              <a:solidFill>
                <a:srgbClr val="006666"/>
              </a:solidFill>
              <a:latin typeface="Arial"/>
            </a:endParaRPr>
          </a:p>
        </p:txBody>
      </p:sp>
      <p:sp>
        <p:nvSpPr>
          <p:cNvPr id="99" name=""/>
          <p:cNvSpPr/>
          <p:nvPr/>
        </p:nvSpPr>
        <p:spPr>
          <a:xfrm>
            <a:off x="762120" y="2286000"/>
            <a:ext cx="83818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 planie kont można umieścić dowolne, potrzebne w firmie konto księgowe. Zmiany w planie kont mogą być dokonane w dowolnym momencie eksploatacji systemu. Użytkownik ma również wpływ na wygląd ekranu. To on decyduje, które kolumny informacji zostaną wyświetlone i w jakiej kolejności. Plan kont może w dowolnym miejscu zawierać nagłówki, puste linie i znaki końca strony. Możliwe są również wiersze zawierające podsumowanie dowolnych kont. Z każdym wierszem w planie kont związany jest ekran zawierający dane szczegółowe o danym koncie. Standardowo symbol konta może zawierać do dwudziestu znaków, będących cyframi lub literami. Korzystając z modułu rozwoju aplikacji można rozszerzyć symbol konta do 250 znaków.</a:t>
            </a:r>
            <a:r>
              <a:rPr b="0" lang="en-US" sz="2000" spc="-1" strike="noStrike">
                <a:solidFill>
                  <a:srgbClr val="003366"/>
                </a:solidFill>
                <a:latin typeface="Arial"/>
              </a:rPr>
              <a:t> </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K - Aktualny Bilans i obroty</a:t>
            </a:r>
            <a:endParaRPr b="1" lang="en-US" sz="3600" spc="-1" strike="noStrike">
              <a:solidFill>
                <a:srgbClr val="006666"/>
              </a:solidFill>
              <a:latin typeface="Arial"/>
            </a:endParaRPr>
          </a:p>
        </p:txBody>
      </p:sp>
      <p:sp>
        <p:nvSpPr>
          <p:cNvPr id="101" name=""/>
          <p:cNvSpPr/>
          <p:nvPr/>
        </p:nvSpPr>
        <p:spPr>
          <a:xfrm>
            <a:off x="762120" y="2286000"/>
            <a:ext cx="838188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la każdego konta z planu kont możliwe jest przeglądanie jego aktualnego bilansu i obrotów. Wyświetlane wartości mogą być na bieżąco aktualizowane dzięki mechanizmowi filtrowania zapisów związanych z danym kontem. Mechanizm ten uzależnia wyświetlane wartości od zakresu dat, projektu, działu, budżetu i jednostki handlowej (gospodarczej). Możliwe jest również oglądanie wszystkich zapisów księgowych związanych z wyświetlanymi wartościami. Mechanizm filtrowania zapisów w powiązaniu z mechanizmem filtrowania wartości pól tworzy narzędzie szczególnie przydatne Głównym Księgowym i osobom kierującym firmą. Zmienia ono plan kont z prymitywnego sumatora w praktyczny instrument oferujący precyzyjne rozliczenia zawierające aktualne informacje księgowe w żądanych aspektach, dotyczące zarówno bieżącego roku rozrachunkowego jak i poprzednich. </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K – Zapisy w Księdze Głównej</a:t>
            </a:r>
            <a:endParaRPr b="1" lang="en-US" sz="3600" spc="-1" strike="noStrike">
              <a:solidFill>
                <a:srgbClr val="006666"/>
              </a:solidFill>
              <a:latin typeface="Arial"/>
            </a:endParaRPr>
          </a:p>
        </p:txBody>
      </p:sp>
      <p:sp>
        <p:nvSpPr>
          <p:cNvPr id="103" name=""/>
          <p:cNvSpPr/>
          <p:nvPr/>
        </p:nvSpPr>
        <p:spPr>
          <a:xfrm>
            <a:off x="762120" y="2362320"/>
            <a:ext cx="8381880" cy="3813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 planie kont możliwe jest przeglądanie zapisów wprowadzonych w poszczególnych rejestrach. Są tam zawarte informacje dotyczące bilansowania poszczególnych pozycji, podatku VAT, obowiązującego zakresu i inne.</a:t>
            </a:r>
            <a:br>
              <a:rPr sz="2000"/>
            </a:br>
            <a:r>
              <a:rPr b="0" lang="pl-PL" sz="2000" spc="-1" strike="noStrike">
                <a:solidFill>
                  <a:srgbClr val="000000"/>
                </a:solidFill>
                <a:latin typeface="Arial"/>
              </a:rPr>
              <a:t> </a:t>
            </a:r>
            <a:r>
              <a:rPr b="0" lang="pl-PL" sz="2000" spc="-1" strike="noStrike">
                <a:solidFill>
                  <a:srgbClr val="003366"/>
                </a:solidFill>
                <a:latin typeface="Arial"/>
              </a:rPr>
              <a:t> </a:t>
            </a:r>
            <a:br>
              <a:rPr sz="2000"/>
            </a:br>
            <a:r>
              <a:rPr b="1" lang="pl-PL" sz="2400" spc="-1" strike="noStrike">
                <a:solidFill>
                  <a:srgbClr val="000000"/>
                </a:solidFill>
                <a:latin typeface="Arial"/>
              </a:rPr>
              <a:t>Alokacje</a:t>
            </a:r>
            <a:br>
              <a:rPr sz="2000"/>
            </a:br>
            <a:br>
              <a:rPr sz="2000"/>
            </a:br>
            <a:r>
              <a:rPr b="0" lang="pl-PL" sz="2000" spc="-1" strike="noStrike">
                <a:solidFill>
                  <a:srgbClr val="000000"/>
                </a:solidFill>
                <a:latin typeface="Arial"/>
              </a:rPr>
              <a:t>Funkcja pozwala na przydzielenie zapisom Księgi Głównej: kombinacji kont, działów i projektów przy użyciu kluczy alokacyjnych. Klucze alokacyjne mogą być oparte na kwocie, procencie lub ilości. Alokacje mogą być użyte do wielu celów, np. podczas przydzielania kosztów stałych (np. wynajem) do miejsc powstawania zysku.</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K – Okresy Rozrachunkowe</a:t>
            </a:r>
            <a:endParaRPr b="1" lang="en-US" sz="3600" spc="-1" strike="noStrike">
              <a:solidFill>
                <a:srgbClr val="006666"/>
              </a:solidFill>
              <a:latin typeface="Arial"/>
            </a:endParaRPr>
          </a:p>
        </p:txBody>
      </p:sp>
      <p:sp>
        <p:nvSpPr>
          <p:cNvPr id="105" name=""/>
          <p:cNvSpPr/>
          <p:nvPr/>
        </p:nvSpPr>
        <p:spPr>
          <a:xfrm>
            <a:off x="762120" y="2286000"/>
            <a:ext cx="838188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kresy rozrachunkowe mogą być używane w powiązaniu z budżetami, statystykami i raportami. Podczas zamykania roku rozrachunkowego, uruchamiany jest skrypt Zamknięcia Roku, który przenosi wyniki finansowe danego roku do bilansu, przeksięgowując jednocześnie wszystkie konta wynikowe na zero. W celu kontroli wyników przejściowych można przeksięgować konta do określonego zamkniętego okresu. Proces ten może być, w zależności od potrzeb, uruchamiany wielokrotnie. Możliwe jest również księgowanie zapisów do okresów już zamkniętych. Zapisy te są zaznaczane jako zapisy z lat ubiegłych.</a:t>
            </a:r>
            <a:r>
              <a:rPr b="0" lang="en-US" sz="2000" spc="-1" strike="noStrike">
                <a:solidFill>
                  <a:srgbClr val="003366"/>
                </a:solidFill>
                <a:latin typeface="Arial"/>
              </a:rPr>
              <a:t> </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6666"/>
                </a:solidFill>
                <a:latin typeface="Arial"/>
              </a:rPr>
              <a:t>Nawiguj</a:t>
            </a:r>
            <a:endParaRPr b="1" lang="en-US" sz="3600" spc="-1" strike="noStrike">
              <a:solidFill>
                <a:srgbClr val="006666"/>
              </a:solidFill>
              <a:latin typeface="Arial"/>
            </a:endParaRPr>
          </a:p>
        </p:txBody>
      </p:sp>
      <p:sp>
        <p:nvSpPr>
          <p:cNvPr id="107" name=""/>
          <p:cNvSpPr/>
          <p:nvPr/>
        </p:nvSpPr>
        <p:spPr>
          <a:xfrm>
            <a:off x="762120" y="2286000"/>
            <a:ext cx="83818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kcja Nawiguj oferuje użytkownikowi szybki i łatwy sposób przeglądania dokumentów. Dzięki niej możliwe jest oglądanie tych samych zapisów księgowych z różnych miejsc aplikacji. Pozwala ona zaoszczędzić wiele czasu Głównemu Księgowemu i pracownikom w ich codziennej pracy.</a:t>
            </a:r>
            <a:r>
              <a:rPr b="0" lang="en-US" sz="2000" spc="-1" strike="noStrike">
                <a:solidFill>
                  <a:srgbClr val="003366"/>
                </a:solidFill>
                <a:latin typeface="Arial"/>
              </a:rPr>
              <a:t> </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arządzanie Środkami Pieniężnymi i Kredytami</a:t>
            </a:r>
            <a:endParaRPr b="1" lang="en-US" sz="3600" spc="-1" strike="noStrike">
              <a:solidFill>
                <a:srgbClr val="006666"/>
              </a:solidFill>
              <a:latin typeface="Arial"/>
            </a:endParaRPr>
          </a:p>
        </p:txBody>
      </p:sp>
      <p:sp>
        <p:nvSpPr>
          <p:cNvPr id="109" name=""/>
          <p:cNvSpPr/>
          <p:nvPr/>
        </p:nvSpPr>
        <p:spPr>
          <a:xfrm>
            <a:off x="762120" y="2286000"/>
            <a:ext cx="83818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kcja Zarządzania Środkami Pieniężnymi i Kredytami oferuje sprawne narzędzia do śledzenia stanu środków pieniężnych na kontach bankowych prowadzonych w dowolnej walucie. Daje on możliwość dostępu do podstawowych danych o bilansie środków płatniczych firmy i wgląd we wszystkie transakcje pieniężne. Korzystając z Modułu Zarządzania Środkami Pieniężnymi i Kredytami możesz być pewny że stan twoich kont bankowych jest zawsze prawidłowo uaktualniany.</a:t>
            </a:r>
            <a:r>
              <a:rPr b="0" lang="en-US" sz="2000" spc="-1" strike="noStrike">
                <a:solidFill>
                  <a:srgbClr val="003366"/>
                </a:solidFill>
                <a:latin typeface="Arial"/>
              </a:rPr>
              <a:t> </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arządzanie Środkami Pieniężnymi i Kredytami c.d. - 1</a:t>
            </a:r>
            <a:endParaRPr b="1" lang="en-US" sz="3600" spc="-1" strike="noStrike">
              <a:solidFill>
                <a:srgbClr val="006666"/>
              </a:solidFill>
              <a:latin typeface="Arial"/>
            </a:endParaRPr>
          </a:p>
        </p:txBody>
      </p:sp>
      <p:sp>
        <p:nvSpPr>
          <p:cNvPr id="111" name=""/>
          <p:cNvSpPr/>
          <p:nvPr/>
        </p:nvSpPr>
        <p:spPr>
          <a:xfrm>
            <a:off x="762120" y="2286000"/>
            <a:ext cx="8381880" cy="289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Zarządzanie Kontami Bankowymi</a:t>
            </a:r>
            <a:r>
              <a:rPr b="1" lang="en-US" sz="2000" spc="-1" strike="noStrike">
                <a:solidFill>
                  <a:srgbClr val="000000"/>
                </a:solidFill>
                <a:latin typeface="Arial"/>
              </a:rPr>
              <a:t> </a:t>
            </a:r>
            <a:br>
              <a:rPr sz="2000"/>
            </a:br>
            <a:br>
              <a:rPr sz="2000"/>
            </a:br>
            <a:r>
              <a:rPr b="0" lang="en-US" sz="2000" spc="-1" strike="noStrike">
                <a:solidFill>
                  <a:srgbClr val="000000"/>
                </a:solidFill>
                <a:latin typeface="Arial"/>
              </a:rPr>
              <a:t>Funkcja Zarządzanie Kontami Bankowymi pozwala na kontrolę nieograniczonej liczby kont bankowych. Stan kont utrzymywany jest zarówno w krajowych środkach pieniężnych jak i w walucie. Wpłaty gotówki i zapłaty za poszczególne transakcje są śledzone na koncie bankowym.</a:t>
            </a:r>
            <a:br>
              <a:rPr sz="2000"/>
            </a:br>
            <a:r>
              <a:rPr b="0" lang="en-US" sz="2000" spc="-1" strike="noStrike">
                <a:solidFill>
                  <a:srgbClr val="000000"/>
                </a:solidFill>
                <a:latin typeface="Arial"/>
              </a:rPr>
              <a:t> </a:t>
            </a:r>
            <a:r>
              <a:rPr b="0" lang="en-US" sz="2000" spc="-1" strike="noStrike">
                <a:solidFill>
                  <a:srgbClr val="003366"/>
                </a:solidFill>
                <a:latin typeface="Arial"/>
              </a:rPr>
              <a:t> </a:t>
            </a:r>
            <a:br>
              <a:rPr sz="2000"/>
            </a:b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5T17:57:37Z</dcterms:created>
  <dc:creator>Beata Suwała</dc:creator>
  <dc:description/>
  <dc:language>en-US</dc:language>
  <cp:lastModifiedBy>Beata Suwała</cp:lastModifiedBy>
  <dcterms:modified xsi:type="dcterms:W3CDTF">2004-01-15T19:35:19Z</dcterms:modified>
  <cp:revision>4</cp:revision>
  <dc:subject/>
  <dc:title>NAVISION ATTAIN</dc:title>
</cp:coreProperties>
</file>