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6EC-16A2-41F5-A001-CF35E0A5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7CB-9C7D-4BF3-BF73-A9FA6CB7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010-E40B-487A-A3D4-C4DC7F52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1A7-814E-42A2-B567-B4BE9AA8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0D39-4B20-4F76-AF4F-9D402097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A916-CA6F-4E88-A0F6-DCF98FED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90EB-DD8B-4017-8D2D-0854ED76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FC7B-BD4A-40F4-B5BD-D82D8286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6BEF-25A3-4F35-B5F8-98EFF429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1E28-6257-4B99-9D67-59C432E6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592D-EEEC-40CE-B470-443ABF0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06B-5A6E-4AEF-AFA2-C86633A3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C66A-9FD8-4382-9635-2DAD7634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21DB-2BDD-4FC9-97B8-9A68C4D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0C82-4FA1-4568-9474-8D422504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6E6C-B746-456B-9755-8B554EF8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10F5-BC68-4D70-AFB9-6A30E08F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2C6-3871-4CB9-8C60-9E03A2DB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D38-E3A5-4013-A376-2FB54262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48A-04ED-4693-BA17-855596C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649-ABBE-4FCF-8A88-5DB08C1A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71E-FD65-4AD6-981F-8E5C7EB0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C30-EB5A-496A-9854-21F6B2C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268-D769-4E3B-A2C4-7DCB906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E4D9-43FC-4B27-9819-AD3017DF75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0C9A-7475-40E0-B9C9-A8C9E31DE1D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gazy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pas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uł Zapasy umożliwia utrzymywanie szczegółowych zapisów dotyczących zakupów, sprzedaży oraz innych operacji zwiększających lub zmniejszających stany magazynu. Zapasy - moduł podstawowy zawiera ewidencję poszczególnych pozycji, oraz księgę do ewidencjonowania szczegółów związanych z dokonywanymi transakcjami. Dołączenie modułów zarządzania zamówieniami własnymi i obcymi pozwala w pełni kontrolować i planować procesy zakupu i sprzedaży tak, by minimalizując zapasy uzyskiwać maksymalne obroty, bez uszczerbku w jakości obsługi klien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zycje zapasów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 każdą pozycją w zapasach związana jest karta zawierająca wszystkie informacje potrzebne w procesie zarządzania zapasami. Użytkownik ma możliwość decydowania, które z informacji są związane z jego firmą, oraz umieszczenia ich w odpowiednich tablicach w zależności od ich typu i funkcji. Ponadto wykorzystując moduł projektowania form można w bardzo prosty sposób dodać nowe tablice lub zmienić wygląd istniejących. Możliwe jest powiązanie modułu zapasów z Księgą Główną poprzez zdefiniowanie grup księgowych. W grupach tych określa się konta zapasów. W każdej kartotece zapasu można podać informacje o jednostkach, w których dana pozycja zapasu jest sprzedawana oraz dodatkowe informacje o wadze, ilości jednostek w paczce i objętości. Możliwe jest również przechowywanie dla każdej pozycji zapasu informacji o liście alternatywnych dostawców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lokowani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tem umożliwia blokowanie księgowania na konto zapasu i zabezpieczenie danego zapasu przed uruchomieniem dla niego zamówienia, na przykład z powodu wady danego towaru. Jeśli dany towar nie będzie dłużej sprzedawany to można go zablokować zamiast usuwać z ewidencji. Pozwala to na uzyskanie informacji statystycznych związanych z kontem danego towar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ednostki Składowania Zapasów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Navisio Attain posiada funkcjonalność pozwalającą na zarządzanie jednostkami składowania zapasów (SKUs), co oznacza że identyczne zapasy, posiadające ten sam numer mogą być składowane w różnych lokalizacjach oraz zarządzane indywidualnie w zakresie każdej lokalizacji. W oparciu o konkretną lokalizację, użytkownik ma możliwość wprowadzenia: cen określających koszt zapasu, informacji dotyczących uzupełniania stanu tego zapasu, danych dotyczących jego wyprodukowania itd. Wymagania: Złożone Lokalizaj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bstytut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zięki tej funkcjonalności istnieje możliwość łączenia zapasów posiadających takie same lub podobne cechy. Jeśli klient zamówi zapas, który nie jest akurat dostępny, można mu zaoferować substytuty, unikając w ten sposób braku możliwości sprzedaży. Funkcja ta pozwala również na zaoferowanie klientom dodatkowego serwisu, polegającego na proponowaniu im zapasów alternatywnych po niższych cenach. Wymagania: Zarządzanie Zamówieniami Sprzedaży oraz Zapasy - moduł podstawowy  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znaczen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zięki tej funkcjonalności istnieje możliwość łączenia zapasów posiadających takie same lub podobne cechy. Jeśli klient zamówi zapas, który nie jest akurat dostępny, można mu zaoferować substytuty, unikając w ten sposób braku możliwości sprzedaży. Funkcja ta pozwala również na zaoferowanie klientom dodatkowego serwisu, polegającego na proponowaniu im zapasów alternatywnych po niższych cenach. Wymagania: Zarządzanie Zamówieniami Sprzedaży oraz Zapasy - moduł podstawow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20:10:02Z</dcterms:created>
  <dc:creator>Michal Ziach</dc:creator>
  <dc:description/>
  <dc:language>en-US</dc:language>
  <cp:lastModifiedBy>Michal Ziach</cp:lastModifiedBy>
  <dcterms:modified xsi:type="dcterms:W3CDTF">2004-01-15T20:21:28Z</dcterms:modified>
  <cp:revision>1</cp:revision>
  <dc:subject/>
  <dc:title>Magazyn </dc:title>
</cp:coreProperties>
</file>