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16800"/>
            <a:ext cx="9144000" cy="2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.Subieta. Budowa i integracja SI, Wykład 6, Folia </a:t>
            </a:r>
            <a:fld id="{58D4469F-9090-4B83-8065-BFBCA762FA1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08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5560" y="65786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 CE"/>
              </a:rPr>
              <a:t>maj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839880"/>
            <a:ext cx="739008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272880"/>
            <a:ext cx="6864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owa i integracj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637000"/>
            <a:ext cx="29001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jektowani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160" y="479736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pi-logo" descr=""/>
          <p:cNvPicPr/>
          <p:nvPr/>
        </p:nvPicPr>
        <p:blipFill>
          <a:blip r:embed="rId2"/>
          <a:stretch/>
        </p:blipFill>
        <p:spPr>
          <a:xfrm>
            <a:off x="3929040" y="5878440"/>
            <a:ext cx="987480" cy="520920"/>
          </a:xfrm>
          <a:prstGeom prst="rect">
            <a:avLst/>
          </a:prstGeom>
          <a:ln w="0">
            <a:noFill/>
          </a:ln>
        </p:spPr>
      </p:pic>
      <p:pic>
        <p:nvPicPr>
          <p:cNvPr id="46" name="pojalogo" descr=""/>
          <p:cNvPicPr/>
          <p:nvPr/>
        </p:nvPicPr>
        <p:blipFill>
          <a:blip r:embed="rId3"/>
          <a:stretch/>
        </p:blipFill>
        <p:spPr>
          <a:xfrm>
            <a:off x="4086360" y="5116680"/>
            <a:ext cx="67140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: obejście braku wielo-dziedzicz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28560" y="1139760"/>
            <a:ext cx="3574440" cy="2125080"/>
            <a:chOff x="628560" y="1139760"/>
            <a:chExt cx="3574440" cy="2125080"/>
          </a:xfrm>
        </p:grpSpPr>
        <p:sp>
          <p:nvSpPr>
            <p:cNvPr id="835" name=""/>
            <p:cNvSpPr/>
            <p:nvPr/>
          </p:nvSpPr>
          <p:spPr>
            <a:xfrm flipV="1">
              <a:off x="2105280" y="1814400"/>
              <a:ext cx="0" cy="65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86040" y="1944720"/>
              <a:ext cx="439920" cy="23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759400" y="1755360"/>
              <a:ext cx="0" cy="6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40160" y="1939680"/>
              <a:ext cx="439560" cy="239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8560" y="1139760"/>
              <a:ext cx="164520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ierowni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zedsięwzię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70680" y="1139760"/>
              <a:ext cx="173232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Inżyn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oprogramowa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11640" y="2347920"/>
              <a:ext cx="1936440" cy="916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ier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zedsięwzię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ogramistycz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0" y="521640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owtór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atrybut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 met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 obu nad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13160" y="4376880"/>
            <a:ext cx="483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ogół, „obejście” braku pewnej cechy modelu pojęciowego w przyjętym środowisku implementacyjnym jest związane z zasadniczymi wadami (jakkolwiek firmy komputerowe na wszystkie sposoby próbują te wady zbagatelizować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740640" y="175572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394400" y="1755360"/>
            <a:ext cx="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263920" y="1139760"/>
            <a:ext cx="164520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Kierow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dsięwzię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06040" y="1139760"/>
            <a:ext cx="173232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nżyn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oprogram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47000" y="2347920"/>
            <a:ext cx="1936440" cy="916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Kier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dsięwzię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ogramistycz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27800" y="218448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67560" y="21844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56200" y="2362320"/>
            <a:ext cx="103968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79520" y="3456000"/>
            <a:ext cx="1800" cy="6192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28560" y="4249800"/>
            <a:ext cx="3574440" cy="2125080"/>
            <a:chOff x="628560" y="4249800"/>
            <a:chExt cx="3574440" cy="2125080"/>
          </a:xfrm>
        </p:grpSpPr>
        <p:sp>
          <p:nvSpPr>
            <p:cNvPr id="854" name=""/>
            <p:cNvSpPr/>
            <p:nvPr/>
          </p:nvSpPr>
          <p:spPr>
            <a:xfrm flipV="1">
              <a:off x="2759040" y="4879800"/>
              <a:ext cx="0" cy="563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8560" y="4249800"/>
              <a:ext cx="164520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ierowni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zedsięwzię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70680" y="4249800"/>
              <a:ext cx="173232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Inżyn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oprogramowa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11640" y="5457960"/>
              <a:ext cx="1936440" cy="916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Kier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zedsięwzię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rogramistycz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082960" y="4881240"/>
              <a:ext cx="0" cy="563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kreślenie fizycznej struktury syste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7240" y="971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bejm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30080" y="1539720"/>
            <a:ext cx="811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kreślenie struktury kodu źródłowego, tj. wyróżnienie plików źródłowych, zależności pomiędzy nimi oraz rozmieszczenie skłądowych projektu w plikach źródł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1440" y="2666880"/>
            <a:ext cx="46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dział systemu na poszczególne aplik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3880" y="3255840"/>
            <a:ext cx="82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izyczne rozmieszczenie danych i aplikacji na stacjach roboczych i serwer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1160" y="15922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160" y="27352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1160" y="32814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1280" y="386568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znaczenia (Boo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658880" y="4398840"/>
            <a:ext cx="1316160" cy="1662120"/>
            <a:chOff x="1658880" y="4398840"/>
            <a:chExt cx="1316160" cy="1662120"/>
          </a:xfrm>
        </p:grpSpPr>
        <p:sp>
          <p:nvSpPr>
            <p:cNvPr id="869" name=""/>
            <p:cNvSpPr/>
            <p:nvPr/>
          </p:nvSpPr>
          <p:spPr>
            <a:xfrm>
              <a:off x="2006640" y="43988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Naz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658880" y="4773600"/>
              <a:ext cx="1316160" cy="1287360"/>
              <a:chOff x="1658880" y="4773600"/>
              <a:chExt cx="1316160" cy="1287360"/>
            </a:xfrm>
          </p:grpSpPr>
          <p:sp>
            <p:nvSpPr>
              <p:cNvPr id="871" name=""/>
              <p:cNvSpPr/>
              <p:nvPr/>
            </p:nvSpPr>
            <p:spPr>
              <a:xfrm>
                <a:off x="2060640" y="4773600"/>
                <a:ext cx="914400" cy="128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58880" y="5305320"/>
                <a:ext cx="804960" cy="210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658880" y="5705280"/>
                <a:ext cx="804960" cy="21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658880" y="4887720"/>
                <a:ext cx="804960" cy="211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5" name=""/>
          <p:cNvGrpSpPr/>
          <p:nvPr/>
        </p:nvGrpSpPr>
        <p:grpSpPr>
          <a:xfrm>
            <a:off x="4809960" y="4398840"/>
            <a:ext cx="1316160" cy="1662120"/>
            <a:chOff x="4809960" y="4398840"/>
            <a:chExt cx="1316160" cy="1662120"/>
          </a:xfrm>
        </p:grpSpPr>
        <p:grpSp>
          <p:nvGrpSpPr>
            <p:cNvPr id="876" name=""/>
            <p:cNvGrpSpPr/>
            <p:nvPr/>
          </p:nvGrpSpPr>
          <p:grpSpPr>
            <a:xfrm>
              <a:off x="4809960" y="4773600"/>
              <a:ext cx="1316160" cy="1287360"/>
              <a:chOff x="4809960" y="4773600"/>
              <a:chExt cx="1316160" cy="1287360"/>
            </a:xfrm>
          </p:grpSpPr>
          <p:sp>
            <p:nvSpPr>
              <p:cNvPr id="877" name=""/>
              <p:cNvSpPr/>
              <p:nvPr/>
            </p:nvSpPr>
            <p:spPr>
              <a:xfrm>
                <a:off x="5211720" y="4773600"/>
                <a:ext cx="914400" cy="1287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09960" y="5305320"/>
                <a:ext cx="804960" cy="21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809960" y="5705280"/>
                <a:ext cx="804960" cy="21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809960" y="4887720"/>
                <a:ext cx="804960" cy="210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5204880" y="43988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Naz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864560" y="4788000"/>
            <a:ext cx="917640" cy="1290240"/>
            <a:chOff x="7864560" y="4788000"/>
            <a:chExt cx="917640" cy="1290240"/>
          </a:xfrm>
        </p:grpSpPr>
        <p:sp>
          <p:nvSpPr>
            <p:cNvPr id="883" name=""/>
            <p:cNvSpPr/>
            <p:nvPr/>
          </p:nvSpPr>
          <p:spPr>
            <a:xfrm>
              <a:off x="7864560" y="4788000"/>
              <a:ext cx="914400" cy="12873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866000" y="5027400"/>
              <a:ext cx="916200" cy="105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07400" y="50292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Naz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05640" y="504684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eklarac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480120" y="50468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efinic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03640" y="491004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Modu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głów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 zależności kompilacji dla C+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844640" y="1355760"/>
            <a:ext cx="1411920" cy="1662120"/>
            <a:chOff x="1844640" y="1355760"/>
            <a:chExt cx="1411920" cy="1662120"/>
          </a:xfrm>
        </p:grpSpPr>
        <p:sp>
          <p:nvSpPr>
            <p:cNvPr id="891" name=""/>
            <p:cNvSpPr/>
            <p:nvPr/>
          </p:nvSpPr>
          <p:spPr>
            <a:xfrm>
              <a:off x="2192040" y="135576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Symbol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1844640" y="1730520"/>
              <a:ext cx="1316160" cy="1287360"/>
              <a:chOff x="1844640" y="1730520"/>
              <a:chExt cx="1316160" cy="1287360"/>
            </a:xfrm>
          </p:grpSpPr>
          <p:sp>
            <p:nvSpPr>
              <p:cNvPr id="893" name=""/>
              <p:cNvSpPr/>
              <p:nvPr/>
            </p:nvSpPr>
            <p:spPr>
              <a:xfrm>
                <a:off x="2246400" y="1730520"/>
                <a:ext cx="914400" cy="128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44640" y="2262240"/>
                <a:ext cx="804960" cy="210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44640" y="2662200"/>
                <a:ext cx="804960" cy="21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844640" y="1844640"/>
                <a:ext cx="804960" cy="211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995720" y="1355760"/>
            <a:ext cx="1446840" cy="1662120"/>
            <a:chOff x="4995720" y="1355760"/>
            <a:chExt cx="1446840" cy="1662120"/>
          </a:xfrm>
        </p:grpSpPr>
        <p:grpSp>
          <p:nvGrpSpPr>
            <p:cNvPr id="898" name=""/>
            <p:cNvGrpSpPr/>
            <p:nvPr/>
          </p:nvGrpSpPr>
          <p:grpSpPr>
            <a:xfrm>
              <a:off x="4995720" y="1730520"/>
              <a:ext cx="1316160" cy="1287360"/>
              <a:chOff x="4995720" y="1730520"/>
              <a:chExt cx="1316160" cy="1287360"/>
            </a:xfrm>
          </p:grpSpPr>
          <p:sp>
            <p:nvSpPr>
              <p:cNvPr id="899" name=""/>
              <p:cNvSpPr/>
              <p:nvPr/>
            </p:nvSpPr>
            <p:spPr>
              <a:xfrm>
                <a:off x="5397480" y="1730520"/>
                <a:ext cx="914400" cy="1287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95720" y="2262240"/>
                <a:ext cx="804960" cy="21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95720" y="2662200"/>
                <a:ext cx="804960" cy="21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95720" y="1844640"/>
                <a:ext cx="804960" cy="210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390280" y="135576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Symbol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3506760" y="3859200"/>
            <a:ext cx="1316160" cy="1662120"/>
            <a:chOff x="3506760" y="3859200"/>
            <a:chExt cx="1316160" cy="1662120"/>
          </a:xfrm>
        </p:grpSpPr>
        <p:sp>
          <p:nvSpPr>
            <p:cNvPr id="905" name=""/>
            <p:cNvSpPr/>
            <p:nvPr/>
          </p:nvSpPr>
          <p:spPr>
            <a:xfrm>
              <a:off x="3854160" y="38592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unkt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3506760" y="4233960"/>
              <a:ext cx="1316160" cy="1287360"/>
              <a:chOff x="3506760" y="4233960"/>
              <a:chExt cx="1316160" cy="1287360"/>
            </a:xfrm>
          </p:grpSpPr>
          <p:sp>
            <p:nvSpPr>
              <p:cNvPr id="907" name=""/>
              <p:cNvSpPr/>
              <p:nvPr/>
            </p:nvSpPr>
            <p:spPr>
              <a:xfrm>
                <a:off x="3908520" y="4233960"/>
                <a:ext cx="914400" cy="128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506760" y="4765680"/>
                <a:ext cx="804960" cy="210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506760" y="5165640"/>
                <a:ext cx="804960" cy="21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06760" y="4348080"/>
                <a:ext cx="804960" cy="211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1" name=""/>
          <p:cNvSpPr/>
          <p:nvPr/>
        </p:nvSpPr>
        <p:spPr>
          <a:xfrm flipH="1" flipV="1">
            <a:off x="3265560" y="2993760"/>
            <a:ext cx="97776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241440" y="236232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Graficzny opis sprzętowej konfiguracji system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76200" y="1089000"/>
            <a:ext cx="1770120" cy="1125720"/>
            <a:chOff x="376200" y="1089000"/>
            <a:chExt cx="1770120" cy="1125720"/>
          </a:xfrm>
        </p:grpSpPr>
        <p:sp>
          <p:nvSpPr>
            <p:cNvPr id="915" name=""/>
            <p:cNvSpPr/>
            <p:nvPr/>
          </p:nvSpPr>
          <p:spPr>
            <a:xfrm>
              <a:off x="376200" y="1089000"/>
              <a:ext cx="1770120" cy="1125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6200" y="1378080"/>
              <a:ext cx="14828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Serwer ba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danych dział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kontroli jakoś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141640" y="2260440"/>
            <a:ext cx="1904760" cy="1113120"/>
            <a:chOff x="2141640" y="2260440"/>
            <a:chExt cx="1904760" cy="1113120"/>
          </a:xfrm>
        </p:grpSpPr>
        <p:sp>
          <p:nvSpPr>
            <p:cNvPr id="918" name=""/>
            <p:cNvSpPr/>
            <p:nvPr/>
          </p:nvSpPr>
          <p:spPr>
            <a:xfrm>
              <a:off x="2141640" y="2260440"/>
              <a:ext cx="1904760" cy="11131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41640" y="2536920"/>
              <a:ext cx="16160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Główny serwer bazy dany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przedsiębiorst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4579920" y="1252440"/>
            <a:ext cx="1770120" cy="1125720"/>
            <a:chOff x="4579920" y="1252440"/>
            <a:chExt cx="1770120" cy="1125720"/>
          </a:xfrm>
        </p:grpSpPr>
        <p:sp>
          <p:nvSpPr>
            <p:cNvPr id="921" name=""/>
            <p:cNvSpPr/>
            <p:nvPr/>
          </p:nvSpPr>
          <p:spPr>
            <a:xfrm>
              <a:off x="4579920" y="1252440"/>
              <a:ext cx="1770120" cy="1125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79920" y="1541520"/>
              <a:ext cx="14828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Serwer ba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danych dział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market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4559400" y="3002040"/>
            <a:ext cx="1770120" cy="1125720"/>
            <a:chOff x="4559400" y="3002040"/>
            <a:chExt cx="1770120" cy="1125720"/>
          </a:xfrm>
        </p:grpSpPr>
        <p:sp>
          <p:nvSpPr>
            <p:cNvPr id="924" name=""/>
            <p:cNvSpPr/>
            <p:nvPr/>
          </p:nvSpPr>
          <p:spPr>
            <a:xfrm>
              <a:off x="4559400" y="3002040"/>
              <a:ext cx="1770120" cy="1125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59400" y="3291120"/>
              <a:ext cx="14828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Serwer aplikacji dział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market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2111400" y="3708360"/>
            <a:ext cx="1770120" cy="1125720"/>
            <a:chOff x="2111400" y="3708360"/>
            <a:chExt cx="1770120" cy="1125720"/>
          </a:xfrm>
        </p:grpSpPr>
        <p:sp>
          <p:nvSpPr>
            <p:cNvPr id="927" name=""/>
            <p:cNvSpPr/>
            <p:nvPr/>
          </p:nvSpPr>
          <p:spPr>
            <a:xfrm>
              <a:off x="2111400" y="3708360"/>
              <a:ext cx="1770120" cy="1125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11400" y="3997440"/>
              <a:ext cx="14828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Serwer ba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danych dział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finansowe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582560" y="5345280"/>
            <a:ext cx="1770120" cy="1125360"/>
            <a:chOff x="1582560" y="5345280"/>
            <a:chExt cx="1770120" cy="1125360"/>
          </a:xfrm>
        </p:grpSpPr>
        <p:sp>
          <p:nvSpPr>
            <p:cNvPr id="930" name=""/>
            <p:cNvSpPr/>
            <p:nvPr/>
          </p:nvSpPr>
          <p:spPr>
            <a:xfrm>
              <a:off x="1582560" y="5345280"/>
              <a:ext cx="1770120" cy="1125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82560" y="5634000"/>
              <a:ext cx="148284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Serwer plików dział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finansowe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434960" y="2216160"/>
            <a:ext cx="71784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4044960" y="1991880"/>
            <a:ext cx="53172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68560" y="337824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57800" y="2374920"/>
            <a:ext cx="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635200" y="483696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2000" y="3108240"/>
            <a:ext cx="1123920" cy="2235240"/>
            <a:chOff x="162000" y="3108240"/>
            <a:chExt cx="1123920" cy="2235240"/>
          </a:xfrm>
        </p:grpSpPr>
        <p:sp>
          <p:nvSpPr>
            <p:cNvPr id="938" name=""/>
            <p:cNvSpPr/>
            <p:nvPr/>
          </p:nvSpPr>
          <p:spPr>
            <a:xfrm>
              <a:off x="162000" y="3128760"/>
              <a:ext cx="1123920" cy="221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05080" y="3544920"/>
              <a:ext cx="436320" cy="326880"/>
              <a:chOff x="505080" y="3544920"/>
              <a:chExt cx="436320" cy="326880"/>
            </a:xfrm>
          </p:grpSpPr>
          <p:sp>
            <p:nvSpPr>
              <p:cNvPr id="940" name=""/>
              <p:cNvSpPr/>
              <p:nvPr/>
            </p:nvSpPr>
            <p:spPr>
              <a:xfrm>
                <a:off x="505080" y="354492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18040" y="35812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05080" y="3981240"/>
              <a:ext cx="436320" cy="327240"/>
              <a:chOff x="505080" y="3981240"/>
              <a:chExt cx="436320" cy="327240"/>
            </a:xfrm>
          </p:grpSpPr>
          <p:sp>
            <p:nvSpPr>
              <p:cNvPr id="943" name=""/>
              <p:cNvSpPr/>
              <p:nvPr/>
            </p:nvSpPr>
            <p:spPr>
              <a:xfrm>
                <a:off x="505080" y="3981240"/>
                <a:ext cx="436320" cy="32724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18040" y="401796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505080" y="4419720"/>
              <a:ext cx="436320" cy="326880"/>
              <a:chOff x="505080" y="4419720"/>
              <a:chExt cx="436320" cy="326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05080" y="441972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18040" y="44560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505080" y="4852800"/>
              <a:ext cx="436320" cy="327240"/>
              <a:chOff x="505080" y="4852800"/>
              <a:chExt cx="436320" cy="327240"/>
            </a:xfrm>
          </p:grpSpPr>
          <p:sp>
            <p:nvSpPr>
              <p:cNvPr id="949" name=""/>
              <p:cNvSpPr/>
              <p:nvPr/>
            </p:nvSpPr>
            <p:spPr>
              <a:xfrm>
                <a:off x="505080" y="4852800"/>
                <a:ext cx="436320" cy="32724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8040" y="488952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414000" y="31082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Pł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434360" y="1306440"/>
            <a:ext cx="1105920" cy="2384640"/>
            <a:chOff x="7434360" y="1306440"/>
            <a:chExt cx="1105920" cy="2384640"/>
          </a:xfrm>
        </p:grpSpPr>
        <p:sp>
          <p:nvSpPr>
            <p:cNvPr id="953" name=""/>
            <p:cNvSpPr/>
            <p:nvPr/>
          </p:nvSpPr>
          <p:spPr>
            <a:xfrm>
              <a:off x="7443720" y="1327320"/>
              <a:ext cx="1089000" cy="236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7769160" y="1892160"/>
              <a:ext cx="436320" cy="327240"/>
              <a:chOff x="7769160" y="1892160"/>
              <a:chExt cx="436320" cy="327240"/>
            </a:xfrm>
          </p:grpSpPr>
          <p:sp>
            <p:nvSpPr>
              <p:cNvPr id="955" name=""/>
              <p:cNvSpPr/>
              <p:nvPr/>
            </p:nvSpPr>
            <p:spPr>
              <a:xfrm>
                <a:off x="7769160" y="1892160"/>
                <a:ext cx="436320" cy="32724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782120" y="19288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7769160" y="2328840"/>
              <a:ext cx="436320" cy="326880"/>
              <a:chOff x="7769160" y="2328840"/>
              <a:chExt cx="436320" cy="326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769160" y="232884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782120" y="236520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7769160" y="2766960"/>
              <a:ext cx="436320" cy="327240"/>
              <a:chOff x="7769160" y="2766960"/>
              <a:chExt cx="436320" cy="327240"/>
            </a:xfrm>
          </p:grpSpPr>
          <p:sp>
            <p:nvSpPr>
              <p:cNvPr id="961" name=""/>
              <p:cNvSpPr/>
              <p:nvPr/>
            </p:nvSpPr>
            <p:spPr>
              <a:xfrm>
                <a:off x="7769160" y="2766960"/>
                <a:ext cx="436320" cy="32724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82120" y="28036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7769160" y="3200400"/>
              <a:ext cx="436320" cy="326880"/>
              <a:chOff x="7769160" y="3200400"/>
              <a:chExt cx="436320" cy="326880"/>
            </a:xfrm>
          </p:grpSpPr>
          <p:sp>
            <p:nvSpPr>
              <p:cNvPr id="964" name=""/>
              <p:cNvSpPr/>
              <p:nvPr/>
            </p:nvSpPr>
            <p:spPr>
              <a:xfrm>
                <a:off x="7769160" y="320040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82120" y="323676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7434360" y="1306440"/>
              <a:ext cx="110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Dzia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market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5083200" y="4662360"/>
            <a:ext cx="2077920" cy="1150920"/>
            <a:chOff x="5083200" y="4662360"/>
            <a:chExt cx="2077920" cy="1150920"/>
          </a:xfrm>
        </p:grpSpPr>
        <p:sp>
          <p:nvSpPr>
            <p:cNvPr id="968" name=""/>
            <p:cNvSpPr/>
            <p:nvPr/>
          </p:nvSpPr>
          <p:spPr>
            <a:xfrm>
              <a:off x="5083200" y="4662360"/>
              <a:ext cx="2077920" cy="11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5916600" y="5224320"/>
              <a:ext cx="435960" cy="326880"/>
              <a:chOff x="5916600" y="5224320"/>
              <a:chExt cx="435960" cy="326880"/>
            </a:xfrm>
          </p:grpSpPr>
          <p:sp>
            <p:nvSpPr>
              <p:cNvPr id="970" name=""/>
              <p:cNvSpPr/>
              <p:nvPr/>
            </p:nvSpPr>
            <p:spPr>
              <a:xfrm>
                <a:off x="5916600" y="5224320"/>
                <a:ext cx="43596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28840" y="52606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6526080" y="5224320"/>
              <a:ext cx="436320" cy="326880"/>
              <a:chOff x="6526080" y="5224320"/>
              <a:chExt cx="436320" cy="326880"/>
            </a:xfrm>
          </p:grpSpPr>
          <p:sp>
            <p:nvSpPr>
              <p:cNvPr id="973" name=""/>
              <p:cNvSpPr/>
              <p:nvPr/>
            </p:nvSpPr>
            <p:spPr>
              <a:xfrm>
                <a:off x="6526080" y="522432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539040" y="52606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5305320" y="5224320"/>
              <a:ext cx="436320" cy="326880"/>
              <a:chOff x="5305320" y="5224320"/>
              <a:chExt cx="436320" cy="326880"/>
            </a:xfrm>
          </p:grpSpPr>
          <p:sp>
            <p:nvSpPr>
              <p:cNvPr id="976" name=""/>
              <p:cNvSpPr/>
              <p:nvPr/>
            </p:nvSpPr>
            <p:spPr>
              <a:xfrm>
                <a:off x="5305320" y="5224320"/>
                <a:ext cx="436320" cy="326880"/>
              </a:xfrm>
              <a:prstGeom prst="cube">
                <a:avLst>
                  <a:gd name="adj" fmla="val 10745"/>
                </a:avLst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318280" y="5260680"/>
                <a:ext cx="383400" cy="27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 CE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5660280" y="4767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</a:rPr>
                <a:t>Zaku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3897360" y="4317840"/>
            <a:ext cx="118728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352680" y="5418000"/>
            <a:ext cx="173196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1285920" y="5084640"/>
            <a:ext cx="45864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8520" y="4268880"/>
            <a:ext cx="81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334200" y="2906280"/>
            <a:ext cx="111276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800" y="1670040"/>
            <a:ext cx="110016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prawność projek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0600" y="1231920"/>
            <a:ext cx="846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prawn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znacza, że opis projektu jest zgodny z zasadami posługiwania się notacjami. Nie gwarantuje, że projekt jest zgodny z wymaganiami 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79800" y="1998720"/>
            <a:ext cx="545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prawny projekt musi by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komplet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niesprze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spó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zgodny z regułami składniowymi no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1880" y="3718080"/>
            <a:ext cx="819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ompletność projektu oznacza, że zdefiniowane s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wszystkie 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wszystkie pola (atrybu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wszystkie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wszystkie dane złożone i element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 także że opisany jest sposób realizacji wszystkich wymagań funkcjona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0600" y="573408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ójność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znacza semantyczną zgodność wszystkich informacji zawartych na poszczególnych diagramach i w spec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prawność diagramów klas i stanów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2200" y="1359000"/>
            <a:ext cx="851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cykliczność związków generalizacji-specjaliz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cjonalność cyklicznych związków agreg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klas nie powiązanych w żaden sposób z innymi klasami. Sytuacja taka może się jednak pojawić, jeżeli projekt dotyczy biblioteki klas, a nie całej apl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mieszczenie w specyfikacji sygnatur metod informacji o parametrach wejściowych, wyjściowych i specyfikacji wyni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92200" y="4687920"/>
            <a:ext cx="830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stanów (oprócz początkowego), do których nie ma przejś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stanów (oprócz końcowego), z których nie ma wyjś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dnoznaczność wyjść ze stanów pod wpływem określonych zdarzeń/warunkó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640" y="10000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iagramy kl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1560" y="42958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iagramy stan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30040" y="141120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0040" y="26179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30040" y="348444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30040" y="47498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0040" y="536256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30040" y="60055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0040" y="20718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Jakość projekt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7520" y="849240"/>
            <a:ext cx="8577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Metody projektowe i stosowane notacje są w dużym stopniu nieformalne, zaś ich użycie silnie zależy od rodzaju przedsięwzięcia programisty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więc dość trudno ocenić jakość projektu w sensie jego adekwatności do procesu konstruowania oprogramowania i stopnia późniejszej satysfakcji użytkowników: stopień spełnienia wymagań, niezawodność, efektywność, łatwość konserwacji i ergonomicz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 terminem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 CE"/>
              </a:rPr>
              <a:t>jakość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rozumie się bardziej szczegółowe kry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spój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stopień powiązania skład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* przejrzys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9840" y="5165640"/>
            <a:ext cx="8646840" cy="131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stotne jest spełnienie kryteriów formalnych jakości, które w dużym stopniu rzutują na efektywną jakość, chociaż w żadnym stopniu o niej nie przesądzaj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ełnienie formalnych kryteriów jakości jest warunkiem efektywnej ja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 spełnienie tych kryteriów na ogół dyskwalifikuje efektywną jakość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ójnoś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9720" y="839880"/>
            <a:ext cx="873936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ójność opisuje na ile poszczególne części projektu pasują do sieb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stotne staje się kryterium podziału projektu na czę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zależności od tego kryterium, możliwe jest wiele rodzajów spój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6760" y="2033640"/>
            <a:ext cx="54856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Kryteria podziału projektu (i rodzaje spójnośc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9720" y="2435400"/>
            <a:ext cx="872820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przypadk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Podział na moduły (części) wynika wyłącznie z tego, że całość jest za duża (utrudnia wydruk, edycję, i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logiczn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Poszczególne składowe wykonują podobne funkcje, np. obsługa błędów, wykonywanie podobnych oblicz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czas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Składowe są uruchamiane w podobnym czasie, np. podczas startu lub zakończenia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proceduralny (sekwencyjny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Składowe są kolejno uruchamiane. Dane wyjściowe jednej składowej stanowią wejście in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komunikacyjn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Składowe działają na tym samym zbiorze danych wejściowych i wspólnie produkują zestaw danych wyjści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ział funkcjonaln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Wszystkie składowe są niezbędne dla realizacji jednej tej samej fun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11200" y="615456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opień powiązań można oceniać przy pomocy miar liczb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topień powiązania składow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16000" y="822240"/>
            <a:ext cx="871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dobrym projekcie powinno dążyć się do tego, aby stopień powiązania pomiędzy jego składowymi był minimalny. To kryterium określa podział projektu na części zaś oprogramowanie na moduł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1200" y="4352760"/>
            <a:ext cx="73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o to są “powiązania pomiędzy składowymi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744560" y="2220840"/>
            <a:ext cx="1967040" cy="15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1744200" y="2246400"/>
            <a:ext cx="20034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719360" y="2220840"/>
            <a:ext cx="0" cy="155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719360" y="378000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719360" y="2233440"/>
            <a:ext cx="20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747960" y="2244600"/>
            <a:ext cx="0" cy="155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90760" y="2779560"/>
            <a:ext cx="681120" cy="446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20920" y="2000160"/>
            <a:ext cx="68076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60600" y="3560760"/>
            <a:ext cx="68112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20920" y="3559320"/>
            <a:ext cx="68076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360600" y="2000160"/>
            <a:ext cx="68112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95840" y="2182680"/>
            <a:ext cx="1014480" cy="80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95480" y="2208240"/>
            <a:ext cx="20034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570640" y="374184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242040" y="2741760"/>
            <a:ext cx="68112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272200" y="1962000"/>
            <a:ext cx="680760" cy="446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11880" y="3522600"/>
            <a:ext cx="68112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272200" y="3521160"/>
            <a:ext cx="680760" cy="446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11880" y="1962000"/>
            <a:ext cx="681120" cy="446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7760" y="26193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ciś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ąz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622400" y="263700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uź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ąz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36680" y="4762440"/>
            <a:ext cx="629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Korzystanie przez procesy/moduły z tych samych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pływy danych pomiędzy procesami/moduł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wiązki pomiędzy klas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pływy komunika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ziedzic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ejrzystoś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5040" y="974880"/>
            <a:ext cx="85759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obry projekt powinien być przejrzysty, czyli czytelny, łatwo zrozumi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Na przejrzystość wpływają następujące czynni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95320" y="1893960"/>
            <a:ext cx="7875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dzwierciedlenie rzeczywist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Składowe i ich związki pojawiające się w projekcie powinny odzwierciedlać strukturę problemu. Ścisły związek projektu z rzeczywistości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ójność oraz stopień powiązania skła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rozumiałe nazewnic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zytelna i pełna specyfik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dpowiednia złożoność składowych na danym poziomie abstra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90600" y="5611680"/>
            <a:ext cx="852948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uwagę zasługuje dziedziczenie oraz przypisanie metod do klas jako czynnik przejrzystości projektu. Pozwala to znacznie uprościć i zdekomponować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6360" y="19573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6360" y="31989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6360" y="43545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6360" y="37638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6360" y="49658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 wykład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0400" y="1157400"/>
            <a:ext cx="74023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owanie składowej zarządzania dan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ptymalizacja pro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stosowanie do ograniczeń i możliwości środowiska implementa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kreślenie fizycznej struktury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raficzny opis sprzętowej konfiguracji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prawność i jakość proj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magania niefunkcjonalne dla fazy projekt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dstawowe rezultaty fazy projekt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2200" y="1217520"/>
            <a:ext cx="353880" cy="412920"/>
          </a:xfrm>
          <a:custGeom>
            <a:avLst/>
            <a:gdLst>
              <a:gd name="textAreaLeft" fmla="*/ 145800 w 353880"/>
              <a:gd name="textAreaRight" fmla="*/ 208080 w 35388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1762200"/>
            <a:ext cx="353880" cy="4125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2200" y="3216240"/>
            <a:ext cx="353880" cy="412920"/>
          </a:xfrm>
          <a:custGeom>
            <a:avLst/>
            <a:gdLst>
              <a:gd name="textAreaLeft" fmla="*/ 145800 w 353880"/>
              <a:gd name="textAreaRight" fmla="*/ 208080 w 35388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3762360"/>
            <a:ext cx="353880" cy="412920"/>
          </a:xfrm>
          <a:custGeom>
            <a:avLst/>
            <a:gdLst>
              <a:gd name="textAreaLeft" fmla="*/ 145800 w 353880"/>
              <a:gd name="textAreaRight" fmla="*/ 208080 w 35388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2200" y="2289240"/>
            <a:ext cx="353880" cy="4125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2200" y="4308480"/>
            <a:ext cx="353880" cy="412920"/>
          </a:xfrm>
          <a:custGeom>
            <a:avLst/>
            <a:gdLst>
              <a:gd name="textAreaLeft" fmla="*/ 145800 w 353880"/>
              <a:gd name="textAreaRight" fmla="*/ 208080 w 35388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3640" y="4830840"/>
            <a:ext cx="354240" cy="4125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5389560"/>
            <a:ext cx="354240" cy="412920"/>
          </a:xfrm>
          <a:custGeom>
            <a:avLst/>
            <a:gdLst>
              <a:gd name="textAreaLeft" fmla="*/ 145800 w 354240"/>
              <a:gd name="textAreaRight" fmla="*/ 208440 w 35424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ymagania niefunkcjonalne dla fazy projek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988560" y="1049400"/>
            <a:ext cx="7120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wydaj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interfejsu (protokoły, formaty plików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peracyjne (aspekty ergonomiczne, języki, pomo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zasobów (ilość procesorów, pojemność dysków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w zakresie weryfikacji (sposoby przeprowadz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w zakresie akceptacji i test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doku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bezpieczeńs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przenaszal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niezawod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podatności na pielęgnację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maintenanc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odnośnie odporności na aw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66960" y="4165560"/>
            <a:ext cx="51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bór metod projekt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ecyzje dotyczące ponownego uży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bór narzęd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bór metod oceny projektu przez ciała zewnętr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luczowe czynniki sukcesu fazy projek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1440" y="1317600"/>
            <a:ext cx="8445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ysoka jakość modelu projekt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obra znajomość środowiska imple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chowanie przyjętych standard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np. konsekwentne stosowanie notacji i formular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rawdzenie poprawności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w ramach zespołu projekt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ptymalizacja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we właściwym zakresie. Powinna być ograniczona do istotnych, krytycznych miej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ddanie projektu ocenie przez niezależne cia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ceniające jego jakość pod względem formalnym i merytoryczn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9920" y="13939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9920" y="25858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9920" y="34671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9920" y="41115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9920" y="50166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69920" y="20289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dstawowe rezultaty fazy projek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85680" y="971640"/>
            <a:ext cx="8126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prawiony dokument opisujący wymag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prawion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szczegółowiona specyfikacja projektu zawarta w słowniku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 opisujący stworzony projekt składający się z (dla obiektowyc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soby interfejsu użytkownika, np. menu, dial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jekt bazy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jekt fizycznej struktury syst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prawiony plan tes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Harmonogram fazy imple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38720" y="2230560"/>
            <a:ext cx="567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u 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ów interakcji 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ów stan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innych diagramów, np. diagramów modułów, konfigur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estawień zawierający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71240" y="3614760"/>
            <a:ext cx="38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e k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e atrybut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e danych złożonych i elementar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efinicje met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arzędzia CASE w fazie projektowa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8680" y="925560"/>
            <a:ext cx="78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adycyjnie stosuje się Lower-CASE (projektowanie struktur logicznych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52080" y="1536840"/>
            <a:ext cx="39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Edytor notacji graf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rzędzia edycji słownika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Generatory rapor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Generatory dokumentacji technicz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Narzędzia sprawdzania jakości proje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65120" y="3279600"/>
            <a:ext cx="8678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a CASE powinny wspomagać proces uszczegóławiania wyników analizy. Powinny np. automatycznie dodawać atrybuty realizujące związki pomiędzy klasami. Powinny ułatwiać dostosowanie projektu do środowiska implement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nna istnieć możliwość automatycznej transformacji z modelu obiektów na schemat relacyjnej bazy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które narzędzia CASE umożliwiają projektowanie interfejsu 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a inżynierii odwrotnej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reverse engineerin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, dla odtworzenia projektu na podstawie istniejącego kod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95120" y="4460760"/>
            <a:ext cx="8885520" cy="2014560"/>
          </a:xfrm>
          <a:prstGeom prst="rect">
            <a:avLst/>
          </a:prstGeom>
          <a:solidFill>
            <a:srgbClr val="fcfe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różnienie ważnych informa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równanie użytych oznacze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powinny być czytane od lewej do prawej oraz z góry do doł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obne pozycje powinny być zorganizowane w jeden wiersz, w tym samym styl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ymetria wizualna powinna odzwierciedlać symetrię funkcjonaln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leży unikać przecinających się linii i nakładających się oznaczeń i rysunkó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leży unikać nadmiernego zagęszczenia diagram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wartość dokumentu projektoweg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8280" y="934920"/>
            <a:ext cx="8505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el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kumentu Detalicznego Projekt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D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szczegółowy opis rozwiązania problemu określonego w dokumencie wymagań na oprogramowanie. DDP musi uwzględniać wszystkie wymagania. Powinien być wystarczająco detaliczny aby umożliwić implementację i pielęgnację kod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yl DDP powinien być systematyczny i rygorystyczny. Język i diagramy użyte w DDP powinny być klarowne. Dokument powinien być łatwo modyfikow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DDP powinna odpowiadać strukturze projektu oprogramowania. Język powinien być wspólny dla całego dokumentu. Wszystkie użyte terminy powinny być zdefiniowane i użyte w zdefiniowanym znaczen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ady wizualizacji diagram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yfikowalność, ewolucja, odpowiedzialnoś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73280" y="1181160"/>
            <a:ext cx="26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44400" y="917640"/>
            <a:ext cx="82630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yfikowalność dokumentu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ekst, diagramy, wykresy, itd. powinny być zapisane w formie, którą można łatwo zmodyfikować. Należy kontrolować nieprzewidywalne efekty zmian, np. lokalnych zmian elementów, które są powtórzone w wielu miejscach dokumentu i powiązane logicz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wolucja dokumentu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DP powinien podlegać rygorystycznej kontroli, szczególnie jeżeli jest tworzony przez zespół ludzi. Powinna być zapewniona formalna identyfikacja dokumentów, ich wersji oraz ich zmian. Wersje powinny być opatrzone unikalnym numerem identyfikacyjnym i datą ostatniej zmiany. Powinno istnieć centralne miejsce, w którym będzie przechowywana ostatnia wers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powiedzialność za dokument 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winna być jednoznacznie zdefiniowana. Z reguły, odpowiedzialność ponosi osoba rozwijająca dane oprogramowanie. Może ona oddelegować swoje uprawnienia do innych osób dla realizacji konkretnych celów związanych z tworzeniem dokumen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edium dokument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ależy przyjąć, że wzorcowa wersja dokumentu będzie w postaci elektronicznej, w dobrze zabezpieczonym miejscu. Wszelkie inne wersje, w tym wersje papierowe, są pochodną jednej, wzorcowej wers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0920" y="9856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22892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9120" y="421020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49120" y="557388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alsze zalecenia odnośnie DD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3240" y="1239840"/>
            <a:ext cx="8147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DP jest centralnym miejscem, w którym zgromadzone są wszystkie informacje odnośnie budowy i działania oprogramowa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DP powinien być zorganizowany w taki sam sposób, w jaki zorganizowane jest oprogramow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DP powinien być kompletny, odzwierciedlający wszystkie wymagania zawarte w DW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teriał, który nie mieści się w podanej zawartości dokumentu, powinien być załączony jako dodat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 należy zmieniać numeracji punktów. Jeżeli jakiś punkt nie jest zapełniony, wówczas należy pozostawić jego tytuł, zaś poniżej zaznaczyć "Nie dotyczy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5120" y="128268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3680" y="28224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3680" y="357660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95120" y="432108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" y="20541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wartość DDP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4120" y="793800"/>
            <a:ext cx="8585280" cy="56689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formacja organizacyjn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 - Streszcz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b - Spis tre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 - Formularz statusu doku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 - Zapis zmian w stosunku do ostatniej wers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ĘŚĆ 1 - OPIS OGÓL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isuje cel i zakres, określa użyte terminy, listę referencji oraz krótko omawia dok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. Ce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Opisuje cel DDP oraz specyfikuje przewidywany rodzaj jego czyteln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2. Zakres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dentyfikuje produkt programistyczny będący przedmiotem dokumentu, objaśnia 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rogramowanie robi (i ewentualnie czego nie robi) oraz określa korzyści, założenia i ce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pis ten powinien być spójny z dokumentem nadrzędnym, o ile taki istnie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3. Definicje, akronimy, skró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4. Odsyłac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5. Krótkie omów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ANDARDY PROJEKTU, KONWENCJE, PROCED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1. Standardy projekt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2. Standardy dokumenta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3. Konwencje nazw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4. Standardy programisty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5. Narzędzia rozwijania oprogram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wartość DDP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47720" y="1327320"/>
            <a:ext cx="7856640" cy="44830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ĘŚĆ II - SPECYFIKACJA KOMPON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 [IDENTYFIKATOR KOMPONENTU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1. T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2. 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3. Funk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4. Komponenty podporządkow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5. Zależ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6. Interfej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7. Zaso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8. Odsyłac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9. Przetwarz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.10. D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datek 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Wydruki kodu źródł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datek B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Macierz zależności pomiędzy zbiorem wymagań  i zbiorem komponentów oprogram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jektowanie składowej zarządzania danym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3120" y="1219320"/>
            <a:ext cx="8685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Trwałe dane mogą być przechowane 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li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bazie danych (relacyjnej, obiektowej, lub innej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oszczególne elementy danych - zestawy obiektów lub krotek - mogą być przechowywane w następującej postac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jednej relacji lub pli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odrębnym pliku dla każdego rodzaju obiektów lub kro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rowadzenie danych do pamięci operacyjnej oraz zapisanie do trwałej pamięci może by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bieżąco, kiedy program zażąda dostępu i kiedy następuje zapełnienie buf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zlecenie 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lety baz da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8720" y="1084320"/>
            <a:ext cx="79668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soka efektywność i stabil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ezpieczeństwo i prywatność danych, spójność i integralność przetwar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tomatyczne sprawdzanie warunków integralności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ielodostęp, przetwarzanie transa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ozszerzalność (zarówno dodawanie danych jak i dodawanie ich rodzaj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żliwość geograficznego rozproszeni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żliwość kaskadowego usuwania powiązanych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stęp poprzez języki zapytań (SQL, OQ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440" y="5264280"/>
            <a:ext cx="852912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ntegraln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poprawność danych w sensie ich organizacji i budow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ójn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zgodność danych z rzeczywistością lub z oczekiwaniami 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3040" y="114624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040" y="16192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040" y="20779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040" y="25509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3040" y="45277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40" y="407196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3040" y="309708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040" y="35701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ady relacyjnych baz da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5880" y="1181160"/>
            <a:ext cx="8151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ieczność przeprowadzenie nietrywialnych odwzorowań przy przejściu z modelu pojęciowego (np. w OMT) na strukturę relacyj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stalony format krotki powodujący trudności przy polach zmiennej dług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rudności (niesystematyczność) reprezentacji dużych wartości (grafiki, plików tekstowych,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niektórych sytuacjach - duże narzuty na czas przetwar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dopasowanie interfejsu dostępu do bazy danych (SQL) do języka programowania (np. C), określana jako “niezgodność impedancj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możliwości rozszerzalności typów (zagnieżdżania dan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systematycznego podejścia do informacji proceduralnej (met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2960" y="12938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960" y="217800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2960" y="278604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760" y="577692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2960" y="519912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3678120"/>
            <a:ext cx="338400" cy="32724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2960" y="4287960"/>
            <a:ext cx="338400" cy="326880"/>
          </a:xfrm>
          <a:custGeom>
            <a:avLst/>
            <a:gdLst>
              <a:gd name="textAreaLeft" fmla="*/ 139320 w 338400"/>
              <a:gd name="textAreaRight" fmla="*/ 199080 w 33840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iezgodność modelu obiektowego i relacyjneg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1069920"/>
            <a:ext cx="675504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2360" y="1069920"/>
            <a:ext cx="67708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62080" y="1079640"/>
            <a:ext cx="6753240" cy="1133280"/>
            <a:chOff x="1162080" y="1079640"/>
            <a:chExt cx="6753240" cy="1133280"/>
          </a:xfrm>
        </p:grpSpPr>
        <p:sp>
          <p:nvSpPr>
            <p:cNvPr id="83" name=""/>
            <p:cNvSpPr/>
            <p:nvPr/>
          </p:nvSpPr>
          <p:spPr>
            <a:xfrm>
              <a:off x="2208240" y="1649520"/>
              <a:ext cx="4675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08360" y="1601640"/>
              <a:ext cx="9360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16400" y="1601640"/>
              <a:ext cx="921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9120" y="1512720"/>
              <a:ext cx="284040" cy="265320"/>
            </a:xfrm>
            <a:custGeom>
              <a:avLst/>
              <a:gdLst/>
              <a:ahLst/>
              <a:rect l="l" t="t" r="r" b="b"/>
              <a:pathLst>
                <a:path w="179" h="167">
                  <a:moveTo>
                    <a:pt x="179" y="84"/>
                  </a:moveTo>
                  <a:lnTo>
                    <a:pt x="0" y="0"/>
                  </a:lnTo>
                  <a:lnTo>
                    <a:pt x="0" y="167"/>
                  </a:lnTo>
                  <a:lnTo>
                    <a:pt x="179" y="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162080" y="1208160"/>
              <a:ext cx="1039680" cy="876240"/>
              <a:chOff x="1162080" y="1208160"/>
              <a:chExt cx="1039680" cy="876240"/>
            </a:xfrm>
          </p:grpSpPr>
          <p:sp>
            <p:nvSpPr>
              <p:cNvPr id="88" name=""/>
              <p:cNvSpPr/>
              <p:nvPr/>
            </p:nvSpPr>
            <p:spPr>
              <a:xfrm>
                <a:off x="1162080" y="1208160"/>
                <a:ext cx="103824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64320" y="1274760"/>
                <a:ext cx="576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700" spc="-1" strike="noStrike">
                    <a:solidFill>
                      <a:srgbClr val="000000"/>
                    </a:solidFill>
                    <a:latin typeface="Times New Roman"/>
                  </a:rPr>
                  <a:t>Firm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62520" y="1535040"/>
                <a:ext cx="602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Nazw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5040" y="1789200"/>
                <a:ext cx="683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Miejsc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37520" y="1789200"/>
                <a:ext cx="163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63520" y="1519200"/>
                <a:ext cx="1038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954680" y="1335240"/>
              <a:ext cx="1181160" cy="62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4400" y="140184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53680" y="1662120"/>
              <a:ext cx="657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Zawód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5560" y="1662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7920" y="1643040"/>
              <a:ext cx="1176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862680" y="1079640"/>
              <a:ext cx="1052640" cy="1133280"/>
              <a:chOff x="6862680" y="1079640"/>
              <a:chExt cx="1052640" cy="1133280"/>
            </a:xfrm>
          </p:grpSpPr>
          <p:sp>
            <p:nvSpPr>
              <p:cNvPr id="100" name=""/>
              <p:cNvSpPr/>
              <p:nvPr/>
            </p:nvSpPr>
            <p:spPr>
              <a:xfrm>
                <a:off x="6862680" y="1079640"/>
                <a:ext cx="1052640" cy="1133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964200" y="1146240"/>
                <a:ext cx="588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700" spc="-1" strike="noStrike">
                    <a:solidFill>
                      <a:srgbClr val="000000"/>
                    </a:solidFill>
                    <a:latin typeface="Times New Roman"/>
                  </a:rPr>
                  <a:t>Osob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62040" y="1406520"/>
                <a:ext cx="866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Nazwisk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64560" y="1662120"/>
                <a:ext cx="29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Im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59040" y="1662120"/>
                <a:ext cx="96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ę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54080" y="1662120"/>
                <a:ext cx="163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2400" y="1917720"/>
                <a:ext cx="680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Adres *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864480" y="1393560"/>
                <a:ext cx="1042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916360" y="1208160"/>
              <a:ext cx="1395360" cy="876240"/>
              <a:chOff x="2916360" y="1208160"/>
              <a:chExt cx="1395360" cy="876240"/>
            </a:xfrm>
          </p:grpSpPr>
          <p:sp>
            <p:nvSpPr>
              <p:cNvPr id="109" name=""/>
              <p:cNvSpPr/>
              <p:nvPr/>
            </p:nvSpPr>
            <p:spPr>
              <a:xfrm>
                <a:off x="2916360" y="1208160"/>
                <a:ext cx="139536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18960" y="1274760"/>
                <a:ext cx="1213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700" spc="-1" strike="noStrike">
                    <a:solidFill>
                      <a:srgbClr val="000000"/>
                    </a:solidFill>
                    <a:latin typeface="Times New Roman"/>
                  </a:rPr>
                  <a:t>Zatrudnieni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18240" y="1535040"/>
                <a:ext cx="421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Wy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30440" y="15350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ł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88760" y="1535040"/>
                <a:ext cx="25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at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37880" y="1535040"/>
                <a:ext cx="163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440" y="1789200"/>
                <a:ext cx="717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700" spc="-1" strike="noStrike">
                    <a:solidFill>
                      <a:srgbClr val="000000"/>
                    </a:solidFill>
                    <a:latin typeface="Times New Roman"/>
                  </a:rPr>
                  <a:t>Ocena *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19240" y="1526760"/>
                <a:ext cx="1373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330280" y="1359000"/>
              <a:ext cx="4399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6760" y="14241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F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40240" y="1359000"/>
              <a:ext cx="4395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34920" y="14241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P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50760" y="2354400"/>
            <a:ext cx="7169400" cy="4057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55760" y="2563920"/>
            <a:ext cx="6632640" cy="3654360"/>
            <a:chOff x="1355760" y="2563920"/>
            <a:chExt cx="6632640" cy="3654360"/>
          </a:xfrm>
        </p:grpSpPr>
        <p:grpSp>
          <p:nvGrpSpPr>
            <p:cNvPr id="123" name=""/>
            <p:cNvGrpSpPr/>
            <p:nvPr/>
          </p:nvGrpSpPr>
          <p:grpSpPr>
            <a:xfrm>
              <a:off x="4003560" y="4197240"/>
              <a:ext cx="2189160" cy="432000"/>
              <a:chOff x="4003560" y="4197240"/>
              <a:chExt cx="2189160" cy="432000"/>
            </a:xfrm>
          </p:grpSpPr>
          <p:sp>
            <p:nvSpPr>
              <p:cNvPr id="124" name=""/>
              <p:cNvSpPr/>
              <p:nvPr/>
            </p:nvSpPr>
            <p:spPr>
              <a:xfrm>
                <a:off x="6178680" y="41972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51680" y="42022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26120" y="42069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00920" y="42116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7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73920" y="42163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48360" y="422100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21360" y="4226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6160" y="42307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70600" y="42354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943600" y="42418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18040" y="42465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92840" y="42512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5840" y="42559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38840" y="4260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15080" y="42656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88080" y="42703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62520" y="4275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37320" y="42814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7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10320" y="42861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84760" y="42908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7760" y="42958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32560" y="43005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07000" y="43052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80000" y="43099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54800" y="43149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29240" y="43196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02240" y="4325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75240" y="43308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51480" y="43354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24480" y="43401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98920" y="43448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73720" y="4349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6720" y="4354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21160" y="43592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94160" y="4365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68960" y="4370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43400" y="4375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16400" y="4379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91200" y="43848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65640" y="439092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38640" y="43959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11640" y="44006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87880" y="440676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60880" y="44118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35680" y="44164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10120" y="44211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7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83120" y="44258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57920" y="4430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32360" y="44355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05360" y="4440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79800" y="44449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53160" y="44514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27600" y="4456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02040" y="446076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75040" y="4465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49840" y="447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24280" y="44751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7280" y="44798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72080" y="448452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6520" y="4491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9520" y="44956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94320" y="45007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68760" y="45054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41760" y="4510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16560" y="4514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89560" y="4519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64000" y="4524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38800" y="45291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11800" y="45356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386240" y="45403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61040" y="45450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34040" y="45496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07040" y="45543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82920" y="4559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55920" y="456408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30720" y="4568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05160" y="45752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78160" y="4579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52960" y="4586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25960" y="45910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00400" y="45957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75200" y="46004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7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48200" y="460548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22640" y="46101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8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03560" y="46148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8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140360" y="2905200"/>
              <a:ext cx="304560" cy="2128680"/>
              <a:chOff x="4140360" y="2905200"/>
              <a:chExt cx="304560" cy="2128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430880" y="50198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25840" y="4992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22600" y="496728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17920" y="4940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0"/>
                    </a:moveTo>
                    <a:lnTo>
                      <a:pt x="11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14680" y="4915080"/>
                <a:ext cx="1620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11800" y="488808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08560" y="48610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5320" y="4836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02080" y="4809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97400" y="47829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10"/>
                    </a:moveTo>
                    <a:lnTo>
                      <a:pt x="10" y="9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94160" y="4757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90920" y="4730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6240" y="4705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3000" y="4678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79760" y="465300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75080" y="46274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9"/>
                    </a:moveTo>
                    <a:lnTo>
                      <a:pt x="11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71840" y="46004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8960" y="457524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65720" y="454824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62480" y="45212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59240" y="4497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lnTo>
                      <a:pt x="9" y="7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54560" y="44704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9"/>
                    </a:moveTo>
                    <a:lnTo>
                      <a:pt x="10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51320" y="44434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46640" y="4417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4390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0160" y="43657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36920" y="43387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34040" y="43131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29000" y="42879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25760" y="42609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22880" y="42339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19640" y="42084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16400" y="4181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13160" y="4156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07040" y="4130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8"/>
                    </a:moveTo>
                    <a:lnTo>
                      <a:pt x="10" y="7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03800" y="4103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00560" y="40784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97320" y="40514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94080" y="402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90840" y="39988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86160" y="3971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920" y="39481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80040" y="39211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76800" y="38941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3560" y="38685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70320" y="38419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64200" y="38163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9"/>
                    </a:moveTo>
                    <a:lnTo>
                      <a:pt x="11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60960" y="37893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57720" y="37638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54480" y="37386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51240" y="37116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3684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43320" y="36590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9"/>
                    </a:moveTo>
                    <a:lnTo>
                      <a:pt x="10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40080" y="363204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37200" y="36082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lnTo>
                      <a:pt x="9" y="7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33960" y="35812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30720" y="3554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26040" y="3529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21000" y="35020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9"/>
                    </a:moveTo>
                    <a:lnTo>
                      <a:pt x="11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18120" y="347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14880" y="34495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11640" y="34243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08400" y="3398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05160" y="3371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00480" y="334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10"/>
                    </a:moveTo>
                    <a:lnTo>
                      <a:pt x="10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97240" y="33195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94000" y="32925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91120" y="32670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86080" y="324180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8"/>
                    </a:moveTo>
                    <a:lnTo>
                      <a:pt x="10" y="7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83200" y="3214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79960" y="3189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75280" y="3162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9"/>
                    </a:moveTo>
                    <a:lnTo>
                      <a:pt x="10" y="8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72040" y="3135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68800" y="3110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65560" y="30830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62320" y="30592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59080" y="30322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54400" y="3005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10"/>
                    </a:moveTo>
                    <a:lnTo>
                      <a:pt x="9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51160" y="29797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48280" y="29527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9"/>
                    </a:moveTo>
                    <a:lnTo>
                      <a:pt x="9" y="8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43240" y="2925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10" y="9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40360" y="29052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" y="6"/>
                    </a:moveTo>
                    <a:lnTo>
                      <a:pt x="10" y="5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99120" y="4183200"/>
              <a:ext cx="1039680" cy="1288800"/>
              <a:chOff x="5199120" y="4183200"/>
              <a:chExt cx="1039680" cy="1288800"/>
            </a:xfrm>
          </p:grpSpPr>
          <p:sp>
            <p:nvSpPr>
              <p:cNvPr id="293" name=""/>
              <p:cNvSpPr/>
              <p:nvPr/>
            </p:nvSpPr>
            <p:spPr>
              <a:xfrm>
                <a:off x="5199120" y="5451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8"/>
                    </a:moveTo>
                    <a:lnTo>
                      <a:pt x="6" y="13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14960" y="54324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30800" y="54100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8"/>
                    </a:moveTo>
                    <a:lnTo>
                      <a:pt x="7" y="13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48440" y="53910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64280" y="53690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8"/>
                    </a:moveTo>
                    <a:lnTo>
                      <a:pt x="6" y="13"/>
                    </a:lnTo>
                    <a:lnTo>
                      <a:pt x="12" y="6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81560" y="5349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97400" y="53276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8"/>
                    </a:moveTo>
                    <a:lnTo>
                      <a:pt x="6" y="13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13240" y="53085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330880" y="5288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46720" y="52671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64000" y="5246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380200" y="522612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6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97480" y="5205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13320" y="51847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29160" y="51642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7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6800" y="51436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62640" y="5124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6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9920" y="5102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95760" y="5083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13400" y="5060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7" y="12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30680" y="5041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46880" y="50198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7"/>
                    </a:moveTo>
                    <a:lnTo>
                      <a:pt x="6" y="13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64160" y="50007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80000" y="4978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7"/>
                    </a:moveTo>
                    <a:lnTo>
                      <a:pt x="6" y="13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95840" y="49593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13480" y="49388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29320" y="49179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46600" y="489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62440" y="48769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6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80080" y="4856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95920" y="48355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11760" y="48150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7" y="12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29400" y="47941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45240" y="4773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6" y="12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62520" y="47530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78360" y="47322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94200" y="4711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7" y="12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11840" y="46911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27680" y="4670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6" y="12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45320" y="46497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1160" y="4630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77000" y="4608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7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94280" y="45896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10120" y="4567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6" y="12"/>
                    </a:lnTo>
                    <a:lnTo>
                      <a:pt x="12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27760" y="45482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943600" y="45259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7"/>
                    </a:moveTo>
                    <a:lnTo>
                      <a:pt x="6" y="12"/>
                    </a:lnTo>
                    <a:lnTo>
                      <a:pt x="12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59440" y="450684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77080" y="44845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7"/>
                    </a:moveTo>
                    <a:lnTo>
                      <a:pt x="6" y="12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92920" y="44658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10200" y="4443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8"/>
                    </a:moveTo>
                    <a:lnTo>
                      <a:pt x="6" y="13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26040" y="44244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6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43680" y="44020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8"/>
                    </a:moveTo>
                    <a:lnTo>
                      <a:pt x="6" y="13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59520" y="43830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5360" y="43610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8"/>
                    </a:moveTo>
                    <a:lnTo>
                      <a:pt x="7" y="13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93000" y="43419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08840" y="43196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8"/>
                    </a:moveTo>
                    <a:lnTo>
                      <a:pt x="6" y="13"/>
                    </a:lnTo>
                    <a:lnTo>
                      <a:pt x="12" y="6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26120" y="4300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43760" y="42814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59600" y="42591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76880" y="42400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92720" y="42181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11"/>
                    </a:lnTo>
                    <a:lnTo>
                      <a:pt x="12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10360" y="4199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6" y="11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26200" y="4183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6" y="8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897440" y="4175280"/>
              <a:ext cx="1343160" cy="884160"/>
              <a:chOff x="4897440" y="4175280"/>
              <a:chExt cx="1343160" cy="884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22960" y="4175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00640" y="418932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80120" y="420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56360" y="42181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3584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1720" y="424800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91200" y="426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68880" y="42750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46920" y="42908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24600" y="430524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02280" y="43196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7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79960" y="43340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58000" y="43480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5" y="1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35680" y="43639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13360" y="43783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92840" y="4392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69080" y="44067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48200" y="442116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24440" y="44355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03920" y="44514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81600" y="44640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57840" y="4478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6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5" y="12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37320" y="44942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13560" y="45086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2680" y="4521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70720" y="4537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48400" y="4551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26080" y="456552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05560" y="45813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81800" y="45943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60920" y="46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537160" y="46245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514840" y="46386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94320" y="4651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70560" y="46674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50040" y="46814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25920" y="46958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05400" y="47102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83080" y="4724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61120" y="4738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7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38800" y="47545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18280" y="47671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2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94160" y="4781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72200" y="47973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49880" y="4811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27560" y="48261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8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207040" y="484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83280" y="4854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62400" y="4869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7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40440" y="48848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18120" y="48974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95800" y="491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72040" y="49276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051520" y="49417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29200" y="4956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6880" y="49705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984920" y="498492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962600" y="50007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40280" y="50148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919760" y="5027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4" y="12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97440" y="50436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696000" y="4199040"/>
              <a:ext cx="12600" cy="830160"/>
              <a:chOff x="6696000" y="4199040"/>
              <a:chExt cx="12600" cy="830160"/>
            </a:xfrm>
          </p:grpSpPr>
          <p:sp>
            <p:nvSpPr>
              <p:cNvPr id="419" name=""/>
              <p:cNvSpPr/>
              <p:nvPr/>
            </p:nvSpPr>
            <p:spPr>
              <a:xfrm>
                <a:off x="6696000" y="419904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96000" y="422424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96000" y="425124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96000" y="427680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96000" y="43038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96000" y="43308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96000" y="435600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96000" y="438300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96000" y="44100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96000" y="443556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96000" y="446256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96000" y="448776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96000" y="451476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96000" y="454176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96000" y="456732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696000" y="459432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96000" y="462132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96000" y="464652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96000" y="467352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96000" y="469908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96000" y="472608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696000" y="475308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696000" y="477828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96000" y="480528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96000" y="483228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696000" y="485784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96000" y="488484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96000" y="491004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96000" y="493704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96000" y="496404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96000" y="4989600"/>
                <a:ext cx="126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696000" y="50166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242040" y="3619440"/>
              <a:ext cx="17640" cy="223920"/>
              <a:chOff x="6242040" y="3619440"/>
              <a:chExt cx="17640" cy="223920"/>
            </a:xfrm>
          </p:grpSpPr>
          <p:sp>
            <p:nvSpPr>
              <p:cNvPr id="452" name=""/>
              <p:cNvSpPr/>
              <p:nvPr/>
            </p:nvSpPr>
            <p:spPr>
              <a:xfrm>
                <a:off x="6246720" y="3619440"/>
                <a:ext cx="129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46720" y="3646440"/>
                <a:ext cx="129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45280" y="3672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1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45280" y="36990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5280" y="3724200"/>
                <a:ext cx="126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45280" y="37512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45280" y="3778200"/>
                <a:ext cx="126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42040" y="38037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42040" y="3830760"/>
                <a:ext cx="14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141800" y="2890800"/>
              <a:ext cx="1692360" cy="393840"/>
              <a:chOff x="4141800" y="2890800"/>
              <a:chExt cx="1692360" cy="393840"/>
            </a:xfrm>
          </p:grpSpPr>
          <p:sp>
            <p:nvSpPr>
              <p:cNvPr id="462" name=""/>
              <p:cNvSpPr/>
              <p:nvPr/>
            </p:nvSpPr>
            <p:spPr>
              <a:xfrm>
                <a:off x="4141800" y="28908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0" y="7"/>
                    </a:lnTo>
                    <a:lnTo>
                      <a:pt x="9" y="8"/>
                    </a:lnTo>
                    <a:lnTo>
                      <a:pt x="1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68800" y="28954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4000" y="290196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19560" y="29066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45120" y="29131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72120" y="2917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97320" y="2924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22880" y="2930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49880" y="29368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373640" y="29415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00640" y="29480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25840" y="29541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3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51400" y="295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8400" y="29653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8"/>
                    </a:lnTo>
                    <a:lnTo>
                      <a:pt x="8" y="9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02160" y="29718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29160" y="2978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56160" y="2982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9920" y="298944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06920" y="29941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32480" y="3000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005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0"/>
                    </a:moveTo>
                    <a:lnTo>
                      <a:pt x="0" y="8"/>
                    </a:lnTo>
                    <a:lnTo>
                      <a:pt x="9" y="10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84680" y="3013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08440" y="30193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0"/>
                    </a:moveTo>
                    <a:lnTo>
                      <a:pt x="0" y="7"/>
                    </a:lnTo>
                    <a:lnTo>
                      <a:pt x="9" y="8"/>
                    </a:lnTo>
                    <a:lnTo>
                      <a:pt x="1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5440" y="302436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61000" y="30304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86200" y="303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13200" y="30416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0"/>
                    </a:moveTo>
                    <a:lnTo>
                      <a:pt x="0" y="7"/>
                    </a:lnTo>
                    <a:lnTo>
                      <a:pt x="7" y="10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38760" y="3046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63960" y="30528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0"/>
                    </a:moveTo>
                    <a:lnTo>
                      <a:pt x="0" y="8"/>
                    </a:lnTo>
                    <a:lnTo>
                      <a:pt x="9" y="10"/>
                    </a:lnTo>
                    <a:lnTo>
                      <a:pt x="1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889520" y="30592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16520" y="3065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941720" y="307188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67280" y="30765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30830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18040" y="30877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45040" y="3094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070600" y="31003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3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095800" y="31068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22800" y="3111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46560" y="311796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173560" y="3122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00560" y="3129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0"/>
                    </a:move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24320" y="31352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8"/>
                    </a:lnTo>
                    <a:lnTo>
                      <a:pt x="9" y="9"/>
                    </a:lnTo>
                    <a:lnTo>
                      <a:pt x="1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251320" y="31417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6880" y="31478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7"/>
                    </a:lnTo>
                    <a:lnTo>
                      <a:pt x="8" y="8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02080" y="315288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29080" y="3159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53200" y="31640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80200" y="31701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05400" y="31748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30960" y="31827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57960" y="31892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2" y="0"/>
                    </a:moveTo>
                    <a:lnTo>
                      <a:pt x="0" y="7"/>
                    </a:lnTo>
                    <a:lnTo>
                      <a:pt x="7" y="8"/>
                    </a:lnTo>
                    <a:lnTo>
                      <a:pt x="9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83160" y="3193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08720" y="32004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0" y="7"/>
                    </a:lnTo>
                    <a:lnTo>
                      <a:pt x="9" y="8"/>
                    </a:lnTo>
                    <a:lnTo>
                      <a:pt x="1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33920" y="3205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60920" y="3211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86480" y="3216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611680" y="32241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637240" y="32288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62440" y="323532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89440" y="32400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15000" y="3246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40560" y="32529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67560" y="3257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91320" y="32637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0" y="8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18320" y="3270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65600" y="2889360"/>
              <a:ext cx="1290600" cy="419040"/>
              <a:chOff x="2865600" y="2889360"/>
              <a:chExt cx="1290600" cy="419040"/>
            </a:xfrm>
          </p:grpSpPr>
          <p:sp>
            <p:nvSpPr>
              <p:cNvPr id="529" name=""/>
              <p:cNvSpPr/>
              <p:nvPr/>
            </p:nvSpPr>
            <p:spPr>
              <a:xfrm>
                <a:off x="4138560" y="288936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14800" y="28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89240" y="2903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64040" y="29113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3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38480" y="29192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13280" y="29289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89520" y="29368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63960" y="29433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36960" y="2951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13200" y="295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887640" y="2967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62440" y="2976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3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36880" y="2984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11680" y="29908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787920" y="299880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62360" y="30067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35360" y="30160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11600" y="30243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686040" y="30322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660840" y="3038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3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635280" y="3046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610080" y="30560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586320" y="306396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60760" y="30718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33760" y="307980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0" y="3086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484440" y="30942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59240" y="31035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3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33680" y="3111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08480" y="31194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84720" y="3127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59160" y="31338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32160" y="31431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08400" y="3151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82840" y="3159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57640" y="3166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32080" y="31748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206880" y="318276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82760" y="31910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157560" y="31989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130560" y="320688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106800" y="3214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81240" y="32241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056040" y="3230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30480" y="3238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05280" y="3246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81160" y="3254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55960" y="32623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28960" y="327168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05200" y="3278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879640" y="32860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65600" y="329400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7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295800" y="2563920"/>
              <a:ext cx="177300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98040" y="2625840"/>
              <a:ext cx="50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Fir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90520" y="263052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98880" y="263052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96960" y="2630520"/>
              <a:ext cx="68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Nazw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3286080"/>
              <a:ext cx="1815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78280" y="3349800"/>
              <a:ext cx="47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Lok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42680" y="33544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49240" y="335448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48040" y="335448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9840" y="3354480"/>
              <a:ext cx="60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ejs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28440" y="3354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4640" y="3286080"/>
              <a:ext cx="21002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5800" y="3349800"/>
              <a:ext cx="107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Zatrudnien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94040" y="33544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02040" y="335448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9040" y="335448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2640" y="335448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33544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48280" y="3854520"/>
              <a:ext cx="20192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48720" y="3917880"/>
              <a:ext cx="88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03720" y="392256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10280" y="392256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8720" y="392256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240" y="392256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Nr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01920" y="3922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5360" y="5033880"/>
              <a:ext cx="21146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05800" y="5097600"/>
              <a:ext cx="52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11600" y="51022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18520" y="5102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19920" y="5102280"/>
              <a:ext cx="92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Nazwisko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52880" y="5470560"/>
              <a:ext cx="2276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52600" y="5532480"/>
              <a:ext cx="102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Wyszkolen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2320" y="55371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14960" y="55371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60680" y="553716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awó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5120" y="553716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67280" y="553716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63560" y="55371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74800" y="5043600"/>
              <a:ext cx="335592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75600" y="5105520"/>
              <a:ext cx="62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Dochó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82560" y="51102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89480" y="5110200"/>
              <a:ext cx="90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Docho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5360" y="511020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56440" y="5110200"/>
              <a:ext cx="37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Wy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17160" y="5110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68280" y="511020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84640" y="511020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78240" y="51102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Nr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5240" y="5110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21320" y="511020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Nr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65120" y="5110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62400" y="5888160"/>
              <a:ext cx="177336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63920" y="5950080"/>
              <a:ext cx="586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Imion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30560" y="595476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920" y="595476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40320" y="595476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31400" y="59547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88080" y="595476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70160" y="59547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08840" y="5888160"/>
              <a:ext cx="187956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11800" y="595008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Adres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78440" y="595476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85360" y="595476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86760" y="595476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0000" y="595476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22800" y="59547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364000" y="5357880"/>
              <a:ext cx="1346400" cy="531720"/>
              <a:chOff x="5364000" y="5357880"/>
              <a:chExt cx="1346400" cy="531720"/>
            </a:xfrm>
          </p:grpSpPr>
          <p:sp>
            <p:nvSpPr>
              <p:cNvPr id="649" name=""/>
              <p:cNvSpPr/>
              <p:nvPr/>
            </p:nvSpPr>
            <p:spPr>
              <a:xfrm>
                <a:off x="6696000" y="53578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670800" y="536580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645240" y="537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3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621480" y="53863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95920" y="5396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72160" y="540396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46960" y="541332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521400" y="5424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7640" y="54338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72080" y="54435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7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48320" y="5451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23120" y="5462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99360" y="5472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75240" y="54817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50040" y="54896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26280" y="549900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300720" y="55101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75520" y="551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51400" y="55292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26200" y="5537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00640" y="55483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76880" y="555768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51680" y="55674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127920" y="5576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103800" y="55846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078600" y="5595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54840" y="5605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29280" y="5614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05520" y="56228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79960" y="5634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54760" y="5643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31000" y="565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05440" y="566244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8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81680" y="5670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56120" y="568152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30920" y="56912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07160" y="570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83400" y="5710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57840" y="5719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34080" y="5729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08520" y="5738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84760" y="574848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9560" y="57578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34000" y="57675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10240" y="5776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84680" y="5786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0920" y="5796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35720" y="5805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10160" y="58150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87840" y="58244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62640" y="583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38880" y="58435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13320" y="58532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88120" y="58626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364000" y="58723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8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716880" y="5359320"/>
              <a:ext cx="333360" cy="531720"/>
              <a:chOff x="6716880" y="5359320"/>
              <a:chExt cx="333360" cy="531720"/>
            </a:xfrm>
          </p:grpSpPr>
          <p:sp>
            <p:nvSpPr>
              <p:cNvPr id="705" name=""/>
              <p:cNvSpPr/>
              <p:nvPr/>
            </p:nvSpPr>
            <p:spPr>
              <a:xfrm>
                <a:off x="6716880" y="53593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11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30920" y="53830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0" y="4"/>
                    </a:lnTo>
                    <a:lnTo>
                      <a:pt x="5" y="10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45320" y="540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757920" y="542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1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772320" y="5450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0" y="4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86720" y="54720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799320" y="54943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11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815160" y="55166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27760" y="55389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5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40360" y="5562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0" y="4"/>
                    </a:lnTo>
                    <a:lnTo>
                      <a:pt x="5" y="11"/>
                    </a:lnTo>
                    <a:lnTo>
                      <a:pt x="11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856560" y="5583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5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69160" y="56070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81760" y="56307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97600" y="56516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10560" y="5675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923160" y="5697360"/>
                <a:ext cx="19080" cy="16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939000" y="5719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51600" y="574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66000" y="57657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0" y="4"/>
                    </a:lnTo>
                    <a:lnTo>
                      <a:pt x="5" y="10"/>
                    </a:lnTo>
                    <a:lnTo>
                      <a:pt x="11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980400" y="5786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93000" y="5810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07400" y="58309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0"/>
                    </a:moveTo>
                    <a:lnTo>
                      <a:pt x="0" y="4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21440" y="5854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34040" y="5877000"/>
                <a:ext cx="1620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0"/>
                    </a:moveTo>
                    <a:lnTo>
                      <a:pt x="0" y="5"/>
                    </a:lnTo>
                    <a:lnTo>
                      <a:pt x="3" y="9"/>
                    </a:lnTo>
                    <a:lnTo>
                      <a:pt x="10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355760" y="4611600"/>
              <a:ext cx="290520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58360" y="4675320"/>
              <a:ext cx="51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Times New Roman"/>
                </a:rPr>
                <a:t>Oce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61640" y="46800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70000" y="46800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rOce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0400" y="4680000"/>
              <a:ext cx="67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Ocena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08120" y="46800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Nr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6920" y="468000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8720" y="46800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Nr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095000" y="4680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3578400" y="2892600"/>
              <a:ext cx="577800" cy="1706400"/>
              <a:chOff x="3578400" y="2892600"/>
              <a:chExt cx="577800" cy="1706400"/>
            </a:xfrm>
          </p:grpSpPr>
          <p:sp>
            <p:nvSpPr>
              <p:cNvPr id="739" name=""/>
              <p:cNvSpPr/>
              <p:nvPr/>
            </p:nvSpPr>
            <p:spPr>
              <a:xfrm>
                <a:off x="4138560" y="28926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130640" y="291636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22720" y="29415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14800" y="2967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3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05440" y="29923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097160" y="301788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30416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81320" y="30672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73400" y="30924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3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64040" y="31179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056120" y="31431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48200" y="316692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40280" y="31924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32360" y="321624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22640" y="3243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14720" y="32688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329256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97440" y="3317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89520" y="3341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79800" y="336852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71880" y="33940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63960" y="34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56040" y="344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48120" y="3467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38760" y="34941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8" y="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35193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922560" y="354348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14640" y="3568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0672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97360" y="36180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9440" y="36432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81520" y="36687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73600" y="36939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63880" y="371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2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55960" y="3743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848040" y="3768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3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840120" y="3794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32200" y="3819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22840" y="3843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814920" y="38685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807000" y="38941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98720" y="39196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90800" y="394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81440" y="39686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73520" y="3994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65600" y="401940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57680" y="4044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49760" y="40705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40040" y="4094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8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32120" y="4119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2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4200" y="41432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2"/>
                    </a:moveTo>
                    <a:lnTo>
                      <a:pt x="2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16280" y="41702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06920" y="41958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97200" y="42195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89280" y="4245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360" y="4268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73440" y="429588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65520" y="4319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3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56160" y="43448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48240" y="43704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39960" y="43941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32040" y="442116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2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9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24120" y="4444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3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14760" y="4470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06840" y="44956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598920" y="4519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2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7" y="1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91000" y="454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3" y="0"/>
                    </a:lnTo>
                    <a:lnTo>
                      <a:pt x="0" y="8"/>
                    </a:lnTo>
                    <a:lnTo>
                      <a:pt x="7" y="1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81280" y="45705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8" y="1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78400" y="459576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ptymalizacja projektu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5960" y="934920"/>
            <a:ext cx="87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Bezpośrednia implementacja projektu może prowadzić do systemu o zbyt niskiej efektyw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4040" y="1812960"/>
            <a:ext cx="81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konanie pewnych funkcji jest zbyt wo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ruktury danych mogą wymagać zbyt dużej pamięci operacyjnej i mas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6960" y="2654280"/>
            <a:ext cx="40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ptymalizacja może być dokon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8080" y="3111480"/>
            <a:ext cx="316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poziomie proje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poziomie imple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4800" y="4038480"/>
            <a:ext cx="50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posoby stosowane na etapie implement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5120" y="4479840"/>
            <a:ext cx="76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osowanie zmiennych statycznych zamiast dynamicznych (lokalnyc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mieszczanie zagnieżdżonego kodu zamiast wywoływania proced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bór typów o minimalnej, niezbędnej wart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7160" y="5799240"/>
            <a:ext cx="881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ielu specjalistów jest przeciwna sztuczkom optymalizacyjnym: zyski są bardzo małe (o ile w ogóle są) w stosunku do zwiększenia nieczytelności k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ptymalizacja projektu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0" y="93348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Co może przynieść zasadnicze zyski optymalizacyj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58800" y="1504800"/>
            <a:ext cx="81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miana algorytmu przetwarz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Np. zmiana algorytmu sortującego poprzez wprowadzenie pośredniego pliku zawierającego tylko klucze i wskaźniki do sortowanych obiektów może przynieść nawet 100-krotny zy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8800" y="2581200"/>
            <a:ext cx="808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yłowienie “wąskich garde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” w przetwarzaniu i optymalizacja tych wąskich gardeł poprzez starannie rozpracowane procedury. Znane jest twierdzenie, że 20% kodu jest wykonywane przez 80% cza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58800" y="3692520"/>
            <a:ext cx="81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programowanie “wąskich gardeł” w języku niższego pozio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np. w C dla programów w 4G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8800" y="4473720"/>
            <a:ext cx="807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enormalizacja relacyjnej bazy da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łączenie dwóch lub więcej tablic w jed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42600" y="5300640"/>
            <a:ext cx="82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tosowanie indeksów, tablic wskaźników i innych struktur pomocnicz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1880" y="5734080"/>
            <a:ext cx="778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naliza mechanizmów buforowania da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w pamięci operacyjnej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ewentualna zmiana tego mechanizmu (np. zmniejszenie liczby poziom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5360" y="155412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5360" y="25750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5360" y="58024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5360" y="5348160"/>
            <a:ext cx="338040" cy="32724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7240"/>
              <a:gd name="textAreaBottom" fmla="*/ 192600 h 3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5360" y="375300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5360" y="4510080"/>
            <a:ext cx="338040" cy="326880"/>
          </a:xfrm>
          <a:custGeom>
            <a:avLst/>
            <a:gdLst>
              <a:gd name="textAreaLeft" fmla="*/ 139320 w 338040"/>
              <a:gd name="textAreaRight" fmla="*/ 198720 w 338040"/>
              <a:gd name="textAreaTop" fmla="*/ 134640 h 326880"/>
              <a:gd name="textAreaBottom" fmla="*/ 19224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stosowanie do ograniczeń i możliwości środowiska implementacj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9720" y="1353960"/>
            <a:ext cx="79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ojektant może zetknąć się z wieloma ograniczeniami implementacyjny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5880" y="1960560"/>
            <a:ext cx="463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dziedziczenia wielokrot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dziedzi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metod wirtualnych (przesłania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złożonych atrybu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rak typ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00:54Z</dcterms:created>
  <dc:creator>K. Subieta, IPI PAN, PJWSTK</dc:creator>
  <dc:description/>
  <dc:language>en-US</dc:language>
  <cp:lastModifiedBy>subieta</cp:lastModifiedBy>
  <dcterms:modified xsi:type="dcterms:W3CDTF">2000-05-05T19:21:42Z</dcterms:modified>
  <cp:revision>93</cp:revision>
  <dc:subject>Wyklad 4. Faza analizy i projektowania (1)</dc:subject>
  <dc:title>Wytwarzanie, integracja i testowanie SI</dc:title>
</cp:coreProperties>
</file>