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16800"/>
            <a:ext cx="9144000" cy="2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K.Subieta. Budowa i integracja SI, Wykład 9, Folia </a:t>
            </a:r>
            <a:fld id="{03514108-7153-4E16-9154-4FFD45384DB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08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05560" y="657864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 CE"/>
              </a:rPr>
              <a:t>maj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839880"/>
            <a:ext cx="7390080" cy="5854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79520" y="272880"/>
            <a:ext cx="686448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udowa i integracj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ystemów informa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7920" y="2637000"/>
            <a:ext cx="329508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ład 9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estowani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eryfikacja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testow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programowani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89160" y="4797360"/>
            <a:ext cx="284544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azimierz Subi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pi-logo" descr=""/>
          <p:cNvPicPr/>
          <p:nvPr/>
        </p:nvPicPr>
        <p:blipFill>
          <a:blip r:embed="rId2"/>
          <a:stretch/>
        </p:blipFill>
        <p:spPr>
          <a:xfrm>
            <a:off x="3929040" y="5878440"/>
            <a:ext cx="987480" cy="520920"/>
          </a:xfrm>
          <a:prstGeom prst="rect">
            <a:avLst/>
          </a:prstGeom>
          <a:ln w="0">
            <a:noFill/>
          </a:ln>
        </p:spPr>
      </p:pic>
      <p:pic>
        <p:nvPicPr>
          <p:cNvPr id="46" name="pojalogo" descr=""/>
          <p:cNvPicPr/>
          <p:nvPr/>
        </p:nvPicPr>
        <p:blipFill>
          <a:blip r:embed="rId3"/>
          <a:stretch/>
        </p:blipFill>
        <p:spPr>
          <a:xfrm>
            <a:off x="4086360" y="5116680"/>
            <a:ext cx="671400" cy="6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09560" y="162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edmioty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cesy projektu informatycznego - ma to na celu sprawdzenie czy wykonywane prace oraz sposób ich wykonywania są prawidłowe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dukty (cząstkowe) projektu informatycznego - ma to na celu sprawdzenie czy rezultaty poszczególnych prac odpowiadają zakładanym wymaganiom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erspektywy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chnologia - ma to na celu sprawdzenie czy użyte techniki oraz opracowane rozwiązania są prawidłowe i prawidłowo stosowane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rządzanie - ma to na celu sprawdzenie czy sposób zarządzania projektem umożliwia jego sukces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edmioty i perspektywy audyt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800" y="186228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800" y="387972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80600" y="274788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chnika o najlepszej skuteczności (od 50% do 80%; średnia 60%; dla testowania średnia 30%, max 50%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osowane dla „elitarnych” systemów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czego nie są powszechne?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rudne w sprzedaży: nie potrzeba narzędzi, potrzeba planowania i kompetentnych ludzi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naliza kosztów i zysków nie jest prosta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0" name=""/>
          <p:cNvSpPr/>
          <p:nvPr/>
        </p:nvSpPr>
        <p:spPr>
          <a:xfrm>
            <a:off x="320760" y="1035000"/>
            <a:ext cx="8823240" cy="13122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spekcja to formalna technika oceny, w której wymagania na oprogramowanie, projekt lub kod są szczegółowo badane przez osobę lub grupę osób nie będących autorami, w celu identyfikacji błędów, naruszenia standardów i innych problemów [IEEE Std. 729-198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Inspekcj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345600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1080" y="38448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1080" y="28177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esje są zaplanowane i przygotowane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łędy i problemy są notowane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konywana przez techników dla techników (bez udziału kierownictwa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ane nie są wykorzystywane do oceny pracowników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soby na inspekcje są gwarantowane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łędy są wykorzystywane w poprawie procesu programowego (prewencja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ces inspekcji jest mierzony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ces inspekcji jest poprawiany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echy inspek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7760" y="367992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7760" y="24415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7760" y="287964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7760" y="201312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00" y="328608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7760" y="41083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7760" y="481824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200" y="521820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zrost produktywności od 30% do 100%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krócenie czasu projektu od 10% do 30%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krócenie kosztu i czasu wykonywania testów od 5 do 10 razy (mniej błędów, mniej testów regresyjnych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0 razy mniejsze koszty pielęgnacji (naprawczej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prawa procesu programowego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starczanie na czas (bo wcześnie wiemy o problemach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iększy komfort pracy (brak presji czasu i nadgodzin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większenie motywacji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wiadomość, że produkt będzie oceniany (wybór pomiędzy byciem zażenowanym a dumnym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uka przez znajdowanie błędów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niejsze koszty marketingu („przykrywanie” braku jakości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orzyści z inspek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60" y="13302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60" y="343836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60" y="38116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60" y="419904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56134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60" y="208908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60" y="27352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60" y="311004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60" y="171756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grożenia inspek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cena osób na podstawie zebranych metryk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łe prowadzenie inspekcji - mała efektywność i skuteczność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łabi kontrolerzy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ntrola indywidualna niewystarczająca (jakość i ilość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kłonność autora do lekceważenia defektów na etapie opracowywania dokumentów (“inspekcja wskaże błędy...”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yskusje o rozwiązaniach podczas spotkania kontrolnego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czucie zagrożenia u autora - nieuzasadniona obrona własnych rozwiązań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rytyczne nastawienie do autora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8" name=""/>
          <p:cNvSpPr/>
          <p:nvPr/>
        </p:nvSpPr>
        <p:spPr>
          <a:xfrm>
            <a:off x="330120" y="198612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0120" y="415764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0120" y="274464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8680" y="310680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0120" y="349236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23734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0120" y="45291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120" y="513864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ebieg inspek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54640" y="855720"/>
            <a:ext cx="1262880" cy="36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Inicjow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61480" y="1566720"/>
            <a:ext cx="1249200" cy="36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lanow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60800" y="2297160"/>
            <a:ext cx="2047680" cy="36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Spotkanie inicjują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92200" y="4325760"/>
            <a:ext cx="3597480" cy="36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Spotkanie kontrolne (burza mózgó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80560" y="5056200"/>
            <a:ext cx="3007800" cy="36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Redakcja dokumentu inspek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26840" y="3309840"/>
            <a:ext cx="6917040" cy="368280"/>
            <a:chOff x="726840" y="3309840"/>
            <a:chExt cx="6917040" cy="368280"/>
          </a:xfrm>
        </p:grpSpPr>
        <p:sp>
          <p:nvSpPr>
            <p:cNvPr id="193" name=""/>
            <p:cNvSpPr/>
            <p:nvPr/>
          </p:nvSpPr>
          <p:spPr>
            <a:xfrm>
              <a:off x="726840" y="3309840"/>
              <a:ext cx="2298960" cy="3682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Kontrola indywidu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4920" y="3309840"/>
              <a:ext cx="2298960" cy="3682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Kontrola indywidu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515320" y="5786280"/>
            <a:ext cx="3341520" cy="36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ystrybucja wniosków z inspek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84640" y="12366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4640" y="5415120"/>
            <a:ext cx="0" cy="34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84640" y="195264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84640" y="47052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47800" y="2671920"/>
            <a:ext cx="841680" cy="64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60800" y="2671920"/>
            <a:ext cx="741600" cy="65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4000" y="2684520"/>
            <a:ext cx="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86040" y="3513240"/>
            <a:ext cx="11638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4520" y="3686040"/>
            <a:ext cx="952560" cy="64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762440" y="3686040"/>
            <a:ext cx="990720" cy="64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roki inspekcji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3240" y="941400"/>
            <a:ext cx="8510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icjow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głoszenie potrzeby inspekcji; wyłonienie lidera inspe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lanow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der ustala uczestników, listy kontrolne, zbiory reguł, tempo kontroli, daty spotkań kontroln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otkanie inicjują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talenie ról, ustalenie celów i oczekiwań, dystrybucja dokumentu, szkolenie w inspekcj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trola indywidua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czestnicy sprawdzają dokument względem zadanych kryteriów, reguł i list kontrolnych (znaleźć jak najwięcej unikalnych błęd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otkanie kontrolne (burza mózg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otowanie uwag z kontroli indywidualne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żda uwaga jest kwalifikowana jako „zagadnienie” (potencjalny błąd), „pytanie o intencję”, „propozycja poprawy procesu”; Szukanie nowych zagadnień; Poprawa procesu inspek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7040" y="160956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" y="10065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" y="25542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7040" y="435600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7040" y="345600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roki inspekcji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200" y="1071720"/>
            <a:ext cx="8272440" cy="52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prawa produktu: edytor (najczęściej autor) rozwiązuje zagadnienia; prawdziwy problem może być inny niż jest to zgłoszone; zagadania są kwalifikowane jako błędy lub dokument jest redagowany by uniknąć błędnych interpretacji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ntynuacja: lider sprawdza, że obsłużono wszystkie zagadnienia: są poprawione lub są w systemie zarządzania konfiguracją; sprawdza kompletność a nie poprawność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ecyzja o gotowości: lider podejmuje decyzję czy produkt jest gotowy do przekazania dalej (np. liczba błędów w określonym limicie)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ozpowszechnienie dokumentu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urza mózgów ma na celu identyfikację przyczyn błędów (max 10 najpoważniejszych) i propozycji poprawy procesu programowego, by błędy te nie powtórzyły się w przyszłości; idee są notowane bez ich głębokiej oceny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5" name=""/>
          <p:cNvSpPr/>
          <p:nvPr/>
        </p:nvSpPr>
        <p:spPr>
          <a:xfrm>
            <a:off x="336600" y="23590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8040" y="111132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6600" y="446580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6600" y="406548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6600" y="33861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Rodzaje testó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5720" y="115740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sty można klasyfikować z różnych punktów widze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1836720"/>
            <a:ext cx="802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ykrywanie błęd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czyli testy, których głównym celem jest wykrycie jak największej liczby błędów w progra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Testy statystycz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których celem jest wykrycie przyczyn najczęstszych błędnych wykonań oraz ocena niezawodności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840" y="3730680"/>
            <a:ext cx="756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 punktu widzenia techniki wykonywania testów można je podzielić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09720" y="4311720"/>
            <a:ext cx="8043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Testy dynamicz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które polegają na wykonywaniu (fragmentów) programu i porównywaniu uzyskanych wyników z wynikami popraw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Testy statycz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oparte na analizie ko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1600" y="19018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1600" y="28209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9800" y="436896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9800" y="526428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łąd i błędne wykonani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360" y="1181160"/>
            <a:ext cx="857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Błąd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failure, error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 - niepoprawna konstrukcja znajdująca się w programie, która może doprowadzić do niewłaściwego dział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Błędne wykona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failur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 - niepoprawne działanie systemu w trakcie jego pr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360" y="2938320"/>
            <a:ext cx="74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łąd może prowadzić do różnych błędnych wykon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o samo błędne wykonanie może być spowodowane różnymi błęd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360" y="387828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ces weryfikacji oprogramowania można określić jako poszukiwanie i usuwanie błędów na podstawie obserwacji błędnych wykonań oraz innych test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aza test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7080" y="852480"/>
            <a:ext cx="8839080" cy="1349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680" y="925560"/>
            <a:ext cx="193572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Określenie wymaga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15640" y="925560"/>
            <a:ext cx="139032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Projekt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48960" y="925560"/>
            <a:ext cx="142056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Implement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84360" y="900000"/>
            <a:ext cx="13251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Testow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21120" y="925560"/>
            <a:ext cx="12758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Konserw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5120" y="126828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216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0736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768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8136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79156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7640" y="15048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Faza strategicz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19040" y="15048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Anal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080" y="143820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1800" y="143820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79720" y="143820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000" y="15192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84400" y="1519200"/>
            <a:ext cx="12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94000" y="143820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79880" y="15066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Instal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6560" y="1440000"/>
            <a:ext cx="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521000"/>
            <a:ext cx="8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80240" y="1440000"/>
            <a:ext cx="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24080" y="179064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25520" y="1871640"/>
            <a:ext cx="5208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19960" y="179064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4480" y="18018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Dokument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26120" y="1274760"/>
            <a:ext cx="1274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2200" y="247968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ozróżnia się następujące termi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040" y="3149640"/>
            <a:ext cx="859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eryfik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verificatio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 - testowanie zgodności systemu z wymaganiami zdefiniowanymi w fazie określenia wymagań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Atestowa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validatio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 - ocena systemu lub komponentu podczas lub na końcu procesu jego rozwoju na zgodności z wyspecyfikowanymi wymaganiami. Atestowanie jest więc weryfikacją końcow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6120" y="4992840"/>
            <a:ext cx="5371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Dwa główne cele testowa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wykrycie i usunięcie błędów w syste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ocena niezawodności syst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ypowe fazy testowania system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6480" y="1701720"/>
            <a:ext cx="833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Testy moduł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Są one wykonywane już w fazie implementacji bezpośrednio po zakończeniu realizacji poszczególnych moduł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Testy system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W tej fazie integrowane są poszczególne moduły i testowane są poszczególne podsystemy oraz system jako cał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Testy akcepta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acceptance testin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: W przypadku oprogramowania realizowanego na zamówienie system przekazywany jest do przetestowania przyszłemu użytkownikowi. Testy takie nazywa się wtedy testam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alf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W przypadku oprogramowania sprzedawanego rynkowo testy takie polegają na nieodpłatnym przekazaniu pewnej liczby kopii systemu grupie użytkowników. Testy takie nazywa się testam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bet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3920" y="177804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3920" y="26478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2120" y="360216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o podlega testowaniu (1)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9560" y="811080"/>
            <a:ext cx="8704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ydajność system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i poszczególnych jego funkcji (czy jest satysfakcjonują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Interfejsy system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na zgodność z wymaganiami określonymi przez użytkow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łasności operacyjne system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np. wymagania logistyczne, organizacyjne, użyteczność/ stopień skomplikowania instrukcji kierowanych do systemu, czytelność ekranów, operacje wymagające zbyt wielu kroków, jakość komunikatów systemu, jakość informacji o błędach, jakość pomo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Testy zużycia zasob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zużycie czasu jednostki centralnej, zużycie pamięci operacyjnej, przestrzeni dyskowej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Zabezpieczenie system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odporność systemu na naruszenia prywatności, tajności, integralności, spójności i dostępności. Testy powinny np. obejmowa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zabezpieczenie haseł użytkownikó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testy zamykania zasobów przed niepowołanym dostęp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testy dostępu do plików przez niepowołanych użytkow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testy na możliwość zablokowania systemu przez niepowołane oso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680" y="85104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2680" y="14731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680" y="20685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2680" y="36241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2680" y="45655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o podlega testowaniu (2)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3200" y="736560"/>
            <a:ext cx="8740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enaszalność oprogramow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czy oprogramowanie będzie działać w zróżnicowanym środowisku (np. różnych wersjach Windows 95, NT, Unix), przy różnych wersjach instalacyjnych, rozmiarach zasobów, kartach graficznych, rozdzielczości ekranów, oprogramowaniu wspomagającym (bibliotekach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Niezawodność oprogramow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zwykle mierzoną średnim czasem pomiędzy błęd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dtwarzalność oprogramow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maintainabilit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, mierzoną zwykle średnim czasem reperowania oprogramowania po jego awarii. Pomiar powinien uwzględniać średni czas od zgłoszenia awarii do ponownego sprawnego dział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Bezpieczeństwo oprogramow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stopień minimalizacji katastrofalnych skutków wynikających z niesprawnego działania. (Przykładem jest wyłączenie prądu podczas działania w banku i obserwacja, co się w takim przypadku stani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Kompletność i jakość założonych funkcji system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Nie przekraczanie ogranicze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np. na zajmowaną pamięć, obciążenia procesora,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80" y="77472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840" y="56419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40" y="22780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840" y="322884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80" y="442584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840" y="62514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o podlega testowaniu (3)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040" y="798480"/>
            <a:ext cx="8778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Modyfikowalność oprogramow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czyli zdolność jego do zmiany przy zmieniających się założeniach lub wymaga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bciążalność oprogramow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tj. jego zdolność do poprawnej pracy przy ekstremalnie dużych obciążeniach. Np. maksymalnej liczbie użytkowników, bardzo dużych rozmiarach plików, dużej liczbie danych w bazie danych, ogromnych (maksymalnych) zapisach, bardzo długich liniach danych źródłowych. W tych testach czas nie odgrywa roli, chodzi wyłącznie o to, czy system poradzi sobie z ekstremalnymi rozmiarami danych lub ich komponentów oraz z maksymalnymi obciążeniami na jego wejści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Skalowalność system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tj. spełnienie warunków (m.in. czasowych) przy znacznym wzroście obciąż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Akceptowalność system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tj. stopień usatysfakcjonowania użytkownik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Jakość dokumenta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pomocy, materiałów szkoleniowych, zmniejszenia bariery dla nowicjus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160" y="84780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160" y="570384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160" y="173520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160" y="51354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160" y="417816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chemat testów statystycz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2400" y="909720"/>
            <a:ext cx="8121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Losowa konstrukcja danych wejściowych zgodnie z rozkładem prawdopodobieństwa tych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kreślenie wyników poprawnego działania systemu na tych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ruchomienie systemu oraz porównanie wyników jego działania z poprawnymi wynik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2560" y="3246480"/>
            <a:ext cx="49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wyższe czynności powtarzane są cyklicz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5440" y="94932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5440" y="18684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5440" y="247644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1200" y="3706920"/>
            <a:ext cx="8902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Stosowanie testów statystycznych wymaga określenia rozkładu prawdopodobieństwa danych wejściowych możliwie bliskiemu rozkładowi, który pojawi się w rzeczywistości. Dokładne przewidzenie takiego rozkładu jest trudne, w związku z czym wnioski wyciągnięte na podstawie takich testów mogą być nietraf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ałożeniem jest przetestowanie systemu w typowych sytuacjach. Istotne jest także przetestowanie systemu w sytuacjach skrajnych, nietypowych, ale dostatecznie waż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Istotną zaletą testów statystycznych jest możliwość ich automatyzacji, a co za tym idzie, możliwości wykonania dużej ich liczby. Technika ta jest jednak mało efektyw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estowanie na zasadzie białej skrzynk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91160" y="601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white-box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2520" y="1068480"/>
            <a:ext cx="8691480" cy="51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ak określa się sprawdzanie wewnętrznej logiki oprogramowania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(Lepszym  terminem byłoby „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testowanie n/z szklanej skrzynk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”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stowanie n/z białej skrzynki pozwala sprawdzić wewnętrzną logikę programów poprzez odpowiedni dobór danych wejściowych, dzięki czemu można prześledzić wszystkie ścieżki przebiegu sterowania progra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radycyjnie programiści wstawiają kod diagnostyczny do programu aby śledzić wewnętrzne przetwarzanie. Debuggery pozwalają programistom obserwować wykonanie programu krok po kro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zęsto niezbędne staje się wcześniejsze przygotowanie danych testowych lub specjalnych programów usprawniających testowanie (np. programu wywołującego testowaną procedurę z różnymi parametram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ane testowe powinny być dobrane w taki sposób, aby każda ścieżka w programie była co najmniej raz przetestow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graniczeniem testowania na zasadzie białej skrzynki jest niemożliwość pokazania brakujących funkcji w programie. Wadę tę usuwa testowanie n/z czarnej skrzyn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280" y="380700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8280" y="483696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0080" y="556884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0080" y="279864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estowanie na zasadzie czarnej skrzynk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89360" y="601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black-box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0120" y="928800"/>
            <a:ext cx="854244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ak określa się sprawdzanie funkcji oprogramowania bez zaglądania do środka programu. Testujący traktuje sprawdzany moduł jak „czarną skrzynkę”, której wnętrze jest niewidocz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stowanie n/z czarnej skrzynki powinno obejmować cały zakres danych wejści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stujący powinni podzielić dane wejściowe w „klasy równoważności”, co do których istnieje duże przypuszczenie, że będą produkować te same błędy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Np. jeżeli testujemy wartość „Malinowski”, to prawdopodobnie w tej samej klasie równoważności jest wartość „Kowalski”. Celem jest uniknięcie efektu „eksplozji danych testowych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lasy równoważności” mogą być również zależne od wyników zwracanych przez testowane funkcje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Np. jeżeli wejściem jest wiek pracownika i istnieje funkcja zwracająca wartości „młodociany”, „normalny” „wiek emerytalny”, wówczas implikuje to odpowiednie klasy równoważności dla danych wejściow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iele wejść dla danych (wiele parametrów funkcji) może wymagać zastosowania pewnych systematycznych metod określania ich kombinacji, np. tablic decyzyjnych lub grafów przyczyna-skut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6000" y="200016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273384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6000" y="425772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6000" y="54990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714760"/>
            <a:ext cx="9144000" cy="420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eryfikacja oznacza..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440" y="785880"/>
            <a:ext cx="862956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eglądy, inspekcje, testowanie, sprawdzanie, audytowanie lub inną działalność ustalającą i dokumentującą czy składowe, procesy, usługi lub dokumenty zgadzają się z wyspecyfikowanymi wymagani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ceny systemu lub komponentu mające na celu określenie czy produkt w danej fazie rozwoju oprogramowania spełnia warunki zakładane podczas startu tej fa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eryfikacja włącza następujące czynn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eglądy techniczne oraz inspekcje oprogramow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prawdzanie czy wymagania na oprogramowanie są zgodne z wymaganiami użytkowni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prawdzanie czy komponenty projektu są zgodne z wymaganiami na oprogramowa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stowanie jednostek oprogramowania (moduł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stowanie integracji oprogramowania, testowanie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stowanie akceptacji systemu przez użytkow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udy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8120" y="314172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8120" y="356400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120" y="616752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8120" y="499104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6680" y="54165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120" y="82224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8120" y="184788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8120" y="425304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120" y="579924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wiązek faz projektu z fazami test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1520" y="1550880"/>
            <a:ext cx="1933560" cy="5806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Definicja wymagań użytkown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63720" y="2755800"/>
            <a:ext cx="1933560" cy="5806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Definicja wymagań na oprogram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6360" y="3854520"/>
            <a:ext cx="1933560" cy="5806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Projektowanie architek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92280" y="4957920"/>
            <a:ext cx="1933560" cy="5806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Szczegółowe projekt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7200" y="5996160"/>
            <a:ext cx="1933560" cy="5806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Kod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67280" y="4957920"/>
            <a:ext cx="1933560" cy="5806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Testowanie moduł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22920" y="3854520"/>
            <a:ext cx="1933560" cy="5806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Testowan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integr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97560" y="2755800"/>
            <a:ext cx="1933560" cy="5806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Testowanie całości syste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59520" y="1550880"/>
            <a:ext cx="2082960" cy="5806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Testowanie akceptacji użytkownik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960" y="1200240"/>
            <a:ext cx="309600" cy="34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00240" y="2139840"/>
            <a:ext cx="495360" cy="60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89160" y="3365640"/>
            <a:ext cx="407880" cy="49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05000" y="4454640"/>
            <a:ext cx="420840" cy="5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9280" y="5554800"/>
            <a:ext cx="38268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948200" y="5567400"/>
            <a:ext cx="384120" cy="42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826240" y="4454640"/>
            <a:ext cx="407880" cy="5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742080" y="3365640"/>
            <a:ext cx="433440" cy="48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94640" y="2126880"/>
            <a:ext cx="51912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672400" y="1212840"/>
            <a:ext cx="2588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2800" y="922320"/>
            <a:ext cx="194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Decyzja o budowie oprogramow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43920" y="915840"/>
            <a:ext cx="194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Zaakceptowane oprogram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428720" y="5270400"/>
            <a:ext cx="544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665520" y="4149720"/>
            <a:ext cx="2054160" cy="11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911320" y="3060720"/>
            <a:ext cx="3476880" cy="12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058840" y="1811160"/>
            <a:ext cx="5034240" cy="25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000" y="5400720"/>
            <a:ext cx="257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Fazy projektu mają swoje odpowiedniki w fazach test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39920"/>
            <a:ext cx="9144000" cy="6555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eglądy oprogram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5120" y="900000"/>
            <a:ext cx="8407440" cy="56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egląd jest procesem lub spotkaniem, podczas którego produkt roboczy lub pewien zbiór produktów roboczych jest prezentowany dla personelu projektu, kierownictwa, użytkowników, klientów lub innych zainteresowanych stron celem uzyskania komentarzy, opinii i akceptac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eglądy mogą być formalne i nieformalne.                                         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Formalne przeglądy mogą mieć następującą posta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egląd techniczn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Oceniają elementy oprogramowania na zgodność postępu prac z przyjętym planem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(Szczegóły można znaleźć w ANSI/IEEE Std 1028-1988 „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IEEE Standard for Reviews and Audit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ejś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walkthrough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. Wczesna ocena dokumentów, modeli, projektów i kodu. Celem jest zidentyfikowanie defektów i rozważenie możliwych rozwiązań. Wtórnym celem jest szkolenie i rozwiązanie problemów stylistycznych (np. z formą kodu, dokumentacji, interfejsów użytkowni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Audyt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Przeglądy potwierdzające zgodność oprogramowania z wymaganiami, specyfikacjami, zaleceniami, standardami, procedurami, instrukcjami, kontraktami i licencjami. Obiektywność audytu wymaga, aby był on przeprowadzony przez osoby niezależne od zespołu projekt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2360" y="4762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re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525780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4040" y="297504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4040" y="393876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kład zespołu oceniającego oprogramowani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0600" y="806400"/>
            <a:ext cx="875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poważnych projektów ocena oprogramowania nie może być wykonana w sposób amatorski. Musi być powołany zespół, którego zadaniem będzie zarówno przygotowanie testów jak i ich przeprowadze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5000" y="1871640"/>
            <a:ext cx="4522680" cy="398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tencjalny skład zespołu oceniając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760" y="2338560"/>
            <a:ext cx="6705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ierow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ekreta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złonkowie, w ty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użytkown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kierownik projektu oprogram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inżynierowie oprogram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bibliotekarz oprogram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personel zespołu zapewnienia jak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niezależny personel weryfikacji i atest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niezależni eksperci nie związani z rozwojem proje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1280" y="5462640"/>
            <a:ext cx="86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Zadania kierownik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: nominacje na członków zespołu, organizacja przebiegu oceny i spotkań zespołu, rozpowszechnienie dokumentów oceny pomiędzy członków zespołu, organizacja pracy, przewodniczenie posiedzeniom, wydanie końcowego raportu, i być może inne zad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o to jest audy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0960" y="463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2240" y="1033560"/>
            <a:ext cx="8951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udytem nazywany jest niezależny przegląd i ocena jakości oprogramowania, która zapewnia zgodność z wymaganiami na oprogramowanie, a także ze specyfikacją, generalnymi założeniami, standardami, procedurami, instrukcjami, kodami oraz kontraktowymi i licencyjnymi wymagani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by zapewnić obiektywność, audyt powinien być przeprowadzony przez osoby niezależne od zespołu projekt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udyt powinien być przeprowadzany przez odpowiednią organizację audytu (która aktualnie formuje się w Polsce, Polskie Stowarzyszenie Audytu) lub przez osoby posiadające uprawnienia/licencję audyto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eguły i zasady audytu są określone w norm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NSI/IEEE Std 1028-1988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 „IEEE Standard for Reviews and Audit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spekty audyt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42840" y="763560"/>
            <a:ext cx="4309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stanu proje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celo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procesu wytwórcz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dowolnego proce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systemu jak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stosowania systemu jak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elacje odbiorca dostaw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dyt wewnętr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dyt zewnętr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dyt „trzeciej strony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t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lanowanie i przygotow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nyw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aportow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mknię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11200" y="325440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11200" y="82224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9760" y="47671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09200" y="857160"/>
            <a:ext cx="8434440" cy="53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elem audytu projektu informatycznego jest dostarczenie odbiorcy i dostawcy obiektywnych, aktualnych i syntetycznych informacji o stanie całego projektu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est to osiągane przez zbieranie dowodów, że projekt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siada możliwości (zasoby, kompetencje, metody, standardy) by osiągnąć sukces,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ptymalnie wykorzystuje te możliwości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zeczywiście osiąga założone cele (cząstkowe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ebrane informacje służą jako podstawa do podejmowania strategicznych decyzji w projekcie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udyt projektu informatyczneg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9600" y="496260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9600" y="14907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9600" y="28638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22:00:54Z</dcterms:created>
  <dc:creator>K. Subieta, IPI PAN, PJWSTK</dc:creator>
  <dc:description/>
  <dc:language>en-US</dc:language>
  <cp:lastModifiedBy>subieta</cp:lastModifiedBy>
  <dcterms:modified xsi:type="dcterms:W3CDTF">2000-05-05T19:21:37Z</dcterms:modified>
  <cp:revision>102</cp:revision>
  <dc:subject>Wyklad 4. Faza analizy i projektowania (1)</dc:subject>
  <dc:title>Wytwarzanie, integracja i testowanie SI</dc:title>
</cp:coreProperties>
</file>