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16800"/>
            <a:ext cx="9144000" cy="24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K.Subieta. Budowa i integracja SI, Wykład 12, Folia </a:t>
            </a:r>
            <a:fld id="{6840AFD6-990E-4787-8444-D7581C84487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08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05560" y="657864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 CE"/>
              </a:rPr>
              <a:t>maj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839880"/>
            <a:ext cx="7390080" cy="5854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79520" y="272880"/>
            <a:ext cx="686448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Budowa i integracj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ystemów informa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7560" y="2637000"/>
            <a:ext cx="279036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kład 1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89160" y="4797360"/>
            <a:ext cx="284544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azimierz Subie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olsko-Japońska Wyższa Szkoł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echnik Komputerowych, 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nstytut Podstaw Informatyki P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pi-logo" descr=""/>
          <p:cNvPicPr/>
          <p:nvPr/>
        </p:nvPicPr>
        <p:blipFill>
          <a:blip r:embed="rId2"/>
          <a:stretch/>
        </p:blipFill>
        <p:spPr>
          <a:xfrm>
            <a:off x="3929040" y="5878440"/>
            <a:ext cx="987480" cy="520920"/>
          </a:xfrm>
          <a:prstGeom prst="rect">
            <a:avLst/>
          </a:prstGeom>
          <a:ln w="0">
            <a:noFill/>
          </a:ln>
        </p:spPr>
      </p:pic>
      <p:pic>
        <p:nvPicPr>
          <p:cNvPr id="46" name="pojalogo" descr=""/>
          <p:cNvPicPr/>
          <p:nvPr/>
        </p:nvPicPr>
        <p:blipFill>
          <a:blip r:embed="rId3"/>
          <a:stretch/>
        </p:blipFill>
        <p:spPr>
          <a:xfrm>
            <a:off x="4086360" y="5116680"/>
            <a:ext cx="671400" cy="6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055520" y="1981080"/>
          <a:ext cx="7010640" cy="39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1981080"/>
                    <a:ext cx="701064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178640" y="1087560"/>
            <a:ext cx="7369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mpiryczne koszty poszczególnych faz wytwarzania oprogram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ystemów informatycz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600" y="5931000"/>
            <a:ext cx="817380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Źródł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 Oracle Corp. Badaniom podlegały realizacje systemów przetwarzania danych, realizowane metodą CDM, prze użyciu narzędzi CASE firmy Ora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Etapy i koszty wytwarzania oprogramowa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etoda szacowania kosztów COCOMO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83240" y="51912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COnstructive COs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8080" y="1033560"/>
            <a:ext cx="89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 oszacowania liczby instrukcji, z których będzie składał się system. Rozważane przedsięwzięcie jest następnie zaliczane do jednej z kl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1400" y="1820880"/>
            <a:ext cx="8472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zedsięwzięć łatwych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(organicznych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organic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. Klasa ta obejmuje przedsięwzięcia wykonywane przez stosunkowo małe zespoły, złożone z osób o podobnych wysokich kwalifikacjach. Dziedzina jest dobrze znana. Przedsięwzięcie jest wykonywane przy pomocy dobrze znanych metod i narzędz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zedsięwzięć niełatwych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(pół-oderwanych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semi-detached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.  Członkowie zespołu różnią się stopniem zaawansowania. Pewne aspekty dziedziny problemu nie są dobrze zn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zedsięwzięć trudnych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(osadzonych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embedded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. Obejmują przedsięwzięcia realizujące systemy o bardzo złożonych wymaganiach. Dziedzina problemu, stosowane narzędzia i metody są w dużej mierze nieznane. Większość członków zespołu nie ma doświadczenia w realizacji podobnych za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4200" y="1844640"/>
            <a:ext cx="400320" cy="412920"/>
          </a:xfrm>
          <a:custGeom>
            <a:avLst/>
            <a:gdLst>
              <a:gd name="textAreaLeft" fmla="*/ 164880 w 400320"/>
              <a:gd name="textAreaRight" fmla="*/ 235440 w 40032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1600" y="365904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160" y="487044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etoda szacowania kosztów COCOMO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5160" y="1058760"/>
            <a:ext cx="73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dstawowy wzór dla oszacowania nakładów w metodzie CO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9840" y="1658880"/>
            <a:ext cx="36507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kład[osobomiesiące] = A * K 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6680" y="2308320"/>
            <a:ext cx="867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 (określane jako KDSI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Kilo (thousand) of Delivered Source code Instruction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) oznacza rozmiar kodu źródłowego mierzony w tysiącach linii. KDSI nie obejmuje kodu, który nie został wykorzystany w system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artości stałych A i b zależą od klasy, do której zaliczono przedsięwzięc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2000" y="4006800"/>
            <a:ext cx="5037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Przedsięwzięcie łatw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: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Nakład = 2.4 * K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1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2000" y="4519440"/>
            <a:ext cx="5033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Przedsięwzięcie niełatw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: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Nakład = 3 * K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1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2000" y="5030640"/>
            <a:ext cx="5022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Przedsięwzięcie trudn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: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Nakład = 3.6 * K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1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12440" y="16462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(zależność wykładnicz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1360" y="5538960"/>
            <a:ext cx="521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niewielkich przedsięwzięć są to zależności bliskie liniowym. Wzrost jest szczególnie szybki dla przedsięwzięć trudnych (duży rozmiar kod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592600" y="4082760"/>
            <a:ext cx="0" cy="2266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05560" y="6350040"/>
            <a:ext cx="3251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05560" y="5364000"/>
            <a:ext cx="2739960" cy="973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38040" y="631836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KD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1520" y="39402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Nakł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rot="9557400">
            <a:off x="1603440" y="2706840"/>
            <a:ext cx="6650280" cy="373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528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5285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06640" y="53118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at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84440" y="39434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tru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rot="9557400">
            <a:off x="2058480" y="4806000"/>
            <a:ext cx="6600240" cy="15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92332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923324"/>
              </a:path>
            </a:pathLst>
          </a:cu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85680" y="46594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niełat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etoda szacowania kosztów COCOMO 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971640"/>
            <a:ext cx="898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Metoda COCOMO zakłada, że znając nakład można oszacować czas realizacji przedsięwzięcia, z czego wynika przybliżona wielkość zespołu. Z obserwacji wiadomo, że dla każdego przedsięwzięcia istnieje optymalna liczba członków zespołu wykonawców. Zwiększenie tej liczby może nawet wydłużyć czas realizacji. Proponowane są następujące wzo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2000" y="2330280"/>
            <a:ext cx="7435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Przedsięwzięcie łatw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: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Czas[miesiące] = 2.5 * Nakład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0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000" y="2843280"/>
            <a:ext cx="7407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Przedsięwzięcie niełatw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: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Czas[miesiące] = 2.5 * Nakład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0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2000" y="3354480"/>
            <a:ext cx="7408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Przedsięwzięcie trudn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: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Czas[miesiące] = 2.5 * Nakład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0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807000"/>
            <a:ext cx="9144000" cy="642600"/>
          </a:xfrm>
          <a:prstGeom prst="rect">
            <a:avLst/>
          </a:prstGeom>
          <a:gradFill rotWithShape="0">
            <a:gsLst>
              <a:gs pos="0">
                <a:srgbClr val="747555"/>
              </a:gs>
              <a:gs pos="50000">
                <a:srgbClr val="fcfeb9"/>
              </a:gs>
              <a:gs pos="100000">
                <a:srgbClr val="74755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Otrzymane w ten sposób oszacowania powinny być skorygowane przy pomocy tzw. czynników modyfikujących. Biorą one pod uwagę następujące atrybuty przedsięwzię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8080" y="4532400"/>
            <a:ext cx="893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61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wymagania wobec niezawodnośc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f61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rozmiar bazy danych w stosunku do rozmiaru k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f61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złożoność systemu: złożoność struktur danych, złożoność algorytmów, komunikacja 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innymi  systemami, stosowanie obliczeń równoległ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f61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wymagania co do wydajnośc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f61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ograniczenia pamię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f61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zmienność sprzętu i oprogramowania systemowego tworzącego środowisko pracy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5153040"/>
            <a:ext cx="9042480" cy="1349280"/>
          </a:xfrm>
          <a:custGeom>
            <a:avLst/>
            <a:gdLst/>
            <a:ahLst/>
            <a:rect l="l" t="t" r="r" b="b"/>
            <a:pathLst>
              <a:path w="4616" h="849">
                <a:moveTo>
                  <a:pt x="2461" y="23"/>
                </a:moveTo>
                <a:cubicBezTo>
                  <a:pt x="1961" y="19"/>
                  <a:pt x="1571" y="9"/>
                  <a:pt x="1099" y="0"/>
                </a:cubicBezTo>
                <a:cubicBezTo>
                  <a:pt x="826" y="2"/>
                  <a:pt x="554" y="0"/>
                  <a:pt x="281" y="7"/>
                </a:cubicBezTo>
                <a:cubicBezTo>
                  <a:pt x="279" y="7"/>
                  <a:pt x="204" y="27"/>
                  <a:pt x="187" y="31"/>
                </a:cubicBezTo>
                <a:cubicBezTo>
                  <a:pt x="176" y="34"/>
                  <a:pt x="155" y="39"/>
                  <a:pt x="155" y="39"/>
                </a:cubicBezTo>
                <a:cubicBezTo>
                  <a:pt x="147" y="49"/>
                  <a:pt x="140" y="60"/>
                  <a:pt x="132" y="70"/>
                </a:cubicBezTo>
                <a:cubicBezTo>
                  <a:pt x="125" y="79"/>
                  <a:pt x="115" y="85"/>
                  <a:pt x="108" y="94"/>
                </a:cubicBezTo>
                <a:cubicBezTo>
                  <a:pt x="76" y="135"/>
                  <a:pt x="59" y="180"/>
                  <a:pt x="29" y="220"/>
                </a:cubicBezTo>
                <a:cubicBezTo>
                  <a:pt x="0" y="318"/>
                  <a:pt x="12" y="402"/>
                  <a:pt x="22" y="511"/>
                </a:cubicBezTo>
                <a:cubicBezTo>
                  <a:pt x="29" y="584"/>
                  <a:pt x="130" y="645"/>
                  <a:pt x="187" y="676"/>
                </a:cubicBezTo>
                <a:cubicBezTo>
                  <a:pt x="352" y="765"/>
                  <a:pt x="535" y="803"/>
                  <a:pt x="722" y="810"/>
                </a:cubicBezTo>
                <a:cubicBezTo>
                  <a:pt x="848" y="814"/>
                  <a:pt x="973" y="816"/>
                  <a:pt x="1099" y="818"/>
                </a:cubicBezTo>
                <a:cubicBezTo>
                  <a:pt x="1304" y="821"/>
                  <a:pt x="1508" y="823"/>
                  <a:pt x="1713" y="826"/>
                </a:cubicBezTo>
                <a:cubicBezTo>
                  <a:pt x="2285" y="844"/>
                  <a:pt x="2059" y="834"/>
                  <a:pt x="2390" y="849"/>
                </a:cubicBezTo>
                <a:cubicBezTo>
                  <a:pt x="3096" y="840"/>
                  <a:pt x="3799" y="815"/>
                  <a:pt x="4506" y="810"/>
                </a:cubicBezTo>
                <a:cubicBezTo>
                  <a:pt x="4564" y="796"/>
                  <a:pt x="4567" y="790"/>
                  <a:pt x="4601" y="739"/>
                </a:cubicBezTo>
                <a:cubicBezTo>
                  <a:pt x="4606" y="721"/>
                  <a:pt x="4616" y="703"/>
                  <a:pt x="4616" y="684"/>
                </a:cubicBezTo>
                <a:cubicBezTo>
                  <a:pt x="4616" y="613"/>
                  <a:pt x="4613" y="543"/>
                  <a:pt x="4609" y="472"/>
                </a:cubicBezTo>
                <a:cubicBezTo>
                  <a:pt x="4602" y="363"/>
                  <a:pt x="4578" y="269"/>
                  <a:pt x="4514" y="181"/>
                </a:cubicBezTo>
                <a:cubicBezTo>
                  <a:pt x="4504" y="167"/>
                  <a:pt x="4491" y="142"/>
                  <a:pt x="4475" y="133"/>
                </a:cubicBezTo>
                <a:cubicBezTo>
                  <a:pt x="4384" y="83"/>
                  <a:pt x="4251" y="78"/>
                  <a:pt x="4152" y="70"/>
                </a:cubicBezTo>
                <a:cubicBezTo>
                  <a:pt x="3858" y="17"/>
                  <a:pt x="3308" y="48"/>
                  <a:pt x="3161" y="47"/>
                </a:cubicBezTo>
                <a:cubicBezTo>
                  <a:pt x="2940" y="38"/>
                  <a:pt x="2720" y="20"/>
                  <a:pt x="2500" y="7"/>
                </a:cubicBezTo>
                <a:cubicBezTo>
                  <a:pt x="2458" y="16"/>
                  <a:pt x="2461" y="2"/>
                  <a:pt x="2461" y="23"/>
                </a:cubicBez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ady metody COCOM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981000"/>
            <a:ext cx="8699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Liczba linii kodu jest znana dokładnie dopiero wtedy, gdy system jest napisa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zacunki są zwykle obarczone bardzo poważnym błędem (niekiedy ponad 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kreślenie “linii kodu źródłowego” inaczej wygląda dla każdego języka programowania. Jedna linia w Smalltalk’u jest równoważna 10-ciu linii w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języków 4GL i języków zapytań ten stosunek może być nawet 1000 :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ncepcja oparta na liniach kodu źródłowego jest całkowicie nieadekwatna dla nowoczesnych środków programistycznych, np. opartych o programowanie wizy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ły wybór czynników modyfikujących może prowadzić do znacznych rozbieżności pomiędzy oczekiwanym i rzeczywistym kosztem przedsięwzię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9680" y="5318280"/>
            <a:ext cx="861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adna metoda przewidywania kosztów nie jest więc doskonała i jest oparta na szeregu arbitralnych założeń. Niemniej dla celów planowania tego rodzaju metody stają się koniecznością. Nawet niedoskonała metoda jest zawsze lepsza niż “sufit”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440" y="1068480"/>
            <a:ext cx="349560" cy="374400"/>
          </a:xfrm>
          <a:custGeom>
            <a:avLst/>
            <a:gdLst>
              <a:gd name="textAreaLeft" fmla="*/ 144000 w 349560"/>
              <a:gd name="textAreaRight" fmla="*/ 205560 w 349560"/>
              <a:gd name="textAreaTop" fmla="*/ 154080 h 374400"/>
              <a:gd name="textAreaBottom" fmla="*/ 220320 h 37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440" y="3170160"/>
            <a:ext cx="349560" cy="374760"/>
          </a:xfrm>
          <a:custGeom>
            <a:avLst/>
            <a:gdLst>
              <a:gd name="textAreaLeft" fmla="*/ 144000 w 349560"/>
              <a:gd name="textAreaRight" fmla="*/ 205560 w 34956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440" y="4348080"/>
            <a:ext cx="349560" cy="374760"/>
          </a:xfrm>
          <a:custGeom>
            <a:avLst/>
            <a:gdLst>
              <a:gd name="textAreaLeft" fmla="*/ 144000 w 349560"/>
              <a:gd name="textAreaRight" fmla="*/ 205560 w 34956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40" y="1957320"/>
            <a:ext cx="349560" cy="374760"/>
          </a:xfrm>
          <a:custGeom>
            <a:avLst/>
            <a:gdLst>
              <a:gd name="textAreaLeft" fmla="*/ 144000 w 349560"/>
              <a:gd name="textAreaRight" fmla="*/ 205560 w 34956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11320" y="3144960"/>
            <a:ext cx="803268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ejścia użytkownik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 obiekty wejściowe wpływających na dane w syste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jścia użytkownika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biekty wyjściowe związane z danymi w syste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biory danych wewnętrzn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 liczba wewnętrznych plików robocz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biory danych zewnętrzne: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czba plików zewnętrznych zapełnianych przez produkt program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pytania zewnętrzne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nterfejsy z otoczeniem progra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aliza Punktów Funk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200" y="968400"/>
            <a:ext cx="860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etoda analizy punktów funkcyjnych (FPA), opracowana przez Albrechta w latach 1979-1983 bada pewien zestaw wartości. Łączy ona własności metody, badającej rozmiar projektu programu z możliwościami metody badającej produkt programow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czbę nie skorygowanych punktów funkcyjnych wylicza się na podstawie formuły korzystając z następujących dany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1120" y="386388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1120" y="465444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1120" y="5388120"/>
            <a:ext cx="349200" cy="37440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080 h 374400"/>
              <a:gd name="textAreaBottom" fmla="*/ 220320 h 37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1120" y="425916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1120" y="320040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41320" y="963720"/>
                <a:ext cx="26780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F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3735720" y="1006560"/>
            <a:ext cx="514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FP- nieskorygowane punkty funk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UFP - nieskorygowane punk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0320" y="1428840"/>
            <a:ext cx="480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gdzie: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 CE"/>
              </a:rPr>
              <a:t>w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 CE"/>
              </a:rPr>
              <a:t>ij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wagi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 CE"/>
              </a:rPr>
              <a:t>n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 CE"/>
              </a:rPr>
              <a:t>ij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ilość elem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14680" y="2992320"/>
            <a:ext cx="3025440" cy="270540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Czynnik                     złożo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ejścia 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jścia 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iory danych wewnętr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iory danych zewnętr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pytania zewnętr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38680" y="2992320"/>
            <a:ext cx="1216080" cy="270540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ojekt pros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37120" y="2992320"/>
            <a:ext cx="1224000" cy="270540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ojekt śred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57880" y="2992320"/>
            <a:ext cx="1195560" cy="270540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ojekt złoż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30400" y="2583000"/>
            <a:ext cx="362340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agi przypisywane projekt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26000" y="3705120"/>
            <a:ext cx="650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91480" y="579924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58240" y="579924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23640" y="579924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19360" y="3686040"/>
            <a:ext cx="6630840" cy="0"/>
          </a:xfrm>
          <a:prstGeom prst="line">
            <a:avLst/>
          </a:prstGeom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47360" y="121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stępowanie urządzeń komunikacyjnych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ozproszenie przetwarzania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ługość czasu oczekiwania na odpowiedź systemu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opień obciążenia sprzętu istniejącego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zęstotliwość wykonywania dużych transakcji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prowadzanie danych w trybie bezpośrednim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dajność użytkownika końcowego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09880" y="121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ktualizacja danych w trybie bezpośrednim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łożoność przetwarzania danych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ożliwość ponownego użycia programów w innych zastosowaniach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atwość instalacji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atwość obsługi systemu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ozproszenie terytorialne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atwość wprowadzania zmian - pielęgnowania systemu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3" name=""/>
          <p:cNvSpPr/>
          <p:nvPr/>
        </p:nvSpPr>
        <p:spPr>
          <a:xfrm>
            <a:off x="6037200" y="6110280"/>
            <a:ext cx="3106800" cy="5205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ecece"/>
                </a:solidFill>
                <a:latin typeface="Times New Roman"/>
              </a:rPr>
              <a:t>19 - </a:t>
            </a:r>
            <a:r>
              <a:rPr b="1" i="1" lang="en-GB" sz="2800" spc="-1" strike="noStrike">
                <a:solidFill>
                  <a:srgbClr val="cecece"/>
                </a:solidFill>
                <a:latin typeface="Times New Roman"/>
              </a:rPr>
              <a:t>British Mark</a:t>
            </a:r>
            <a:r>
              <a:rPr b="1" i="1" lang="pl-PL" sz="2800" spc="-1" strike="noStrike">
                <a:solidFill>
                  <a:srgbClr val="cecece"/>
                </a:solidFill>
                <a:latin typeface="Times New Roman"/>
              </a:rPr>
              <a:t>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orekcja Punktów Funk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095880" y="2666880"/>
                <a:ext cx="19987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F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966960" y="4659480"/>
                <a:ext cx="5502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VAF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UF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4340880" y="1905120"/>
            <a:ext cx="374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mpleksowy współczyn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ryg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9720" y="3870360"/>
            <a:ext cx="316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unkty funkcyjne (FP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90720" y="5562720"/>
                <a:ext cx="44877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UFP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1" name=""/>
          <p:cNvGraphicFramePr/>
          <p:nvPr/>
        </p:nvGraphicFramePr>
        <p:xfrm>
          <a:off x="838080" y="1828800"/>
          <a:ext cx="327528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327528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korygowane Punkty Funkcyj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olejność obliczeń Punktów Funk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1080" y="1589040"/>
            <a:ext cx="8026560" cy="36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dentyfikacja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liczenie współczynnika korygując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znaczenie ilości zbiorów danych i ich złożon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znaczenie ilości i złożoności elementów funkcjonalnych (we, wy, zapyta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alizacja oblic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eryfikac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aport, zebranie recenzu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3840" y="304488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3840" y="4322880"/>
            <a:ext cx="349200" cy="37440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080 h 374400"/>
              <a:gd name="textAreaBottom" fmla="*/ 220320 h 37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3840" y="209376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3840" y="159228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3840" y="3841920"/>
            <a:ext cx="349200" cy="37440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080 h 374400"/>
              <a:gd name="textAreaBottom" fmla="*/ 220320 h 37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3840" y="479736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3840" y="254160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omiary oprogramowa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3120" y="917640"/>
            <a:ext cx="858996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miar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measurement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 jest to proces, w którym atrybutom świata rzeczywistego przydzielane są liczby lub symbole w taki sposób, aby charakteryzować te atrybuty według jasno określonych zasad. Jednostki przydzielane atrybutom nazywane są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miar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danego atrybu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Metry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metric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 jest to proponowana (postulowana) miara. Nie zawsze charakteryzuje ona w sposób obiektywny dany atrybut. Np. ilość linii kodu (LOC) jest metryką charakteryzującą atrybut “długość programu źródłowego”, ale nie jest miarą ani złożoności ani rozmiaru programu (choć występuje w tej rol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2400" y="3730680"/>
            <a:ext cx="1474560" cy="39888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o mierzyć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3120" y="4299120"/>
            <a:ext cx="875340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oce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każde określone działanie w ramach projektu, wytwarzania lub eksploatacji oprogramow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odukt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każdy przedmiot powstały w wyniku procesu: kod źródłowy, specyfikację projektową, udokumentowaną modyfikację, plan testów, dokumentację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Zasób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każdy element niezbędny do realizacji procesu: osoby,narzędzia, metody wytwarzania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ykład obliczania punktów funk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3880" y="1792440"/>
            <a:ext cx="1648080" cy="286092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Elem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ejś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yjś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Zbiory w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Zbiory z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Zapyt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10960" y="1792440"/>
            <a:ext cx="921240" cy="286092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Pro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44440" y="1792440"/>
            <a:ext cx="802440" cy="286092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35440" y="1792440"/>
            <a:ext cx="1090440" cy="286092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red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33440" y="1792440"/>
            <a:ext cx="802440" cy="286092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0680" y="1792440"/>
            <a:ext cx="1123920" cy="286092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Złoż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8280" y="1792440"/>
            <a:ext cx="802440" cy="286092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04520" y="1792440"/>
            <a:ext cx="988200" cy="286092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Raz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42320" y="4745160"/>
            <a:ext cx="1855440" cy="45972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ącznie 3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3520" y="2278080"/>
            <a:ext cx="8634240" cy="0"/>
          </a:xfrm>
          <a:prstGeom prst="line">
            <a:avLst/>
          </a:prstGeom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92240" y="1793880"/>
            <a:ext cx="1781280" cy="2944800"/>
          </a:xfrm>
          <a:prstGeom prst="rect">
            <a:avLst/>
          </a:prstGeom>
          <a:noFill/>
          <a:ln w="1908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25720" y="1797120"/>
            <a:ext cx="1905120" cy="2944800"/>
          </a:xfrm>
          <a:prstGeom prst="rect">
            <a:avLst/>
          </a:prstGeom>
          <a:noFill/>
          <a:ln w="1908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94200" y="1797120"/>
            <a:ext cx="1954440" cy="2944800"/>
          </a:xfrm>
          <a:prstGeom prst="rect">
            <a:avLst/>
          </a:prstGeom>
          <a:noFill/>
          <a:ln w="1908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71640" y="250020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38680" y="347040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347040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71640" y="394164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71640" y="441972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38680" y="441972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38680" y="394020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294336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57920" y="441792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57920" y="394020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56480" y="346860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38680" y="294336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56480" y="294336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38680" y="250020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56480" y="2500200"/>
            <a:ext cx="3952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plikacje a Punkty Funkcyj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23960" y="14986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 F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125 instrukcji w C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marL="3358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0 FPs - typowy mały program tworzony samodzielnie przez klienta (1 m-c)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marL="3358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00 FPs - większość popularnych aplikacji; wartość typowa dla aplikacji tworzonych przez klienta samodzielnie (6 m-cy)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marL="3358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,000 FPs - komercyjne aplikacje w MS Windows, małe aplikacje klient-serwer (10 osób, ponad 12 m-cy)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marL="3358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0,000 FPs - systemy (100 osób, ponad 18 m-cy)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marL="3358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00,000 FPs - MS Windows’95, MVS, systemy militarne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4" name=""/>
          <p:cNvSpPr/>
          <p:nvPr/>
        </p:nvSpPr>
        <p:spPr>
          <a:xfrm>
            <a:off x="307800" y="1549440"/>
            <a:ext cx="349560" cy="374760"/>
          </a:xfrm>
          <a:custGeom>
            <a:avLst/>
            <a:gdLst>
              <a:gd name="textAreaLeft" fmla="*/ 144000 w 349560"/>
              <a:gd name="textAreaRight" fmla="*/ 205560 w 34956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9600" y="5450040"/>
            <a:ext cx="349200" cy="37440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080 h 374400"/>
              <a:gd name="textAreaBottom" fmla="*/ 220320 h 37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7800" y="2951280"/>
            <a:ext cx="349560" cy="374400"/>
          </a:xfrm>
          <a:custGeom>
            <a:avLst/>
            <a:gdLst>
              <a:gd name="textAreaLeft" fmla="*/ 144000 w 349560"/>
              <a:gd name="textAreaRight" fmla="*/ 205560 w 349560"/>
              <a:gd name="textAreaTop" fmla="*/ 154080 h 374400"/>
              <a:gd name="textAreaBottom" fmla="*/ 220320 h 37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9600" y="497196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7800" y="2023920"/>
            <a:ext cx="349560" cy="374760"/>
          </a:xfrm>
          <a:custGeom>
            <a:avLst/>
            <a:gdLst>
              <a:gd name="textAreaLeft" fmla="*/ 144000 w 349560"/>
              <a:gd name="textAreaRight" fmla="*/ 205560 w 34956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7800" y="4092480"/>
            <a:ext cx="349560" cy="374760"/>
          </a:xfrm>
          <a:custGeom>
            <a:avLst/>
            <a:gdLst>
              <a:gd name="textAreaLeft" fmla="*/ 144000 w 349560"/>
              <a:gd name="textAreaRight" fmla="*/ 205560 w 34956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774720" y="1943280"/>
          <a:ext cx="7761240" cy="38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943280"/>
                    <a:ext cx="7761240" cy="38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unkty Funkcyjne a pracochłonnoś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ykorzystanie punktów funk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7240" y="1262160"/>
            <a:ext cx="845676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cena złożoności realizacji system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udyt projek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bór systemów informatycznych funkcjonujących w przedsiębiorstwie do reinżynierii (wg. koszt utrzymania/F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acowanie liczby tes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cena jakości pracy i wydajności zespołów ludzk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cena stopnia zmian, wprowadzanych przez użytkownika na poszczególnych etapach budowy systemu informatyczn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gnozowanie kosztów pielęgnacj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rozwoju system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równanie i ocena różnych ofert dostawców oprogramowania pod kątem merytorycznym i koszt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1680" y="126684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3120" y="294804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1680" y="389088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1680" y="173520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3120" y="219708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20" y="461016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1680" y="541656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3120" y="339732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unkty Funkcyjne a języki baz da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67960" y="6181560"/>
            <a:ext cx="3848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g. Software Productivity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34080" y="890640"/>
            <a:ext cx="2561040" cy="527760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Typ języka l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konkretny ję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NSI 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LAR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A Cli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Base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Base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ELP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FOXPRO 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NFORM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A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racle Developer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GRESS v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Y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7000" y="890640"/>
            <a:ext cx="1823760" cy="527760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ziom języ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g. S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2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7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8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9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8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8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9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8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78840" y="890640"/>
            <a:ext cx="1569240" cy="527760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Efektywn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LOC/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36600" y="1755720"/>
            <a:ext cx="5815080" cy="0"/>
          </a:xfrm>
          <a:prstGeom prst="line">
            <a:avLst/>
          </a:prstGeom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398840" y="5745240"/>
            <a:ext cx="3848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g. Software Productivity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41200" y="1415880"/>
            <a:ext cx="2070360" cy="355428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Poziom języ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wg. S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 -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4 -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9 -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6 -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24 -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&gt;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23800" y="1415880"/>
            <a:ext cx="3288240" cy="355428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rednia produktywn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FPs/osobomiesią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5 -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0 - 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6 -  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5 -  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30 -  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40 -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48040" y="2289240"/>
            <a:ext cx="5379840" cy="0"/>
          </a:xfrm>
          <a:prstGeom prst="line">
            <a:avLst/>
          </a:prstGeom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unkty Funkcyjne a wydajność zespoł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Inne metody pomiarów i estyma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440" y="1446120"/>
            <a:ext cx="4310280" cy="4916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rażliwość na błęd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żliwości testowani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zęstotliwość występowania awari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stępność system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opagacja błędó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lość linii kodu, złożoność kodu, złożoność program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łożoność obliczeniową, funkcjonalną, modułow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łatwość implementa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ozmiar dokumenta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lość zadań wykonanych terminowo i po termini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0600" y="70164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óżnorodne metryki uwzględniają m.in. następujące asp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83240" y="1446120"/>
            <a:ext cx="4298760" cy="522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spółzależność zadań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ielkość i koszt projekt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zas trwania projekt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grożenia projektu (ryzyko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zas gotowości produkt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ompletność wymagań, kompletność planowani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bilność wymagań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dpowiedniość posiadanych zasobów sprzętowych, materiałowych i ludzki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fektywność zespołu, efektywność poszczególnych osó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c0128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950760" y="1288800"/>
            <a:ext cx="701064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Metryki zapisu projektu, kodu programu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rozmiar projektu, kodu programu (liczba modułów/obiektów, liczba linii kodu, komentarza, średni rozmiar komponentu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liczba, złożoność jednostek syntaktycznych i leksykalnych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złożoność struktury i związków pomiędzy komponentami programu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(procesy, funkcje, moduły, obiekty itp..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Metryki uzyskiwanego produktu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rozmiar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architektur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struktur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jakość użytkowania i pielęgnacji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złożoność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ykłady metryk oprogramowa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ykłady metryk oprogramowania, c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8960" y="1217160"/>
            <a:ext cx="701028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Metryki procesu wytwarzania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58840" indent="-24444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ojrzałość realizacji systemu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58840" indent="-24444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zarządzanie wytwarzaniem oprogramowani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58840" indent="-24444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w odniesieniu do cyklu życia oprogramowani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5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Metryki zasobów realizacyjnych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58840" indent="-24444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w odniesieniu do personelu „zamieszanego” w realizację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58840" indent="-24444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narzędzia software’owe, wykorzystywane przy realizacji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58840" indent="-244440">
              <a:spcBef>
                <a:spcPts val="45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sprzęt, jakim dysponuje wykonawc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492120" y="876240"/>
          <a:ext cx="8510760" cy="55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876240"/>
                    <a:ext cx="85107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ykorzystanie metod estyma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Elementy pomiaru oprogramowania - produk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9920" y="1409760"/>
          <a:ext cx="880596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09760"/>
                    <a:ext cx="880596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odsumowani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07920" y="1130400"/>
            <a:ext cx="8236080" cy="48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etryki są tworzone i stosowane na bazie doświadczenia i zdrowego rozsądku, co obniża ich wartość dla tzw. „teoretyków informatyki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etryki powinny być wykorzystywane jako metody wspomagania ekspertów. Metryki stosowane formalistycznie mogą być groź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lepiej jest stosować zestawy metryk, co pozwala zmniejszyć błędy pomiarow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de wszystkim zdrowy rozsądek i doświadcze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mimo pochodzenia empirycznego, metryki skutecznie pomagają w szybkiej i mniej subiektywnej ocenie oprogramow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ecjalizacja metryk w kierunku konkretnej klasy oprogramowania powinna dawać lepsze i bardziej adekwatne oceny niż metryki uniwersal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kazane jest wspomaganie metod opartych na metrykach narzędziami programistyczn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1760" y="114300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1760" y="261288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1760" y="379260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1760" y="189540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1760" y="451152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1760" y="525456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1760" y="3335400"/>
            <a:ext cx="349200" cy="374760"/>
          </a:xfrm>
          <a:custGeom>
            <a:avLst/>
            <a:gdLst>
              <a:gd name="textAreaLeft" fmla="*/ 144000 w 349200"/>
              <a:gd name="textAreaRight" fmla="*/ 205200 w 349200"/>
              <a:gd name="textAreaTop" fmla="*/ 154440 h 374760"/>
              <a:gd name="textAreaBottom" fmla="*/ 2203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Elementy pomiaru oprogramowania - proces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4600" y="1663560"/>
          <a:ext cx="8764560" cy="35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663560"/>
                    <a:ext cx="876456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Elementy pomiaru oprogramowania - zasob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3680" y="1201680"/>
          <a:ext cx="8780400" cy="44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01680"/>
                    <a:ext cx="878040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ele i miary wydajności ludz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95920" y="1492200"/>
            <a:ext cx="132840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dajn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0400" y="2135160"/>
            <a:ext cx="102960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art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39280" y="2135160"/>
            <a:ext cx="77508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s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9520" y="2905200"/>
            <a:ext cx="86040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ak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59080" y="2905200"/>
            <a:ext cx="67608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l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14400" y="2905200"/>
            <a:ext cx="105840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erso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00400" y="2905200"/>
            <a:ext cx="93204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so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12600" y="2905200"/>
            <a:ext cx="124308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łożon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2360" y="3699000"/>
            <a:ext cx="168192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iezawodn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58480" y="4514760"/>
            <a:ext cx="100224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efek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50600" y="3699000"/>
            <a:ext cx="114228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ielk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52960" y="4514760"/>
            <a:ext cx="179604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Funkcjonaln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22720" y="3699000"/>
            <a:ext cx="67464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14960" y="4514760"/>
            <a:ext cx="116964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ieniąd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81640" y="3699000"/>
            <a:ext cx="83160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prz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9840" y="4514760"/>
            <a:ext cx="1966680" cy="398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programow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91960" y="3699000"/>
            <a:ext cx="1656000" cy="70380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granic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rodowisk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59520" y="4514760"/>
            <a:ext cx="1209600" cy="70380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rudnoś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bl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153960" y="1906560"/>
            <a:ext cx="112572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97520" y="1906560"/>
            <a:ext cx="93960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879200" y="2549520"/>
            <a:ext cx="544680" cy="3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4040" y="2549520"/>
            <a:ext cx="68112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084640" y="2549520"/>
            <a:ext cx="103824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57960" y="25495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8920" y="2549520"/>
            <a:ext cx="108936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089000" y="3317760"/>
            <a:ext cx="70488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28960" y="3317760"/>
            <a:ext cx="61920" cy="12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179880" y="3317760"/>
            <a:ext cx="30960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317760"/>
            <a:ext cx="271440" cy="12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465440" y="3317760"/>
            <a:ext cx="34596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59440" y="3317760"/>
            <a:ext cx="48960" cy="12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802480" y="3317760"/>
            <a:ext cx="33336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34200" y="3317760"/>
            <a:ext cx="23760" cy="12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7335720" y="3317760"/>
            <a:ext cx="30960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0680" y="3317760"/>
            <a:ext cx="754200" cy="12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6680" y="1370160"/>
            <a:ext cx="146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zynnik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pływają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 ogóln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dajn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5302080"/>
            <a:ext cx="619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ylące, wręcz niebezpieczne jest zastępowanie wielu m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edną miarą, np. długością wyprodukowanego ko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cena złożoności w planowaniu projekt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8600" y="4570560"/>
            <a:ext cx="780840" cy="168120"/>
          </a:xfrm>
          <a:custGeom>
            <a:avLst/>
            <a:gdLst/>
            <a:ahLst/>
            <a:rect l="l" t="t" r="r" b="b"/>
            <a:pathLst>
              <a:path w="492" h="106">
                <a:moveTo>
                  <a:pt x="492" y="0"/>
                </a:moveTo>
                <a:lnTo>
                  <a:pt x="490" y="20"/>
                </a:lnTo>
                <a:lnTo>
                  <a:pt x="488" y="38"/>
                </a:lnTo>
                <a:lnTo>
                  <a:pt x="483" y="52"/>
                </a:lnTo>
                <a:lnTo>
                  <a:pt x="476" y="63"/>
                </a:lnTo>
                <a:lnTo>
                  <a:pt x="468" y="72"/>
                </a:lnTo>
                <a:lnTo>
                  <a:pt x="458" y="81"/>
                </a:lnTo>
                <a:lnTo>
                  <a:pt x="445" y="86"/>
                </a:lnTo>
                <a:lnTo>
                  <a:pt x="432" y="90"/>
                </a:lnTo>
                <a:lnTo>
                  <a:pt x="418" y="92"/>
                </a:lnTo>
                <a:lnTo>
                  <a:pt x="402" y="93"/>
                </a:lnTo>
                <a:lnTo>
                  <a:pt x="386" y="93"/>
                </a:lnTo>
                <a:lnTo>
                  <a:pt x="368" y="92"/>
                </a:lnTo>
                <a:lnTo>
                  <a:pt x="348" y="90"/>
                </a:lnTo>
                <a:lnTo>
                  <a:pt x="328" y="88"/>
                </a:lnTo>
                <a:lnTo>
                  <a:pt x="306" y="84"/>
                </a:lnTo>
                <a:lnTo>
                  <a:pt x="285" y="83"/>
                </a:lnTo>
                <a:lnTo>
                  <a:pt x="263" y="79"/>
                </a:lnTo>
                <a:lnTo>
                  <a:pt x="240" y="77"/>
                </a:lnTo>
                <a:lnTo>
                  <a:pt x="216" y="75"/>
                </a:lnTo>
                <a:lnTo>
                  <a:pt x="193" y="74"/>
                </a:lnTo>
                <a:lnTo>
                  <a:pt x="170" y="72"/>
                </a:lnTo>
                <a:lnTo>
                  <a:pt x="144" y="72"/>
                </a:lnTo>
                <a:lnTo>
                  <a:pt x="121" y="74"/>
                </a:lnTo>
                <a:lnTo>
                  <a:pt x="96" y="77"/>
                </a:lnTo>
                <a:lnTo>
                  <a:pt x="72" y="81"/>
                </a:lnTo>
                <a:lnTo>
                  <a:pt x="47" y="88"/>
                </a:lnTo>
                <a:lnTo>
                  <a:pt x="24" y="95"/>
                </a:lnTo>
                <a:lnTo>
                  <a:pt x="0" y="10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516560" y="4570560"/>
            <a:ext cx="2880" cy="31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09800" y="4738680"/>
            <a:ext cx="2844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95680" y="4681440"/>
            <a:ext cx="189000" cy="163440"/>
          </a:xfrm>
          <a:custGeom>
            <a:avLst/>
            <a:gdLst/>
            <a:ahLst/>
            <a:rect l="l" t="t" r="r" b="b"/>
            <a:pathLst>
              <a:path w="119" h="103">
                <a:moveTo>
                  <a:pt x="0" y="103"/>
                </a:moveTo>
                <a:lnTo>
                  <a:pt x="76" y="0"/>
                </a:lnTo>
                <a:lnTo>
                  <a:pt x="74" y="45"/>
                </a:lnTo>
                <a:lnTo>
                  <a:pt x="119" y="54"/>
                </a:lnTo>
                <a:lnTo>
                  <a:pt x="0" y="10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73560" y="4587840"/>
            <a:ext cx="1468440" cy="862200"/>
          </a:xfrm>
          <a:custGeom>
            <a:avLst/>
            <a:gdLst/>
            <a:ahLst/>
            <a:rect l="l" t="t" r="r" b="b"/>
            <a:pathLst>
              <a:path w="925" h="543">
                <a:moveTo>
                  <a:pt x="925" y="0"/>
                </a:moveTo>
                <a:lnTo>
                  <a:pt x="904" y="37"/>
                </a:lnTo>
                <a:lnTo>
                  <a:pt x="880" y="73"/>
                </a:lnTo>
                <a:lnTo>
                  <a:pt x="853" y="106"/>
                </a:lnTo>
                <a:lnTo>
                  <a:pt x="823" y="135"/>
                </a:lnTo>
                <a:lnTo>
                  <a:pt x="792" y="160"/>
                </a:lnTo>
                <a:lnTo>
                  <a:pt x="758" y="183"/>
                </a:lnTo>
                <a:lnTo>
                  <a:pt x="724" y="205"/>
                </a:lnTo>
                <a:lnTo>
                  <a:pt x="688" y="223"/>
                </a:lnTo>
                <a:lnTo>
                  <a:pt x="650" y="241"/>
                </a:lnTo>
                <a:lnTo>
                  <a:pt x="612" y="255"/>
                </a:lnTo>
                <a:lnTo>
                  <a:pt x="572" y="270"/>
                </a:lnTo>
                <a:lnTo>
                  <a:pt x="533" y="282"/>
                </a:lnTo>
                <a:lnTo>
                  <a:pt x="493" y="293"/>
                </a:lnTo>
                <a:lnTo>
                  <a:pt x="452" y="306"/>
                </a:lnTo>
                <a:lnTo>
                  <a:pt x="412" y="315"/>
                </a:lnTo>
                <a:lnTo>
                  <a:pt x="373" y="325"/>
                </a:lnTo>
                <a:lnTo>
                  <a:pt x="335" y="336"/>
                </a:lnTo>
                <a:lnTo>
                  <a:pt x="297" y="347"/>
                </a:lnTo>
                <a:lnTo>
                  <a:pt x="259" y="358"/>
                </a:lnTo>
                <a:lnTo>
                  <a:pt x="223" y="369"/>
                </a:lnTo>
                <a:lnTo>
                  <a:pt x="191" y="381"/>
                </a:lnTo>
                <a:lnTo>
                  <a:pt x="158" y="396"/>
                </a:lnTo>
                <a:lnTo>
                  <a:pt x="128" y="410"/>
                </a:lnTo>
                <a:lnTo>
                  <a:pt x="99" y="428"/>
                </a:lnTo>
                <a:lnTo>
                  <a:pt x="74" y="446"/>
                </a:lnTo>
                <a:lnTo>
                  <a:pt x="50" y="466"/>
                </a:lnTo>
                <a:lnTo>
                  <a:pt x="31" y="489"/>
                </a:lnTo>
                <a:lnTo>
                  <a:pt x="14" y="514"/>
                </a:lnTo>
                <a:lnTo>
                  <a:pt x="0" y="54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608880" y="4587840"/>
            <a:ext cx="33120" cy="58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67080" y="5450040"/>
            <a:ext cx="6120" cy="2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22800" y="541008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4" y="130"/>
                </a:moveTo>
                <a:lnTo>
                  <a:pt x="0" y="0"/>
                </a:lnTo>
                <a:lnTo>
                  <a:pt x="28" y="36"/>
                </a:lnTo>
                <a:lnTo>
                  <a:pt x="68" y="11"/>
                </a:lnTo>
                <a:lnTo>
                  <a:pt x="14" y="1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5680" y="5450040"/>
            <a:ext cx="731880" cy="82440"/>
          </a:xfrm>
          <a:custGeom>
            <a:avLst/>
            <a:gdLst/>
            <a:ahLst/>
            <a:rect l="l" t="t" r="r" b="b"/>
            <a:pathLst>
              <a:path w="461" h="52">
                <a:moveTo>
                  <a:pt x="0" y="0"/>
                </a:moveTo>
                <a:lnTo>
                  <a:pt x="2" y="13"/>
                </a:lnTo>
                <a:lnTo>
                  <a:pt x="6" y="24"/>
                </a:lnTo>
                <a:lnTo>
                  <a:pt x="11" y="33"/>
                </a:lnTo>
                <a:lnTo>
                  <a:pt x="20" y="40"/>
                </a:lnTo>
                <a:lnTo>
                  <a:pt x="29" y="45"/>
                </a:lnTo>
                <a:lnTo>
                  <a:pt x="42" y="49"/>
                </a:lnTo>
                <a:lnTo>
                  <a:pt x="56" y="51"/>
                </a:lnTo>
                <a:lnTo>
                  <a:pt x="71" y="52"/>
                </a:lnTo>
                <a:lnTo>
                  <a:pt x="89" y="52"/>
                </a:lnTo>
                <a:lnTo>
                  <a:pt x="107" y="52"/>
                </a:lnTo>
                <a:lnTo>
                  <a:pt x="126" y="52"/>
                </a:lnTo>
                <a:lnTo>
                  <a:pt x="146" y="51"/>
                </a:lnTo>
                <a:lnTo>
                  <a:pt x="168" y="47"/>
                </a:lnTo>
                <a:lnTo>
                  <a:pt x="189" y="45"/>
                </a:lnTo>
                <a:lnTo>
                  <a:pt x="213" y="42"/>
                </a:lnTo>
                <a:lnTo>
                  <a:pt x="234" y="40"/>
                </a:lnTo>
                <a:lnTo>
                  <a:pt x="258" y="36"/>
                </a:lnTo>
                <a:lnTo>
                  <a:pt x="283" y="34"/>
                </a:lnTo>
                <a:lnTo>
                  <a:pt x="306" y="33"/>
                </a:lnTo>
                <a:lnTo>
                  <a:pt x="330" y="31"/>
                </a:lnTo>
                <a:lnTo>
                  <a:pt x="353" y="31"/>
                </a:lnTo>
                <a:lnTo>
                  <a:pt x="377" y="31"/>
                </a:lnTo>
                <a:lnTo>
                  <a:pt x="398" y="31"/>
                </a:lnTo>
                <a:lnTo>
                  <a:pt x="420" y="33"/>
                </a:lnTo>
                <a:lnTo>
                  <a:pt x="441" y="36"/>
                </a:lnTo>
                <a:lnTo>
                  <a:pt x="461" y="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95680" y="5450040"/>
            <a:ext cx="3240" cy="20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27560" y="5513400"/>
            <a:ext cx="3168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7960" y="5452920"/>
            <a:ext cx="188640" cy="163800"/>
          </a:xfrm>
          <a:custGeom>
            <a:avLst/>
            <a:gdLst/>
            <a:ahLst/>
            <a:rect l="l" t="t" r="r" b="b"/>
            <a:pathLst>
              <a:path w="119" h="103">
                <a:moveTo>
                  <a:pt x="119" y="103"/>
                </a:moveTo>
                <a:lnTo>
                  <a:pt x="0" y="54"/>
                </a:lnTo>
                <a:lnTo>
                  <a:pt x="45" y="45"/>
                </a:lnTo>
                <a:lnTo>
                  <a:pt x="43" y="0"/>
                </a:lnTo>
                <a:lnTo>
                  <a:pt x="119" y="10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44680" y="4570560"/>
            <a:ext cx="263520" cy="133200"/>
          </a:xfrm>
          <a:custGeom>
            <a:avLst/>
            <a:gdLst/>
            <a:ahLst/>
            <a:rect l="l" t="t" r="r" b="b"/>
            <a:pathLst>
              <a:path w="166" h="84">
                <a:moveTo>
                  <a:pt x="0" y="0"/>
                </a:moveTo>
                <a:lnTo>
                  <a:pt x="0" y="11"/>
                </a:lnTo>
                <a:lnTo>
                  <a:pt x="2" y="20"/>
                </a:lnTo>
                <a:lnTo>
                  <a:pt x="5" y="27"/>
                </a:lnTo>
                <a:lnTo>
                  <a:pt x="9" y="34"/>
                </a:lnTo>
                <a:lnTo>
                  <a:pt x="14" y="41"/>
                </a:lnTo>
                <a:lnTo>
                  <a:pt x="20" y="47"/>
                </a:lnTo>
                <a:lnTo>
                  <a:pt x="27" y="50"/>
                </a:lnTo>
                <a:lnTo>
                  <a:pt x="34" y="54"/>
                </a:lnTo>
                <a:lnTo>
                  <a:pt x="41" y="57"/>
                </a:lnTo>
                <a:lnTo>
                  <a:pt x="50" y="59"/>
                </a:lnTo>
                <a:lnTo>
                  <a:pt x="59" y="63"/>
                </a:lnTo>
                <a:lnTo>
                  <a:pt x="68" y="65"/>
                </a:lnTo>
                <a:lnTo>
                  <a:pt x="77" y="66"/>
                </a:lnTo>
                <a:lnTo>
                  <a:pt x="88" y="66"/>
                </a:lnTo>
                <a:lnTo>
                  <a:pt x="97" y="68"/>
                </a:lnTo>
                <a:lnTo>
                  <a:pt x="108" y="70"/>
                </a:lnTo>
                <a:lnTo>
                  <a:pt x="119" y="72"/>
                </a:lnTo>
                <a:lnTo>
                  <a:pt x="128" y="74"/>
                </a:lnTo>
                <a:lnTo>
                  <a:pt x="139" y="75"/>
                </a:lnTo>
                <a:lnTo>
                  <a:pt x="148" y="77"/>
                </a:lnTo>
                <a:lnTo>
                  <a:pt x="157" y="81"/>
                </a:lnTo>
                <a:lnTo>
                  <a:pt x="166" y="84"/>
                </a:lnTo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4680" y="4570560"/>
            <a:ext cx="180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08200" y="4703760"/>
            <a:ext cx="1116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48080" y="4641840"/>
            <a:ext cx="139680" cy="203040"/>
          </a:xfrm>
          <a:custGeom>
            <a:avLst/>
            <a:gdLst/>
            <a:ahLst/>
            <a:rect l="l" t="t" r="r" b="b"/>
            <a:pathLst>
              <a:path w="88" h="128">
                <a:moveTo>
                  <a:pt x="88" y="128"/>
                </a:moveTo>
                <a:lnTo>
                  <a:pt x="0" y="32"/>
                </a:lnTo>
                <a:lnTo>
                  <a:pt x="45" y="43"/>
                </a:lnTo>
                <a:lnTo>
                  <a:pt x="61" y="0"/>
                </a:lnTo>
                <a:lnTo>
                  <a:pt x="88" y="1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51360" y="3316320"/>
            <a:ext cx="1668600" cy="522360"/>
          </a:xfrm>
          <a:custGeom>
            <a:avLst/>
            <a:gdLst/>
            <a:ahLst/>
            <a:rect l="l" t="t" r="r" b="b"/>
            <a:pathLst>
              <a:path w="1051" h="167">
                <a:moveTo>
                  <a:pt x="0" y="0"/>
                </a:moveTo>
                <a:lnTo>
                  <a:pt x="3" y="18"/>
                </a:lnTo>
                <a:lnTo>
                  <a:pt x="10" y="32"/>
                </a:lnTo>
                <a:lnTo>
                  <a:pt x="25" y="47"/>
                </a:lnTo>
                <a:lnTo>
                  <a:pt x="45" y="57"/>
                </a:lnTo>
                <a:lnTo>
                  <a:pt x="68" y="66"/>
                </a:lnTo>
                <a:lnTo>
                  <a:pt x="95" y="74"/>
                </a:lnTo>
                <a:lnTo>
                  <a:pt x="126" y="79"/>
                </a:lnTo>
                <a:lnTo>
                  <a:pt x="162" y="84"/>
                </a:lnTo>
                <a:lnTo>
                  <a:pt x="199" y="86"/>
                </a:lnTo>
                <a:lnTo>
                  <a:pt x="241" y="90"/>
                </a:lnTo>
                <a:lnTo>
                  <a:pt x="284" y="92"/>
                </a:lnTo>
                <a:lnTo>
                  <a:pt x="329" y="92"/>
                </a:lnTo>
                <a:lnTo>
                  <a:pt x="378" y="92"/>
                </a:lnTo>
                <a:lnTo>
                  <a:pt x="426" y="92"/>
                </a:lnTo>
                <a:lnTo>
                  <a:pt x="475" y="92"/>
                </a:lnTo>
                <a:lnTo>
                  <a:pt x="525" y="92"/>
                </a:lnTo>
                <a:lnTo>
                  <a:pt x="576" y="93"/>
                </a:lnTo>
                <a:lnTo>
                  <a:pt x="626" y="93"/>
                </a:lnTo>
                <a:lnTo>
                  <a:pt x="676" y="95"/>
                </a:lnTo>
                <a:lnTo>
                  <a:pt x="727" y="97"/>
                </a:lnTo>
                <a:lnTo>
                  <a:pt x="774" y="101"/>
                </a:lnTo>
                <a:lnTo>
                  <a:pt x="820" y="106"/>
                </a:lnTo>
                <a:lnTo>
                  <a:pt x="865" y="111"/>
                </a:lnTo>
                <a:lnTo>
                  <a:pt x="909" y="119"/>
                </a:lnTo>
                <a:lnTo>
                  <a:pt x="948" y="128"/>
                </a:lnTo>
                <a:lnTo>
                  <a:pt x="986" y="138"/>
                </a:lnTo>
                <a:lnTo>
                  <a:pt x="1020" y="153"/>
                </a:lnTo>
                <a:lnTo>
                  <a:pt x="1051" y="16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51360" y="3254400"/>
            <a:ext cx="4680" cy="28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19960" y="3838680"/>
            <a:ext cx="3312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80000" y="3790800"/>
            <a:ext cx="162000" cy="187560"/>
          </a:xfrm>
          <a:custGeom>
            <a:avLst/>
            <a:gdLst/>
            <a:ahLst/>
            <a:rect l="l" t="t" r="r" b="b"/>
            <a:pathLst>
              <a:path w="102" h="118">
                <a:moveTo>
                  <a:pt x="102" y="118"/>
                </a:moveTo>
                <a:lnTo>
                  <a:pt x="0" y="43"/>
                </a:lnTo>
                <a:lnTo>
                  <a:pt x="45" y="45"/>
                </a:lnTo>
                <a:lnTo>
                  <a:pt x="54" y="0"/>
                </a:lnTo>
                <a:lnTo>
                  <a:pt x="102" y="11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08560" y="3316320"/>
            <a:ext cx="109440" cy="493560"/>
          </a:xfrm>
          <a:custGeom>
            <a:avLst/>
            <a:gdLst/>
            <a:ahLst/>
            <a:rect l="l" t="t" r="r" b="b"/>
            <a:pathLst>
              <a:path w="0" h="147">
                <a:moveTo>
                  <a:pt x="0" y="0"/>
                </a:moveTo>
                <a:lnTo>
                  <a:pt x="0" y="10"/>
                </a:lnTo>
                <a:lnTo>
                  <a:pt x="0" y="21"/>
                </a:lnTo>
                <a:lnTo>
                  <a:pt x="0" y="32"/>
                </a:lnTo>
                <a:lnTo>
                  <a:pt x="0" y="41"/>
                </a:lnTo>
                <a:lnTo>
                  <a:pt x="0" y="50"/>
                </a:lnTo>
                <a:lnTo>
                  <a:pt x="0" y="59"/>
                </a:lnTo>
                <a:lnTo>
                  <a:pt x="0" y="66"/>
                </a:lnTo>
                <a:lnTo>
                  <a:pt x="0" y="73"/>
                </a:lnTo>
                <a:lnTo>
                  <a:pt x="0" y="81"/>
                </a:lnTo>
                <a:lnTo>
                  <a:pt x="0" y="88"/>
                </a:lnTo>
                <a:lnTo>
                  <a:pt x="0" y="95"/>
                </a:lnTo>
                <a:lnTo>
                  <a:pt x="0" y="100"/>
                </a:lnTo>
                <a:lnTo>
                  <a:pt x="0" y="108"/>
                </a:lnTo>
                <a:lnTo>
                  <a:pt x="0" y="113"/>
                </a:lnTo>
                <a:lnTo>
                  <a:pt x="0" y="118"/>
                </a:lnTo>
                <a:lnTo>
                  <a:pt x="0" y="124"/>
                </a:lnTo>
                <a:lnTo>
                  <a:pt x="0" y="131"/>
                </a:lnTo>
                <a:lnTo>
                  <a:pt x="0" y="136"/>
                </a:lnTo>
                <a:lnTo>
                  <a:pt x="0" y="142"/>
                </a:lnTo>
                <a:lnTo>
                  <a:pt x="0" y="14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9440" y="3257640"/>
            <a:ext cx="1800" cy="15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19440" y="3809880"/>
            <a:ext cx="18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08560" y="3773520"/>
            <a:ext cx="108000" cy="198360"/>
          </a:xfrm>
          <a:custGeom>
            <a:avLst/>
            <a:gdLst/>
            <a:ahLst/>
            <a:rect l="l" t="t" r="r" b="b"/>
            <a:pathLst>
              <a:path w="68" h="125">
                <a:moveTo>
                  <a:pt x="34" y="125"/>
                </a:moveTo>
                <a:lnTo>
                  <a:pt x="0" y="0"/>
                </a:lnTo>
                <a:lnTo>
                  <a:pt x="34" y="31"/>
                </a:lnTo>
                <a:lnTo>
                  <a:pt x="68" y="0"/>
                </a:lnTo>
                <a:lnTo>
                  <a:pt x="34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70320" y="3316320"/>
            <a:ext cx="1711080" cy="531720"/>
          </a:xfrm>
          <a:custGeom>
            <a:avLst/>
            <a:gdLst/>
            <a:ahLst/>
            <a:rect l="l" t="t" r="r" b="b"/>
            <a:pathLst>
              <a:path w="1078" h="173">
                <a:moveTo>
                  <a:pt x="1078" y="0"/>
                </a:moveTo>
                <a:lnTo>
                  <a:pt x="1068" y="21"/>
                </a:lnTo>
                <a:lnTo>
                  <a:pt x="1051" y="41"/>
                </a:lnTo>
                <a:lnTo>
                  <a:pt x="1032" y="57"/>
                </a:lnTo>
                <a:lnTo>
                  <a:pt x="1006" y="72"/>
                </a:lnTo>
                <a:lnTo>
                  <a:pt x="978" y="84"/>
                </a:lnTo>
                <a:lnTo>
                  <a:pt x="947" y="93"/>
                </a:lnTo>
                <a:lnTo>
                  <a:pt x="911" y="102"/>
                </a:lnTo>
                <a:lnTo>
                  <a:pt x="873" y="108"/>
                </a:lnTo>
                <a:lnTo>
                  <a:pt x="834" y="113"/>
                </a:lnTo>
                <a:lnTo>
                  <a:pt x="792" y="117"/>
                </a:lnTo>
                <a:lnTo>
                  <a:pt x="747" y="120"/>
                </a:lnTo>
                <a:lnTo>
                  <a:pt x="700" y="120"/>
                </a:lnTo>
                <a:lnTo>
                  <a:pt x="654" y="122"/>
                </a:lnTo>
                <a:lnTo>
                  <a:pt x="605" y="122"/>
                </a:lnTo>
                <a:lnTo>
                  <a:pt x="556" y="122"/>
                </a:lnTo>
                <a:lnTo>
                  <a:pt x="508" y="122"/>
                </a:lnTo>
                <a:lnTo>
                  <a:pt x="457" y="122"/>
                </a:lnTo>
                <a:lnTo>
                  <a:pt x="409" y="122"/>
                </a:lnTo>
                <a:lnTo>
                  <a:pt x="360" y="122"/>
                </a:lnTo>
                <a:lnTo>
                  <a:pt x="312" y="124"/>
                </a:lnTo>
                <a:lnTo>
                  <a:pt x="267" y="124"/>
                </a:lnTo>
                <a:lnTo>
                  <a:pt x="222" y="128"/>
                </a:lnTo>
                <a:lnTo>
                  <a:pt x="178" y="131"/>
                </a:lnTo>
                <a:lnTo>
                  <a:pt x="137" y="137"/>
                </a:lnTo>
                <a:lnTo>
                  <a:pt x="97" y="142"/>
                </a:lnTo>
                <a:lnTo>
                  <a:pt x="61" y="151"/>
                </a:lnTo>
                <a:lnTo>
                  <a:pt x="29" y="160"/>
                </a:lnTo>
                <a:lnTo>
                  <a:pt x="0" y="17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165560" y="3254400"/>
            <a:ext cx="15840" cy="33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450880" y="3848040"/>
            <a:ext cx="1908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4680" y="37846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65" y="0"/>
                </a:lnTo>
                <a:lnTo>
                  <a:pt x="67" y="47"/>
                </a:lnTo>
                <a:lnTo>
                  <a:pt x="112" y="5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19440" y="2351160"/>
            <a:ext cx="1800" cy="123840"/>
          </a:xfrm>
          <a:custGeom>
            <a:avLst/>
            <a:gdLst/>
            <a:ahLst/>
            <a:rect l="l" t="t" r="r" b="b"/>
            <a:pathLst>
              <a:path w="0" h="78">
                <a:moveTo>
                  <a:pt x="0" y="0"/>
                </a:moveTo>
                <a:lnTo>
                  <a:pt x="0" y="9"/>
                </a:lnTo>
                <a:lnTo>
                  <a:pt x="0" y="17"/>
                </a:lnTo>
                <a:lnTo>
                  <a:pt x="0" y="24"/>
                </a:lnTo>
                <a:lnTo>
                  <a:pt x="0" y="31"/>
                </a:lnTo>
                <a:lnTo>
                  <a:pt x="0" y="36"/>
                </a:lnTo>
                <a:lnTo>
                  <a:pt x="0" y="42"/>
                </a:lnTo>
                <a:lnTo>
                  <a:pt x="0" y="49"/>
                </a:lnTo>
                <a:lnTo>
                  <a:pt x="0" y="54"/>
                </a:lnTo>
                <a:lnTo>
                  <a:pt x="0" y="58"/>
                </a:lnTo>
                <a:lnTo>
                  <a:pt x="0" y="63"/>
                </a:lnTo>
                <a:lnTo>
                  <a:pt x="0" y="69"/>
                </a:lnTo>
                <a:lnTo>
                  <a:pt x="0" y="72"/>
                </a:lnTo>
                <a:lnTo>
                  <a:pt x="0" y="78"/>
                </a:lnTo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19440" y="2351160"/>
            <a:ext cx="1800" cy="1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9440" y="2475000"/>
            <a:ext cx="18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65800" y="2451240"/>
            <a:ext cx="107640" cy="196560"/>
          </a:xfrm>
          <a:custGeom>
            <a:avLst/>
            <a:gdLst/>
            <a:ahLst/>
            <a:rect l="l" t="t" r="r" b="b"/>
            <a:pathLst>
              <a:path w="68" h="124">
                <a:moveTo>
                  <a:pt x="34" y="124"/>
                </a:moveTo>
                <a:lnTo>
                  <a:pt x="0" y="0"/>
                </a:lnTo>
                <a:lnTo>
                  <a:pt x="34" y="31"/>
                </a:lnTo>
                <a:lnTo>
                  <a:pt x="68" y="0"/>
                </a:lnTo>
                <a:lnTo>
                  <a:pt x="34" y="1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87880" y="1743120"/>
            <a:ext cx="2474640" cy="611280"/>
          </a:xfrm>
          <a:prstGeom prst="roundRect">
            <a:avLst>
              <a:gd name="adj" fmla="val 2009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82080" y="186840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ELE i OGRANICZEN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38000" y="2050920"/>
            <a:ext cx="194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Rezultaty, czas, koszty,zaso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1520" y="2682720"/>
            <a:ext cx="1371600" cy="633600"/>
          </a:xfrm>
          <a:prstGeom prst="roundRect">
            <a:avLst>
              <a:gd name="adj" fmla="val 20046"/>
            </a:avLst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8040" y="2647800"/>
            <a:ext cx="1347840" cy="611280"/>
          </a:xfrm>
          <a:prstGeom prst="roundRect">
            <a:avLst>
              <a:gd name="adj" fmla="val 2009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46320" y="2771640"/>
            <a:ext cx="122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DEFINIOWAN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6360" y="295416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ZADA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30280" y="3962520"/>
            <a:ext cx="1836720" cy="610920"/>
          </a:xfrm>
          <a:prstGeom prst="roundRect">
            <a:avLst>
              <a:gd name="adj" fmla="val 20093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13600" y="4084560"/>
            <a:ext cx="131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ZEREGOWAN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94480" y="426708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ZADA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05040" y="3962520"/>
            <a:ext cx="1837080" cy="610920"/>
          </a:xfrm>
          <a:prstGeom prst="roundRect">
            <a:avLst>
              <a:gd name="adj" fmla="val 20093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7480" y="4084560"/>
            <a:ext cx="114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OCENA CZAS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7000" y="4267080"/>
            <a:ext cx="152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REALIZACJI ZADA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27600" y="3978360"/>
            <a:ext cx="1838520" cy="611280"/>
          </a:xfrm>
          <a:prstGeom prst="roundRect">
            <a:avLst>
              <a:gd name="adj" fmla="val 20093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6480" y="4013280"/>
            <a:ext cx="141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OCENA ZASOBÓ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60520" y="4195800"/>
            <a:ext cx="14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(LUDZIE, KOSZT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85920" y="4378320"/>
            <a:ext cx="178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PRZĘT, MATERIAŁY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33440" y="4844880"/>
            <a:ext cx="1832040" cy="611280"/>
          </a:xfrm>
          <a:prstGeom prst="roundRect">
            <a:avLst>
              <a:gd name="adj" fmla="val 2009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75800" y="4970520"/>
            <a:ext cx="123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OPRACOWAN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77160" y="5153040"/>
            <a:ext cx="1420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HARMONOGRA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41800" y="5616720"/>
            <a:ext cx="1349280" cy="610920"/>
          </a:xfrm>
          <a:prstGeom prst="roundRect">
            <a:avLst>
              <a:gd name="adj" fmla="val 2009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7560" y="5738760"/>
            <a:ext cx="82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CALAN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62280" y="5921280"/>
            <a:ext cx="52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PL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50320" y="2658960"/>
            <a:ext cx="35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C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59760" y="3621240"/>
            <a:ext cx="95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Jak dług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12560" y="3570120"/>
            <a:ext cx="103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Kto i czy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1560" y="5221440"/>
            <a:ext cx="59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Za i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84680" y="5602320"/>
            <a:ext cx="98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Co i kied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3600" y="3505320"/>
            <a:ext cx="177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W jakiej kolejnośc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9600" y="1001880"/>
            <a:ext cx="6977160" cy="87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447920" y="1981080"/>
          <a:ext cx="6351480" cy="42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635148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67080" y="2590920"/>
                <a:ext cx="8064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952880" y="4191120"/>
                <a:ext cx="8064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Efekt skal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8840" y="1157400"/>
            <a:ext cx="62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ZużycieZasobu = ZużycieStałe + K * WielkośćProjek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38680" y="9637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Czynniki wpływające na efekt skal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26600" y="1701720"/>
            <a:ext cx="404676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Specjalizacja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Uczenie się, doświadczenie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Narzędzia CASE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Wspomaganie dokumentowania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Biblioteki gotowych elementów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Stałe koszty projektu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10160" y="1701720"/>
            <a:ext cx="415296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Koszty zarządzania (czas produkcyjny/nie)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Lawinowy wzrost ilości powiązań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Komunikacja wewnątrz zespołu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Wzrost złożoności  testowania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1" name=""/>
          <p:cNvSpPr/>
          <p:nvPr/>
        </p:nvSpPr>
        <p:spPr>
          <a:xfrm>
            <a:off x="685080" y="901800"/>
            <a:ext cx="3835440" cy="10688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Czynniki spłaszcz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krzyw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89520" y="901800"/>
            <a:ext cx="3700440" cy="1068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Czynniki wzros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krzywej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22:00:54Z</dcterms:created>
  <dc:creator>K. Subieta, IPI PAN, PJWSTK</dc:creator>
  <dc:description/>
  <dc:language>en-US</dc:language>
  <cp:lastModifiedBy>subieta</cp:lastModifiedBy>
  <dcterms:modified xsi:type="dcterms:W3CDTF">2000-05-05T19:21:32Z</dcterms:modified>
  <cp:revision>105</cp:revision>
  <dc:subject>Wyklad 4. Faza analizy i projektowania (1)</dc:subject>
  <dc:title>Wytwarzanie, integracja i testowanie SI</dc:title>
</cp:coreProperties>
</file>