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16800"/>
            <a:ext cx="9144000" cy="2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K.Subieta. Budowa i integracja SI, Wykład 4, Folia </a:t>
            </a:r>
            <a:fld id="{C6FD3842-60C5-43DF-A21A-F06C9FA7C19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08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5560" y="65786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 CE"/>
              </a:rPr>
              <a:t>maj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839880"/>
            <a:ext cx="7390080" cy="5854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79520" y="272880"/>
            <a:ext cx="686448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udowa i integracj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ystemów infor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7200" y="2637000"/>
            <a:ext cx="2088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Faza anali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89160" y="4797360"/>
            <a:ext cx="284544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pi-logo" descr=""/>
          <p:cNvPicPr/>
          <p:nvPr/>
        </p:nvPicPr>
        <p:blipFill>
          <a:blip r:embed="rId2"/>
          <a:stretch/>
        </p:blipFill>
        <p:spPr>
          <a:xfrm>
            <a:off x="3929040" y="5878440"/>
            <a:ext cx="987480" cy="520920"/>
          </a:xfrm>
          <a:prstGeom prst="rect">
            <a:avLst/>
          </a:prstGeom>
          <a:ln w="0">
            <a:noFill/>
          </a:ln>
        </p:spPr>
      </p:pic>
      <p:pic>
        <p:nvPicPr>
          <p:cNvPr id="46" name="pojalogo" descr=""/>
          <p:cNvPicPr/>
          <p:nvPr/>
        </p:nvPicPr>
        <p:blipFill>
          <a:blip r:embed="rId3"/>
          <a:stretch/>
        </p:blipFill>
        <p:spPr>
          <a:xfrm>
            <a:off x="4086360" y="5116680"/>
            <a:ext cx="671400" cy="6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otacje w fazie analizi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5320" y="1082520"/>
            <a:ext cx="13237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Rodz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not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04320" y="990720"/>
            <a:ext cx="677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ęzyk natural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otacje grafi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ecyfikacje - ustrukturalizowany zapis tekstowy i numeryc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286000"/>
            <a:ext cx="862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Szczególne znaczenie maja notacje graficzne.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nżynieria oprogramowania wzoruje się na innych dziedzinach techniki, takich jak elektronika i mechanika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alety notacji graficznych potwierdzają badania psychologiczne.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3880" y="3519360"/>
            <a:ext cx="2223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Funkcje not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240" y="4054320"/>
            <a:ext cx="694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rzędzie pracy analityka i projektanta, zapis i analiza pomysł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spółpraca z użytkownik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munikacja z innymi członkami zespo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dstawa implementacji oprogram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pis dokumentacji tech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7320" y="573732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Notacje powinny być przejrzyste, proste, precyzyjne, łatwo zrozumiał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umożliwiające modelowanie złożonych zależ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58880" y="103824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58880" y="167148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58880" y="135252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2520" y="4086360"/>
            <a:ext cx="250920" cy="30132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320"/>
              <a:gd name="textAreaBottom" fmla="*/ 177120 h 30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520" y="444960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2520" y="471312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2520" y="501480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2520" y="536400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etodyki struktural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4840" y="91296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Metodyki struktural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łączą statyczny opis danych oraz statyczny opis proces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360" y="1274760"/>
            <a:ext cx="746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 tej klasy należ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etodyka Yourdona (DeMarco i Ward/Mell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ructured System Analysis and Design Methodology (SSAD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ructured Analysis and Design Technique (SAD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8280" y="5592600"/>
            <a:ext cx="3183120" cy="10087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waża się, że wadą metodyk strukturalnych są trudności w zintegrowaniu mode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8640" y="2557440"/>
            <a:ext cx="7707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godnie z DeMarco,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naliza strukturaln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używa następujących techn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iagramy Przepływu Danych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Data Flow Diagrams, DFD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łownik Danych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Data Dictionar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trukturalny Angielski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Structured Englis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 -&gt; strukturalny pol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Tablice Decyzyjne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Decision Table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rzewa Decyzyjne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Decision Tree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67480" y="54936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structured methodologies, structure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3400" y="4280040"/>
            <a:ext cx="5628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odatkow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chemat Transformacyjny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Transformation Sch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iagram Przejść Stanów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State Transition Diagra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Lista Zdarzeń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Event List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chemat Danych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Data Sch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e- i post- warunki 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Pre- and Post-Condition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iagramy Encja-Związek (występują w SSAD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Historie Życia Encji (występują w SSAD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etodyki obiektow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8440" y="1011240"/>
            <a:ext cx="8561160" cy="45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odyka wykorzystując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jęcia obiektowośc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celów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owania pojęcioweg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az analizy i projektowania systemów informatyczn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stawowym składnikiem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iagram kla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będący zwykle wariantem notacyjnym i pewnym rozszerzeniem diagramów encja-związe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iagram klas zawiera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las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 ramach klas specyfikacj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trybut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związki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eneraliz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związki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socj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greg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licz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ych związków, różnorod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granicze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inne oznac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zupełnieniem tego diagramu są inne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iagramy dynamiczn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względniając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n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przejścia pomiędzy tymi stanami,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iagramy interak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stalające zależności pomiędzy wywołaniami metod,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iagramy funkcjonaln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ędące zwykle pewną mutacją diagramów przepływu danych), it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cepcj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ypadków użycia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zakłada odwzorowanie struktury systemu z punktu widzenia jego użytkown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77804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46384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99072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51792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487692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4680" y="5839560"/>
            <a:ext cx="859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zykład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: Express, OODA(Booch), OMT(Rumbaugh), OOSA(Shlaer-Mellor), Objectory(Jacobson), MOSES/OPEN, OOA/OOD(Coad/Yourdon), Notacja UML, R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Różnice pomiędzy metodykam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3280" y="917640"/>
            <a:ext cx="830736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dejścia proponowane przez różnych autorów różnią się częściowo, nie muszą być jednak ze sobą sprzeczne. Nie ma metodyk uniwersalnych. Analitycy i projektanci wybierają kombinację technik i notacji, która jest w danym momencie najbardziej przydat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szczególne metodyki zawierają elementy rzadko wykorzystywane w praktyce (np. model przepływu danych w OM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otacje proponowane przez różnych autorów nie są koniecznie nierozerwalne z samą metodyką. Np. notacji UML można użyć dla metodyki Coad/Yourd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rzędzia CASE nie narzucają metodyki; raczej, określają one tylko notację. Twierdzenia, że jakieś narzędzie CASE “jest oparte” na konkretnej metodyce jest często wyłącznie hasłem reklamowym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wet najlepsze metodyki i narzędzia CASE nie są w stanie zapewnić jakości projekt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4960" y="233028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4960" y="385452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4960" y="93492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4960" y="309240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5381640"/>
            <a:ext cx="8305920" cy="100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luczem do dobrego projektu jest zespół doświadczonych, zaangażowanych i kompetentnych osób, dla których metodyki, notacje i narzędzia CASE służą jako istotne wspomaga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otacja a metodyk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9160" y="96372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olny język, w tym notacje stosowane w metodykach, oprócz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kładn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siada dwa znacznie od niej ważniejsze aspekty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emantyk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agmatyk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9160" y="3535200"/>
            <a:ext cx="89582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agmatyka określa, jak do konkretnej sytuacji dopasować pewien wzorzec notacyjny. Pragmatyka wyznacza więc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oces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owadzące do wytworzenia zapisów wyników analizy i projektowania, które są zgodne z intencją autorów tej notacji. Jakakolwiek notacja nie ma większego sensu bez wiedzy o tym, w jaki sposób może być ona użyta w ramach pewnego procesu analizy i projektowan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 metodykach pragmatyka stosowanej notacji (czyli jak i do czego jej użyć) jest sprawą podstawową. Jest ona zazwyczaj trudna do objaśnienia: nie ma innego sposobu oprócz pokazania sposobów użycia na przykładach przypominających realne sytuacje. Niestety, realne sytuacje są zazwyczaj bardzo skomplikowane, co powoduje pewien infantylizm przykładów zamieszczanych w podręcznika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9160" y="2427120"/>
            <a:ext cx="9024840" cy="4597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emant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, co należy rozumieć pod przyjętymi oznaczeni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9160" y="2946240"/>
            <a:ext cx="9024840" cy="4597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gmat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, w jaki sposób i do czego należy używać przyjętych oznacz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9160" y="1911240"/>
            <a:ext cx="9024840" cy="4597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kład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, jak wolno kombinować ze sobą przyjęte oznacz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UML - przykład not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680" y="1141560"/>
            <a:ext cx="892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ML (Unified Modeling Language) powstał jako synteza trzech metodyk/not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8040" y="1719360"/>
            <a:ext cx="8535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MT (Rumbaugh)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metodyka ta była dobra do modelowania dziedziny przedmiotowej. Nie przykrywała jednak dostatecznie dokładnie zarówno aspektu użytkowników systemu jak i aspektu implementacji/konstruk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OSE (Jacobson)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 metodyka ta dobrze podchodziła do kwestii modelowania użytkowników i cyklu życiowego systemu. Nie przykrywała jednak dokładnie modelowania dziedziny przedmiotowej jak i aspektu implementacji/konstruk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OOAD (Booch):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etodyka dobrze podchodziła do kwestii projektowania, konstrukcji i związków ze środowiskiem implementacji. Nie przykrywała jednak dostatecznie dobrze fazy analizy i rozpoznania wymagań użytkownik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680" y="5275440"/>
            <a:ext cx="892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stniało wiele aspektów systemów, które nie były właściwie przykryte przez żadne z wyżej wymienionych podejść, np. włączenie prototypowania w cykl życiowy, rozproszenie i komponenty, przystosowanie notacji do preferencji projektantów, i inne. Celem UML jest przykrycie również tych aspek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960" y="295740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0960" y="418140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0960" y="174636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iagramy definiowane w UM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2840" y="1828800"/>
            <a:ext cx="539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Diagramy przypadków użycia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use case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Diagramy klas,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tym diagramy pakie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Diagramy zachowania się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behavior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Diagramy implement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0720" y="30481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iagramy stan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iagramy aktyw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iagramy sekwen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iagramy współpracy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collaboratio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2880" y="4784760"/>
            <a:ext cx="42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iagramy kompon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iagramy wdrożeniowe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deploymen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914400"/>
            <a:ext cx="86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utorzy UML wychodzą z założenia, że żadna pojedyncza perspektywa spojrzenia na projektowany system nie jest wystarczająca. Stąd wiele środk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280" y="22096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280" y="25909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280" y="182880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80" y="44197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160" y="5775480"/>
            <a:ext cx="90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Diagramy te zapewniają mnogość perspektyw systemu podczas analizy i rozwo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ces tworzenia modelu obiektoweg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5200" y="1031760"/>
            <a:ext cx="13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dani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5960" y="1919160"/>
            <a:ext cx="5356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dentyfikacja klas i obiek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dentyfikacja związków pomiędzy klas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dentyfikacja i definiowanie pól (atrybut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dentyfikacja i definiowanie metod i komunika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360" y="3927600"/>
            <a:ext cx="87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nności te są wykonywane iteracyjnie. Kolejność ich wykonywania nie jest ustalona i zależy zarówno od stylu pracy, jak i od konkretnego problem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360" y="4842000"/>
            <a:ext cx="870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ny schemat realizacji procesu budowy modelu obiektowego polega na rozpoznaniu funkcji, które system ma wykonywać. Dopiero w późniejszej fazie następuje identyfikacja klas, związków, atrybutów i metod. Rozpoznaniu funkcji systemu służą modele funkcjonalne (diagramy przepływu danych) oraz model przypadków uży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3623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8195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9051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dentyfikacja klas i obiektó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7800" y="914400"/>
            <a:ext cx="1761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ypowe klas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487520"/>
            <a:ext cx="800100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dmioty namacalne (samochód, czujn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le pełnione przez osoby (pracownik, wykładowca, stud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darzenia, o których system przechowuje informacje (lądowanie samolotu, wysłanie zamówienia, dostawa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nterakcje pomiędzy osobami i/lub systemami o których system przechowuje informacje (pożyczka, spotkanie, sesja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okalizacje - miejsce przeznaczone dla ludzi lub przedmio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rupy przedmiotów namacalnych (kartoteka, samochód jako zestaw częś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rganizacje (firma, wydział, związ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darzenia (posiedzenie sejmu, demonstracja ulicz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ncepcje i pojęcia (zadanie, miara jakoś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kumenty (faktura, prawo jaz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asy będące interfejsami dla systemów zewnętr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asy będące interfejsami dla urządzeń sprzętow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960" y="1523880"/>
            <a:ext cx="353880" cy="3081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3960" y="190512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960" y="235908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960" y="297180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960" y="4038480"/>
            <a:ext cx="353880" cy="3081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960" y="441972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480060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5181480"/>
            <a:ext cx="353880" cy="3081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960" y="556272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3960" y="594360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3960" y="632160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960" y="3581280"/>
            <a:ext cx="353880" cy="3081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biekty, zbiory obiektów i metada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914400"/>
            <a:ext cx="876312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ielu przypadkach przy definicji klasy należy dokładnie ustalić, z jakiego rodzaju abstrakcją obiektu mamy do czyni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352680"/>
            <a:ext cx="672156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p. klasa „samochód”. Może chodzić 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gzemplarz samochodu wyprodukowany przez pewną fabryk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samochodu produkowany przez fabryk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zycję w katalogu samochodów opisujący własności mode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istorię stanów pewnego konkretnego samoch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925880"/>
            <a:ext cx="672156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obnie z klasą „gazeta”. Może chodzić 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nkretny egzemplarz gazety kupiony przez czytel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nkretne wydanie gazety (niezależne od ilości egzemplarz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tuł i wydawnictwo, niezależne od egzemplarzy i wyda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artię egzemplarzy danej gazety dostarczaną codziennie do kio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676520"/>
            <a:ext cx="855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ależy zwrócić uwagę na następujące aspekt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 mamy do czynienia z konkretnym obiektem w danej chwili czasowej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 mamy do czynienia z konkretnym obiektem w pewnym odcinku czas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 mamy do czynienia z opisem tego obiektu (dokument, metadane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 mamy do czynienia z pewnym zbiorem konkretnych obiektó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lan wykład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6240" y="1168560"/>
            <a:ext cx="6758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odel analit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ynności w fazie anali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magania na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otacje w fazie anali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etodyki strukturalne i obiekt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etodyki obiektowe; 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ces tworzenia modelu obiekt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kument wymagań na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luczowe czynniki sukcesu i rezultaty fazy anali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20680" y="120168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0680" y="174636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0680" y="283212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0680" y="3378240"/>
            <a:ext cx="400320" cy="412560"/>
          </a:xfrm>
          <a:custGeom>
            <a:avLst/>
            <a:gdLst>
              <a:gd name="textAreaLeft" fmla="*/ 164880 w 400320"/>
              <a:gd name="textAreaRight" fmla="*/ 235440 w 40032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0680" y="226692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0680" y="393048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0680" y="446400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20680" y="501156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0680" y="5583240"/>
            <a:ext cx="400320" cy="412920"/>
          </a:xfrm>
          <a:custGeom>
            <a:avLst/>
            <a:gdLst>
              <a:gd name="textAreaLeft" fmla="*/ 164880 w 400320"/>
              <a:gd name="textAreaRight" fmla="*/ 235440 w 40032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okument wymagań na oprogramowanie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809640"/>
            <a:ext cx="6159600" cy="119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reszczenie (maksymalnie 200 słó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pis tre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atus dokumentu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utorzy, firmy, daty, podpisy, it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miany w stosunku do wersji poprzedni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2014560"/>
            <a:ext cx="6159600" cy="4483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. 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1. 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2. Zak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3. Definicje, akronimy i skró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4. Referencje, odsyłacze do innych doku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5. Krótki przeglą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2. Ogólny o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1. Relacje do bieżących proj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2. Relacje do wcześniejszych i następnych proj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3. Funkcje i ce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4. Ustalenia dotyczące środowi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5. Relacje do innych system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6. Ogólne ogranic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7. Opis mode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.... cd. na następnym slajdz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9360" y="1447920"/>
            <a:ext cx="17107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formac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rganiz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17600" y="1522440"/>
            <a:ext cx="555840" cy="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00" y="3159000"/>
            <a:ext cx="142740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ad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wart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ku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17600" y="3368520"/>
            <a:ext cx="555840" cy="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2920" y="4805280"/>
            <a:ext cx="275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N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ANSI/IEEE Std 830-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ecommended Practice for Software Requirements Specification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okument wymagań na oprogramowanie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12720" y="801720"/>
            <a:ext cx="6159600" cy="5306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....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oprzedni slaj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3. Specyficzne wymagania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en rozdział może być podzielony na wiele rozdziałów zgodnie z podziałem funkcj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1. Wymagania dotyczące funkcj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2. Wymagania dotyczące wydaj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3. Wymagania dotyczące zewnętrznych interfejs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4. Wymagania dotyczące wykonywanych oper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5. Wymagania dotyczące wymaganych zasob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6. Wymagania dotyczące sposobów weryfik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7. Wymagania dotyczące sposobów test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8. Wymagania dotyczące dokument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9. Wymagania dotyczące ochr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10. Wymagania dotyczące przenoś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11. Wymagania dotyczące jak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12. Wymagania dotyczące niezawo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13. Wymagania dotyczące pielęgnacyj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3.14. Wymagania dotyczące bezpieczeństw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odatki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o, co nie zmieściło się w powyższych punkt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480" y="6192720"/>
            <a:ext cx="81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akość, styl oraz odpowiedzialność - podobnie jak dla wymagań użytkow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63400" y="851040"/>
            <a:ext cx="2919600" cy="717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lan zapewnienia jakości dla fazy analiz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2560" y="853920"/>
            <a:ext cx="279900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lan dotyczy wymagań odnośn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osobów wer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osobów test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ak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iezawod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ielęgnacyj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ezpieczeńst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andard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84480" y="849240"/>
            <a:ext cx="4538880" cy="717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43520" y="853920"/>
            <a:ext cx="474012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lan powinien zakładać monitorowanie następujących aktywn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rządz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kumentowanie (jakość dokumenta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andardy, praktyki, konwencje i metry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glądy i audy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sto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aporty problemów i akcje korek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rzędzia, techniki i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trolowanie wytwarzanego kodu i medi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ntrolowanie dost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ielęgnowanie i utrzymywanie kolekcji zapis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zko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rządzanie ryzyk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9920" y="1969920"/>
            <a:ext cx="353880" cy="3081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79920" y="231300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9920" y="266868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79920" y="302112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79920" y="413712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79920" y="1562040"/>
            <a:ext cx="353880" cy="3081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79920" y="478800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79920" y="518004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0120" y="1601640"/>
            <a:ext cx="354240" cy="308160"/>
          </a:xfrm>
          <a:custGeom>
            <a:avLst/>
            <a:gdLst>
              <a:gd name="textAreaLeft" fmla="*/ 145800 w 354240"/>
              <a:gd name="textAreaRight" fmla="*/ 208440 w 35424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79920" y="5832360"/>
            <a:ext cx="353880" cy="30816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79920" y="621036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79920" y="3408480"/>
            <a:ext cx="353880" cy="307800"/>
          </a:xfrm>
          <a:custGeom>
            <a:avLst/>
            <a:gdLst>
              <a:gd name="textAreaLeft" fmla="*/ 145800 w 353880"/>
              <a:gd name="textAreaRight" fmla="*/ 208080 w 35388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120" y="2298600"/>
            <a:ext cx="354240" cy="308160"/>
          </a:xfrm>
          <a:custGeom>
            <a:avLst/>
            <a:gdLst>
              <a:gd name="textAreaLeft" fmla="*/ 145800 w 354240"/>
              <a:gd name="textAreaRight" fmla="*/ 208440 w 35424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0120" y="2660760"/>
            <a:ext cx="354240" cy="307800"/>
          </a:xfrm>
          <a:custGeom>
            <a:avLst/>
            <a:gdLst>
              <a:gd name="textAreaLeft" fmla="*/ 145800 w 354240"/>
              <a:gd name="textAreaRight" fmla="*/ 208440 w 35424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0120" y="3022560"/>
            <a:ext cx="354240" cy="308160"/>
          </a:xfrm>
          <a:custGeom>
            <a:avLst/>
            <a:gdLst>
              <a:gd name="textAreaLeft" fmla="*/ 145800 w 354240"/>
              <a:gd name="textAreaRight" fmla="*/ 208440 w 35424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0120" y="3387600"/>
            <a:ext cx="354240" cy="308160"/>
          </a:xfrm>
          <a:custGeom>
            <a:avLst/>
            <a:gdLst>
              <a:gd name="textAreaLeft" fmla="*/ 145800 w 354240"/>
              <a:gd name="textAreaRight" fmla="*/ 208440 w 35424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0120" y="3762360"/>
            <a:ext cx="354240" cy="308160"/>
          </a:xfrm>
          <a:custGeom>
            <a:avLst/>
            <a:gdLst>
              <a:gd name="textAreaLeft" fmla="*/ 145800 w 354240"/>
              <a:gd name="textAreaRight" fmla="*/ 208440 w 354240"/>
              <a:gd name="textAreaTop" fmla="*/ 127080 h 308160"/>
              <a:gd name="textAreaBottom" fmla="*/ 181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0120" y="1940040"/>
            <a:ext cx="354240" cy="307800"/>
          </a:xfrm>
          <a:custGeom>
            <a:avLst/>
            <a:gdLst>
              <a:gd name="textAreaLeft" fmla="*/ 145800 w 354240"/>
              <a:gd name="textAreaRight" fmla="*/ 208440 w 354240"/>
              <a:gd name="textAreaTop" fmla="*/ 126720 h 307800"/>
              <a:gd name="textAreaBottom" fmla="*/ 181080 h 30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luczowe czynniki sukcesu fazy analiz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1295280"/>
            <a:ext cx="838188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angażowanie właściwych osób ze strony kli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ompleksowe i całościowe podejście do problemu,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koncentrowanie się na partykularnych jego aspekt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ie unikanie trudnych problemó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ezpieczeństwo, skalowalność, szacunki objętości i przyrostu danych, i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chowanie przyjętych standardów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. w zakresie not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prawdzenie poprawności i wzajemnej spójności mod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jrzystość, logiczny układ i spójność dokument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4197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38098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9051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86380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2952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49528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dstawowe rezultaty fazy analiz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1295280"/>
            <a:ext cx="83059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prawiony dokument opisujący wymag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łownik danych zawierający specyfikację mod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kument opisujący stworzony model, zawier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iagram k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iagram przypadków uży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iagramy sekwencji komunikatów (dla wybranych sytua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iagramy stanów (dla wybranych sytua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aport zawierający definicje i opisy klas, atrybutów, związk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od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armonogram fazy projekt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stępne przypisanie ludzi i zespołów do zada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4848120"/>
            <a:ext cx="388800" cy="412920"/>
          </a:xfrm>
          <a:custGeom>
            <a:avLst/>
            <a:gdLst>
              <a:gd name="textAreaLeft" fmla="*/ 160200 w 388800"/>
              <a:gd name="textAreaRight" fmla="*/ 228600 w 38880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8120" y="1863720"/>
            <a:ext cx="388800" cy="412920"/>
          </a:xfrm>
          <a:custGeom>
            <a:avLst/>
            <a:gdLst>
              <a:gd name="textAreaLeft" fmla="*/ 160200 w 388800"/>
              <a:gd name="textAreaRight" fmla="*/ 228600 w 38880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8120" y="2441520"/>
            <a:ext cx="388800" cy="412920"/>
          </a:xfrm>
          <a:custGeom>
            <a:avLst/>
            <a:gdLst>
              <a:gd name="textAreaLeft" fmla="*/ 160200 w 388800"/>
              <a:gd name="textAreaRight" fmla="*/ 228600 w 38880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120" y="1330200"/>
            <a:ext cx="388800" cy="412920"/>
          </a:xfrm>
          <a:custGeom>
            <a:avLst/>
            <a:gdLst>
              <a:gd name="textAreaLeft" fmla="*/ 160200 w 388800"/>
              <a:gd name="textAreaRight" fmla="*/ 228600 w 38880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20" y="5381640"/>
            <a:ext cx="388800" cy="412560"/>
          </a:xfrm>
          <a:custGeom>
            <a:avLst/>
            <a:gdLst>
              <a:gd name="textAreaLeft" fmla="*/ 160200 w 388800"/>
              <a:gd name="textAreaRight" fmla="*/ 228600 w 38880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aza analiz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2200" y="2368440"/>
            <a:ext cx="85518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Celem fazy 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określenia wymagań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jest udzielenie odpowiedzi na pytan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Co i przy jakich ograniczeniach system ma robić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ynikiem tej fazy jest zbiór wymagań na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elem faz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naliz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jest ustalenie wszystkich tych czynników lub warunków w dziedzinie przedmiotowej, w otoczeniu realizatorów projektu, w istniejących lub planowanych systemach komputerowych, które mogą wpłynąć na decyzje projektowe, na przebieg procesu projektowego i na realizację wymagań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nikiem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logiczny model system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, opisujący sposób realizacji przez system postawionych wymagań, lecz abstrahujących od szczegółów implementac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W odróżnieniu, celem fazy 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projektowa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jest udzielenie odpowiedzi na pytan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Jak system ma być zaimplementowany? Wynikiem jest opis sposobu implement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7080" y="852480"/>
            <a:ext cx="8839080" cy="1349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925560"/>
            <a:ext cx="193572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Określenie wymaga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15640" y="925560"/>
            <a:ext cx="139032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Projekt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47520" y="925560"/>
            <a:ext cx="142056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Implement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69680" y="925560"/>
            <a:ext cx="115236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Test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21120" y="925560"/>
            <a:ext cx="12758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Konserw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5120" y="126828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21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073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768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13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91560" y="118728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640" y="15048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Faza strategi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7600" y="14810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Anal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08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180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7972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000" y="151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84400" y="1519200"/>
            <a:ext cx="12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94000" y="143820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79880" y="1506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Instal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6560" y="1440000"/>
            <a:ext cx="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521000"/>
            <a:ext cx="8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0240" y="1440000"/>
            <a:ext cx="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24080" y="179064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1871640"/>
            <a:ext cx="520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19960" y="1790640"/>
            <a:ext cx="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54480" y="18018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Dokument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90880" y="1533600"/>
            <a:ext cx="1212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920" y="239076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680" y="34876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920" y="564984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32520" y="3575160"/>
            <a:ext cx="3935160" cy="300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a27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11960" y="4141800"/>
            <a:ext cx="3176280" cy="227808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analityczn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360" y="944640"/>
            <a:ext cx="78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 reguły wykracza poza zakres odpowiedzialności systemu. Przyczy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8280" y="1639800"/>
            <a:ext cx="8505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jęcie w modelu pewnych elementów dziedziny problemu nie będących częścią systemu czyni model bardziej zrozumiałym. Przykładem jest ujęcie w modelu systemów zewnętrznych, z którymi system ma współpracow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 etapie modelowania może nie być jasne, które elementy modelu będą realizowane przez oprogramowanie, a które w sposób sprzętowy lub ręcz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stępne środki mogą nie pozwolić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realizację systemu w cał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elem analizy może być wykrycie t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ragmentów dziedziny problemu, któr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spomaganie za pomocą oprogramowa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ędzie szczególnie przydat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520" y="163656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520" y="28828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520" y="377496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8920" y="4745160"/>
            <a:ext cx="2683800" cy="1296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Zak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odpowiedzial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520" y="43578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Model analitycz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77880" y="37018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Dziedzina probl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5960" y="3019320"/>
            <a:ext cx="8523360" cy="1484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echy modelu analitycznego (logicznego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8960" y="958680"/>
            <a:ext cx="8555040" cy="54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proszczony opis system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Hierarchiczna dekompozycja funkcji system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del logiczny jest opisany przy pomocy notacji zgodnej z pewną konwencj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st on zbudowany przy użyciu dobrze rozpoznanych metod i narzędz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st on używany do wnioskowania o przyszłym oprogramowani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del oprogramowania powinien być jego uproszonym opisem, opisującym wszystkie istotne cechy oprogramowania na wysokim poziomie abstra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del ten jednakże  nie zastępuje doświadczenia i wnikliwości projektantów, lecz pomaga projektantom w zastosowaniu tych walo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Logiczny model oprogramow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kazuje co system musi robi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est zorganizowany hierarchicznie, wg poziomów abstra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nika terminologii implementacyj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zwala na wnioskowanie „od przyczyny do skutku” i odwrot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440" y="96840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440" y="136224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440" y="178740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440" y="258768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440" y="22003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zynności w fazie analiz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7680" y="1300320"/>
            <a:ext cx="862632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Aft>
                <a:spcPts val="125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ozpoznanie, wyjaśnianie, modelowanie, specyfikowanie i dokumentowanie rzeczywistości lub problemu będącego przedmiotem projektu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Ustalenie kontekstu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Ustalenie wymagań użytkownik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Ustalenie wymagań organizacyj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25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ne ustalenia, np. dotyczące preferencji sprzętowych, preferencji w zakresie oprogramowania, ograniczeń finansowych, ograniczeń czasowych, it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120" y="4476600"/>
            <a:ext cx="8894880" cy="130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sadzie analiza nie powinna stawiać nacisku na zmianę rzeczywistości poprzez wprowadzenie tam nowych elementów np. w postaci systemu komputerowego. Jej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elem jest rozpozna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szystkich tych aspektów rzeczywistości, które mogłyby mieć wpływ na postać, organizację lub wynik projek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600" y="24922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600" y="129240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600" y="206064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600" y="296244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600" y="34606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ematy i techniki analiz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1360" y="1143000"/>
            <a:ext cx="6820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udowa statycznego modelu k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naliza funkcji i przypadków uży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eryfikacja klas i obiek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dentyfikacja i definiowanie metod oraz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owanie stanów i przejść między sta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owanie procesów i przepływów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elowanie przepływu ster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28600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8954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765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49568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962520"/>
            <a:ext cx="399960" cy="412560"/>
          </a:xfrm>
          <a:custGeom>
            <a:avLst/>
            <a:gdLst>
              <a:gd name="textAreaLeft" fmla="*/ 164880 w 399960"/>
              <a:gd name="textAreaRight" fmla="*/ 235080 w 399960"/>
              <a:gd name="textAreaTop" fmla="*/ 169920 h 412560"/>
              <a:gd name="textAreaBottom" fmla="*/ 24264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14300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42900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5029200"/>
            <a:ext cx="399960" cy="412920"/>
          </a:xfrm>
          <a:custGeom>
            <a:avLst/>
            <a:gdLst>
              <a:gd name="textAreaLeft" fmla="*/ 164880 w 399960"/>
              <a:gd name="textAreaRight" fmla="*/ 235080 w 399960"/>
              <a:gd name="textAreaTop" fmla="*/ 170280 h 412920"/>
              <a:gd name="textAreaBottom" fmla="*/ 2426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" y="5562720"/>
            <a:ext cx="8550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iele tych technik było omówionych podczas prezentacji metodyki OM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ymagania na oprogramowani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960560"/>
            <a:ext cx="28494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unkcji syst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dajności syst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ewnętrznych interfejs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konywanych 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ych zasob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osobów wer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posobów test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0040" y="873000"/>
            <a:ext cx="8913960" cy="70380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trakcie analizy wymagania użytkownika są przekształcane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wymagania na oprogramowanie. M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gą one dotyczy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9080" y="1960560"/>
            <a:ext cx="190584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okum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chr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noś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Jak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iezawod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ielęgnacyj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ezpieczeńst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0040" y="5276880"/>
            <a:ext cx="8913960" cy="1008720"/>
          </a:xfrm>
          <a:prstGeom prst="rect">
            <a:avLst/>
          </a:prstGeom>
          <a:solidFill>
            <a:srgbClr val="fcfeb9"/>
          </a:solidFill>
          <a:ln w="12600">
            <a:solidFill>
              <a:srgbClr val="2f6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powinny być zorganizowane hierarchicz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ia niefunkcjonalne powinny być skojarzone z wymaganiami funkcjonalnymi (np. poprzez wzajemne odsyłacz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200" y="2052720"/>
            <a:ext cx="273240" cy="2509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200" y="2886120"/>
            <a:ext cx="273240" cy="2509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000" y="416880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4800" y="4191120"/>
            <a:ext cx="273240" cy="2505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03320 h 250560"/>
              <a:gd name="textAreaBottom" fmla="*/ 147240 h 25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3360" y="4640400"/>
            <a:ext cx="272880" cy="25056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560"/>
              <a:gd name="textAreaBottom" fmla="*/ 147240 h 25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3360" y="376236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1200" y="4608360"/>
            <a:ext cx="273240" cy="2509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3360" y="206856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3360" y="248112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13360" y="333216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14800" y="2917800"/>
            <a:ext cx="273240" cy="2509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000" y="246060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000" y="330516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000" y="3730680"/>
            <a:ext cx="272880" cy="2509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03320 h 250920"/>
              <a:gd name="textAreaBottom" fmla="*/ 14760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Reguły modelu logicznego opartego na funkcja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880" y="847800"/>
            <a:ext cx="865512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unkcje muszą mieć pojedyncze, zdefiniowane c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Funkcje powinny być zdefiniowane na tym samym poziomi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np. funkcja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Oblicz Sumę Kontroln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jest niższego poziomu niż funkcja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Obsługa Protokołu Siecioweg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nterfejsy do funkcji (wejście i wyjście) powinny być minimalne. Pozwala to na łatwiejsze oddzielenie poszczególnych fun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y dekompozycji funkcji należy trzymać się zasady „nie więcej niż 7 funkcji podrzędnych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pis funkcji nie powinien odwoływać się do pojęć i terminów implementacyjnych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takich jak plik, zapis, zadanie, moduł, stacja roboc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leży podawać wskaźniki wydajnościowe funkc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szybkość, częstość, itd)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wszędzie tam, gdzie jest to możli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winny być zidentyfikowane funkcje krytyczn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od których zależy istota system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zwy funkcji powinny odzwierciedlać ich cel i mówić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 CE"/>
              </a:rPr>
              <a:t>c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ma być zrobione, a nie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 CE"/>
              </a:rPr>
              <a:t>jak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ma być zrob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Nazwy funkcji powinny mieć charakter deklaracyj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np.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Walidacja Zlecenia Zewnętrznego),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a nie procedural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(np.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</a:rPr>
              <a:t>Czynności Systemu po Otrzymaniu Zlece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840" y="91908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4840" y="134460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840" y="345132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4840" y="2021040"/>
            <a:ext cx="250920" cy="30132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320"/>
              <a:gd name="textAreaBottom" fmla="*/ 177120 h 30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4840" y="2741760"/>
            <a:ext cx="250920" cy="30132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320"/>
              <a:gd name="textAreaBottom" fmla="*/ 177120 h 30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840" y="409896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840" y="482112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840" y="525780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840" y="5931000"/>
            <a:ext cx="250920" cy="301680"/>
          </a:xfrm>
          <a:custGeom>
            <a:avLst/>
            <a:gdLst>
              <a:gd name="textAreaLeft" fmla="*/ 103320 w 250920"/>
              <a:gd name="textAreaRight" fmla="*/ 147600 w 25092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22:00:54Z</dcterms:created>
  <dc:creator>K. Subieta, IPI PAN, PJWSTK</dc:creator>
  <dc:description/>
  <dc:language>en-US</dc:language>
  <cp:lastModifiedBy>subieta</cp:lastModifiedBy>
  <dcterms:modified xsi:type="dcterms:W3CDTF">2000-05-05T19:21:45Z</dcterms:modified>
  <cp:revision>101</cp:revision>
  <dc:subject>Wyklad 4. Faza analizy i projektowania (1)</dc:subject>
  <dc:title>Wytwarzanie, integracja i testowanie SI</dc:title>
</cp:coreProperties>
</file>