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16800"/>
            <a:ext cx="9144000" cy="24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K.Subieta. Budowa i integracja SI, Wykład 15, Folia </a:t>
            </a:r>
            <a:fld id="{4E74875B-4373-4B86-BA32-F0DA7BC5913A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088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27720" y="657864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 CE"/>
              </a:rPr>
              <a:t>listopad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839880"/>
            <a:ext cx="7390080" cy="5854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79520" y="272880"/>
            <a:ext cx="686448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Budowa i integracja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ystemów informacyjny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7560" y="2637000"/>
            <a:ext cx="279036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ykład 15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Zarządza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nfiguracj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i wersj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program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89160" y="4797360"/>
            <a:ext cx="284544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Kazimierz Subie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olsko-Japońska Wyższa Szkoł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Technik Komputerowych, 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Instytut Podstaw Informatyki PA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Ipi-logo" descr=""/>
          <p:cNvPicPr/>
          <p:nvPr/>
        </p:nvPicPr>
        <p:blipFill>
          <a:blip r:embed="rId2"/>
          <a:stretch/>
        </p:blipFill>
        <p:spPr>
          <a:xfrm>
            <a:off x="3929040" y="5878440"/>
            <a:ext cx="987480" cy="520920"/>
          </a:xfrm>
          <a:prstGeom prst="rect">
            <a:avLst/>
          </a:prstGeom>
          <a:ln w="0">
            <a:noFill/>
          </a:ln>
        </p:spPr>
      </p:pic>
      <p:pic>
        <p:nvPicPr>
          <p:cNvPr id="46" name="pojalogo" descr=""/>
          <p:cNvPicPr/>
          <p:nvPr/>
        </p:nvPicPr>
        <p:blipFill>
          <a:blip r:embed="rId3"/>
          <a:stretch/>
        </p:blipFill>
        <p:spPr>
          <a:xfrm>
            <a:off x="4086360" y="5116680"/>
            <a:ext cx="671400" cy="6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Konwencja identyfikacji konfiguracj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5960" y="934920"/>
            <a:ext cx="8798040" cy="8254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ierwszym krokiem w stworzeniu systemu zarządzania konfiguracją oprogramowania jest stworzenie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konwencji identyfika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9640" y="1798560"/>
            <a:ext cx="8334360" cy="48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onwencja identyfikacji jest zbiorem stringów, zwykle złożonym z liter, cyfr i znaków kropki, /, -, itd. umożliwiająca jednoznaczne oznaczenie dowolnej pozycji konfigurac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onwencja powinna odzwierciedlać hierarchiczną strukturę pozycji konfiguracji, rodzaj pozycji i/lub przypisanie pozycji do projektu. Konwencja powinna odzwierciedlać przyjęte w danej firmie formularze, dokumenty i ko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p. SME/ANA/DW 3.2 oznacza: projekt oznaczony jako SME, pakiet prac (zadanie) oznaczony ANA, DW oznacza dokument wymagań, 3-cia wersja,    2-ga rewizj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onwencja identyfikacji powin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stalać jak należy nazywać pozycje konfigurac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kreślać kto jest odpowiedzialny za nazwanie danej pozycji konfigurac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dwzorowywać (w miarę możności) historię danej pozycji konfigu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040" y="500076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040" y="186372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040" y="394020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040" y="290664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78000" y="574560"/>
            <a:ext cx="2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identification 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Co należy identyfikować jako PK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3680" y="960480"/>
            <a:ext cx="8680320" cy="59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 górnym poziomie cały system/projekt jest PK; powinien on otrzymać unikalny identyfikator. System/projekt składa się z PK niższego rzędu; zwykle ich identyfikatory są poprzedzone identyfikatorem PK wyższego rzęd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K danego projektu może włączać PK innych projektów; w tym przypadku identyfikacja „obcych” PK nie ulega zmia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 dolnym poziomie znajdują się atomowe PK, np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szczególne dokumenty analityczne i projektow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jednostki kodu źródłowego i wynikowego (pliki kodu, pliki nagłówkowe, itd.) traktowane jako niepodzielne przez oprogramowanie narzędziowe (np. kompila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K mogą odzwierciedlać podział projektu na zad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onfiguracje muszą być praktyczne z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 CE"/>
              </a:rPr>
              <a:t>fizyczneg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punktu widzenia (t.j. muszą być łatwe do tworzenia, kopiowania, modyfikacji i usuwania) oraz muszą być naturalne z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 CE"/>
              </a:rPr>
              <a:t>logiczneg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punktu widzenia (tj. ich cel musi być łatwy do zrozumien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tomowe PK muszą mieć odpowiedni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 CE"/>
              </a:rPr>
              <a:t>ziarnisto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: zbyt duże są trudne do manipulowania, zbyt małe powodują nadmierne rozdrobnienie i w konsekwencji trudności w utrzymaniu i zarządzaniu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360" y="457848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360" y="103500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360" y="413712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360" y="278460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360" y="207792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4360" y="562140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Jak identyfikować pozycję konfiguracji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1480" y="811080"/>
            <a:ext cx="8642520" cy="56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dentyfikator powinien zawierać nazwę, typ i wersję PK. Nowy identyfikator nie może implikować konieczności zmiany poprzednich identyfikator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obre identyfikatory pozwalają na szybkie zorientowanie się o jaką PK chodzi i na łatwe jej odszukanie. Dokumenty powinny mieć standardowe nazwy. Identyfikatory kodu powinny uwzględniać jego jego hierarchiczną budow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dentyfikator powinien uwzględniać również typ PK. Trzy podstawowe typ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źródłowa PK (np. tekst programu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chodna PK (np. binarny kod programu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rzędzie dla generowania pochodnej PK ze źródłowej PK (np. kompilat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szelkie poprawki powinny być dokonywane na wersji źródłowej. Poprawki na wersji wygenerowanej są niedopuszczal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dentyfikatory powinny być wyposażone w numery wersji i rewizji. Każda, nawet najmniejsza zmiana powoduje powstanie nowej pozycji z nowym identyfikator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iektóre schematy zarządzania konfiguracją rozróżniają „wersje” i „rewizje”. Rewizje dotyczą drobnych zmian, np. usunięcia błędu. W tym przypadku numer (oznaczenie) wersji składa się z dwóch członów: wersji i rewizji, np, „wersja 5.4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1080" y="472752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520" y="87300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1080" y="397836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1080" y="263520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520" y="160812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1080" y="545940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dpowiedzialność za pozycje konfiguracj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520" y="720720"/>
            <a:ext cx="8556480" cy="62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rzy poziomy odpowiedzialn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utor kodu (programista) lub dokumentac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ierownik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ciało kontrolno-rewizyj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uże projekty mogą posiadać więcej poziomów, zgodnie z fazami kontroli i weryfikacji oprogramow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ierownik projektu jest odpowiedzialny za połączenie PK niższego poziomu (kod, dokumentacja) w PK wyższego poziomu (konfiguracj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K niższego poziomu są przechowywane w bibliotece/repozytorium. Kierownik projektu jest odpowiedzialny za udokumentowanie PK wyższego poziomu. Dobre repozytorium powinno także przechowywać informację o PK wyższego pozio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la celów większych projektów konieczne jest powołanie funkcji lub stanowiska </a:t>
            </a:r>
            <a:r>
              <a:rPr b="0" i="1" lang="pl-PL" sz="2000" spc="-1" strike="noStrike" u="sng">
                <a:solidFill>
                  <a:srgbClr val="000000"/>
                </a:solidFill>
                <a:uFillTx/>
                <a:latin typeface="Times New Roman CE"/>
              </a:rPr>
              <a:t>bibliotekarza oprogramowa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Ciało kontrolno-rewizyjne aprobuje produkty bazowe i zmiany do produktów bazowych. Ciało to może składać się z kierownika projektu, przedstawiciela klienta, przedstawiciela zarządu firmy, bibliotekarza oprogramowania, personelu zarządzania jakością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0960" y="465300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0960" y="82404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2760" y="360684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0960" y="288288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0960" y="216540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0960" y="539748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790560"/>
            <a:ext cx="9144000" cy="692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zechowywanie pozycji konfiguracj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0040" y="785880"/>
            <a:ext cx="8642520" cy="65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Wszystkie pozycje konfiguracji muszą być przechowywane w sposób bezpieczny, systematyczny i dobrze zorganizowany - jak książki w bibliote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ystem przechowywania PK musi dotyczyć wszystkich mediów - elektronicznych,  papierowych i in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winien istnieć system ewidencji i rejestracji zależności pomiędzy pozycjami konfiguracji. Dobrze zorganizowany system powinien być oparty na bazie danych oraz integrować informacje o PK z samymi (elektronicznymi) P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ystem powinien także rejestrować i przechowywać wszelkie dokumenty administracyjne związane z projektami oprogramowania, takie jak raporty etapowe i końcowe, zlecenia, raporty zaistniałych problemów, raporty z testów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okumenty administracyjne powinny być powiązane z pozycjami konfiguracji w taki sposób, aby można było prześledzić ich historię oraz związki przyczynowo-skutkowe pomiędzy dokumentami i pozycjami konfigurac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Rodzaje bibliotek konfiguracji oprogramow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iblioteki związane z bieżącym rozwojem oprogramowan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iblioteki ukończonych (bazowych) produktów programistycznyc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rchiwa (przechowywanie nieaktualnych kodów i dokumentó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9000" y="440532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9000" y="333216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9000" y="232560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9000" y="159552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9000" y="543384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Biblioteki/repozytoria pozycji konfiguracj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1480" y="912960"/>
            <a:ext cx="8642520" cy="56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obrze zorganizowana biblioteka/repozytorium PK jest cechą fundamentalną dla zarządzania konfiguracjami oprogramow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iblioteka powinna umożliwiać łatwe odszukanie, odczytanie, wstawienie, zastąpienie i usuwanie dowolnych pozycji konfigu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Kluczową cechą biblioteki jest bezpieczeństwo i autoryzowany dostę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minimalizowanie prawdopodobieństwa nieautoryzowanego dostęp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ecyzyjne określenie praw dostępu poszczególnych uczestników projektó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niemożliwienie jednoczesnej aktualizacji tej samej PK przez dwie osob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niemożliwienie zmiany pozycji konfiguracji będących produktami bazowym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minimum możliwości zniszczenia biblioteki poprzez awarię, błąd lub sabota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westie bezpieczeństwa nie powinny powodować: niewygody w pracy użytkowników, zwiększenia czasów dostępu, istotnych nakładów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Wszystkie PK, elektroniczne i papierowe, muszą mieć etykietę zawierając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zwę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dentyfikator pozycji konfigurac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atę wprowadzenia do repozytori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rótki opis lub charakterystykę zawartości P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1080" y="96048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246204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1080" y="168120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499284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Kontrolowanie zmian konfiguracj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332000"/>
            <a:ext cx="8642520" cy="45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miany są rzeczą normalną podczas rozwoju i ewolucji systemu. Dobre zarządzanie zmianami jest esencją dobrego zarządzania konfiguracj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miany nie powinny prowadzić do utraty informacji. Wszystkie przestarzałe dokumenty (elektroniczne i papierowe) powinny być archiwizow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soba odpowiedzialna za zmiany (np. kierownik projektu) koordynuje ich wprowadze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Repozytorium powinno utrzymywać odpowiednie powiązania pomiędzy PK w taki sposób, aby było wiadomo, że zmiana jednej PK pociąga za sobą zmianę innych PK. Np. zmiana kodu może pociągać za sobą zmianę dokumentacji projektowej, dokumentacji użytkownika, planu testów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miany powinny być zweryfikowane przed wprowadzeniem następnych zmian. Podstawą zmian są odpowiednie dokumenty: formularz zmian w oprogramowaniu oraz formularz zmian w dokumentac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8120" y="137952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8120" y="288144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8120" y="210024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8120" y="491652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8120" y="359712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kreślanie statusu konfiguracj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1480" y="849240"/>
            <a:ext cx="86425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Jest to zapisywanie informacji i sporządzanie raportów niezbędnych do efektywnego zarządzania konfiguracjami, włączając listowanie identyfikatorów wszystkich zatwierdzonych pozycji, statusu wszystkich proponowanych zmian do konfiguracji oraz statusu implementacji proponowanych zmi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tatus wszystkich pozycji konfiguracji musi być zapamiętany. Istotne jest przede wszystkim zapis stanu pozycji baz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 tablicy na następnym slajdzie pokazano rozwój oprogramowania zgodnie z produktami bazowymi (kamieniami milowymi); każda kolumna tablicy odpowiada pewnej fazie życia oprogramowania. Elementy tablicy przedstawiają pozycje konfiguracji, ich wersje i rewiz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ablica taka jest dokumentem przedstawiającym status konfiguracji. Możliwe są inne formy dokumentowania statusu, o ile są one łatwe do manipulowania i czyt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tatus konfiguracji powinien być aktualizowany na bieżąco i powinien być na bieżąco dostępny dla wszystkich członków zespołu projektowego. Jeżeli program działał poprzedniego dnia, a dzisiaj nie działa, pierwszym pytaniem jest: "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co zostało zmienione?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9000" y="89676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9000" y="540216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9000" y="228456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9000" y="434196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9000" y="300528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zykład tablicy statusu konfiguracj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7960" y="5450040"/>
            <a:ext cx="431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 CE"/>
              </a:rPr>
              <a:t>PZPO - Plan Zarządzania Projektem Oprogramow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 CE"/>
              </a:rPr>
              <a:t>PZKO - Plan Zarządzania Konfiguracją Oprogramow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 CE"/>
              </a:rPr>
              <a:t>PWWO - Plan Weryfikacji i Walidacji Oprogramow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 CE"/>
              </a:rPr>
              <a:t>PZJO - Plan Zapewnienia Jakości Oprogramow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53320" y="5450040"/>
            <a:ext cx="383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 CE"/>
              </a:rPr>
              <a:t>DWU - Dokument Wymagań Użytkown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 CE"/>
              </a:rPr>
              <a:t>DWO - Dokument Wymagań na Oprogramowan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 CE"/>
              </a:rPr>
              <a:t>DAP - Dokumentacja Analityczno-Projekt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 CE"/>
              </a:rPr>
              <a:t>DDP - Detaliczny Dokument Projekto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 CE"/>
              </a:rPr>
              <a:t>DIO - Dokument Instalacji Oprogramow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974880" y="868320"/>
          <a:ext cx="7210440" cy="465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868320"/>
                    <a:ext cx="72104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Recenzje (przeglądy) dokumentó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1480" y="1181160"/>
            <a:ext cx="864252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okumenty opisujące elementy projektu lub dokumentacja użytkowa powinna podlegać recenzjom (przeglądo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 zależności od charakteru dokumentu, recenzenci mogą rekrutować się z wewnątrz lub z zewnątrz zespołu projekt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daniem recenzenta jest znalezienie możliwie największej liczby defek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Recenzent przedstawia wynik w postaci dokumentu, gdzie zapisu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dentyfikator P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Lokalizację defektu (PK niższego poziomu, nr strony, nr wiersza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pis defek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Możliwy sposób usunięcia defektu (rozwiązania problemu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 recenzji (recenzjach) następuje spotkanie wszystkich zainteresowanych stron, gdzie po dyskusji podejmuje się decyzję o zmianach w dokumentach lub o ich zatwierdzeni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okumenty podlegają określaniu statusu na podanych wcześniej zasad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7840" y="122868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7840" y="273060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7840" y="194940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7840" y="476568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7840" y="344664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7840" y="582120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38320"/>
            <a:ext cx="9144000" cy="13237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562720"/>
            <a:ext cx="9144000" cy="6807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rządzanie konfiguracją oprogramowania, ZK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6840" y="627120"/>
            <a:ext cx="40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software configuration management, S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7040" y="1160640"/>
            <a:ext cx="861696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Celem zarządzania konfiguracją oprogramowania jest planowanie, organizowanie, sterowanie i koordynowanie działań mających na celu identyfikację, przechowywanie i zmiany oprogramowania w trakcie jego rozwoju, integracji i przekazania do uży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Każdy projekt musi podlegać konfiguracji oprogramowania. Ma ono krytyczny wpływ na jakość końcowego produktu. Jest niezbędne dla efektywnego rozwoju oprogramowania i jego późniejszej pielęgnacyjnoś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KO jest szczególnie ważne, jeżeli projekt może toczyć się przez wiele lat, jeżeli cel lub wymagania na oprogramowanie są niestabilne, jeżeli oprogramowanie może mieć wielu użytkowników, i/lub jeżeli oprogramowanie jest przewidziane na wiele platform sprzętowo-program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W takich sytuacjach złe zarządzanie konfiguracją oprogramowania może całkowicie sparaliżować projek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952560"/>
            <a:ext cx="9144000" cy="11383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ydanie (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publikowanie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00520" y="4381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rel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0040" y="1054080"/>
            <a:ext cx="8642520" cy="53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Każda pozycja konfiguracji (zwykle cały projekt, ale niekoniecznie), która jest zakończona i oficjalnie przekazana na zewnątrz (zwykle na zewnątrz firmy wytwórcy oprogramowania), jest określana jako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 CE"/>
              </a:rPr>
              <a:t>wydanie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 (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 CE"/>
              </a:rPr>
              <a:t>release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dania muszą być odpowiednio opisane, udokumentowane i zaaprobowane na poziomie kierownictwa projektu, kierownictwa firmy oraz klien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zycje konfiguracji będące wydaniami muszą być wyraźnie oznaczone i "zamrożone" w bibliotece/repozytorium konfiguracji. Identyfikacja i rejestracja wydań powinna być zgodna z konwencją identyfikacji. Np. konfiguracja oznaczona SME 1.0 może nie być wydaniem, jest nim np. konfiguracja SME 1.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 poziomie firmy wytwórcy oprogramowania wszystkie składniki wydania (włączając dokumenty analityczne, plany, kody źródłowe, dokumenty wewnętrzne, dokumentacja testowa, itd.) muszą być przechowywane jako składniki wydania. Zwykle tylko pewna cześć z tych pozycji konfiguracji jest przekazana na zewnątrz (np. wynikowy kod programu plus dokumentacja). Pozycje konfiguracji przekazane na zewnątrz jako składniki wydania powinny być odnotowane w bibliotece/repozytorium konfigu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" y="216864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3680" y="425592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5120" y="291132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lan Zarządzania Konfiguracją Oprogramowan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1480" y="825480"/>
            <a:ext cx="8642520" cy="56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szystkie aktywności związane z zarządzaniem konfiguracją oprogramowania dla danego projektu lub jego fazy powinny być przewidziane w Planie Zarządzania Konfiguracją Oprogramowania (PZK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owe sekcje PZKO muszą pojawiać się w miarę przystępowania do kolejnych faz rozwoju oprogramowania. Każda sekcja powinna dokumentować wszystkie aktywności związane z konfiguracja oprogramowania, w szczególn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rganizację zarządzania konfiguracjam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ocedury do identyfikacji konfigurac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ocedury do kontroli zmi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ocedury do rejestrowania statusu konfigurac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rzędzia, techniki i metody dla zarządzania konfiguracjam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ocedury do kontrolowania dostawcó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ocedury do gromadzenia i zachowywania zapisów dotyczących konfigu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ocedury zarządzania konfiguracją powinny być ustanowione przed rozpoczęciem produkcji kodu i dokument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 miarę możności PZKO powinien przewidywać pozycje konfiguracji (będące rezultatem danej fazy rozwoju) oraz ustalać ich identyfikacje i odpowiedzialn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7840" y="87300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7840" y="195408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7840" y="512604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7840" y="582300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wartość PZKO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Wg normy ANSI/IEEE Std 828-1990)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4400" y="785880"/>
            <a:ext cx="6159600" cy="119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 - Streszczenie (maksymalnie 200 słó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 - Spis tre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 - Status dokumentu (autorzy, firmy, daty, podpisy, it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 - Zmiany w stosunku do wersji poprzedni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9360" y="939960"/>
            <a:ext cx="171072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nformac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rganizacyj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84400" y="1990800"/>
            <a:ext cx="6159600" cy="43311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1. Wprowadz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1 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2 Zak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3 Słownik terminów, akronimów i skró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4 Odsyłac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. Zarządz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1 Organiz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2 Odpowiedzialności w zakresie Z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3 Zarządzanie interfejsami zewnętrzny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4 Implementacja PZ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5 Stosowane strategie, zalecenia i proced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3. Identyfikacja konfigur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3.1 Konwenc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3.2 Produkty bazo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..... c.d. na następnej stronie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17600" y="1290600"/>
            <a:ext cx="555840" cy="0"/>
          </a:xfrm>
          <a:prstGeom prst="line">
            <a:avLst/>
          </a:prstGeom>
          <a:ln w="7632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0800" y="2104920"/>
            <a:ext cx="142740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sadni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wart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okumen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17600" y="2608200"/>
            <a:ext cx="555840" cy="0"/>
          </a:xfrm>
          <a:prstGeom prst="line">
            <a:avLst/>
          </a:prstGeom>
          <a:ln w="7632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wartość PZKO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84400" y="911160"/>
            <a:ext cx="6159600" cy="4087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..... c.d. z poprzedniej stro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4. Kontrola konfigur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4.1 Kontrola kodu i dokument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4.2 Kontrola medi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4.3 Kontrola zm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4.3.1 Poziomy autoryzacji zm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4.3.2 Procedury zm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4.3.3 Ciało (rada, komisja) przeglądo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4.3.4 Kontrola interfejs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4.3.5 Procedury zmian oprogramowania obceg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5. Rejestracja statusu konfigur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6. Narzędzia, techniki i metody dla Z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7. Kontrola dostawc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8. Gromadzenie i przechowywanie zapis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7000" y="1025640"/>
            <a:ext cx="193788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sadni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wart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okumentu, c.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17600" y="1528920"/>
            <a:ext cx="555840" cy="0"/>
          </a:xfrm>
          <a:prstGeom prst="line">
            <a:avLst/>
          </a:prstGeom>
          <a:ln w="7632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6000" y="5340240"/>
            <a:ext cx="885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umeracja punktów nie powinna być zmieniana. Jeżeli pewien punkt nie ma treści, powinna tam znajdować się informacja „Nie dotyczy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nformacje nie mieszczące się w tym spisie treści powinny być zawarte w dodatk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952560"/>
            <a:ext cx="9144000" cy="3459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665360"/>
            <a:ext cx="9144000" cy="3459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992320"/>
            <a:ext cx="9144000" cy="3463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998880"/>
            <a:ext cx="9144000" cy="3459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018040"/>
            <a:ext cx="9144000" cy="3459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mówienie zawartości PZKO 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2640" y="971640"/>
            <a:ext cx="8631360" cy="56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1 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rótko omawia cel PZKO (do czego i dla kogo jest przeznaczon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2 Zak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śla z grubsza pozycje konfiguracji będące przedmiotem zarządzania, aktywności związane z konfiguracją, organizacje (zespoły projektowe) do których plan ma zastosowanie, oraz fazę cyklu życiowego, której plan dotyc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4 Odsyłac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iera listę wszystkich związanych dokumentów, identyfikowanych przez tytuł, autorów, daty, numery, sygnatury,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. Zarządz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ekcja ta opisuje organizację zarządzania konfiguracją oraz związane z tym odpowiedzialności oraz r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2.1. Organiz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dsekcja ta identyfikuje role organizacyjne, które mogą wpłynąć na funkcje ZKO, np. menedżerów projektów, programistów, personel zapewnienia jakości, ciała przeglądowe, rewizyjne i akceptacyjne. Opisuje także związki pomiędzy rolami oraz interfejsy z organizacjami klienta/użytkowni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779400"/>
            <a:ext cx="9144000" cy="3459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479680"/>
            <a:ext cx="9144000" cy="3459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913200"/>
            <a:ext cx="9144000" cy="3459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5311800"/>
            <a:ext cx="9144000" cy="3459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mówienie zawartości PZKO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2640" y="971640"/>
            <a:ext cx="8631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6400" y="777960"/>
            <a:ext cx="860760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2 Odpowiedzialności w zakresie Z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śla funkcje w zakresie w zakresie ZKO, za które są odpowiedzialne poszczególne role organizacyjne (np. identyfikacje PK, przechowywanie, kontrola zmian, określanie statusu. Ustala także odpowiedzialności w zakresie przeglądów, audytów i zatwierdzeń, włączając w to rolę użytkowników w tych czynności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3 Zarządzanie interfejsami zewnętrzn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śla procedury zarządzania interfejsami do zewnętrznego sprzętu i oprogram., organizacje zewnętrzne udostępniające ten sprzęt i oprogram., punkty kontaktowe z tymi organizacjami, oraz grupy odpowiedzialne za poszczególne interfejs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4 Implementacja PZ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stanawia kluczowe elementy w zakresie wdrożenia PZKO, m.in. gotowość systemu ZKO do użycia, ciała przeglądu oprogram., produkty bazowe, wydania produktu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5 Stosowane strategie, zalecenia i proced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dentyfikuje wszystkie mające zastosowanie strategie konfiguracji oprogram., zalecenia i procedury będące składową PZKO, oraz określa ich interpretacj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1176480"/>
            <a:ext cx="9144000" cy="3459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2046240"/>
            <a:ext cx="9144000" cy="3459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mówienie zawartości PZKO (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2640" y="1368360"/>
            <a:ext cx="8631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2640" y="1187280"/>
            <a:ext cx="8631360" cy="52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1 Konwenc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śla konwencję w zakresie nazywania PK etykietowania P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2 Produkty baz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każdego produktu bazowego sekcja ta określ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dentyfikat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artość, np. oprogramowanie, narzędzie, oprogramowanie testowe, raporty o niezgodności, zgłoszenie problemu, itp. dokumen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terfejsy do produktu bazoweg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darzenia związane z przeglądami i akceptacj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czestnictwo producentów i użytkowników podczas określania produktu baz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pis każdego produktu bazowego powinien wyróżniać oprogramowanie, które jest ponownie użyte lub zakupione, definiować środowisko sprzętowe, oraz określać PK będące składnikami produktu baz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804960"/>
            <a:ext cx="9144000" cy="3459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230560"/>
            <a:ext cx="9144000" cy="3459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4568760"/>
            <a:ext cx="9144000" cy="3463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5707080"/>
            <a:ext cx="9144000" cy="3459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mówienie zawartości PZKO (4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2640" y="811080"/>
            <a:ext cx="86313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1 Kontrola kodu i dokument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śla procedury dla zarządzania biblioteką kodów i dokumentacji: biblioteką rozwoju oprogramowania, biblioteką główną (produktów bazowych, wydań) oraz archiw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2 Kontrola medi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śla na jakich nośnikach i gdzie fizycznie będą przechowywane poszczególne PK (dysk serwera, taśma magnetyczna, dyskietki, dyski optyczne, szafy z dokumentami papierowymi, itd.). Określa także konwencję etykietowania poszczególnych mediów (np. taśm, dyskietek, dysków optycznych, określa sposób i miejsce ich przechowywania (szafy pancerne, sejfy bankowe, itd.) oraz zasady recyklingu mediów (kiedy dane medium może być ponownie uży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3 Kontrola zmian;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4.3.1 Poziomy autoryzacji zm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śla poziom autorytetu, który może zarządzić zmianę do danego produktu bazowego (bibliotekarz, kierownik projektu, it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3 Kontrola zmian;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4.3.2 Procedury zm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śla w jaki sposób zmiany będą nanoszone (kto, kiedy, jak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804960"/>
            <a:ext cx="9144000" cy="3459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1897200"/>
            <a:ext cx="9144000" cy="3459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048120"/>
            <a:ext cx="9144000" cy="3459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4124160"/>
            <a:ext cx="9144000" cy="3463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5249880"/>
            <a:ext cx="9144000" cy="3459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mówienie zawartości PZKO (5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2640" y="817560"/>
            <a:ext cx="863136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3 Kontrola zmian;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4.3.3 Ciało (rada, komisja) przegląd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śla członków ciała przeglądowego, poziomy autorytetów, delegacje uprawnień do niższych poziom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5. Rejestracja statusu konfigur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efiniuje w jaki sposób będzie zbierana, przechowywana i przetwarzana informacja o PK, określa okresowe raporty dotyczące statusu P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6. Narzędzia, techniki i metody dla Z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śla narzędzia (np. repozytoria oprogramowania, takie jak CVS lub ClearCase) oraz metody (np. metodyki), które będą użyte do ZK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7. Kontrola dostawc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śla zadania z zakresie ZKO, które będą wykonane przez zewnętrznych dostawc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8. Gromadzenie i przechowywanie zapis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śla które pozycje konfiguracji będą przechowywane, w jaki sposób, i jak dłu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KO powinno zapewniać, że ..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7240" y="1012680"/>
            <a:ext cx="845676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ażdy komponent oprogramowania będzie jednoznacznie identyfikowan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programowanie będzie zbudowane ze spójnego zestawu komponentó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wsze będzie wiadomo, która wersja komponentu oprogramowania jest najnowsz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wsze będzie wiadomo, która wersja dokumentacji pasuje do której wersji komponentu oprogramowan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omponenty oprogramowania będą zawsze łatwo dostęp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omponenty oprogramowania nigdy nie zostaną stracone (np. wskutek awarii nośnika lub błędu operator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ażda zmiana oprogramowania będzie zatwierdzona i udokumentow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miany oprogramowania nie zaginą (np. wskutek jednoczesnych aktualizacj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wsze będzie istniała możliwość powrotu do poprzedniej wers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Historia zmian będzie przechowywana, co umożliwi odtworzenie kto i kiedy zrobił zmianę, i jaką zmianę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600" y="110484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9600" y="152892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600" y="194148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7800" y="268920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9600" y="342252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9600" y="384804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7800" y="455616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7800" y="496728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7800" y="540540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9600" y="582948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dania kierownictwa projektu w zakresie ZK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960" y="1181160"/>
            <a:ext cx="842004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Kierownictwo projekt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jest odpowiedzialne za organizowanie aktywności związanych z ZKO, zdefiniowanie ról personelu (np. bibliotekarza oprogramowania) oraz przypisanie ról do personel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Kierownictwo projekt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musi wymagać dokładnej identyfikacji wszystkich komponentów składających się na projekt oprogramowania i określania ich statusu (np. wstępny, roboczy, zatwierdzony, końcow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ersonel rozwijający oprogramowa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powinien dzielić między siebie komponenty w sposób bezpieczny i efektyw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ersonel zapewnienia jakości oprogramowa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musi mieć możliwość śledzenia pochodzenia i rozwijania każdego komponentu oraz ustalania kompletności i poprawności każdej konfigu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drożone przez kierownictwo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rocedury lub system ZK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powinny zapewniać przejrzystość projektu i produktu dla wszystkich zainteresowanych str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280" y="127008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1280" y="520848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31444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1280" y="337644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1280" y="417024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5537160"/>
            <a:ext cx="9144000" cy="106380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801720"/>
            <a:ext cx="9144000" cy="81612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ozycja konfiguracji oprogramowan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0680" y="905040"/>
            <a:ext cx="865332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Wszystkie elementy projektu i oprogramowania muszą być przedmiotem ZK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, w szczególnośc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okumentacja: wymagań, analityczna, projektowa, testowania, użytkownika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moduły z kodem źródłowym, kody do konsolidowania, kody binarn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ekrany interfejsu użytkownik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liki z danymi tekstowymi (np. komunikatami systemu), bazy danych, słowniki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ompilatory, konsolidatory, interpretery, biblioteki, protokoły, narzędzia CASE, konfiguracje sprzętowe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programowanie testujące, dane testują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erwery WWW wraz z odpowiednimi stronami HTML i oprogramowanie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różnialny element uczestniczący w projekcie lub produkcie będzie określany jako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 „pozycja konfiguracji”.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Jest ona traktowana jako pojedynczy, możliwy do odseparowania komponent projektu lub produktu programistycz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2920" y="168768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2920" y="212724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2920" y="252720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2920" y="296388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2920" y="365112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2920" y="435600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2920" y="475632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2920" y="522936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21600" y="4968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configuration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956280" y="2081160"/>
            <a:ext cx="0" cy="18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27240" y="2077920"/>
            <a:ext cx="0" cy="18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Hierarchia pozycji konfiguracj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871440" y="1015920"/>
            <a:ext cx="1318320" cy="626040"/>
            <a:chOff x="3871440" y="1015920"/>
            <a:chExt cx="1318320" cy="626040"/>
          </a:xfrm>
        </p:grpSpPr>
        <p:sp>
          <p:nvSpPr>
            <p:cNvPr id="88" name=""/>
            <p:cNvSpPr/>
            <p:nvPr/>
          </p:nvSpPr>
          <p:spPr>
            <a:xfrm>
              <a:off x="4090320" y="1015920"/>
              <a:ext cx="109944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0" rIns="45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19040" y="1082520"/>
              <a:ext cx="109944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0" rIns="45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38040" y="1160640"/>
              <a:ext cx="109944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0" rIns="45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71440" y="1243080"/>
              <a:ext cx="109944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0" rIns="45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111720" y="2552760"/>
            <a:ext cx="1647000" cy="733680"/>
            <a:chOff x="6111720" y="2552760"/>
            <a:chExt cx="1647000" cy="733680"/>
          </a:xfrm>
        </p:grpSpPr>
        <p:sp>
          <p:nvSpPr>
            <p:cNvPr id="93" name=""/>
            <p:cNvSpPr/>
            <p:nvPr/>
          </p:nvSpPr>
          <p:spPr>
            <a:xfrm>
              <a:off x="6474960" y="2552760"/>
              <a:ext cx="128376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0" rIns="45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47880" y="2665440"/>
              <a:ext cx="128376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0" rIns="45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20800" y="2771640"/>
              <a:ext cx="128376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0" rIns="45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11720" y="2887560"/>
              <a:ext cx="126864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0" rIns="45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353360" y="2809800"/>
            <a:ext cx="1019160" cy="590760"/>
            <a:chOff x="7353360" y="2809800"/>
            <a:chExt cx="1019160" cy="590760"/>
          </a:xfrm>
        </p:grpSpPr>
        <p:sp>
          <p:nvSpPr>
            <p:cNvPr id="98" name=""/>
            <p:cNvSpPr/>
            <p:nvPr/>
          </p:nvSpPr>
          <p:spPr>
            <a:xfrm>
              <a:off x="7737480" y="2809800"/>
              <a:ext cx="63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 CE"/>
                </a:rPr>
                <a:t>Wersja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01040" y="2925720"/>
              <a:ext cx="63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 CE"/>
                </a:rPr>
                <a:t>Wersja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70720" y="3039840"/>
              <a:ext cx="63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 CE"/>
                </a:rPr>
                <a:t>Wersja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53360" y="3154320"/>
              <a:ext cx="63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 CE"/>
                </a:rPr>
                <a:t>Wersja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503520" y="2552760"/>
            <a:ext cx="1647000" cy="733680"/>
            <a:chOff x="3503520" y="2552760"/>
            <a:chExt cx="1647000" cy="733680"/>
          </a:xfrm>
        </p:grpSpPr>
        <p:sp>
          <p:nvSpPr>
            <p:cNvPr id="103" name=""/>
            <p:cNvSpPr/>
            <p:nvPr/>
          </p:nvSpPr>
          <p:spPr>
            <a:xfrm>
              <a:off x="3866760" y="2552760"/>
              <a:ext cx="128376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0" rIns="45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39680" y="2665440"/>
              <a:ext cx="128376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0" rIns="45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12600" y="2771640"/>
              <a:ext cx="128376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0" rIns="45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03520" y="2887560"/>
              <a:ext cx="126864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0" rIns="45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A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245600" y="2552760"/>
            <a:ext cx="1647360" cy="733680"/>
            <a:chOff x="1245600" y="2552760"/>
            <a:chExt cx="1647360" cy="733680"/>
          </a:xfrm>
        </p:grpSpPr>
        <p:sp>
          <p:nvSpPr>
            <p:cNvPr id="108" name=""/>
            <p:cNvSpPr/>
            <p:nvPr/>
          </p:nvSpPr>
          <p:spPr>
            <a:xfrm>
              <a:off x="1609200" y="2552760"/>
              <a:ext cx="128376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0" rIns="45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82120" y="2665440"/>
              <a:ext cx="128376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0" rIns="45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55040" y="2771640"/>
              <a:ext cx="128376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0" rIns="45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45600" y="2887560"/>
              <a:ext cx="128376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0" rIns="45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367160" y="165744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27240" y="2077920"/>
            <a:ext cx="483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25360" y="3884760"/>
            <a:ext cx="2016360" cy="631800"/>
            <a:chOff x="1125360" y="3884760"/>
            <a:chExt cx="2016360" cy="631800"/>
          </a:xfrm>
        </p:grpSpPr>
        <p:sp>
          <p:nvSpPr>
            <p:cNvPr id="115" name=""/>
            <p:cNvSpPr/>
            <p:nvPr/>
          </p:nvSpPr>
          <p:spPr>
            <a:xfrm>
              <a:off x="1125360" y="3884760"/>
              <a:ext cx="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5360" y="3884760"/>
              <a:ext cx="201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33800" y="3884760"/>
              <a:ext cx="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967360" y="3887640"/>
            <a:ext cx="2016000" cy="631800"/>
            <a:chOff x="5967360" y="3887640"/>
            <a:chExt cx="2016000" cy="631800"/>
          </a:xfrm>
        </p:grpSpPr>
        <p:sp>
          <p:nvSpPr>
            <p:cNvPr id="119" name=""/>
            <p:cNvSpPr/>
            <p:nvPr/>
          </p:nvSpPr>
          <p:spPr>
            <a:xfrm>
              <a:off x="5967360" y="3887640"/>
              <a:ext cx="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67360" y="388764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75440" y="3887640"/>
              <a:ext cx="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55520" y="5175360"/>
            <a:ext cx="898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zycja konfiguracji może istnieć w wielu wersjach oraz może być agregatem złożonym z pozycji konfiguracji. Wszystkie pozycje konfiguracji, od atomowych modułów do całkowitej ukończonej wersji oprogramowania, muszą być zdefiniowane tak wcześnie jak to możliwe i systematycznie oznaczone w momencie utworze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67400" y="4289400"/>
            <a:ext cx="3803760" cy="726120"/>
            <a:chOff x="167400" y="4289400"/>
            <a:chExt cx="3803760" cy="726120"/>
          </a:xfrm>
        </p:grpSpPr>
        <p:grpSp>
          <p:nvGrpSpPr>
            <p:cNvPr id="124" name=""/>
            <p:cNvGrpSpPr/>
            <p:nvPr/>
          </p:nvGrpSpPr>
          <p:grpSpPr>
            <a:xfrm>
              <a:off x="167400" y="4289400"/>
              <a:ext cx="1785960" cy="726120"/>
              <a:chOff x="167400" y="4289400"/>
              <a:chExt cx="1785960" cy="726120"/>
            </a:xfrm>
          </p:grpSpPr>
          <p:sp>
            <p:nvSpPr>
              <p:cNvPr id="125" name=""/>
              <p:cNvSpPr/>
              <p:nvPr/>
            </p:nvSpPr>
            <p:spPr>
              <a:xfrm>
                <a:off x="484920" y="4289400"/>
                <a:ext cx="146844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0" rIns="4572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</a:rPr>
                  <a:t>AA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63960" y="4392720"/>
                <a:ext cx="146844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0" rIns="4572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</a:rPr>
                  <a:t>AA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68920" y="4506840"/>
                <a:ext cx="146844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0" rIns="4572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</a:rPr>
                  <a:t>AA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67400" y="4616640"/>
                <a:ext cx="146844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0" rIns="4572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</a:rPr>
                  <a:t>AA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185920" y="4289400"/>
              <a:ext cx="1785240" cy="726120"/>
              <a:chOff x="2185920" y="4289400"/>
              <a:chExt cx="1785240" cy="726120"/>
            </a:xfrm>
          </p:grpSpPr>
          <p:sp>
            <p:nvSpPr>
              <p:cNvPr id="130" name=""/>
              <p:cNvSpPr/>
              <p:nvPr/>
            </p:nvSpPr>
            <p:spPr>
              <a:xfrm>
                <a:off x="2502720" y="4289400"/>
                <a:ext cx="146844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0" rIns="4572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</a:rPr>
                  <a:t>AA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381760" y="4392720"/>
                <a:ext cx="146844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0" rIns="4572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</a:rPr>
                  <a:t>AA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86720" y="4506840"/>
                <a:ext cx="146844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0" rIns="4572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</a:rPr>
                  <a:t>AA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85920" y="4616640"/>
                <a:ext cx="145296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0" rIns="4572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</a:rPr>
                  <a:t>AA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5014800" y="4290840"/>
            <a:ext cx="3840840" cy="726120"/>
            <a:chOff x="5014800" y="4290840"/>
            <a:chExt cx="3840840" cy="726120"/>
          </a:xfrm>
        </p:grpSpPr>
        <p:grpSp>
          <p:nvGrpSpPr>
            <p:cNvPr id="135" name=""/>
            <p:cNvGrpSpPr/>
            <p:nvPr/>
          </p:nvGrpSpPr>
          <p:grpSpPr>
            <a:xfrm>
              <a:off x="5014800" y="4290840"/>
              <a:ext cx="1785240" cy="726120"/>
              <a:chOff x="5014800" y="4290840"/>
              <a:chExt cx="1785240" cy="726120"/>
            </a:xfrm>
          </p:grpSpPr>
          <p:sp>
            <p:nvSpPr>
              <p:cNvPr id="136" name=""/>
              <p:cNvSpPr/>
              <p:nvPr/>
            </p:nvSpPr>
            <p:spPr>
              <a:xfrm>
                <a:off x="5331600" y="4290840"/>
                <a:ext cx="146844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0" rIns="4572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</a:rPr>
                  <a:t>AA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10640" y="4394160"/>
                <a:ext cx="146844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0" rIns="4572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</a:rPr>
                  <a:t>AA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15600" y="4508280"/>
                <a:ext cx="146844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0" rIns="4572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</a:rPr>
                  <a:t>AA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14800" y="4618080"/>
                <a:ext cx="145296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0" rIns="4572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</a:rPr>
                  <a:t>AC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070760" y="4290840"/>
              <a:ext cx="1784880" cy="726120"/>
              <a:chOff x="7070760" y="4290840"/>
              <a:chExt cx="1784880" cy="726120"/>
            </a:xfrm>
          </p:grpSpPr>
          <p:sp>
            <p:nvSpPr>
              <p:cNvPr id="141" name=""/>
              <p:cNvSpPr/>
              <p:nvPr/>
            </p:nvSpPr>
            <p:spPr>
              <a:xfrm>
                <a:off x="7387200" y="4290840"/>
                <a:ext cx="146844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0" rIns="4572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</a:rPr>
                  <a:t>AA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266240" y="4394160"/>
                <a:ext cx="146844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0" rIns="4572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</a:rPr>
                  <a:t>AA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71200" y="4508280"/>
                <a:ext cx="146844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0" rIns="4572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</a:rPr>
                  <a:t>AA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070760" y="4618080"/>
                <a:ext cx="143784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0" rIns="4572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</a:rPr>
                  <a:t>AC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ktywności ZKO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6960" y="1157400"/>
            <a:ext cx="61196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Identyfikacja pozycji konfiguracji (P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rzechowywanie pozycji konfiguracji (P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Kontrola zmian konfigur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Określanie statusu konfigur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rzekazanie pozycji konfiguracji na zewnątrz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releas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19556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307656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70640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212580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62260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880" y="3751200"/>
            <a:ext cx="1342080" cy="580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Identyfik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P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33440" y="3751200"/>
            <a:ext cx="1149840" cy="580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Rozwij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P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120" y="3751200"/>
            <a:ext cx="1377000" cy="580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Zapamięt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P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70320" y="3751200"/>
            <a:ext cx="1082880" cy="580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Integr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P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06880" y="5199120"/>
            <a:ext cx="858960" cy="580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Zmi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P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34800" y="5199120"/>
            <a:ext cx="1131840" cy="580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Określe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statusu P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38840" y="5199120"/>
            <a:ext cx="1239840" cy="580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Przekaz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P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89040" y="4011480"/>
            <a:ext cx="61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81760" y="5499000"/>
            <a:ext cx="77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78440" y="550224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416480" y="4349880"/>
            <a:ext cx="3240" cy="84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73600" y="4356000"/>
            <a:ext cx="1440" cy="839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40320" y="4091040"/>
            <a:ext cx="61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02000" y="4056120"/>
            <a:ext cx="61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973760" y="4341960"/>
            <a:ext cx="1557360" cy="97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51680" y="4341960"/>
            <a:ext cx="976320" cy="85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5520" y="4707000"/>
            <a:ext cx="152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przyjęta konwencja identyfika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90640" y="441648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73200" y="520524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opis proble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62200" y="5492880"/>
            <a:ext cx="42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26360" y="5789520"/>
            <a:ext cx="0" cy="38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792000"/>
            <a:ext cx="9144000" cy="1113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odukt bazow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60480" y="4748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200" y="873000"/>
            <a:ext cx="8740800" cy="55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000000"/>
                </a:solidFill>
                <a:uFillTx/>
                <a:latin typeface="Times New Roman CE"/>
              </a:rPr>
              <a:t>Produktem bazowym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 jest pozycja konfiguracji oceniona i zaakceptowana formalnie przez odpowiednie ciało weryfikacyjne jako zakończona, stanowiąca podstawę do dalszych faz rozwoju projekt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 szczególności, zakończony projekt jest produktem bazowy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Rozwój projektu postępuje od produktów bazowych do kolejnego produktu bazowego. Produkt bazowy jest podstawą formalnego rozliczenia wykonawc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czesne produkty bazowe zawierają dokumenty analityczne i projektowe. Późniejsze produkty bazowe zawierają również k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szczególne PK w produkcie bazowym muszą być wzajemnie spój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odukty bazowe są niemodyfikowalne. Są one podstawę wymiany informacji pomiędzy uczestnikami projektu oraz podstawę testów nowego oprogramow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luczowe pozycje bazowe są przywiązane do kamieni milowych w planie zarządzania projek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owe produkty bazowe są określane w miarę integracji nowych komponentów oprogramow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240" y="503712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240" y="196200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240" y="429732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240" y="386064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240" y="316692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240" y="577044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240" y="242244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4738680"/>
            <a:ext cx="9144000" cy="18669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774720"/>
            <a:ext cx="9144000" cy="10015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ersje (warianty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14400" y="42084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versions (varia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0200" y="777960"/>
            <a:ext cx="8443800" cy="61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ermin </a:t>
            </a:r>
            <a:r>
              <a:rPr b="0" i="1" lang="pl-PL" sz="2000" spc="-1" strike="noStrike" u="sng">
                <a:solidFill>
                  <a:srgbClr val="000000"/>
                </a:solidFill>
                <a:uFillTx/>
                <a:latin typeface="Times New Roman CE"/>
              </a:rPr>
              <a:t>wersj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(lub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wariant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) jest używany dla określenia pozycji konfiguracji, która ma prawie identyczną logikę i przeznaczenie, ale różni się w pewnych aspektach, takich j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ocelowa platforma/konfiguracja sprzętowa lub system operacyjn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otokół komunikacyjny, współdziałanie z innym (zewnętrznym) oprogramowan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język użytkownika (komend, komunikatów, menu), np. polski, angielski, itd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pecyficzne wymagania poszczególnych użytkownikó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stępujące w czasie ulepszen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realizacja celów diagnostycznych i testowych podczas rozwoju oprogramow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stnienie wielu wersji PK znacznie komplikuje zarządzanie konfiguracjami. Liczba wersji powinna być minimalizowana. Podstawową metodą jest </a:t>
            </a:r>
            <a:r>
              <a:rPr b="0" i="1" lang="pl-PL" sz="2000" spc="-1" strike="noStrike" u="sng">
                <a:solidFill>
                  <a:srgbClr val="000000"/>
                </a:solidFill>
                <a:uFillTx/>
                <a:latin typeface="Times New Roman CE"/>
              </a:rPr>
              <a:t>parametryzowa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wytwarzanego kodu celem zwiększenia stopnia jego generyczności. Powoduje ona jednak zwiększenie skomplikowania modułów oprogramowania. Konieczne jest uzyskanie kompromisu pomiędzy złożonością wytwarzanych modułów oprogramowania a złożonością konfigu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4520" y="433692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3080" y="1868400"/>
            <a:ext cx="301320" cy="276480"/>
          </a:xfrm>
          <a:custGeom>
            <a:avLst/>
            <a:gdLst>
              <a:gd name="textAreaLeft" fmla="*/ 124200 w 301320"/>
              <a:gd name="textAreaRight" fmla="*/ 177120 w 30132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4520" y="3894120"/>
            <a:ext cx="301680" cy="27612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4520" y="3468600"/>
            <a:ext cx="301680" cy="276480"/>
          </a:xfrm>
          <a:custGeom>
            <a:avLst/>
            <a:gdLst>
              <a:gd name="textAreaLeft" fmla="*/ 124200 w 301680"/>
              <a:gd name="textAreaRight" fmla="*/ 177480 w 30168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80" y="3035160"/>
            <a:ext cx="301320" cy="276480"/>
          </a:xfrm>
          <a:custGeom>
            <a:avLst/>
            <a:gdLst>
              <a:gd name="textAreaLeft" fmla="*/ 124200 w 301320"/>
              <a:gd name="textAreaRight" fmla="*/ 177120 w 301320"/>
              <a:gd name="textAreaTop" fmla="*/ 113760 h 276480"/>
              <a:gd name="textAreaBottom" fmla="*/ 1627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3080" y="2328840"/>
            <a:ext cx="301320" cy="276120"/>
          </a:xfrm>
          <a:custGeom>
            <a:avLst/>
            <a:gdLst>
              <a:gd name="textAreaLeft" fmla="*/ 124200 w 301320"/>
              <a:gd name="textAreaRight" fmla="*/ 177120 w 301320"/>
              <a:gd name="textAreaTop" fmla="*/ 113760 h 276120"/>
              <a:gd name="textAreaBottom" fmla="*/ 162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1T22:00:54Z</dcterms:created>
  <dc:creator>K. Subieta, IPI PAN, PJWSTK</dc:creator>
  <dc:description/>
  <dc:language>en-US</dc:language>
  <cp:lastModifiedBy>subieta</cp:lastModifiedBy>
  <dcterms:modified xsi:type="dcterms:W3CDTF">2000-11-19T21:30:02Z</dcterms:modified>
  <cp:revision>147</cp:revision>
  <dc:subject>Wyklad 15</dc:subject>
  <dc:title>Wytwarzanie, integracja i testowanie SI</dc:title>
</cp:coreProperties>
</file>