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12C-BF58-4E8C-8265-3B1C943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406-D858-4A42-9171-61BBDD8C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74B-A097-481C-A7B8-9C8A1482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9C9-F8B6-4750-A2C8-8923801C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9B5-59BE-4851-9A2F-0E55FBF0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7455-5A26-4FD6-9882-8502C3C4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D0F7-B01A-4038-A631-E39D198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4B31-E321-4E99-8187-46CC741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C38B-66D8-4508-824A-1D3CBE5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F536-BD98-467B-8168-F3AAF85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E03D-554F-403F-911C-97F95F4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A75-1C7B-492B-8B0C-68BCCF9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1F77-30AB-49D0-AE00-50E49C3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44B-65ED-4761-9B4A-4930D6C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A722-0BCA-4D82-8D32-086AA8A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7F6-A37D-4451-9633-1BD93A18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D5A-02C0-44C9-A179-80FEE380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15C-F1A6-4541-9B4E-4CFDB30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721-F960-4E79-8571-44D7426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E25-FE77-4526-9745-D345495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05F-66BF-44AA-930C-94DA5841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04A-B0C7-4C41-A5D3-9E57C1F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6B3-0227-4D66-921E-2F7C2B0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F56-A54D-4B0A-91C7-2E81E1E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A81-CF87-4963-8705-E935C1E3E1D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7240" y="2287440"/>
            <a:ext cx="8456760" cy="1143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E7C-EE57-4515-92AE-7F84D337B73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Implementacja ekstensji klas w języku Jav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86040" y="48006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ygotowani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Tomasz Krus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Jacek Kaliń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rupa 6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Jaki to typ ekstensji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class Pracownik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ivate static Vector prac = new Vector(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ivate int wiek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ivate String imi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ublic Pracownik(String im, int wiek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this.imie = im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this.wiek = wiek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ac.add( this 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ublic int podajWiek(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return wiek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5715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kstensja klasy z ramach tej samej kla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aimplementuj (Java || C#) nastepującą klasę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227400"/>
            <a:ext cx="2039760" cy="2757600"/>
          </a:xfrm>
          <a:custGeom>
            <a:avLst/>
            <a:gdLst>
              <a:gd name="textAreaLeft" fmla="*/ 360 w 2039760"/>
              <a:gd name="textAreaRight" fmla="*/ 2039400 w 2039760"/>
              <a:gd name="textAreaTop" fmla="*/ 360 h 2757600"/>
              <a:gd name="textAreaBottom" fmla="*/ 2757240 h 2757600"/>
            </a:gdLst>
            <a:ahLst/>
            <a:rect l="textAreaLeft" t="textAreaTop" r="textAreaRight" b="textAreaBottom"/>
            <a:pathLst>
              <a:path w="21600" h="29200">
                <a:moveTo>
                  <a:pt x="16" y="0"/>
                </a:moveTo>
                <a:arcTo wR="16" hR="16" stAng="16200000" swAng="-5400000"/>
                <a:lnTo>
                  <a:pt x="0" y="29184"/>
                </a:lnTo>
                <a:arcTo wR="16" hR="16" stAng="10800000" swAng="-5400000"/>
                <a:lnTo>
                  <a:pt x="21584" y="29200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3664080"/>
            <a:ext cx="2039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38440" y="3282840"/>
            <a:ext cx="1154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udenc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96160" y="3697200"/>
            <a:ext cx="122004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zwis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ru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red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70080" y="5176800"/>
            <a:ext cx="204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82760" y="5199120"/>
            <a:ext cx="186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icz_srednia_wszystkich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danie 2 – rozwiązan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class Sredn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ivate static double srednia_calk =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ivate static int counter =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ivate String imie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nazwisk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Srednia(String imie, String nazwisko, double ocena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.srednia_calk += ocena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.counter++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 static void main(String[] args)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w Srednia("Jan", "Kowalski", 3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w Srednia("Jan", "Kowalski", 5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uble sr = Srednia.srednia_calk/Srednia.count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ystem.out.println("Srednia calkowita: "+sr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Dziękujemy za uwagę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lan prezentacj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Co to jest ekstensja klas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Implementacja ekstensji klas przy użyciu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tablic statycz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kolek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Implementacja ekstensj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tej samej klas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zy użyciu klasy zewnętrzne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kstensja klasy (wg. K. Subiety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Jest to zestaw aktualnie istniejących obiektów danej klasy. Zwykle ten termin oznacza specjalną strukturę danych skojarzoną z daną klasą, której zadaniem jest przechowywanie wszystkich obiektów będących wystąpieniami tej klas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ojęcie ekstensji klasy nie odnosi się do klas abstrakcyjnych, które nie posiadają swoich wystąpień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Tablice staty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worzenie klas w oparciu o tablice statyczne nie jest zbyt skomplikowane i zapewne wielu z Was już nie raz się z nimi spotkał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Jednym ze sposobów implementacji w Javie ekstensji klasy jest użycie tablicy statycznej, w której przechowywane są wszystkie wystąpienia danej klas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uszą być one znane już w trakcie pisania kodu programu i mieć ustaloną strukturę danych jakie mają przechowywać. W trakcie wykonania programu nie można już ich zmieniać (z góry należy wiedzieć co mają przechowywać i jaka ma być ich zawartość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057400"/>
            <a:ext cx="1752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Tablice statyczne - przykł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atic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String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][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] pracownicyTbl =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{"Jan", "Kowalski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/1982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6100123",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3-213"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{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Tadeusz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Nowak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/6/198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znań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23456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11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{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dam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ość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/198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Łódź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2345678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234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{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ichał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roźny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6/6/1982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znań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 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321654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,"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3-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888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"}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}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057400"/>
            <a:ext cx="1752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4495680"/>
          <a:ext cx="1676520" cy="19814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pracownicyTb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walsk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10/1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szaw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001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-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90920" y="4495680"/>
          <a:ext cx="1676160" cy="198144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pracownicyTb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deus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w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/6/19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na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4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24280" y="4495680"/>
          <a:ext cx="1676520" cy="19814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pracownicyTb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ś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/5/19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Łód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456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-2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58000" y="4495680"/>
          <a:ext cx="1676520" cy="19814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pracownicyTb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ź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6/1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na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16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-8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238880" y="457200"/>
          <a:ext cx="1600200" cy="198108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urod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jsce urod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 pocztow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lekc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olekcja jest to struktura danych służąca do przechowywania i operowania na danych. W porównaniu do tablicy, kolekcja jest klasą posiadającą metody umożliwiające proste dodawanie, usuwanie oraz przeglądanie elementów w niej zawartych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języku Java można wyróżnić kolekcje różnych typów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ieszają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ektorowe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osow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657600"/>
            <a:ext cx="434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Hashtable row = new Hashtabl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row.put( ”Imię”, new String(”Jan”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Vector row = new Vector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row.remove( obiekt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Stack row = new Stack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row.push( new Osoba(”Jan”, ”Nowak”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lekcje - przykł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ashtable pracownik = new Hashtable(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Imię", new String("Jan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Nazwisko", new String("Kowalski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Data urodzenia", new String("1/10/1982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Miejsce urodz.", new String("Warszawa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Telefon", new String("6100123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acownik.put( "Kod pocztowy", new String("03-213") 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4495680"/>
          <a:ext cx="1676160" cy="198144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urodze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jsce urod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 pocztow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>
                      <a:noFill/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428940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800600" y="464832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walsk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00600" y="502920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10/1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541008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szaw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800600" y="579132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001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00600" y="6194520"/>
          <a:ext cx="1676520" cy="2826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282600">
                <a:tc>
                  <a:txBody>
                    <a:bodyPr lIns="76320" rIns="76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-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ffcc"/>
                      </a:solidFill>
                    </a:lnL>
                    <a:lnR w="5760">
                      <a:solidFill>
                        <a:srgbClr val="00ffcc"/>
                      </a:solidFill>
                    </a:lnR>
                    <a:lnT w="5760">
                      <a:solidFill>
                        <a:srgbClr val="00ffcc"/>
                      </a:solidFill>
                    </a:lnT>
                    <a:lnB w="5760">
                      <a:solidFill>
                        <a:srgbClr val="00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 flipV="1">
            <a:off x="2666880" y="4419360"/>
            <a:ext cx="213372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66880" y="4800600"/>
            <a:ext cx="213372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5181120"/>
            <a:ext cx="21337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66880" y="5562720"/>
            <a:ext cx="2133720" cy="2030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66880" y="5943600"/>
            <a:ext cx="213372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6324480"/>
            <a:ext cx="2133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kstensja w ramach klas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ewnątrz klasy Pracownik ustawiamy konkretne wartości (pola) identyfikujące daną osobę (aby uprościć zapis, w tym przykładzie jest to tylko imię pracownika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class Pracownik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ublic String imi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ublic Pracownik(String im) 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etImie(im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ublic void setImie(String i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this.imie = i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zerszy przykład zostanie zaprezentowany w programi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Ekstensja klasy przy użyciu klasy zewnętrznej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bsługa ekstensji klasy używając klasy pomocniczej polega na tym, iż tworzeniem obiektów i zarządzaniem nimi zajmuje się klasa pomocnicz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Klasa pomocnicza posiada metody, które pozwalają na m.in. dodawanie, usuwanie i wyświetlanie ekstensji klas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zytoczony za chwilę przykład prezentuje klasę Pracownicy, która zarządza ekstensją PracownikHas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9:28:05Z</dcterms:created>
  <dc:creator>Jacek</dc:creator>
  <dc:description/>
  <dc:language>en-US</dc:language>
  <cp:lastModifiedBy>Jacek</cp:lastModifiedBy>
  <dcterms:modified xsi:type="dcterms:W3CDTF">2004-03-15T00:17:49Z</dcterms:modified>
  <cp:revision>41</cp:revision>
  <dc:subject/>
  <dc:title>Przegląd projektu</dc:title>
</cp:coreProperties>
</file>