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F898-A49D-45DD-BD2A-13EB8435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14E-A50B-4B97-9797-44C71D42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7D0-2A86-400F-9813-DD503B6C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E8E-64B1-43C9-A0A1-33D0D2AA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B642-2CBF-4C65-BF8B-0E7C488D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7F5A-BCA7-4B5C-AF9B-0F8A9DB6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1E10-7011-4EF9-874D-1FFF4C89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1BBD-5FB6-4D68-BBB4-1E4BBAD0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BA59-9A38-47F5-A367-234EFBEF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80B9-BF50-4C54-9D1E-6711909C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ACE3-E0D0-421E-B9C7-E2D6ED79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711-C11F-4369-B837-85C26D6C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EBBE-CFBA-4CE7-AF6B-48F3A896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0F75-D41C-4ABF-AF1C-60F7E319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E0A5-B27E-4CC5-8535-C4992B62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B778-8BB3-4EEE-A107-1F268610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7189-1908-4DC4-9C13-5D155CD5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4C3-F695-4C15-950B-D69B3C7E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FD0F-BDFF-4C7A-ADA3-BE59B1F7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47C-83C3-4616-AA76-94A6FE42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4E4-74A9-4511-8618-CCEA72A4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865-BF70-4F81-81C0-11C23989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8A8A-8A93-4F30-9965-6DE9422B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B6D-CFC3-4137-B6D8-FEF85EF6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49FA-0F63-47B2-B280-1D7D00796038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D047-13FD-437C-8738-C882A8548AB1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jot.fm/issues/issue_2003_09/article4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ccecff"/>
                </a:solidFill>
                <a:latin typeface="Arial"/>
              </a:rPr>
              <a:t>R</a:t>
            </a:r>
            <a:r>
              <a:rPr b="0" lang="pl-PL" sz="5400" spc="-1" strike="noStrike">
                <a:solidFill>
                  <a:srgbClr val="afe1ff"/>
                </a:solidFill>
                <a:latin typeface="Arial Unicode MS"/>
              </a:rPr>
              <a:t>ealizacja Asocjacj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32000" y="393336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Monika Bom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Igor Czech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62064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Unicode MS"/>
              </a:rPr>
              <a:t>Referat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Rozwiązanie zad.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03240" y="318600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0..1 Opieku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24360" y="4438800"/>
            <a:ext cx="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2565360"/>
            <a:ext cx="1224000" cy="162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s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mi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zwis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76720" y="2925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1280" y="3502080"/>
            <a:ext cx="1219320" cy="1031760"/>
          </a:xfrm>
          <a:custGeom>
            <a:avLst/>
            <a:gdLst/>
            <a:ahLst/>
            <a:rect l="l" t="t" r="r" b="b"/>
            <a:pathLst>
              <a:path w="768" h="650">
                <a:moveTo>
                  <a:pt x="409" y="0"/>
                </a:moveTo>
                <a:lnTo>
                  <a:pt x="768" y="2"/>
                </a:lnTo>
                <a:lnTo>
                  <a:pt x="768" y="650"/>
                </a:lnTo>
                <a:lnTo>
                  <a:pt x="0" y="650"/>
                </a:lnTo>
                <a:lnTo>
                  <a:pt x="1" y="408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40000" y="4149720"/>
            <a:ext cx="148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Podopieczny 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77080" y="4029120"/>
            <a:ext cx="129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piekuje si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Implementacja asocjacj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Asocjacje o różnych licznościach implementujemy w różny sposób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1 – przez pole z referencj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p. [2-5] – przez tablicę statyczn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* – przez jedną z kolekcji (Vector,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HashT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Pole z referencj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7151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biekt przechowuje w sobie pole z referencją do drugiej kl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42920" y="2637000"/>
            <a:ext cx="67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class Stud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deks nrIndeks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uden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//konstruk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class Indeks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udent idStudent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deks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//konstruk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Tablica statycz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biekt przechowuje tablicę referencji do powiązanych obiektó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755640" y="765000"/>
          <a:ext cx="7848360" cy="9446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lko gdy liczność asocjacji jest ograniczona (np. 1..3 lub 2..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755640" y="2708280"/>
            <a:ext cx="69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class Osoba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irma pracodawc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soba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//konstruk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class Firma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soba[] pracownic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irma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//konstruk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racownicy = new Osoba[10]; //przykładow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Ve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284720" y="1197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class Osoba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irma pracodawc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soba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//konstruk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class Firma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Vector pracownic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irma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//konstruk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racownicy = new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Vector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void zatrudnij(Osoba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racownik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racownicy.add(pracownik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7200" y="1600200"/>
          <a:ext cx="2962440" cy="1371600"/>
        </p:xfrm>
        <a:graphic>
          <a:graphicData uri="http://schemas.openxmlformats.org/drawingml/2006/table">
            <a:tbl>
              <a:tblPr/>
              <a:tblGrid>
                <a:gridCol w="29624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y liczność asocjacji nie jest ograniczona (*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179280" y="3357720"/>
            <a:ext cx="3529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biekt przechowuje kolekcję z referencjami do powiązanych obiektó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Użycie HashTab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Hashtable przechowuje pary: klucz, wartoś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lucz to obiekt z którego wychodzi asocjac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artość to obiekt wskazywany (koniec asocjacj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Hashtable może być np. przechowywany statycznie wewnątrz kl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Hashtab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68360" y="1197000"/>
            <a:ext cx="638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class Osoba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ring imie;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class Firma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atic Hashtable zatrudnieni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void zatrudnij(Osoba pracownik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trudnienie.put(this, pracownik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5075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blica haszująca przechowuje referencję do pracownika firm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Hashtable – relacja 1- *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blica przechowuje wektor z referencjami do powiązanych obiektó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0920" y="278136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class Osoba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ring imie;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class Firma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atic Hashtable zatrudnieni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irma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trudnienie.put(this, new Vector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void zatrudnij(Osoba pracownik) {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((Vector)(zatrudnienie.get(this))).add(pracownik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Atrybuty asocjacj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trybuty asocjacji implementuje się jako klasę pośredniczącą zawierającą referencje do klas które łącz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00000" y="2565360"/>
            <a:ext cx="734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lass Osoba {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ashtable zatrudnienie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lass Firma {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ashtable zatrudnienie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lass Zatrudnieni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soba pracowni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rma pracodawc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nt cza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trudnienie(Osoba pracownik, Firma pracodawca, int czas) {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400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elacje mogą być zrealizowane jednym z wcześniej opisanych sposobów (np. Hasht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0" y="2421000"/>
            <a:ext cx="4110120" cy="2061000"/>
            <a:chOff x="4572000" y="2421000"/>
            <a:chExt cx="4110120" cy="2061000"/>
          </a:xfrm>
        </p:grpSpPr>
        <p:grpSp>
          <p:nvGrpSpPr>
            <p:cNvPr id="363" name=""/>
            <p:cNvGrpSpPr/>
            <p:nvPr/>
          </p:nvGrpSpPr>
          <p:grpSpPr>
            <a:xfrm>
              <a:off x="4572000" y="2421000"/>
              <a:ext cx="4110120" cy="2061000"/>
              <a:chOff x="4572000" y="2421000"/>
              <a:chExt cx="4110120" cy="2061000"/>
            </a:xfrm>
          </p:grpSpPr>
          <p:sp>
            <p:nvSpPr>
              <p:cNvPr id="364" name=""/>
              <p:cNvSpPr/>
              <p:nvPr/>
            </p:nvSpPr>
            <p:spPr>
              <a:xfrm>
                <a:off x="4577760" y="2490480"/>
                <a:ext cx="1045440" cy="1307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l-PL" sz="1800" spc="-1" strike="noStrike">
                    <a:solidFill>
                      <a:srgbClr val="ffffff"/>
                    </a:solidFill>
                    <a:latin typeface="Times New Roman"/>
                  </a:rPr>
                  <a:t>Osob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ffffff"/>
                    </a:solidFill>
                    <a:latin typeface="Times New Roman"/>
                  </a:rPr>
                  <a:t>nazwisk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ffffff"/>
                    </a:solidFill>
                    <a:latin typeface="Times New Roman"/>
                  </a:rPr>
                  <a:t>pese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ffffff"/>
                    </a:solidFill>
                    <a:latin typeface="Times New Roman"/>
                  </a:rPr>
                  <a:t>adre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572000" y="2842920"/>
                <a:ext cx="1073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888680" y="2471400"/>
                <a:ext cx="792720" cy="10335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l-PL" sz="1800" spc="-1" strike="noStrike">
                    <a:solidFill>
                      <a:srgbClr val="ffffff"/>
                    </a:solidFill>
                    <a:latin typeface="Times New Roman"/>
                  </a:rPr>
                  <a:t>Firm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ffffff"/>
                    </a:solidFill>
                    <a:latin typeface="Times New Roman"/>
                  </a:rPr>
                  <a:t>nazw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ffffff"/>
                    </a:solidFill>
                    <a:latin typeface="Times New Roman"/>
                  </a:rPr>
                  <a:t>adre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894800" y="2862000"/>
                <a:ext cx="787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91520" y="2763720"/>
                <a:ext cx="50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96880" y="3570120"/>
                <a:ext cx="1464480" cy="911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l-PL" sz="1800" spc="-1" strike="noStrike">
                    <a:solidFill>
                      <a:srgbClr val="ffffff"/>
                    </a:solidFill>
                    <a:latin typeface="Times New Roman"/>
                  </a:rPr>
                  <a:t>Zatrudnieni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ffffff"/>
                    </a:solidFill>
                    <a:latin typeface="Times New Roman"/>
                  </a:rPr>
                  <a:t>zarobe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ffffff"/>
                    </a:solidFill>
                    <a:latin typeface="Times New Roman"/>
                  </a:rPr>
                  <a:t>stanowisk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99040" y="3884400"/>
                <a:ext cx="1454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640280" y="242100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Times New Roman CE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624280" y="242100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Times New Roman CE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391520" y="2763720"/>
                <a:ext cx="0" cy="79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638680" y="2763720"/>
                <a:ext cx="505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134040" y="2763720"/>
                <a:ext cx="0" cy="79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935760" y="3243240"/>
                <a:ext cx="48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ffffff"/>
                    </a:solidFill>
                    <a:latin typeface="Times New Roman CE"/>
                  </a:rPr>
                  <a:t>1..</a:t>
                </a:r>
                <a:r>
                  <a:rPr b="0" lang="en-GB" sz="1600" spc="-1" strike="noStrike">
                    <a:solidFill>
                      <a:srgbClr val="ffffff"/>
                    </a:solidFill>
                    <a:latin typeface="Times New Roman CE"/>
                  </a:rPr>
                  <a:t>*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73640" y="32432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Times New Roman CE"/>
                  </a:rPr>
                  <a:t>*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5638680" y="2487600"/>
              <a:ext cx="0" cy="132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Implementacja agregacj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Agregację można zaimplementować przy pomocy klasy wewnętrzn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58920" y="3141720"/>
            <a:ext cx="66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lass Dom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kój[] pokoj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m(int ilośćPokojów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koje = new Pokój[ilośćPokojów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lass Pokój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kój() {//konstruktor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Indeks zagadnień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Co to są asocjacje i powiąz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Rodzaje asocja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Implementacja asocja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o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ab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Kolekc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ad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Zadanie (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tół ma od jednej do trzech nóg. Zaproponuj diagram klas i rozwiązanie implementacyj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Odpowiedź do zadania (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640" y="2133720"/>
            <a:ext cx="748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lass Stół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oga[] nog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tół(int ilośćNóg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this.nogi = new Noga[ilośćNóg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//stworzenie nó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 (int i=0; i&lt;ilośćNóg; i++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ogi[i] = new Noga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lass Noga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oga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//konstruk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643280" y="1413000"/>
          <a:ext cx="3743640" cy="116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413000"/>
                    <a:ext cx="374364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Zadanie (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a jednym wydziale studiuje wiele osób. Osoba może studiować na wielu wydziałach jednocześn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Jak będzie wyglądał przykładowy diagram kl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 jaki sposób zaimplementować można taką asocjacj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Odpowiedź do zadania (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50920" y="1700280"/>
          <a:ext cx="424800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0280"/>
                    <a:ext cx="42480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395280" y="350028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Implementacja za pomocą klasy pośredniczącej przechowującej referencje do obu kl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Relacja 1-* do klasy pośredniej może być zaimplementowana np. za pomocą wekto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5219640" y="1341360"/>
          <a:ext cx="316872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341360"/>
                    <a:ext cx="316872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Zadanie (4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 pudełku są czekoladki. Czekoladki nie mogą istnieć bez pudeł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aproponuj implementację powyższej zależności przy założeniu, że mamy do czynienia z kompozycj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Odpowiedź do zadania (4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7280" y="2924280"/>
            <a:ext cx="64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lass Pudełko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zekoladka[] zawartość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udełko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wartość = new Czekoladka[20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//stworzenie czekolad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 (int i=0; i&lt;20; i++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wartość[i] = new Czekoladka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lass Czekoladka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zekoladka() {//konstruktor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worzymy klasę Czekoladka wewnątrz klasy Pudeł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Źródła do których warto zajrze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ykłady z PRI. Ewa Stemposz i Kazimierz Subie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jot.fm/issues/issue_2003_09/article4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- Mapping UML Associations into Java Co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Carlos Ruiz del Castillo.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Implementación en Java de asociaciones binarias UML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Asocjac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Grupa powiązań między klasami posiadającymi wspólną strukturę i semantyk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osiadają: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73480" y="3355920"/>
            <a:ext cx="792000" cy="30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 CE"/>
              </a:rPr>
              <a:t>Oso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08720" y="3357720"/>
            <a:ext cx="792000" cy="30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 CE"/>
              </a:rPr>
              <a:t>Fir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65480" y="3498840"/>
            <a:ext cx="1443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54560" y="32115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jest_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3480" y="3355920"/>
            <a:ext cx="7308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501336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Umożliwiają nawigację po diagram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3640" y="270828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zw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6160" y="40053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icznoś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95600" y="27082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ierun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88000" y="350028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4720" y="4005360"/>
            <a:ext cx="1008000" cy="733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 CE"/>
              </a:rPr>
              <a:t>Oso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E"/>
              </a:rPr>
              <a:t>stanowis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84720" y="436572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2924280"/>
            <a:ext cx="432000" cy="28872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076720" y="2924280"/>
            <a:ext cx="287280" cy="28872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68000" y="350028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1.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21080" y="35002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995640" y="3789360"/>
            <a:ext cx="144720" cy="21600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53440" y="4365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atryb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363640" y="4581360"/>
            <a:ext cx="287640" cy="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54160" y="39337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363640" y="4149720"/>
            <a:ext cx="287640" cy="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Rodzaje asocjacj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wuargumentowa (binar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Rekurencyj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lasa asocjacji lub asocjacja z atrybut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Agregac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cecff"/>
                </a:solidFill>
                <a:latin typeface="Arial"/>
              </a:rPr>
              <a:t>Rodzaje powiązań (1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wuargumentowe (binarne)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73200" y="2744640"/>
            <a:ext cx="190188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 CE"/>
              </a:rPr>
              <a:t>Fir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49800" y="2746440"/>
            <a:ext cx="176220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 CE"/>
              </a:rPr>
              <a:t>Oso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86240" y="2951280"/>
            <a:ext cx="2571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40360" y="24922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 CE"/>
              </a:rPr>
              <a:t>pracuje_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3862080" y="2675880"/>
            <a:ext cx="173160" cy="160560"/>
          </a:xfrm>
          <a:prstGeom prst="flowChartExtra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42120" y="3013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 CE"/>
              </a:rPr>
              <a:t>1.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37000" y="301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 C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70320" y="4160880"/>
            <a:ext cx="879480" cy="63756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:Os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63920" y="4846680"/>
            <a:ext cx="1173960" cy="63756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:Fi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rawiec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11000" y="5608800"/>
            <a:ext cx="1147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pracuje_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778200" y="4541760"/>
            <a:ext cx="22860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778200" y="5380200"/>
            <a:ext cx="22860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70320" y="5532480"/>
            <a:ext cx="879480" cy="63756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:Os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34680" y="4389480"/>
            <a:ext cx="1147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pracuje_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64720" y="393048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iagram obiektó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47640" y="692280"/>
            <a:ext cx="5364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Asocjacja rekurencyj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socjacje mogą łączyć obiekty tej samej klasy. Stosuje się wtedy tzw.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role asocjacj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azwy ról (np.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szef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) umieszcza się przy odpowiednich końcach asocjacji. Określają one rodzaj nawigowani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Arial"/>
              </a:rPr>
              <a:t>Pracownik w roli szefa ma od 0 do wielu podwładnych. Pracownik w roli podwładnego   ma 0 lub 1 szef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71400" y="685800"/>
            <a:ext cx="2452680" cy="1752480"/>
            <a:chOff x="671400" y="685800"/>
            <a:chExt cx="2452680" cy="1752480"/>
          </a:xfrm>
        </p:grpSpPr>
        <p:sp>
          <p:nvSpPr>
            <p:cNvPr id="261" name=""/>
            <p:cNvSpPr/>
            <p:nvPr/>
          </p:nvSpPr>
          <p:spPr>
            <a:xfrm>
              <a:off x="671400" y="1376280"/>
              <a:ext cx="2086200" cy="459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Times New Roman CE"/>
                </a:rPr>
                <a:t>Pracowni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9520" y="18478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Times New Roman CE"/>
                </a:rPr>
                <a:t>sze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87480" y="703440"/>
              <a:ext cx="1843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139760" y="685800"/>
              <a:ext cx="0" cy="67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39760" y="695160"/>
              <a:ext cx="198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24080" y="703440"/>
              <a:ext cx="0" cy="173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771200" y="2421000"/>
              <a:ext cx="135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1752480" y="1873080"/>
              <a:ext cx="0" cy="56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1000" y="94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 CE"/>
                </a:rPr>
                <a:t>*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12760" y="18288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 CE"/>
                </a:rPr>
                <a:t>0..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44440" y="8380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Times New Roman CE"/>
                </a:rPr>
                <a:t>podwładn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Asocjacja z atrybutam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0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socjacje mogą być wyposażone                           w atrybuty lub klasy asocjacj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ewnątrz klasy asocjacji można zdefiniować atrybuty, operacje i inne cechy asocjacji.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74120" y="3789360"/>
            <a:ext cx="3573360" cy="2156400"/>
            <a:chOff x="474120" y="3789360"/>
            <a:chExt cx="3573360" cy="2156400"/>
          </a:xfrm>
        </p:grpSpPr>
        <p:sp>
          <p:nvSpPr>
            <p:cNvPr id="275" name=""/>
            <p:cNvSpPr/>
            <p:nvPr/>
          </p:nvSpPr>
          <p:spPr>
            <a:xfrm>
              <a:off x="474120" y="3954240"/>
              <a:ext cx="1045440" cy="1307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"/>
                </a:rPr>
                <a:t>Osob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</a:rPr>
                <a:t>nazwisk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</a:rPr>
                <a:t>pes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</a:rPr>
                <a:t>ad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6280" y="4306680"/>
              <a:ext cx="107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54760" y="3935160"/>
              <a:ext cx="792720" cy="1033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"/>
                </a:rPr>
                <a:t>Fir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</a:rPr>
                <a:t>nazw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</a:rPr>
                <a:t>ad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57640" y="4325760"/>
              <a:ext cx="787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2960" y="4154400"/>
              <a:ext cx="1701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84960" y="3789360"/>
              <a:ext cx="1027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</a:rPr>
                <a:t>pracuje_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79040" y="5033880"/>
              <a:ext cx="1464480" cy="911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"/>
                </a:rPr>
                <a:t>Zatrudnieni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</a:rPr>
                <a:t>zarob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</a:rPr>
                <a:t>stanowisk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81200" y="5348160"/>
              <a:ext cx="145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59080" y="4157640"/>
              <a:ext cx="0" cy="8794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08080" y="418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Times New Roman CE"/>
                </a:rPr>
                <a:t>*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15960" y="415908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imes New Roman CE"/>
                </a:rPr>
                <a:t>1..*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506840" y="3884760"/>
            <a:ext cx="4110120" cy="2061000"/>
            <a:chOff x="4506840" y="3884760"/>
            <a:chExt cx="4110120" cy="2061000"/>
          </a:xfrm>
        </p:grpSpPr>
        <p:grpSp>
          <p:nvGrpSpPr>
            <p:cNvPr id="287" name=""/>
            <p:cNvGrpSpPr/>
            <p:nvPr/>
          </p:nvGrpSpPr>
          <p:grpSpPr>
            <a:xfrm>
              <a:off x="4506840" y="3884760"/>
              <a:ext cx="4110120" cy="2061000"/>
              <a:chOff x="4506840" y="3884760"/>
              <a:chExt cx="4110120" cy="2061000"/>
            </a:xfrm>
          </p:grpSpPr>
          <p:sp>
            <p:nvSpPr>
              <p:cNvPr id="288" name=""/>
              <p:cNvSpPr/>
              <p:nvPr/>
            </p:nvSpPr>
            <p:spPr>
              <a:xfrm>
                <a:off x="4512600" y="3954240"/>
                <a:ext cx="1045440" cy="1307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l-PL" sz="1800" spc="-1" strike="noStrike">
                    <a:solidFill>
                      <a:srgbClr val="ffffff"/>
                    </a:solidFill>
                    <a:latin typeface="Times New Roman"/>
                  </a:rPr>
                  <a:t>Osob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ffffff"/>
                    </a:solidFill>
                    <a:latin typeface="Times New Roman"/>
                  </a:rPr>
                  <a:t>nazwisk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ffffff"/>
                    </a:solidFill>
                    <a:latin typeface="Times New Roman"/>
                  </a:rPr>
                  <a:t>pese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ffffff"/>
                    </a:solidFill>
                    <a:latin typeface="Times New Roman"/>
                  </a:rPr>
                  <a:t>adre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506840" y="4306680"/>
                <a:ext cx="1073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23520" y="3935160"/>
                <a:ext cx="792720" cy="10335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l-PL" sz="1800" spc="-1" strike="noStrike">
                    <a:solidFill>
                      <a:srgbClr val="ffffff"/>
                    </a:solidFill>
                    <a:latin typeface="Times New Roman"/>
                  </a:rPr>
                  <a:t>Firm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ffffff"/>
                    </a:solidFill>
                    <a:latin typeface="Times New Roman"/>
                  </a:rPr>
                  <a:t>nazw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ffffff"/>
                    </a:solidFill>
                    <a:latin typeface="Times New Roman"/>
                  </a:rPr>
                  <a:t>adre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29640" y="4325760"/>
                <a:ext cx="787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26360" y="4227480"/>
                <a:ext cx="50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931720" y="5033880"/>
                <a:ext cx="1464480" cy="911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l-PL" sz="1800" spc="-1" strike="noStrike">
                    <a:solidFill>
                      <a:srgbClr val="ffffff"/>
                    </a:solidFill>
                    <a:latin typeface="Times New Roman"/>
                  </a:rPr>
                  <a:t>Zatrudnieni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ffffff"/>
                    </a:solidFill>
                    <a:latin typeface="Times New Roman"/>
                  </a:rPr>
                  <a:t>zarobe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ffffff"/>
                    </a:solidFill>
                    <a:latin typeface="Times New Roman"/>
                  </a:rPr>
                  <a:t>stanowisk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33880" y="5348160"/>
                <a:ext cx="1454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575120" y="388476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Times New Roman CE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59120" y="388476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Times New Roman CE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326360" y="4227480"/>
                <a:ext cx="0" cy="79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573520" y="4227480"/>
                <a:ext cx="505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68880" y="4227480"/>
                <a:ext cx="0" cy="79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870600" y="4707000"/>
                <a:ext cx="48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ffffff"/>
                    </a:solidFill>
                    <a:latin typeface="Times New Roman CE"/>
                  </a:rPr>
                  <a:t>1..</a:t>
                </a:r>
                <a:r>
                  <a:rPr b="0" lang="en-GB" sz="1600" spc="-1" strike="noStrike">
                    <a:solidFill>
                      <a:srgbClr val="ffffff"/>
                    </a:solidFill>
                    <a:latin typeface="Times New Roman CE"/>
                  </a:rPr>
                  <a:t>*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08480" y="470700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Times New Roman CE"/>
                  </a:rPr>
                  <a:t>*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5573520" y="3951360"/>
              <a:ext cx="0" cy="132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916360" y="3933720"/>
            <a:ext cx="71280" cy="0"/>
          </a:xfrm>
          <a:prstGeom prst="line">
            <a:avLst/>
          </a:prstGeom>
          <a:ln cap="rnd" w="3492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484360" y="2421000"/>
            <a:ext cx="1274760" cy="503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ecff"/>
                </a:solidFill>
                <a:latin typeface="Times New Roman"/>
              </a:rPr>
              <a:t>gru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759120" y="2595600"/>
            <a:ext cx="316080" cy="133200"/>
          </a:xfrm>
          <a:prstGeom prst="diamond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73400" y="2662200"/>
            <a:ext cx="8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46520" y="2349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ecff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27640" y="5805360"/>
            <a:ext cx="1130040" cy="576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ecff"/>
                </a:solidFill>
                <a:latin typeface="Times New Roman"/>
              </a:rPr>
              <a:t>D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20000" y="5805360"/>
            <a:ext cx="1081080" cy="576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ecff"/>
                </a:solidFill>
                <a:latin typeface="Times New Roman"/>
              </a:rPr>
              <a:t>pokó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00680" y="5780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ecff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cecff"/>
                </a:solidFill>
                <a:latin typeface="Arial"/>
              </a:rPr>
              <a:t>Agregacja i kompozyc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55640" y="1341360"/>
            <a:ext cx="77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Agregacja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jest szczególnym rodzajem asocjacji wyrażającym zależność część-całość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Używamy jej jako pomocniczy środek do modelowania dowolnej innej sytuacji, kiedy grupę obiektów warto - w pewnych sytuacjach - potraktować jak całoś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932360" y="2421000"/>
            <a:ext cx="1274760" cy="503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ecff"/>
                </a:solidFill>
                <a:latin typeface="Times New Roman"/>
              </a:rPr>
              <a:t>stu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578200" y="6094440"/>
            <a:ext cx="2156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22920" y="6094440"/>
            <a:ext cx="2174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609444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4360" y="4508640"/>
            <a:ext cx="624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 przypadku, gdy cykl składowej zawiera się w cyklu życia całości, oraz składowa nie może być współdzielona, wtedy mamy do czynienia z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kompozycją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Zadanie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amień poniższą asocjacje wiele-do-wiele na asocjację rekurencyjną używając ról asocjacj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629080" y="3789360"/>
            <a:ext cx="8413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ia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08720" y="3789360"/>
            <a:ext cx="129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piekuje si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92360" y="436572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0.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860720" y="4437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148360" y="3789360"/>
            <a:ext cx="10080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ziec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92360" y="4149720"/>
            <a:ext cx="16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356000" y="378936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27280" y="414972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48360" y="414972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10:01:51Z</dcterms:created>
  <dc:creator>Tomasz Pieciukiewicz</dc:creator>
  <dc:description/>
  <dc:language>en-US</dc:language>
  <cp:lastModifiedBy>Igor</cp:lastModifiedBy>
  <dcterms:modified xsi:type="dcterms:W3CDTF">2004-03-16T14:05:21Z</dcterms:modified>
  <cp:revision>75</cp:revision>
  <dc:subject/>
  <dc:title>MAS</dc:title>
</cp:coreProperties>
</file>