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A3A56-00E3-42E4-8DB4-E585C2F2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BA950-8331-46A4-90C2-0703FA29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03B27-31E0-4211-A665-2DCD8B74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BE0C9-5C73-4C3E-99AD-7734C66B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A129-F8C4-4C35-90F0-11BCD5F7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C396-0D1C-465A-82F0-5AA3B3E6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A37B-5F56-43B3-858F-47E61B6F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FB1F-A354-4FFD-9F19-ED8E4834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AC4D-2B93-452A-BF0A-DA95351B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47F7-B8C1-44EE-8D5A-5656A929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2BCF-5EF7-471C-A5BD-BBBBD6DE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FD69A-786D-4609-AA6B-D7B16723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0910-2993-47D1-AE42-84E49323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8911-6FCF-462A-918C-B65B4FCD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2B04-2135-42D1-870F-D121BEDE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DAB6-BD84-40BF-B5EB-E783E2DB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EADE-D390-4F9C-B86A-0D7C6C2C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19E22-3C08-4B78-BF8A-9EF96A5D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284A4-D0A5-49FD-8CC6-7B1BF742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DF1AD-3799-4633-B2E9-2A956410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51D71-F83E-49F3-8BAF-A6260450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04B36-C2F7-4FB8-8011-E90F3A45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CDE6E-777D-472C-ABA4-5641A503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4960F-0658-4602-8DCA-41C2C752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1639-5584-4A16-9D38-C94595188C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6CF1-0ED0-4BA6-BA46-8393CF5C02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ffffff"/>
                </a:solidFill>
                <a:latin typeface="Arial"/>
              </a:rPr>
              <a:t>Referat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4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842920" y="4581000"/>
            <a:ext cx="6019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Mapowanie agregacji i kompozycji (z uwzględnieniem propagacji operacj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Mapowanie asocjacji kwalifikowanych przy pomocy tablic asocjacyj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Mapowanie asocjacji N-ar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Mapowanie ogranicze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6160" y="260280"/>
            <a:ext cx="196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te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j Maciej Górni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c Łukasz Stoj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Odsłona 3.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cierpliwości, przedostatnia)</a:t>
            </a:r>
            <a:br>
              <a:rPr sz="18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ocjacja kwalifikowana </a:t>
            </a:r>
            <a:br>
              <a:rPr sz="24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przy pomocy tablic asocjacyjny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walifikator jest atrybutem asocjacji (lub zestawem atrybutów), którego wartości służą do podziału zbioru obiektów definiowanych przez klasę znajdującą się na jednym z końców tej asocjacji innymi słowy mając na jednym końcu obiekt asocjacji odpowiada on na pytanie jak znaleźć obiekt z drugiego koń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Tablice asocjacyjn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ą to tablice w których zamiast indeksów liczbowych używa się identyfikatorów znakowych(klucz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Odsłona 3.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cierpliwości, przedostatnia)</a:t>
            </a:r>
            <a:br>
              <a:rPr sz="18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ocjacja kwalifikowana </a:t>
            </a:r>
            <a:br>
              <a:rPr sz="24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przy pomocy tablic asocjacyjny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43680" y="2028960"/>
            <a:ext cx="1422360" cy="43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75200" y="1650960"/>
            <a:ext cx="1754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83120" y="3079800"/>
            <a:ext cx="1762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1920" y="2448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37800" y="2125800"/>
            <a:ext cx="75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r ko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8280" y="2513520"/>
            <a:ext cx="7005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90720" y="2222640"/>
            <a:ext cx="16002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90720" y="25272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60360" y="271764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38200" y="24130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74760" y="241776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64400" y="24559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43680" y="4449600"/>
            <a:ext cx="1422360" cy="43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75200" y="4071960"/>
            <a:ext cx="1754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11920" y="5641920"/>
            <a:ext cx="1762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41920" y="48783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37800" y="4556160"/>
            <a:ext cx="75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r ko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2320" y="4418640"/>
            <a:ext cx="7005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09800" y="4307040"/>
            <a:ext cx="1600200" cy="61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96080" y="44244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74880" y="4335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9160" y="46148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88960" y="4309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74400" y="4314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52880" y="4886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 CE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21560" y="2470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97520" y="48798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97000" y="5099040"/>
            <a:ext cx="144792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83320" y="50608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ank/Os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58200" y="544212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r ko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97000" y="54799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924200" y="460800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7178400" y="2279520"/>
            <a:ext cx="609480" cy="609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81680" y="21654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24920" y="26226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r ko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68840" y="2660760"/>
            <a:ext cx="71928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68840" y="5099040"/>
            <a:ext cx="71928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87800" y="2798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64120" y="532296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724880" y="2646360"/>
            <a:ext cx="1252080" cy="580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kwalifik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socjac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Odsłona 3.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cierpliwości, przedostatnia)</a:t>
            </a:r>
            <a:br>
              <a:rPr sz="18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ocjacja kwalifikowana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– implementacja Java z użyciem kolekcji HashMap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19280" y="1773360"/>
            <a:ext cx="6059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class Bank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ic HashMap konta = new HashMap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ring nazw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Bank(String n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azwa =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public void zalozKonto(int numerKonta, Osoba o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f(konta.containsKey(numerKonta)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System.out.println(“Juz jest taki numer konta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ta.put(numerKonta, o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Osoba.bankiOsoby.add(thi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public void usunKonto(int numerKonta, Osoba o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f(konta.containsKey(numerKonta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onta.remove(numerKonta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soba.bankiOsoby.removeElement(thi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class Osoba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ctor bankiOsoby = new Vector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ring imi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ring nazwisk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Osoba(String i, String n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ie = 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azwisko =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Odsłona 4, ostatn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79640" y="3213000"/>
            <a:ext cx="320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socjacja n-a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012000" y="2205000"/>
            <a:ext cx="260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Odsłona 4.</a:t>
            </a:r>
            <a:br>
              <a:rPr sz="44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socjacja n-a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ocjacja  n-arna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socjacja, której wystąpienia  łączą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biektów, będących instancjami  co najwyżej  n  klas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na klasa może pojawić się na więcej  niż jednej pozycji w  asocjac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Odsłona 4.</a:t>
            </a:r>
            <a:br>
              <a:rPr sz="44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socjacja n-a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39640" y="3645720"/>
            <a:ext cx="473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14520" y="4560120"/>
            <a:ext cx="473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49320" y="3645720"/>
            <a:ext cx="473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47920" y="3527280"/>
            <a:ext cx="608040" cy="6080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204" idx="3"/>
            <a:endCxn id="207" idx="1"/>
          </p:cNvCxnSpPr>
          <p:nvPr/>
        </p:nvCxnSpPr>
        <p:spPr>
          <a:xfrm>
            <a:off x="1918800" y="3830760"/>
            <a:ext cx="429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207" idx="3"/>
            <a:endCxn id="206" idx="1"/>
          </p:cNvCxnSpPr>
          <p:nvPr/>
        </p:nvCxnSpPr>
        <p:spPr>
          <a:xfrm flipV="1">
            <a:off x="2955600" y="3830400"/>
            <a:ext cx="687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207" idx="2"/>
            <a:endCxn id="205" idx="0"/>
          </p:cNvCxnSpPr>
          <p:nvPr/>
        </p:nvCxnSpPr>
        <p:spPr>
          <a:xfrm flipH="1">
            <a:off x="2650320" y="4134960"/>
            <a:ext cx="2520" cy="421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2792160" y="393228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azw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socjac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02160" y="3645720"/>
            <a:ext cx="473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76680" y="4560120"/>
            <a:ext cx="473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700760" y="4093200"/>
            <a:ext cx="473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10440" y="3527280"/>
            <a:ext cx="608040" cy="6080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2" idx="3"/>
            <a:endCxn id="215" idx="1"/>
          </p:cNvCxnSpPr>
          <p:nvPr/>
        </p:nvCxnSpPr>
        <p:spPr>
          <a:xfrm>
            <a:off x="5881320" y="3830760"/>
            <a:ext cx="429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215" idx="2"/>
            <a:endCxn id="213" idx="0"/>
          </p:cNvCxnSpPr>
          <p:nvPr/>
        </p:nvCxnSpPr>
        <p:spPr>
          <a:xfrm flipH="1">
            <a:off x="6613200" y="4134960"/>
            <a:ext cx="2160" cy="421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8" name=""/>
          <p:cNvSpPr/>
          <p:nvPr/>
        </p:nvSpPr>
        <p:spPr>
          <a:xfrm>
            <a:off x="7130880" y="39322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2" idx="0"/>
            <a:endCxn id="215" idx="0"/>
          </p:cNvCxnSpPr>
          <p:nvPr/>
        </p:nvCxnSpPr>
        <p:spPr>
          <a:xfrm flipH="1" flipV="1" rot="5400000">
            <a:off x="6069240" y="3096000"/>
            <a:ext cx="115200" cy="977040"/>
          </a:xfrm>
          <a:prstGeom prst="bentConnector3">
            <a:avLst>
              <a:gd name="adj1" fmla="val 3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20" name=""/>
          <p:cNvSpPr/>
          <p:nvPr/>
        </p:nvSpPr>
        <p:spPr>
          <a:xfrm>
            <a:off x="2486880" y="2637000"/>
            <a:ext cx="982440" cy="580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socjac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3-a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766960" y="3222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932160" y="31464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80240" y="398448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20920" y="2689200"/>
            <a:ext cx="982440" cy="580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socjac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4-a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Odsłona 4.</a:t>
            </a:r>
            <a:br>
              <a:rPr sz="44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socjacja n-a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40000" y="3471840"/>
            <a:ext cx="424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56000" y="3573360"/>
            <a:ext cx="360" cy="542880"/>
          </a:xfrm>
          <a:custGeom>
            <a:avLst/>
            <a:gdLst/>
            <a:ahLst/>
            <a:rect l="l" t="t" r="r" b="b"/>
            <a:pathLst>
              <a:path w="1" h="855">
                <a:moveTo>
                  <a:pt x="0" y="0"/>
                </a:moveTo>
                <a:lnTo>
                  <a:pt x="0" y="85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84440" y="3238560"/>
            <a:ext cx="298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60760" y="3816360"/>
            <a:ext cx="2984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10200" y="3129120"/>
            <a:ext cx="4572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1..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67280" y="3357720"/>
            <a:ext cx="5713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971640" y="2781360"/>
            <a:ext cx="1368360" cy="1439280"/>
            <a:chOff x="971640" y="2781360"/>
            <a:chExt cx="1368360" cy="1439280"/>
          </a:xfrm>
        </p:grpSpPr>
        <p:sp>
          <p:nvSpPr>
            <p:cNvPr id="233" name=""/>
            <p:cNvSpPr/>
            <p:nvPr/>
          </p:nvSpPr>
          <p:spPr>
            <a:xfrm>
              <a:off x="971640" y="2781360"/>
              <a:ext cx="1368360" cy="1307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Profe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im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nazwisk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71640" y="3235680"/>
              <a:ext cx="134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71640" y="4220640"/>
              <a:ext cx="136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588000" y="2781360"/>
            <a:ext cx="1368360" cy="1582200"/>
            <a:chOff x="6588000" y="2781360"/>
            <a:chExt cx="1368360" cy="1582200"/>
          </a:xfrm>
        </p:grpSpPr>
        <p:sp>
          <p:nvSpPr>
            <p:cNvPr id="237" name=""/>
            <p:cNvSpPr/>
            <p:nvPr/>
          </p:nvSpPr>
          <p:spPr>
            <a:xfrm>
              <a:off x="6588000" y="2781360"/>
              <a:ext cx="1368360" cy="158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im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nazwisk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nrIndeks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88000" y="3190680"/>
              <a:ext cx="134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88000" y="4078080"/>
              <a:ext cx="136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708360" y="4137120"/>
            <a:ext cx="1871280" cy="1307880"/>
            <a:chOff x="3708360" y="4137120"/>
            <a:chExt cx="1871280" cy="1307880"/>
          </a:xfrm>
        </p:grpSpPr>
        <p:sp>
          <p:nvSpPr>
            <p:cNvPr id="241" name=""/>
            <p:cNvSpPr/>
            <p:nvPr/>
          </p:nvSpPr>
          <p:spPr>
            <a:xfrm>
              <a:off x="3708360" y="4137120"/>
              <a:ext cx="1871280" cy="1307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Cwicze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nazwaPrzedmiot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08360" y="4472280"/>
              <a:ext cx="184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08360" y="5199120"/>
              <a:ext cx="186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971640" y="3789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00000" y="4149720"/>
            <a:ext cx="15843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Odsłona 4.</a:t>
            </a:r>
            <a:br>
              <a:rPr sz="44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socjacja n-arna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implementacja Java cz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54100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class Profesor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Vector profesorzy = new Vecto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ng im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ng nazwisk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ublic Vector prowadzoneCwiczeni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ublic Profesor(String im, String nazw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mie = i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zwisko=nazw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wadzoneCwiczenia = new Vecto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esorzy.add(thi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class Student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Vector studenci = new Vecto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ng im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ng nazwisk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numerIndeksu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ublic Vector odbywaneCwiczeni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ublic Student(String im, String nazw, int numer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mie = i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zwisko = nazw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umerIndeksu = num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dbywaneCwiczenia = new Vecto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ci.add(thi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Odsłona 4.</a:t>
            </a:r>
            <a:br>
              <a:rPr sz="44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socjacja n-arna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implementacja Java cz.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139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class Cwiczeni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ing nazwaPrzedmio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ing 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Profesor profes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Vector studenciNaCwiczeni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Cwiczenie(Profesor prof, Vector stud, String nazwa, String dat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zwaPrzedmiotu = nazw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= da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of.prowadzoneCwiczenia.addElement(thi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rator it = stud.itera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udent 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le(it.hasNext()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=(Student) it.nex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.odbywaneCwiczenia.addElement(thi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Mapowanie ograniczeń dla nieograniczony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graniczenia są to założenia odnośnie danych które powinny być spełnione w projektowanym przez nas systemie. Dzielimy je na statyczne i dynamiczne. Dynamiczne różnią się tym od statycznych że pamiętają poprzedni st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Odsłona 1.</a:t>
            </a:r>
            <a:br>
              <a:rPr sz="4400"/>
            </a:b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Agregac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gregacja jest szczególnym przypadkiem asocjacji wyrażającym zależność część-całość. Istnienie części jest nie zależne od całości i może być ona skojarzona z wieloma całości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Jedyny problem to nawigacja i czas życia, który nie został jeszcze rozwiąz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Mapowanie ograniczeń dla nieograniczony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68520" y="2852640"/>
            <a:ext cx="190476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04960" y="289080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68520" y="330984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76760" y="5164200"/>
            <a:ext cx="306396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graniczenie dynamicz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(ważny jest poprzedni  st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149800" y="2548080"/>
            <a:ext cx="23752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graniczenie staty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804920" y="3010680"/>
            <a:ext cx="357120" cy="4046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5177160" y="4611960"/>
            <a:ext cx="311760" cy="44028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86120" y="411804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86120" y="4405320"/>
            <a:ext cx="187164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29720" y="3305160"/>
            <a:ext cx="148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ne osob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anowi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ens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89360" y="3665520"/>
            <a:ext cx="193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{pensja &lt;= 500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{nigdy nie malej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Nie dla chętny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aimplementować w Javie i przedstawić diagram UML pokazujący przykładową agregację związku pomiędzy mieszkaniem a pokoj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Soluszy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411280" y="2997360"/>
            <a:ext cx="4752360" cy="1582200"/>
            <a:chOff x="2411280" y="2997360"/>
            <a:chExt cx="4752360" cy="1582200"/>
          </a:xfrm>
        </p:grpSpPr>
        <p:grpSp>
          <p:nvGrpSpPr>
            <p:cNvPr id="268" name=""/>
            <p:cNvGrpSpPr/>
            <p:nvPr/>
          </p:nvGrpSpPr>
          <p:grpSpPr>
            <a:xfrm>
              <a:off x="2411280" y="2997360"/>
              <a:ext cx="1410840" cy="1582200"/>
              <a:chOff x="2411280" y="2997360"/>
              <a:chExt cx="1410840" cy="1582200"/>
            </a:xfrm>
          </p:grpSpPr>
          <p:sp>
            <p:nvSpPr>
              <p:cNvPr id="269" name=""/>
              <p:cNvSpPr/>
              <p:nvPr/>
            </p:nvSpPr>
            <p:spPr>
              <a:xfrm>
                <a:off x="2411280" y="2997360"/>
                <a:ext cx="1410840" cy="1582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pl-PL" sz="1800" spc="-1" strike="noStrike">
                    <a:solidFill>
                      <a:srgbClr val="000000"/>
                    </a:solidFill>
                    <a:latin typeface="Times New Roman"/>
                  </a:rPr>
                  <a:t>Mieszkani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</a:rPr>
                  <a:t>num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</a:rPr>
                  <a:t>metra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</a:rPr>
                  <a:t>pokoj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411280" y="3406680"/>
                <a:ext cx="1391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411280" y="4294080"/>
                <a:ext cx="1409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5752800" y="2997360"/>
              <a:ext cx="1410840" cy="1307880"/>
              <a:chOff x="5752800" y="2997360"/>
              <a:chExt cx="1410840" cy="1307880"/>
            </a:xfrm>
          </p:grpSpPr>
          <p:sp>
            <p:nvSpPr>
              <p:cNvPr id="273" name=""/>
              <p:cNvSpPr/>
              <p:nvPr/>
            </p:nvSpPr>
            <p:spPr>
              <a:xfrm>
                <a:off x="5752800" y="2997360"/>
                <a:ext cx="1410840" cy="1307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pl-PL" sz="1800" spc="-1" strike="noStrike">
                    <a:solidFill>
                      <a:srgbClr val="000000"/>
                    </a:solidFill>
                    <a:latin typeface="Times New Roman"/>
                  </a:rPr>
                  <a:t>Pokoj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</a:rPr>
                  <a:t>ok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</a:rPr>
                  <a:t>metra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</a:rPr>
                  <a:t>kol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752800" y="3406680"/>
                <a:ext cx="1391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752800" y="4294080"/>
                <a:ext cx="1409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3896280" y="3716280"/>
              <a:ext cx="1811880" cy="231840"/>
              <a:chOff x="3896280" y="3716280"/>
              <a:chExt cx="1811880" cy="231840"/>
            </a:xfrm>
          </p:grpSpPr>
          <p:sp>
            <p:nvSpPr>
              <p:cNvPr id="277" name=""/>
              <p:cNvSpPr/>
              <p:nvPr/>
            </p:nvSpPr>
            <p:spPr>
              <a:xfrm>
                <a:off x="3896280" y="3716280"/>
                <a:ext cx="471240" cy="231840"/>
              </a:xfrm>
              <a:prstGeom prst="flowChartDecision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365720" y="3832200"/>
                <a:ext cx="13424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"/>
          <p:cNvSpPr/>
          <p:nvPr/>
        </p:nvSpPr>
        <p:spPr>
          <a:xfrm>
            <a:off x="4069080" y="34290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10520" y="34290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Soluszyn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Java k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84000" y="1557360"/>
            <a:ext cx="46198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eszkan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Vector mieszkania = new Vecto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num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 metraz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koje poko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ublic Mieszkanie(int num, int metr, Pokoje pok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umer = 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etraz = me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koje = po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szkania.add(thi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ublic class Pokoj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tic Vector pokoje= new Vecto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okn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metraz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ng kolo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ublic Pokoje(boolean _okno, int metr, String ko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no = _okn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etraz = me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lor = ko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koje.add(thi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Odsłona 1.</a:t>
            </a:r>
            <a:br>
              <a:rPr sz="44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gregac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340000" y="2781360"/>
            <a:ext cx="4608360" cy="1582200"/>
            <a:chOff x="2340000" y="2781360"/>
            <a:chExt cx="4608360" cy="1582200"/>
          </a:xfrm>
        </p:grpSpPr>
        <p:grpSp>
          <p:nvGrpSpPr>
            <p:cNvPr id="114" name=""/>
            <p:cNvGrpSpPr/>
            <p:nvPr/>
          </p:nvGrpSpPr>
          <p:grpSpPr>
            <a:xfrm>
              <a:off x="2340000" y="2781360"/>
              <a:ext cx="1368360" cy="1582200"/>
              <a:chOff x="2340000" y="2781360"/>
              <a:chExt cx="1368360" cy="1582200"/>
            </a:xfrm>
          </p:grpSpPr>
          <p:sp>
            <p:nvSpPr>
              <p:cNvPr id="115" name=""/>
              <p:cNvSpPr/>
              <p:nvPr/>
            </p:nvSpPr>
            <p:spPr>
              <a:xfrm>
                <a:off x="2340000" y="2781360"/>
                <a:ext cx="1368360" cy="1582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pl-PL" sz="1800" spc="-1" strike="noStrike">
                    <a:solidFill>
                      <a:srgbClr val="000000"/>
                    </a:solidFill>
                    <a:latin typeface="Times New Roman"/>
                  </a:rPr>
                  <a:t>Auto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</a:rPr>
                  <a:t>mark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od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</a:rPr>
                  <a:t>silni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340000" y="3190680"/>
                <a:ext cx="1349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340000" y="4078080"/>
                <a:ext cx="136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580000" y="2781360"/>
              <a:ext cx="1368360" cy="1582200"/>
              <a:chOff x="5580000" y="2781360"/>
              <a:chExt cx="1368360" cy="1582200"/>
            </a:xfrm>
          </p:grpSpPr>
          <p:sp>
            <p:nvSpPr>
              <p:cNvPr id="119" name=""/>
              <p:cNvSpPr/>
              <p:nvPr/>
            </p:nvSpPr>
            <p:spPr>
              <a:xfrm>
                <a:off x="5580000" y="2781360"/>
                <a:ext cx="1368360" cy="1582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pl-PL" sz="1800" spc="-1" strike="noStrike">
                    <a:solidFill>
                      <a:srgbClr val="000000"/>
                    </a:solidFill>
                    <a:latin typeface="Times New Roman"/>
                  </a:rPr>
                  <a:t>Silni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</a:rPr>
                  <a:t>pojemnoś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</a:rPr>
                  <a:t>mo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</a:rPr>
                  <a:t>momentOb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580000" y="3191040"/>
                <a:ext cx="134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580000" y="4078440"/>
                <a:ext cx="136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3780000" y="3500280"/>
              <a:ext cx="1757160" cy="231840"/>
              <a:chOff x="3780000" y="3500280"/>
              <a:chExt cx="1757160" cy="231840"/>
            </a:xfrm>
          </p:grpSpPr>
          <p:sp>
            <p:nvSpPr>
              <p:cNvPr id="123" name=""/>
              <p:cNvSpPr/>
              <p:nvPr/>
            </p:nvSpPr>
            <p:spPr>
              <a:xfrm>
                <a:off x="3780000" y="3500280"/>
                <a:ext cx="457200" cy="231840"/>
              </a:xfrm>
              <a:prstGeom prst="flowChartDecision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35400" y="3616200"/>
                <a:ext cx="130176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"/>
          <p:cNvSpPr/>
          <p:nvPr/>
        </p:nvSpPr>
        <p:spPr>
          <a:xfrm>
            <a:off x="1338840" y="4869000"/>
            <a:ext cx="636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est to szczególny przypadek asocjacji wyrażający zależ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zęść-cał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53080" y="32130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94520" y="32130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Odsłona 1.</a:t>
            </a:r>
            <a:br>
              <a:rPr sz="44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gregacja –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mplementacja Java cz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2205000"/>
            <a:ext cx="712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Samocho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c Vector samochody = new Vec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mark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mod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lnik sil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amochod(String mar, String mod, Silnik sil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a=ma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=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nik=si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chody.add(thi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Odsłona 1.</a:t>
            </a:r>
            <a:br>
              <a:rPr sz="44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gregacja –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mplementacja Java cz.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2133720"/>
            <a:ext cx="729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Silnik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c Vector silniki = new Vec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pojemnos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t momentOb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ilnik (int poj, int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t mo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emnosc = po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mentOb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niki.add(thi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Odsłona 2.</a:t>
            </a:r>
            <a:br>
              <a:rPr sz="4400"/>
            </a:b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Kompozyc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ompozycja jest szczególnym rodzajem agregacji. Kompozycja oznacza, że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cykl życiowy składowej zawiera się w cyklu  życiowym całości, oraz że składowa nie może być współdzielon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. Nawigacja odbywa się w kierunku od całości do części. Część jest zależna od całości i nie może bez niej istnie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Odsłona 2.</a:t>
            </a:r>
            <a:br>
              <a:rPr sz="4400"/>
            </a:b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Kompozyc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340000" y="2781360"/>
            <a:ext cx="1368360" cy="1582200"/>
            <a:chOff x="2340000" y="2781360"/>
            <a:chExt cx="1368360" cy="1582200"/>
          </a:xfrm>
        </p:grpSpPr>
        <p:sp>
          <p:nvSpPr>
            <p:cNvPr id="136" name=""/>
            <p:cNvSpPr/>
            <p:nvPr/>
          </p:nvSpPr>
          <p:spPr>
            <a:xfrm>
              <a:off x="2340000" y="2781360"/>
              <a:ext cx="1368360" cy="158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Au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mar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sil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40000" y="3190680"/>
              <a:ext cx="134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40000" y="4078080"/>
              <a:ext cx="136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708360" y="3500280"/>
            <a:ext cx="1871280" cy="231840"/>
            <a:chOff x="3708360" y="3500280"/>
            <a:chExt cx="1871280" cy="231840"/>
          </a:xfrm>
        </p:grpSpPr>
        <p:sp>
          <p:nvSpPr>
            <p:cNvPr id="140" name=""/>
            <p:cNvSpPr/>
            <p:nvPr/>
          </p:nvSpPr>
          <p:spPr>
            <a:xfrm>
              <a:off x="3708360" y="3500280"/>
              <a:ext cx="486720" cy="231840"/>
            </a:xfrm>
            <a:prstGeom prst="flowChartDecision">
              <a:avLst/>
            </a:prstGeom>
            <a:solidFill>
              <a:srgbClr val="000000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93280" y="3616200"/>
              <a:ext cx="13863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580000" y="2781360"/>
            <a:ext cx="1368360" cy="1582200"/>
            <a:chOff x="5580000" y="2781360"/>
            <a:chExt cx="1368360" cy="1582200"/>
          </a:xfrm>
        </p:grpSpPr>
        <p:sp>
          <p:nvSpPr>
            <p:cNvPr id="143" name=""/>
            <p:cNvSpPr/>
            <p:nvPr/>
          </p:nvSpPr>
          <p:spPr>
            <a:xfrm>
              <a:off x="5580000" y="2781360"/>
              <a:ext cx="1368360" cy="158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Sil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pojemnoś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mo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momentO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80000" y="3191040"/>
              <a:ext cx="134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80000" y="4078440"/>
              <a:ext cx="136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78180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4520" y="32130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37760" y="4875120"/>
            <a:ext cx="65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est to specyficzny przypadek agregacji, gdzie część nie moż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yć odseparowana od cał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Odsłona 2.</a:t>
            </a:r>
            <a:br>
              <a:rPr sz="44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ompozycja –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mplementacja Java cz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2205000"/>
            <a:ext cx="712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Samocho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c Vector samochody = new Vec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mark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mod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lnik sil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amochod(String mar, String mod, Silnik sil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a=ma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=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nik=si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chody.add(thi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Odsłona 2.</a:t>
            </a:r>
            <a:br>
              <a:rPr sz="44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ompozycja –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mplementacja Java cz.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87280" y="2133720"/>
            <a:ext cx="7293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Silnik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c Vector silniki = new Vec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pojemnos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t momentOb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chod samocho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ilnik (int poj, int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t moment, Samochod s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emnosc = po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mentOb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chod = sa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niki.add(thi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16:14:16Z</dcterms:created>
  <dc:creator>CyfraL</dc:creator>
  <dc:description/>
  <dc:language>en-US</dc:language>
  <cp:lastModifiedBy>CyfraL</cp:lastModifiedBy>
  <dcterms:modified xsi:type="dcterms:W3CDTF">2004-03-21T19:02:50Z</dcterms:modified>
  <cp:revision>21</cp:revision>
  <dc:subject/>
  <dc:title>Referat 4:</dc:title>
</cp:coreProperties>
</file>